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9.png" ContentType="image/png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F760-7A05-49A9-BC60-C8C655F2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0F43-64E5-4D9D-94D6-6B190722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E9CB-E388-4E31-AD68-7D1E749A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9F3A-35F0-42DB-A6F6-84B8C532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1120-00B2-4376-91FF-A6CA8570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B523-131D-4A67-8E84-D9FDCEBB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53DA-B82A-4099-B08C-9108C7F7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E523-8597-4DF8-9E5A-9621DDD7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703C-F810-4352-A8DE-6EF436AC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B1EA-86EA-41D4-8B44-B228D428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0BB2-A97F-4A54-A4AD-7DE101EF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71AE-6B11-47E5-A766-8FFC4E2B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1C9E-75D4-490F-BBC3-6D2BA0A663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755640" y="192600"/>
            <a:ext cx="748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Сделать на свете мы многое сможем – 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В глубинах морских и в космических тоже.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 тундре придем, и пустыням горячим.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Даже погоду переиначим.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Дел и дорог будет в жизни не мало.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Спросим себя: «Ну а где их начало?»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Вот он ответ наш правильный самый: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Все начинается с МАМЫ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6300720" y="4005360"/>
            <a:ext cx="22399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5"/>
          <p:cNvSpPr txBox="1"/>
          <p:nvPr/>
        </p:nvSpPr>
        <p:spPr>
          <a:xfrm>
            <a:off x="755640" y="476280"/>
            <a:ext cx="7561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то косичку мне заплел?</a:t>
            </a:r>
            <a:endParaRPr b="0" lang="en-US" sz="22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WordArt 7"/>
          <p:cNvSpPr txBox="1"/>
          <p:nvPr/>
        </p:nvSpPr>
        <p:spPr>
          <a:xfrm>
            <a:off x="826920" y="2997360"/>
            <a:ext cx="749016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лый дом один подмел?</a:t>
            </a:r>
            <a:endParaRPr b="0" lang="en-US" sz="22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5"/>
          <p:cNvSpPr txBox="1"/>
          <p:nvPr/>
        </p:nvSpPr>
        <p:spPr>
          <a:xfrm>
            <a:off x="755640" y="620640"/>
            <a:ext cx="7345440" cy="12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то ребячий любит смех?</a:t>
            </a:r>
            <a:endParaRPr b="0" lang="en-US" sz="22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WordArt 7"/>
          <p:cNvSpPr txBox="1"/>
          <p:nvPr/>
        </p:nvSpPr>
        <p:spPr>
          <a:xfrm>
            <a:off x="755640" y="2852640"/>
            <a:ext cx="727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то на свете лучше всех?</a:t>
            </a:r>
            <a:endParaRPr b="0" lang="en-US" sz="22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1"/>
          <a:stretch/>
        </p:blipFill>
        <p:spPr>
          <a:xfrm>
            <a:off x="395280" y="5013360"/>
            <a:ext cx="2016000" cy="16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476360" y="692280"/>
            <a:ext cx="614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Указ президента РФ от 30 января 1998 года определил: </a:t>
            </a: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День матери следует отмечать ежегодно в последнее воскресенье ноябр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 rot="19430400">
            <a:off x="7451640" y="3068640"/>
            <a:ext cx="1590840" cy="1428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2"/>
          <a:stretch/>
        </p:blipFill>
        <p:spPr>
          <a:xfrm rot="2746800">
            <a:off x="2796840" y="552456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3"/>
          <a:stretch/>
        </p:blipFill>
        <p:spPr>
          <a:xfrm rot="2320200">
            <a:off x="394920" y="3213000"/>
            <a:ext cx="159084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4"/>
          <a:stretch/>
        </p:blipFill>
        <p:spPr>
          <a:xfrm rot="19371000">
            <a:off x="7380360" y="0"/>
            <a:ext cx="1590480" cy="1428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5"/>
          <a:stretch/>
        </p:blipFill>
        <p:spPr>
          <a:xfrm rot="1932000">
            <a:off x="0" y="0"/>
            <a:ext cx="159084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6"/>
          <a:stretch/>
        </p:blipFill>
        <p:spPr>
          <a:xfrm rot="2746800">
            <a:off x="-11520" y="534816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7"/>
          <a:stretch/>
        </p:blipFill>
        <p:spPr>
          <a:xfrm rot="17246400">
            <a:off x="7621200" y="527508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324000" y="45756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Вы, конечно, не помните самую первую встречу с мамой. Как она обрадовалась, когда увидела вас! Как счастливо светились ее глаза! На вашей ручке был привязан номерок из пленки. На нем были написаны фамилия, число, месяц, год и время вашего рождения, ваш вес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7093080" y="4941720"/>
            <a:ext cx="1279440" cy="1519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395280" y="4365720"/>
            <a:ext cx="1011240" cy="14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684360" y="189000"/>
            <a:ext cx="70498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Тогда ваша мамочка первый раз взглянула на своего малыша – и поняла, что ее ребенок – самый лучший, самый красивый и самый любимый. Сейчас вы подросли, но мама любит вас все так же крепко и нежно. Мамы будут любить вас ровно столько, сколько будут жить на свете – помните об этом всегда! И сколько бы вам не было лет – 5 или 50, вам всегда будет нужна мама, ее ласка, ее взгляд. И чем больше ваша любовь к маме, тем радостнее и светлее жизнь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7740720" y="0"/>
            <a:ext cx="115092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6804000" y="404640"/>
            <a:ext cx="1008000" cy="836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3"/>
          <a:stretch/>
        </p:blipFill>
        <p:spPr>
          <a:xfrm>
            <a:off x="6659640" y="5877000"/>
            <a:ext cx="10080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6"/>
          <p:cNvSpPr txBox="1"/>
          <p:nvPr/>
        </p:nvSpPr>
        <p:spPr>
          <a:xfrm>
            <a:off x="1403280" y="907920"/>
            <a:ext cx="547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 свете добрых слов немало,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о всех добрее и важней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WordArt 7"/>
          <p:cNvSpPr txBox="1"/>
          <p:nvPr/>
        </p:nvSpPr>
        <p:spPr>
          <a:xfrm>
            <a:off x="6588000" y="1844640"/>
            <a:ext cx="936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дно: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WordArt 8"/>
          <p:cNvSpPr txBox="1"/>
          <p:nvPr/>
        </p:nvSpPr>
        <p:spPr>
          <a:xfrm>
            <a:off x="1403280" y="2492280"/>
            <a:ext cx="55450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з двух слогов простое слово: “мама”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нету слов дороже,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WordArt 9"/>
          <p:cNvSpPr txBox="1"/>
          <p:nvPr/>
        </p:nvSpPr>
        <p:spPr>
          <a:xfrm>
            <a:off x="5940360" y="3429000"/>
            <a:ext cx="1368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ем оно.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64436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68360" y="765000"/>
            <a:ext cx="82803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3300"/>
                </a:solidFill>
                <a:latin typeface="Arial"/>
              </a:rPr>
              <a:t>Слова “Мама, мать</a:t>
            </a:r>
            <a:r>
              <a:rPr b="1" i="1" lang="ru-RU" sz="2200" spc="-1" strike="noStrike">
                <a:solidFill>
                  <a:srgbClr val="cc3300"/>
                </a:solidFill>
                <a:latin typeface="Arial"/>
              </a:rPr>
              <a:t>”</a:t>
            </a:r>
            <a:r>
              <a:rPr b="1" i="1" lang="ru-RU" sz="2600" spc="-1" strike="noStrike">
                <a:solidFill>
                  <a:srgbClr val="cc3300"/>
                </a:solidFill>
                <a:latin typeface="Arial"/>
              </a:rPr>
              <a:t>- одно из самых древних на Земле” и почти одинаково звучит на языках разных народов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cc3300"/>
                </a:solidFill>
                <a:latin typeface="Arial"/>
              </a:rPr>
              <a:t>Все люди уважают и любят матере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3300"/>
                </a:solidFill>
                <a:latin typeface="Arial"/>
              </a:rPr>
              <a:t>Словом “Мать” называют и свою Родину, чтобы подчеркнуть, что она по-матерински относится к своим детя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6084720" y="3716280"/>
            <a:ext cx="26640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468360" y="333360"/>
            <a:ext cx="8280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Мама учит нас быть мудрыми, дает советы, оберегает. </a:t>
            </a:r>
            <a:br>
              <a:rPr sz="4000"/>
            </a:b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Поиграем в игру «Мамочка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Я задаю вопросы, а вы отвечаете хором «Мамочка!» Только дружно и громк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"/>
          <p:cNvPicPr/>
          <p:nvPr/>
        </p:nvPicPr>
        <p:blipFill>
          <a:blip r:embed="rId1"/>
          <a:stretch/>
        </p:blipFill>
        <p:spPr>
          <a:xfrm>
            <a:off x="395280" y="4653000"/>
            <a:ext cx="1728720" cy="220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2"/>
          <a:stretch/>
        </p:blipFill>
        <p:spPr>
          <a:xfrm>
            <a:off x="5724360" y="4869000"/>
            <a:ext cx="24339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5"/>
          <p:cNvSpPr txBox="1"/>
          <p:nvPr/>
        </p:nvSpPr>
        <p:spPr>
          <a:xfrm>
            <a:off x="468360" y="620640"/>
            <a:ext cx="799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то пришел ко мне с утра?</a:t>
            </a:r>
            <a:endParaRPr b="0" lang="en-US" sz="2200" spc="1" strike="noStrike">
              <a:ln w="9360">
                <a:solidFill>
                  <a:srgbClr val="cc99ff"/>
                </a:solidFill>
                <a:miter/>
              </a:ln>
              <a:solidFill>
                <a:srgbClr val="99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WordArt 7"/>
          <p:cNvSpPr txBox="1"/>
          <p:nvPr/>
        </p:nvSpPr>
        <p:spPr>
          <a:xfrm>
            <a:off x="539640" y="3068640"/>
            <a:ext cx="8064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то сказал: «Вставать пора?»</a:t>
            </a:r>
            <a:endParaRPr b="0" lang="en-US" sz="22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5"/>
          <p:cNvSpPr txBox="1"/>
          <p:nvPr/>
        </p:nvSpPr>
        <p:spPr>
          <a:xfrm>
            <a:off x="684360" y="404640"/>
            <a:ext cx="748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шу кто успел сварить?</a:t>
            </a:r>
            <a:endParaRPr b="0" lang="en-US" sz="22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611280" y="2924280"/>
            <a:ext cx="7561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аю в чашку кто налил?</a:t>
            </a:r>
            <a:endParaRPr b="0" lang="en-US" sz="22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0:20:23Z</dcterms:created>
  <dc:creator>Admin</dc:creator>
  <dc:description/>
  <dc:language>en-US</dc:language>
  <cp:lastModifiedBy>Виталий Железняков</cp:lastModifiedBy>
  <dcterms:modified xsi:type="dcterms:W3CDTF">2022-11-24T16:37:28Z</dcterms:modified>
  <cp:revision>8</cp:revision>
  <dc:subject/>
  <dc:title>Слайд 1</dc:title>
</cp:coreProperties>
</file>