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7B6-0FEC-47F8-BD7B-60391389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E992-B355-4B33-B086-44A9C212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F49F-F9F5-4AC2-8C0A-79FB6897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173-C775-4D50-A999-0FE83246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B52-805B-40F9-94D4-E89F754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9CEF-0B2D-4226-9415-1038DE89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3E8D-5069-429F-B7F5-DEAF2834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3C68-DEF8-450C-97F6-7CD566C2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412-308B-4003-A2CA-DCCE729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FCB7-7691-4347-8B09-13E15E01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0FC8-6556-4AB3-87F0-EA9A1B3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206B-7115-4624-8384-D98DF01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F2A9-C728-4794-8738-05F9E93970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755640" y="192600"/>
            <a:ext cx="7488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делать на свете мы многое сможем – 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 глубинах морских и в космических тоже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 тундре придем, и пустыням горя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аже погоду переиначим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ел и дорог будет в жизни не мало.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просим себя: «Ну а где их начало?»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от он ответ наш правильный самый:</a:t>
            </a:r>
            <a:br>
              <a:rPr sz="2800"/>
            </a:b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Все начинается с МА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1"/>
          <a:stretch/>
        </p:blipFill>
        <p:spPr>
          <a:xfrm>
            <a:off x="6300720" y="4005360"/>
            <a:ext cx="22399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5"/>
          <p:cNvSpPr txBox="1"/>
          <p:nvPr/>
        </p:nvSpPr>
        <p:spPr>
          <a:xfrm>
            <a:off x="755640" y="476280"/>
            <a:ext cx="756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косичку мне запл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7"/>
          <p:cNvSpPr txBox="1"/>
          <p:nvPr/>
        </p:nvSpPr>
        <p:spPr>
          <a:xfrm>
            <a:off x="826920" y="2997360"/>
            <a:ext cx="74901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ый дом один подм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755640" y="620640"/>
            <a:ext cx="73454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ребячий любит см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755640" y="2852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на свете лучше вс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6" name="Picture 9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2016000" cy="16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476360" y="69228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Arial"/>
              </a:rPr>
              <a:t>Указ президента РФ от 30 января 1998 года определил: </a:t>
            </a:r>
            <a:r>
              <a:rPr b="1" i="1" lang="ru-RU" sz="3600" spc="-1" strike="noStrike">
                <a:solidFill>
                  <a:srgbClr val="cc0000"/>
                </a:solidFill>
                <a:latin typeface="Arial"/>
              </a:rPr>
              <a:t>День матери следует отмечать ежегодно в последнее воскресенье но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 rot="19430400">
            <a:off x="7451640" y="306864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2"/>
          <a:stretch/>
        </p:blipFill>
        <p:spPr>
          <a:xfrm rot="2746800">
            <a:off x="2796840" y="55245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3"/>
          <a:stretch/>
        </p:blipFill>
        <p:spPr>
          <a:xfrm rot="2320200">
            <a:off x="394920" y="321300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"/>
          <p:cNvPicPr/>
          <p:nvPr/>
        </p:nvPicPr>
        <p:blipFill>
          <a:blip r:embed="rId4"/>
          <a:stretch/>
        </p:blipFill>
        <p:spPr>
          <a:xfrm rot="19371000">
            <a:off x="7380360" y="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5"/>
          <a:stretch/>
        </p:blipFill>
        <p:spPr>
          <a:xfrm rot="1932000">
            <a:off x="0" y="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6"/>
          <a:stretch/>
        </p:blipFill>
        <p:spPr>
          <a:xfrm rot="2746800">
            <a:off x="-11520" y="534816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7"/>
          <a:stretch/>
        </p:blipFill>
        <p:spPr>
          <a:xfrm rot="17246400">
            <a:off x="7621200" y="527508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324000" y="45756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Вы, конечно, не помните самую первую встречу с мамой. Как она обрадовалась, когда увидела вас! Как счастливо светились ее глаза! На вашей ручке был привязан номерок из пленки. На нем были написаны фамилия, число, месяц, год и время вашего рождения, ваш вес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093080" y="4941720"/>
            <a:ext cx="1279440" cy="1519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395280" y="4365720"/>
            <a:ext cx="101124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84360" y="189000"/>
            <a:ext cx="70498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Тогда ваша мамочка первый раз взглянула на своего малыша – и поняла, что ее ребенок – самый лучший, самый красивый и самый любимый. Сейчас вы подросли, но мама любит вас все так же крепко и нежно. Мамы будут любить вас ровно столько, сколько будут жить на свете – помните об этом всегда! И сколько бы вам не было лет – 5 или 50, вам всегда будет нужна мама, ее ласка, ее взгляд. И чем больше ваша любовь к маме, тем радостнее и светлее жизнь!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7740720" y="0"/>
            <a:ext cx="115092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6804000" y="40464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6659640" y="5877000"/>
            <a:ext cx="10080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1403280" y="907920"/>
            <a:ext cx="547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свете добрых слов немало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всех добрее и важней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WordArt 7"/>
          <p:cNvSpPr txBox="1"/>
          <p:nvPr/>
        </p:nvSpPr>
        <p:spPr>
          <a:xfrm>
            <a:off x="6588000" y="184464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WordArt 8"/>
          <p:cNvSpPr txBox="1"/>
          <p:nvPr/>
        </p:nvSpPr>
        <p:spPr>
          <a:xfrm>
            <a:off x="1403280" y="2492280"/>
            <a:ext cx="5545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двух слогов простое слово: “мама”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ту слов дороже,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WordArt 9"/>
          <p:cNvSpPr txBox="1"/>
          <p:nvPr/>
        </p:nvSpPr>
        <p:spPr>
          <a:xfrm>
            <a:off x="5940360" y="342900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но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2700360" y="2708280"/>
            <a:ext cx="64436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468360" y="765000"/>
            <a:ext cx="8280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а “Мама, мать</a:t>
            </a:r>
            <a:r>
              <a:rPr b="1" i="1" lang="ru-RU" sz="2200" spc="-1" strike="noStrike">
                <a:solidFill>
                  <a:srgbClr val="cc3300"/>
                </a:solidFill>
                <a:latin typeface="Arial"/>
              </a:rPr>
              <a:t>”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- одно из самых древних на Земле” и почти одинаково звучит на языках разных народов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Все люди уважают и любят матер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c3300"/>
                </a:solidFill>
                <a:latin typeface="Arial"/>
              </a:rPr>
              <a:t>Словом “Мать” называют и свою Родину, чтобы подчеркнуть, что она по-матерински относится к своим детя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6084720" y="37162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468360" y="33336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Мама учит нас быть мудрыми, дает советы, оберегает. </a:t>
            </a:r>
            <a:br>
              <a:rPr sz="4000"/>
            </a:b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Поиграем в игру «Мамочк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3399"/>
                </a:solidFill>
                <a:latin typeface="Arial"/>
              </a:rPr>
              <a:t>Я задаю вопросы, а вы отвечаете хором «Мамочка!» Только дружно и гром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1728720" cy="220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2"/>
          <a:stretch/>
        </p:blipFill>
        <p:spPr>
          <a:xfrm>
            <a:off x="5724360" y="4869000"/>
            <a:ext cx="24339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468360" y="620640"/>
            <a:ext cx="79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пришел ко мне с утра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539640" y="3068640"/>
            <a:ext cx="806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сказал: «Вставать пора?»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5"/>
          <p:cNvSpPr txBox="1"/>
          <p:nvPr/>
        </p:nvSpPr>
        <p:spPr>
          <a:xfrm>
            <a:off x="684360" y="404640"/>
            <a:ext cx="74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шу кто успел сварить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611280" y="292428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ю в чашку кто нали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20:23Z</dcterms:created>
  <dc:creator>Admin</dc:creator>
  <dc:description/>
  <dc:language>en-US</dc:language>
  <cp:lastModifiedBy>Виталий Железняков</cp:lastModifiedBy>
  <dcterms:modified xsi:type="dcterms:W3CDTF">2022-11-24T16:37:28Z</dcterms:modified>
  <cp:revision>8</cp:revision>
  <dc:subject/>
  <dc:title>Слайд 1</dc:title>
</cp:coreProperties>
</file>