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BBB-BCAF-49BE-B3FE-0937F57F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148-D405-4357-97D8-C4D30268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30B-187C-4B9C-BACB-235B3D77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25F-626E-4804-8A8C-B1CF64B9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C26C-ECFB-49B8-BC01-FA7880F2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12D3-C09C-478A-94AA-58D8972C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168-7C2A-421F-B513-8A6157D7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C92D-4EEB-40F7-A9AE-DCB1889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E9F7-89B2-42E6-A4F5-BCE1840D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BCC6-1478-4192-AAFF-67C4F2F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EECA-7B9E-4F65-93A8-28144BD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809-5977-44D2-9BA9-532EC66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DF13-53D5-475A-966B-8839CFD7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452-D3C1-4261-A976-27F9CD89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3C9F-E3B0-45C0-9339-049BE21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224-03D5-4D63-864D-196B8BB2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0A9-5D6B-4109-8DDE-65A40106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4D4-1BB3-4C14-B90D-805479AD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32B-0191-4441-8473-70478C3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2DE-25E4-4BE7-9909-D2098F2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5F5-45B7-4451-8ECB-6B249CDF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B6E-8B9C-45D7-82C8-9F6E29E2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801-D9AE-4972-B06B-EF53465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C7F-5D57-45DB-9A62-72AF071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F0B7-27F0-45FF-8EDA-6C74CF9A8DF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C8B1-0117-4D4B-A668-2BE2F17FA0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530280" y="171360"/>
            <a:ext cx="7864560" cy="2479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2928960"/>
            <a:ext cx="7854840" cy="36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плана воспитательно-образовательной работы на один ден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Дикие животные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гина Елена Влерьевн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 Центр развития ребёнка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;№;4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Городец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ые проблемы дошкольного образования в условиях введения ФГОС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ий Новгород 2015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5840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Тема: «Дикие животные».</a:t>
            </a:r>
            <a:br>
              <a:rPr sz="3600"/>
            </a:b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обогащать  представления детей о диких животных, познакомить со строением частей тела животных , с некоторыми особенностями образа жизни :как двигаются , что и как едят ,какие звуки издают, где живут;  развивать интерес и любовь  к природе и животным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1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Утро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428480"/>
            <a:ext cx="82868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: «Кто что ест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: «Мамы и детк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ующее общение :«Путешествие в зоопарк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89000"/>
            <a:ext cx="82580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НОД (групповая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2920" y="1428840"/>
            <a:ext cx="418644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Осенняя песенк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499760"/>
            <a:ext cx="4546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(лепк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Дикие животны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группово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Прогул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13920"/>
            <a:ext cx="36860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ая игра: «Кто прячется под кусточком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седа «Как вести себя рядом с     животными 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71960" y="1213920"/>
            <a:ext cx="48578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а: «Скачет зайка по опушке»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бор шишек для Мишки: «Шишки  собираем - Мишке помогаем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вижные игры: «У медведя во бору»; «Зайка беленький сидит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Рисунок 4" descr="i (7).jpg"/>
          <p:cNvPicPr/>
          <p:nvPr/>
        </p:nvPicPr>
        <p:blipFill>
          <a:blip r:embed="rId1"/>
          <a:stretch/>
        </p:blipFill>
        <p:spPr>
          <a:xfrm>
            <a:off x="0" y="3979800"/>
            <a:ext cx="326880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Вече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6640"/>
            <a:ext cx="83296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гадывание загадок о диких животн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ение стихотворения  Е . Еремеева «Спать  ложатся  все в лесу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а «Весёлые зайчат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вижная игра «Белки – шалунишки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4" descr=""/>
          <p:cNvPicPr/>
          <p:nvPr/>
        </p:nvPicPr>
        <p:blipFill>
          <a:blip r:embed="rId1"/>
          <a:stretch/>
        </p:blipFill>
        <p:spPr>
          <a:xfrm>
            <a:off x="-158760" y="1547640"/>
            <a:ext cx="9474120" cy="153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4:56:33Z</dcterms:created>
  <dc:creator>Admin</dc:creator>
  <dc:description/>
  <dc:language>en-US</dc:language>
  <cp:lastModifiedBy>User</cp:lastModifiedBy>
  <dcterms:modified xsi:type="dcterms:W3CDTF">2015-11-17T03:46:43Z</dcterms:modified>
  <cp:revision>82</cp:revision>
  <dc:subject/>
  <dc:title>Министерство образования Нижегородской области Государственное бюджетное образовательное учреждение дополнительного  профессионального образования  Нижегородский институт развития образования НИРО кафедра теории и методики дошкольного образования</dc:title>
</cp:coreProperties>
</file>