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C2F-A092-4E9C-9BF8-ACAA457C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FB2-D6E9-48EE-8547-41A4D709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506-C45E-4766-A043-AC8FBD23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DF5-6097-4CD2-965E-EFDF9D45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C549-840B-4905-8978-0498A4F4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FE93-4F32-4D7E-8A58-80B87162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049-128A-4A78-AEED-E92E01D6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C35E-D09A-4493-9211-C39B7414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EDC-60F7-4A64-B701-73916582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F7DE-AAA7-4EA1-8833-516DEE76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E2D-E3AB-4250-97FF-857C6D2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DE7-D78D-4B49-A343-36CC34A9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A609-D685-4CED-8933-F6ED345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660C-828A-4755-B57F-ECFC8A3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F21C-B498-4928-8F93-309F308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8DBA-4339-4846-9BFE-F67C19C3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A959-3114-4B53-B652-D359B30F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879-46D3-471D-98A3-78396906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A9A-91D3-4FF0-9787-708379AE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E29-95EB-4464-A721-91CBC136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37B-1F60-44D7-85E4-AC407C0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607-A4A4-45BE-B7CB-6BFF1CC0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C9C-982D-4D82-95A8-35FCA5A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355-EA78-4255-9CA7-D4016FA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51B-27EE-4790-B244-85A2DB9AD6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A445-5005-455C-91B1-476C0F6F855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530280" y="171360"/>
            <a:ext cx="7864560" cy="2479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160" y="2928960"/>
            <a:ext cx="7854840" cy="3643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плана воспитательно-образовательной работы на один ден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Дикие животные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гина Елена Влерьевн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 Центр развития ребёнка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;№;4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Городец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ые проблемы дошкольного образования в условиях введения ФГОС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ий Новгород 2015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58400" cy="6215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Тема: «Дикие животные».</a:t>
            </a:r>
            <a:br>
              <a:rPr sz="3600"/>
            </a:br>
            <a:r>
              <a:rPr b="0" lang="ru-RU" sz="36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Цели: </a:t>
            </a:r>
            <a:r>
              <a:rPr b="0" lang="ru-RU" sz="28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обогащать  представления детей о диких животных, познакомить со строением частей тела животных , с некоторыми особенностями образа жизни :как двигаются , что и как едят ,какие звуки издают, где живут;  развивать интерес и любовь  к природе и животным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14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Утро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6760" y="1428480"/>
            <a:ext cx="82868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: «Кто что ест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: «Мамы и детки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ующее общение :«Путешествие в зоопарк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89000"/>
            <a:ext cx="82580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НОД (групповая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2920" y="1428840"/>
            <a:ext cx="418644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Осенняя песенка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499760"/>
            <a:ext cx="4546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(лепка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Дикие животны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группово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Прогулк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13920"/>
            <a:ext cx="368604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ая игра: «Кто прячется под кусточком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седа «Как вести себя рядом с     животными 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71960" y="1213920"/>
            <a:ext cx="485784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ра: «Скачет зайка по опушке»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бор шишек для Мишки: «Шишки  собираем - Мишке помогаем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вижные игры: «У медведя во бору»; «Зайка беленький сидит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Рисунок 4" descr="i (7).jpg"/>
          <p:cNvPicPr/>
          <p:nvPr/>
        </p:nvPicPr>
        <p:blipFill>
          <a:blip r:embed="rId1"/>
          <a:stretch/>
        </p:blipFill>
        <p:spPr>
          <a:xfrm>
            <a:off x="0" y="3979800"/>
            <a:ext cx="326880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87026"/>
                </a:solidFill>
                <a:latin typeface="Times New Roman"/>
                <a:ea typeface="Times New Roman"/>
              </a:rPr>
              <a:t>Вече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6640"/>
            <a:ext cx="83296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гадывание загадок о диких животн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ение стихотворения  Е . Еремеева «Спать  ложатся  все в лесу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ра «Весёлые зайчат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вижная игра «Белки – шалунишки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4" descr=""/>
          <p:cNvPicPr/>
          <p:nvPr/>
        </p:nvPicPr>
        <p:blipFill>
          <a:blip r:embed="rId1"/>
          <a:stretch/>
        </p:blipFill>
        <p:spPr>
          <a:xfrm>
            <a:off x="-158760" y="1547640"/>
            <a:ext cx="9474120" cy="153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4:56:33Z</dcterms:created>
  <dc:creator>Admin</dc:creator>
  <dc:description/>
  <dc:language>en-US</dc:language>
  <cp:lastModifiedBy>User</cp:lastModifiedBy>
  <dcterms:modified xsi:type="dcterms:W3CDTF">2015-11-17T03:46:43Z</dcterms:modified>
  <cp:revision>82</cp:revision>
  <dc:subject/>
  <dc:title>Министерство образования Нижегородской области Государственное бюджетное образовательное учреждение дополнительного  профессионального образования  Нижегородский институт развития образования НИРО кафедра теории и методики дошкольного образования</dc:title>
</cp:coreProperties>
</file>