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5A3-B8C5-4335-9670-65AAD80B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806-8184-48F7-B59C-5449708D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DFA-E0F4-4979-B243-5EDC9311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3AC-9872-4972-9D46-AB309AEA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04FC-DCC8-464E-A9BA-3057A082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71DA-D872-47B0-9DFA-B1D35505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1754-C9C9-4273-AA9F-AE8EFE11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7888-F481-45A7-9366-B924EACC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3469-D46B-41FB-9347-B8F51DBF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2449-8317-4B1B-A65E-41FEDECC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A7EC-38FC-48A1-B24C-4FACD189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ADB-A2DA-49C7-82D9-1D4B209C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E7B6-F751-43CE-8702-B4CF372B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BBDC-143D-4A50-8D02-9DCA4617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7001-AD2F-4740-9358-93ABF894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B117-A9CC-4F8D-B209-FFAABDD5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27A3-C8CA-423F-AB7A-4E45F734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639-DFEE-4B67-9C74-F05D4636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764-9B24-4306-8393-DA12876F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9EF-01E2-49E9-8BD5-6EA6B2F4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EA7-A1B8-44EB-977D-A4B8DFB3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EB4-DA89-4766-B78D-BD834C8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606-E890-4526-BADA-862F1B5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95E-72AF-4372-9261-6F3E612F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6F3F-60E9-4FA6-A7DF-6562FA3F73E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7424-F2E8-48CF-B67E-297FEA6F9D1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530280" y="171360"/>
            <a:ext cx="7864560" cy="2479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160" y="2928960"/>
            <a:ext cx="7854840" cy="3643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плана воспитательно-образовательной работы на один ден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Дикие животные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гина Елена Влерьевн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 Центр развития ребёнка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;№;4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. Городец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ые проблемы дошкольного образования в условиях введения ФГОС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ий Новгород 2015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58400" cy="6215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Тема: «Дикие животные».</a:t>
            </a:r>
            <a:br>
              <a:rPr sz="3600"/>
            </a:br>
            <a:r>
              <a:rPr b="0" lang="ru-RU" sz="36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Цели: </a:t>
            </a:r>
            <a:r>
              <a:rPr b="0" lang="ru-RU" sz="28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обогащать  представления детей о диких животных, познакомить со строением частей тела животных , с некоторыми особенностями образа жизни :как двигаются , что и как едят ,какие звуки издают, где живут;  развивать интерес и любовь  к природе и животным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14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Утро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6760" y="1428480"/>
            <a:ext cx="82868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: «Кто что ест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: «Мамы и детки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ующее общение :«Путешествие в зоопарк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89000"/>
            <a:ext cx="82580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НОД (групповая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2920" y="1428840"/>
            <a:ext cx="418644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Осенняя песенка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499760"/>
            <a:ext cx="4546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(лепка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Дикие животные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группово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Прогулк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13920"/>
            <a:ext cx="368604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дактическая игра: «Кто прячется под кусточком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седа «Как вести себя рядом с     животными 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071960" y="1213920"/>
            <a:ext cx="485784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ра: «Скачет зайка по опушке»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бор шишек для Мишки: «Шишки  собираем - Мишке помогаем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вижные игры: «У медведя во бору»; «Зайка беленький сидит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Рисунок 4" descr="i (7).jpg"/>
          <p:cNvPicPr/>
          <p:nvPr/>
        </p:nvPicPr>
        <p:blipFill>
          <a:blip r:embed="rId1"/>
          <a:stretch/>
        </p:blipFill>
        <p:spPr>
          <a:xfrm>
            <a:off x="0" y="3979800"/>
            <a:ext cx="326880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Вече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6640"/>
            <a:ext cx="83296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гадывание загадок о диких животн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ение стихотворения  Е . Еремеева «Спать  ложатся  все в лесу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ра «Весёлые зайчат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вижная игра «Белки – шалунишки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4" descr=""/>
          <p:cNvPicPr/>
          <p:nvPr/>
        </p:nvPicPr>
        <p:blipFill>
          <a:blip r:embed="rId1"/>
          <a:stretch/>
        </p:blipFill>
        <p:spPr>
          <a:xfrm>
            <a:off x="-158760" y="1547640"/>
            <a:ext cx="9474120" cy="153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14:56:33Z</dcterms:created>
  <dc:creator>Admin</dc:creator>
  <dc:description/>
  <dc:language>en-US</dc:language>
  <cp:lastModifiedBy>User</cp:lastModifiedBy>
  <dcterms:modified xsi:type="dcterms:W3CDTF">2015-11-17T03:46:43Z</dcterms:modified>
  <cp:revision>82</cp:revision>
  <dc:subject/>
  <dc:title>Министерство образования Нижегородской области Государственное бюджетное образовательное учреждение дополнительного  профессионального образования  Нижегородский институт развития образования НИРО кафедра теории и методики дошкольного образования</dc:title>
</cp:coreProperties>
</file>