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767-C5C7-4968-81F2-DEA46BFC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364-DA2C-4128-A676-CDE9FC9C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EA2E-64DC-43A7-9E8D-66468A0E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507-F9DA-4646-9603-9133A10B9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ED9-259B-41FE-9C73-7E767AA2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0BAA-004B-4CED-9879-A9A973BF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CA15-C408-4AE7-94D1-9D9C67B3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AC00-2AEC-4B0B-8BAE-6807B853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FCD2-9476-47C9-99B0-23E6C6E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B6B3-2649-4B6C-9FD3-15892C98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EBC1-60BC-4781-B742-83F1ED7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764-6ADB-4C71-80F2-8F8F61CF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6D76B-44BE-485D-B472-AF0082C2F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6T13:32:12Z</dcterms:created>
  <dc:creator>emachines</dc:creator>
  <dc:description/>
  <dc:language>en-US</dc:language>
  <cp:lastModifiedBy>emachines</cp:lastModifiedBy>
  <dcterms:modified xsi:type="dcterms:W3CDTF">2023-01-16T13:32:51Z</dcterms:modified>
  <cp:revision>1</cp:revision>
  <dc:subject/>
  <dc:title>Слайд 1</dc:title>
</cp:coreProperties>
</file>