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F2A-2780-4092-B3FE-B3761BCC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A54-24D6-4693-8A3B-E9231984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E18-24E4-4BAD-894B-04098CEE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2B6-D662-4E31-8ABD-43CE1ABF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E6F-68B3-48CD-A912-F31B027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752-F61E-48A4-AA6E-C4B0C441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6AB-13FF-4159-B2C5-BE945D4F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CD3-800F-4459-9237-7082EF8A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C1A-A2D5-4D6D-95F6-0643C371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7A5-F893-4C94-8A67-2B78F6C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C5B-6589-49FF-A9F8-1B3DE25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2E3-B26D-480D-8C51-AA60325E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380-0AA4-4A64-A58A-D1B9ABC6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6T13:32:12Z</dcterms:created>
  <dc:creator>emachines</dc:creator>
  <dc:description/>
  <dc:language>en-US</dc:language>
  <cp:lastModifiedBy>emachines</cp:lastModifiedBy>
  <dcterms:modified xsi:type="dcterms:W3CDTF">2023-01-16T13:32:51Z</dcterms:modified>
  <cp:revision>1</cp:revision>
  <dc:subject/>
  <dc:title>Слайд 1</dc:title>
</cp:coreProperties>
</file>