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26.png" ContentType="image/png"/>
  <Override PartName="/ppt/media/image9.png" ContentType="image/png"/>
  <Override PartName="/ppt/media/image17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6.wmf" ContentType="image/x-wmf"/>
  <Override PartName="/ppt/media/image4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25.wmf" ContentType="image/x-wmf"/>
  <Override PartName="/ppt/media/image2.jpeg" ContentType="image/jpe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2ACE-580B-45BA-981C-F2D8E80D9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015D-F438-487B-A2AE-8972206291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942-7DA1-45E3-A93B-2DEF1B6D3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556-3A2A-471C-9E2D-C9375B25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B18A-EAEF-427A-A1B4-6947260B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1E8-5C8C-4F74-9592-5426D2D1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E9B3-8E28-45D3-A710-04AEE1D4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D09-77B6-4553-A059-DD83E985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B4E1-2B86-4EB5-9325-748B26F4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5E88-5071-4D65-8F53-7FAAB794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D45-E0B3-4F27-B557-3D37C909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2B76-9F15-4B22-BABE-0192C853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F14-BA3D-48FB-B380-7D21072A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58DC-8BD4-4027-A052-1C597209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9B4F-3601-4925-9461-A6212A2F8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5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комендации по оформлению презентаций и докладов или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езентация о презентац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2B59-C232-4221-A424-88FF1583F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цв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Snap10"/>
          <p:cNvPicPr/>
          <p:nvPr/>
        </p:nvPicPr>
        <p:blipFill>
          <a:blip r:embed="rId1"/>
          <a:stretch/>
        </p:blipFill>
        <p:spPr>
          <a:xfrm>
            <a:off x="971640" y="907920"/>
            <a:ext cx="741672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F348-2AC0-478A-967A-9403E134C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цве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nap9"/>
          <p:cNvPicPr/>
          <p:nvPr/>
        </p:nvPicPr>
        <p:blipFill>
          <a:blip r:embed="rId1"/>
          <a:stretch/>
        </p:blipFill>
        <p:spPr>
          <a:xfrm>
            <a:off x="611280" y="907920"/>
            <a:ext cx="74898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66FB-5B09-4121-A659-9A9FD2E249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размер текс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nap4"/>
          <p:cNvPicPr/>
          <p:nvPr/>
        </p:nvPicPr>
        <p:blipFill>
          <a:blip r:embed="rId1"/>
          <a:stretch/>
        </p:blipFill>
        <p:spPr>
          <a:xfrm>
            <a:off x="755640" y="907920"/>
            <a:ext cx="7632720" cy="57038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1547640" y="4434840"/>
            <a:ext cx="676944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учше заключить доклад одним-двум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глядно демонстрирующими, какие именно новые знания появились в результате проделанной работы, поскольку формальные выводы, содержащиеся в работе, во-первых, плохо воспринимаются по причине излишней детализации, неуместной в рамках научного доклада, а во-вторых, эти выводы все равно не будет разрешено зачитывать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BFA4-ACF5-4C67-9EC7-7DDB4EDD4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зык презент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495"/>
          <p:cNvPicPr/>
          <p:nvPr/>
        </p:nvPicPr>
        <p:blipFill>
          <a:blip r:embed="rId1"/>
          <a:stretch/>
        </p:blipFill>
        <p:spPr>
          <a:xfrm>
            <a:off x="2268360" y="836640"/>
            <a:ext cx="5572440" cy="576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Snap15"/>
          <p:cNvPicPr/>
          <p:nvPr/>
        </p:nvPicPr>
        <p:blipFill>
          <a:blip r:embed="rId2"/>
          <a:stretch/>
        </p:blipFill>
        <p:spPr>
          <a:xfrm>
            <a:off x="755640" y="836640"/>
            <a:ext cx="763272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581B-DB73-423C-B060-9F03ADA03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ст на графиках и в таблицах и подписи на осях должны хорошо чит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ться избегать чрезмерно большого количества кривых на одном графи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ться избегать помещать «вставки» в графики и карт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иллюстрация должна нести определенный смысл: упоминаться в докладе или нести разъяснительную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к и фон должны быть контрастными и четк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ться избегать использовать отсканированные или «перефотографированные» изображения, если есть возможность получить первоначальный вариант (теряется резкость изображения). Не пренебрегать использованием графических редакто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цы. Граф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80C2-BF7C-4D8E-9A43-F40A5BA958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и. Приме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395280" y="1052640"/>
            <a:ext cx="3962520" cy="2895480"/>
            <a:chOff x="395280" y="1052640"/>
            <a:chExt cx="3962520" cy="2895480"/>
          </a:xfrm>
        </p:grpSpPr>
        <p:graphicFrame>
          <p:nvGraphicFramePr>
            <p:cNvPr id="100" name="Object 7"/>
            <p:cNvGraphicFramePr/>
            <p:nvPr/>
          </p:nvGraphicFramePr>
          <p:xfrm>
            <a:off x="395280" y="1052640"/>
            <a:ext cx="3962520" cy="2895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1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95280" y="1052640"/>
                      <a:ext cx="3962520" cy="28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AutoShape 8"/>
            <p:cNvSpPr/>
            <p:nvPr/>
          </p:nvSpPr>
          <p:spPr>
            <a:xfrm>
              <a:off x="2376720" y="3041280"/>
              <a:ext cx="272880" cy="261000"/>
            </a:xfrm>
            <a:prstGeom prst="plus">
              <a:avLst>
                <a:gd name="adj" fmla="val 406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AutoShape 9"/>
            <p:cNvSpPr/>
            <p:nvPr/>
          </p:nvSpPr>
          <p:spPr>
            <a:xfrm>
              <a:off x="1829880" y="3041280"/>
              <a:ext cx="273240" cy="261000"/>
            </a:xfrm>
            <a:prstGeom prst="plus">
              <a:avLst>
                <a:gd name="adj" fmla="val 406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0"/>
            <p:cNvSpPr/>
            <p:nvPr/>
          </p:nvSpPr>
          <p:spPr>
            <a:xfrm>
              <a:off x="1078560" y="3014280"/>
              <a:ext cx="683280" cy="337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ГП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2718000" y="2975760"/>
              <a:ext cx="684360" cy="3373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3300"/>
                  </a:solidFill>
                  <a:latin typeface="Times New Roman"/>
                </a:rPr>
                <a:t>ГЦ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2"/>
          <p:cNvSpPr/>
          <p:nvPr/>
        </p:nvSpPr>
        <p:spPr>
          <a:xfrm>
            <a:off x="623880" y="3490920"/>
            <a:ext cx="83808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3708360" y="3500280"/>
            <a:ext cx="60948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4"/>
          <p:cNvGrpSpPr/>
          <p:nvPr/>
        </p:nvGrpSpPr>
        <p:grpSpPr>
          <a:xfrm>
            <a:off x="4932360" y="1268280"/>
            <a:ext cx="3363840" cy="2304720"/>
            <a:chOff x="4932360" y="1268280"/>
            <a:chExt cx="3363840" cy="2304720"/>
          </a:xfrm>
        </p:grpSpPr>
        <p:pic>
          <p:nvPicPr>
            <p:cNvPr id="109" name="Picture 15" descr="tv08_50_complete_5"/>
            <p:cNvPicPr/>
            <p:nvPr/>
          </p:nvPicPr>
          <p:blipFill>
            <a:blip r:embed="rId3"/>
            <a:srcRect l="0" t="2407" r="2443" b="0"/>
            <a:stretch/>
          </p:blipFill>
          <p:spPr>
            <a:xfrm>
              <a:off x="4932360" y="1268280"/>
              <a:ext cx="3173400" cy="230472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10" name="Text Box 16"/>
            <p:cNvSpPr/>
            <p:nvPr/>
          </p:nvSpPr>
          <p:spPr>
            <a:xfrm>
              <a:off x="7051320" y="2517840"/>
              <a:ext cx="12448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.6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± 0.1 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</a:t>
              </a:r>
              <a:r>
                <a:rPr b="0" i="1" lang="ru-RU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/</a:t>
              </a: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17" descr=""/>
          <p:cNvPicPr/>
          <p:nvPr/>
        </p:nvPicPr>
        <p:blipFill>
          <a:blip r:embed="rId4"/>
          <a:stretch/>
        </p:blipFill>
        <p:spPr>
          <a:xfrm>
            <a:off x="468360" y="4365720"/>
            <a:ext cx="3849480" cy="175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C3FA-E59C-49B6-866C-E5561A9E0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ки. Примеры (восприят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Snap6"/>
          <p:cNvPicPr/>
          <p:nvPr/>
        </p:nvPicPr>
        <p:blipFill>
          <a:blip r:embed="rId1"/>
          <a:stretch/>
        </p:blipFill>
        <p:spPr>
          <a:xfrm>
            <a:off x="611280" y="907920"/>
            <a:ext cx="77040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FD27-8541-4BE1-9E26-1598DB6A9F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142920" y="274680"/>
            <a:ext cx="878688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цы. Примеры (цвет, размер шрифт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052640"/>
          <a:ext cx="8218440" cy="4362480"/>
        </p:xfrm>
        <a:graphic>
          <a:graphicData uri="http://schemas.openxmlformats.org/drawingml/2006/table">
            <a:tbl>
              <a:tblPr/>
              <a:tblGrid>
                <a:gridCol w="2054160"/>
                <a:gridCol w="960480"/>
                <a:gridCol w="1441440"/>
                <a:gridCol w="1228680"/>
                <a:gridCol w="2533680"/>
              </a:tblGrid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плекс-предшествен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утто состав продук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наруженные фа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c, 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 твердого раств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Cl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67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=2,716(2)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=4,312(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67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куб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=3,826(3)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гекс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2,717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гекс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4,320(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23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60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45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ГП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куб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=3,821(3)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гекс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2,716(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гекс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=4,330(</a:t>
                      </a: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40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u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60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0,</a:t>
                      </a:r>
                      <a:r>
                        <a:rPr b="0" lang="ru-RU" sz="1200" spc="-1" strike="noStrike" baseline="-25000">
                          <a:solidFill>
                            <a:srgbClr val="333399"/>
                          </a:solidFill>
                          <a:latin typeface="Arial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r>
                        <a:rPr b="0" lang="ru-RU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=3,820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4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6</a:t>
                      </a:r>
                      <a:r>
                        <a:rPr b="0" lang="ru-RU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6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34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3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=3,823</a:t>
                      </a: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33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H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][IrCl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ГЦ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=3,827(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Ru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25</a:t>
                      </a:r>
                      <a:r>
                        <a:rPr b="0" lang="en-US" sz="1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r</a:t>
                      </a:r>
                      <a:r>
                        <a:rPr b="0" lang="en-US" sz="12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CF2E3-287C-4B74-A63C-D0C6CC1578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9640" y="43639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фровка используемых сокращений и условных обо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ублирование расшифровок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46040" y="1125360"/>
            <a:ext cx="82296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ует использ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принятые термины, обознач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избегать узкоспециальных, учитывая, что большинство слушателей не являются узкими специалистами по излагаемым вопросам и строить доклад понятным им образом, не провоцируя излишние вопросы. Разумеется, недопустимы жаргонные выражения и профессиональный слен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5FCB-B506-459C-9E98-6C2114661F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958680" y="907920"/>
            <a:ext cx="6658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t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 нитроксил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076720" y="1557360"/>
          <a:ext cx="358632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7360"/>
                    <a:ext cx="358632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054760" y="3890160"/>
            <a:ext cx="36630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, V, VI, VI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Cu(tta)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L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Cu(tta)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II, III, I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Cu(tta)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2L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[Cu(tta)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960560" y="9968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Object 14"/>
          <p:cNvGraphicFramePr/>
          <p:nvPr/>
        </p:nvGraphicFramePr>
        <p:xfrm>
          <a:off x="3133800" y="1644480"/>
          <a:ext cx="90972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3800" y="1644480"/>
                    <a:ext cx="90972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Rectangle 15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16"/>
          <p:cNvGraphicFramePr/>
          <p:nvPr/>
        </p:nvGraphicFramePr>
        <p:xfrm>
          <a:off x="3065400" y="2381400"/>
          <a:ext cx="947880" cy="725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8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65400" y="2381400"/>
                    <a:ext cx="94788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17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8"/>
          <p:cNvGraphicFramePr/>
          <p:nvPr/>
        </p:nvGraphicFramePr>
        <p:xfrm>
          <a:off x="3065400" y="3186000"/>
          <a:ext cx="1085760" cy="72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65400" y="3186000"/>
                    <a:ext cx="10857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19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20"/>
          <p:cNvGraphicFramePr/>
          <p:nvPr/>
        </p:nvGraphicFramePr>
        <p:xfrm>
          <a:off x="3065400" y="3922560"/>
          <a:ext cx="1359000" cy="77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65400" y="3922560"/>
                    <a:ext cx="1359000" cy="7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21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2"/>
          <p:cNvGraphicFramePr/>
          <p:nvPr/>
        </p:nvGraphicFramePr>
        <p:xfrm>
          <a:off x="3133800" y="4727520"/>
          <a:ext cx="1154160" cy="81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33800" y="4727520"/>
                    <a:ext cx="115416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23"/>
          <p:cNvSpPr/>
          <p:nvPr/>
        </p:nvSpPr>
        <p:spPr>
          <a:xfrm>
            <a:off x="1960560" y="2395440"/>
            <a:ext cx="25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24"/>
          <p:cNvGraphicFramePr/>
          <p:nvPr/>
        </p:nvGraphicFramePr>
        <p:xfrm>
          <a:off x="2860560" y="5530680"/>
          <a:ext cx="1970280" cy="819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60560" y="5530680"/>
                    <a:ext cx="1970280" cy="8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Rectangle 25"/>
          <p:cNvSpPr/>
          <p:nvPr/>
        </p:nvSpPr>
        <p:spPr>
          <a:xfrm>
            <a:off x="2793960" y="4727520"/>
            <a:ext cx="2104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2793960" y="3941640"/>
            <a:ext cx="2104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2793960" y="3157560"/>
            <a:ext cx="21049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1163520" y="5548320"/>
            <a:ext cx="16304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684360" y="5516640"/>
            <a:ext cx="5745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1163520" y="4727520"/>
            <a:ext cx="1630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] - 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] - 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1"/>
          <p:cNvSpPr/>
          <p:nvPr/>
        </p:nvSpPr>
        <p:spPr>
          <a:xfrm>
            <a:off x="755640" y="4727520"/>
            <a:ext cx="4078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2"/>
          <p:cNvSpPr/>
          <p:nvPr/>
        </p:nvSpPr>
        <p:spPr>
          <a:xfrm>
            <a:off x="1163520" y="3941640"/>
            <a:ext cx="1630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3"/>
          <p:cNvSpPr/>
          <p:nvPr/>
        </p:nvSpPr>
        <p:spPr>
          <a:xfrm>
            <a:off x="755640" y="3941640"/>
            <a:ext cx="40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4"/>
          <p:cNvSpPr/>
          <p:nvPr/>
        </p:nvSpPr>
        <p:spPr>
          <a:xfrm>
            <a:off x="1163520" y="3157560"/>
            <a:ext cx="16304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5"/>
          <p:cNvSpPr/>
          <p:nvPr/>
        </p:nvSpPr>
        <p:spPr>
          <a:xfrm>
            <a:off x="755640" y="3157560"/>
            <a:ext cx="4078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1163520" y="2381400"/>
            <a:ext cx="16304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]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1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755640" y="2381400"/>
            <a:ext cx="407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1163520" y="1577880"/>
            <a:ext cx="163044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[Cu(tta)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]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,5C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1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755640" y="1577880"/>
            <a:ext cx="407880" cy="8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>
            <a:off x="755640" y="157788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1"/>
          <p:cNvSpPr/>
          <p:nvPr/>
        </p:nvSpPr>
        <p:spPr>
          <a:xfrm>
            <a:off x="755640" y="641016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2"/>
          <p:cNvSpPr/>
          <p:nvPr/>
        </p:nvSpPr>
        <p:spPr>
          <a:xfrm>
            <a:off x="755640" y="1577880"/>
            <a:ext cx="0" cy="4832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3"/>
          <p:cNvSpPr/>
          <p:nvPr/>
        </p:nvSpPr>
        <p:spPr>
          <a:xfrm>
            <a:off x="4898880" y="1577880"/>
            <a:ext cx="0" cy="4832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4"/>
          <p:cNvSpPr/>
          <p:nvPr/>
        </p:nvSpPr>
        <p:spPr>
          <a:xfrm>
            <a:off x="755640" y="238140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5"/>
          <p:cNvSpPr/>
          <p:nvPr/>
        </p:nvSpPr>
        <p:spPr>
          <a:xfrm>
            <a:off x="1163520" y="1577880"/>
            <a:ext cx="0" cy="4832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6"/>
          <p:cNvSpPr/>
          <p:nvPr/>
        </p:nvSpPr>
        <p:spPr>
          <a:xfrm>
            <a:off x="2793960" y="1577880"/>
            <a:ext cx="0" cy="48322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7"/>
          <p:cNvSpPr/>
          <p:nvPr/>
        </p:nvSpPr>
        <p:spPr>
          <a:xfrm>
            <a:off x="755640" y="315756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>
            <a:off x="755640" y="394164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>
            <a:off x="755640" y="472752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>
            <a:off x="755640" y="5548320"/>
            <a:ext cx="41432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2"/>
          <p:cNvSpPr/>
          <p:nvPr/>
        </p:nvSpPr>
        <p:spPr>
          <a:xfrm>
            <a:off x="457200" y="142920"/>
            <a:ext cx="822960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кращен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должны быть понятны аудитории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84DD-7518-4C57-8F29-5B229018CB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виды докла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549440" y="1413000"/>
            <a:ext cx="3538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учный докл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рсов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пломная раб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ере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5005440" y="1413000"/>
            <a:ext cx="2879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сы молодых уче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пендиальные конкур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2B6B-687C-4BC8-9E1E-F46BA77FEC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70" descr="Snap21"/>
          <p:cNvPicPr/>
          <p:nvPr/>
        </p:nvPicPr>
        <p:blipFill>
          <a:blip r:embed="rId1"/>
          <a:stretch/>
        </p:blipFill>
        <p:spPr>
          <a:xfrm>
            <a:off x="684360" y="981000"/>
            <a:ext cx="7484760" cy="56008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71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кра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1D79-C510-4B0C-9ACB-326838CA64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материалы (видеофайлы) лучше использовать в несжатом формате или в стандартном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PEG 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ование других кодеров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vi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.) может привести к тому, что видео не будет корректно воспроизводиться на компьютере, на котором проводится презент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материалы. Аним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755640" y="2884320"/>
            <a:ext cx="76327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Е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несжатое виде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еть копию видеофайла отдельным файлом, не включенным в презент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ИМ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аться минимизировать количество ани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эффектов анимации должно быть оправда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C772-5236-462B-B1A0-47D12BEB8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AR103"/>
          <p:cNvPicPr/>
          <p:nvPr/>
        </p:nvPicPr>
        <p:blipFill>
          <a:blip r:embed="rId1"/>
          <a:srcRect l="0" t="8238" r="0" b="8238"/>
          <a:stretch/>
        </p:blipFill>
        <p:spPr>
          <a:xfrm>
            <a:off x="4500720" y="914400"/>
            <a:ext cx="4012920" cy="2301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r103_2"/>
          <p:cNvPicPr/>
          <p:nvPr/>
        </p:nvPicPr>
        <p:blipFill>
          <a:blip r:embed="rId2"/>
          <a:srcRect l="0" t="8238" r="0" b="8238"/>
          <a:stretch/>
        </p:blipFill>
        <p:spPr>
          <a:xfrm>
            <a:off x="4498920" y="914400"/>
            <a:ext cx="4014720" cy="230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AR103_2bond"/>
          <p:cNvPicPr/>
          <p:nvPr/>
        </p:nvPicPr>
        <p:blipFill>
          <a:blip r:embed="rId3"/>
          <a:srcRect l="0" t="8238" r="0" b="8238"/>
          <a:stretch/>
        </p:blipFill>
        <p:spPr>
          <a:xfrm>
            <a:off x="4498920" y="914400"/>
            <a:ext cx="4016520" cy="2306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AR103_2bond"/>
          <p:cNvPicPr/>
          <p:nvPr/>
        </p:nvPicPr>
        <p:blipFill>
          <a:blip r:embed="rId4"/>
          <a:srcRect l="0" t="8238" r="0" b="8238"/>
          <a:stretch/>
        </p:blipFill>
        <p:spPr>
          <a:xfrm>
            <a:off x="4500720" y="914400"/>
            <a:ext cx="4014720" cy="23065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9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материалы. Анимац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10"/>
          <p:cNvGraphicFramePr/>
          <p:nvPr/>
        </p:nvGraphicFramePr>
        <p:xfrm>
          <a:off x="179280" y="4005360"/>
          <a:ext cx="2808360" cy="267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9280" y="4005360"/>
                    <a:ext cx="28083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12"/>
          <p:cNvSpPr/>
          <p:nvPr/>
        </p:nvSpPr>
        <p:spPr>
          <a:xfrm>
            <a:off x="6300720" y="3068640"/>
            <a:ext cx="1513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 rot="18639000">
            <a:off x="429840" y="1951920"/>
            <a:ext cx="23176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Неправи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" dur="1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5347 0.04534 C 0.16615 0.16609 0.27899 0.28684 0.34774 0.30396 C 0.41649 0.32108 0.41615 0.16702 0.46649 0.14874 C 0.51684 0.13047 0.5934 0.19825 0.65 0.19408 C 0.7066 0.18992 0.77205 0.20727 0.80642 0.12353 C 0.8408 0.03979 0.87917 -0.19824 0.8559 -0.30904 C 0.83264 -0.41984 0.73264 -0.56211 0.66649 -0.54105 C 0.60035 -0.52 0.52899 -0.20217 0.45938 -0.18204 C 0.38976 -0.16192 0.31684 -0.3782 0.24879 -0.42031 C 0.18073 -0.46241 0.11597 -0.44853 0.05122 -0.43442 E">
                                      <p:cBhvr>
                                        <p:cTn id="5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7D11-731E-474F-BCC8-0B496D0256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ы должны быть пронумеров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айд должен иметь заголов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должна иметь однородной по оформ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онце презентации рекомендуется указывать коллег, гранты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проверить орфографию и научную грамотность написанного тек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е особенности оформ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Snap5"/>
          <p:cNvPicPr/>
          <p:nvPr/>
        </p:nvPicPr>
        <p:blipFill>
          <a:blip r:embed="rId1"/>
          <a:stretch/>
        </p:blipFill>
        <p:spPr>
          <a:xfrm>
            <a:off x="1332000" y="3213000"/>
            <a:ext cx="6886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1172-3E3E-48AA-901B-4ADE77EAE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5111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ходе презентации не должно быть слайдов, не используемых в докла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слайд должен показываться  1,5 – 2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иметь заготовленные слайды (таблицы, графики, данные и т.п.) для ответа на возможные вопросы (после последнего слай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хоть немного почитать инструкцию по использованию программного обесп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озможности проверить свой доклад на компьютере и проекторе, с которыми предстоит высту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ть резервную копию доклада на запасном носите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особенности докл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0025"/>
          <p:cNvPicPr/>
          <p:nvPr/>
        </p:nvPicPr>
        <p:blipFill>
          <a:blip r:embed="rId1"/>
          <a:stretch/>
        </p:blipFill>
        <p:spPr>
          <a:xfrm>
            <a:off x="5292720" y="1197000"/>
            <a:ext cx="36320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8BB4-EEAF-4E7C-B3F9-72A4CB3992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ад следует начин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постановки задачи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ю какой научной проблемы является данное исследование, какие конкретно задачи были поставлены перед исследовате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лад должен иметь четкую структуру: что, где, почему и зач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язательно следует вначале приводи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ичные экспериментальные данны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ривые, графики, спектры, таблицы и проч.) и лишь после этого их обработку, интерпретацию и 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до забывать, что аудитория, как правило, не является узкоспециализированной в Вашей области. Избегайте лишних сокращений, но не пренебрегайте сокращениями широко распространенными (ТГФ, ДМСО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ЯМР, ЭПР, 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кие детали работы следует оставлять на вопросы. Не пытайтесь уложить весь материал в ограниченное время докл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ить личный вклад докладчика в этой рабо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-518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умать основные слабые стороны доклада. Предугадать возможные вопро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научного докл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230A-1BFE-4A3F-9723-5069544744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ад – реклама свое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обосновать необходимость и актуальность проведенных исследов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показать новизну и подчеркнуть приоритетность данн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рать для доклада наиболее яркие результат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ое внимание – качеству иллюстраций и граф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очередное внимание – воспринимаемости материа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сти конкурсного докла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75D7-2F8F-4512-9E04-EFC270835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описанное выше – правила. А из любого правила бывают исклю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кто не знает представляемой работы лучше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до бояться ответить «не знаю», особенно на то, что сделано не 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ого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2FFD-C702-4378-B86E-3019CF88B0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ай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О докладч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ы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ный руковод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отип института / лаборатории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0666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особенности оформле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ай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468360" y="4149720"/>
            <a:ext cx="82296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ла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себя и название докл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благодарить организаторов высту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ие ввод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09D8-C22E-491F-9233-EEA59F2F4F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Snap2"/>
          <p:cNvPicPr/>
          <p:nvPr/>
        </p:nvPicPr>
        <p:blipFill>
          <a:blip r:embed="rId1"/>
          <a:stretch/>
        </p:blipFill>
        <p:spPr>
          <a:xfrm>
            <a:off x="4030560" y="2708280"/>
            <a:ext cx="5113440" cy="3552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Snap1"/>
          <p:cNvPicPr/>
          <p:nvPr/>
        </p:nvPicPr>
        <p:blipFill>
          <a:blip r:embed="rId2"/>
          <a:stretch/>
        </p:blipFill>
        <p:spPr>
          <a:xfrm>
            <a:off x="0" y="981000"/>
            <a:ext cx="4535640" cy="3048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слайд. Пример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5" descr="Snap11"/>
          <p:cNvPicPr/>
          <p:nvPr/>
        </p:nvPicPr>
        <p:blipFill>
          <a:blip r:embed="rId3"/>
          <a:stretch/>
        </p:blipFill>
        <p:spPr>
          <a:xfrm>
            <a:off x="2195640" y="1700280"/>
            <a:ext cx="4389480" cy="3301920"/>
          </a:xfrm>
          <a:prstGeom prst="rect">
            <a:avLst/>
          </a:prstGeom>
          <a:ln w="0">
            <a:noFill/>
          </a:ln>
        </p:spPr>
      </p:pic>
      <p:sp>
        <p:nvSpPr>
          <p:cNvPr id="62" name="Line 17"/>
          <p:cNvSpPr/>
          <p:nvPr/>
        </p:nvSpPr>
        <p:spPr>
          <a:xfrm flipV="1">
            <a:off x="1908000" y="1413000"/>
            <a:ext cx="5112000" cy="3960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1763640" y="1413000"/>
            <a:ext cx="525636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9F96-F7F2-41C9-8869-6392453F5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риф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зык презен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мер графиков, таблиц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зки различного масшта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кривых на график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кращ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еоматериа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данных на слай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е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мерация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родность оформ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формлени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5ED5-66A9-41B4-A70B-6651819E03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учший контраст - эт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ЁРНЫЙ текст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и вообще изображение) н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ЕЛОМ фоне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Шриф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39640" y="1989000"/>
            <a:ext cx="8229600" cy="3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он и текст (изображение) должны быть максимально контраст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ледует избегать излишне ярких цве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деление в тексте должно быть обусловлено необходимост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очтительнее выделение за счет толщины линий, размера шрифта, подчеркивания, формы точек (график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альный шрифт – семейств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для презентаций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кст должен быть хорошо читаемым с последнего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бегать делать большие текстовые вста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92B8-2A42-4535-9A2A-CFFB33CCB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nap20"/>
          <p:cNvPicPr/>
          <p:nvPr/>
        </p:nvPicPr>
        <p:blipFill>
          <a:blip r:embed="rId1"/>
          <a:stretch/>
        </p:blipFill>
        <p:spPr>
          <a:xfrm>
            <a:off x="826920" y="907920"/>
            <a:ext cx="7632720" cy="57326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5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фон, картин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6151-D5DA-448E-833C-B752AAA70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фон, шриф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nap11"/>
          <p:cNvPicPr/>
          <p:nvPr/>
        </p:nvPicPr>
        <p:blipFill>
          <a:blip r:embed="rId1"/>
          <a:stretch/>
        </p:blipFill>
        <p:spPr>
          <a:xfrm>
            <a:off x="1042920" y="907920"/>
            <a:ext cx="719928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7F6F-25FB-47DF-B12B-F8B7618481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. Текст. Примеры (цв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nap19"/>
          <p:cNvPicPr/>
          <p:nvPr/>
        </p:nvPicPr>
        <p:blipFill>
          <a:blip r:embed="rId1"/>
          <a:stretch/>
        </p:blipFill>
        <p:spPr>
          <a:xfrm>
            <a:off x="900000" y="907920"/>
            <a:ext cx="741708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09:54:48Z</dcterms:created>
  <dc:creator>Ilia V. Eltsov</dc:creator>
  <dc:description/>
  <dc:language>en-US</dc:language>
  <cp:lastModifiedBy>Александр</cp:lastModifiedBy>
  <dcterms:modified xsi:type="dcterms:W3CDTF">2016-08-23T08:38:23Z</dcterms:modified>
  <cp:revision>21</cp:revision>
  <dc:subject/>
  <dc:title>Правила оформления презентаций и докладов</dc:title>
</cp:coreProperties>
</file>