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26.png" ContentType="image/png"/>
  <Override PartName="/ppt/media/image9.png" ContentType="image/png"/>
  <Override PartName="/ppt/media/image17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9552-A7A7-4488-9AD7-47AC1387E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7D82-8992-4EF1-A89E-2D42A56E9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859-2361-4CE0-A6D3-29C6F025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5C6-BBBB-470B-9FDB-F963360E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4B7-3B28-45A2-A7C1-88289FBE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F78-B69D-4CB0-8175-F538011C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99F-86E9-4F01-9C9E-8049AF0A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234-6AB9-4877-BA5B-88D058F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0F3-611F-4DCF-8621-D93D8CA6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B13-20B0-4186-909A-E4FB15D8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D44-5BC7-4C71-BDE0-0B0E0661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282-9872-42ED-BD11-A8868A6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F1A-BE28-46BE-8396-5071D391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D3F-3E94-413F-B5F2-A3E82357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E36-0BF8-412A-94BE-F813FA418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омендации по оформлению презентаций и докладов ил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зентация о презентац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584-A769-4F73-989B-DF840C0A7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цв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Snap10"/>
          <p:cNvPicPr/>
          <p:nvPr/>
        </p:nvPicPr>
        <p:blipFill>
          <a:blip r:embed="rId1"/>
          <a:stretch/>
        </p:blipFill>
        <p:spPr>
          <a:xfrm>
            <a:off x="971640" y="907920"/>
            <a:ext cx="741672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CEBD-2B22-4E89-9115-1DAA26A64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цве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nap9"/>
          <p:cNvPicPr/>
          <p:nvPr/>
        </p:nvPicPr>
        <p:blipFill>
          <a:blip r:embed="rId1"/>
          <a:stretch/>
        </p:blipFill>
        <p:spPr>
          <a:xfrm>
            <a:off x="611280" y="907920"/>
            <a:ext cx="74898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ABE7-740B-41BC-A1CB-AFF26A78F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размер тек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nap4"/>
          <p:cNvPicPr/>
          <p:nvPr/>
        </p:nvPicPr>
        <p:blipFill>
          <a:blip r:embed="rId1"/>
          <a:stretch/>
        </p:blipFill>
        <p:spPr>
          <a:xfrm>
            <a:off x="755640" y="907920"/>
            <a:ext cx="7632720" cy="5703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1547640" y="4434840"/>
            <a:ext cx="676944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учше заключить доклад одним-двум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глядно демонстрирующими, какие именно новые знания появились в результате проделанной работы, поскольку формальные выводы, содержащиеся в работе, во-первых, плохо воспринимаются по причине излишней детализации, неуместной в рамках научного доклада, а во-вторых, эти выводы все равно не будет разрешено зачитывать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97DB-E9AE-4E7E-A7E1-979D4A386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495"/>
          <p:cNvPicPr/>
          <p:nvPr/>
        </p:nvPicPr>
        <p:blipFill>
          <a:blip r:embed="rId1"/>
          <a:stretch/>
        </p:blipFill>
        <p:spPr>
          <a:xfrm>
            <a:off x="2268360" y="836640"/>
            <a:ext cx="5572440" cy="576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nap15"/>
          <p:cNvPicPr/>
          <p:nvPr/>
        </p:nvPicPr>
        <p:blipFill>
          <a:blip r:embed="rId2"/>
          <a:stretch/>
        </p:blipFill>
        <p:spPr>
          <a:xfrm>
            <a:off x="755640" y="836640"/>
            <a:ext cx="76327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9F3-6E0F-408F-BCD4-B923DC877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 на графиках и в таблицах и подписи на осях должны хорошо чит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ться избегать чрезмерно большого количества кривых на одном граф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ться избегать помещать «вставки» в графики и кар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иллюстрация должна нести определенный смысл: упоминаться в докладе или нести разъяснительн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 и фон должны быть контрастными и четк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ться избегать использовать отсканированные или «перефотографированные» изображения, если есть возможность получить первоначальный вариант (теряется резкость изображения). Не пренебрегать использованием графических ред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цы. Граф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612A-1694-4B90-9F03-47864F12E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и. При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395280" y="1052640"/>
            <a:ext cx="3962520" cy="2895480"/>
            <a:chOff x="395280" y="1052640"/>
            <a:chExt cx="3962520" cy="2895480"/>
          </a:xfrm>
        </p:grpSpPr>
        <p:graphicFrame>
          <p:nvGraphicFramePr>
            <p:cNvPr id="100" name="Object 7"/>
            <p:cNvGraphicFramePr/>
            <p:nvPr/>
          </p:nvGraphicFramePr>
          <p:xfrm>
            <a:off x="395280" y="1052640"/>
            <a:ext cx="396252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052640"/>
                      <a:ext cx="396252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AutoShape 8"/>
            <p:cNvSpPr/>
            <p:nvPr/>
          </p:nvSpPr>
          <p:spPr>
            <a:xfrm>
              <a:off x="2376720" y="3041280"/>
              <a:ext cx="272880" cy="261000"/>
            </a:xfrm>
            <a:prstGeom prst="plus">
              <a:avLst>
                <a:gd name="adj" fmla="val 406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9880" y="3041280"/>
              <a:ext cx="273240" cy="261000"/>
            </a:xfrm>
            <a:prstGeom prst="plus">
              <a:avLst>
                <a:gd name="adj" fmla="val 406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1078560" y="3014280"/>
              <a:ext cx="683280" cy="337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ГП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2718000" y="2975760"/>
              <a:ext cx="684360" cy="33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</a:rPr>
                <a:t>ГЦ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2"/>
          <p:cNvSpPr/>
          <p:nvPr/>
        </p:nvSpPr>
        <p:spPr>
          <a:xfrm>
            <a:off x="623880" y="3490920"/>
            <a:ext cx="83808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708360" y="3500280"/>
            <a:ext cx="60948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4932360" y="1268280"/>
            <a:ext cx="3363840" cy="2304720"/>
            <a:chOff x="4932360" y="1268280"/>
            <a:chExt cx="3363840" cy="2304720"/>
          </a:xfrm>
        </p:grpSpPr>
        <p:pic>
          <p:nvPicPr>
            <p:cNvPr id="109" name="Picture 15" descr="tv08_50_complete_5"/>
            <p:cNvPicPr/>
            <p:nvPr/>
          </p:nvPicPr>
          <p:blipFill>
            <a:blip r:embed="rId3"/>
            <a:srcRect l="0" t="2407" r="2443" b="0"/>
            <a:stretch/>
          </p:blipFill>
          <p:spPr>
            <a:xfrm>
              <a:off x="4932360" y="1268280"/>
              <a:ext cx="3173400" cy="23047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10" name="Text Box 16"/>
            <p:cNvSpPr/>
            <p:nvPr/>
          </p:nvSpPr>
          <p:spPr>
            <a:xfrm>
              <a:off x="7051320" y="2517840"/>
              <a:ext cx="1244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0.1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17" descr=""/>
          <p:cNvPicPr/>
          <p:nvPr/>
        </p:nvPicPr>
        <p:blipFill>
          <a:blip r:embed="rId4"/>
          <a:stretch/>
        </p:blipFill>
        <p:spPr>
          <a:xfrm>
            <a:off x="468360" y="4365720"/>
            <a:ext cx="3849480" cy="175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B8D-93A6-4C51-9845-66A0AEED8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и. Примеры (восприят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nap6"/>
          <p:cNvPicPr/>
          <p:nvPr/>
        </p:nvPicPr>
        <p:blipFill>
          <a:blip r:embed="rId1"/>
          <a:stretch/>
        </p:blipFill>
        <p:spPr>
          <a:xfrm>
            <a:off x="611280" y="907920"/>
            <a:ext cx="7704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DC78-78F8-457E-BE01-3A2B16D29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42920" y="274680"/>
            <a:ext cx="87868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цы. Примеры (цвет, размер шриф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052640"/>
          <a:ext cx="8218440" cy="4362480"/>
        </p:xfrm>
        <a:graphic>
          <a:graphicData uri="http://schemas.openxmlformats.org/drawingml/2006/table">
            <a:tbl>
              <a:tblPr/>
              <a:tblGrid>
                <a:gridCol w="2054160"/>
                <a:gridCol w="960480"/>
                <a:gridCol w="1441440"/>
                <a:gridCol w="1228680"/>
                <a:gridCol w="25336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-предшествен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тто состав проду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наруженные фа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c, 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твердого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Cl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6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=2,716(2)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=4,312(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67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куб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=3,826(3)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гекс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2,717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гекс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4,320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23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60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45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куб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=3,821(3)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гекс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2,716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гекс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4,330(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40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60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=3,820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4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6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6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3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3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=3,823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33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=3,827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25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EFA2-7FCB-427B-BCE6-DA33F775B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43639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фровка используемых сокращений и условных обо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расшифровок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46040" y="112536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использ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принятые термины, обозна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збегать узкоспециальных, учитывая, что большинство слушателей не являются узкими специалистами по излагаемым вопросам и строить доклад понятным им образом, не провоцируя излишние вопросы. Разумеется, недопустимы жаргонные выражения и профессиональный сле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2579-E295-4D81-8BE1-FFEA2C971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958680" y="907920"/>
            <a:ext cx="6658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нитрокси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076720" y="1557360"/>
          <a:ext cx="35863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7360"/>
                    <a:ext cx="35863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054760" y="3890160"/>
            <a:ext cx="3663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, V, VI, V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Cu(tta)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L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Cu(tta)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I, III, I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Cu(tta)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2L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Cu(tta)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4"/>
          <p:cNvGraphicFramePr/>
          <p:nvPr/>
        </p:nvGraphicFramePr>
        <p:xfrm>
          <a:off x="3133800" y="1644480"/>
          <a:ext cx="9097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1644480"/>
                    <a:ext cx="909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5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6"/>
          <p:cNvGraphicFramePr/>
          <p:nvPr/>
        </p:nvGraphicFramePr>
        <p:xfrm>
          <a:off x="3065400" y="2381400"/>
          <a:ext cx="947880" cy="72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65400" y="2381400"/>
                    <a:ext cx="947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17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8"/>
          <p:cNvGraphicFramePr/>
          <p:nvPr/>
        </p:nvGraphicFramePr>
        <p:xfrm>
          <a:off x="3065400" y="3186000"/>
          <a:ext cx="1085760" cy="72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5400" y="3186000"/>
                    <a:ext cx="10857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9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20"/>
          <p:cNvGraphicFramePr/>
          <p:nvPr/>
        </p:nvGraphicFramePr>
        <p:xfrm>
          <a:off x="3065400" y="3922560"/>
          <a:ext cx="1359000" cy="77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65400" y="3922560"/>
                    <a:ext cx="13590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21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2"/>
          <p:cNvGraphicFramePr/>
          <p:nvPr/>
        </p:nvGraphicFramePr>
        <p:xfrm>
          <a:off x="3133800" y="4727520"/>
          <a:ext cx="1154160" cy="81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3800" y="4727520"/>
                    <a:ext cx="11541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23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24"/>
          <p:cNvGraphicFramePr/>
          <p:nvPr/>
        </p:nvGraphicFramePr>
        <p:xfrm>
          <a:off x="2860560" y="5530680"/>
          <a:ext cx="1970280" cy="81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60560" y="5530680"/>
                    <a:ext cx="197028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25"/>
          <p:cNvSpPr/>
          <p:nvPr/>
        </p:nvSpPr>
        <p:spPr>
          <a:xfrm>
            <a:off x="2793960" y="4727520"/>
            <a:ext cx="2104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2793960" y="3941640"/>
            <a:ext cx="2104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93960" y="3157560"/>
            <a:ext cx="21049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1163520" y="5548320"/>
            <a:ext cx="1630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684360" y="5516640"/>
            <a:ext cx="5745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1163520" y="4727520"/>
            <a:ext cx="1630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] - 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] - 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755640" y="4727520"/>
            <a:ext cx="407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1163520" y="3941640"/>
            <a:ext cx="1630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755640" y="3941640"/>
            <a:ext cx="40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1163520" y="3157560"/>
            <a:ext cx="16304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5"/>
          <p:cNvSpPr/>
          <p:nvPr/>
        </p:nvSpPr>
        <p:spPr>
          <a:xfrm>
            <a:off x="755640" y="3157560"/>
            <a:ext cx="4078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1163520" y="2381400"/>
            <a:ext cx="1630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755640" y="2381400"/>
            <a:ext cx="407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1163520" y="1577880"/>
            <a:ext cx="16304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]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,5C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755640" y="1577880"/>
            <a:ext cx="4078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>
            <a:off x="755640" y="157788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1"/>
          <p:cNvSpPr/>
          <p:nvPr/>
        </p:nvSpPr>
        <p:spPr>
          <a:xfrm>
            <a:off x="755640" y="641016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2"/>
          <p:cNvSpPr/>
          <p:nvPr/>
        </p:nvSpPr>
        <p:spPr>
          <a:xfrm>
            <a:off x="755640" y="1577880"/>
            <a:ext cx="0" cy="4832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3"/>
          <p:cNvSpPr/>
          <p:nvPr/>
        </p:nvSpPr>
        <p:spPr>
          <a:xfrm>
            <a:off x="4898880" y="1577880"/>
            <a:ext cx="0" cy="4832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4"/>
          <p:cNvSpPr/>
          <p:nvPr/>
        </p:nvSpPr>
        <p:spPr>
          <a:xfrm>
            <a:off x="755640" y="238140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5"/>
          <p:cNvSpPr/>
          <p:nvPr/>
        </p:nvSpPr>
        <p:spPr>
          <a:xfrm>
            <a:off x="1163520" y="1577880"/>
            <a:ext cx="0" cy="4832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6"/>
          <p:cNvSpPr/>
          <p:nvPr/>
        </p:nvSpPr>
        <p:spPr>
          <a:xfrm>
            <a:off x="2793960" y="1577880"/>
            <a:ext cx="0" cy="4832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7"/>
          <p:cNvSpPr/>
          <p:nvPr/>
        </p:nvSpPr>
        <p:spPr>
          <a:xfrm>
            <a:off x="755640" y="315756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755640" y="394164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755640" y="472752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>
            <a:off x="755640" y="554832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2"/>
          <p:cNvSpPr/>
          <p:nvPr/>
        </p:nvSpPr>
        <p:spPr>
          <a:xfrm>
            <a:off x="457200" y="142920"/>
            <a:ext cx="822960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кращ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должны быть понятны аудитори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DB0E-20D2-4826-97D5-EFD3CF692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иды докла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549440" y="1413000"/>
            <a:ext cx="353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ый док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ов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плом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р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005440" y="1413000"/>
            <a:ext cx="287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ы молодых уче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пендиальные конкур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8C08-9EB6-4992-8CD4-6BFC3D948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70" descr="Snap21"/>
          <p:cNvPicPr/>
          <p:nvPr/>
        </p:nvPicPr>
        <p:blipFill>
          <a:blip r:embed="rId1"/>
          <a:stretch/>
        </p:blipFill>
        <p:spPr>
          <a:xfrm>
            <a:off x="684360" y="981000"/>
            <a:ext cx="7484760" cy="56008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71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688D-B024-46F4-803E-251B48CE5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материалы (видеофайлы) лучше использовать в несжатом формате или в стандартн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 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ование других кодеров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.) может привести к тому, что видео не будет корректно воспроизводиться на компьютере, на котором проводится презент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материалы. Аним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55640" y="2884320"/>
            <a:ext cx="76327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несжатое виде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ть копию видеофайла отдельным файлом, не включенным в презен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ИМ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ться минимизировать количество ани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эффектов анимации должно быть оправд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5A75-1FBB-4932-97F7-CDABFAD30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R103"/>
          <p:cNvPicPr/>
          <p:nvPr/>
        </p:nvPicPr>
        <p:blipFill>
          <a:blip r:embed="rId1"/>
          <a:srcRect l="0" t="8238" r="0" b="8238"/>
          <a:stretch/>
        </p:blipFill>
        <p:spPr>
          <a:xfrm>
            <a:off x="4500720" y="914400"/>
            <a:ext cx="4012920" cy="2301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r103_2"/>
          <p:cNvPicPr/>
          <p:nvPr/>
        </p:nvPicPr>
        <p:blipFill>
          <a:blip r:embed="rId2"/>
          <a:srcRect l="0" t="8238" r="0" b="8238"/>
          <a:stretch/>
        </p:blipFill>
        <p:spPr>
          <a:xfrm>
            <a:off x="4498920" y="914400"/>
            <a:ext cx="4014720" cy="230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AR103_2bond"/>
          <p:cNvPicPr/>
          <p:nvPr/>
        </p:nvPicPr>
        <p:blipFill>
          <a:blip r:embed="rId3"/>
          <a:srcRect l="0" t="8238" r="0" b="8238"/>
          <a:stretch/>
        </p:blipFill>
        <p:spPr>
          <a:xfrm>
            <a:off x="4498920" y="914400"/>
            <a:ext cx="4016520" cy="2306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AR103_2bond"/>
          <p:cNvPicPr/>
          <p:nvPr/>
        </p:nvPicPr>
        <p:blipFill>
          <a:blip r:embed="rId4"/>
          <a:srcRect l="0" t="8238" r="0" b="8238"/>
          <a:stretch/>
        </p:blipFill>
        <p:spPr>
          <a:xfrm>
            <a:off x="4500720" y="914400"/>
            <a:ext cx="4014720" cy="2306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9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материалы. Аним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10"/>
          <p:cNvGraphicFramePr/>
          <p:nvPr/>
        </p:nvGraphicFramePr>
        <p:xfrm>
          <a:off x="179280" y="4005360"/>
          <a:ext cx="2808360" cy="26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4005360"/>
                    <a:ext cx="28083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2"/>
          <p:cNvSpPr/>
          <p:nvPr/>
        </p:nvSpPr>
        <p:spPr>
          <a:xfrm>
            <a:off x="6300720" y="3068640"/>
            <a:ext cx="151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 rot="18639000">
            <a:off x="429840" y="1951920"/>
            <a:ext cx="2317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5347 0.04534 C 0.16615 0.16609 0.27899 0.28684 0.34774 0.30396 C 0.41649 0.32108 0.41615 0.16702 0.46649 0.14874 C 0.51684 0.13047 0.5934 0.19825 0.65 0.19408 C 0.7066 0.18992 0.77205 0.20727 0.80642 0.12353 C 0.8408 0.03979 0.87917 -0.19824 0.8559 -0.30904 C 0.83264 -0.41984 0.73264 -0.56211 0.66649 -0.54105 C 0.60035 -0.52 0.52899 -0.20217 0.45938 -0.18204 C 0.38976 -0.16192 0.31684 -0.3782 0.24879 -0.42031 C 0.18073 -0.46241 0.11597 -0.44853 0.05122 -0.43442 E">
                                      <p:cBhvr>
                                        <p:cTn id="5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7D82-BB9F-4D4F-9F14-E86BDFDCA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ы должны быть пронумеров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должен иметь заголо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должна иметь однородной по оформ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нце презентации рекомендуется указывать коллег, гранты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проверить орфографию и научную грамотность написанного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е особенности оформ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Snap5"/>
          <p:cNvPicPr/>
          <p:nvPr/>
        </p:nvPicPr>
        <p:blipFill>
          <a:blip r:embed="rId1"/>
          <a:stretch/>
        </p:blipFill>
        <p:spPr>
          <a:xfrm>
            <a:off x="1332000" y="3213000"/>
            <a:ext cx="6886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B7B3-6D78-4007-AD35-37505665A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5111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презентации не должно быть слайдов, не используемых в докл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слайд должен показываться  1,5 – 2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иметь заготовленные слайды (таблицы, графики, данные и т.п.) для ответа на возможные вопросы (после последнего слай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хоть немного почитать инструкцию по использованию программного обесп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озможности проверить свой доклад на компьютере и проекторе, с которыми предстоит высту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резервную копию доклада на запасном носит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особенности докл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0025"/>
          <p:cNvPicPr/>
          <p:nvPr/>
        </p:nvPicPr>
        <p:blipFill>
          <a:blip r:embed="rId1"/>
          <a:stretch/>
        </p:blipFill>
        <p:spPr>
          <a:xfrm>
            <a:off x="5292720" y="1197000"/>
            <a:ext cx="3632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B1E2-E2D5-4D3D-8897-CC3FB4973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ад следует начин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становки задач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ю какой научной проблемы является данное исследование, какие конкретно задачи были поставлены перед исследова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ад должен иметь четкую структуру: что, где, почему и за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 следует вначале приводи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е экспериментальные дан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ивые, графики, спектры, таблицы и проч.) и лишь после этого их обработку, интерпретацию и 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о забывать, что аудитория, как правило, не является узкоспециализированной в Вашей области. Избегайте лишних сокращений, но не пренебрегайте сокращениями широко распространенными (ТГФ, ДМС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МР, ЭПР, 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ие детали работы следует оставлять на вопросы. Не пытайтесь уложить весь материал в ограниченное время докл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ить личный вклад докладчика в эт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мать основные слабые стороны доклада. Предугадать возможные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научного докл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1125-3CB6-44BA-A7DF-FDBEBCF39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 – реклама сво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обосновать необходимость и актуальность проведенны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показать новизну и подчеркнуть приоритетность дан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ть для доклада наиболее яркие результат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е внимание – качеству иллюстраций и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очередное внимание – воспринимаемост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конкурсного докл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052C-4C30-4E52-B617-D5F57F0FA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описанное выше – правила. А из любого правила бывают исклю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то не знает представляемой работы лучше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до бояться ответить «не знаю», особенно на то, что сделано не 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B4E5-EC6F-41B7-B612-528CE85C1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й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О доклад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ый руковод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отип института / лаборатории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особенности оформл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й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68360" y="414972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ла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себя и название до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лагодарить организаторов высту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е ввод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B28A-02B6-4322-B83B-B49AE7E102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Snap2"/>
          <p:cNvPicPr/>
          <p:nvPr/>
        </p:nvPicPr>
        <p:blipFill>
          <a:blip r:embed="rId1"/>
          <a:stretch/>
        </p:blipFill>
        <p:spPr>
          <a:xfrm>
            <a:off x="4030560" y="2708280"/>
            <a:ext cx="5113440" cy="35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Snap1"/>
          <p:cNvPicPr/>
          <p:nvPr/>
        </p:nvPicPr>
        <p:blipFill>
          <a:blip r:embed="rId2"/>
          <a:stretch/>
        </p:blipFill>
        <p:spPr>
          <a:xfrm>
            <a:off x="0" y="981000"/>
            <a:ext cx="453564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слайд. Пример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Snap11"/>
          <p:cNvPicPr/>
          <p:nvPr/>
        </p:nvPicPr>
        <p:blipFill>
          <a:blip r:embed="rId3"/>
          <a:stretch/>
        </p:blipFill>
        <p:spPr>
          <a:xfrm>
            <a:off x="2195640" y="1700280"/>
            <a:ext cx="4389480" cy="3301920"/>
          </a:xfrm>
          <a:prstGeom prst="rect">
            <a:avLst/>
          </a:prstGeom>
          <a:ln w="0">
            <a:noFill/>
          </a:ln>
        </p:spPr>
      </p:pic>
      <p:sp>
        <p:nvSpPr>
          <p:cNvPr id="62" name="Line 17"/>
          <p:cNvSpPr/>
          <p:nvPr/>
        </p:nvSpPr>
        <p:spPr>
          <a:xfrm flipV="1">
            <a:off x="1908000" y="1413000"/>
            <a:ext cx="5112000" cy="396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763640" y="1413000"/>
            <a:ext cx="525636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AFDA-8495-484C-BBB1-E0553BFC5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 през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графиков, таблиц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зки различного масшта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ривых на граф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о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данных на слай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мерация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ость офор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DE3B-F2B8-4CA3-8B66-1AAE8FA68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учший контраст - эт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ЁРНЫЙ текс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и вообще изображение) 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ЕЛОМ фон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Шриф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39640" y="1989000"/>
            <a:ext cx="8229600" cy="3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н и текст (изображение) должны быть максимально контраст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ует избегать излишне ярких цв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еление в тексте должно быть обусловлено необходимост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очтительнее выделение за счет толщины линий, размера шрифта, подчеркивания, формы точек (графи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альный шрифт – семейств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ля презентаций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должен быть хорошо читаемым с последнего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бегать делать большие текстовые вста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D019-7581-4C9B-8C28-EC93BBA4B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nap20"/>
          <p:cNvPicPr/>
          <p:nvPr/>
        </p:nvPicPr>
        <p:blipFill>
          <a:blip r:embed="rId1"/>
          <a:stretch/>
        </p:blipFill>
        <p:spPr>
          <a:xfrm>
            <a:off x="826920" y="907920"/>
            <a:ext cx="763272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фон, картин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DE0B-DCA4-4585-A8BB-039E61C49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фон, шриф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nap11"/>
          <p:cNvPicPr/>
          <p:nvPr/>
        </p:nvPicPr>
        <p:blipFill>
          <a:blip r:embed="rId1"/>
          <a:stretch/>
        </p:blipFill>
        <p:spPr>
          <a:xfrm>
            <a:off x="1042920" y="907920"/>
            <a:ext cx="71992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B54-619A-4829-9D10-9CFB4AB3C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цв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nap19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9:54:48Z</dcterms:created>
  <dc:creator>Ilia V. Eltsov</dc:creator>
  <dc:description/>
  <dc:language>en-US</dc:language>
  <cp:lastModifiedBy>Александр</cp:lastModifiedBy>
  <dcterms:modified xsi:type="dcterms:W3CDTF">2016-08-23T08:38:23Z</dcterms:modified>
  <cp:revision>21</cp:revision>
  <dc:subject/>
  <dc:title>Правила оформления презентаций и докладов</dc:title>
</cp:coreProperties>
</file>