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0AE-912F-4D48-853E-1AE284BA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FD0-8746-4FEB-983E-8AEC1661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232-D9FF-4F96-AFEB-C0ABB621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7C7-3BD3-446E-8FD4-DE3BBA57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1BA-7E46-4E9F-B55C-08AC1A70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676-D0AD-4D8F-AFB7-75C5C32D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1FB-DABC-4496-8413-E665D87F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6C7-7592-401A-B063-8C8D3759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16E-C161-44E8-8BFE-F32B3722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72B-58D0-4E9E-B4F7-6FF8AE0F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802-2AFC-454F-A821-F6DB909A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D03-F659-4C91-AFE1-995E75A5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3A07-1994-48FB-966E-56BA82E4B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123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5888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0 ЭКОЛОГИЯ СООБЩЕСТВ И ЭКОСИСТЕМ. БИОЦЕНО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5888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5888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.1 Понятие о биоцен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0" y="88344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ногообразные живые организмы встречаются на Земле не в любом сочетании, а в процессе совместного существования образуют биологические единства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сообщества, 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или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биоцен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Термином «биоценоз» (от лат.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биос 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— жизнь,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ценоз 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— общий)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был предложен К. Мебиусом в 1877 году, когда он изучал устричные банки и приуроченные к ним организмы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оценоз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понятие «безразмерное» (биоценоз.. от кочки до земной оболочки).  Термин «биоценоз» употребляют к населению территориальных участков, которые на суше  выделяют по однородной растительности  (чаще  - по границам  растительных ассоциаций), например биоценоз ельника-кисличника, биоценоз суходольного луга, биоценоз пшеничного поля, пруда и т.п.).  При этом имеется в виду   вся совокупность живых организмов – растений, животных, микроорганизмов, приспособленных к совместному обитанию на данной территории (например рисунок в учебнике пруд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состав биоценоза, таким образом, входят такие компоненты, как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растительный.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н представлен тем или иным растительным сообществом —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фитоценозом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животный компонент —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зооценоз;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микроорганизмы.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ни образуют в почве, в водной или воздушной среде микробные биокомплексы —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микробиоцено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567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носительно однородное по абиотическим факторам среды пространство, занятое биоценозом, называют </a:t>
            </a:r>
            <a:r>
              <a:rPr b="0" i="1" lang="ru-RU" sz="1800" spc="-1" strike="noStrike">
                <a:solidFill>
                  <a:srgbClr val="cc3399"/>
                </a:solidFill>
                <a:latin typeface="Arial"/>
              </a:rPr>
              <a:t>биотоп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428760" y="642960"/>
            <a:ext cx="8001000" cy="67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иоценозе различают три группы живых организмов: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) продуценты (растения)автотрофы; 2) Консументы (потребители) – организмы питающиеся за счет готового органического вещества  (гетеротрофы) по типу питания: животные и паразиты) 3) Редуценты (разлогатели)  - по типу питания гетеротрофы  (грыбы, бактерии), в которых в результате свей жизнедеятельности разлагают вещество на простые для потребления энерг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   биоценоз – это совокупность особей самых разных видов, а потому можно говорить, что биоценоз – совокупность микропопуляции (На Сахалине ель аянская и другие виды). В каждом биоценозе есть виды присущие только ему (в сосновых лесах обитает сосновый заболник, который поселяется только на сосне или берёзе, губка лиственничная только на лиственнице и т.п.). Но большая часть видов может присутствовать в разных биоценозах  (майник двулистный или камчатский может обитать и в лиственничном лесу и в берез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иоценоз делится на три группы: фитоценоз, зооценоз, микроценоз. Эти три ценоза неразрывны т.к. не могут друг без друга существовать (Например: Цветы без  опылителей, олень без пи пищи и т.п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23:13:30Z</dcterms:created>
  <dc:creator>User</dc:creator>
  <dc:description/>
  <dc:language>en-US</dc:language>
  <cp:lastModifiedBy>Aня</cp:lastModifiedBy>
  <dcterms:modified xsi:type="dcterms:W3CDTF">2009-02-06T14:37:17Z</dcterms:modified>
  <cp:revision>104</cp:revision>
  <dc:subject/>
  <dc:title>Слайд 1</dc:title>
</cp:coreProperties>
</file>