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60C-0C8A-448A-8DE3-F207B509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D12-CF2E-474F-86CC-19B04069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A871-38FA-46AF-9694-7E966711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9E2-E083-4696-8FE7-F82A6928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BCD-E1DF-4FB8-A7B8-115F79518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BAE2-C43F-4EF5-9892-9B8A451C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AF9-3925-4844-8F64-4293ECFB3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57DD-C44D-4061-8C83-B63BE40F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499-7603-4420-8075-9DFAB65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C30B-F4A5-46DB-9155-52C0D53E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212-F5BB-4FFF-8488-463AC23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B172-EB9A-4844-8538-1D11C0E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719A-9F72-424D-9F1C-E1E593D58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/>
          <p:cNvSpPr/>
          <p:nvPr/>
        </p:nvSpPr>
        <p:spPr>
          <a:xfrm>
            <a:off x="0" y="123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5888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10 ЭКОЛОГИЯ СООБЩЕСТВ И ЭКОСИСТЕМ. БИОЦЕНО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888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58880"/>
                <a:tab algn="l" pos="3568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.1 Понятие о биоцен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0" y="883440"/>
            <a:ext cx="9144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ногообразные живые организмы встречаются на Земле не в любом сочетании, а в процессе совместного существования образуют биологические единства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сообщества,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или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биоцен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Термином «биоценоз» (от лат.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биос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— жизнь,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ценоз </a:t>
            </a:r>
            <a:r>
              <a:rPr b="0" lang="ru-RU" sz="2000" spc="-1" strike="noStrike">
                <a:solidFill>
                  <a:srgbClr val="cc3399"/>
                </a:solidFill>
                <a:latin typeface="Arial"/>
              </a:rPr>
              <a:t>— общий)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был предложен К. Мебиусом в 1877 году, когда он изучал устричные банки и приуроченные к ним организмы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иоценоз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это понятие «безразмерное» (биоценоз.. от кочки до земной оболочки).  Термин «биоценоз» употребляют к населению территориальных участков, которые на суше  выделяют по однородной растительности  (чаще  - по границам  растительных ассоциаций), например биоценоз ельника-кисличника, биоценоз суходольного луга, биоценоз пшеничного поля, пруда и т.п.).  При этом имеется в виду   вся совокупность живых организмов – растений, животных, микроорганизмов, приспособленных к совместному обитанию на данной территории (например рисунок в учебнике пруд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В состав биоценоза, таким образом, входят такие компоненты, как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растительный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 представлен тем или иным растительным сообществом —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фитоценозом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животный компонент —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зооценоз;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микроорганизмы.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ни образуют в почве, в водной или воздушной среде микробные биокомплексы — </a:t>
            </a:r>
            <a:r>
              <a:rPr b="0" i="1" lang="ru-RU" sz="2000" spc="-1" strike="noStrike">
                <a:solidFill>
                  <a:srgbClr val="cc3399"/>
                </a:solidFill>
                <a:latin typeface="Arial"/>
              </a:rPr>
              <a:t>микробиоценоз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15678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носительно однородное по абиотическим факторам среды пространство, занятое биоценозом, называют </a:t>
            </a:r>
            <a:r>
              <a:rPr b="0" i="1" lang="ru-RU" sz="1800" spc="-1" strike="noStrike">
                <a:solidFill>
                  <a:srgbClr val="cc3399"/>
                </a:solidFill>
                <a:latin typeface="Arial"/>
              </a:rPr>
              <a:t>биотоп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428760" y="642960"/>
            <a:ext cx="8001000" cy="67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иоценозе различают три группы живых организмов: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) продуценты (растения)автотрофы; 2) Консументы (потребители) – организмы питающиеся за счет готового органического вещества  (гетеротрофы) по типу питания: животные и паразиты) 3) Редуценты (разлогатели)  - по типу питания гетеротрофы  (грыбы, бактерии), в которых в результате свей жизнедеятельности разлагают вещество на простые для потребления энерги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м образом   биоценоз – это совокупность особей самых разных видов, а потому можно говорить, что биоценоз – совокупность микропопуляции (На Сахалине ель аянская и другие виды). В каждом биоценозе есть виды присущие только ему (в сосновых лесах обитает сосновый заболник, который поселяется только на сосне или берёзе, губка лиственничная только на лиственнице и т.п.). Но большая часть видов может присутствовать в разных биоценозах  (майник двулистный или камчатский может обитать и в лиственничном лесу и в берез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иоценоз делится на три группы: фитоценоз, зооценоз, микроценоз. Эти три ценоза неразрывны т.к. не могут друг без друга существовать (Например: Цветы без  опылителей, олень без пи пищи и т.п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23:13:30Z</dcterms:created>
  <dc:creator>User</dc:creator>
  <dc:description/>
  <dc:language>en-US</dc:language>
  <cp:lastModifiedBy>Aня</cp:lastModifiedBy>
  <dcterms:modified xsi:type="dcterms:W3CDTF">2009-02-06T14:37:17Z</dcterms:modified>
  <cp:revision>104</cp:revision>
  <dc:subject/>
  <dc:title>Слайд 1</dc:title>
</cp:coreProperties>
</file>