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E716-43BB-47DC-9391-0A1A243C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2965-89E0-43AA-A497-6E0BD7C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E44A-4ACF-4159-929A-089078AE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E62E-3588-4BBF-88B7-BE2278C9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89235-FF74-4DC7-91F0-2912E4A9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33E58-7514-4D4F-9721-CE1FD51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AD2D3-E2E4-4BE4-B3DA-6753D6F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09CA4-44BA-40B0-9E20-C369E84F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E54C6-E455-4A98-B6D2-7FC69DF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6EC9D-2E78-4BC9-BA55-F6A2B90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7F93-A9B9-43D5-B080-CBB8E50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6BD0-943C-458B-888F-C3328B6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0C017-9CB7-40E5-A93D-1EFC554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72B32-3965-44C8-BEBB-0314647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74018-40D4-4F7C-8380-6B6A27A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C9F62-4D4B-4237-BC57-571CAF6A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F76ED-6F64-435D-9E5B-E60BAEE7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0261-CE04-4915-93D2-9417EBF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FF7A-A23F-4809-B065-721676A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5C8E-78EE-4D45-93C1-87F249A1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12AD-3C91-4F46-BFF7-B5FDC18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B338-CA5B-41F9-B3CD-EF526F0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AC58-652E-47A5-8F3E-13205B2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7F32-98B2-4755-8327-FB35AD0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1AA-E55D-40B0-8198-DA2F6AD289F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5080" cy="6850080"/>
            <a:chOff x="0" y="0"/>
            <a:chExt cx="9145080" cy="6850080"/>
          </a:xfrm>
        </p:grpSpPr>
        <p:sp>
          <p:nvSpPr>
            <p:cNvPr id="79" name=""/>
            <p:cNvSpPr/>
            <p:nvPr/>
          </p:nvSpPr>
          <p:spPr>
            <a:xfrm>
              <a:off x="8005680" y="4168800"/>
              <a:ext cx="113940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67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3680" y="6689880"/>
              <a:ext cx="13140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87760" cy="6850080"/>
              <a:chOff x="455400" y="0"/>
              <a:chExt cx="80877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3680" y="0"/>
                <a:ext cx="1108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99960" y="0"/>
                <a:ext cx="2728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6560" y="0"/>
                <a:ext cx="53316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1640" y="0"/>
                <a:ext cx="67572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9680" y="0"/>
                <a:ext cx="8823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5960" y="0"/>
                <a:ext cx="109152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3720" y="0"/>
                <a:ext cx="136944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5200" y="0"/>
                <a:ext cx="23436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19760" y="0"/>
                <a:ext cx="47412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292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120" y="0"/>
                <a:ext cx="91044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040" y="0"/>
                <a:ext cx="116784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092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012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000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78360" y="0"/>
              <a:ext cx="156024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99200" y="0"/>
              <a:ext cx="113940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2760" y="0"/>
              <a:ext cx="64584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008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168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660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7520" cy="2492280"/>
              <a:chOff x="0" y="622440"/>
              <a:chExt cx="91375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16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472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12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768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C99-1403-48F6-8376-0F7B203BFB0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743040" indent="0">
              <a:lnSpc>
                <a:spcPct val="98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  <a:p>
            <a:pPr lvl="2" marL="1143000" indent="-228600">
              <a:lnSpc>
                <a:spcPct val="98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DejaVu Sans"/>
            </a:endParaRPr>
          </a:p>
          <a:p>
            <a:pPr lvl="3" marL="1600200" indent="-228600">
              <a:lnSpc>
                <a:spcPct val="98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4" marL="2057400" indent="-228600">
              <a:lnSpc>
                <a:spcPct val="98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81000"/>
            <a:ext cx="82296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нятию по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ю целостной картины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а: воспитатель Томина Е.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020го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8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огайские татары захватили город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28718" t="9004" r="30293" b="12763"/>
          <a:stretch/>
        </p:blipFill>
        <p:spPr>
          <a:xfrm>
            <a:off x="1690560" y="1440"/>
            <a:ext cx="5762880" cy="6859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70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ОРИСОГЛЕБСК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00200"/>
            <a:ext cx="896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« Самый лучший город.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698 год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543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DejaVu Sans"/>
              </a:rPr>
              <a:t>Воронежская област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скрайнее  лесостепное  приволье…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лияние Хопра и Вор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во-Павловская крепость 17 век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убрав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45:04Z</dcterms:created>
  <dc:creator>User</dc:creator>
  <dc:description/>
  <dc:language>en-US</dc:language>
  <cp:lastModifiedBy>Asus</cp:lastModifiedBy>
  <dcterms:modified xsi:type="dcterms:W3CDTF">2023-01-18T08:17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