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3B078-AA11-4FF1-AA1C-BE7271CB0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37F55-9809-4C2F-AE3F-71FD43D6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2525-5208-4EDC-A093-A479A770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A6A9-4E22-41F1-8546-2AAFBEB2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BF7BA-6DE8-4285-BB96-609710F6D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DB3D4-0773-4341-A63B-D73D5919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D566AA-7DD9-41B7-898A-FC010B9F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4B7D2C-56DA-44C9-8552-0260D121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548C-EC3E-46BD-BE9C-83771BD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9C86-9DB2-4922-AA20-91F7ADD1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252695-9EA3-47B7-B07E-1D7433AA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2733F-9930-4C5C-A693-090BC2E9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1B145-ACDA-442E-BBBF-BFC4F1A1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1A230-F0C0-46C3-AE06-8B75750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088D3-87E9-4FD4-B7F3-FC4F2C32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B147-25D8-4EA8-B3B9-764C27BF1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BFCD1C-6B75-4AC2-8369-63E47DC1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276CF-EF92-4121-96C4-9015BC26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4D80A-13D3-44BA-821A-B18761D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F76B9-125F-4982-8FA1-C7E6715F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CEA5E-C5AE-410D-8DEC-118354D5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BC6F-D05C-47D0-AAB2-ED07F256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5B5F-894F-4EBD-AB0B-CDC3EF6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5B59C-870F-46A2-9FF6-55D01698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7240" cy="6850080"/>
            <a:chOff x="1440" y="0"/>
            <a:chExt cx="9147240" cy="685008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3976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176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1360" cy="6850080"/>
              <a:chOff x="457200" y="0"/>
              <a:chExt cx="8091360" cy="685008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26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46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352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644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41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368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6980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652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448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116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6820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200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048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036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060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012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620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080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204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732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393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39320" cy="2492280"/>
              <a:chOff x="1440" y="622440"/>
              <a:chExt cx="9139320" cy="249228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16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472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120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768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393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393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ftr" idx="1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C0F3-9B47-4BE7-BC60-224CDA4B9BF5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3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5080" cy="6850080"/>
            <a:chOff x="0" y="0"/>
            <a:chExt cx="9145080" cy="6850080"/>
          </a:xfrm>
        </p:grpSpPr>
        <p:sp>
          <p:nvSpPr>
            <p:cNvPr id="79" name=""/>
            <p:cNvSpPr/>
            <p:nvPr/>
          </p:nvSpPr>
          <p:spPr>
            <a:xfrm>
              <a:off x="8005680" y="4168800"/>
              <a:ext cx="1139400" cy="268128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6760" y="6022800"/>
              <a:ext cx="598320" cy="82728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3680" y="6689880"/>
              <a:ext cx="131400" cy="16020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87760" cy="6850080"/>
              <a:chOff x="455400" y="0"/>
              <a:chExt cx="8087760" cy="6850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23680" y="0"/>
                <a:ext cx="110880" cy="685008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899960" y="0"/>
                <a:ext cx="272880" cy="685008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6560" y="0"/>
                <a:ext cx="533160" cy="685008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1640" y="0"/>
                <a:ext cx="675720" cy="685008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59680" y="0"/>
                <a:ext cx="882360" cy="685008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5960" y="0"/>
                <a:ext cx="1091520" cy="685008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3720" y="0"/>
                <a:ext cx="1369440" cy="685008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5200" y="0"/>
                <a:ext cx="234360" cy="685008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19760" y="0"/>
                <a:ext cx="474120" cy="685008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2920" y="0"/>
                <a:ext cx="672840" cy="685008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120" y="0"/>
                <a:ext cx="910440" cy="685008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040" y="0"/>
                <a:ext cx="1167840" cy="685008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0920" cy="685008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0120" cy="224460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0000" cy="67464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78360" y="0"/>
              <a:ext cx="1560240" cy="28335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99200" y="0"/>
              <a:ext cx="1139400" cy="133992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2760" y="0"/>
              <a:ext cx="645840" cy="6555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0080" cy="223524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1680" cy="94932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6600" cy="39852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375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37520" cy="2492280"/>
              <a:chOff x="0" y="622440"/>
              <a:chExt cx="9137520" cy="249228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16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472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120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768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375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375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082A-913A-48AF-AFA2-2D2062CAADF4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6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DejaVu San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DejaVu Sans"/>
            </a:endParaRPr>
          </a:p>
          <a:p>
            <a:pPr lvl="1" marL="743040" indent="0">
              <a:lnSpc>
                <a:spcPct val="98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ejaVu San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DejaVu Sans"/>
            </a:endParaRPr>
          </a:p>
          <a:p>
            <a:pPr lvl="2" marL="1143000" indent="-228600">
              <a:lnSpc>
                <a:spcPct val="98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ejaVu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DejaVu Sans"/>
            </a:endParaRPr>
          </a:p>
          <a:p>
            <a:pPr lvl="3" marL="1600200" indent="-228600">
              <a:lnSpc>
                <a:spcPct val="98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4" marL="2057400" indent="-228600">
              <a:lnSpc>
                <a:spcPct val="98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DejaVu San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981000"/>
            <a:ext cx="822960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 занятию по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ормированию целостной картины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ира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полнила: воспитатель Томина Е.Ю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9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020год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688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6836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Ногайские татары захватили город…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00200"/>
            <a:ext cx="82296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28718" t="9004" r="30293" b="12763"/>
          <a:stretch/>
        </p:blipFill>
        <p:spPr>
          <a:xfrm>
            <a:off x="1690560" y="1440"/>
            <a:ext cx="5762880" cy="6859800"/>
          </a:xfrm>
          <a:prstGeom prst="rect">
            <a:avLst/>
          </a:prstGeom>
          <a:ln w="507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-36360"/>
            <a:ext cx="9144000" cy="70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БОРИСОГЛЕБСК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600200"/>
            <a:ext cx="896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814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« Самый лучший город.»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  <a:p>
            <a:pPr marL="343080">
              <a:lnSpc>
                <a:spcPct val="100000"/>
              </a:lnSpc>
              <a:spcBef>
                <a:spcPts val="9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698 год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5543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55640" y="189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DejaVu Sans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DejaVu Sans"/>
              </a:rPr>
              <a:t>Воронежская область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ескрайнее  лесостепное  приволье…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" y="2779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лияние Хопра и Вороны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68360" y="18900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Ново-Павловская крепость 17 век </a:t>
            </a:r>
            <a:endParaRPr b="0" lang="en-US" sz="3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18900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убрава </a:t>
            </a:r>
            <a:endParaRPr b="0" lang="en-US" sz="4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160020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8:45:04Z</dcterms:created>
  <dc:creator>User</dc:creator>
  <dc:description/>
  <dc:language>en-US</dc:language>
  <cp:lastModifiedBy>Asus</cp:lastModifiedBy>
  <dcterms:modified xsi:type="dcterms:W3CDTF">2023-01-18T08:17:23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