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A0C-FDB3-4B07-94ED-26886EB16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8F8E-ACAB-4623-A0EA-F9695BDD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BD0-01A9-4D3E-9472-48AEBFB8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2A0E-F51A-456E-B95C-C64C1987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5C2-82E4-4A42-9994-A5100D6B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E7EF-6763-4996-AF25-D832260B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8628-591E-4D9D-9C70-A7DC1114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4111-7F15-406C-9F4E-3CEEF479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BBD8-72B5-49B7-A3BD-0F663D7D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649-534E-462E-9491-B3BF1A7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419-999B-4B32-A485-2E9BD541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8FC-AB81-4AED-96C2-C12F738C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95F9-ED4B-4B25-BF49-AEDB3D7AAE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4360" y="1197000"/>
            <a:ext cx="79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ередач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жой реч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5" descr="AN00790_"/>
          <p:cNvPicPr/>
          <p:nvPr/>
        </p:nvPicPr>
        <p:blipFill>
          <a:blip r:embed="rId1"/>
          <a:stretch/>
        </p:blipFill>
        <p:spPr>
          <a:xfrm>
            <a:off x="407880" y="3573360"/>
            <a:ext cx="283068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840" y="13644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24000" y="18900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Ты когда-нибудь видел звероящера? - спросил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Конечно. Он живёт у нас на даче, -  сказал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 разве звероящеры не вымерли? – честно удивился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Все вымерли, а один ос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А почему он ост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ому что он попал в выгодные климатические условия, -  вывернулся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 В.Тока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J0099171"/>
          <p:cNvPicPr/>
          <p:nvPr/>
        </p:nvPicPr>
        <p:blipFill>
          <a:blip r:embed="rId1"/>
          <a:stretch/>
        </p:blipFill>
        <p:spPr>
          <a:xfrm>
            <a:off x="324000" y="501336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7480" y="136440"/>
            <a:ext cx="880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Предложения с косвенной реч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это сложные (сложноподчинённые) предложения, где первая часть слова автора (главное предложение), а вторая – косвенная (чужая) речь (придаточное предло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Мне было сказано : «Так нельзя пост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Мне было сказано, что так поступ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Простые предложения в составе предложений с косвенной речью соединяются при помощи  союзов и союзных слов ЧТО, ЧТОБЫ, БУДТО, КАК БУДТО, КТО, КОТОРЫЙ, ГДЕ, ОТКУДА и др., частицей ЛИ в роли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58760" y="208080"/>
            <a:ext cx="86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620640"/>
          <a:ext cx="8424720" cy="43401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ям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св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годня холодно,» - произнёс Борис задумчи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: «Приведите ко мне сержанта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 задумчиво произнёс, что сегодня холод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, чтобы к нему привели сержан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3" descr="BD05817_"/>
          <p:cNvPicPr/>
          <p:nvPr/>
        </p:nvPicPr>
        <p:blipFill>
          <a:blip r:embed="rId1"/>
          <a:stretch/>
        </p:blipFill>
        <p:spPr>
          <a:xfrm>
            <a:off x="539640" y="5445000"/>
            <a:ext cx="7993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Замените прямую речь кос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Вы будете дома вечером?»- полюбопытствовал мой знако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н пробормотал : «Я принесу эту вещь для теб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J0078952"/>
          <p:cNvPicPr/>
          <p:nvPr/>
        </p:nvPicPr>
        <p:blipFill>
          <a:blip r:embed="rId1"/>
          <a:stretch/>
        </p:blipFill>
        <p:spPr>
          <a:xfrm>
            <a:off x="5148360" y="3716280"/>
            <a:ext cx="3325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971640" y="404640"/>
            <a:ext cx="794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асставьте знаки препинания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. Простите меня пожалуйста заговорил Вадим позвольте я вам по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Мама сказал Митя давай я грядку вскопаю я уж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холодало Катерина Ивановна бодро сказал Тих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Я подумал тропинка куда-нибудь нас приве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AG00092_"/>
          <p:cNvPicPr/>
          <p:nvPr/>
        </p:nvPicPr>
        <p:blipFill>
          <a:blip r:embed="rId1"/>
          <a:stretch/>
        </p:blipFill>
        <p:spPr>
          <a:xfrm>
            <a:off x="324000" y="119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AG00092_"/>
          <p:cNvPicPr/>
          <p:nvPr/>
        </p:nvPicPr>
        <p:blipFill>
          <a:blip r:embed="rId2"/>
          <a:stretch/>
        </p:blipFill>
        <p:spPr>
          <a:xfrm>
            <a:off x="324000" y="19162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AG00092_"/>
          <p:cNvPicPr/>
          <p:nvPr/>
        </p:nvPicPr>
        <p:blipFill>
          <a:blip r:embed="rId3"/>
          <a:stretch/>
        </p:blipFill>
        <p:spPr>
          <a:xfrm>
            <a:off x="324000" y="263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AG00092_"/>
          <p:cNvPicPr/>
          <p:nvPr/>
        </p:nvPicPr>
        <p:blipFill>
          <a:blip r:embed="rId4"/>
          <a:stretch/>
        </p:blipFill>
        <p:spPr>
          <a:xfrm>
            <a:off x="324000" y="3429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DD01015_"/>
          <p:cNvPicPr/>
          <p:nvPr/>
        </p:nvPicPr>
        <p:blipFill>
          <a:blip r:embed="rId5"/>
          <a:stretch/>
        </p:blipFill>
        <p:spPr>
          <a:xfrm>
            <a:off x="2484360" y="4221000"/>
            <a:ext cx="424836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900000" y="476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т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79280" y="2205000"/>
            <a:ext cx="87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это дословная выдержка из какого-либо устного или письменного высказывания, приводимая для подтверждения или разъяснения свое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SO01568_"/>
          <p:cNvPicPr/>
          <p:nvPr/>
        </p:nvPicPr>
        <p:blipFill>
          <a:blip r:embed="rId1"/>
          <a:stretch/>
        </p:blipFill>
        <p:spPr>
          <a:xfrm>
            <a:off x="5364000" y="3789360"/>
            <a:ext cx="30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50920" y="404640"/>
            <a:ext cx="873432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1)Цитата может представлять собой прямую речь, сопровождаемую словами автора. При этом знаки препинания ставятся так же, как и в предложениях с прямой ре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Язык народа, - писал В.И.Даль, - бесспорно главнейший родник или рудник наш, сокровищница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2) Если цитата представляет собой часть предложения , она выделяется кавычками и пише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вестный лингвист Л.И. Скворцов подчёркивает, что «чтение толковых, энциклопедических словарей – полезное и увлекательное занятие для каждого из на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Г. Белинского поражало «разнообразие картин, образов и чувств» в поэме «Мцы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31840" y="208080"/>
            <a:ext cx="858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3) Если предложение-цитата приводится не полностью, то на месте пропущенных слов ставится много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хов справедливо полагал: «…для интеллигентного человека дурно говорить должно было бы считаться таким же неприличным, как не уметь читать или писа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4) Если цитируется стихотворное произведение или его часть с соблюдением стихотворной строки, то кавычки не ст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ихотворение М.Цветаевой начинается так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 – издалека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эта – далеко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7928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Найдите неправильный способ ци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Т.Твардовский писал: «У каждого из нас свой Пушкин, остающийся одним для всех. Он входит в нашу жизнь в самом начале её и уже 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 А.Т.Твардовский писал о Пушкине, что « у каждого -  он свой, и он входит в нашу жизнь в самом начале е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) По словам А.Т.Твардовского, Пушкин «у каждого из нас свой», и он «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 А.Т.Твардовский говорил, что Пушкин «входит в нашу жизнь…и уже не покидает нас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476360" y="1125360"/>
            <a:ext cx="66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всё получилос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5" descr="BD05187_"/>
          <p:cNvPicPr/>
          <p:nvPr/>
        </p:nvPicPr>
        <p:blipFill>
          <a:blip r:embed="rId1"/>
          <a:stretch/>
        </p:blipFill>
        <p:spPr>
          <a:xfrm>
            <a:off x="395280" y="2637000"/>
            <a:ext cx="3314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468360" y="549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аемые ребят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месте изучи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материал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я помогу вам выполни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ие зад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6" descr="PE01038_"/>
          <p:cNvPicPr/>
          <p:nvPr/>
        </p:nvPicPr>
        <p:blipFill>
          <a:blip r:embed="rId1"/>
          <a:stretch/>
        </p:blipFill>
        <p:spPr>
          <a:xfrm>
            <a:off x="755640" y="4076640"/>
            <a:ext cx="2828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539640" y="333360"/>
            <a:ext cx="818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жая реч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жет передавать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помощью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900000" y="3141720"/>
            <a:ext cx="794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ям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св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вод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 Дополнения с предлогом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PE00640_"/>
          <p:cNvPicPr/>
          <p:nvPr/>
        </p:nvPicPr>
        <p:blipFill>
          <a:blip r:embed="rId1"/>
          <a:stretch/>
        </p:blipFill>
        <p:spPr>
          <a:xfrm>
            <a:off x="6012000" y="2276640"/>
            <a:ext cx="2952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95280" y="260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Учитель сказал : «Ребята, быстрое чтение – очень важный нав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Учитель сообщил нам, что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По словам учителя,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Учитель сообщил нам о важности быстр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J0099172"/>
          <p:cNvPicPr/>
          <p:nvPr/>
        </p:nvPicPr>
        <p:blipFill>
          <a:blip r:embed="rId1"/>
          <a:stretch/>
        </p:blipFill>
        <p:spPr>
          <a:xfrm>
            <a:off x="324000" y="5516640"/>
            <a:ext cx="8424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31840" y="208080"/>
            <a:ext cx="8661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Определите в предложениях способ передачи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не рассказали о прилёте 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итель на уроке объяснил, что журавли прилетают в середин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мнению ребят, самая голосистая  птица –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«Птицы – помощники леса,» - прочитали мы в учеб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J0099172"/>
          <p:cNvPicPr/>
          <p:nvPr/>
        </p:nvPicPr>
        <p:blipFill>
          <a:blip r:embed="rId1"/>
          <a:stretch/>
        </p:blipFill>
        <p:spPr>
          <a:xfrm>
            <a:off x="539640" y="5157720"/>
            <a:ext cx="8137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539640" y="260280"/>
            <a:ext cx="8156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Прямая 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точная передача чужого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ложения с прямой речью состоят из двух частей : слов автора и собственно чуж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Косвенная ре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передача чужого высказывания от лица гово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венная речь имеет форму сложноподчинё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J0099171"/>
          <p:cNvPicPr/>
          <p:nvPr/>
        </p:nvPicPr>
        <p:blipFill>
          <a:blip r:embed="rId1"/>
          <a:stretch/>
        </p:blipFill>
        <p:spPr>
          <a:xfrm>
            <a:off x="684360" y="2637000"/>
            <a:ext cx="777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1042920" y="13413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: « П. »                             4) « П »,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А : « П! »                             5) « П !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: « П? »                            6) « П ?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)   « П, - а,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)   « П, - а.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)   « П ?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) « П !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900000" y="115920"/>
            <a:ext cx="777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ормление прямой речи на письм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Picture 6" descr="NA01472_"/>
          <p:cNvPicPr/>
          <p:nvPr/>
        </p:nvPicPr>
        <p:blipFill>
          <a:blip r:embed="rId1"/>
          <a:stretch/>
        </p:blipFill>
        <p:spPr>
          <a:xfrm>
            <a:off x="5796000" y="4221000"/>
            <a:ext cx="3051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31840" y="136440"/>
            <a:ext cx="8661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Найдите предложения с прямой речью. Выпишите их,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Что с вами приключилось, малы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Стой,братцы,стой кричит Мартышка пог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В.Г.Белинский писал о том что стих Пушкина благороден, изящно пр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Учитель спросил ребят кто из них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Сегодня спросил он начнётся олимпи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Лесничий сказал видел я на озере сегодня леб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7.По мнению многих Байкал самое красивое озеро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Когда же мы виделись с тобой спросил Ва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58760" y="208080"/>
            <a:ext cx="8661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ff"/>
                </a:solidFill>
                <a:latin typeface="Arial"/>
              </a:rPr>
              <a:t>Какая пунктуационная схема соответствует предложению? (знаки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Arial"/>
              </a:rPr>
              <a:t>Так я ж вам объявляю произнёс Иван Иванович что знать вас не 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) «П!- а.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) «П,- а,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) «П»,- а,- «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) «П,- а,- п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J0099172"/>
          <p:cNvPicPr/>
          <p:nvPr/>
        </p:nvPicPr>
        <p:blipFill>
          <a:blip r:embed="rId1"/>
          <a:stretch/>
        </p:blipFill>
        <p:spPr>
          <a:xfrm>
            <a:off x="395280" y="5300640"/>
            <a:ext cx="799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6:09:46Z</dcterms:created>
  <dc:creator>Евгения</dc:creator>
  <dc:description/>
  <dc:language>en-US</dc:language>
  <cp:lastModifiedBy>zamdir</cp:lastModifiedBy>
  <dcterms:modified xsi:type="dcterms:W3CDTF">2023-01-18T07:52:05Z</dcterms:modified>
  <cp:revision>23</cp:revision>
  <dc:subject/>
  <dc:title>Слайд 1</dc:title>
</cp:coreProperties>
</file>