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0.gif" ContentType="image/gif"/>
  <Override PartName="/ppt/media/image13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2DB1-47E8-46D2-8808-0D532D682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8F3D-1871-4300-B7D5-28C3B48B4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37B3-6430-4BAF-BAF8-F7E174B38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0C19-DC2A-49FA-87CF-FDF0553EB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D24B-13F9-49E0-8225-9163C61BD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B276-B6BF-4744-8251-8E367561F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8F5C-AF9C-49C8-9FF6-085EC0498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7201-E30E-4D46-8B44-9E00B0B77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F17B-60F5-493C-82CE-749F127B0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C499-B1BA-4976-915D-8C37F46C1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9985-3060-41CE-BFD8-704F31E17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53DD-732D-4DE0-ADE3-A569918D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1507A-5100-48A2-BB42-7CEE0E5DFE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684360" y="1197000"/>
            <a:ext cx="799128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пособы передачи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ужой реч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2" name="Picture 5" descr="AN00790_"/>
          <p:cNvPicPr/>
          <p:nvPr/>
        </p:nvPicPr>
        <p:blipFill>
          <a:blip r:embed="rId1"/>
          <a:stretch/>
        </p:blipFill>
        <p:spPr>
          <a:xfrm>
            <a:off x="407880" y="3573360"/>
            <a:ext cx="2830680" cy="29512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447840" y="136440"/>
            <a:ext cx="822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324000" y="189000"/>
            <a:ext cx="8424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Ты когда-нибудь видел звероящера? - спросил режиссё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Конечно. Он живёт у нас на даче, -  сказал Сев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А разве звероящеры не вымерли? – честно удивился режиссё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Все вымерли, а один остал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А почему он осталс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тому что он попал в выгодные климатические условия, -  вывернулся Сев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 В.Токарев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J0099171"/>
          <p:cNvPicPr/>
          <p:nvPr/>
        </p:nvPicPr>
        <p:blipFill>
          <a:blip r:embed="rId1"/>
          <a:stretch/>
        </p:blipFill>
        <p:spPr>
          <a:xfrm>
            <a:off x="324000" y="5013360"/>
            <a:ext cx="83516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87480" y="136440"/>
            <a:ext cx="88056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Предложения с косвенной речью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это сложные (сложноподчинённые) предложения, где первая часть слова автора (главное предложение), а вторая – косвенная (чужая) речь (придаточное предложени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СРАВНИ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Мне было сказано : «Так нельзя поступать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Мне было сказано, что так поступать нельз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Простые предложения в составе предложений с косвенной речью соединяются при помощи  союзов и союзных слов ЧТО, ЧТОБЫ, БУДТО, КАК БУДТО, КТО, КОТОРЫЙ, ГДЕ, ОТКУДА и др., частицей ЛИ в роли сою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158760" y="208080"/>
            <a:ext cx="8661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95280" y="620640"/>
          <a:ext cx="8424720" cy="4340160"/>
        </p:xfrm>
        <a:graphic>
          <a:graphicData uri="http://schemas.openxmlformats.org/drawingml/2006/table">
            <a:tbl>
              <a:tblPr/>
              <a:tblGrid>
                <a:gridCol w="4213080"/>
                <a:gridCol w="4211640"/>
              </a:tblGrid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рямая реч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Косвенная реч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Сегодня холодно,» - произнёс Борис задумчиво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андир строгим голосом приказал: «Приведите ко мне сержанта!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рис задумчиво произнёс, что сегодня холодно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андир строгим голосом приказал, чтобы к нему привели сержанта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6" name="Picture 23" descr="BD05817_"/>
          <p:cNvPicPr/>
          <p:nvPr/>
        </p:nvPicPr>
        <p:blipFill>
          <a:blip r:embed="rId1"/>
          <a:stretch/>
        </p:blipFill>
        <p:spPr>
          <a:xfrm>
            <a:off x="539640" y="5445000"/>
            <a:ext cx="799308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0" y="47628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Замените прямую речь косвен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Вы будете дома вечером?»- полюбопытствовал мой знаком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н пробормотал : «Я принесу эту вещь для теб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J0078952"/>
          <p:cNvPicPr/>
          <p:nvPr/>
        </p:nvPicPr>
        <p:blipFill>
          <a:blip r:embed="rId1"/>
          <a:stretch/>
        </p:blipFill>
        <p:spPr>
          <a:xfrm>
            <a:off x="5148360" y="3716280"/>
            <a:ext cx="332568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971640" y="404640"/>
            <a:ext cx="7942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Расставьте знаки препинания в предложен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). Простите меня пожалуйста заговорил Вадим позвольте я вам помо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) Мама сказал Митя давай я грядку вскопаю я уже уме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) Похолодало Катерина Ивановна бодро сказал Тих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) Я подумал тропинка куда-нибудь нас приведё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AG00092_"/>
          <p:cNvPicPr/>
          <p:nvPr/>
        </p:nvPicPr>
        <p:blipFill>
          <a:blip r:embed="rId1"/>
          <a:stretch/>
        </p:blipFill>
        <p:spPr>
          <a:xfrm>
            <a:off x="324000" y="1197000"/>
            <a:ext cx="342720" cy="333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AG00092_"/>
          <p:cNvPicPr/>
          <p:nvPr/>
        </p:nvPicPr>
        <p:blipFill>
          <a:blip r:embed="rId2"/>
          <a:stretch/>
        </p:blipFill>
        <p:spPr>
          <a:xfrm>
            <a:off x="324000" y="1916280"/>
            <a:ext cx="342720" cy="333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AG00092_"/>
          <p:cNvPicPr/>
          <p:nvPr/>
        </p:nvPicPr>
        <p:blipFill>
          <a:blip r:embed="rId3"/>
          <a:stretch/>
        </p:blipFill>
        <p:spPr>
          <a:xfrm>
            <a:off x="324000" y="2637000"/>
            <a:ext cx="342720" cy="333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AG00092_"/>
          <p:cNvPicPr/>
          <p:nvPr/>
        </p:nvPicPr>
        <p:blipFill>
          <a:blip r:embed="rId4"/>
          <a:stretch/>
        </p:blipFill>
        <p:spPr>
          <a:xfrm>
            <a:off x="324000" y="3429000"/>
            <a:ext cx="342720" cy="333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DD01015_"/>
          <p:cNvPicPr/>
          <p:nvPr/>
        </p:nvPicPr>
        <p:blipFill>
          <a:blip r:embed="rId5"/>
          <a:stretch/>
        </p:blipFill>
        <p:spPr>
          <a:xfrm>
            <a:off x="2484360" y="4221000"/>
            <a:ext cx="4248360" cy="19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WordArt 4"/>
          <p:cNvSpPr txBox="1"/>
          <p:nvPr/>
        </p:nvSpPr>
        <p:spPr>
          <a:xfrm>
            <a:off x="900000" y="476280"/>
            <a:ext cx="71280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Цитат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179280" y="2205000"/>
            <a:ext cx="8734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это дословная выдержка из какого-либо устного или письменного высказывания, приводимая для подтверждения или разъяснения своей мыс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SO01568_"/>
          <p:cNvPicPr/>
          <p:nvPr/>
        </p:nvPicPr>
        <p:blipFill>
          <a:blip r:embed="rId1"/>
          <a:stretch/>
        </p:blipFill>
        <p:spPr>
          <a:xfrm>
            <a:off x="5364000" y="3789360"/>
            <a:ext cx="302436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250920" y="404640"/>
            <a:ext cx="8734320" cy="61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1)Цитата может представлять собой прямую речь, сопровождаемую словами автора. При этом знаки препинания ставятся так же, как и в предложениях с прямой реч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Язык народа, - писал В.И.Даль, - бесспорно главнейший родник или рудник наш, сокровищница нашего язы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2) Если цитата представляет собой часть предложения , она выделяется кавычками и пишется со строчной букв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вестный лингвист Л.И. Скворцов подчёркивает, что «чтение толковых, энциклопедических словарей – полезное и увлекательное занятие для каждого из нас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.Г. Белинского поражало «разнообразие картин, образов и чувств» в поэме «Мцыр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231840" y="208080"/>
            <a:ext cx="8588160" cy="52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3) Если предложение-цитата приводится не полностью, то на месте пропущенных слов ставится многоточ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хов справедливо полагал: «…для интеллигентного человека дурно говорить должно было бы считаться таким же неприличным, как не уметь читать или писать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4) Если цитируется стихотворное произведение или его часть с соблюдением стихотворной строки, то кавычки не ставя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ихотворение М.Цветаевой начинается так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эт – издалека заводит реч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эта – далеко заводит реч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179280" y="189000"/>
            <a:ext cx="8713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Найдите неправильный способ цитир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.Т.Твардовский писал: «У каждого из нас свой Пушкин, остающийся одним для всех. Он входит в нашу жизнь в самом начале её и уже не покидает нас до конц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) А.Т.Твардовский писал о Пушкине, что « у каждого -  он свой, и он входит в нашу жизнь в самом начале её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) По словам А.Т.Твардовского, Пушкин «у каждого из нас свой», и он «не покидает нас до конц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) А.Т.Твардовский говорил, что Пушкин «входит в нашу жизнь…и уже не покидает нас…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WordArt 4"/>
          <p:cNvSpPr txBox="1"/>
          <p:nvPr/>
        </p:nvSpPr>
        <p:spPr>
          <a:xfrm>
            <a:off x="1476360" y="1125360"/>
            <a:ext cx="6624720" cy="27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 нас всё получилось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    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лодцы!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2" name="Picture 5" descr="BD05187_"/>
          <p:cNvPicPr/>
          <p:nvPr/>
        </p:nvPicPr>
        <p:blipFill>
          <a:blip r:embed="rId1"/>
          <a:stretch/>
        </p:blipFill>
        <p:spPr>
          <a:xfrm>
            <a:off x="395280" y="2637000"/>
            <a:ext cx="3314880" cy="33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4"/>
          <p:cNvSpPr txBox="1"/>
          <p:nvPr/>
        </p:nvSpPr>
        <p:spPr>
          <a:xfrm>
            <a:off x="468360" y="549360"/>
            <a:ext cx="813600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важаемые ребята!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ы вместе изучим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овый материал,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 я помогу вам выполнить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актические задания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5" name="Picture 6" descr="PE01038_"/>
          <p:cNvPicPr/>
          <p:nvPr/>
        </p:nvPicPr>
        <p:blipFill>
          <a:blip r:embed="rId1"/>
          <a:stretch/>
        </p:blipFill>
        <p:spPr>
          <a:xfrm>
            <a:off x="755640" y="4076640"/>
            <a:ext cx="282888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4"/>
          <p:cNvSpPr txBox="1"/>
          <p:nvPr/>
        </p:nvSpPr>
        <p:spPr>
          <a:xfrm>
            <a:off x="539640" y="333360"/>
            <a:ext cx="81867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Чужая речь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ожет передаватьс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 помощью :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900000" y="3141720"/>
            <a:ext cx="7940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ямой реч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свенной реч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водных сл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.  Дополнения с предлогом 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PE00640_"/>
          <p:cNvPicPr/>
          <p:nvPr/>
        </p:nvPicPr>
        <p:blipFill>
          <a:blip r:embed="rId1"/>
          <a:stretch/>
        </p:blipFill>
        <p:spPr>
          <a:xfrm>
            <a:off x="6012000" y="2276640"/>
            <a:ext cx="2952720" cy="24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395280" y="260280"/>
            <a:ext cx="8516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Учитель сказал : «Ребята, быстрое чтение – очень важный навык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Учитель сообщил нам, что быстрое чтение – очень важный навы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По словам учителя, быстрое чтение – очень важный навы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Учитель сообщил нам о важности быстрого чт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J0099172"/>
          <p:cNvPicPr/>
          <p:nvPr/>
        </p:nvPicPr>
        <p:blipFill>
          <a:blip r:embed="rId1"/>
          <a:stretch/>
        </p:blipFill>
        <p:spPr>
          <a:xfrm>
            <a:off x="324000" y="5516640"/>
            <a:ext cx="842472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231840" y="208080"/>
            <a:ext cx="86612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ff"/>
                </a:solidFill>
                <a:latin typeface="Arial"/>
              </a:rPr>
              <a:t>Определите в предложениях способ передачи чужой ре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не рассказали о прилёте журав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итель на уроке объяснил, что журавли прилетают в середине вес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мнению ребят, самая голосистая  птица – солов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 «Птицы – помощники леса,» - прочитали мы в учебни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J0099172"/>
          <p:cNvPicPr/>
          <p:nvPr/>
        </p:nvPicPr>
        <p:blipFill>
          <a:blip r:embed="rId1"/>
          <a:stretch/>
        </p:blipFill>
        <p:spPr>
          <a:xfrm>
            <a:off x="539640" y="5157720"/>
            <a:ext cx="813780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539640" y="260280"/>
            <a:ext cx="8156520" cy="58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Прямая речь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это точная передача чужого высказы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ложения с прямой речью состоят из двух частей : слов автора и собственно чужой ре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Косвенная речь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это передача чужого высказывания от лица говорящ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свенная речь имеет форму сложноподчинённого предл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J0099171"/>
          <p:cNvPicPr/>
          <p:nvPr/>
        </p:nvPicPr>
        <p:blipFill>
          <a:blip r:embed="rId1"/>
          <a:stretch/>
        </p:blipFill>
        <p:spPr>
          <a:xfrm>
            <a:off x="684360" y="2637000"/>
            <a:ext cx="7775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1042920" y="1341360"/>
            <a:ext cx="7489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 : « П. »                             4) « П », -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) А : « П! »                             5) « П !» -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 : « П? »                            6) « П ?» -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)   « П, - а, - п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)   « П, - а. - П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)   « П ? – а. – П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0) « П ! – а. – П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5"/>
          <p:cNvSpPr txBox="1"/>
          <p:nvPr/>
        </p:nvSpPr>
        <p:spPr>
          <a:xfrm>
            <a:off x="900000" y="115920"/>
            <a:ext cx="77724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формление прямой речи на письм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7" name="Picture 6" descr="NA01472_"/>
          <p:cNvPicPr/>
          <p:nvPr/>
        </p:nvPicPr>
        <p:blipFill>
          <a:blip r:embed="rId1"/>
          <a:stretch/>
        </p:blipFill>
        <p:spPr>
          <a:xfrm>
            <a:off x="5796000" y="4221000"/>
            <a:ext cx="3051000" cy="24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231840" y="136440"/>
            <a:ext cx="8661240" cy="63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Найдите предложения с прямой речью. Выпишите их, расставьте знаки препин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Что с вами приключилось, малыш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Стой,братцы,стой кричит Мартышка погоди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В.Г.Белинский писал о том что стих Пушкина благороден, изящно прост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Учитель спросил ребят кто из них дежур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.Сегодня спросил он начнётся олимпиад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.Лесничий сказал видел я на озере сегодня лебед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.По мнению многих Байкал самое красивое озеро в ми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.Когда же мы виделись с тобой спросил Ва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158760" y="208080"/>
            <a:ext cx="866124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Какая пунктуационная схема соответствует предложению? (знаки не расставлен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Так я ж вам объявляю произнёс Иван Иванович что знать вас не хоч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) «П!- а.- П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) «П,- а,- п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) «П»,- а,- «п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) «П,- а,- п»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J0099172"/>
          <p:cNvPicPr/>
          <p:nvPr/>
        </p:nvPicPr>
        <p:blipFill>
          <a:blip r:embed="rId1"/>
          <a:stretch/>
        </p:blipFill>
        <p:spPr>
          <a:xfrm>
            <a:off x="395280" y="5300640"/>
            <a:ext cx="799164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2T16:09:46Z</dcterms:created>
  <dc:creator>Евгения</dc:creator>
  <dc:description/>
  <dc:language>en-US</dc:language>
  <cp:lastModifiedBy>zamdir</cp:lastModifiedBy>
  <dcterms:modified xsi:type="dcterms:W3CDTF">2023-01-18T07:52:05Z</dcterms:modified>
  <cp:revision>23</cp:revision>
  <dc:subject/>
  <dc:title>Слайд 1</dc:title>
</cp:coreProperties>
</file>