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23.jpeg" ContentType="image/jpeg"/>
  <Override PartName="/ppt/media/image18.jpeg" ContentType="image/jpe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6.png" ContentType="image/png"/>
  <Override PartName="/ppt/media/image15.png" ContentType="image/png"/>
  <Override PartName="/ppt/media/image2.png" ContentType="image/png"/>
  <Override PartName="/ppt/media/image3.png" ContentType="image/png"/>
  <Override PartName="/ppt/media/image17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145C2-F4A8-499C-9C10-412E2B1F8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2BF55-5142-4A2C-BFF8-42CF3FC81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CA097-42ED-4CF0-9E5E-DF16A67B4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1CA2C-41C9-4B48-90FB-5F930702E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95EB0-EB22-4E39-B839-AD1C78972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FBBAE-05F4-4E8D-AA8C-9CAD1EA5C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5ECC1-BC33-4407-A70D-463E42E54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26E93-78C7-40BC-A4CB-6BB5BB373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72E6A-5939-47B7-9A22-07020E7F4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FF8C5-B4C6-4FEF-B8C7-BDE4215E3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FA94E-E2E4-4D56-A6D8-3A7CE2D3C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3D2C9-1A4A-4B9B-A367-4EAE97482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61BCA-AFC2-4F47-B9F7-FF50F7A7F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FFB13-D72D-46BD-B827-7971C6B82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01E4A-8D1F-46D5-B0EC-2CE88E8EF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4C2EB-E291-458D-9FE5-EA12B6B8B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FF072-C637-48B7-826A-878F78DFE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D18B3-4C86-4536-8A42-B5A2735F7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B3188-1B4B-42ED-A710-99E326B81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EF5E7-272A-47C9-A302-76DE79DE1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CB4AA-FCA7-4414-A427-B06DB98DC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A4E5D-0A33-42CF-8DE7-A49071817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5DCB5-A133-4323-9EC2-441149BD7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EFADC-0E73-45FB-A312-B6836ADD7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66919-8474-48F3-A65B-0CD6FC9831B0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404CB-44DB-4CBB-BE77-DCE28A0185F8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«Фруттокрышки и Крошка-Велькрошка</a:t>
            </a:r>
            <a:br>
              <a:rPr sz="3200"/>
            </a:b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- умные ладошки»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89600" cy="30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66"/>
                </a:solidFill>
                <a:latin typeface="Arial"/>
              </a:rPr>
              <a:t>Воспитатель подг.гр компенсирующей направленности. (ЗПР): Кравченко М.И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66"/>
                </a:solidFill>
                <a:latin typeface="Arial"/>
              </a:rPr>
              <a:t>МБДОУ «Детский сад К.В. № 27»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7" name="Рисунок 2" descr=""/>
          <p:cNvPicPr/>
          <p:nvPr/>
        </p:nvPicPr>
        <p:blipFill>
          <a:blip r:embed="rId1"/>
          <a:stretch/>
        </p:blipFill>
        <p:spPr>
          <a:xfrm>
            <a:off x="304920" y="2743200"/>
            <a:ext cx="2952720" cy="3024360"/>
          </a:xfrm>
          <a:prstGeom prst="rect">
            <a:avLst/>
          </a:prstGeom>
          <a:ln cap="sq" w="38160">
            <a:solidFill>
              <a:srgbClr val="003366"/>
            </a:solidFill>
            <a:miter/>
          </a:ln>
          <a:effectLst>
            <a:outerShdw dist="50911" dir="2700000" blurRad="0" rotWithShape="0">
              <a:srgbClr val="00000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СТАРШИЙ ДОШКОЛЬНЫЙ </a:t>
            </a:r>
            <a:br>
              <a:rPr sz="3200"/>
            </a:b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                         ВОЗРАСТ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3" name="Picture 3" descr="C:\Users\андрей\Desktop\фото велькрошки\фото с велькрошкой\d9801d7bad26263d5ce50d8448407b98.jpg"/>
          <p:cNvPicPr/>
          <p:nvPr/>
        </p:nvPicPr>
        <p:blipFill>
          <a:blip r:embed="rId1"/>
          <a:stretch/>
        </p:blipFill>
        <p:spPr>
          <a:xfrm>
            <a:off x="990720" y="4233960"/>
            <a:ext cx="3174840" cy="26240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4" descr="C:\Users\андрей\Desktop\фото велькрошки\фото с велькрошкой\igry_svoimi_rukami-velcroshka_konstruktor_01.jpg"/>
          <p:cNvPicPr/>
          <p:nvPr/>
        </p:nvPicPr>
        <p:blipFill>
          <a:blip r:embed="rId2"/>
          <a:stretch/>
        </p:blipFill>
        <p:spPr>
          <a:xfrm>
            <a:off x="3278160" y="2311560"/>
            <a:ext cx="2757600" cy="20984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7" descr="C:\Users\андрей\Desktop\фото велькрошки\фото с велькрошкой\velkro-7.jpg"/>
          <p:cNvPicPr/>
          <p:nvPr/>
        </p:nvPicPr>
        <p:blipFill>
          <a:blip r:embed="rId3"/>
          <a:stretch/>
        </p:blipFill>
        <p:spPr>
          <a:xfrm>
            <a:off x="5791320" y="4514760"/>
            <a:ext cx="2714400" cy="20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«ФРУТТОКРЫШКИ»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7" name="Picture 4" descr=""/>
          <p:cNvPicPr/>
          <p:nvPr/>
        </p:nvPicPr>
        <p:blipFill>
          <a:blip r:embed="rId1"/>
          <a:stretch/>
        </p:blipFill>
        <p:spPr>
          <a:xfrm>
            <a:off x="1523880" y="2371680"/>
            <a:ext cx="6553440" cy="44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Игры с этими замечательными крышками.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837720" y="22093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Использовать  как счетный  материал.    Строим  числовую</a:t>
            </a:r>
            <a:br>
              <a:rPr sz="2000"/>
            </a:b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лесенку и пирамидку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Сортировка   по   цвету.   Сначала   просто   называть   цвет   крышки,</a:t>
            </a:r>
            <a:br>
              <a:rPr sz="2000"/>
            </a:b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которую    взял    ребенок.    А    потом    попросить    найти    крышку</a:t>
            </a:r>
            <a:br>
              <a:rPr sz="2000"/>
            </a:b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определенного цвета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Строим башню. Крышки отлично крепятся одна на другую. Сначала</a:t>
            </a:r>
            <a:br>
              <a:rPr sz="2000"/>
            </a:b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строим   произвольную   башню,   чтобы   малыш   принял   принцип</a:t>
            </a:r>
            <a:br>
              <a:rPr sz="2000"/>
            </a:b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крепления. Затем строим высокую и низкую, сравниваем их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После предложите построить башню по образцу, как у мамы: зеленая</a:t>
            </a:r>
            <a:br>
              <a:rPr sz="2000"/>
            </a:b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крышка,  потом  желтая,   потом   красная.  Постепенно  усложняйте</a:t>
            </a:r>
            <a:br>
              <a:rPr sz="2000"/>
            </a:b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задание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8487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Выкладываем логические последовательности. Желтая, зеленая, ...,</a:t>
            </a:r>
            <a:br>
              <a:rPr sz="2000"/>
            </a:b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зеленая. Какая крышка пропущена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Мозаика. Выкладываем из крышек цветочек, рыбку, облако, цифры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Рыбалка. Кладем  крышки  в ведерко с водой  и вылавливаем их</a:t>
            </a:r>
            <a:br>
              <a:rPr sz="2000"/>
            </a:b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сачком или большой ложкой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Игра в Крестики-нолики. Расчерчиваем поле, берем крышки двух</a:t>
            </a:r>
            <a:br>
              <a:rPr sz="2000"/>
            </a:b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цветов и игра готова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Прорезаем  в  коробке  с  крышкой  отверстия  разного диаметра  и</a:t>
            </a:r>
            <a:br>
              <a:rPr sz="2000"/>
            </a:b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просим малыша просунуть в них крышечки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ПОЛЕЗНЫХ И ИНТЕРЕСНЫХ</a:t>
            </a:r>
            <a:br>
              <a:rPr sz="3600"/>
            </a:b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ВАМ ИГР!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648320" y="2895120"/>
            <a:ext cx="4495680" cy="1822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66"/>
                </a:solidFill>
                <a:latin typeface="Arial"/>
              </a:rPr>
              <a:t>Спасибо за внимание!!!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C:\Users\андрей\Desktop\фото велькрошки\240448_01222213488.jpg"/>
          <p:cNvPicPr/>
          <p:nvPr/>
        </p:nvPicPr>
        <p:blipFill>
          <a:blip r:embed="rId1"/>
          <a:stretch/>
        </p:blipFill>
        <p:spPr>
          <a:xfrm>
            <a:off x="2577960" y="560520"/>
            <a:ext cx="4840560" cy="3725640"/>
          </a:xfrm>
          <a:prstGeom prst="rect">
            <a:avLst/>
          </a:prstGeom>
          <a:ln w="0">
            <a:noFill/>
          </a:ln>
        </p:spPr>
      </p:pic>
      <p:pic>
        <p:nvPicPr>
          <p:cNvPr id="99" name="Text Placeholder 4" descr=""/>
          <p:cNvPicPr/>
          <p:nvPr/>
        </p:nvPicPr>
        <p:blipFill>
          <a:blip r:embed="rId2"/>
          <a:stretch/>
        </p:blipFill>
        <p:spPr>
          <a:xfrm>
            <a:off x="3184560" y="3124080"/>
            <a:ext cx="3537000" cy="336564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Рисунок 10" descr=""/>
          <p:cNvPicPr/>
          <p:nvPr/>
        </p:nvPicPr>
        <p:blipFill>
          <a:blip r:embed="rId1"/>
          <a:stretch/>
        </p:blipFill>
        <p:spPr>
          <a:xfrm>
            <a:off x="954000" y="2438280"/>
            <a:ext cx="3861000" cy="3829320"/>
          </a:xfrm>
          <a:prstGeom prst="rect">
            <a:avLst/>
          </a:prstGeom>
          <a:ln w="0">
            <a:noFill/>
          </a:ln>
        </p:spPr>
      </p:pic>
      <p:pic>
        <p:nvPicPr>
          <p:cNvPr id="102" name="Рисунок 18" descr=""/>
          <p:cNvPicPr/>
          <p:nvPr/>
        </p:nvPicPr>
        <p:blipFill>
          <a:blip r:embed="rId2"/>
          <a:stretch/>
        </p:blipFill>
        <p:spPr>
          <a:xfrm rot="895800">
            <a:off x="5038200" y="2544840"/>
            <a:ext cx="3657600" cy="3618000"/>
          </a:xfrm>
          <a:prstGeom prst="rect">
            <a:avLst/>
          </a:prstGeom>
          <a:ln w="0">
            <a:noFill/>
          </a:ln>
        </p:spPr>
      </p:pic>
      <p:pic>
        <p:nvPicPr>
          <p:cNvPr id="103" name="Title 9" descr=""/>
          <p:cNvPicPr/>
          <p:nvPr/>
        </p:nvPicPr>
        <p:blipFill>
          <a:blip r:embed="rId3"/>
          <a:stretch/>
        </p:blipFill>
        <p:spPr>
          <a:xfrm>
            <a:off x="685800" y="762120"/>
            <a:ext cx="7543800" cy="167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5" name="Рисунок 4" descr=""/>
          <p:cNvPicPr/>
          <p:nvPr/>
        </p:nvPicPr>
        <p:blipFill>
          <a:blip r:embed="rId1"/>
          <a:stretch/>
        </p:blipFill>
        <p:spPr>
          <a:xfrm rot="906000">
            <a:off x="609120" y="2057400"/>
            <a:ext cx="4614840" cy="50911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3" descr="C:\Users\андрей\Desktop\фото велькрошки\фото с велькрошкой\x_aa7e139f.jpg"/>
          <p:cNvPicPr/>
          <p:nvPr/>
        </p:nvPicPr>
        <p:blipFill>
          <a:blip r:embed="rId2"/>
          <a:stretch/>
        </p:blipFill>
        <p:spPr>
          <a:xfrm>
            <a:off x="5991120" y="3317760"/>
            <a:ext cx="2540160" cy="27687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2" descr=""/>
          <p:cNvPicPr/>
          <p:nvPr/>
        </p:nvPicPr>
        <p:blipFill>
          <a:blip r:embed="rId3"/>
          <a:stretch/>
        </p:blipFill>
        <p:spPr>
          <a:xfrm>
            <a:off x="4525920" y="3808440"/>
            <a:ext cx="1762200" cy="132228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Для изготовления понадобится только застежка липучка</a:t>
            </a:r>
            <a:br>
              <a:rPr sz="3200"/>
            </a:b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 (контактная лента)- «ВЕЛЬКРО»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Прямоугольник 1" descr=""/>
          <p:cNvPicPr/>
          <p:nvPr/>
        </p:nvPicPr>
        <p:blipFill>
          <a:blip r:embed="rId1"/>
          <a:stretch/>
        </p:blipFill>
        <p:spPr>
          <a:xfrm>
            <a:off x="622440" y="706320"/>
            <a:ext cx="8064360" cy="54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C:\Users\андрей\Desktop\фото велькрошки\фото с велькрошкой\igry_svoimi_rukami-velcroshka_konstruktor_07.jpg"/>
          <p:cNvPicPr/>
          <p:nvPr/>
        </p:nvPicPr>
        <p:blipFill>
          <a:blip r:embed="rId1"/>
          <a:stretch/>
        </p:blipFill>
        <p:spPr>
          <a:xfrm>
            <a:off x="228600" y="0"/>
            <a:ext cx="4537080" cy="2095560"/>
          </a:xfrm>
          <a:prstGeom prst="rect">
            <a:avLst/>
          </a:prstGeom>
          <a:ln w="0">
            <a:noFill/>
          </a:ln>
        </p:spPr>
      </p:pic>
      <p:pic>
        <p:nvPicPr>
          <p:cNvPr id="111" name="Прямоугольник 7" descr=""/>
          <p:cNvPicPr/>
          <p:nvPr/>
        </p:nvPicPr>
        <p:blipFill>
          <a:blip r:embed="rId2"/>
          <a:stretch/>
        </p:blipFill>
        <p:spPr>
          <a:xfrm>
            <a:off x="5430960" y="6480"/>
            <a:ext cx="3060720" cy="1431720"/>
          </a:xfrm>
          <a:prstGeom prst="rect">
            <a:avLst/>
          </a:prstGeom>
          <a:ln w="0">
            <a:noFill/>
          </a:ln>
        </p:spPr>
      </p:pic>
      <p:pic>
        <p:nvPicPr>
          <p:cNvPr id="112" name="Текст 2" descr=""/>
          <p:cNvPicPr/>
          <p:nvPr/>
        </p:nvPicPr>
        <p:blipFill>
          <a:blip r:embed="rId3"/>
          <a:stretch/>
        </p:blipFill>
        <p:spPr>
          <a:xfrm>
            <a:off x="457200" y="2133720"/>
            <a:ext cx="8107200" cy="441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4" name="Picture 6" descr=""/>
          <p:cNvPicPr/>
          <p:nvPr/>
        </p:nvPicPr>
        <p:blipFill>
          <a:blip r:embed="rId1"/>
          <a:stretch/>
        </p:blipFill>
        <p:spPr>
          <a:xfrm>
            <a:off x="2781360" y="2743200"/>
            <a:ext cx="3886200" cy="3189240"/>
          </a:xfrm>
          <a:prstGeom prst="rect">
            <a:avLst/>
          </a:prstGeom>
          <a:ln w="0">
            <a:noFill/>
          </a:ln>
        </p:spPr>
      </p:pic>
      <p:pic>
        <p:nvPicPr>
          <p:cNvPr id="115" name="W¥ل云玗İαЂÕØÚáÛ丫:Téxt Plàçèhòlðêr 表¥鷗字㌍_W 10" descr=""/>
          <p:cNvPicPr/>
          <p:nvPr/>
        </p:nvPicPr>
        <p:blipFill>
          <a:blip r:embed="rId2"/>
          <a:stretch/>
        </p:blipFill>
        <p:spPr>
          <a:xfrm>
            <a:off x="104760" y="152280"/>
            <a:ext cx="9039240" cy="240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Прямоугольник 10" descr=""/>
          <p:cNvPicPr/>
          <p:nvPr/>
        </p:nvPicPr>
        <p:blipFill>
          <a:blip r:embed="rId1"/>
          <a:stretch/>
        </p:blipFill>
        <p:spPr>
          <a:xfrm>
            <a:off x="2932200" y="3657600"/>
            <a:ext cx="3767040" cy="26766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5" descr=""/>
          <p:cNvPicPr/>
          <p:nvPr/>
        </p:nvPicPr>
        <p:blipFill>
          <a:blip r:embed="rId2"/>
          <a:stretch/>
        </p:blipFill>
        <p:spPr>
          <a:xfrm>
            <a:off x="2139840" y="228600"/>
            <a:ext cx="4572000" cy="32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МЛАДШИЙ ДОШКОЛЬНЫЙ ВОЗРАСТ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0" name="Picture 2" descr="C:\Users\андрей\Desktop\фото велькрошки\фото с велькрошкой\P1020740.jpg"/>
          <p:cNvPicPr/>
          <p:nvPr/>
        </p:nvPicPr>
        <p:blipFill>
          <a:blip r:embed="rId1"/>
          <a:stretch/>
        </p:blipFill>
        <p:spPr>
          <a:xfrm>
            <a:off x="1363680" y="2895480"/>
            <a:ext cx="2987640" cy="22417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3" descr="C:\Users\андрей\Desktop\фото велькрошки\фото с велькрошкой\P1020741.jpg"/>
          <p:cNvPicPr/>
          <p:nvPr/>
        </p:nvPicPr>
        <p:blipFill>
          <a:blip r:embed="rId2"/>
          <a:stretch/>
        </p:blipFill>
        <p:spPr>
          <a:xfrm>
            <a:off x="4876920" y="2362320"/>
            <a:ext cx="4038480" cy="30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2-04T06:27:05Z</dcterms:created>
  <dc:creator>ПК1</dc:creator>
  <dc:description/>
  <dc:language>en-US</dc:language>
  <cp:lastModifiedBy>Учетная запись Майкрософт</cp:lastModifiedBy>
  <dcterms:modified xsi:type="dcterms:W3CDTF">2023-01-19T11:08:43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