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34C-E99A-491D-AEC4-3E3889AF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0DE-1D32-43E4-9B0F-1389CA8A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043-1010-4E7E-A141-45E0BDA5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739-A12F-49A2-ABFC-2740843F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9648-2A07-4F0E-A72B-497CA950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D0AD-1DE6-40B6-AF76-04271926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298C-D577-4A30-B7F2-076C9820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1105-5AB1-48C3-8590-C810B74C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427F-0FB9-4C1E-BE6A-D96B1850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EE4E-0C91-47FA-A337-40660F97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4D81-7D39-48A1-B0C4-175D79E4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D6B-8E79-4007-BAFA-33E01DC9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BF8B-7C86-4655-9F31-D81CD806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476B-0E4C-4866-A84F-7720AAA2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8B65-A9F0-4623-80BC-6F9A2664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0DCC-9984-49FE-9F18-A7983C2E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8C21-DD16-4C2D-B99D-7CE2BC24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881-D7D0-44F8-9E4A-5F88FC75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635-46E6-4A99-8100-4CD2ED0A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692-3C16-4067-8C7D-D795F25A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4DA-B807-4BBA-954D-F4652A2F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4FA-A41A-40D8-9062-D46BE52B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34F-EA85-4E53-A736-A447BE26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882-CE04-4D89-B66C-D82B9B4F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079C-7AD5-4BCA-9D26-E3210ADEF47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269F-7068-4E43-94F6-49F07ACEE44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«Фруттокрышки и Крошка-Велькрошка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- умные ладошки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89600" cy="30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оспитатель подг.гр компенсирующей направленности. (ЗПР): Кравченко М.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БДОУ «Детский сад К.В. № 27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952720" cy="3024360"/>
          </a:xfrm>
          <a:prstGeom prst="rect">
            <a:avLst/>
          </a:prstGeom>
          <a:ln cap="sq" w="38160">
            <a:solidFill>
              <a:srgbClr val="003366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АРШИЙ ДОШКОЛЬНЫЙ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ВОЗРАС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3" descr="C:\Users\андрей\Desktop\фото велькрошки\фото с велькрошкой\d9801d7bad26263d5ce50d8448407b98.jpg"/>
          <p:cNvPicPr/>
          <p:nvPr/>
        </p:nvPicPr>
        <p:blipFill>
          <a:blip r:embed="rId1"/>
          <a:stretch/>
        </p:blipFill>
        <p:spPr>
          <a:xfrm>
            <a:off x="990720" y="4233960"/>
            <a:ext cx="3174840" cy="2624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андрей\Desktop\фото велькрошки\фото с велькрошкой\igry_svoimi_rukami-velcroshka_konstruktor_01.jpg"/>
          <p:cNvPicPr/>
          <p:nvPr/>
        </p:nvPicPr>
        <p:blipFill>
          <a:blip r:embed="rId2"/>
          <a:stretch/>
        </p:blipFill>
        <p:spPr>
          <a:xfrm>
            <a:off x="3278160" y="2311560"/>
            <a:ext cx="2757600" cy="2098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Users\андрей\Desktop\фото велькрошки\фото с велькрошкой\velkro-7.jpg"/>
          <p:cNvPicPr/>
          <p:nvPr/>
        </p:nvPicPr>
        <p:blipFill>
          <a:blip r:embed="rId3"/>
          <a:stretch/>
        </p:blipFill>
        <p:spPr>
          <a:xfrm>
            <a:off x="5791320" y="4514760"/>
            <a:ext cx="27144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ФРУТТОКРЫШКИ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523880" y="2371680"/>
            <a:ext cx="65534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гры с этими замечательными крышкам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2093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ть  как счетный  материал.    Строим  числовую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есенку и пирамид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ртировка   по   цвету.   Сначала   просто   называть   цвет   крышки,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торую    взял    ребенок.    А    потом    попросить    найти    крышку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ределенного цве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роим башню. Крышки отлично крепятся одна на другую. Сначала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роим   произвольную   башню,   чтобы   малыш   принял   принцип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епления. Затем строим высокую и низкую, сравниваем и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ле предложите построить башню по образцу, как у мамы: зеленая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ышка,  потом  желтая,   потом   красная.  Постепенно  усложняйте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да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кладываем логические последовательности. Желтая, зеленая, ...,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еленая. Какая крышка пропущен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заика. Выкладываем из крышек цветочек, рыбку, облако, цифр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ыбалка. Кладем  крышки  в ведерко с водой  и вылавливаем их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ачком или большой лож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гра в Крестики-нолики. Расчерчиваем поле, берем крышки двух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ветов и игра гото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резаем  в  коробке  с  крышкой  отверстия  разного диаметра  и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сим малыша просунуть в них крышеч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ОЛЕЗНЫХ И ИНТЕРЕСНЫХ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АМ ИГР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48320" y="2895120"/>
            <a:ext cx="44956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пасибо за внимание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андрей\Desktop\фото велькрошки\240448_01222213488.jpg"/>
          <p:cNvPicPr/>
          <p:nvPr/>
        </p:nvPicPr>
        <p:blipFill>
          <a:blip r:embed="rId1"/>
          <a:stretch/>
        </p:blipFill>
        <p:spPr>
          <a:xfrm>
            <a:off x="2577960" y="560520"/>
            <a:ext cx="4840560" cy="3725640"/>
          </a:xfrm>
          <a:prstGeom prst="rect">
            <a:avLst/>
          </a:prstGeom>
          <a:ln w="0">
            <a:noFill/>
          </a:ln>
        </p:spPr>
      </p:pic>
      <p:pic>
        <p:nvPicPr>
          <p:cNvPr id="99" name="Text Placeholder 4" descr=""/>
          <p:cNvPicPr/>
          <p:nvPr/>
        </p:nvPicPr>
        <p:blipFill>
          <a:blip r:embed="rId2"/>
          <a:stretch/>
        </p:blipFill>
        <p:spPr>
          <a:xfrm>
            <a:off x="3184560" y="3124080"/>
            <a:ext cx="3537000" cy="336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0" descr=""/>
          <p:cNvPicPr/>
          <p:nvPr/>
        </p:nvPicPr>
        <p:blipFill>
          <a:blip r:embed="rId1"/>
          <a:stretch/>
        </p:blipFill>
        <p:spPr>
          <a:xfrm>
            <a:off x="954000" y="2438280"/>
            <a:ext cx="3861000" cy="3829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8" descr=""/>
          <p:cNvPicPr/>
          <p:nvPr/>
        </p:nvPicPr>
        <p:blipFill>
          <a:blip r:embed="rId2"/>
          <a:stretch/>
        </p:blipFill>
        <p:spPr>
          <a:xfrm rot="895800">
            <a:off x="5038200" y="2544840"/>
            <a:ext cx="3657600" cy="3618000"/>
          </a:xfrm>
          <a:prstGeom prst="rect">
            <a:avLst/>
          </a:prstGeom>
          <a:ln w="0">
            <a:noFill/>
          </a:ln>
        </p:spPr>
      </p:pic>
      <p:pic>
        <p:nvPicPr>
          <p:cNvPr id="103" name="Title 9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75438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Рисунок 4" descr=""/>
          <p:cNvPicPr/>
          <p:nvPr/>
        </p:nvPicPr>
        <p:blipFill>
          <a:blip r:embed="rId1"/>
          <a:stretch/>
        </p:blipFill>
        <p:spPr>
          <a:xfrm rot="906000">
            <a:off x="609120" y="2057400"/>
            <a:ext cx="4614840" cy="5091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андрей\Desktop\фото велькрошки\фото с велькрошкой\x_aa7e139f.jpg"/>
          <p:cNvPicPr/>
          <p:nvPr/>
        </p:nvPicPr>
        <p:blipFill>
          <a:blip r:embed="rId2"/>
          <a:stretch/>
        </p:blipFill>
        <p:spPr>
          <a:xfrm>
            <a:off x="5991120" y="3317760"/>
            <a:ext cx="2540160" cy="27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4525920" y="3808440"/>
            <a:ext cx="1762200" cy="1322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ля изготовления понадобится только застежка липучка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(контактная лента)- «ВЕЛЬКР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1"/>
          <a:stretch/>
        </p:blipFill>
        <p:spPr>
          <a:xfrm>
            <a:off x="622440" y="706320"/>
            <a:ext cx="80643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андрей\Desktop\фото велькрошки\фото с велькрошкой\igry_svoimi_rukami-velcroshka_konstruktor_07.jpg"/>
          <p:cNvPicPr/>
          <p:nvPr/>
        </p:nvPicPr>
        <p:blipFill>
          <a:blip r:embed="rId1"/>
          <a:stretch/>
        </p:blipFill>
        <p:spPr>
          <a:xfrm>
            <a:off x="228600" y="0"/>
            <a:ext cx="4537080" cy="20955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" descr=""/>
          <p:cNvPicPr/>
          <p:nvPr/>
        </p:nvPicPr>
        <p:blipFill>
          <a:blip r:embed="rId2"/>
          <a:stretch/>
        </p:blipFill>
        <p:spPr>
          <a:xfrm>
            <a:off x="5430960" y="6480"/>
            <a:ext cx="3060720" cy="1431720"/>
          </a:xfrm>
          <a:prstGeom prst="rect">
            <a:avLst/>
          </a:prstGeom>
          <a:ln w="0">
            <a:noFill/>
          </a:ln>
        </p:spPr>
      </p:pic>
      <p:pic>
        <p:nvPicPr>
          <p:cNvPr id="112" name="Текст 2" descr=""/>
          <p:cNvPicPr/>
          <p:nvPr/>
        </p:nvPicPr>
        <p:blipFill>
          <a:blip r:embed="rId3"/>
          <a:stretch/>
        </p:blipFill>
        <p:spPr>
          <a:xfrm>
            <a:off x="457200" y="2133720"/>
            <a:ext cx="81072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81360" y="2743200"/>
            <a:ext cx="3886200" cy="3189240"/>
          </a:xfrm>
          <a:prstGeom prst="rect">
            <a:avLst/>
          </a:prstGeom>
          <a:ln w="0">
            <a:noFill/>
          </a:ln>
        </p:spPr>
      </p:pic>
      <p:pic>
        <p:nvPicPr>
          <p:cNvPr id="115" name="W¥ل云玗İαЂÕØÚáÛ丫:Téxt Plàçèhòlðêr 表¥鷗字㌍_W 10" descr=""/>
          <p:cNvPicPr/>
          <p:nvPr/>
        </p:nvPicPr>
        <p:blipFill>
          <a:blip r:embed="rId2"/>
          <a:stretch/>
        </p:blipFill>
        <p:spPr>
          <a:xfrm>
            <a:off x="104760" y="152280"/>
            <a:ext cx="90392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10" descr=""/>
          <p:cNvPicPr/>
          <p:nvPr/>
        </p:nvPicPr>
        <p:blipFill>
          <a:blip r:embed="rId1"/>
          <a:stretch/>
        </p:blipFill>
        <p:spPr>
          <a:xfrm>
            <a:off x="2932200" y="3657600"/>
            <a:ext cx="3767040" cy="267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2139840" y="228600"/>
            <a:ext cx="45720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ЛАДШИЙ ДОШКОЛЬНЫЙ ВОЗРАС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2" descr="C:\Users\андрей\Desktop\фото велькрошки\фото с велькрошкой\P1020740.jpg"/>
          <p:cNvPicPr/>
          <p:nvPr/>
        </p:nvPicPr>
        <p:blipFill>
          <a:blip r:embed="rId1"/>
          <a:stretch/>
        </p:blipFill>
        <p:spPr>
          <a:xfrm>
            <a:off x="1363680" y="289548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андрей\Desktop\фото велькрошки\фото с велькрошкой\P1020741.jpg"/>
          <p:cNvPicPr/>
          <p:nvPr/>
        </p:nvPicPr>
        <p:blipFill>
          <a:blip r:embed="rId2"/>
          <a:stretch/>
        </p:blipFill>
        <p:spPr>
          <a:xfrm>
            <a:off x="487692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4T06:27:05Z</dcterms:created>
  <dc:creator>ПК1</dc:creator>
  <dc:description/>
  <dc:language>en-US</dc:language>
  <cp:lastModifiedBy>Учетная запись Майкрософт</cp:lastModifiedBy>
  <dcterms:modified xsi:type="dcterms:W3CDTF">2023-01-19T11:08:4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