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6.gif" ContentType="image/gif"/>
  <Override PartName="/ppt/media/image15.png" ContentType="image/png"/>
  <Override PartName="/ppt/media/image17.png" ContentType="image/png"/>
  <Override PartName="/ppt/media/image14.gif" ContentType="image/gif"/>
  <Override PartName="/ppt/media/image1.png" ContentType="image/png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8F6B-0DEB-42B4-961D-20A075264D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F1CF-7FD7-4ECB-B8EF-DEF6BA9C469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4BB4-B990-4CC1-865C-33931C0C87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25C-BF6F-48F7-BDFD-A950177B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44E-3E20-48F5-A529-0D7ED67B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045-5253-4B7A-B678-814BCC53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F59-0A3C-44F2-A3EB-C5799F3FF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38BD-95D5-4E34-A4F2-59D8B422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8939-3E79-4A75-BFE6-57314D78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739B3-86D9-4F2C-94EA-7E801A75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22B6-EB14-4390-A220-D82319C3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3C60-7BE8-4FEA-9CBC-7F737D9B1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0DFB-CE1F-4796-AB1A-FECDDA20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30AD-7382-4076-8F4A-4278368E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DB4-7037-421F-AE5F-3B40E59E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2D06-8DB1-43DA-92F4-D16930BA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79D50-4389-4DD2-B885-258F9613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61E9-DE96-48A9-94C5-291E36B9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0771-777D-4FE3-A429-4B0C5F28B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08A4-B8C5-4E86-9E66-E481E071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80CE5-7240-4D61-A9A5-F7B566E69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30CAB-3BC8-4043-B13E-C66726570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0194C-B476-41D4-9FC5-3FFBC094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93541-F63F-4ADC-B365-188BBF80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7F26D-F70D-4CD1-B73A-F2827769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6349-7A5E-4958-88FE-2EC70083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14B6-0ECE-45B7-9FAF-204C65E8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87D3-5D34-4629-931F-C704473E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6A48C-A664-45B6-B91D-F01F4772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A5177-AAB5-427E-A64B-C3CB161B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08109-F49A-446F-A9AF-734E5D24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96F2A-C183-40F1-85AE-1888FCC3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2E56-2FD6-41DB-93E6-C8F59FC4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FDB18-B52D-4318-B5DB-82BA64D4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0B830-AC54-4D4B-86E0-E8A4988B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00CAB-3AD8-40BC-9270-ED66D485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9CE-3A2B-4B25-B7EA-00004585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D3BE7-0DB3-481B-BC38-56EBAA23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B1469-C67F-4270-9447-9A542B18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97F3-F88F-4F61-988C-D2D6F53C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594B1-5536-4BD5-A26E-72DA5A43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BB305-D2E6-4D96-BA4B-6FA96F7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6531D-5D3A-49B4-A416-17708A4F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1B1E9-A916-4B84-820E-30A35E70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C710A-ADBD-4717-86EE-D357904A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B1C47-A8BF-4C37-9B9B-BECFC171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96048-30D5-4518-B95D-293B8D2BD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E81F-AC4E-4C65-A56C-79EE3A42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A3F0-56A9-4253-91A3-DD7FE2D0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C1CE9-E04B-4C40-ADD4-EB557421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D42D2-6FB9-4E49-A3CA-3968D295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7BE14-3380-4AF8-8401-13365124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D263-A46C-4F6B-B642-C42274F4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A47FD-15FA-45BF-BF3B-F40E9512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09BD6-7C35-46AE-A47B-FEA12D75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B359F-1A30-4018-AF1A-A22D8914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773FE-CD70-4573-9D27-B75047B6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C6366-0239-4916-AEB6-1C26FD96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1B7D-2329-4E63-9FC8-5E24353F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FFB46-14A9-4052-A074-F0F14AF4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22A-2A3D-4004-993F-E50E8A3D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EB5E-9F47-4183-A927-2F180EB4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0E06-D820-4DD3-959D-5F6094DC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B64B-898A-4B74-A5E3-4025242292B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4D51-82A1-4202-A777-F3F890AEFD2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FB11-6F49-4AAD-AD7B-80D906378EC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7C6E-2CB0-4216-AC00-08ABEA57367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2A13-9EB8-4F34-B283-B4DE1A4EC8A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4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440" y="1125000"/>
            <a:ext cx="8458200" cy="4970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Verdana"/>
              </a:rPr>
              <a:t>Будьте всегда  вежливы!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4" descr="MCj04375550000[1]"/>
          <p:cNvPicPr/>
          <p:nvPr/>
        </p:nvPicPr>
        <p:blipFill>
          <a:blip r:embed="rId1"/>
          <a:stretch/>
        </p:blipFill>
        <p:spPr>
          <a:xfrm>
            <a:off x="5940360" y="1763640"/>
            <a:ext cx="2664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14240" y="35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азеленеет старый пень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гда услыши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БРЫЙ ДЕ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альчик вежливый и развитый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Говорит, встречаясь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ДРАВСТВУЙ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4" descr="b23"/>
          <p:cNvPicPr/>
          <p:nvPr/>
        </p:nvPicPr>
        <p:blipFill>
          <a:blip r:embed="rId1"/>
          <a:stretch/>
        </p:blipFill>
        <p:spPr>
          <a:xfrm>
            <a:off x="357120" y="357192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10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10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714240" y="357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гда нас бранят за шалости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ы говори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ОСТИТЕ, ПОЖАЛУЙС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во Франции, и в Дани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 прощанье говоря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ДО СВ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Verdana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4" descr="b23"/>
          <p:cNvPicPr/>
          <p:nvPr/>
        </p:nvPicPr>
        <p:blipFill>
          <a:blip r:embed="rId1"/>
          <a:stretch/>
        </p:blipFill>
        <p:spPr>
          <a:xfrm>
            <a:off x="357120" y="3571920"/>
            <a:ext cx="2808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714240" y="356760"/>
            <a:ext cx="7772400" cy="6000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 algn="ct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се вежливые  слова хороши, когда человек  искренне, от  души желает человеку добра, здоровь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Рисунок 3" descr="cdolls66.gif"/>
          <p:cNvPicPr/>
          <p:nvPr/>
        </p:nvPicPr>
        <p:blipFill>
          <a:blip r:embed="rId1"/>
          <a:stretch/>
        </p:blipFill>
        <p:spPr>
          <a:xfrm>
            <a:off x="2286000" y="2928960"/>
            <a:ext cx="4714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7120" y="1981080"/>
            <a:ext cx="8501040" cy="44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182880" rIns="90000" tIns="91440" bIns="46800" anchor="t">
            <a:normAutofit fontScale="92000"/>
          </a:bodyPr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«Ничего не стоит так дёшево и не ценится так</a:t>
            </a:r>
            <a:r>
              <a:rPr b="0" i="1" lang="ru-RU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дорого, как вежливость».                </a:t>
            </a:r>
            <a:r>
              <a:rPr b="0" lang="ru-RU" sz="5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600" spc="-1" strike="noStrike">
                <a:solidFill>
                  <a:srgbClr val="000066"/>
                </a:solidFill>
                <a:latin typeface="Verdana"/>
              </a:rPr>
              <a:t>                  </a:t>
            </a:r>
            <a:r>
              <a:rPr b="0" lang="ru-RU" sz="5600" spc="-1" strike="noStrike">
                <a:solidFill>
                  <a:srgbClr val="000000"/>
                </a:solidFill>
                <a:latin typeface="Verdana"/>
              </a:rPr>
              <a:t>Сервантес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Picture 4" descr="MCj04374950000[1]"/>
          <p:cNvPicPr/>
          <p:nvPr/>
        </p:nvPicPr>
        <p:blipFill>
          <a:blip r:embed="rId1"/>
          <a:stretch/>
        </p:blipFill>
        <p:spPr>
          <a:xfrm>
            <a:off x="324000" y="0"/>
            <a:ext cx="1944360" cy="2205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MCj04375050000[1]"/>
          <p:cNvPicPr/>
          <p:nvPr/>
        </p:nvPicPr>
        <p:blipFill>
          <a:blip r:embed="rId2"/>
          <a:stretch/>
        </p:blipFill>
        <p:spPr>
          <a:xfrm>
            <a:off x="7164360" y="0"/>
            <a:ext cx="1682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9f2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26560" y="691920"/>
            <a:ext cx="7993080" cy="4824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Вежливый человек не причиняет  другому  неприятностей и обид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Вежливый человек всегда здоровается и прощается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Вежливый человек не отвечает грубостью на грубос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Вежливый человек приветлив и внимателен к людя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" descr="MCj04343830000[1]"/>
          <p:cNvPicPr/>
          <p:nvPr/>
        </p:nvPicPr>
        <p:blipFill>
          <a:blip r:embed="rId1"/>
          <a:stretch/>
        </p:blipFill>
        <p:spPr>
          <a:xfrm>
            <a:off x="5724360" y="4581360"/>
            <a:ext cx="1936800" cy="1895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MCj03980970000[1]"/>
          <p:cNvPicPr/>
          <p:nvPr/>
        </p:nvPicPr>
        <p:blipFill>
          <a:blip r:embed="rId2"/>
          <a:stretch/>
        </p:blipFill>
        <p:spPr>
          <a:xfrm>
            <a:off x="826920" y="5013360"/>
            <a:ext cx="181008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lvl="2" marL="785880" indent="-182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Verdana"/>
              </a:rPr>
              <a:t>Игра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660066"/>
                </a:solidFill>
                <a:latin typeface="Verdana"/>
              </a:rPr>
              <a:t>«Вежливо – невежливо»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Picture 4" descr="MCj03102400000[1]"/>
          <p:cNvPicPr/>
          <p:nvPr/>
        </p:nvPicPr>
        <p:blipFill>
          <a:blip r:embed="rId1"/>
          <a:stretch/>
        </p:blipFill>
        <p:spPr>
          <a:xfrm>
            <a:off x="6286680" y="4143240"/>
            <a:ext cx="1849320" cy="1220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MCj00887540000[1]"/>
          <p:cNvPicPr/>
          <p:nvPr/>
        </p:nvPicPr>
        <p:blipFill>
          <a:blip r:embed="rId2"/>
          <a:stretch/>
        </p:blipFill>
        <p:spPr>
          <a:xfrm>
            <a:off x="1357200" y="4286160"/>
            <a:ext cx="18003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MCj04377930000[1]"/>
          <p:cNvPicPr/>
          <p:nvPr/>
        </p:nvPicPr>
        <p:blipFill>
          <a:blip r:embed="rId1"/>
          <a:stretch/>
        </p:blipFill>
        <p:spPr>
          <a:xfrm>
            <a:off x="214200" y="5000760"/>
            <a:ext cx="1892520" cy="1635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785520" y="571320"/>
            <a:ext cx="8001000" cy="45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оздороваться при встрече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Толкнуть, не извинитьс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не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Помочь подняться, поднять упавшую вещ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                  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Кричать на урок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         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Verdana"/>
              </a:rPr>
              <a:t>невежли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4378010000[1]"/>
          <p:cNvPicPr/>
          <p:nvPr/>
        </p:nvPicPr>
        <p:blipFill>
          <a:blip r:embed="rId2"/>
          <a:stretch/>
        </p:blipFill>
        <p:spPr>
          <a:xfrm>
            <a:off x="6732720" y="5300640"/>
            <a:ext cx="19303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MCj04377930000[1]"/>
          <p:cNvPicPr/>
          <p:nvPr/>
        </p:nvPicPr>
        <p:blipFill>
          <a:blip r:embed="rId1"/>
          <a:stretch/>
        </p:blipFill>
        <p:spPr>
          <a:xfrm>
            <a:off x="214200" y="5000760"/>
            <a:ext cx="1892520" cy="1635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785880" y="571320"/>
            <a:ext cx="7772400" cy="45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покупке продавцу сказать спасиб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вежли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уступить место пожилому человек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           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невежли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6" descr="MCj04378010000[1]"/>
          <p:cNvPicPr/>
          <p:nvPr/>
        </p:nvPicPr>
        <p:blipFill>
          <a:blip r:embed="rId2"/>
          <a:stretch/>
        </p:blipFill>
        <p:spPr>
          <a:xfrm>
            <a:off x="6732720" y="5300640"/>
            <a:ext cx="19303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336600"/>
                </a:solidFill>
                <a:latin typeface="Verdana"/>
              </a:rPr>
              <a:t>Запомни!</a:t>
            </a:r>
            <a:endParaRPr b="1" lang="en-US" sz="7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14080" y="529920"/>
            <a:ext cx="39322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Здравствуй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Добрый ден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Доброе утр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Добрый вечер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До свида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Verdana"/>
              </a:rPr>
              <a:t>Извини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756320" y="529920"/>
            <a:ext cx="3930480" cy="4389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Благодар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Будьте добр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Если  вас  не затрудни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Прости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f2936"/>
                </a:solidFill>
                <a:latin typeface="Verdana"/>
              </a:rPr>
              <a:t>Пожалуй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6" descr="MCj04324170000[1]"/>
          <p:cNvPicPr/>
          <p:nvPr/>
        </p:nvPicPr>
        <p:blipFill>
          <a:blip r:embed="rId1"/>
          <a:stretch/>
        </p:blipFill>
        <p:spPr>
          <a:xfrm>
            <a:off x="3348000" y="5084640"/>
            <a:ext cx="20480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3" descr="2"/>
          <p:cNvPicPr/>
          <p:nvPr/>
        </p:nvPicPr>
        <p:blipFill>
          <a:blip r:embed="rId1"/>
          <a:stretch/>
        </p:blipFill>
        <p:spPr>
          <a:xfrm>
            <a:off x="2700360" y="1341360"/>
            <a:ext cx="4808520" cy="4869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0" name="Picture 3" descr="2"/>
          <p:cNvPicPr/>
          <p:nvPr/>
        </p:nvPicPr>
        <p:blipFill>
          <a:blip r:embed="rId2"/>
          <a:stretch/>
        </p:blipFill>
        <p:spPr>
          <a:xfrm>
            <a:off x="826920" y="2924280"/>
            <a:ext cx="230364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2"/>
          <p:cNvPicPr/>
          <p:nvPr/>
        </p:nvPicPr>
        <p:blipFill>
          <a:blip r:embed="rId3"/>
          <a:stretch/>
        </p:blipFill>
        <p:spPr>
          <a:xfrm>
            <a:off x="2700360" y="1341360"/>
            <a:ext cx="4808520" cy="4869000"/>
          </a:xfrm>
          <a:prstGeom prst="rect">
            <a:avLst/>
          </a:prstGeom>
          <a:ln w="0">
            <a:noFill/>
          </a:ln>
        </p:spPr>
      </p:pic>
      <p:sp>
        <p:nvSpPr>
          <p:cNvPr id="252" name="WordArt 5"/>
          <p:cNvSpPr txBox="1"/>
          <p:nvPr/>
        </p:nvSpPr>
        <p:spPr>
          <a:xfrm>
            <a:off x="1692360" y="333360"/>
            <a:ext cx="53276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        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6"/>
          <p:cNvSpPr txBox="1"/>
          <p:nvPr/>
        </p:nvSpPr>
        <p:spPr>
          <a:xfrm>
            <a:off x="1116000" y="1844640"/>
            <a:ext cx="73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чень хорошо поработали 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4" name="New Stories (Highway Blues).wma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5" name="wmpa186.wav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6" name="wmpa187.wav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7" name="wmpaud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2"/>
          <p:cNvPicPr/>
          <p:nvPr/>
        </p:nvPicPr>
        <p:blipFill>
          <a:blip r:embed="rId8"/>
          <a:stretch/>
        </p:blipFill>
        <p:spPr>
          <a:xfrm>
            <a:off x="4335480" y="1989000"/>
            <a:ext cx="4808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1f28"/>
                </a:solidFill>
                <a:latin typeface="Verdana"/>
              </a:rPr>
              <a:t>Игра «Вежливые слова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стает даже ледяная глыб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т слова тёплого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Verdana"/>
              </a:rPr>
              <a:t>              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СПАСИБ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Picture 4" descr="b23"/>
          <p:cNvPicPr/>
          <p:nvPr/>
        </p:nvPicPr>
        <p:blipFill>
          <a:blip r:embed="rId1"/>
          <a:stretch/>
        </p:blipFill>
        <p:spPr>
          <a:xfrm>
            <a:off x="6335640" y="3714840"/>
            <a:ext cx="2808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23-01-19T14:01:43Z</dcterms:modified>
  <cp:revision>30</cp:revision>
  <dc:subject/>
  <dc:title>PowerPoint Presentation</dc:title>
</cp:coreProperties>
</file>