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6.gif" ContentType="image/gif"/>
  <Override PartName="/ppt/media/image15.png" ContentType="image/png"/>
  <Override PartName="/ppt/media/image17.png" ContentType="image/png"/>
  <Override PartName="/ppt/media/image14.gif" ContentType="image/gif"/>
  <Override PartName="/ppt/media/image1.png" ContentType="image/pn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EEB8-B4EB-48BB-AADF-382A62745B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9BBC-E6EF-43F7-A09A-0B7D33B6D7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2075-1D04-456E-9557-D3599FEFEB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44C-C381-464C-89A7-A3963331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059-1089-46A8-9A77-1B5F9539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A66-B0C8-4C8B-8FD5-652C78CE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E1E-4C3A-4C33-88E8-A019C364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B895-6121-47C8-9B6E-15E32B61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DB59-2EFD-41FF-9ABD-67ED689A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DB6F-C6E3-41C1-B5E0-1803D37F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81D5-A563-4BB7-8C31-29BDEB55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D37C-8F1B-4B31-A747-6A86DF69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82E3-6377-4110-8551-AC900669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79A0-22EB-4792-8431-FCDAABCE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507-00B9-46DB-8810-BB3A0F14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A2A8-6165-4C4A-B72C-B677B5BE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8C80-4DAF-4E60-9D1C-7FD6483C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D682-A5FB-4EEB-8A4A-4E211646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E94D-B846-4D1B-8A7E-DEEDB7FE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9425-2745-4951-AB49-F9246F35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3C5F-16B3-478E-A9A2-F30410BE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1EA91-D510-4111-9B3A-0E3D6167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B9918-F424-49F7-8A8B-801EF57C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81A1-6097-4052-9A96-CBBBC216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23285-8F82-473B-A4CC-C4D61E05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B56-765F-47FF-BDEC-9423C953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3889-40B6-49F9-A0CA-E03B7D5A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1F52-EE59-4CC3-8369-545A34A0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B1AC7-04E6-4EDF-864F-0F311560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037F9-3D15-4F51-9B56-FCFFBC8D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015A8-92FC-4354-91E8-D3369484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5721-5B5E-48A7-924D-19D5FE3F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F478E-53BC-4CDA-AD2F-F6BDD8B5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994AA-7253-4707-BD95-593F948B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31F7C-FE1C-40EA-8636-5748CCFF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62C8C-E315-4DAE-A872-792FCF4A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3D5F-34AC-4641-B090-584BC49F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D6ABE-1CF7-4811-867C-25A2FCAF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1A2C2-5630-45DE-BE71-02ED7630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1BF57-2251-45E2-8B2A-6671347D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513AC-5437-4E3F-AA2F-4E17EF0E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D2D49-128F-41BC-A272-BF9FCB4E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44D79-8B03-464D-9FF2-B62BAE69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0836-E1AA-4B90-B936-260A6CA0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3AB14-7205-43D6-904C-08AE8C78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F96D3-AA5B-4248-AF09-C29D8A0A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6B832-A981-4FBE-9523-17759AFF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69D-C830-45D4-89E0-55E1C8A8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890F1-A665-42C2-9925-9BE96EA1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37909-31CB-4B6C-906F-7297B53D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16C5D-7937-42C2-8131-78AC1D07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F1BED-3617-45E6-ABAB-3C783952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DD46B-C45C-493C-8195-A16A2B58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AF169-0164-4D5D-B97C-68714903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19D3A-766C-486E-B1A3-AE49CEF5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EFCEC-EA1C-4F2D-B207-34E2F410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EC973-1C42-4F42-A38C-F48A2749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9955A-7708-4E7E-9610-260B100A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6DD-E513-46E7-A386-D3463381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54365-B830-41CF-AE2C-5FAB37C3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B2F-D683-4E5B-8927-9F74A017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A5B-4FAA-43BC-998C-C171430C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583-BEC0-4894-898A-07151971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41D7-9E32-4489-9358-B2894C4BDEE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1ADD-543C-4C62-BC99-E5234542687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AAE0-C4F5-4835-B117-33FB9F3E83A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62ED-C7CC-40EB-A4AA-7DB19B67751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6FC2-C7EB-400E-A68E-73831051D0A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440" y="1125000"/>
            <a:ext cx="8458200" cy="4970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Verdana"/>
              </a:rPr>
              <a:t>Будьте всегда  вежливы!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4" descr="MCj04375550000[1]"/>
          <p:cNvPicPr/>
          <p:nvPr/>
        </p:nvPicPr>
        <p:blipFill>
          <a:blip r:embed="rId1"/>
          <a:stretch/>
        </p:blipFill>
        <p:spPr>
          <a:xfrm>
            <a:off x="5940360" y="1763640"/>
            <a:ext cx="2664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714240" y="357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азеленеет старый п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гда услыши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Verdana"/>
              </a:rPr>
              <a:t>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ОБРЫЙ ДЕ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альчик вежливый и развиты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оворит, встречаясь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Verdana"/>
              </a:rPr>
              <a:t>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ДРАВСТВУЙ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4" descr="b23"/>
          <p:cNvPicPr/>
          <p:nvPr/>
        </p:nvPicPr>
        <p:blipFill>
          <a:blip r:embed="rId1"/>
          <a:stretch/>
        </p:blipFill>
        <p:spPr>
          <a:xfrm>
            <a:off x="357120" y="3571920"/>
            <a:ext cx="2808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714240" y="357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гда нас бранят за шал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ы говорим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Verdana"/>
              </a:rPr>
              <a:t>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ОСТИТЕ, ПОЖАЛУЙ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во Франции, и в Дани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 прощанье говоря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О СВ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4" descr="b23"/>
          <p:cNvPicPr/>
          <p:nvPr/>
        </p:nvPicPr>
        <p:blipFill>
          <a:blip r:embed="rId1"/>
          <a:stretch/>
        </p:blipFill>
        <p:spPr>
          <a:xfrm>
            <a:off x="357120" y="3571920"/>
            <a:ext cx="2808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1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14240" y="356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се вежливые  слова хороши, когда человек  искренне, от  души желает человеку добра, здоровь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Рисунок 3" descr="cdolls66.gif"/>
          <p:cNvPicPr/>
          <p:nvPr/>
        </p:nvPicPr>
        <p:blipFill>
          <a:blip r:embed="rId1"/>
          <a:stretch/>
        </p:blipFill>
        <p:spPr>
          <a:xfrm>
            <a:off x="2286000" y="2928960"/>
            <a:ext cx="4714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7120" y="1981080"/>
            <a:ext cx="8501040" cy="44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82880" rIns="90000" tIns="91440" bIns="46800" anchor="t">
            <a:normAutofit fontScale="92000"/>
          </a:bodyPr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«Ничего не стоит так дёшево и не ценится так</a:t>
            </a:r>
            <a:r>
              <a:rPr b="0" i="1" lang="ru-RU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дорого, как вежливость».                </a:t>
            </a:r>
            <a:r>
              <a:rPr b="0" lang="ru-RU" sz="5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000066"/>
                </a:solidFill>
                <a:latin typeface="Verdana"/>
              </a:rPr>
              <a:t>                  </a:t>
            </a:r>
            <a:r>
              <a:rPr b="0" lang="ru-RU" sz="5600" spc="-1" strike="noStrike">
                <a:solidFill>
                  <a:srgbClr val="000000"/>
                </a:solidFill>
                <a:latin typeface="Verdana"/>
              </a:rPr>
              <a:t>Сервантес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4" descr="MCj04374950000[1]"/>
          <p:cNvPicPr/>
          <p:nvPr/>
        </p:nvPicPr>
        <p:blipFill>
          <a:blip r:embed="rId1"/>
          <a:stretch/>
        </p:blipFill>
        <p:spPr>
          <a:xfrm>
            <a:off x="324000" y="0"/>
            <a:ext cx="1944360" cy="220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MCj04375050000[1]"/>
          <p:cNvPicPr/>
          <p:nvPr/>
        </p:nvPicPr>
        <p:blipFill>
          <a:blip r:embed="rId2"/>
          <a:stretch/>
        </p:blipFill>
        <p:spPr>
          <a:xfrm>
            <a:off x="7164360" y="0"/>
            <a:ext cx="1682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9f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560" y="691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Вежливый человек не причиняет  другому  неприятностей и оби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Вежливый человек всегда здоровается и прощает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Вежливый человек не отвечает грубостью на груб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Вежливый человек приветлив и внимателен к люд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" descr="MCj04343830000[1]"/>
          <p:cNvPicPr/>
          <p:nvPr/>
        </p:nvPicPr>
        <p:blipFill>
          <a:blip r:embed="rId1"/>
          <a:stretch/>
        </p:blipFill>
        <p:spPr>
          <a:xfrm>
            <a:off x="5724360" y="4581360"/>
            <a:ext cx="1936800" cy="1895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MCj03980970000[1]"/>
          <p:cNvPicPr/>
          <p:nvPr/>
        </p:nvPicPr>
        <p:blipFill>
          <a:blip r:embed="rId2"/>
          <a:stretch/>
        </p:blipFill>
        <p:spPr>
          <a:xfrm>
            <a:off x="826920" y="5013360"/>
            <a:ext cx="18100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lvl="2" marL="785880" indent="-182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Verdana"/>
              </a:rPr>
              <a:t>Игра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660066"/>
                </a:solidFill>
                <a:latin typeface="Verdana"/>
              </a:rPr>
              <a:t>«Вежливо – невежливо»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4" descr="MCj03102400000[1]"/>
          <p:cNvPicPr/>
          <p:nvPr/>
        </p:nvPicPr>
        <p:blipFill>
          <a:blip r:embed="rId1"/>
          <a:stretch/>
        </p:blipFill>
        <p:spPr>
          <a:xfrm>
            <a:off x="6286680" y="4143240"/>
            <a:ext cx="1849320" cy="1220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MCj00887540000[1]"/>
          <p:cNvPicPr/>
          <p:nvPr/>
        </p:nvPicPr>
        <p:blipFill>
          <a:blip r:embed="rId2"/>
          <a:stretch/>
        </p:blipFill>
        <p:spPr>
          <a:xfrm>
            <a:off x="1357200" y="4286160"/>
            <a:ext cx="18003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MCj04377930000[1]"/>
          <p:cNvPicPr/>
          <p:nvPr/>
        </p:nvPicPr>
        <p:blipFill>
          <a:blip r:embed="rId1"/>
          <a:stretch/>
        </p:blipFill>
        <p:spPr>
          <a:xfrm>
            <a:off x="214200" y="5000760"/>
            <a:ext cx="1892520" cy="1635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785520" y="571320"/>
            <a:ext cx="8001000" cy="45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Поздороваться при встрече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вежли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Толкнуть, не извинитьс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невежли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Помочь подняться, поднять упавшую вещ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                                                     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вежли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Кричать на урок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невежли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4378010000[1]"/>
          <p:cNvPicPr/>
          <p:nvPr/>
        </p:nvPicPr>
        <p:blipFill>
          <a:blip r:embed="rId2"/>
          <a:stretch/>
        </p:blipFill>
        <p:spPr>
          <a:xfrm>
            <a:off x="6732720" y="5300640"/>
            <a:ext cx="19303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MCj04377930000[1]"/>
          <p:cNvPicPr/>
          <p:nvPr/>
        </p:nvPicPr>
        <p:blipFill>
          <a:blip r:embed="rId1"/>
          <a:stretch/>
        </p:blipFill>
        <p:spPr>
          <a:xfrm>
            <a:off x="214200" y="5000760"/>
            <a:ext cx="1892520" cy="1635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785880" y="571320"/>
            <a:ext cx="7772400" cy="45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окупке продавцу сказать спасиб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вежли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уступить место пожилому челове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невежли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6" descr="MCj04378010000[1]"/>
          <p:cNvPicPr/>
          <p:nvPr/>
        </p:nvPicPr>
        <p:blipFill>
          <a:blip r:embed="rId2"/>
          <a:stretch/>
        </p:blipFill>
        <p:spPr>
          <a:xfrm>
            <a:off x="6732720" y="5300640"/>
            <a:ext cx="19303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6600"/>
                </a:solidFill>
                <a:latin typeface="Verdana"/>
              </a:rPr>
              <a:t>Запомни!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Verdana"/>
              </a:rPr>
              <a:t>Здравствуй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Verdana"/>
              </a:rPr>
              <a:t>Добрый ден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Verdana"/>
              </a:rPr>
              <a:t>Доброе утр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Verdana"/>
              </a:rPr>
              <a:t>Добрый вече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Verdana"/>
              </a:rPr>
              <a:t>До свида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Verdana"/>
              </a:rPr>
              <a:t>Извини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f2936"/>
                </a:solidFill>
                <a:latin typeface="Verdana"/>
              </a:rPr>
              <a:t>Благодар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f2936"/>
                </a:solidFill>
                <a:latin typeface="Verdana"/>
              </a:rPr>
              <a:t>Будьте добр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f2936"/>
                </a:solidFill>
                <a:latin typeface="Verdana"/>
              </a:rPr>
              <a:t>Если  вас  не затрудни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f2936"/>
                </a:solidFill>
                <a:latin typeface="Verdana"/>
              </a:rPr>
              <a:t>Прости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f2936"/>
                </a:solidFill>
                <a:latin typeface="Verdana"/>
              </a:rPr>
              <a:t>Пожалуй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6" descr="MCj04324170000[1]"/>
          <p:cNvPicPr/>
          <p:nvPr/>
        </p:nvPicPr>
        <p:blipFill>
          <a:blip r:embed="rId1"/>
          <a:stretch/>
        </p:blipFill>
        <p:spPr>
          <a:xfrm>
            <a:off x="3348000" y="5084640"/>
            <a:ext cx="20480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3" descr="2"/>
          <p:cNvPicPr/>
          <p:nvPr/>
        </p:nvPicPr>
        <p:blipFill>
          <a:blip r:embed="rId1"/>
          <a:stretch/>
        </p:blipFill>
        <p:spPr>
          <a:xfrm>
            <a:off x="2700360" y="1341360"/>
            <a:ext cx="4808520" cy="4869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Picture 3" descr="2"/>
          <p:cNvPicPr/>
          <p:nvPr/>
        </p:nvPicPr>
        <p:blipFill>
          <a:blip r:embed="rId2"/>
          <a:stretch/>
        </p:blipFill>
        <p:spPr>
          <a:xfrm>
            <a:off x="826920" y="2924280"/>
            <a:ext cx="2303640" cy="360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2"/>
          <p:cNvPicPr/>
          <p:nvPr/>
        </p:nvPicPr>
        <p:blipFill>
          <a:blip r:embed="rId3"/>
          <a:stretch/>
        </p:blipFill>
        <p:spPr>
          <a:xfrm>
            <a:off x="2700360" y="1341360"/>
            <a:ext cx="4808520" cy="4869000"/>
          </a:xfrm>
          <a:prstGeom prst="rect">
            <a:avLst/>
          </a:prstGeom>
          <a:ln w="0">
            <a:noFill/>
          </a:ln>
        </p:spPr>
      </p:pic>
      <p:sp>
        <p:nvSpPr>
          <p:cNvPr id="252" name="WordArt 5"/>
          <p:cNvSpPr txBox="1"/>
          <p:nvPr/>
        </p:nvSpPr>
        <p:spPr>
          <a:xfrm>
            <a:off x="1692360" y="333360"/>
            <a:ext cx="53276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        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6"/>
          <p:cNvSpPr txBox="1"/>
          <p:nvPr/>
        </p:nvSpPr>
        <p:spPr>
          <a:xfrm>
            <a:off x="1116000" y="1844640"/>
            <a:ext cx="73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чень хорошо поработали 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4" name="New Stories (Highway Blues).wma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wmpa186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6" name="wmpa187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wmpaud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2"/>
          <p:cNvPicPr/>
          <p:nvPr/>
        </p:nvPicPr>
        <p:blipFill>
          <a:blip r:embed="rId8"/>
          <a:stretch/>
        </p:blipFill>
        <p:spPr>
          <a:xfrm>
            <a:off x="4335480" y="1989000"/>
            <a:ext cx="4808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1f28"/>
                </a:solidFill>
                <a:latin typeface="Verdana"/>
              </a:rPr>
              <a:t>Игра «Вежливые слова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стает даже ледяная глыб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т слова тёплого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Verdana"/>
              </a:rPr>
              <a:t>      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СПАСИБ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b23"/>
          <p:cNvPicPr/>
          <p:nvPr/>
        </p:nvPicPr>
        <p:blipFill>
          <a:blip r:embed="rId1"/>
          <a:stretch/>
        </p:blipFill>
        <p:spPr>
          <a:xfrm>
            <a:off x="6335640" y="3714840"/>
            <a:ext cx="28083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23-01-19T14:01:43Z</dcterms:modified>
  <cp:revision>30</cp:revision>
  <dc:subject/>
  <dc:title>PowerPoint Presentation</dc:title>
</cp:coreProperties>
</file>