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9.wmf" ContentType="image/x-wmf"/>
  <Override PartName="/ppt/media/image11.png" ContentType="image/png"/>
  <Override PartName="/ppt/media/image18.wmf" ContentType="image/x-wmf"/>
  <Override PartName="/ppt/media/image1.png" ContentType="image/png"/>
  <Override PartName="/ppt/media/image14.gif" ContentType="image/gif"/>
  <Override PartName="/ppt/media/image2.png" ContentType="image/png"/>
  <Override PartName="/ppt/media/image9.jpeg" ContentType="image/jpeg"/>
  <Override PartName="/ppt/media/image5.gif" ContentType="image/gif"/>
  <Override PartName="/ppt/media/image10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5.gif" ContentType="image/gif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307-B9CF-47B4-BB79-FBD91A3E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306-94C9-40A9-BEC8-89534542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1E8-4C2D-40DE-B095-EE00D359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90D-B177-40F8-9C32-18146338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4F50-2292-43B7-9A9F-1EE4BACE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4F12-56E2-4211-8E90-9570787C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05AD-86D2-4360-A7C9-151720DC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BE2B-10CB-4D4A-9B13-E3ABB3ED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0898-AA4C-47DA-A21C-1F3BF3DE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7F41-022B-4226-B50B-B8A9E607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E46C-5CE1-4D7C-B12F-386BBA42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2E5-ED5A-4DBA-A661-5F370E0F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3FFB-7FA2-49C9-8E70-05F3DC41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943F-70A8-4919-B159-EE6D74C6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403C-F022-457C-ABEA-7A1FFC35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5A06-4098-4ADF-B3FB-2A5DE9AC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90A1-EA06-4D9C-BB3A-B79DEA61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2451-A83C-45C5-B96E-D0756ADC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2D4D-F99F-4A42-8875-B4EC1C8D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0BE1-7FC7-4067-9C06-5500ED39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6EE9-6F95-4203-8C48-0C1BB5B3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62AC-329E-439B-827F-6E88549A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1AE-CA52-49D2-8166-9D24D49C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0BA0-FB2F-4BD2-BE30-28C1AF1C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2AA5-75B5-4243-A0C6-FFB3A8BB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E3A4-5A60-4185-AC5F-C3FAABD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EEFF-3238-44AE-8918-3A90CAE1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2020-A9D5-46A1-B872-BFD0D472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545E-3D69-4C0B-A208-9C4D8A14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81A1-6DA1-4160-9748-72DE6E2D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1F81-305B-4EF4-AD8A-9582A917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9871-C1F5-47F6-8871-7AD3551F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27F4-D2C3-4B19-B7D6-C13C08C2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821-C68F-44A2-B3EE-01ABD2BF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13319-51C3-4B1C-8E0C-1DE2701F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9881-C7EE-4E41-8DFF-38DFA805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8A7C-92CA-4463-8584-5A7F5738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9F200-657D-4F1B-8ACF-97C1F6D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7679-4FD6-42A6-9287-FACF8011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2FFE-8E41-44F6-8BD3-50A350BD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CE3A4-744A-4BE8-96A7-5F53F866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4784-26D4-4CC6-BA78-86A7F5A0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01F6-11A7-4366-998C-09662EF9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F57A-DE24-499E-A266-7F5C407E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8A3-8DBA-4312-94D1-BEA89609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902E3-4201-4A05-9274-F2DFB43D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1BA7-C144-407A-89E0-02E0444F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E95F1-1B9E-41E1-B546-ADDFED4D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A6EC-A0D2-4670-A425-7A71412B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A6FD1-3AF1-41E8-A6C6-D4E00FE0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A36E-352E-48DD-8B65-CF63D76A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D37F-7DED-43E1-9497-08FE9E1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BF20F-C883-4B06-BB7D-B15D7E35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5A9E6-FADF-4016-8E8D-0598D649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4C3B-8362-4AE7-8781-72F830FA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597-2037-4164-A5D8-C8F3733B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D1378-9373-44DB-88A7-E0C6F4DF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7DD6-5771-4780-82A1-ED81B4AB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D540-8E6E-4D27-9D6A-935EB7E0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1511A-A151-4701-8DF5-AD3A6DDE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603E0-BB70-40E9-A7E8-C26409E4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7D39F-8100-4708-8CE0-AE9B3022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3BE85-1D25-420D-8E0E-A9814766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9772-FFE6-4B72-9FE3-66F5076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D751-1C8D-4823-AC62-88EAFA60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F1C8C-CB34-4FC5-96F1-92DA11D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112-F99C-4B80-A08E-FAC5E6F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6BEB4-9126-400D-AA97-AC9B015B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4AD46-77A6-4925-B7AC-211EC062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1E8A9-A20F-4A0D-9291-59ACC2D7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7F8-85B3-4E08-A4D0-7A79FE7C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D0B-DAB0-4F6C-9E7F-6D5FE08C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781F-EE88-4E17-B615-246BD16069F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E01D-73B0-4897-94D7-909FD2A321C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45F-5FD1-4D14-BFDD-4AB915EDDB2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0E81-BAA1-4B30-B679-F91074FAE2A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D3E3-C02D-49B7-A8AD-791E940D72E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C901-125E-4F4B-8C27-66823C9308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83f05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783f05"/>
                </a:solidFill>
                <a:latin typeface="Verdana"/>
              </a:rPr>
              <a:t>собрание </a:t>
            </a:r>
            <a:br>
              <a:rPr sz="4500"/>
            </a:b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Verdana"/>
              </a:rPr>
              <a:t>«Критерии оценок во 2 классе.   Как к ним относиться.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07f09"/>
                </a:solidFill>
                <a:latin typeface="Verdana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Как воспринимать  отметки ребёнка? </a:t>
            </a:r>
            <a:br>
              <a:rPr sz="3200"/>
            </a:b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3200"/>
            </a:br>
            <a:br>
              <a:rPr sz="4100"/>
            </a:br>
            <a:br>
              <a:rPr sz="41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766f"/>
                </a:solidFill>
                <a:latin typeface="Verdana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Verdana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848484"/>
                </a:solidFill>
                <a:uFillTx/>
                <a:latin typeface="Verdana"/>
              </a:rPr>
              <a:t>врать и изворачиваться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Verdana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840" y="701640"/>
            <a:ext cx="8381880" cy="3641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Рисунок 4" descr="24.jpg"/>
          <p:cNvPicPr/>
          <p:nvPr/>
        </p:nvPicPr>
        <p:blipFill>
          <a:blip r:embed="rId1"/>
          <a:stretch/>
        </p:blipFill>
        <p:spPr>
          <a:xfrm>
            <a:off x="533520" y="4572000"/>
            <a:ext cx="106668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33440" y="36792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59000"/>
          </a:bodyPr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848484"/>
                </a:solidFill>
                <a:latin typeface="Verdana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4" descr="j0336396"/>
          <p:cNvPicPr/>
          <p:nvPr/>
        </p:nvPicPr>
        <p:blipFill>
          <a:blip r:embed="rId1"/>
          <a:stretch/>
        </p:blipFill>
        <p:spPr>
          <a:xfrm>
            <a:off x="7391520" y="299880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Рисунок16"/>
          <p:cNvPicPr/>
          <p:nvPr/>
        </p:nvPicPr>
        <p:blipFill>
          <a:blip r:embed="rId2"/>
          <a:stretch/>
        </p:blipFill>
        <p:spPr>
          <a:xfrm>
            <a:off x="7550280" y="3505320"/>
            <a:ext cx="121896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??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4240" y="2332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Verdana"/>
              </a:rPr>
              <a:t>Хорошее, как и плохое, запоминается ребёнком надолго и его хочется    повт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усть ребёнок получает хорошую  отметку ради того, чтобы его             отметили. Вскоре это стан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ривычк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j0178301"/>
          <p:cNvPicPr/>
          <p:nvPr/>
        </p:nvPicPr>
        <p:blipFill>
          <a:blip r:embed="rId2"/>
          <a:stretch/>
        </p:blipFill>
        <p:spPr>
          <a:xfrm rot="813000">
            <a:off x="7311960" y="3144600"/>
            <a:ext cx="154944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?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e69ca4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429680" cy="3124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64" name="Прямоугольник 4"/>
          <p:cNvSpPr/>
          <p:nvPr/>
        </p:nvSpPr>
        <p:spPr>
          <a:xfrm>
            <a:off x="4933800" y="4997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743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Глобус"/>
          <p:cNvPicPr/>
          <p:nvPr/>
        </p:nvPicPr>
        <p:blipFill>
          <a:blip r:embed="rId2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ак правильно помогать ребёнку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320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327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335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349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354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49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57320" y="1519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45f07"/>
                </a:solidFill>
                <a:latin typeface="Verdana"/>
              </a:rPr>
              <a:t>«Как помочь ребенку выполнить домашнее              задание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тм выполнения домашнего задания               индивидуален для каждого ребенка.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5" descr="р19"/>
          <p:cNvPicPr/>
          <p:nvPr/>
        </p:nvPicPr>
        <p:blipFill>
          <a:blip r:embed="rId1"/>
          <a:stretch/>
        </p:blipFill>
        <p:spPr>
          <a:xfrm>
            <a:off x="7467480" y="4807080"/>
            <a:ext cx="167652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надо помнить 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мните об этом!!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5120" y="5335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Научить рёбёнка самостоятельно  учиться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87952"/>
                </a:solidFill>
                <a:latin typeface="Verdana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87952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Verdana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Verdana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Verdana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Verdana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Verdana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1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3232"/>
                    </a:gs>
                    <a:gs pos="100000">
                      <a:srgbClr val="f07f09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3232"/>
                  </a:gs>
                  <a:gs pos="100000">
                    <a:srgbClr val="f07f09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85" name="Picture 3" descr="j0305589[1]"/>
          <p:cNvPicPr/>
          <p:nvPr/>
        </p:nvPicPr>
        <p:blipFill>
          <a:blip r:embed="rId1"/>
          <a:stretch/>
        </p:blipFill>
        <p:spPr>
          <a:xfrm>
            <a:off x="1595520" y="1841400"/>
            <a:ext cx="1762200" cy="1703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pc4</cp:lastModifiedBy>
  <dcterms:modified xsi:type="dcterms:W3CDTF">2023-01-19T18:43:29Z</dcterms:modified>
  <cp:revision>85</cp:revision>
  <dc:subject/>
  <dc:title>PowerPoint Template</dc:title>
</cp:coreProperties>
</file>