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9.wmf" ContentType="image/x-wmf"/>
  <Override PartName="/ppt/media/image11.png" ContentType="image/png"/>
  <Override PartName="/ppt/media/image18.wmf" ContentType="image/x-wmf"/>
  <Override PartName="/ppt/media/image1.png" ContentType="image/png"/>
  <Override PartName="/ppt/media/image14.gif" ContentType="image/gif"/>
  <Override PartName="/ppt/media/image2.png" ContentType="image/png"/>
  <Override PartName="/ppt/media/image9.jpeg" ContentType="image/jpeg"/>
  <Override PartName="/ppt/media/image5.gif" ContentType="image/gif"/>
  <Override PartName="/ppt/media/image10.gif" ContentType="image/gif"/>
  <Override PartName="/ppt/media/image17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5.gif" ContentType="image/gif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053-F56C-4F31-90DE-190D9A2F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1E2-7DD2-4071-A92F-74CA0C6B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EAD-C276-4F38-BFDA-32B91AD0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F21-C530-48CA-990B-9FF91CD9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4EAD-6679-462E-8C9C-8A52008E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245D-ACE5-49F9-B221-BB4EDCCD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2518-7D53-4E91-99CC-DBC1C1C2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F86E-0B01-41A5-B492-754BCA5F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A7F9-67F8-49A5-9BA2-73E77BEA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719E-5AEE-4E92-92AC-07AB5DEE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C3AC-CC8B-4C91-A266-4B6D73AB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EF5-833D-4293-9CF9-EC8B9DF1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AE9B-7C5C-4072-ABC8-3F5D4E5B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081D-B172-46A0-A677-4622215D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A84B-2168-4F8C-A69F-B74ECDB1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FE92-40A1-424A-9D89-625CE576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F5AA-406D-47A5-B512-F4F2164F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06B8B-226C-4068-99F2-11719508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32F8-844E-46E7-86C6-3E89C35C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0B540-9B0E-4F9E-A7BF-45BB0496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0CFA4-0106-4070-8FDD-201BC55F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5FF8-D386-4F41-85D8-E821E1AD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734-6EA8-49A7-8EC1-6D085503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9647A-1728-4FB9-86C2-B7683445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E1E5-E9FF-4967-8C28-AD684F38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AB29-FBAB-4111-B3FA-4CEA0CE5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FFC9-BA89-473B-96A2-77317693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3088-27AB-4F3F-8829-D32790B1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0B86-61CE-4522-97E8-1AF5B7B2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FB90-538F-4C6D-B29F-33E002F4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5E395-350B-4D47-AFC7-B925AC5C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3DA8B-7111-4393-8643-8C9B2B64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9186D-4CE3-4C05-9E91-E9EA2E84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8F9-B3D9-46DE-9E4D-49BECE5C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D4D05-DD4C-40C0-A534-C9CFD587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F07FA-D5ED-4A25-851C-71779E71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76051-760D-4DAB-90A3-CCD529E9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2118E-000E-4C76-B72B-C3D7AD4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6217B-129B-4255-9FD9-1951505F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81D68-504C-42D7-A0B4-23043C92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F28C-A316-449E-98AE-D4BA0275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C88A4-7708-40F4-BAE9-9D4B0979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BB24B-1E0E-4FCE-8CA2-AD657181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5FCA2-B430-4FDE-BE5D-0A19D2BC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5E8-6347-454E-A58C-A0B91C5B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DC352-7979-47ED-BE2D-7455558A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ACCFD-5016-4A08-A8AE-9E3BD861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6989E-7444-4905-8FA4-3EA0E40F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3F80C-9294-4BAE-A40D-FFFFDEFF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D3053-AC87-43C4-A11B-7CFCE9FE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008BB-C446-416F-B48C-9760B1B4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15854-2BDD-4A5A-9523-8D178803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7761D-223F-4252-AF9B-5707CF5B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0ADA9-94F2-4576-A9BC-4FB7CE5C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9DB1D-010E-4CC1-96AC-8FB000A5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889-2302-49DD-910D-2829412F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31B3-BA12-4EB5-824C-22F6CDD0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6EE0D-9D47-46B9-B8D0-B752E0D3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E7AEF-0168-473A-90F8-E1C03D20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3F793-5445-4A73-939E-DF10C04A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A73BA-FDF0-4B7A-96FE-257B4FDE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C4BA0-6E7E-47C8-8D65-FE946B37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75699-4254-4AA8-A40E-7B075CFC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6CFE6-5FB6-4384-9295-BC17C781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5452A-3279-46FA-803D-8F0E2E7E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A1FED-6287-4770-A052-F83DE583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EAF-41A7-46F0-B2DD-D617B72C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6D9B2-3B87-4ECD-8F42-4ED1959C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9000C-700F-40C8-B544-00F232AA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0094E-4ADF-4E99-ACE1-117EB9EB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0FB-42F9-4EA3-AEFD-76C4FAC0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946-EB31-433B-B090-704C519B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C4BD-38B1-4FF9-BE16-DDCC42ED4B8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9DEA-EE34-4711-BF06-38CE1A51DD7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FA9D-B213-4A5D-B0E0-66EEF611D0C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5323-4440-4486-9251-ADFEE9CE33F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A265-29A9-4CD6-B8B9-9D57ECF7E97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924B-CEDC-44DF-A035-3FA150A5BE1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83f05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783f05"/>
                </a:solidFill>
                <a:latin typeface="Verdana"/>
              </a:rPr>
              <a:t>собрание </a:t>
            </a:r>
            <a:br>
              <a:rPr sz="4500"/>
            </a:b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Verdana"/>
              </a:rPr>
              <a:t>«Критерии оценок во 2 классе.   Как к ним относиться.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07f09"/>
                </a:solidFill>
                <a:latin typeface="Verdana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Как воспринимать  отметки ребёнка? </a:t>
            </a:r>
            <a:br>
              <a:rPr sz="3200"/>
            </a:b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3200"/>
            </a:br>
            <a:br>
              <a:rPr sz="4100"/>
            </a:br>
            <a:br>
              <a:rPr sz="41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766f"/>
                </a:solidFill>
                <a:latin typeface="Verdana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Verdana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848484"/>
                </a:solidFill>
                <a:uFillTx/>
                <a:latin typeface="Verdana"/>
              </a:rPr>
              <a:t>врать и изворачиваться</a:t>
            </a: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Verdana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02840" y="701640"/>
            <a:ext cx="8381880" cy="3641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8484"/>
                </a:solidFill>
                <a:latin typeface="Verdana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Рисунок 4" descr="24.jpg"/>
          <p:cNvPicPr/>
          <p:nvPr/>
        </p:nvPicPr>
        <p:blipFill>
          <a:blip r:embed="rId1"/>
          <a:stretch/>
        </p:blipFill>
        <p:spPr>
          <a:xfrm>
            <a:off x="533520" y="4572000"/>
            <a:ext cx="106668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33440" y="36792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59000"/>
          </a:bodyPr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848484"/>
                </a:solidFill>
                <a:latin typeface="Verdana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4" descr="j0336396"/>
          <p:cNvPicPr/>
          <p:nvPr/>
        </p:nvPicPr>
        <p:blipFill>
          <a:blip r:embed="rId1"/>
          <a:stretch/>
        </p:blipFill>
        <p:spPr>
          <a:xfrm>
            <a:off x="7391520" y="299880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Рисунок16"/>
          <p:cNvPicPr/>
          <p:nvPr/>
        </p:nvPicPr>
        <p:blipFill>
          <a:blip r:embed="rId2"/>
          <a:stretch/>
        </p:blipFill>
        <p:spPr>
          <a:xfrm>
            <a:off x="7550280" y="3505320"/>
            <a:ext cx="121896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относиться к отметкам ребёнка???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4240" y="2332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Verdana"/>
              </a:rPr>
              <a:t>Хорошее, как и плохое, запоминается ребёнком надолго и его хочется    повт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Пусть ребёнок получает хорошую  отметку ради того, чтобы его             отметили. Вскоре это стан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848484"/>
                </a:solidFill>
                <a:latin typeface="Verdana"/>
              </a:rPr>
              <a:t>привычк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j0178301"/>
          <p:cNvPicPr/>
          <p:nvPr/>
        </p:nvPicPr>
        <p:blipFill>
          <a:blip r:embed="rId2"/>
          <a:stretch/>
        </p:blipFill>
        <p:spPr>
          <a:xfrm rot="813000">
            <a:off x="7311960" y="3144600"/>
            <a:ext cx="1549440" cy="14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?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e69ca4"/>
          </a:solidFill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429680" cy="3124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64" name="Прямоугольник 4"/>
          <p:cNvSpPr/>
          <p:nvPr/>
        </p:nvSpPr>
        <p:spPr>
          <a:xfrm>
            <a:off x="4933800" y="4997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743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. Кип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Глобус"/>
          <p:cNvPicPr/>
          <p:nvPr/>
        </p:nvPicPr>
        <p:blipFill>
          <a:blip r:embed="rId2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ак правильно помогать ребёнку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320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327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335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349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354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49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57320" y="1519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45f07"/>
                </a:solidFill>
                <a:latin typeface="Verdana"/>
              </a:rPr>
              <a:t>«Как помочь ребенку выполнить домашнее              задание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итм выполнения домашнего задания               индивидуален для каждого ребенка.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5" descr="р19"/>
          <p:cNvPicPr/>
          <p:nvPr/>
        </p:nvPicPr>
        <p:blipFill>
          <a:blip r:embed="rId1"/>
          <a:stretch/>
        </p:blipFill>
        <p:spPr>
          <a:xfrm>
            <a:off x="7467480" y="4807080"/>
            <a:ext cx="167652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то надо помнить 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мните об этом!!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95120" y="5335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48484"/>
                </a:solidFill>
                <a:latin typeface="Verdana"/>
              </a:rPr>
              <a:t>Научить рёбёнка самостоятельно  учиться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48484"/>
                </a:solidFill>
                <a:latin typeface="Verdana"/>
              </a:rPr>
              <a:t>  </a:t>
            </a:r>
            <a:r>
              <a:rPr b="1" i="1" lang="ru-RU" sz="3600" spc="-1" strike="noStrike">
                <a:solidFill>
                  <a:srgbClr val="848484"/>
                </a:solidFill>
                <a:latin typeface="Verdana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87952"/>
                </a:solidFill>
                <a:latin typeface="Verdana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87952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Verdana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Verdana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Verdana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Verdana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Verdana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1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txBody>
          <a:bodyPr lIns="182880" tIns="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3232"/>
                    </a:gs>
                    <a:gs pos="100000">
                      <a:srgbClr val="f07f09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3232"/>
                  </a:gs>
                  <a:gs pos="100000">
                    <a:srgbClr val="f07f09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385" name="Picture 3" descr="j0305589[1]"/>
          <p:cNvPicPr/>
          <p:nvPr/>
        </p:nvPicPr>
        <p:blipFill>
          <a:blip r:embed="rId1"/>
          <a:stretch/>
        </p:blipFill>
        <p:spPr>
          <a:xfrm>
            <a:off x="1595520" y="1841400"/>
            <a:ext cx="1762200" cy="1703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484"/>
                </a:solidFill>
                <a:latin typeface="Verdana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Verdana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8484"/>
                </a:solidFill>
                <a:latin typeface="Verdana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pc4</cp:lastModifiedBy>
  <dcterms:modified xsi:type="dcterms:W3CDTF">2023-01-19T18:43:29Z</dcterms:modified>
  <cp:revision>85</cp:revision>
  <dc:subject/>
  <dc:title>PowerPoint Template</dc:title>
</cp:coreProperties>
</file>