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3.gif" ContentType="image/gif"/>
  <Override PartName="/ppt/media/image16.jpeg" ContentType="image/jpeg"/>
  <Override PartName="/ppt/media/image8.gif" ContentType="image/gif"/>
  <Override PartName="/ppt/media/image19.wmf" ContentType="image/x-wmf"/>
  <Override PartName="/ppt/media/image11.png" ContentType="image/png"/>
  <Override PartName="/ppt/media/image18.wmf" ContentType="image/x-wmf"/>
  <Override PartName="/ppt/media/image1.png" ContentType="image/png"/>
  <Override PartName="/ppt/media/image14.gif" ContentType="image/gif"/>
  <Override PartName="/ppt/media/image2.png" ContentType="image/png"/>
  <Override PartName="/ppt/media/image9.jpeg" ContentType="image/jpeg"/>
  <Override PartName="/ppt/media/image5.gif" ContentType="image/gif"/>
  <Override PartName="/ppt/media/image10.gif" ContentType="image/gif"/>
  <Override PartName="/ppt/media/image17.jpeg" ContentType="image/jpeg"/>
  <Override PartName="/ppt/media/image3.png" ContentType="image/png"/>
  <Override PartName="/ppt/media/image4.png" ContentType="image/png"/>
  <Override PartName="/ppt/media/image6.gif" ContentType="image/gif"/>
  <Override PartName="/ppt/media/image15.gif" ContentType="image/gif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1022-059E-45F4-983A-E34F3CC58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A7AA-456B-447E-9066-10398D257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C947-018B-414D-A630-08F274D47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76DD-AF2C-4FB3-88E4-31E3B7787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61E2A-C3A2-45AE-BCD1-B803AD541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D412B-4274-4290-A6FB-7FE9495AB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BA98E-C556-42AB-B504-CB89EE762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0CA11-8174-43E5-A3F6-C2D2F363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77D0E-83E2-44CD-80D3-578CD71B0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6818D-FDBF-4DE4-8718-41E25FD70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94FB1-C5A1-4C32-9C05-1658C1BC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228B-EBC9-4E8D-8D47-450A891F1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80C23-95FC-4686-A234-8311DC0A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62BA2-9A14-4F9B-80F3-E79E2CF4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57F8F-14AE-47F1-BE8E-CBC7E7E5A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C4611-2FAE-4DB4-8BFF-A459E6D50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2EA03-9D25-43A0-AE61-E3DA7289D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5B7F3-50CD-456F-8EDC-E70918B3A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0457C-5046-4F4A-A635-1573FA594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0544C-E01D-4DFF-89B6-6FA7D6596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B60DF-7987-4088-AC3A-4114FD9CF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B7617-D69F-4CCD-A931-E4CD20006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9F20-5E1D-4597-B00C-0DB9A1101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FE28A-941E-41D6-850B-DB91424EA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C3859-4567-4B95-B341-3DC86B66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A7E51-43E7-48BF-96F2-02B4E525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07F5D-C494-481E-A5B8-19F46D37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9628A-DC58-4AA6-BDC0-E677E4CF5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60F73-D2F5-435D-A94D-170F2ABF3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C8CE3-6301-489F-B979-DEDC5C355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A2EB4-B79C-4F81-8830-F9A4BA65E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A9CBD-9045-4A68-9AE5-45EE3DE46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45C7B-DAC0-4772-AA45-2A4C8F5B8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9241-73E9-4DD9-9010-99BDABF3D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B61B2-DDF1-41CC-9ADC-D0D37CFDF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8DDF8-8C9B-496B-BCCA-424FD8B3D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34067-DB81-4D4F-B272-0F19EE4F9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A3AFE-4B5A-4242-88C9-2ADA03C0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8FD37-4725-40EE-B031-73F1A300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55507-C8A5-4C93-88E6-C76A62F5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1A797-F6D4-4BF3-8D8A-290229AF2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C53C2-E492-4190-9178-A7CEE7687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05683-AC84-44ED-BA0C-FEFC238C3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0D13B-1ADB-4D16-A0ED-AECEE91BC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7A4E-B6B1-435D-AACD-C0F20EDF0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1C3A9-50DC-432C-8A51-A9F6B2833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31102-FDC3-4352-AF2A-69CDA750F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42333-0A36-4D96-9CBC-E33A8113F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39AA6-72ED-4B47-8955-1775A80C2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0D20A-8714-47A7-A939-24F18A25E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C02C2-6419-4120-A56F-EF469326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0951C-1454-4D9A-A93D-F40F7002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2B8FC-56E7-489C-AF47-C9F1DF9C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10AC8-B6B5-444E-A41D-768A33E9C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3C80D-E493-4BFA-BE3F-695CECF7B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65AB-CBDE-4065-9861-48E6EA760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541AF-78C3-4189-9F41-E3E8B0388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F38E6-A0F0-4482-ADA2-18F869857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5EFDB-1125-42B4-9917-3C24CE441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F325C-293B-44E9-BD08-9306A9987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EED71-5366-4581-809A-5F2B809E9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4F084-A32C-40BE-AD73-C516DDD7C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FEEBF-88D3-48E7-9FDA-3DE16A86C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700AD-6E1B-4611-94B1-C483A1D1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D3EF0-66FD-4442-9739-53D286ED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BF6027-C053-4999-A275-0B3373BE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E423-40B5-4C8B-A677-B050243F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D863A-1820-4A13-8C65-928EDA6D2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5C210-5FC7-4E3B-83B0-320766B17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7EC1D-92BB-4530-BF8D-2B65A004E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7C82-4E81-4E78-BFE5-3CC2CDB6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70B8-09BF-4E07-9A94-6DD1F246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3C6E3-AD30-4307-9AED-1B85AA3623CB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45DDC-20A6-4468-9B21-A71EA5438C75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6CF4C-498B-4FEC-B758-EAF623223635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1F60D-DDA2-48E6-A6DE-E657F6815A1B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A521C-3ED8-48BA-9BDA-A4C9FC3927F2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3F3F4-F23A-4B69-A65B-23D41EA8199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6019920" cy="2210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783f05"/>
                </a:solidFill>
                <a:latin typeface="Verdana"/>
              </a:rPr>
              <a:t>Родительское </a:t>
            </a:r>
            <a:br>
              <a:rPr sz="4500"/>
            </a:br>
            <a:r>
              <a:rPr b="1" lang="ru-RU" sz="4500" spc="-1" strike="noStrike">
                <a:solidFill>
                  <a:srgbClr val="783f05"/>
                </a:solidFill>
                <a:latin typeface="Verdana"/>
              </a:rPr>
              <a:t>собрание </a:t>
            </a:r>
            <a:br>
              <a:rPr sz="4500"/>
            </a:b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2971800"/>
            <a:ext cx="8153280" cy="22096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93300"/>
                </a:solidFill>
                <a:latin typeface="Verdana"/>
              </a:rPr>
              <a:t>Тема: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2060"/>
                </a:solidFill>
                <a:latin typeface="Verdana"/>
              </a:rPr>
              <a:t>«Критерии оценок во 2 классе.   Как к ним относиться.»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АТЕМАТИ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6840" y="12193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Verdana"/>
              </a:rPr>
              <a:t>Комбинированная контрольная работ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(1 задача, примеры и задание другого вида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«5» 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- вся работа выполнена безошибочно и нет исправлений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«4» 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- допущены 1-2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Verdana"/>
              </a:rPr>
              <a:t>«3» 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- допущены ошибки в ходе решения задачи при правильном выполнении всех заданий </a:t>
            </a:r>
            <a:r>
              <a:rPr b="1" i="1" lang="ru-RU" sz="2400" spc="-1" strike="noStrike">
                <a:solidFill>
                  <a:srgbClr val="002060"/>
                </a:solidFill>
                <a:latin typeface="Verdana"/>
              </a:rPr>
              <a:t>или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 допущены 3-4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Verdana"/>
              </a:rPr>
              <a:t>«2» 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- допущена ошибка в ходе решения задачи и хотя бы одна вычислительная ошибка </a:t>
            </a:r>
            <a:r>
              <a:rPr b="1" i="1" lang="ru-RU" sz="2400" spc="-1" strike="noStrike">
                <a:solidFill>
                  <a:srgbClr val="002060"/>
                </a:solidFill>
                <a:latin typeface="Verdana"/>
              </a:rPr>
              <a:t>или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 при решении задач и примеров допущено более 5 вычислительных ошибок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9" name="Рисунок 3" descr="учитель.gif"/>
          <p:cNvPicPr/>
          <p:nvPr/>
        </p:nvPicPr>
        <p:blipFill>
          <a:blip r:embed="rId1"/>
          <a:stretch/>
        </p:blipFill>
        <p:spPr>
          <a:xfrm>
            <a:off x="7162920" y="5181480"/>
            <a:ext cx="169380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АТЕМАТИ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Математический  диктан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«5» </a:t>
            </a:r>
            <a:r>
              <a:rPr b="0" i="1" lang="ru-RU" sz="2800" spc="-1" strike="noStrike">
                <a:solidFill>
                  <a:srgbClr val="002060"/>
                </a:solidFill>
                <a:latin typeface="Verdana"/>
              </a:rPr>
              <a:t>- вся работа выполнена безошибочно и нет исправлений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«4» </a:t>
            </a:r>
            <a:r>
              <a:rPr b="0" i="1" lang="ru-RU" sz="2800" spc="-1" strike="noStrike">
                <a:solidFill>
                  <a:srgbClr val="002060"/>
                </a:solidFill>
                <a:latin typeface="Verdana"/>
              </a:rPr>
              <a:t>- не выполнена 1/5 часть примеров от их общего числ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07f09"/>
                </a:solidFill>
                <a:latin typeface="Verdana"/>
              </a:rPr>
              <a:t>«3» </a:t>
            </a:r>
            <a:r>
              <a:rPr b="0" i="1" lang="ru-RU" sz="2800" spc="-1" strike="noStrike">
                <a:solidFill>
                  <a:srgbClr val="002060"/>
                </a:solidFill>
                <a:latin typeface="Verdana"/>
              </a:rPr>
              <a:t>- не выполнена 1/4 часть примеров от их общего числ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Verdana"/>
              </a:rPr>
              <a:t>«2» - не выполнена 1/2 часть примеров от их общего числ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2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400800" y="4876920"/>
            <a:ext cx="1693800" cy="14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880" y="2276640"/>
            <a:ext cx="8382240" cy="2016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r>
              <a:rPr b="1" i="1" lang="ru-RU" sz="3200" spc="-1" strike="noStrike">
                <a:solidFill>
                  <a:srgbClr val="ff8d3e"/>
                </a:solidFill>
                <a:latin typeface="Verdana"/>
              </a:rPr>
              <a:t> </a:t>
            </a:r>
            <a:r>
              <a:rPr b="1" i="1" lang="ru-RU" sz="3200" spc="-1" strike="noStrike">
                <a:solidFill>
                  <a:srgbClr val="ff8d3e"/>
                </a:solidFill>
                <a:latin typeface="Verdana"/>
              </a:rPr>
              <a:t>Как воспринимать  отметки ребёнка? </a:t>
            </a:r>
            <a:br>
              <a:rPr sz="3200"/>
            </a:br>
            <a:r>
              <a:rPr b="1" i="1" lang="ru-RU" sz="3200" spc="-1" strike="noStrike">
                <a:solidFill>
                  <a:srgbClr val="ff8d3e"/>
                </a:solidFill>
                <a:latin typeface="Verdana"/>
              </a:rPr>
              <a:t> </a:t>
            </a:r>
            <a:br>
              <a:rPr sz="3200"/>
            </a:br>
            <a:br>
              <a:rPr sz="4100"/>
            </a:br>
            <a:br>
              <a:rPr sz="41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9766f"/>
                </a:solidFill>
                <a:latin typeface="Verdana"/>
              </a:rPr>
              <a:t>Памятка для родителе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8d3e"/>
                </a:solidFill>
                <a:latin typeface="Verdana"/>
              </a:rPr>
              <a:t>Как относиться к отметкам ребёнка.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6000"/>
          </a:bodyPr>
          <a:p>
            <a:pPr marL="254160" indent="-2541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848484"/>
                </a:solidFill>
                <a:latin typeface="Verdana"/>
              </a:rPr>
              <a:t>Не ругайте своего ребёнка за плохую  отметку. </a:t>
            </a:r>
            <a:r>
              <a:rPr b="1" lang="ru-RU" sz="2800" spc="-1" strike="noStrike">
                <a:solidFill>
                  <a:srgbClr val="692aa2"/>
                </a:solidFill>
                <a:latin typeface="Verdana"/>
              </a:rPr>
              <a:t>Ему очень хочется быть в ваших глазах хорошим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48484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848484"/>
                </a:solidFill>
                <a:latin typeface="Verdana"/>
              </a:rPr>
              <a:t>Если быть хорошим не получается, ребёнок начинает </a:t>
            </a:r>
            <a:r>
              <a:rPr b="0" lang="ru-RU" sz="2800" spc="-1" strike="noStrike" u="sng">
                <a:solidFill>
                  <a:srgbClr val="848484"/>
                </a:solidFill>
                <a:uFillTx/>
                <a:latin typeface="Verdana"/>
              </a:rPr>
              <a:t>врать и изворачиваться</a:t>
            </a:r>
            <a:r>
              <a:rPr b="0" lang="ru-RU" sz="2800" spc="-1" strike="noStrike">
                <a:solidFill>
                  <a:srgbClr val="848484"/>
                </a:solidFill>
                <a:latin typeface="Verdana"/>
              </a:rPr>
              <a:t>, </a:t>
            </a:r>
            <a:r>
              <a:rPr b="1" lang="ru-RU" sz="2800" spc="-1" strike="noStrike">
                <a:solidFill>
                  <a:srgbClr val="848484"/>
                </a:solidFill>
                <a:latin typeface="Verdana"/>
              </a:rPr>
              <a:t>чтобы избежать наказ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ff8d3e"/>
                </a:solidFill>
                <a:latin typeface="Verdana"/>
              </a:rPr>
              <a:t>Как относиться к отметкам ребёнка.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Verdana"/>
              </a:rPr>
              <a:t>Сочувствуйте своему ребёнку, если он долго трудился, но результат его труда не выс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Verdana"/>
              </a:rPr>
              <a:t>Объясните ему, что важен не только высокий результат. Больше важны 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Verdana"/>
              </a:rPr>
              <a:t>знания</a:t>
            </a:r>
            <a:r>
              <a:rPr b="1" lang="ru-RU" sz="2800" spc="-1" strike="noStrike">
                <a:solidFill>
                  <a:srgbClr val="333399"/>
                </a:solidFill>
                <a:latin typeface="Verdana"/>
              </a:rPr>
              <a:t>, которые он сможет                       приобрести в результате                    ежедневного, упорного труд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Picture 4" descr="Копия (5) AG00315_"/>
          <p:cNvPicPr/>
          <p:nvPr/>
        </p:nvPicPr>
        <p:blipFill>
          <a:blip r:embed="rId1"/>
          <a:stretch/>
        </p:blipFill>
        <p:spPr>
          <a:xfrm>
            <a:off x="5943600" y="3352680"/>
            <a:ext cx="2881440" cy="29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ff8d3e"/>
                </a:solidFill>
                <a:latin typeface="Verdana"/>
              </a:rPr>
              <a:t>Как относиться к отметкам ребёнка.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02840" y="701640"/>
            <a:ext cx="8381880" cy="3641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е заставляйте своего ребёнка вымаливать себе оценку в конце четверти ради вашего душевного спокойств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48484"/>
                </a:solidFill>
                <a:latin typeface="Verdana"/>
              </a:rPr>
              <a:t>Не учите своего ребёнка ловчить, унижаться и приспосабливаться ради положительного результата в виде высокой отмет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2" name="Рисунок 4" descr="24.jpg"/>
          <p:cNvPicPr/>
          <p:nvPr/>
        </p:nvPicPr>
        <p:blipFill>
          <a:blip r:embed="rId1"/>
          <a:stretch/>
        </p:blipFill>
        <p:spPr>
          <a:xfrm>
            <a:off x="533520" y="4572000"/>
            <a:ext cx="1066680" cy="11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8d3e"/>
                </a:solidFill>
                <a:latin typeface="Verdana"/>
              </a:rPr>
              <a:t>Как относиться к отметкам ребёнка?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33440" y="367920"/>
            <a:ext cx="8686800" cy="1981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59000"/>
          </a:bodyPr>
          <a:p>
            <a:pPr marL="156240" indent="-1562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икогда не выражайте сомнений по поводу объективности выставленной вашему                  ребёнку оценки вслу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56240" indent="-1562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56240" indent="-1562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848484"/>
                </a:solidFill>
                <a:latin typeface="Verdana"/>
              </a:rPr>
              <a:t>Есть сомнения - идите в школу (к учителю) и попытайтесь объективно разобраться в ситуа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56240" indent="-1562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56240" indent="-1562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Verdana"/>
              </a:rPr>
              <a:t>Не обвиняйте беспричинно других              взрослых и  одноклассников в                   проблемах собственного ребён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56240" indent="-1562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56240" indent="-1562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56240" indent="-1562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5" name="Picture 4" descr="j0336396"/>
          <p:cNvPicPr/>
          <p:nvPr/>
        </p:nvPicPr>
        <p:blipFill>
          <a:blip r:embed="rId1"/>
          <a:stretch/>
        </p:blipFill>
        <p:spPr>
          <a:xfrm>
            <a:off x="7391520" y="2998800"/>
            <a:ext cx="1536480" cy="14223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" descr="Рисунок16"/>
          <p:cNvPicPr/>
          <p:nvPr/>
        </p:nvPicPr>
        <p:blipFill>
          <a:blip r:embed="rId2"/>
          <a:stretch/>
        </p:blipFill>
        <p:spPr>
          <a:xfrm>
            <a:off x="7550280" y="3505320"/>
            <a:ext cx="1218960" cy="309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ff8d3e"/>
                </a:solidFill>
                <a:latin typeface="Verdana"/>
              </a:rPr>
              <a:t>Как относиться к отметкам ребёнка.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ддерживайте ребёнка в его, пусть не очень значительных, но победах над собой, над своей лень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емонстрируйте положительные результаты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своего труда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, чтобы ребёнку хотелось вам подража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9" name="Picture 4" descr="J0076204"/>
          <p:cNvPicPr/>
          <p:nvPr/>
        </p:nvPicPr>
        <p:blipFill>
          <a:blip r:embed="rId1"/>
          <a:stretch/>
        </p:blipFill>
        <p:spPr>
          <a:xfrm>
            <a:off x="3048120" y="4114800"/>
            <a:ext cx="5616360" cy="22096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Учитель"/>
          <p:cNvPicPr/>
          <p:nvPr/>
        </p:nvPicPr>
        <p:blipFill>
          <a:blip r:embed="rId2"/>
          <a:stretch/>
        </p:blipFill>
        <p:spPr>
          <a:xfrm>
            <a:off x="762120" y="4724280"/>
            <a:ext cx="1868400" cy="162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ff8d3e"/>
                </a:solidFill>
                <a:latin typeface="Verdana"/>
              </a:rPr>
              <a:t>Как относиться к отметкам ребёнка???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174240" y="233280"/>
            <a:ext cx="8839080" cy="5181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800" spc="-1" strike="noStrike">
                <a:solidFill>
                  <a:srgbClr val="848484"/>
                </a:solidFill>
                <a:latin typeface="Verdana"/>
              </a:rPr>
              <a:t>Устраивайте праздники по случа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48484"/>
                </a:solidFill>
                <a:latin typeface="Verdana"/>
              </a:rPr>
              <a:t>     </a:t>
            </a:r>
            <a:r>
              <a:rPr b="1" i="1" lang="ru-RU" sz="2800" spc="-1" strike="noStrike">
                <a:solidFill>
                  <a:srgbClr val="848484"/>
                </a:solidFill>
                <a:latin typeface="Verdana"/>
              </a:rPr>
              <a:t>получения отличной отметк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48484"/>
                </a:solidFill>
                <a:latin typeface="Verdana"/>
              </a:rPr>
              <a:t> </a:t>
            </a:r>
            <a:r>
              <a:rPr b="1" i="1" lang="ru-RU" sz="2800" spc="-1" strike="noStrike">
                <a:solidFill>
                  <a:srgbClr val="7030a0"/>
                </a:solidFill>
                <a:latin typeface="Verdana"/>
              </a:rPr>
              <a:t>Хорошее, как и плохое, запоминается ребёнком надолго и его хочется    повтори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48484"/>
                </a:solidFill>
                <a:latin typeface="Verdana"/>
              </a:rPr>
              <a:t> </a:t>
            </a:r>
            <a:r>
              <a:rPr b="1" i="1" lang="ru-RU" sz="2800" spc="-1" strike="noStrike">
                <a:solidFill>
                  <a:srgbClr val="848484"/>
                </a:solidFill>
                <a:latin typeface="Verdana"/>
              </a:rPr>
              <a:t>Пусть ребёнок получает хорошую  отметку ради того, чтобы его             отметили. Вскоре это стан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48484"/>
                </a:solidFill>
                <a:latin typeface="Verdana"/>
              </a:rPr>
              <a:t> </a:t>
            </a:r>
            <a:r>
              <a:rPr b="1" i="1" lang="ru-RU" sz="2800" spc="-1" strike="noStrike">
                <a:solidFill>
                  <a:srgbClr val="848484"/>
                </a:solidFill>
                <a:latin typeface="Verdana"/>
              </a:rPr>
              <a:t>привычко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3" name="Picture 4" descr="BD13647_"/>
          <p:cNvPicPr/>
          <p:nvPr/>
        </p:nvPicPr>
        <p:blipFill>
          <a:blip r:embed="rId1"/>
          <a:stretch/>
        </p:blipFill>
        <p:spPr>
          <a:xfrm>
            <a:off x="5694480" y="4419720"/>
            <a:ext cx="2489040" cy="18889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4" descr="j0178301"/>
          <p:cNvPicPr/>
          <p:nvPr/>
        </p:nvPicPr>
        <p:blipFill>
          <a:blip r:embed="rId2"/>
          <a:stretch/>
        </p:blipFill>
        <p:spPr>
          <a:xfrm rot="813000">
            <a:off x="7311960" y="3144600"/>
            <a:ext cx="1549440" cy="14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0" y="33526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ff8d3e"/>
                </a:solidFill>
                <a:latin typeface="Verdana"/>
              </a:rPr>
              <a:t>Как помочь ребёнку                                                                  в выполнении  домашних заданий</a:t>
            </a:r>
            <a:r>
              <a:rPr b="1" lang="ru-RU" sz="2900" spc="-1" strike="noStrike">
                <a:solidFill>
                  <a:srgbClr val="ff8d3e"/>
                </a:solidFill>
                <a:latin typeface="Verdana"/>
              </a:rPr>
              <a:t>?</a:t>
            </a:r>
            <a:br>
              <a:rPr sz="2900"/>
            </a:b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380520" y="3962160"/>
            <a:ext cx="8001000" cy="990360"/>
          </a:xfrm>
          <a:prstGeom prst="rect">
            <a:avLst/>
          </a:prstGeom>
          <a:solidFill>
            <a:srgbClr val="e69ca4"/>
          </a:solidFill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Verdana"/>
              </a:rPr>
              <a:t>Советы родителя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7" name="Picture 8" descr="Учитель"/>
          <p:cNvPicPr/>
          <p:nvPr/>
        </p:nvPicPr>
        <p:blipFill>
          <a:blip r:embed="rId1"/>
          <a:stretch/>
        </p:blipFill>
        <p:spPr>
          <a:xfrm>
            <a:off x="3809880" y="304920"/>
            <a:ext cx="18687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Rectangle 2" descr=""/>
          <p:cNvPicPr/>
          <p:nvPr/>
        </p:nvPicPr>
        <p:blipFill>
          <a:blip r:embed="rId1"/>
          <a:stretch/>
        </p:blipFill>
        <p:spPr>
          <a:xfrm>
            <a:off x="914400" y="2362320"/>
            <a:ext cx="7429680" cy="3124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64" name="Прямоугольник 4"/>
          <p:cNvSpPr/>
          <p:nvPr/>
        </p:nvSpPr>
        <p:spPr>
          <a:xfrm>
            <a:off x="4933800" y="49975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a743a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Р. Кипл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4" descr="Глобус"/>
          <p:cNvPicPr/>
          <p:nvPr/>
        </p:nvPicPr>
        <p:blipFill>
          <a:blip r:embed="rId2"/>
          <a:stretch/>
        </p:blipFill>
        <p:spPr>
          <a:xfrm>
            <a:off x="142920" y="142920"/>
            <a:ext cx="12380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Как правильно помогать ребёнку?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grpSp>
        <p:nvGrpSpPr>
          <p:cNvPr id="319" name="Group 3"/>
          <p:cNvGrpSpPr/>
          <p:nvPr/>
        </p:nvGrpSpPr>
        <p:grpSpPr>
          <a:xfrm>
            <a:off x="228600" y="1832040"/>
            <a:ext cx="2971080" cy="3730320"/>
            <a:chOff x="228600" y="1832040"/>
            <a:chExt cx="2971080" cy="3730320"/>
          </a:xfrm>
        </p:grpSpPr>
        <p:sp>
          <p:nvSpPr>
            <p:cNvPr id="320" name="AutoShape 4"/>
            <p:cNvSpPr/>
            <p:nvPr/>
          </p:nvSpPr>
          <p:spPr>
            <a:xfrm>
              <a:off x="228600" y="2116440"/>
              <a:ext cx="2962440" cy="2641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AutoShape 5"/>
            <p:cNvSpPr/>
            <p:nvPr/>
          </p:nvSpPr>
          <p:spPr>
            <a:xfrm>
              <a:off x="274320" y="2124000"/>
              <a:ext cx="2873520" cy="2591280"/>
            </a:xfrm>
            <a:prstGeom prst="roundRect">
              <a:avLst>
                <a:gd name="adj" fmla="val 16667"/>
              </a:avLst>
            </a:pr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AutoShape 6"/>
            <p:cNvSpPr/>
            <p:nvPr/>
          </p:nvSpPr>
          <p:spPr>
            <a:xfrm>
              <a:off x="298080" y="4031640"/>
              <a:ext cx="2834280" cy="655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AutoShape 7"/>
            <p:cNvSpPr/>
            <p:nvPr/>
          </p:nvSpPr>
          <p:spPr>
            <a:xfrm>
              <a:off x="298080" y="2144520"/>
              <a:ext cx="2834280" cy="654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AutoShape 8"/>
            <p:cNvSpPr/>
            <p:nvPr/>
          </p:nvSpPr>
          <p:spPr>
            <a:xfrm>
              <a:off x="237240" y="4758120"/>
              <a:ext cx="2962440" cy="8042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AutoShape 9"/>
            <p:cNvSpPr/>
            <p:nvPr/>
          </p:nvSpPr>
          <p:spPr>
            <a:xfrm>
              <a:off x="298080" y="4926960"/>
              <a:ext cx="2834280" cy="568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6" name="Group 10"/>
            <p:cNvGrpSpPr/>
            <p:nvPr/>
          </p:nvGrpSpPr>
          <p:grpSpPr>
            <a:xfrm>
              <a:off x="1247760" y="1832040"/>
              <a:ext cx="880200" cy="594360"/>
              <a:chOff x="1247760" y="1832040"/>
              <a:chExt cx="880200" cy="594360"/>
            </a:xfrm>
          </p:grpSpPr>
          <p:sp>
            <p:nvSpPr>
              <p:cNvPr id="327" name="Oval 11"/>
              <p:cNvSpPr/>
              <p:nvPr/>
            </p:nvSpPr>
            <p:spPr>
              <a:xfrm>
                <a:off x="1247760" y="1832040"/>
                <a:ext cx="880200" cy="5943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Oval 12"/>
              <p:cNvSpPr/>
              <p:nvPr/>
            </p:nvSpPr>
            <p:spPr>
              <a:xfrm>
                <a:off x="1256760" y="1836360"/>
                <a:ext cx="851040" cy="575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Oval 13"/>
              <p:cNvSpPr/>
              <p:nvPr/>
            </p:nvSpPr>
            <p:spPr>
              <a:xfrm>
                <a:off x="1267200" y="1839960"/>
                <a:ext cx="831240" cy="5616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Oval 14"/>
              <p:cNvSpPr/>
              <p:nvPr/>
            </p:nvSpPr>
            <p:spPr>
              <a:xfrm>
                <a:off x="1276560" y="1845360"/>
                <a:ext cx="790560" cy="5238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Oval 15"/>
              <p:cNvSpPr/>
              <p:nvPr/>
            </p:nvSpPr>
            <p:spPr>
              <a:xfrm>
                <a:off x="1322640" y="1859400"/>
                <a:ext cx="702360" cy="425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" name="Text Box 16"/>
            <p:cNvSpPr/>
            <p:nvPr/>
          </p:nvSpPr>
          <p:spPr>
            <a:xfrm>
              <a:off x="1504440" y="1917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17"/>
            <p:cNvSpPr/>
            <p:nvPr/>
          </p:nvSpPr>
          <p:spPr>
            <a:xfrm>
              <a:off x="333000" y="2536560"/>
              <a:ext cx="281736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18"/>
          <p:cNvGrpSpPr/>
          <p:nvPr/>
        </p:nvGrpSpPr>
        <p:grpSpPr>
          <a:xfrm>
            <a:off x="3352680" y="1832040"/>
            <a:ext cx="2590560" cy="3806280"/>
            <a:chOff x="3352680" y="1832040"/>
            <a:chExt cx="2590560" cy="3806280"/>
          </a:xfrm>
        </p:grpSpPr>
        <p:sp>
          <p:nvSpPr>
            <p:cNvPr id="335" name="AutoShape 19"/>
            <p:cNvSpPr/>
            <p:nvPr/>
          </p:nvSpPr>
          <p:spPr>
            <a:xfrm>
              <a:off x="3352680" y="2122200"/>
              <a:ext cx="2586960" cy="2695320"/>
            </a:xfrm>
            <a:custGeom>
              <a:avLst/>
              <a:gdLst>
                <a:gd name="textAreaLeft" fmla="*/ 132480 w 2586960"/>
                <a:gd name="textAreaRight" fmla="*/ 2454480 w 2586960"/>
                <a:gd name="textAreaTop" fmla="*/ 132480 h 2695320"/>
                <a:gd name="textAreaBottom" fmla="*/ 2562840 h 2695320"/>
              </a:gdLst>
              <a:ahLst/>
              <a:rect l="textAreaLeft" t="textAreaTop" r="textAreaRight" b="textAreaBottom"/>
              <a:pathLst>
                <a:path w="21600" h="22505">
                  <a:moveTo>
                    <a:pt x="3782" y="0"/>
                  </a:moveTo>
                  <a:arcTo wR="3782" hR="3782" stAng="16200000" swAng="-5400000"/>
                  <a:lnTo>
                    <a:pt x="0" y="18723"/>
                  </a:lnTo>
                  <a:arcTo wR="3782" hR="3782" stAng="10800000" swAng="-5400000"/>
                  <a:lnTo>
                    <a:pt x="17818" y="2250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AutoShape 20"/>
            <p:cNvSpPr/>
            <p:nvPr/>
          </p:nvSpPr>
          <p:spPr>
            <a:xfrm>
              <a:off x="3392280" y="2130120"/>
              <a:ext cx="2509200" cy="2644200"/>
            </a:xfrm>
            <a:custGeom>
              <a:avLst/>
              <a:gdLst>
                <a:gd name="textAreaLeft" fmla="*/ 122400 w 2509200"/>
                <a:gd name="textAreaRight" fmla="*/ 2386800 w 2509200"/>
                <a:gd name="textAreaTop" fmla="*/ 122400 h 2644200"/>
                <a:gd name="textAreaBottom" fmla="*/ 2521800 h 2644200"/>
              </a:gdLst>
              <a:ahLst/>
              <a:rect l="textAreaLeft" t="textAreaTop" r="textAreaRight" b="textAreaBottom"/>
              <a:pathLst>
                <a:path w="21600" h="22762">
                  <a:moveTo>
                    <a:pt x="3600" y="0"/>
                  </a:moveTo>
                  <a:arcTo wR="3600" hR="3600" stAng="16200000" swAng="-5400000"/>
                  <a:lnTo>
                    <a:pt x="0" y="19162"/>
                  </a:lnTo>
                  <a:arcTo wR="3600" hR="3600" stAng="10800000" swAng="-5400000"/>
                  <a:lnTo>
                    <a:pt x="18000" y="227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AutoShape 21"/>
            <p:cNvSpPr/>
            <p:nvPr/>
          </p:nvSpPr>
          <p:spPr>
            <a:xfrm>
              <a:off x="3413160" y="4076640"/>
              <a:ext cx="2475000" cy="669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AutoShape 22"/>
            <p:cNvSpPr/>
            <p:nvPr/>
          </p:nvSpPr>
          <p:spPr>
            <a:xfrm>
              <a:off x="3413160" y="2150640"/>
              <a:ext cx="2475000" cy="667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23"/>
            <p:cNvSpPr/>
            <p:nvPr/>
          </p:nvSpPr>
          <p:spPr>
            <a:xfrm>
              <a:off x="4242600" y="1832040"/>
              <a:ext cx="768600" cy="606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24"/>
            <p:cNvSpPr/>
            <p:nvPr/>
          </p:nvSpPr>
          <p:spPr>
            <a:xfrm>
              <a:off x="4249800" y="1836360"/>
              <a:ext cx="744120" cy="586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25"/>
            <p:cNvSpPr/>
            <p:nvPr/>
          </p:nvSpPr>
          <p:spPr>
            <a:xfrm>
              <a:off x="4259880" y="1839240"/>
              <a:ext cx="726480" cy="5734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26"/>
            <p:cNvSpPr/>
            <p:nvPr/>
          </p:nvSpPr>
          <p:spPr>
            <a:xfrm>
              <a:off x="4267080" y="1845360"/>
              <a:ext cx="690840" cy="5342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27"/>
            <p:cNvSpPr/>
            <p:nvPr/>
          </p:nvSpPr>
          <p:spPr>
            <a:xfrm>
              <a:off x="4308840" y="1860480"/>
              <a:ext cx="613080" cy="434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28"/>
            <p:cNvSpPr/>
            <p:nvPr/>
          </p:nvSpPr>
          <p:spPr>
            <a:xfrm>
              <a:off x="4444200" y="1918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 Box 29"/>
            <p:cNvSpPr/>
            <p:nvPr/>
          </p:nvSpPr>
          <p:spPr>
            <a:xfrm>
              <a:off x="3443400" y="2550600"/>
              <a:ext cx="2459880" cy="34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AutoShape 30"/>
            <p:cNvSpPr/>
            <p:nvPr/>
          </p:nvSpPr>
          <p:spPr>
            <a:xfrm>
              <a:off x="3355920" y="4817880"/>
              <a:ext cx="2587320" cy="8204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AutoShape 31"/>
            <p:cNvSpPr/>
            <p:nvPr/>
          </p:nvSpPr>
          <p:spPr>
            <a:xfrm>
              <a:off x="3409200" y="4840200"/>
              <a:ext cx="2475000" cy="729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Group 32"/>
          <p:cNvGrpSpPr/>
          <p:nvPr/>
        </p:nvGrpSpPr>
        <p:grpSpPr>
          <a:xfrm>
            <a:off x="6019920" y="1828800"/>
            <a:ext cx="2742840" cy="4035600"/>
            <a:chOff x="6019920" y="1828800"/>
            <a:chExt cx="2742840" cy="4035600"/>
          </a:xfrm>
        </p:grpSpPr>
        <p:sp>
          <p:nvSpPr>
            <p:cNvPr id="349" name="AutoShape 33"/>
            <p:cNvSpPr/>
            <p:nvPr/>
          </p:nvSpPr>
          <p:spPr>
            <a:xfrm>
              <a:off x="6027480" y="2136600"/>
              <a:ext cx="2735280" cy="2857680"/>
            </a:xfrm>
            <a:custGeom>
              <a:avLst/>
              <a:gdLst>
                <a:gd name="textAreaLeft" fmla="*/ 140040 w 2735280"/>
                <a:gd name="textAreaRight" fmla="*/ 2595240 w 2735280"/>
                <a:gd name="textAreaTop" fmla="*/ 140040 h 2857680"/>
                <a:gd name="textAreaBottom" fmla="*/ 2717640 h 2857680"/>
              </a:gdLst>
              <a:ahLst/>
              <a:rect l="textAreaLeft" t="textAreaTop" r="textAreaRight" b="textAreaBottom"/>
              <a:pathLst>
                <a:path w="21600" h="22566">
                  <a:moveTo>
                    <a:pt x="3782" y="0"/>
                  </a:moveTo>
                  <a:arcTo wR="3782" hR="3782" stAng="16200000" swAng="-5400000"/>
                  <a:lnTo>
                    <a:pt x="0" y="18784"/>
                  </a:lnTo>
                  <a:arcTo wR="3782" hR="3782" stAng="10800000" swAng="-5400000"/>
                  <a:lnTo>
                    <a:pt x="17818" y="22566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AutoShape 34"/>
            <p:cNvSpPr/>
            <p:nvPr/>
          </p:nvSpPr>
          <p:spPr>
            <a:xfrm>
              <a:off x="6069960" y="2057400"/>
              <a:ext cx="2652840" cy="2890800"/>
            </a:xfrm>
            <a:custGeom>
              <a:avLst/>
              <a:gdLst>
                <a:gd name="textAreaLeft" fmla="*/ 129240 w 2652840"/>
                <a:gd name="textAreaRight" fmla="*/ 2523600 w 2652840"/>
                <a:gd name="textAreaTop" fmla="*/ 129240 h 2890800"/>
                <a:gd name="textAreaBottom" fmla="*/ 2761560 h 2890800"/>
              </a:gdLst>
              <a:ahLst/>
              <a:rect l="textAreaLeft" t="textAreaTop" r="textAreaRight" b="textAreaBottom"/>
              <a:pathLst>
                <a:path w="21600" h="23537">
                  <a:moveTo>
                    <a:pt x="3600" y="0"/>
                  </a:moveTo>
                  <a:arcTo wR="3600" hR="3600" stAng="16200000" swAng="-5400000"/>
                  <a:lnTo>
                    <a:pt x="0" y="19937"/>
                  </a:lnTo>
                  <a:arcTo wR="3600" hR="3600" stAng="10800000" swAng="-5400000"/>
                  <a:lnTo>
                    <a:pt x="18000" y="235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AutoShape 35"/>
            <p:cNvSpPr/>
            <p:nvPr/>
          </p:nvSpPr>
          <p:spPr>
            <a:xfrm>
              <a:off x="6091560" y="4208400"/>
              <a:ext cx="261684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AutoShape 36"/>
            <p:cNvSpPr/>
            <p:nvPr/>
          </p:nvSpPr>
          <p:spPr>
            <a:xfrm>
              <a:off x="6091560" y="2166840"/>
              <a:ext cx="261684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" name="Group 37"/>
            <p:cNvGrpSpPr/>
            <p:nvPr/>
          </p:nvGrpSpPr>
          <p:grpSpPr>
            <a:xfrm>
              <a:off x="6968520" y="1828800"/>
              <a:ext cx="812520" cy="642960"/>
              <a:chOff x="6968520" y="1828800"/>
              <a:chExt cx="812520" cy="642960"/>
            </a:xfrm>
          </p:grpSpPr>
          <p:sp>
            <p:nvSpPr>
              <p:cNvPr id="354" name="Oval 38"/>
              <p:cNvSpPr/>
              <p:nvPr/>
            </p:nvSpPr>
            <p:spPr>
              <a:xfrm>
                <a:off x="6968520" y="1828800"/>
                <a:ext cx="81252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Oval 39"/>
              <p:cNvSpPr/>
              <p:nvPr/>
            </p:nvSpPr>
            <p:spPr>
              <a:xfrm>
                <a:off x="6976800" y="1833480"/>
                <a:ext cx="7855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Oval 40"/>
              <p:cNvSpPr/>
              <p:nvPr/>
            </p:nvSpPr>
            <p:spPr>
              <a:xfrm>
                <a:off x="6986520" y="1837440"/>
                <a:ext cx="7675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Oval 41"/>
              <p:cNvSpPr/>
              <p:nvPr/>
            </p:nvSpPr>
            <p:spPr>
              <a:xfrm>
                <a:off x="6995160" y="1843200"/>
                <a:ext cx="72972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Oval 42"/>
              <p:cNvSpPr/>
              <p:nvPr/>
            </p:nvSpPr>
            <p:spPr>
              <a:xfrm>
                <a:off x="7037640" y="1858680"/>
                <a:ext cx="64836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9" name="Text Box 43"/>
            <p:cNvSpPr/>
            <p:nvPr/>
          </p:nvSpPr>
          <p:spPr>
            <a:xfrm>
              <a:off x="719172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44"/>
            <p:cNvSpPr/>
            <p:nvPr/>
          </p:nvSpPr>
          <p:spPr>
            <a:xfrm>
              <a:off x="6123960" y="2590920"/>
              <a:ext cx="26006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AutoShape 45"/>
            <p:cNvSpPr/>
            <p:nvPr/>
          </p:nvSpPr>
          <p:spPr>
            <a:xfrm>
              <a:off x="6019920" y="4994280"/>
              <a:ext cx="27345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utoShape 46"/>
            <p:cNvSpPr/>
            <p:nvPr/>
          </p:nvSpPr>
          <p:spPr>
            <a:xfrm>
              <a:off x="6075720" y="5018040"/>
              <a:ext cx="261648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Прямоугольник 46"/>
          <p:cNvSpPr/>
          <p:nvPr/>
        </p:nvSpPr>
        <p:spPr>
          <a:xfrm>
            <a:off x="228600" y="220968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вмешивайтесь в выполнение домашнего задания, если 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просит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мощ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Прямоугольник 47"/>
          <p:cNvSpPr/>
          <p:nvPr/>
        </p:nvSpPr>
        <p:spPr>
          <a:xfrm>
            <a:off x="3657600" y="2438280"/>
            <a:ext cx="198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ьмите на себя только, то,  что он не может выполн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оугольник 48"/>
          <p:cNvSpPr/>
          <p:nvPr/>
        </p:nvSpPr>
        <p:spPr>
          <a:xfrm>
            <a:off x="6019920" y="2362320"/>
            <a:ext cx="2895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 мере освоения ребёнком нов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ействий, постепенно передавайте ему 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8" descr="Учитель"/>
          <p:cNvPicPr/>
          <p:nvPr/>
        </p:nvPicPr>
        <p:blipFill>
          <a:blip r:embed="rId1"/>
          <a:stretch/>
        </p:blipFill>
        <p:spPr>
          <a:xfrm>
            <a:off x="762120" y="4876920"/>
            <a:ext cx="186840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4900"/>
            </a:br>
            <a:endParaRPr b="1" lang="en-US" sz="2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157320" y="151920"/>
            <a:ext cx="8686800" cy="5867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4000"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45f07"/>
                </a:solidFill>
                <a:latin typeface="Verdana"/>
              </a:rPr>
              <a:t>«Как помочь ребенку выполнить домашнее              задание»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бенок должен готовить домашнее задани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самостоятельно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о не бесконтроль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Выясните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трудности, с которыми встречается ребенок при выполнении домашнего задани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Настройте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ребенка на выполнение заданий тех уроков, которые были сегодня, а задания на следующий день надо только повторить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итм выполнения домашнего задания               индивидуален для каждого ребенка. Не следует ни торопиться, и ни затягива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 обсуждайте с ребёнком то, что                                           задал учитель учить дома. Он                       руководствуется учебным планом и                         и утверждённой школьной программой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9" name="Picture 5" descr="р19"/>
          <p:cNvPicPr/>
          <p:nvPr/>
        </p:nvPicPr>
        <p:blipFill>
          <a:blip r:embed="rId1"/>
          <a:stretch/>
        </p:blipFill>
        <p:spPr>
          <a:xfrm>
            <a:off x="7467480" y="4807080"/>
            <a:ext cx="1676520" cy="174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Прямоугольник 1"/>
          <p:cNvSpPr/>
          <p:nvPr/>
        </p:nvSpPr>
        <p:spPr>
          <a:xfrm>
            <a:off x="2286000" y="4748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Это надо помнить !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полнение каждого задания необходимо мотивировать применением его в будущем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 следует отвлекать ребенка, умственный труд требует сосредоточенност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умная помощь и ненавязчивый контроль особенно необходимы ребенку в трудновыполнимых задания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степенно необходимо приучать ребенка к планирующей оценке своих действий на день, два, неделю, месяц, четверть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3" name="Рисунок 4" descr="1september.jpg"/>
          <p:cNvPicPr/>
          <p:nvPr/>
        </p:nvPicPr>
        <p:blipFill>
          <a:blip r:embed="rId1"/>
          <a:stretch/>
        </p:blipFill>
        <p:spPr>
          <a:xfrm>
            <a:off x="7620120" y="152280"/>
            <a:ext cx="1333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омните об этом!!!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95120" y="533520"/>
            <a:ext cx="8763120" cy="5333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48484"/>
                </a:solidFill>
                <a:latin typeface="Verdana"/>
              </a:rPr>
              <a:t>Научить рёбёнка самостоятельно  учиться,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48484"/>
                </a:solidFill>
                <a:latin typeface="Verdana"/>
              </a:rPr>
              <a:t>  </a:t>
            </a:r>
            <a:r>
              <a:rPr b="1" i="1" lang="ru-RU" sz="3600" spc="-1" strike="noStrike">
                <a:solidFill>
                  <a:srgbClr val="848484"/>
                </a:solidFill>
                <a:latin typeface="Verdana"/>
              </a:rPr>
              <a:t>научить добывать знания –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i="1" lang="ru-RU" sz="36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i="1" lang="ru-RU" sz="3600" spc="-1" strike="noStrike">
                <a:solidFill>
                  <a:srgbClr val="ff0000"/>
                </a:solidFill>
                <a:latin typeface="Verdana"/>
              </a:rPr>
              <a:t>родительская обязанность!!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87952"/>
                </a:solidFill>
                <a:latin typeface="Verdana"/>
              </a:rPr>
              <a:t>Статья 52                                «Закон «Закон об образовании»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87952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6" name="Picture 5" descr="j0088510"/>
          <p:cNvPicPr/>
          <p:nvPr/>
        </p:nvPicPr>
        <p:blipFill>
          <a:blip r:embed="rId1"/>
          <a:stretch/>
        </p:blipFill>
        <p:spPr>
          <a:xfrm>
            <a:off x="5943600" y="3200400"/>
            <a:ext cx="300528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4316400" cy="4695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70c0"/>
                </a:solidFill>
                <a:latin typeface="Verdana"/>
              </a:rPr>
              <a:t>Ребёнок нуждается в постоянной поддержке родителей. Ваша искренняя заинтересованность в его школьных делах, серьёзное отношение к достижениям и трудностям помогут ученику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Verdana"/>
              </a:rPr>
              <a:t>Не забывайте напоминать о школьных правилах и необходимости их соблюда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92aa2"/>
                </a:solidFill>
                <a:latin typeface="Verdana"/>
              </a:rPr>
              <a:t>Составьте вместе распорядок дня, а затем следите за его выполнение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343040" y="1294920"/>
            <a:ext cx="4800600" cy="5302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26b18"/>
                </a:solidFill>
                <a:latin typeface="Verdana"/>
              </a:rPr>
              <a:t>Когда человек учится, у него может что-то не получаться, это естественно. Ребёнок имеет право на ошибк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Verdana"/>
              </a:rPr>
              <a:t>Не пропускайте трудности. При необходимости обращайтесь за помощью к учителю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Verdana"/>
              </a:rPr>
              <a:t>Поддерживайте ребёнка в его желании добиться успеха. В каждой работе обязательно найдите, за что можно было бы его похвалить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70c0"/>
                </a:solidFill>
                <a:latin typeface="Verdana"/>
              </a:rPr>
              <a:t>Похвала способна повысить интеллектуальные достижен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4"/>
          <p:cNvSpPr/>
          <p:nvPr/>
        </p:nvSpPr>
        <p:spPr>
          <a:xfrm>
            <a:off x="0" y="0"/>
            <a:ext cx="4267080" cy="190512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WordArt 6"/>
          <p:cNvSpPr txBox="1"/>
          <p:nvPr/>
        </p:nvSpPr>
        <p:spPr>
          <a:xfrm>
            <a:off x="684360" y="476280"/>
            <a:ext cx="2519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лез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81" name="WordArt 7"/>
          <p:cNvSpPr txBox="1"/>
          <p:nvPr/>
        </p:nvSpPr>
        <p:spPr>
          <a:xfrm>
            <a:off x="684360" y="981000"/>
            <a:ext cx="2592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ове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-360" y="4571640"/>
            <a:ext cx="8915400" cy="685800"/>
          </a:xfrm>
          <a:prstGeom prst="rect">
            <a:avLst/>
          </a:prstGeom>
          <a:solidFill>
            <a:srgbClr val="d96b77"/>
          </a:solidFill>
          <a:ln w="0">
            <a:noFill/>
          </a:ln>
        </p:spPr>
        <p:txBody>
          <a:bodyPr lIns="182880" tIns="0" anchor="t">
            <a:noAutofit/>
          </a:bodyPr>
          <a:p>
            <a:pPr marL="363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Verdana"/>
              </a:rPr>
              <a:t>Успехов и терпения ВАМ в воспитании и обучении детей!!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WordArt 3"/>
          <p:cNvSpPr txBox="1"/>
          <p:nvPr/>
        </p:nvSpPr>
        <p:spPr>
          <a:xfrm>
            <a:off x="914400" y="3048120"/>
            <a:ext cx="7391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23232"/>
                    </a:gs>
                    <a:gs pos="100000">
                      <a:srgbClr val="f07f09"/>
                    </a:gs>
                  </a:gsLst>
                  <a:lin ang="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Спасибо за сотрудничество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23232"/>
                  </a:gs>
                  <a:gs pos="100000">
                    <a:srgbClr val="f07f09"/>
                  </a:gs>
                </a:gsLst>
                <a:lin ang="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WordArt 2"/>
          <p:cNvSpPr txBox="1"/>
          <p:nvPr/>
        </p:nvSpPr>
        <p:spPr>
          <a:xfrm rot="20901000">
            <a:off x="831960" y="1698120"/>
            <a:ext cx="7418160" cy="271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362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Спасибо за внимание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362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385" name="Picture 3" descr="j0305589[1]"/>
          <p:cNvPicPr/>
          <p:nvPr/>
        </p:nvPicPr>
        <p:blipFill>
          <a:blip r:embed="rId1"/>
          <a:stretch/>
        </p:blipFill>
        <p:spPr>
          <a:xfrm>
            <a:off x="1595520" y="1841400"/>
            <a:ext cx="1762200" cy="17035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8" descr="Учитель"/>
          <p:cNvPicPr/>
          <p:nvPr/>
        </p:nvPicPr>
        <p:blipFill>
          <a:blip r:embed="rId2"/>
          <a:stretch/>
        </p:blipFill>
        <p:spPr>
          <a:xfrm>
            <a:off x="457200" y="990720"/>
            <a:ext cx="1868400" cy="162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РУССКИЙ ЯЗЫК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228240" y="9907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Критерии оцен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Диктан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«5» </a:t>
            </a:r>
            <a:r>
              <a:rPr b="1" lang="ru-RU" sz="3200" spc="-1" strike="noStrike">
                <a:solidFill>
                  <a:srgbClr val="848484"/>
                </a:solidFill>
                <a:latin typeface="Verdana"/>
              </a:rPr>
              <a:t>- нет ошибок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«4» </a:t>
            </a:r>
            <a:r>
              <a:rPr b="1" lang="ru-RU" sz="3200" spc="-1" strike="noStrike">
                <a:solidFill>
                  <a:srgbClr val="848484"/>
                </a:solidFill>
                <a:latin typeface="Verdana"/>
              </a:rPr>
              <a:t>- не более 2-х ошиб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48484"/>
                </a:solidFill>
                <a:latin typeface="Verdana"/>
              </a:rPr>
              <a:t>или 1ошибка и 2 исправления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48484"/>
                </a:solidFill>
                <a:latin typeface="Verdana"/>
              </a:rPr>
              <a:t>«3» - не более 4-х ошибок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48484"/>
                </a:solidFill>
                <a:latin typeface="Verdana"/>
              </a:rPr>
              <a:t>«2» - 5 и более ошибок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8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781680" y="1371600"/>
            <a:ext cx="1905120" cy="1619280"/>
          </a:xfrm>
          <a:prstGeom prst="rect">
            <a:avLst/>
          </a:prstGeom>
          <a:ln w="0">
            <a:noFill/>
          </a:ln>
        </p:spPr>
      </p:pic>
      <p:pic>
        <p:nvPicPr>
          <p:cNvPr id="269" name="Рисунок 4" descr="335ohp.jpg"/>
          <p:cNvPicPr/>
          <p:nvPr/>
        </p:nvPicPr>
        <p:blipFill>
          <a:blip r:embed="rId2"/>
          <a:stretch/>
        </p:blipFill>
        <p:spPr>
          <a:xfrm>
            <a:off x="228600" y="11430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РУССКИЙ ЯЗЫК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9000"/>
          </a:bodyPr>
          <a:p>
            <a:pPr marL="262080" indent="-262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Орфографическое зад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«5»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3200" spc="-1" strike="noStrike">
                <a:solidFill>
                  <a:srgbClr val="002060"/>
                </a:solidFill>
                <a:latin typeface="Verdana"/>
              </a:rPr>
              <a:t>- задание выполнено без ошибок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«4» </a:t>
            </a:r>
            <a:r>
              <a:rPr b="0" i="1" lang="ru-RU" sz="3200" spc="-1" strike="noStrike">
                <a:solidFill>
                  <a:srgbClr val="002060"/>
                </a:solidFill>
                <a:latin typeface="Verdana"/>
              </a:rPr>
              <a:t>- задание выполнено полностью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Verdana"/>
              </a:rPr>
              <a:t>    </a:t>
            </a:r>
            <a:r>
              <a:rPr b="0" i="1" lang="ru-RU" sz="3200" spc="-1" strike="noStrike">
                <a:solidFill>
                  <a:srgbClr val="002060"/>
                </a:solidFill>
                <a:latin typeface="Verdana"/>
              </a:rPr>
              <a:t>1 ошибка или 1-2 исправл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Verdana"/>
              </a:rPr>
              <a:t>«3»</a:t>
            </a:r>
            <a:r>
              <a:rPr b="1" i="1" lang="ru-RU" sz="32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i="1" lang="ru-RU" sz="3200" spc="-1" strike="noStrike">
                <a:solidFill>
                  <a:srgbClr val="002060"/>
                </a:solidFill>
                <a:latin typeface="Verdana"/>
              </a:rPr>
              <a:t>- не полостью выполнено задание или полностью выполнено, но 2 ошибки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Verdana"/>
              </a:rPr>
              <a:t>«2»</a:t>
            </a:r>
            <a:r>
              <a:rPr b="1" i="1" lang="ru-RU" sz="32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i="1" lang="ru-RU" sz="3200" spc="-1" strike="noStrike">
                <a:solidFill>
                  <a:srgbClr val="002060"/>
                </a:solidFill>
                <a:latin typeface="Verdana"/>
              </a:rPr>
              <a:t>- невыполненное задание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РУССКИЙ ЯЗЫК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282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Списывание текста (без задания)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«5» </a:t>
            </a: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- безукоризненно выполненная работа, в которой нет исправлений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«4» </a:t>
            </a: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- 1-2 исправления или 1 ошибк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Verdana"/>
              </a:rPr>
              <a:t>«3»</a:t>
            </a:r>
            <a:r>
              <a:rPr b="1" i="1" lang="ru-RU" sz="2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- 2-3 ошибк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Verdana"/>
              </a:rPr>
              <a:t>«2» </a:t>
            </a: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- 4 ошибки и боле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4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553080" y="4572000"/>
            <a:ext cx="169416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РУССКИЙ ЯЗЫК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Словарный диктан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«5» </a:t>
            </a: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- работа без ошибок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«4» </a:t>
            </a: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- 1 ошибк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Verdana"/>
              </a:rPr>
              <a:t>«3»</a:t>
            </a:r>
            <a:r>
              <a:rPr b="1" i="1" lang="ru-RU" sz="2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- 2 ошибк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Verdana"/>
              </a:rPr>
              <a:t>«2» </a:t>
            </a: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- 3-5 ошибок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553080" y="4114800"/>
            <a:ext cx="190512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РУССКИЙ ЯЗЫК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Контрольная рабо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«5» </a:t>
            </a:r>
            <a:r>
              <a:rPr b="0" lang="ru-RU" sz="2800" spc="-1" strike="noStrike">
                <a:solidFill>
                  <a:srgbClr val="848484"/>
                </a:solidFill>
                <a:latin typeface="Verdana"/>
              </a:rPr>
              <a:t>- безошибочно выполнены все задания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«4» </a:t>
            </a:r>
            <a:r>
              <a:rPr b="0" lang="ru-RU" sz="2800" spc="-1" strike="noStrike">
                <a:solidFill>
                  <a:srgbClr val="848484"/>
                </a:solidFill>
                <a:latin typeface="Verdana"/>
              </a:rPr>
              <a:t>- выполнено правильно не менее 3/4 всех заданий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48484"/>
                </a:solidFill>
                <a:latin typeface="Verdana"/>
              </a:rPr>
              <a:t>«3» - выполнено не менее ½ заданий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48484"/>
                </a:solidFill>
                <a:latin typeface="Verdana"/>
              </a:rPr>
              <a:t>«2» - ученик не справился с большинством задан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0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477120" y="4952880"/>
            <a:ext cx="169380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АТЕМАТИ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1000"/>
          </a:bodyPr>
          <a:p>
            <a:pPr marL="240840" indent="-24084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Письменная работа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0840" indent="-24084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содержащая только приме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0840" indent="-2408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«5» </a:t>
            </a:r>
            <a:r>
              <a:rPr b="0" lang="ru-RU" sz="2800" spc="-1" strike="noStrike">
                <a:solidFill>
                  <a:srgbClr val="333399"/>
                </a:solidFill>
                <a:latin typeface="Verdana"/>
              </a:rPr>
              <a:t>- вся работа выполнена безошибочно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0840" indent="-240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Verdana"/>
              </a:rPr>
              <a:t>и нет исправлений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0840" indent="-2408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«4» </a:t>
            </a:r>
            <a:r>
              <a:rPr b="0" lang="ru-RU" sz="2800" spc="-1" strike="noStrike">
                <a:solidFill>
                  <a:srgbClr val="333399"/>
                </a:solidFill>
                <a:latin typeface="Verdana"/>
              </a:rPr>
              <a:t>- допущены 1-2 вычислительные ошибк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0840" indent="-2408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Verdana"/>
              </a:rPr>
              <a:t>«3» - допущены 3-4 вычислительные ошибк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0840" indent="-2408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Verdana"/>
              </a:rPr>
              <a:t>«2» - допущены 5 и более вычислительных ошибок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3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553080" y="5029200"/>
            <a:ext cx="169416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АТЕМАТИ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8000"/>
          </a:bodyPr>
          <a:p>
            <a:pPr marL="259560" indent="-2595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Письменная работа, содержащая только задач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«5» 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- все задачи решены и нет исправлений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«4» 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- нет ошибок в ходе решения задач, но допущены 1-2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«3» 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- хотя бы одна ошибка в ходе решения задачи и 1 вычислительная ошибка </a:t>
            </a:r>
            <a:r>
              <a:rPr b="1" i="1" lang="ru-RU" sz="2400" spc="-1" strike="noStrike">
                <a:solidFill>
                  <a:srgbClr val="002060"/>
                </a:solidFill>
                <a:latin typeface="Verdana"/>
              </a:rPr>
              <a:t>или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 если вычислительных ошибок нет, но не решена 1 задач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«2» 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- допущена ошибка в ходе решения 2-х задач </a:t>
            </a:r>
            <a:r>
              <a:rPr b="1" i="1" lang="ru-RU" sz="2400" spc="-1" strike="noStrike">
                <a:solidFill>
                  <a:srgbClr val="002060"/>
                </a:solidFill>
                <a:latin typeface="Verdana"/>
              </a:rPr>
              <a:t>или 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допущена ошибка в ходе решения задачи и 2 вычислительные ошибк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6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858000" y="5029200"/>
            <a:ext cx="1693800" cy="144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4T05:38:31Z</dcterms:created>
  <dc:creator>ThemeGallery</dc:creator>
  <dc:description/>
  <dc:language>en-US</dc:language>
  <cp:lastModifiedBy>pc4</cp:lastModifiedBy>
  <dcterms:modified xsi:type="dcterms:W3CDTF">2023-01-19T18:43:29Z</dcterms:modified>
  <cp:revision>85</cp:revision>
  <dc:subject/>
  <dc:title>PowerPoint Template</dc:title>
</cp:coreProperties>
</file>