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2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9.jpeg" ContentType="image/jpeg"/>
  <Override PartName="/ppt/media/image7.gif" ContentType="image/gif"/>
  <Override PartName="/ppt/media/image32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309-6434-4E6F-AF79-23A88A3F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B26-F975-4244-AA59-752AA692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962-F667-4573-9004-29465493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7E0-B745-40A8-9313-B992E59C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E34-7B63-492C-9053-B21839AE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E21-5776-44FC-9880-07DC5618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A70-7D79-49E5-83D1-5626B6C5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557-9ABA-4155-BA86-45E57AFB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3F8-001E-49A0-8E7B-0F76C1E3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C02-6D19-4668-A53A-7C9121DC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B32-E6A5-4604-8B36-6C6281CF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8C3-C16C-45B9-806F-040E96EA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FF70-9E07-40C1-B4F2-4677B91DB3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Documents and Settings\Бродяга\Рабочий стол\Олечка\Олины картинки\Фото звёзд\Туман. андромеды.bmp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46240" y="1676520"/>
            <a:ext cx="658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ркурий, Солнце, Марс, Плуто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22560" y="2895480"/>
            <a:ext cx="66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емля, Солнце, Сириус, Поляр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71240" y="4419720"/>
            <a:ext cx="56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Луна, Фобос, Венера, Деймо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:\Documents and Settings\Бродяга\Рабочий стол\Олечка\Олины картинки\Фото звёзд\фазы луны.jpg"/>
          <p:cNvPicPr/>
          <p:nvPr/>
        </p:nvPicPr>
        <p:blipFill>
          <a:blip r:embed="rId1"/>
          <a:stretch/>
        </p:blipFill>
        <p:spPr>
          <a:xfrm>
            <a:off x="1581120" y="888840"/>
            <a:ext cx="5981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7"/>
          <p:cNvSpPr/>
          <p:nvPr/>
        </p:nvSpPr>
        <p:spPr>
          <a:xfrm>
            <a:off x="3995640" y="1916280"/>
            <a:ext cx="4321440" cy="432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8"/>
          <p:cNvSpPr/>
          <p:nvPr/>
        </p:nvSpPr>
        <p:spPr>
          <a:xfrm>
            <a:off x="3276720" y="1700280"/>
            <a:ext cx="4248000" cy="42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Зад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определите, на каком из рисунков луна растёт, на каком – убыва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"/>
          <p:cNvSpPr/>
          <p:nvPr/>
        </p:nvSpPr>
        <p:spPr>
          <a:xfrm>
            <a:off x="539640" y="1052640"/>
            <a:ext cx="4464000" cy="4464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6"/>
          <p:cNvSpPr/>
          <p:nvPr/>
        </p:nvSpPr>
        <p:spPr>
          <a:xfrm>
            <a:off x="1403280" y="1052640"/>
            <a:ext cx="5040360" cy="504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" descr="Moon-Ha-p2sec-1-5-05-Neat"/>
          <p:cNvPicPr/>
          <p:nvPr/>
        </p:nvPicPr>
        <p:blipFill>
          <a:blip r:embed="rId1"/>
          <a:stretch/>
        </p:blipFill>
        <p:spPr>
          <a:xfrm>
            <a:off x="2843280" y="1557360"/>
            <a:ext cx="1923840" cy="285732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91" name="Picture 10" descr="Moon-Ha-p2sec-1-5-05-Neat"/>
          <p:cNvPicPr/>
          <p:nvPr/>
        </p:nvPicPr>
        <p:blipFill>
          <a:blip r:embed="rId2"/>
          <a:stretch/>
        </p:blipFill>
        <p:spPr>
          <a:xfrm>
            <a:off x="4500720" y="2781360"/>
            <a:ext cx="1923840" cy="285732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Олечка\Олины картинки\Природа\Изображение 153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3" name="WordArt 3"/>
          <p:cNvSpPr txBox="1"/>
          <p:nvPr/>
        </p:nvSpPr>
        <p:spPr>
          <a:xfrm>
            <a:off x="1447920" y="5181480"/>
            <a:ext cx="4467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ветит ли Луна?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Олечка\Олины картинки\космос\planet04.0-01-41.65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533520" y="990720"/>
            <a:ext cx="27716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"Лицо" Луны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Documents and Settings\Бродяга\Рабочий стол\Олечка\Олины картинки\космос\intro.0-00-25.974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WordArt 3"/>
          <p:cNvSpPr txBox="1"/>
          <p:nvPr/>
        </p:nvSpPr>
        <p:spPr>
          <a:xfrm>
            <a:off x="2286000" y="5334120"/>
            <a:ext cx="46386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Лунные кратеры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26" descr="D:\Documents and Settings\Бродяга\Рабочий стол\Олечка\Олины картинки\космос\planet07.0-06-14.782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28" descr="D:\Documents and Settings\Бродяга\Рабочий стол\Олечка\Олины картинки\Природа\1WAV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1027"/>
          <p:cNvSpPr txBox="1"/>
          <p:nvPr/>
        </p:nvSpPr>
        <p:spPr>
          <a:xfrm>
            <a:off x="685800" y="3581280"/>
            <a:ext cx="7620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Луна создаё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приливы и отливы воды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в океанах Земли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Documents and Settings\Бродяга\Рабочий стол\Олечка\Олины картинки\Фото звёзд\луна 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335160" y="990720"/>
            <a:ext cx="764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1 июля 1969 го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американцы Н. Армстронг и Э. Олдри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ервыми прошлись по Лу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3" descr="wizard-color"/>
          <p:cNvPicPr/>
          <p:nvPr/>
        </p:nvPicPr>
        <p:blipFill>
          <a:blip r:embed="rId1"/>
          <a:stretch/>
        </p:blipFill>
        <p:spPr>
          <a:xfrm>
            <a:off x="3132000" y="5516640"/>
            <a:ext cx="1265400" cy="1341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3492360" y="836640"/>
            <a:ext cx="4751640" cy="720720"/>
          </a:xfrm>
          <a:prstGeom prst="rect">
            <a:avLst/>
          </a:prstGeom>
          <a:solidFill>
            <a:srgbClr val="fdff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ерхность Луны покрыта мельчайшим песком, лунной пыль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след на Луне"/>
          <p:cNvPicPr/>
          <p:nvPr/>
        </p:nvPicPr>
        <p:blipFill>
          <a:blip r:embed="rId2"/>
          <a:stretch/>
        </p:blipFill>
        <p:spPr>
          <a:xfrm>
            <a:off x="900000" y="836640"/>
            <a:ext cx="2381400" cy="190512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07" name="Text Box 7"/>
          <p:cNvSpPr/>
          <p:nvPr/>
        </p:nvSpPr>
        <p:spPr>
          <a:xfrm>
            <a:off x="3780000" y="907920"/>
            <a:ext cx="50400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мотрите: этот след оставил космонавт, высаживавшийся на поверхности Лун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8" descr="luna"/>
          <p:cNvPicPr/>
          <p:nvPr/>
        </p:nvPicPr>
        <p:blipFill>
          <a:blip r:embed="rId3"/>
          <a:stretch/>
        </p:blipFill>
        <p:spPr>
          <a:xfrm>
            <a:off x="900000" y="3429000"/>
            <a:ext cx="2070360" cy="27939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pic>
        <p:nvPicPr>
          <p:cNvPr id="109" name="Picture 11" descr="Нейл Армстронг - первый человек на Луне"/>
          <p:cNvPicPr/>
          <p:nvPr/>
        </p:nvPicPr>
        <p:blipFill>
          <a:blip r:embed="rId4"/>
          <a:stretch/>
        </p:blipFill>
        <p:spPr>
          <a:xfrm>
            <a:off x="6156360" y="1700280"/>
            <a:ext cx="2838240" cy="472428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10" name="Text Box 12"/>
          <p:cNvSpPr/>
          <p:nvPr/>
        </p:nvSpPr>
        <p:spPr>
          <a:xfrm>
            <a:off x="3348000" y="1989000"/>
            <a:ext cx="259236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т след сохранится на миллионы лет. Почему? Да потому чт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на Луне нет воздух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 значит, нет и ветра, который мог бы уничтожить этот сле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 ведь уже знаете, что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етер – это движение воздух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Documents and Settings\Бродяга\Рабочий стол\Олечка\Олины картинки\Фото звёзд\луна 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245880" y="5105520"/>
            <a:ext cx="551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зучение строения Лу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может людям поня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ак устроены небесные тела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D:\Documents and Settings\Бродяга\Рабочий стол\Олечка\Олины картинки\Природа\61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79280" y="3581280"/>
            <a:ext cx="9312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ак связаны Земля и Лу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чему нам видна только одна сторона Лун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ля чего люди изучают строение спутни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Documents and Settings\Бродяга\Рабочий стол\Олечка\Олины картинки\космос\planet07.0-05-07.28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995040" y="1273320"/>
            <a:ext cx="7241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очью на небе один золотой апельс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иновало две недел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Апельсина мы не ел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о осталась в небе тольк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Апельсина доль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886920" y="4419720"/>
            <a:ext cx="11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Лу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Documents and Settings\Бродяга\Рабочий стол\Олечка\Олины картинки\космос\planet07.0-05-21.189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533520" y="914400"/>
            <a:ext cx="7062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Что такое Лу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чему она всегда разна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ветит ли Лу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Что за пятна на поверхности Лун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лияет ли Луна на Землю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wizard-color"/>
          <p:cNvPicPr/>
          <p:nvPr/>
        </p:nvPicPr>
        <p:blipFill>
          <a:blip r:embed="rId1"/>
          <a:stretch/>
        </p:blipFill>
        <p:spPr>
          <a:xfrm>
            <a:off x="900000" y="4437000"/>
            <a:ext cx="1970280" cy="208764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0"/>
          <p:cNvSpPr/>
          <p:nvPr/>
        </p:nvSpPr>
        <p:spPr>
          <a:xfrm>
            <a:off x="2700360" y="4005360"/>
            <a:ext cx="6443640" cy="2663640"/>
          </a:xfrm>
          <a:custGeom>
            <a:avLst/>
            <a:gdLst>
              <a:gd name="textAreaLeft" fmla="*/ 1611000 w 6443640"/>
              <a:gd name="textAreaRight" fmla="*/ 4833000 w 6443640"/>
              <a:gd name="textAreaTop" fmla="*/ 333000 h 2663640"/>
              <a:gd name="textAreaBottom" fmla="*/ 266400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dff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611280" y="1557360"/>
            <a:ext cx="8137440" cy="431640"/>
          </a:xfrm>
          <a:prstGeom prst="rect">
            <a:avLst/>
          </a:prstGeom>
          <a:solidFill>
            <a:srgbClr val="fdff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космическом царстве все такие непоседы. На месте никого не удержишь, все движутся и движутся. Вот и </a:t>
            </a:r>
            <a:r>
              <a:rPr b="1" i="1" lang="ru-RU" sz="1800" spc="-1" strike="noStrike">
                <a:solidFill>
                  <a:srgbClr val="ff3300"/>
                </a:solidFill>
                <a:latin typeface="Times New Roman"/>
              </a:rPr>
              <a:t>Лун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ак и вертится возле своей подружки –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Зем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1280" y="981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это Луну даже прозвали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спутником Зем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Как вы думаете, что означает слово спутник? Земля притягивает к себе Луну, не дает ей удаляться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ть, по которому Луна движется вокруг Земли, называется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орбитой Лун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long-libration"/>
          <p:cNvPicPr/>
          <p:nvPr/>
        </p:nvPicPr>
        <p:blipFill>
          <a:blip r:embed="rId2"/>
          <a:stretch/>
        </p:blipFill>
        <p:spPr>
          <a:xfrm>
            <a:off x="539640" y="2060640"/>
            <a:ext cx="3095640" cy="19335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6" name="Text Box 9"/>
          <p:cNvSpPr/>
          <p:nvPr/>
        </p:nvSpPr>
        <p:spPr>
          <a:xfrm>
            <a:off x="4284720" y="436572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Times New Roman"/>
              </a:rPr>
              <a:t>Опы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пусть один из вас будет моделью Земли, а второй – моделью Луны. Продемонстрируйте, как Луна движется вокруг Земли. Только не забудьте, что Земля крутится вокруг своей оси, покажите и эт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1" descr="NB01_sm"/>
          <p:cNvPicPr/>
          <p:nvPr/>
        </p:nvPicPr>
        <p:blipFill>
          <a:blip r:embed="rId3"/>
          <a:stretch/>
        </p:blipFill>
        <p:spPr>
          <a:xfrm>
            <a:off x="7236000" y="2133720"/>
            <a:ext cx="152388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анно: всё и всегда падает вниз, на Землю, - и капли дождя, невесомые снежинки, а громадная Луна висит в небе и падать не собирается…   ПОЧЕМУ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дём опы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 потребовалось для этого ластик и нитка. Ластик будет «луной», а я «землёй». Обвязав ластик ниткой, другой её конец крепко держала в руке. Готово? А теперь хорошенько раскрутим за нитку ластик! Нитка натянулась?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«луна» старается оборвать нитку и «сбежать». Настоящую Луну «привязывает» к Земле сила притяжения. Это и есть «нитка» Земли, за которую она держит свою спутницу и не даёт ей улететь проч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nature07"/>
          <p:cNvPicPr/>
          <p:nvPr/>
        </p:nvPicPr>
        <p:blipFill>
          <a:blip r:embed="rId1"/>
          <a:stretch/>
        </p:blipFill>
        <p:spPr>
          <a:xfrm>
            <a:off x="7667640" y="1628640"/>
            <a:ext cx="113364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:\Documents and Settings\Бродяга\Рабочий стол\Олечка\Олины картинки\Фото звёзд\i.jpg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0" y="2133720"/>
            <a:ext cx="84582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уна - спутник Земл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на делает один оборот вокруг планеты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 29, 5 суток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Documents and Settings\Бродяга\Рабочий стол\Олечка\Олины картинки\Фото звёзд\фазы зат лун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3"/>
          <p:cNvSpPr txBox="1"/>
          <p:nvPr/>
        </p:nvSpPr>
        <p:spPr>
          <a:xfrm>
            <a:off x="3357720" y="3138480"/>
            <a:ext cx="2428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азы Луны.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moonphases3"/>
          <p:cNvPicPr/>
          <p:nvPr/>
        </p:nvPicPr>
        <p:blipFill>
          <a:blip r:embed="rId1"/>
          <a:stretch/>
        </p:blipFill>
        <p:spPr>
          <a:xfrm>
            <a:off x="324000" y="1197000"/>
            <a:ext cx="3809880" cy="5086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wizard-color"/>
          <p:cNvPicPr/>
          <p:nvPr/>
        </p:nvPicPr>
        <p:blipFill>
          <a:blip r:embed="rId2"/>
          <a:stretch/>
        </p:blipFill>
        <p:spPr>
          <a:xfrm>
            <a:off x="2771640" y="1031760"/>
            <a:ext cx="1944720" cy="20606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6"/>
          <p:cNvSpPr/>
          <p:nvPr/>
        </p:nvSpPr>
        <p:spPr>
          <a:xfrm>
            <a:off x="4716360" y="765000"/>
            <a:ext cx="3527640" cy="1366920"/>
          </a:xfrm>
          <a:prstGeom prst="horizontalScroll">
            <a:avLst>
              <a:gd name="adj" fmla="val 12500"/>
            </a:avLst>
          </a:prstGeom>
          <a:solidFill>
            <a:srgbClr val="fdff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блюдали вы за Луной?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сегда ли мы видим Луну в виде полного круга? А солнце?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Задумывались ли вы, почему так происходит?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 не знаете?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788000" y="90792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ло в том, что солнце, как электрическая лампочка, само излучает свет, а Луна лишь отражает свет солнц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012000" y="2349360"/>
            <a:ext cx="26636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у вас найдётся мячик и фонарик, вы можете провести опы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3995640" y="2781360"/>
            <a:ext cx="5148360" cy="3384360"/>
          </a:xfrm>
          <a:custGeom>
            <a:avLst/>
            <a:gdLst>
              <a:gd name="textAreaLeft" fmla="*/ 1278000 w 5148360"/>
              <a:gd name="textAreaRight" fmla="*/ 3870360 w 5148360"/>
              <a:gd name="textAreaTop" fmla="*/ 423000 h 3384360"/>
              <a:gd name="textAreaBottom" fmla="*/ 3384720 h 33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387" y="0"/>
                </a:lnTo>
                <a:arcTo wR="675" hR="675" stAng="16200000" swAng="5400000"/>
                <a:lnTo>
                  <a:pt x="8062" y="2700"/>
                </a:lnTo>
                <a:lnTo>
                  <a:pt x="13538" y="2700"/>
                </a:lnTo>
                <a:lnTo>
                  <a:pt x="1353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38" y="18900"/>
                </a:lnTo>
                <a:lnTo>
                  <a:pt x="16238" y="20925"/>
                </a:lnTo>
                <a:arcTo wR="675" hR="675" stAng="0" swAng="5400000"/>
                <a:lnTo>
                  <a:pt x="6037" y="21600"/>
                </a:lnTo>
                <a:arcTo wR="675" hR="675" stAng="5400000" swAng="5400000"/>
                <a:lnTo>
                  <a:pt x="536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062" y="675"/>
                </a:moveTo>
                <a:arcTo wR="675" hR="675" stAng="0" swAng="5400000"/>
                <a:lnTo>
                  <a:pt x="6037" y="1350"/>
                </a:lnTo>
                <a:arcTo wR="675" hR="675" stAng="16200000" swAng="-5400000"/>
                <a:arcTo wR="675" hR="675" stAng="10800000" swAng="-5400000"/>
                <a:lnTo>
                  <a:pt x="8062" y="2700"/>
                </a:lnTo>
              </a:path>
              <a:path fill="none" w="21600" h="21600">
                <a:moveTo>
                  <a:pt x="13538" y="675"/>
                </a:moveTo>
                <a:arcTo wR="675" hR="675" stAng="10800000" swAng="-5400000"/>
                <a:lnTo>
                  <a:pt x="15563" y="1350"/>
                </a:lnTo>
                <a:arcTo wR="675" hR="675" stAng="16200000" swAng="5400000"/>
                <a:arcTo wR="675" hR="675" stAng="0" swAng="5400000"/>
                <a:lnTo>
                  <a:pt x="13538" y="2700"/>
                </a:lnTo>
              </a:path>
              <a:path fill="none" w="21600" h="21600">
                <a:moveTo>
                  <a:pt x="5362" y="2025"/>
                </a:moveTo>
                <a:lnTo>
                  <a:pt x="5362" y="18900"/>
                </a:lnTo>
              </a:path>
              <a:path fill="none" w="21600" h="21600">
                <a:moveTo>
                  <a:pt x="16238" y="2025"/>
                </a:moveTo>
                <a:lnTo>
                  <a:pt x="16238" y="18900"/>
                </a:lnTo>
              </a:path>
            </a:pathLst>
          </a:custGeom>
          <a:solidFill>
            <a:srgbClr val="fdff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364000" y="3284640"/>
            <a:ext cx="2448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ff"/>
                </a:solidFill>
                <a:latin typeface="Times New Roman"/>
              </a:rPr>
              <a:t>Опы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Опыт проводится в затемненной комнате. Фонарик играет роль солнца. Мячик небольшого размера является моделью Луны. Один из детей держит модель Луны в руках. Когда фонарик не включен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(солнце не светит на видимую с Земли поверхность Луны)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ети не видят “Луну”. Как только фонарик включается,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(солнце светит на видимую с Земли поверхность Луны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ети видят “Луну” в виде полного кру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D:\Documents and Settings\Бродяга\Рабочий стол\Олечка\Олины картинки\Фото звёзд\луна4.jpg"/>
          <p:cNvPicPr/>
          <p:nvPr/>
        </p:nvPicPr>
        <p:blipFill>
          <a:blip r:embed="rId1"/>
          <a:stretch/>
        </p:blipFill>
        <p:spPr>
          <a:xfrm>
            <a:off x="6553080" y="838080"/>
            <a:ext cx="2222640" cy="2414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Documents and Settings\Бродяга\Рабочий стол\Олечка\Олины картинки\Фото звёзд\луна.jpg"/>
          <p:cNvPicPr/>
          <p:nvPr/>
        </p:nvPicPr>
        <p:blipFill>
          <a:blip r:embed="rId2"/>
          <a:stretch/>
        </p:blipFill>
        <p:spPr>
          <a:xfrm>
            <a:off x="3733920" y="838080"/>
            <a:ext cx="2514600" cy="2467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Documents and Settings\Бродяга\Рабочий стол\Олечка\Олины картинки\Фото звёзд\луна 1.jpg"/>
          <p:cNvPicPr/>
          <p:nvPr/>
        </p:nvPicPr>
        <p:blipFill>
          <a:blip r:embed="rId3"/>
          <a:stretch/>
        </p:blipFill>
        <p:spPr>
          <a:xfrm>
            <a:off x="380880" y="83808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D:\Documents and Settings\Бродяга\Рабочий стол\Олечка\Олины картинки\Фото звёзд\луна 7.jpg"/>
          <p:cNvPicPr/>
          <p:nvPr/>
        </p:nvPicPr>
        <p:blipFill>
          <a:blip r:embed="rId4"/>
          <a:stretch/>
        </p:blipFill>
        <p:spPr>
          <a:xfrm>
            <a:off x="609480" y="3822840"/>
            <a:ext cx="2590920" cy="2577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D:\Documents and Settings\Бродяга\Рабочий стол\Олечка\Олины картинки\Фото звёзд\луна 10.jpg"/>
          <p:cNvPicPr/>
          <p:nvPr/>
        </p:nvPicPr>
        <p:blipFill>
          <a:blip r:embed="rId5"/>
          <a:stretch/>
        </p:blipFill>
        <p:spPr>
          <a:xfrm>
            <a:off x="3429000" y="3809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D:\Documents and Settings\Бродяга\Рабочий стол\Олечка\Олины картинки\Фото звёзд\мол месяц.jpg"/>
          <p:cNvPicPr/>
          <p:nvPr/>
        </p:nvPicPr>
        <p:blipFill>
          <a:blip r:embed="rId6"/>
          <a:stretch/>
        </p:blipFill>
        <p:spPr>
          <a:xfrm>
            <a:off x="6324480" y="3733920"/>
            <a:ext cx="2446560" cy="2514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822960" y="57340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6554160" y="25686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718800" y="26100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442080" y="2610000"/>
            <a:ext cx="5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3718800" y="5734080"/>
            <a:ext cx="5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6614280" y="5581800"/>
            <a:ext cx="5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09:47Z</dcterms:created>
  <dc:creator>Бродяга</dc:creator>
  <dc:description/>
  <dc:language>en-US</dc:language>
  <cp:lastModifiedBy>Ilya</cp:lastModifiedBy>
  <dcterms:modified xsi:type="dcterms:W3CDTF">2012-10-21T06:02:56Z</dcterms:modified>
  <cp:revision>17</cp:revision>
  <dc:subject/>
  <dc:title>Презентация PowerPoint</dc:title>
</cp:coreProperties>
</file>