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7F7-9752-459F-ACBF-A722D34B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14E-E541-446A-97D2-E9E8342D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1B1-6661-4A84-981B-130F0723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C9E-E0AC-4117-8723-C1CBDB08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4E8-BAD4-4350-975C-9E587CB6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E5F-0E9D-4AFA-A517-2B312EE1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A86-CD14-411A-8652-3061B714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D2C-473D-482D-B567-51870155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B8E-B324-4D43-9BDD-15146316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C2A-42C2-465A-AD61-DD80093E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9D1-CF4C-47E4-A5FC-C3C4FEB3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97B-5246-4705-ADEA-095FDF7D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FC8-6905-4F9F-BBB9-A1E06C5C4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82812f4294d22d77b836e097314e250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МБДОУ № 1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Алемская Е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unnam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_user_file_564aaadaf3c4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lide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952058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d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din-doma-mchs-rossii-prizyvaet-roditeley-obespechit-bezopasnost-shkolnikov-v-period-distancionnogo-obucheniya_1584627096491513450__2000x2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5:41:04Z</dcterms:created>
  <dc:creator>VA</dc:creator>
  <dc:description/>
  <dc:language>en-US</dc:language>
  <cp:lastModifiedBy>user</cp:lastModifiedBy>
  <dcterms:modified xsi:type="dcterms:W3CDTF">2023-01-19T13:35:45Z</dcterms:modified>
  <cp:revision>3</cp:revision>
  <dc:subject/>
  <dc:title>МБДОУ № 1 группа «Дождинка»</dc:title>
</cp:coreProperties>
</file>