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73EB-3A9C-4DEE-B193-01ECE126D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EB7F-7309-4B7C-9E12-85CB876EA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D3CF-91DE-4F07-996E-48D4F460D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712C-DF76-4DDD-85AD-803FB1B8A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9D21-99D8-46FC-A5B9-0AB3EFFF1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DA4B-9BF8-4F3C-B799-3387BFC88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0847-059B-41A8-A6F5-BF1056819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A329-1EDA-468C-8FE5-44200FD42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E795-7051-455B-A8AB-92465ACDA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7734-449E-40DA-9FBF-D97116502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D9AF-59E8-4FA7-B963-8EB87D8C1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51F4-1553-4CBF-86E0-D11697C70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649FD-456B-454B-8E0B-57E37209E1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482812f4294d22d77b836e097314e250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47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imes New Roman"/>
              </a:rPr>
              <a:t>МБДОУ № 1</a:t>
            </a:r>
            <a:br>
              <a:rPr sz="2000"/>
            </a:br>
            <a:r>
              <a:rPr b="1" lang="ru-RU" sz="2000" spc="-1" strike="noStrike">
                <a:solidFill>
                  <a:srgbClr val="003399"/>
                </a:solidFill>
                <a:latin typeface="Times New Roman"/>
              </a:rPr>
              <a:t>Алемская Е.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unnam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img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img_user_file_564aaadaf3c4b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slide-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952058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pd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odin-doma-mchs-rossii-prizyvaet-roditeley-obespechit-bezopasnost-shkolnikov-v-period-distancionnogo-obucheniya_1584627096491513450__2000x20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04T05:41:04Z</dcterms:created>
  <dc:creator>VA</dc:creator>
  <dc:description/>
  <dc:language>en-US</dc:language>
  <cp:lastModifiedBy>user</cp:lastModifiedBy>
  <dcterms:modified xsi:type="dcterms:W3CDTF">2023-01-19T13:35:45Z</dcterms:modified>
  <cp:revision>3</cp:revision>
  <dc:subject/>
  <dc:title>МБДОУ № 1 группа «Дождинка»</dc:title>
</cp:coreProperties>
</file>