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D66F85-A7DF-4287-9F95-335B22F7D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Num" idx="4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F793FFC7-59A9-4D30-9249-D049D8FFB5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Num" idx="13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D975FC4B-D90F-45C5-8022-A9BB74AB8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Num" idx="14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BB29AB8B-6CB3-46F4-A0D1-1741BA1BA7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Num" idx="15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C0EC8203-9C80-4BC7-9BCE-2319BA9B5F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Num" idx="5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7B64DE51-DA00-43F1-BED9-F5B282FAD3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C13627EA-E6F7-41CC-BBE3-AB9B72B0C5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Num" idx="7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4778E540-0513-4658-920B-FCCE3F797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Num" idx="8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F78F0DB9-8896-42E6-BC48-E88B6B2CC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Num" idx="9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70D5EAA0-F124-4249-A72D-931F8C68C2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Num" idx="10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D8E2C2C8-8D89-4183-A826-A15E54060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Num" idx="11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73B6262D-95F8-481F-A5A5-047C8FB951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Num" idx="12"/>
          </p:nvPr>
        </p:nvSpPr>
        <p:spPr>
          <a:xfrm>
            <a:off x="4398840" y="9555120"/>
            <a:ext cx="3371400" cy="50112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</a:tabLst>
            </a:pPr>
            <a:fld id="{A551E382-47AD-4F90-9B80-4AE3F63CB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280" cy="37717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7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 algn="ctr">
              <a:lnSpc>
                <a:spcPct val="8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8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8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GB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8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8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8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8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9143640" cy="61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856360" cy="61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856360" cy="64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927640" cy="65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866880"/>
            <a:ext cx="914364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Paragraphs>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ладелец</cp:lastModifiedBy>
  <dcterms:modified xsi:type="dcterms:W3CDTF">2023-01-19T18:22:39Z</dcterms:modified>
  <cp:revision>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2</vt:r8>
  </property>
  <property fmtid="{D5CDD505-2E9C-101B-9397-08002B2CF9AE}" pid="3" name="PresentationFormat">
    <vt:lpwstr>On-screen Show (4:3)</vt:lpwstr>
  </property>
  <property fmtid="{D5CDD505-2E9C-101B-9397-08002B2CF9AE}" pid="4" name="Slides">
    <vt:r8>15</vt:r8>
  </property>
</Properties>
</file>