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4983F4-7BA7-4396-A38B-701EBF0A9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Num" idx="4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3BE7FEA8-ADBE-4913-998A-2D675470E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Num" idx="13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7B33F4FE-1ACB-407D-BB1D-18B13D972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Num" idx="14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8E999A9A-290A-47A9-B117-28DD7D7A8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Num" idx="15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68EEC4F1-890E-4FC1-A0BC-2B0AEC878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Num" idx="5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6EC4F822-CD60-45F2-B171-25009F1B6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0B7635DE-B676-4064-B3DF-ADB824A08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Num" idx="7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029FA37E-1E28-4045-A7BE-8F890CC9D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Num" idx="8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1A4F2ED3-1834-4A50-92ED-D22BC5892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2284AF8B-4132-4946-A3C0-12ACC9EE6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Num" idx="10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8A3877B6-3B89-41CA-AE47-8061EF01D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Num" idx="11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09F97853-3BAF-410B-83E6-15EEF8E7E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Num" idx="12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7C627824-3669-4B03-8228-C1F4036A7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ctr">
              <a:lnSpc>
                <a:spcPct val="8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8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8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8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8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8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8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3640" cy="61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856360" cy="61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856360" cy="64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27640" cy="65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23-01-19T18:22:39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On-screen Show (4:3)</vt:lpwstr>
  </property>
  <property fmtid="{D5CDD505-2E9C-101B-9397-08002B2CF9AE}" pid="4" name="Slides">
    <vt:r8>15</vt:r8>
  </property>
</Properties>
</file>