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B0CE8-7350-4569-B3C4-01E4C9DFD1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E38C-3A0D-42B2-B420-73C7E80B63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32F8-F5EC-4FB0-93F5-9C374EBB65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1CAC-0873-4AAE-8793-EFFCB27C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A1F2-9209-4F76-9932-C6D8F546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B47D-DBDE-4C04-A402-4857066AD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6B118-A612-496C-AE3B-01C599DA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3E235-49BF-46AD-96DD-A001CFFB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666E8-A3D1-43C0-85BD-35ABCFD3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04707-41AF-4ACC-A0B7-2853EE3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2843B-F82C-4E71-BF36-A34DF14E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6DCE3-294C-47DD-BB91-FA465606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8A6CE-05CF-436A-A2EC-5801BD1A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4715-8303-4631-A776-5DFC196E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0237C-FD2D-4E9E-BB6F-B1D584FC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69FF3-FA6A-484D-B152-276198C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92C54-3A47-44BF-9F79-3F7E3F9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095E1-6607-4DDF-8CD4-2C08B537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16D26-9797-41B0-B359-D6F1BA12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BEA50-8932-4344-88B0-83F83B95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74349-4DF9-47DC-ADB3-EE306A7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68457-F926-472A-B52C-7A4D7B3F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736F2-1E44-4AF4-8CC0-14954AE5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00CF4-BBFF-4535-BCD9-4C88ABE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86F7-21E6-4381-A20D-1C762F5E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78EE3-EE88-42A8-BDEF-75FFD5C4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6FC89-8D73-400A-ACDA-49ECBF2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FD36B-54E3-4BFE-B12F-8376DE9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1A911-E30F-4F00-A0E1-AB84A65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D83D9-82F7-419E-96CA-6F8B74F1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3AD04-18BD-4162-9D1D-C34E0C42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074AD-601A-4013-AE8B-4B046C0F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C03B4-0DE1-4A90-8D8D-3145859B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C9F3E-D060-4F7E-A83F-62AF44BA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46F6E-AC93-4E82-BE59-66268157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3059-C636-470A-ABED-70C559D6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F95FF-8900-4BBC-98A1-3036E86B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2BAB1-1B2A-40CB-A5A6-2A0321F9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07C00-FF2E-4CE0-9F82-96C82B57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2641E-6A9F-42D1-A3FB-CE72EFD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3257D-BD1E-40FF-AB0C-7D31EADF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1BBD8-657E-4A58-9EDE-E089F08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63F08-CFC3-4BDC-8658-E63467D5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F1513-9779-4D4E-9C01-37127C18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26430-E77C-49ED-9C97-3BF86096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305E7-2474-4CC1-B350-53569D2E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C243-5744-4EAF-B999-E1D6011E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2447C-A61C-4155-B2F9-494AF4E5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7ACB1-C20C-4BD1-BF58-208E8062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41533-4489-4DFA-B6DD-FAB5D5CA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C9BA6-3F2A-4F8B-8B76-67E50D36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2BEFB-396D-46CF-82AE-4DECA1E2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80DCE-C2AD-49BE-ADD8-7561024B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84CF2-7057-4A0C-8181-2B06B53D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5AAF5-B2DC-4966-BD26-90E63E0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82F78-55BB-428C-8D60-3F73FD55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4098A-860C-42A1-AE0E-B75DAD67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28BBD-9145-4470-A34F-6FF5BF65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42F75-B9B4-4CA0-AEC6-A3B0850E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A973-A2D5-443D-99FC-647062D2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B7A2-C165-4E73-AF0A-8A05B2FE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A22F5-533A-453D-82D5-97B8118D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9040" y="2037960"/>
            <a:ext cx="75596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C9ADA-0CA3-4898-84EF-57565759104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42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3.9.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4DF20B-4A24-474C-9C35-26BEABA2E2B8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94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3.9.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87B927-EC00-46DD-939A-7B34AECEF878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4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3.9.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680D02-6C24-45D1-969B-FBF221D0C724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0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2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3.9.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3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4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074B03-40D8-4474-A119-2B872DEE92AF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9040" y="2037960"/>
            <a:ext cx="7561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Случайные события.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ероятность случайного собы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55520" y="4581000"/>
            <a:ext cx="756144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КЛАСС УМК: А.Г. МЕРЗЛЯ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6" descr="information_items_301"/>
          <p:cNvPicPr/>
          <p:nvPr/>
        </p:nvPicPr>
        <p:blipFill>
          <a:blip r:embed="rId1"/>
          <a:stretch/>
        </p:blipFill>
        <p:spPr>
          <a:xfrm rot="1364400">
            <a:off x="9912240" y="2133720"/>
            <a:ext cx="1141560" cy="1295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Three_dice"/>
          <p:cNvPicPr/>
          <p:nvPr/>
        </p:nvPicPr>
        <p:blipFill>
          <a:blip r:embed="rId2"/>
          <a:stretch/>
        </p:blipFill>
        <p:spPr>
          <a:xfrm>
            <a:off x="9408960" y="4076640"/>
            <a:ext cx="238788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Определение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99520" y="1196640"/>
            <a:ext cx="1105236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, которые в данных условиях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роисходят, называются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озможными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2e83c3"/>
                </a:solidFill>
                <a:uFillTx/>
                <a:latin typeface="Times New Roman"/>
                <a:ea typeface="Times New Roman"/>
              </a:rPr>
              <a:t>Например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ода в реке замёрзла при температуре +25 градусах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 бросании игрального кубика появилось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очко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V4016"/>
          <p:cNvPicPr/>
          <p:nvPr/>
        </p:nvPicPr>
        <p:blipFill>
          <a:blip r:embed="rId1"/>
          <a:srcRect l="27101" t="14906" r="9881" b="22127"/>
          <a:stretch/>
        </p:blipFill>
        <p:spPr>
          <a:xfrm>
            <a:off x="10128240" y="5373720"/>
            <a:ext cx="1319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e83c3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В лотерее нет ни одного призового билета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играть автомобиль невозможно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ытие «выигрыш автомобиля» называют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возможны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его вероятность равна 0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4440" y="259920"/>
            <a:ext cx="1105236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Определение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34440" y="1267920"/>
            <a:ext cx="110523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3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, которые при данных условиях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23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исходят, называют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23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оверными.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 u="sng">
                <a:solidFill>
                  <a:srgbClr val="2e83c3"/>
                </a:solidFill>
                <a:uFillTx/>
                <a:latin typeface="Times New Roman"/>
                <a:ea typeface="Times New Roman"/>
              </a:rPr>
              <a:t>Например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сле четверга наступила пятница; 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 бросании игрального кубика появилось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   меньшее 7 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V4016"/>
          <p:cNvPicPr/>
          <p:nvPr/>
        </p:nvPicPr>
        <p:blipFill>
          <a:blip r:embed="rId1"/>
          <a:srcRect l="27105" t="14908" r="9889" b="22126"/>
          <a:stretch/>
        </p:blipFill>
        <p:spPr>
          <a:xfrm>
            <a:off x="9767880" y="4941720"/>
            <a:ext cx="16797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e83c3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Каждый лотерейный билет является призовым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игрыш гарантирован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ытие «выигрыш автомобиля» называют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стоверным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его вероятность равна 1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ь случайного события может быть любым числом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0 до 1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5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Запомним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(для самоконтроля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ь достоверного события всегда равна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ь невозможного события всегда равна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ь случайного события всегда            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1" lang="en-US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(А) </a:t>
            </a:r>
            <a:r>
              <a:rPr b="1" lang="en-US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ие из перечисленных событий случайные, достоверные, невозможные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Завтра пойдет снег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После четверга будет пятниц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Задумано число, не являющееся ни четным, ни нечетны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Задумано четное число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Завтра будет новый день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30 февраля- день рождения моего друг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Половина билетов оказалась призовой (события «выигрыш» и «невыигрыш» стали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овероятными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ытия называются равновероятными, если вероятность каждого из них была бы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а 1⁄2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 (РИС. 80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подбрасывании игрального кубика можно получить один из шести результатов: выпадет 1, 2, 3, 4 , 5 или 6 очк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эти шесть результато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овозможны.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этому естественно считать, что, например, вероятность события «выпадение 5 очков» равна ⅙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йдем вероятность того, что при бросании игрального кубика выпадет  число, кратное 3. В этом эксперименте из шести равновозможных исходов есть только два, которые нас устраивают:  выпадение3 или 6 очков. Эти два исхода назовём благоприятными. Вероятность того, что выпадет число, кратное 3, равно  2⁄6 = 1⁄3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7520" y="259920"/>
            <a:ext cx="8596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Классическое определение вероятност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64600" y="1341360"/>
            <a:ext cx="110509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оятностью события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405d1"/>
                </a:solidFill>
                <a:latin typeface="Times New Roman"/>
                <a:ea typeface="Times New Roman"/>
              </a:rPr>
              <a:t>называется отношение числа благоприятных для него исходов испытания к числу всех равновозможных исход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010c2"/>
                </a:solidFill>
                <a:latin typeface="Times New Roman"/>
                <a:ea typeface="Times New Roman"/>
              </a:rPr>
              <a:t>где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ru-RU" sz="2800" spc="-1" strike="noStrike">
                <a:solidFill>
                  <a:srgbClr val="1010c2"/>
                </a:solidFill>
                <a:latin typeface="Times New Roman"/>
                <a:ea typeface="Times New Roman"/>
              </a:rPr>
              <a:t> - число исходов, благоприятствующих осуществлению события, а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1010c2"/>
                </a:solidFill>
                <a:latin typeface="Times New Roman"/>
                <a:ea typeface="Times New Roman"/>
              </a:rPr>
              <a:t>- число всех возможных исходов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703520" y="4005360"/>
            <a:ext cx="432108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77520" y="1268280"/>
            <a:ext cx="859644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звенел школьный звонок;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ал снег;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ника вызвали на уроке к доске;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 среды будет четверг;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ный кот перебежал дорогу;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нь рождения моего друга-20 января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9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Задача 1</a:t>
            </a:r>
            <a:endParaRPr b="0" lang="en-US" sz="5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64600" y="2060640"/>
            <a:ext cx="110509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Женя, Лена, Маша, Аня и Коля  бросили жребий – кому идти в магазин. Найдите вероятность того, что в магазин  надо будет идти Ан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Решение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2855880" y="4076640"/>
            <a:ext cx="8210520" cy="1927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gs-ic00"/>
          <p:cNvPicPr/>
          <p:nvPr/>
        </p:nvPicPr>
        <p:blipFill>
          <a:blip r:embed="rId2"/>
          <a:stretch/>
        </p:blipFill>
        <p:spPr>
          <a:xfrm>
            <a:off x="6527880" y="260280"/>
            <a:ext cx="46101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99520" y="274320"/>
            <a:ext cx="1105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9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Задача 2</a:t>
            </a:r>
            <a:endParaRPr b="0" lang="en-US" sz="5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99520" y="1268280"/>
            <a:ext cx="1105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осают игральную кость. Найдите вероятность того, что выпадет число, меньшее 4 очков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шение.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6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80960" y="3645000"/>
            <a:ext cx="8064720" cy="2297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V4016"/>
          <p:cNvPicPr/>
          <p:nvPr/>
        </p:nvPicPr>
        <p:blipFill>
          <a:blip r:embed="rId2"/>
          <a:srcRect l="27099" t="14902" r="9890" b="22126"/>
          <a:stretch/>
        </p:blipFill>
        <p:spPr>
          <a:xfrm>
            <a:off x="8977320" y="4149720"/>
            <a:ext cx="24001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Р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77520" y="1628280"/>
            <a:ext cx="85964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овление и развитие теории вероятностей связаны с трудами таких выдающихся ученых, как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об Бернулли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1654 - 1705)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ьер Лаплас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1749 - 1827)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хард Мизес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1883 - 1953). В 20 в. особое значение приобрели работы выдающегося советского математик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дрея Николаевича Колмогоров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3520" y="33120"/>
            <a:ext cx="1105236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94800" y="3499920"/>
            <a:ext cx="4753080" cy="240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а) Чётное число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б) Число, кратное 3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880240" y="3429000"/>
            <a:ext cx="5114880" cy="2549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Вариант 2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а) Нечётное число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б) Число, кратное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Дата 4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95160" y="1125360"/>
            <a:ext cx="1073016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В коробке лежат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арточек, пронумерованных числам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 1 до 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а вероятность того, что на наугад в вынутой карточке будет записа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63040" y="16488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79520" y="3141360"/>
            <a:ext cx="4751280" cy="215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404040"/>
                </a:solidFill>
                <a:latin typeface="Arial"/>
              </a:rPr>
              <a:t>зелёным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664240" y="3068640"/>
            <a:ext cx="5449680" cy="216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Arial"/>
              </a:rPr>
              <a:t>2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Arial"/>
              </a:rPr>
              <a:t>голубым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Дата 4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550800" y="1197000"/>
            <a:ext cx="108410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 В коробке лежат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зелёных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голубых шариков.  Какова вероятность того, что выбранный наугад шарик окаж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775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50800" y="3715920"/>
            <a:ext cx="5113440" cy="245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а) выиграть фотоаппара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б) выиграть какой-нибудь приз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901840" y="3715920"/>
            <a:ext cx="5234040" cy="2459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Arial"/>
              </a:rPr>
              <a:t>2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а) выиграть телевизор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б) не выиграть никакого приз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Дата 4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95160" y="1341360"/>
            <a:ext cx="10514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 В лотерее разыгрывалось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телевизоро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магнитофоно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фотоаппаратов. Всего было выпущено 3000 лотерейных билетов. Какова вероятность выигр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СОБЫТИЯ БЫВАЮТ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9520" y="1483920"/>
            <a:ext cx="11052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чайным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возможным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оверными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вновероятным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the-writing-life-turning-coin-over-68397"/>
          <p:cNvPicPr/>
          <p:nvPr/>
        </p:nvPicPr>
        <p:blipFill>
          <a:blip r:embed="rId1"/>
          <a:stretch/>
        </p:blipFill>
        <p:spPr>
          <a:xfrm>
            <a:off x="8040600" y="1341360"/>
            <a:ext cx="345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ЙНЫЕ 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звенел школьный звонок;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ал снег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ника вызвали на уроке к доске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ный кот перебежал дорогу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Определение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99520" y="1413000"/>
            <a:ext cx="11052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е, которое в одних и тех же условиях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оизойти, а может и не произойти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йны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2e83c3"/>
                </a:solidFill>
                <a:uFillTx/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брасываем монету. Появился герб. А ведь могл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ться и цифра. То что появился Герб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йное событие</a:t>
            </a:r>
            <a:r>
              <a:rPr b="1" lang="ru-RU" sz="2800" spc="-1" strike="noStrike">
                <a:solidFill>
                  <a:srgbClr val="2e83c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релок поражает цель. Но мог и не попаст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ние в цель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йное событ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роятность случайного 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96920" y="1125000"/>
            <a:ext cx="100584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: Выпущено 1000000 лотерейных билетов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Разыгрывается один автомобиль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очень маленькая)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Разыгрываются 10 автомобиле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увеличивается)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Разыгрываются 999999 автомобиле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очень большая)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роятность случайного 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и случайных событий – это величины, которые можн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ва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нако для этого следует договориться, каким образом количественно оценивать возможность появления того или иного случайного событи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роятность случайного 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0800" y="1628280"/>
            <a:ext cx="8723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Разыгрывается один автомобиль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</a:t>
            </a: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1:100000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Разыгрываются 10 автомобиле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</a:t>
            </a: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10:100000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Разыгрываются 999999 автомобиле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</a:t>
            </a: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999999:100000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Определение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99520" y="1267920"/>
            <a:ext cx="110523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ука, которая занимается оценками вероятностей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лучайных событий</a:t>
            </a:r>
            <a:r>
              <a:rPr b="1" lang="ru-RU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ывается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ей вероятностей.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сус</dc:creator>
  <dc:description/>
  <dc:language>en-US</dc:language>
  <cp:lastModifiedBy>Соловьева Наталья</cp:lastModifiedBy>
  <dcterms:modified xsi:type="dcterms:W3CDTF">2023-01-19T17:06:14Z</dcterms:modified>
  <cp:revision>30</cp:revision>
  <dc:subject/>
  <dc:title>Деловой</dc:title>
</cp:coreProperties>
</file>