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12193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152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dt" idx="1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49018-ED5F-4922-8CE0-26DB90399F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C9897-C454-412F-A310-8E1B317D94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3320" cy="4008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CCDEA-462C-4058-8264-995DCC47E4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3ECD3-6D7D-4AD5-9490-4183B02E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63350-6FC9-4AFD-8CFA-C9252A3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8E69F-1A4D-4704-943B-9110951FD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08881-A289-45CD-BE3E-E1A6B08C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9E4B-3022-4BC1-8A8E-F994CD1EA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E9205-441E-430F-870A-C43AC49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6B013-9175-40DC-B843-0844C1EA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B97B2-AC2D-42D6-B153-3B12CEEC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AEEAC-D0E5-4C29-A8A6-CA318F2E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D5E9C-6717-42A1-8D9F-9A2C00C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90D3-B2AD-4EC0-BFC5-AAB43CF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53154-3C57-4397-A448-1598A33D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1ED20-D452-4488-9FBD-5B25FC84F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709484-06FA-4A0A-9A1C-1FC4D4B7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63C99-3EB3-4B9D-BD5E-8CD785D6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80637-0FDD-4973-939A-B6069AEC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9E66C-1FED-4C46-AFCA-E75B0F2C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A5D16-B707-4C9C-AE3B-52DB9535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2BEC5-FCEA-4499-B13A-53F1B62F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E8DDF-B620-487C-9B28-F8801B2B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5B742-22BC-4F65-A2D9-5521350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F467-55A4-41AE-A596-DCAE00FD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0F7C9-6171-47F1-AD9E-B5BE4790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4B8C9-53F8-4984-99F5-9FB8D864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7EB77-2719-41D5-880D-D0600356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C99296-9921-468F-B927-6D3CD685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09DC4-5CB2-4828-99BE-AD2828D6A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208EC-5C1F-4302-96FD-9BB4E903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4ABB1-43DB-46DD-811F-306A9572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207FC-3984-4AF2-BC1A-FBE20241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9E920-F02A-44F2-95BD-CE8AE33F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8F266D-BBCD-49AF-B202-82BD7624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0129-52FB-4B0D-B409-95624B9D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696BCC-0D1D-443F-A1B6-B12067B1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EA9984-CB4D-4BE3-BEC3-DEED60D4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7C3E50-2829-492C-8432-AE488BCF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83B6BF-28AD-40D4-A1A6-4D4416D2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165968-295E-4EC7-AF9B-F2250D49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B08910-8241-4C13-A870-22CE848E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EB4E0-9EEE-4965-A2E2-E7C52F7E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2517C9-8D53-49E0-883B-CD4FB56ED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C344E-6363-4A58-88AB-86ACE827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EB204-3FAA-45BE-BD0C-8307883B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4B7A8-265B-4BE1-9356-185934F3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99B92-F81C-486A-B8B8-C4B299F6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AA274-70D3-4D3A-8CBF-6E8118C8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1C488-1D77-48DC-9A13-086BED8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4632C-93E2-4A65-964C-BE38903F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C88AA-4E8A-4803-9280-B63356F4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320A8E-39DB-4304-A95C-B69ABBA7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FA4BF9-6E22-4269-AD3F-7527E63A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3AE491-4714-40B4-B358-160BAEB7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0D55CD-51A1-49E7-BCFB-DB6432F0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6A8A4-9DD4-462D-986C-695B6590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06A6-C84C-4088-B9EC-31407BE6F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F61C75-F136-4D34-94DF-508EEB3B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70DA-07FA-499B-BFFD-4CFAA1E6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0C798-1D99-4D68-A446-61523E06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2788C-E819-4200-BCA5-83C1F84E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5964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9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8610480" y="6356160"/>
            <a:ext cx="2741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5CCB3-7E1C-4A38-B349-19E1C9E8874A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49320" bIns="0" anchor="t">
            <a:normAutofit/>
          </a:bodyPr>
          <a:p>
            <a:pPr marL="343080" indent="0"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8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42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C01E6E-9197-4A2E-B53B-DA6F9B7EB2CF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94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6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7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8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6E04FF-6D66-436E-832D-247EE677BD6D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46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9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0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1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295474-BDBD-403C-8A50-225D160B8BDA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200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2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Arial"/>
              </a:rPr>
              <a:t>3.9.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3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4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C5FBBE0-4487-4B8C-AC28-763AF991F70A}" type="slidenum">
              <a:rPr b="0" lang="ru-RU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9040" y="2037960"/>
            <a:ext cx="756108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Случайные события.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Georgia"/>
              </a:rPr>
              <a:t>Вероятность случайного собы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55520" y="4581000"/>
            <a:ext cx="7561440" cy="12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7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 КЛАСС УМК: А.Г. МЕРЗЛЯК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6" descr="information_items_301"/>
          <p:cNvPicPr/>
          <p:nvPr/>
        </p:nvPicPr>
        <p:blipFill>
          <a:blip r:embed="rId1"/>
          <a:stretch/>
        </p:blipFill>
        <p:spPr>
          <a:xfrm rot="1364400">
            <a:off x="9912240" y="2133720"/>
            <a:ext cx="1141560" cy="12952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Three_dice"/>
          <p:cNvPicPr/>
          <p:nvPr/>
        </p:nvPicPr>
        <p:blipFill>
          <a:blip r:embed="rId2"/>
          <a:stretch/>
        </p:blipFill>
        <p:spPr>
          <a:xfrm>
            <a:off x="9408960" y="4076640"/>
            <a:ext cx="238788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99520" y="1196640"/>
            <a:ext cx="11052360" cy="49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в данных условиях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гда не происходят, называются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возможными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Вода в реке замёрзла при температуре +25 градусах;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 бросании игрального кубика появилось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6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очков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V4016"/>
          <p:cNvPicPr/>
          <p:nvPr/>
        </p:nvPicPr>
        <p:blipFill>
          <a:blip r:embed="rId1"/>
          <a:srcRect l="27101" t="14906" r="9881" b="22127"/>
          <a:stretch/>
        </p:blipFill>
        <p:spPr>
          <a:xfrm>
            <a:off x="10128240" y="5373720"/>
            <a:ext cx="1319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В лотерее нет ни одного призового билета –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играть автомобиль невозможно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е «выигрыш автомобиля»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евозможны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его вероятность равна 0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4440" y="259920"/>
            <a:ext cx="11052360" cy="9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3444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, которые при данных условиях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язательно происходят, называют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23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стоверными.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сле четверга наступила пятница; 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и бросании игрального кубика появилось 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   меньшее 7 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V4016"/>
          <p:cNvPicPr/>
          <p:nvPr/>
        </p:nvPicPr>
        <p:blipFill>
          <a:blip r:embed="rId1"/>
          <a:srcRect l="27105" t="14908" r="9889" b="22126"/>
          <a:stretch/>
        </p:blipFill>
        <p:spPr>
          <a:xfrm>
            <a:off x="9767880" y="4941720"/>
            <a:ext cx="16797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Каждый лотерейный билет является призовым -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игрыш гарантирован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е «выигрыш автомобиля» называют </a:t>
            </a: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стоверным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его вероятность равна 1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5fcbef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случайного события может быть любым числом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 0 до 1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5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помним </a:t>
            </a:r>
            <a:r>
              <a:rPr b="1" lang="ru-RU" sz="32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(для самоконтроля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достоверного события всегда равна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невозможного события всегда равна   </a:t>
            </a:r>
            <a:r>
              <a:rPr b="1" lang="ru-RU" sz="5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ь случайного события всегда             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</a:t>
            </a:r>
            <a:r>
              <a:rPr b="1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Р(А) </a:t>
            </a:r>
            <a:r>
              <a:rPr b="1" lang="en-US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lang="ru-RU" sz="4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4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ие из перечисленных событий случайные, достоверные, невозможные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втра пойдет снег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После четверга будет пятниц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думано число, не являющееся ни четным, ни нечетны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думано четное число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Завтра будет новый день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14440" indent="-51444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rebuchet MS"/>
              </a:rPr>
              <a:t>30 февраля- день рождения моего друга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Половина билетов оказалась призовой (события «выигрыш» и «невыигрыш» стали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вероятными</a:t>
            </a: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обытия называются равновероятными, если вероятность каждого из них была бы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а 1⁄2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МЕР (РИС. 80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подбрасывании игрального кубика можно получить один из шести результатов: выпадет 1, 2, 3, 4 , 5 или 6 очк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се эти шесть результатов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вновозможны.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этому естественно считать, что, например, вероятность события «выпадение 5 очков» равна ⅙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йдем вероятность того, что при бросании игрального кубика выпадет  число, кратное 3. В этом эксперименте из шести равновозможных исходов есть только два, которые нас устраивают:  выпадение3 или 6 очков. Эти два исхода назовём благоприятными. Вероятность того, что выпадет число, кратное 3, равно  2⁄6 = 1⁄3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77520" y="259920"/>
            <a:ext cx="8596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Классическое определение вероятност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64600" y="1341360"/>
            <a:ext cx="11050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оятностью события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405d1"/>
                </a:solidFill>
                <a:latin typeface="Times New Roman"/>
                <a:ea typeface="Times New Roman"/>
              </a:rPr>
              <a:t>называется отношение числа благоприятных для него исходов испытания к числу всех равновозможных исходов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где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 - число исходов, благоприятствующих осуществлению события, а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 </a:t>
            </a:r>
            <a:r>
              <a:rPr b="1" lang="ru-RU" sz="2800" spc="-1" strike="noStrike">
                <a:solidFill>
                  <a:srgbClr val="1010c2"/>
                </a:solidFill>
                <a:latin typeface="Times New Roman"/>
                <a:ea typeface="Times New Roman"/>
              </a:rPr>
              <a:t>- число всех возможных исходов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703520" y="4005360"/>
            <a:ext cx="4321080" cy="1511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Palatino Linotyp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77520" y="1268280"/>
            <a:ext cx="8596440" cy="47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звенел школьный звонок;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ника вызвали на уроке к доске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ле среды будет четверг;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ый кот перебежал дорогу;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ень рождения моего друга-20 января.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9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дача 1</a:t>
            </a:r>
            <a:endParaRPr b="0" lang="en-US" sz="5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64600" y="2060640"/>
            <a:ext cx="110509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</a:rPr>
              <a:t>Женя, Лена, Маша, Аня и Коля  бросили жребий – кому идти в магазин. Найдите вероятность того, что в магазин  надо будет идти Ане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 u="sng">
                <a:solidFill>
                  <a:srgbClr val="00206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2855880" y="4076640"/>
            <a:ext cx="8210520" cy="19274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gs-ic00"/>
          <p:cNvPicPr/>
          <p:nvPr/>
        </p:nvPicPr>
        <p:blipFill>
          <a:blip r:embed="rId2"/>
          <a:stretch/>
        </p:blipFill>
        <p:spPr>
          <a:xfrm>
            <a:off x="6527880" y="260280"/>
            <a:ext cx="461016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99520" y="274320"/>
            <a:ext cx="1105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9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Задача 2</a:t>
            </a:r>
            <a:endParaRPr b="0" lang="en-US" sz="59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99520" y="1268280"/>
            <a:ext cx="1105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росают игральную кость. Найдите вероятность того, что выпадет число, меньшее 4 очков.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Решение.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6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480960" y="3645000"/>
            <a:ext cx="8064720" cy="2297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V4016"/>
          <p:cNvPicPr/>
          <p:nvPr/>
        </p:nvPicPr>
        <p:blipFill>
          <a:blip r:embed="rId2"/>
          <a:srcRect l="27099" t="14902" r="9890" b="22126"/>
          <a:stretch/>
        </p:blipFill>
        <p:spPr>
          <a:xfrm>
            <a:off x="8977320" y="4149720"/>
            <a:ext cx="24001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ТОР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77520" y="1628280"/>
            <a:ext cx="85964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тановление и развитие теории вероятностей связаны с трудами таких выдающихся ученых, как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об Бернулли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654 - 1705)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ьер Лаплас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749 - 1827)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хард Мизес </a:t>
            </a: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1883 - 1953). В 20 в. особое значение приобрели работы выдающегося советского математика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дрея Николаевича Колмогоров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53520" y="33120"/>
            <a:ext cx="1105236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94800" y="3499920"/>
            <a:ext cx="4753080" cy="2403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а) Чётное числ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б) Число, кратное 3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880240" y="3429000"/>
            <a:ext cx="5114880" cy="25495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</a:rPr>
              <a:t>Вариант 2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а) Нечётное число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Arial"/>
              </a:rPr>
              <a:t>б) Число, кратное 4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0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695160" y="1125360"/>
            <a:ext cx="10730160" cy="21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.В коробке лежат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арточек, пронумерованных числам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т 1 до 1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ова вероятность того, что на наугад в вынутой карточке будет записа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63040" y="16488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79520" y="3141360"/>
            <a:ext cx="4751280" cy="215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404040"/>
                </a:solidFill>
                <a:latin typeface="Arial"/>
              </a:rPr>
              <a:t>зелёным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664240" y="3068640"/>
            <a:ext cx="5449680" cy="2160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404040"/>
                </a:solidFill>
                <a:latin typeface="Arial"/>
              </a:rPr>
              <a:t>голубым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5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550800" y="1197000"/>
            <a:ext cx="108410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 В коробке лежат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8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зелёных и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голубых шариков.  Какова вероятность того, что выбранный наугад шарик окаж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775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50800" y="3715920"/>
            <a:ext cx="5113440" cy="245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1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а) выиграть фотоаппарат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б) выиграть какой-нибудь приз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901840" y="3715920"/>
            <a:ext cx="5234040" cy="24591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Вариант 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Arial"/>
              </a:rPr>
              <a:t>2</a:t>
            </a: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а) выиграть телевизор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Arial"/>
              </a:rPr>
              <a:t>б) не выиграть никакого приза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Дата 4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95160" y="1341360"/>
            <a:ext cx="105141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 В лотерее разыгрывалось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телевизоро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магнитофоно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фотоаппаратов. Всего было выпущено 3000 лотерейных билетов. Какова вероятность выигра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СОБЫТИЯ БЫВАЮТ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99520" y="1483920"/>
            <a:ext cx="110523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чай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евозмож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остоверными 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вновероятными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the-writing-life-turning-coin-over-68397"/>
          <p:cNvPicPr/>
          <p:nvPr/>
        </p:nvPicPr>
        <p:blipFill>
          <a:blip r:embed="rId1"/>
          <a:stretch/>
        </p:blipFill>
        <p:spPr>
          <a:xfrm>
            <a:off x="8040600" y="1341360"/>
            <a:ext cx="3457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ЫЕ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звенел школьный звонок;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пал снег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еника вызвали на уроке к доске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Черный кот перебежал дорогу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9520" y="1413000"/>
            <a:ext cx="11052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е, которое в одних и тех же условиях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произойти, а может и не произойти,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ым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 u="sng">
                <a:solidFill>
                  <a:srgbClr val="2e83c3"/>
                </a:solidFill>
                <a:uFillTx/>
                <a:latin typeface="Times New Roman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Подбрасываем монету. Появился герб. А ведь могла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иться и цифра. То что появился Герб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ое событие</a:t>
            </a:r>
            <a:r>
              <a:rPr b="1" lang="ru-RU" sz="2800" spc="-1" strike="noStrike">
                <a:solidFill>
                  <a:srgbClr val="2e83c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релок поражает цель. Но мог и не попасть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дание в цель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учайное событи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4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6920"/>
            <a:ext cx="10058400" cy="6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96920" y="1125000"/>
            <a:ext cx="1005840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мер: Выпущено 1000000 лотерейных билетов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ыгрывается один автомобил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очень маленькая)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Разыгрываются 10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увеличивается)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Разыгрываются 999999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очень большая)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ероятности случайных событий – это величины, которые можно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вать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днако для этого следует договориться, каким образом количественно оценивать возможность появления того или иного случайного события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роятность случайного событ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50800" y="1628280"/>
            <a:ext cx="8723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Разыгрывается один автомобиль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;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Разыгрываются 10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10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Разыгрываются 999999 автомобилей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роятность выигрыша </a:t>
            </a:r>
            <a:r>
              <a:rPr b="1" lang="ru-RU" sz="36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999999:100000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2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99520" y="274680"/>
            <a:ext cx="1105236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933ff"/>
                </a:solidFill>
                <a:latin typeface="Times New Roman"/>
                <a:ea typeface="Times New Roman"/>
              </a:rPr>
              <a:t>Определение</a:t>
            </a:r>
            <a:endParaRPr b="0" lang="en-US" sz="54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99520" y="1267920"/>
            <a:ext cx="1105236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ука, которая занимается оценками вероятностей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лучайных событий</a:t>
            </a: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называется </a:t>
            </a: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орией вероятностей.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5" name="Дата 3"/>
          <p:cNvSpPr/>
          <p:nvPr/>
        </p:nvSpPr>
        <p:spPr>
          <a:xfrm>
            <a:off x="7205760" y="6041880"/>
            <a:ext cx="911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сус</dc:creator>
  <dc:description/>
  <dc:language>en-US</dc:language>
  <cp:lastModifiedBy>Соловьева Наталья</cp:lastModifiedBy>
  <dcterms:modified xsi:type="dcterms:W3CDTF">2023-01-19T17:06:14Z</dcterms:modified>
  <cp:revision>30</cp:revision>
  <dc:subject/>
  <dc:title>Деловой</dc:title>
</cp:coreProperties>
</file>