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9431-52AE-49E9-9059-7CA581F4D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DCA6-9AA4-461D-A492-71AAF5F9F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FE50-7AE2-48F0-BDE9-EB1515DFA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801A-51ED-4BF6-B792-B03528F3C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2EF79-C8B7-4B1B-AC38-705A91075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9CCF1-0B8B-4091-A07F-7680438A5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C3AA9-7AE7-4F2C-9F4A-029755A04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6247A-F2E0-41CB-8EEC-4CED96598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071AF-3FB9-4CD5-9927-BE5C2AFE1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5A670-B958-47E4-8239-96DEC3A4C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5493B-5455-473F-99FF-F6621A573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A4D2-DFC9-49E8-B2FA-D3CE760F3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6ED86-6B49-4FD0-953B-8F5DCE0B8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388A4-24E9-4BF4-B1B0-62B5CAEB6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1705F-D4C1-4C03-980C-175ACC8A1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30D96-7A92-43D8-928E-B3A977F7D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473A6-3A11-4505-AA16-F58B23D0E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E9DA-9F1E-4716-B738-C069737EF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DFA1-4BF3-4560-815F-399144EFD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A18C-0220-4A17-995A-4F1FDA3C1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9B9C-F53D-4549-9532-5ABDEE54D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83C8-7F24-48DC-9363-CC15EBA2F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6910-3ED0-47ED-BC4E-079347B86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C2FF-BC68-4A0C-8EBE-387B9FF44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9EFDD-009E-46B9-9D43-4EBF8835A19F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Rectangle 3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Line 5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F89E6-1BA1-411B-AF2C-AD34168A581A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Реалистическое направление в творчестве художника            В.И. Мешкова</a:t>
            </a:r>
            <a:r>
              <a:rPr b="0" lang="ru-RU" sz="6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18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"/>
              </a:rPr>
              <a:t>Выполнила: Овсеева Влада,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"/>
              </a:rPr>
              <a:t>                           </a:t>
            </a:r>
            <a:r>
              <a:rPr b="0" lang="ru-RU" sz="1700" spc="-1" strike="noStrike">
                <a:solidFill>
                  <a:srgbClr val="ffffff"/>
                </a:solidFill>
                <a:latin typeface="Arial"/>
              </a:rPr>
              <a:t>ученица 6 «А» класса 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ru-RU" sz="1700" spc="-1" strike="noStrike">
                <a:solidFill>
                  <a:srgbClr val="ffffff"/>
                </a:solidFill>
                <a:latin typeface="Arial"/>
              </a:rPr>
              <a:t>города Боготола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ru-RU" sz="1700" spc="-1" strike="noStrike">
                <a:solidFill>
                  <a:srgbClr val="ffffff"/>
                </a:solidFill>
                <a:latin typeface="Arial"/>
              </a:rPr>
              <a:t>МБОУ «СОШ № 3»   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0" lang="ru-RU" sz="1700" spc="-1" strike="noStrike">
                <a:solidFill>
                  <a:srgbClr val="ffffff"/>
                </a:solidFill>
                <a:latin typeface="Arial"/>
              </a:rPr>
              <a:t>Руководитель: Сивакова Светлана  Васильевна,                                   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"/>
              </a:rPr>
              <a:t>                                   </a:t>
            </a:r>
            <a:r>
              <a:rPr b="0" lang="ru-RU" sz="1700" spc="-1" strike="noStrike">
                <a:solidFill>
                  <a:srgbClr val="ffffff"/>
                </a:solidFill>
                <a:latin typeface="Arial"/>
              </a:rPr>
              <a:t>учитель изобразительного                                  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"/>
              </a:rPr>
              <a:t>                                       </a:t>
            </a:r>
            <a:r>
              <a:rPr b="0" lang="ru-RU" sz="1700" spc="-1" strike="noStrike">
                <a:solidFill>
                  <a:srgbClr val="ffffff"/>
                </a:solidFill>
                <a:latin typeface="Arial"/>
              </a:rPr>
              <a:t>искусства МБОУ «СОШ № 3»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Проблем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Много материала по художественному творчеству В.И.Мешкова, но в основном этот материал о художественном своеобразии его картин. А вот отношение его произведений  к реализму  почти не изучено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Цель работы 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Arial"/>
              </a:rPr>
              <a:t>Исследование художественного творчества В.И. Мешкова на влияние реализма и определение её роли в графических произведениях художника в разные периоды его творчества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Задачи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Изучить основы реализма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Определить основные направления творчества художника, в которых используется  реализм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Проанализировать влияние реализма на художественное творчество  В.И.Мешкова в докладе «Реалистическое направление в изобразительной деятельности художника»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960-е ГОДЫ – ВРЕМЯ РАЗВИТИЯ        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ГРАФИЧСКОГО ИСКУССТВА, КАК 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ИСКУССТВА ДЕЙТВИТЕЛЬНОСТ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800600" y="1980720"/>
            <a:ext cx="3200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990000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Arial"/>
              </a:rPr>
              <a:t>В.И.Мешков      сумел    увидеть и раскрыть поэзию труда и подлинную романтику.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9" descr="DSC01917-1"/>
          <p:cNvPicPr/>
          <p:nvPr/>
        </p:nvPicPr>
        <p:blipFill>
          <a:blip r:embed="rId1"/>
          <a:stretch/>
        </p:blipFill>
        <p:spPr>
          <a:xfrm>
            <a:off x="533520" y="2347920"/>
            <a:ext cx="4000320" cy="30002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КРУЖАЮЩАЯ ДЕЙСТВИТЕЛЬНОСТЬ КАК ПРЕДМЕТ ТВОРЧЕСТВА ХУДОЖНИК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2" name="Picture 9" descr="IMG_4365"/>
          <p:cNvPicPr/>
          <p:nvPr/>
        </p:nvPicPr>
        <p:blipFill>
          <a:blip r:embed="rId1"/>
          <a:stretch/>
        </p:blipFill>
        <p:spPr>
          <a:xfrm>
            <a:off x="1533600" y="1905120"/>
            <a:ext cx="2781360" cy="18316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03" name="Picture 10" descr="IMG_4361"/>
          <p:cNvPicPr/>
          <p:nvPr/>
        </p:nvPicPr>
        <p:blipFill>
          <a:blip r:embed="rId2"/>
          <a:stretch/>
        </p:blipFill>
        <p:spPr>
          <a:xfrm>
            <a:off x="1533600" y="3871800"/>
            <a:ext cx="2781360" cy="20844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04" name="Picture 13" descr="IMG_4360"/>
          <p:cNvPicPr/>
          <p:nvPr/>
        </p:nvPicPr>
        <p:blipFill>
          <a:blip r:embed="rId3"/>
          <a:stretch/>
        </p:blipFill>
        <p:spPr>
          <a:xfrm>
            <a:off x="4800600" y="1905120"/>
            <a:ext cx="2895480" cy="19429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05" name="Picture 14" descr="IMG_4366"/>
          <p:cNvPicPr/>
          <p:nvPr/>
        </p:nvPicPr>
        <p:blipFill>
          <a:blip r:embed="rId4"/>
          <a:stretch/>
        </p:blipFill>
        <p:spPr>
          <a:xfrm>
            <a:off x="4800600" y="4038480"/>
            <a:ext cx="2981160" cy="18655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ушевная щедрость, острая наблюдательность нашли своё отражение в пейзажных полотнах              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         В.И.Мешкова.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Picture 11" descr="DSC01921-1"/>
          <p:cNvPicPr/>
          <p:nvPr/>
        </p:nvPicPr>
        <p:blipFill>
          <a:blip r:embed="rId1"/>
          <a:stretch/>
        </p:blipFill>
        <p:spPr>
          <a:xfrm>
            <a:off x="685800" y="3048120"/>
            <a:ext cx="2428920" cy="18190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08" name="Picture 14" descr="DSC01918-1"/>
          <p:cNvPicPr/>
          <p:nvPr/>
        </p:nvPicPr>
        <p:blipFill>
          <a:blip r:embed="rId2"/>
          <a:stretch/>
        </p:blipFill>
        <p:spPr>
          <a:xfrm>
            <a:off x="3352680" y="3048120"/>
            <a:ext cx="2476800" cy="18572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09" name="Picture 15" descr="DSC01920-1"/>
          <p:cNvPicPr/>
          <p:nvPr/>
        </p:nvPicPr>
        <p:blipFill>
          <a:blip r:embed="rId3"/>
          <a:stretch/>
        </p:blipFill>
        <p:spPr>
          <a:xfrm>
            <a:off x="6095880" y="3048120"/>
            <a:ext cx="2514600" cy="18856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Выводы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втор использовал в своём творчестве реализм как связь с  жизнь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Художник  передал в картинах материальную сущность, объёмность формы зрительно и ощутимо, поэтическое чувство полноты жизни, великое разнообразие окружающей действительно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Художественное творчество В.И.Мешкова поистине народное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ветик</cp:lastModifiedBy>
  <dcterms:modified xsi:type="dcterms:W3CDTF">2014-01-15T13:47:01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