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128D-2F02-4253-9F72-59016FC81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9478-DDA4-418C-B0C6-3CC92BB7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3778-2BC1-4646-B6DC-CC9963CEB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F78F-7E27-4C98-B158-D492D721E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F86D-C97D-49B4-8526-D87334F3F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60FA-29BB-454F-9733-15981A2A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F14B3-BD6F-48CD-9348-641F072E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0C168-9E57-4298-85E5-F872CB55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C5C65-CDEC-4736-891A-F86582D5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C519-E830-4EEB-940B-AD094D02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28FD-5ED3-4561-84BF-0C481648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D27D-535F-4453-8646-2A60BF5D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4B8F-96AD-49D9-9CD3-857AAC56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2B06A-7164-4E94-A467-E2B05E9B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60E2-F16A-4095-BC6F-0482D682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E6EA-7EDB-45AD-8A27-009161E1C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01A7C-13BE-407D-9AB6-F2A6A9957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C674-6CF4-4292-9341-116F6764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67FF-3274-4984-8170-F0AB412F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1B09-BAF9-4F99-A62A-01CB7EB9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CDB7-9A13-41C1-8565-CEAFF609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063D-BFEF-4299-A255-D8701138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A3E9-7064-49EF-8809-D4C09033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BA23-2B95-46D8-9EA0-EFEE095F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43C0-DA06-4666-911A-38D5AD09530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FA46-3FBD-43D4-9F33-D6C111EAF32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еалистическое направление в творчестве художника            В.И. Мешкова</a:t>
            </a:r>
            <a:r>
              <a:rPr b="0" lang="ru-RU" sz="6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Выполнила: Овсеева Влада,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ученица 6 «А» класса 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города Боготола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МБОУ «СОШ № 3»   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Руководитель: Сивакова Светлана  Васильевна,                                   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учитель изобразительного                                  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искусства МБОУ «СОШ № 3»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Проблем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Много материала по художественному творчеству В.И.Мешкова, но в основном этот материал о художественном своеобразии его картин. А вот отношение его произведений  к реализму  почти не изучено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Цель работы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Исследование художественного творчества В.И. Мешкова на влияние реализма и определение её роли в графических произведениях художника в разные периоды его творчества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Задач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Изучить основы реализма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Определить основные направления творчества художника, в которых используется  реализм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Проанализировать влияние реализма на художественное творчество  В.И.Мешкова в докладе «Реалистическое направление в изобразительной деятельности художника»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960-е ГОДЫ – ВРЕМЯ РАЗВИТИЯ        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ГРАФИЧСКОГО ИСКУССТВА, КАК 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ИСКУССТВА ДЕЙТВИТЕЛЬНО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800600" y="1980720"/>
            <a:ext cx="3200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В.И.Мешков      сумел    увидеть и раскрыть поэзию труда и подлинную романтику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9" descr="DSC01917-1"/>
          <p:cNvPicPr/>
          <p:nvPr/>
        </p:nvPicPr>
        <p:blipFill>
          <a:blip r:embed="rId1"/>
          <a:stretch/>
        </p:blipFill>
        <p:spPr>
          <a:xfrm>
            <a:off x="533520" y="2347920"/>
            <a:ext cx="4000320" cy="3000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КРУЖАЮЩАЯ ДЕЙСТВИТЕЛЬНОСТЬ КАК ПРЕДМЕТ ТВОРЧЕСТВА ХУДОЖНИ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9" descr="IMG_4365"/>
          <p:cNvPicPr/>
          <p:nvPr/>
        </p:nvPicPr>
        <p:blipFill>
          <a:blip r:embed="rId1"/>
          <a:stretch/>
        </p:blipFill>
        <p:spPr>
          <a:xfrm>
            <a:off x="1533600" y="1905120"/>
            <a:ext cx="2781360" cy="1831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3" name="Picture 10" descr="IMG_4361"/>
          <p:cNvPicPr/>
          <p:nvPr/>
        </p:nvPicPr>
        <p:blipFill>
          <a:blip r:embed="rId2"/>
          <a:stretch/>
        </p:blipFill>
        <p:spPr>
          <a:xfrm>
            <a:off x="1533600" y="3871800"/>
            <a:ext cx="2781360" cy="2084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4" name="Picture 13" descr="IMG_4360"/>
          <p:cNvPicPr/>
          <p:nvPr/>
        </p:nvPicPr>
        <p:blipFill>
          <a:blip r:embed="rId3"/>
          <a:stretch/>
        </p:blipFill>
        <p:spPr>
          <a:xfrm>
            <a:off x="4800600" y="1905120"/>
            <a:ext cx="2895480" cy="1942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5" name="Picture 14" descr="IMG_4366"/>
          <p:cNvPicPr/>
          <p:nvPr/>
        </p:nvPicPr>
        <p:blipFill>
          <a:blip r:embed="rId4"/>
          <a:stretch/>
        </p:blipFill>
        <p:spPr>
          <a:xfrm>
            <a:off x="4800600" y="4038480"/>
            <a:ext cx="2981160" cy="1865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ушевная щедрость, острая наблюдательность нашли своё отражение в пейзажных полотнах              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В.И.Мешкова.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11" descr="DSC01921-1"/>
          <p:cNvPicPr/>
          <p:nvPr/>
        </p:nvPicPr>
        <p:blipFill>
          <a:blip r:embed="rId1"/>
          <a:stretch/>
        </p:blipFill>
        <p:spPr>
          <a:xfrm>
            <a:off x="685800" y="3048120"/>
            <a:ext cx="2428920" cy="1819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8" name="Picture 14" descr="DSC01918-1"/>
          <p:cNvPicPr/>
          <p:nvPr/>
        </p:nvPicPr>
        <p:blipFill>
          <a:blip r:embed="rId2"/>
          <a:stretch/>
        </p:blipFill>
        <p:spPr>
          <a:xfrm>
            <a:off x="3352680" y="3048120"/>
            <a:ext cx="2476800" cy="1857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9" name="Picture 15" descr="DSC01920-1"/>
          <p:cNvPicPr/>
          <p:nvPr/>
        </p:nvPicPr>
        <p:blipFill>
          <a:blip r:embed="rId3"/>
          <a:stretch/>
        </p:blipFill>
        <p:spPr>
          <a:xfrm>
            <a:off x="6095880" y="3048120"/>
            <a:ext cx="2514600" cy="1885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ывод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втор использовал в своём творчестве реализм как связь с  жизнь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удожник  передал в картинах материальную сущность, объёмность формы зрительно и ощутимо, поэтическое чувство полноты жизни, великое разнообразие окружающей действитель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удожественное творчество В.И.Мешкова поистине народное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ветик</cp:lastModifiedBy>
  <dcterms:modified xsi:type="dcterms:W3CDTF">2014-01-15T13:47:0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