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9C41-6F61-49C2-86BF-27B4E50E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B82A-3853-4128-B7AE-99222B17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E872-2159-47AC-8DF9-736198ED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0F18-4665-4887-B2E0-7EEAB6AC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9505-FD37-463A-BA92-D3B440B2B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DA74-11C4-4282-8935-566ECEEF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2816-F38C-4611-B69D-2A1878F5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CDCE-5A11-489B-A64B-1BC85CB7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7A7E-D9F8-410C-B5A6-60CFD337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7588-3CAA-42CC-87C0-2DBCB477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D618-1874-4CD5-91D5-83B2A883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5B93-E704-416A-A3A2-3A1EC2D2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B35D-E2FF-4CFE-BE14-CBF5F583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037A-8EC3-4D01-A0BA-F3910312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4B40-FF29-4B44-B2BF-E8B1DC77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703AD-2B90-4538-B782-85ED371C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E6DC-6C9C-43B7-AB82-42B795F9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FD1A-E83E-4065-89AC-C8A593AE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4133-5B18-4A78-9036-7F845332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DC5F-3E9B-41FD-84A3-BA54D3DF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82B3-7C30-43B7-B354-A58DF697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61E0-0E64-43FB-AF3A-90990429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820-309F-4B05-A68A-223337A0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E45F-152E-4807-80FF-F18D8396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F2A7-041A-402C-BB59-BDCDC230A1A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2603-C5B0-4D32-868D-7B18103129C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7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иды дизайна 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71680" y="3428640"/>
            <a:ext cx="83930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втор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линцова Диана Александровн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ница 9 класс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уководитель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ивакова Светлана Васильевн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изобразительного искус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5716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Графический дизайн – это промышленная графика, различные оформительские, изобразительные и шрифтовые работы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8" name="Picture 4" descr="1237803499_bezymjannyjj"/>
          <p:cNvPicPr/>
          <p:nvPr/>
        </p:nvPicPr>
        <p:blipFill>
          <a:blip r:embed="rId1"/>
          <a:stretch/>
        </p:blipFill>
        <p:spPr>
          <a:xfrm>
            <a:off x="684360" y="2276640"/>
            <a:ext cx="7619760" cy="400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роцесс создания знаковых изображений в графическом дизайне может быть одним из примеров стилизации формы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0" name="Picture 4" descr="design-icon-big"/>
          <p:cNvPicPr/>
          <p:nvPr/>
        </p:nvPicPr>
        <p:blipFill>
          <a:blip r:embed="rId1"/>
          <a:stretch/>
        </p:blipFill>
        <p:spPr>
          <a:xfrm>
            <a:off x="6732720" y="34290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image-173a737d"/>
          <p:cNvPicPr/>
          <p:nvPr/>
        </p:nvPicPr>
        <p:blipFill>
          <a:blip r:embed="rId2"/>
          <a:stretch/>
        </p:blipFill>
        <p:spPr>
          <a:xfrm>
            <a:off x="826920" y="2276640"/>
            <a:ext cx="4572000" cy="401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3538440" cy="5927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Книжный дизайн</a:t>
            </a: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 – </a:t>
            </a: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это новые, разнообразные конструкции книги.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Picture 5" descr="9503-1-f"/>
          <p:cNvPicPr/>
          <p:nvPr/>
        </p:nvPicPr>
        <p:blipFill>
          <a:blip r:embed="rId1"/>
          <a:stretch/>
        </p:blipFill>
        <p:spPr>
          <a:xfrm>
            <a:off x="4284720" y="260280"/>
            <a:ext cx="4046400" cy="6310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63640" y="836640"/>
            <a:ext cx="3241800" cy="5424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Визаж (искусство макияжа) –создание прекрасного облика человека.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5" name="Picture 4" descr="vizazh1_1"/>
          <p:cNvPicPr/>
          <p:nvPr/>
        </p:nvPicPr>
        <p:blipFill>
          <a:blip r:embed="rId1"/>
          <a:stretch/>
        </p:blipFill>
        <p:spPr>
          <a:xfrm>
            <a:off x="324000" y="260280"/>
            <a:ext cx="4735440" cy="633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125467260"/>
          <p:cNvPicPr/>
          <p:nvPr/>
        </p:nvPicPr>
        <p:blipFill>
          <a:blip r:embed="rId1"/>
          <a:stretch/>
        </p:blipFill>
        <p:spPr>
          <a:xfrm>
            <a:off x="179280" y="476280"/>
            <a:ext cx="4222800" cy="5629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vizag10"/>
          <p:cNvPicPr/>
          <p:nvPr/>
        </p:nvPicPr>
        <p:blipFill>
          <a:blip r:embed="rId2"/>
          <a:stretch/>
        </p:blipFill>
        <p:spPr>
          <a:xfrm>
            <a:off x="5003640" y="476280"/>
            <a:ext cx="3816360" cy="573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Дизайн одежды – моделирование и конструирование одежды.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4" descr="5"/>
          <p:cNvPicPr/>
          <p:nvPr/>
        </p:nvPicPr>
        <p:blipFill>
          <a:blip r:embed="rId1"/>
          <a:stretch/>
        </p:blipFill>
        <p:spPr>
          <a:xfrm>
            <a:off x="5076720" y="1916280"/>
            <a:ext cx="3048120" cy="4572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8272d09859044b3bf72bf87c0a090b10"/>
          <p:cNvPicPr/>
          <p:nvPr/>
        </p:nvPicPr>
        <p:blipFill>
          <a:blip r:embed="rId2"/>
          <a:stretch/>
        </p:blipFill>
        <p:spPr>
          <a:xfrm>
            <a:off x="755640" y="184464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Мода – это отражение нашего мировоззрения, образа жизни, культурного уровня, социальных условий и других слагаемых жизни общества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2" name="Picture 4" descr="odezhda_ot_proizvoditelya_optom_i_roznitsu_15446692_1_F"/>
          <p:cNvPicPr/>
          <p:nvPr/>
        </p:nvPicPr>
        <p:blipFill>
          <a:blip r:embed="rId1"/>
          <a:stretch/>
        </p:blipFill>
        <p:spPr>
          <a:xfrm>
            <a:off x="5867280" y="2060640"/>
            <a:ext cx="2305080" cy="4581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odezhda"/>
          <p:cNvPicPr/>
          <p:nvPr/>
        </p:nvPicPr>
        <p:blipFill>
          <a:blip r:embed="rId2"/>
          <a:stretch/>
        </p:blipFill>
        <p:spPr>
          <a:xfrm>
            <a:off x="1042920" y="2205000"/>
            <a:ext cx="285768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3743280" cy="590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2b2b2"/>
                </a:solidFill>
                <a:latin typeface="Arial"/>
              </a:rPr>
              <a:t>Фитодизайн – составление отдельных объемных или плоских композиций из живых или засушенных цветов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5" descr="3293_11"/>
          <p:cNvPicPr/>
          <p:nvPr/>
        </p:nvPicPr>
        <p:blipFill>
          <a:blip r:embed="rId1"/>
          <a:stretch/>
        </p:blipFill>
        <p:spPr>
          <a:xfrm>
            <a:off x="4356000" y="404640"/>
            <a:ext cx="4578480" cy="612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355160" cy="201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Ландшафтный дизайн – дизайн среды.  Дизайнер занимается озеленением и благоустройством территорий.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7" name="Picture 5" descr="landles2"/>
          <p:cNvPicPr/>
          <p:nvPr/>
        </p:nvPicPr>
        <p:blipFill>
          <a:blip r:embed="rId1"/>
          <a:stretch/>
        </p:blipFill>
        <p:spPr>
          <a:xfrm>
            <a:off x="1763640" y="2565360"/>
            <a:ext cx="6096240" cy="4019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722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5280" y="691920"/>
            <a:ext cx="839304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3"/>
          <p:cNvSpPr/>
          <p:nvPr/>
        </p:nvSpPr>
        <p:spPr>
          <a:xfrm>
            <a:off x="539640" y="907920"/>
            <a:ext cx="770436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Цель проект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пробуждение интереса  к дизайну одежды, эстетике, красоте, стремлению увидеть интересное и необычн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Задачи проект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:                                                                                                                                    - изучить виды дизайна;                                                                                                                          - изучить направления дизайна;                                                                                                           - выполнить дизайн одежды;                                                                                                             - воспитывать чувство красоты, функциональности, эстети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379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920" y="2060280"/>
            <a:ext cx="839304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Актуальность проекта</a:t>
            </a: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ес к дизайну в современном мире всё возрастает. А происходит это потому, что благодаря техническому прогрессу все научились владеть компьютер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3640" y="981000"/>
            <a:ext cx="8569080" cy="446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5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Я ВОЗНИКНОВЕНИЯ ДИЗАЙНА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  <a:ea typeface="Calibri"/>
              </a:rPr>
              <a:t>Дизайн (англ, design - чертеж, проект, замысел) - особый метод проектирования, при котором объекту кроме его основного предназначения придаются качества красоты, экономичности, прочности и удобства. Это художественное проектирование и конструирование эстетических свойств окружающего нас предметного мира.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7993080" cy="302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5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Я ВОЗНИКНОВЕНИЯ ДИЗАЙН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Цель дизайна – художественное проектирование предметно-пространственной среды человека, конструирование эстетических свойств окружающего нас предметного мира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Задачи:                                                                                                                </a:t>
            </a:r>
            <a:br>
              <a:rPr sz="2800"/>
            </a:b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-польза и красота</a:t>
            </a:r>
            <a:br>
              <a:rPr sz="2800"/>
            </a:b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-удобство</a:t>
            </a:r>
            <a:br>
              <a:rPr sz="2800"/>
            </a:b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-простота изготовления</a:t>
            </a:r>
            <a:br>
              <a:rPr sz="2800"/>
            </a:b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-серийность</a:t>
            </a:r>
            <a:br>
              <a:rPr sz="2800"/>
            </a:b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-транспортировка</a:t>
            </a:r>
            <a:br>
              <a:rPr sz="2800"/>
            </a:b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-упаковка и т.д</a:t>
            </a:r>
            <a:r>
              <a:rPr b="1" lang="ru-RU" sz="2800" spc="-1" strike="noStrike">
                <a:solidFill>
                  <a:srgbClr val="b2b2b2"/>
                </a:solidFill>
                <a:latin typeface="Arial"/>
              </a:rPr>
              <a:t>.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8" name="Picture 4" descr="162953"/>
          <p:cNvPicPr/>
          <p:nvPr/>
        </p:nvPicPr>
        <p:blipFill>
          <a:blip r:embed="rId1"/>
          <a:stretch/>
        </p:blipFill>
        <p:spPr>
          <a:xfrm>
            <a:off x="4643280" y="3141720"/>
            <a:ext cx="4284720" cy="2716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ромышленный дизайн – это конструирование станков, транспортных средств, бытовых приборов, посуды, мебели и многого другого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0" name="Picture 4" descr="139054_200901218"/>
          <p:cNvPicPr/>
          <p:nvPr/>
        </p:nvPicPr>
        <p:blipFill>
          <a:blip r:embed="rId1"/>
          <a:stretch/>
        </p:blipFill>
        <p:spPr>
          <a:xfrm>
            <a:off x="395280" y="2205000"/>
            <a:ext cx="3908520" cy="4186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139052_200901216"/>
          <p:cNvPicPr/>
          <p:nvPr/>
        </p:nvPicPr>
        <p:blipFill>
          <a:blip r:embed="rId2"/>
          <a:stretch/>
        </p:blipFill>
        <p:spPr>
          <a:xfrm>
            <a:off x="4716360" y="2276640"/>
            <a:ext cx="4143600" cy="4189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580000" y="380520"/>
            <a:ext cx="3106800" cy="3048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Художник всегда выражает себя в своих произведениях.</a:t>
            </a: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3" name="Picture 5" descr="139061_2009012115"/>
          <p:cNvPicPr/>
          <p:nvPr/>
        </p:nvPicPr>
        <p:blipFill>
          <a:blip r:embed="rId1"/>
          <a:stretch/>
        </p:blipFill>
        <p:spPr>
          <a:xfrm>
            <a:off x="4643280" y="3141720"/>
            <a:ext cx="4286520" cy="3324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139070_2009012124"/>
          <p:cNvPicPr/>
          <p:nvPr/>
        </p:nvPicPr>
        <p:blipFill>
          <a:blip r:embed="rId2"/>
          <a:stretch/>
        </p:blipFill>
        <p:spPr>
          <a:xfrm>
            <a:off x="250920" y="26028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62800" cy="1824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оздание новой вещи – сложный творческий производственный процесс, в котором участвуют: учёные, инженеры и дизайнеры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Picture 6" descr="7"/>
          <p:cNvPicPr/>
          <p:nvPr/>
        </p:nvPicPr>
        <p:blipFill>
          <a:blip r:embed="rId1"/>
          <a:stretch/>
        </p:blipFill>
        <p:spPr>
          <a:xfrm>
            <a:off x="611280" y="2421000"/>
            <a:ext cx="8026200" cy="4089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6:58:00Z</dcterms:created>
  <dc:creator>Neo</dc:creator>
  <dc:description/>
  <dc:language>en-US</dc:language>
  <cp:lastModifiedBy>uzer13</cp:lastModifiedBy>
  <dcterms:modified xsi:type="dcterms:W3CDTF">2020-03-14T02:24:50Z</dcterms:modified>
  <cp:revision>18</cp:revision>
  <dc:subject/>
  <dc:title>Виды дизайна</dc:title>
</cp:coreProperties>
</file>