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04-D870-47CC-8EAA-BE2F81F1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D54-F52D-4C8B-8244-E2D0CC28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872-4CE9-42EF-868C-F43403A9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E8E-691D-4C22-8802-F7EF586A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680-EAE3-440A-8AE8-0F9796AC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442B-F00B-41A1-ACD8-047891C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73FF-C090-45E9-AAA3-C80518B4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1F8-9FB0-4864-B59D-591ECB7F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023-7D89-4A93-AED3-F627A56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832B-5E8B-449A-A22D-90CF746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8C68-F032-41E2-8D08-3291E569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3A0-F58E-431B-805A-53FEB5FC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1ADE-969F-4DCD-9D50-63FE95C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035-43DA-482D-8928-2B107C0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441-18B7-4095-BB73-49B65757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A08B-B787-4DBF-BF06-6B0AD57D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5C69-7900-4B50-B29B-20FE61A2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0BB-FB1B-47BD-B891-D9DB25E2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674-3C0A-488C-822D-40D777D5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C19-1599-431C-9639-2172AA5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571-74CB-4E8D-A57E-A818E077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1AD-D5E8-4FA4-A7B8-637CE82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E3D-A0A6-4710-B831-74EB2A4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1F2-2C4A-4307-ADCB-606EB325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E758-53F9-4C4F-A1C0-4450B45D83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8C2-3D2E-472B-BD0F-D13DAE2311B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иды дизайна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3428640"/>
            <a:ext cx="83930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линцова Диана Александро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ивакова Светлана Василье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рафический дизайн – это промышленная графика, различные оформительские, изобразительные и шрифтовые работ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4" descr="1237803499_bezymjannyjj"/>
          <p:cNvPicPr/>
          <p:nvPr/>
        </p:nvPicPr>
        <p:blipFill>
          <a:blip r:embed="rId1"/>
          <a:stretch/>
        </p:blipFill>
        <p:spPr>
          <a:xfrm>
            <a:off x="684360" y="2276640"/>
            <a:ext cx="7619760" cy="40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 создания знаковых изображений в графическом дизайне может быть одним из примеров стилизации фор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4" descr="design-icon-big"/>
          <p:cNvPicPr/>
          <p:nvPr/>
        </p:nvPicPr>
        <p:blipFill>
          <a:blip r:embed="rId1"/>
          <a:stretch/>
        </p:blipFill>
        <p:spPr>
          <a:xfrm>
            <a:off x="67327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mage-173a737d"/>
          <p:cNvPicPr/>
          <p:nvPr/>
        </p:nvPicPr>
        <p:blipFill>
          <a:blip r:embed="rId2"/>
          <a:stretch/>
        </p:blipFill>
        <p:spPr>
          <a:xfrm>
            <a:off x="826920" y="2276640"/>
            <a:ext cx="4572000" cy="40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538440" cy="5927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Книжный дизайн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это новые, разнообразные конструкции книги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5" descr="9503-1-f"/>
          <p:cNvPicPr/>
          <p:nvPr/>
        </p:nvPicPr>
        <p:blipFill>
          <a:blip r:embed="rId1"/>
          <a:stretch/>
        </p:blipFill>
        <p:spPr>
          <a:xfrm>
            <a:off x="4284720" y="260280"/>
            <a:ext cx="4046400" cy="63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63640" y="836640"/>
            <a:ext cx="3241800" cy="54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изаж (искусство макияжа) –создание прекрасного облика человека.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4" descr="vizazh1_1"/>
          <p:cNvPicPr/>
          <p:nvPr/>
        </p:nvPicPr>
        <p:blipFill>
          <a:blip r:embed="rId1"/>
          <a:stretch/>
        </p:blipFill>
        <p:spPr>
          <a:xfrm>
            <a:off x="324000" y="260280"/>
            <a:ext cx="47354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25467260"/>
          <p:cNvPicPr/>
          <p:nvPr/>
        </p:nvPicPr>
        <p:blipFill>
          <a:blip r:embed="rId1"/>
          <a:stretch/>
        </p:blipFill>
        <p:spPr>
          <a:xfrm>
            <a:off x="179280" y="476280"/>
            <a:ext cx="4222800" cy="5629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vizag10"/>
          <p:cNvPicPr/>
          <p:nvPr/>
        </p:nvPicPr>
        <p:blipFill>
          <a:blip r:embed="rId2"/>
          <a:stretch/>
        </p:blipFill>
        <p:spPr>
          <a:xfrm>
            <a:off x="5003640" y="476280"/>
            <a:ext cx="3816360" cy="573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изайн одежды – моделирование и конструирование одежды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5"/>
          <p:cNvPicPr/>
          <p:nvPr/>
        </p:nvPicPr>
        <p:blipFill>
          <a:blip r:embed="rId1"/>
          <a:stretch/>
        </p:blipFill>
        <p:spPr>
          <a:xfrm>
            <a:off x="5076720" y="19162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8272d09859044b3bf72bf87c0a090b10"/>
          <p:cNvPicPr/>
          <p:nvPr/>
        </p:nvPicPr>
        <p:blipFill>
          <a:blip r:embed="rId2"/>
          <a:stretch/>
        </p:blipFill>
        <p:spPr>
          <a:xfrm>
            <a:off x="755640" y="184464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ода – это отражение нашего мировоззрения, образа жизни, культурного уровня, социальных условий и других слагаемых жизни общества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4" descr="odezhda_ot_proizvoditelya_optom_i_roznitsu_15446692_1_F"/>
          <p:cNvPicPr/>
          <p:nvPr/>
        </p:nvPicPr>
        <p:blipFill>
          <a:blip r:embed="rId1"/>
          <a:stretch/>
        </p:blipFill>
        <p:spPr>
          <a:xfrm>
            <a:off x="5867280" y="2060640"/>
            <a:ext cx="2305080" cy="4581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odezhda"/>
          <p:cNvPicPr/>
          <p:nvPr/>
        </p:nvPicPr>
        <p:blipFill>
          <a:blip r:embed="rId2"/>
          <a:stretch/>
        </p:blipFill>
        <p:spPr>
          <a:xfrm>
            <a:off x="1042920" y="22050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374328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Фитодизайн – составление отдельных объемных или плоских композиций из живых или засушенных цветов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3293_11"/>
          <p:cNvPicPr/>
          <p:nvPr/>
        </p:nvPicPr>
        <p:blipFill>
          <a:blip r:embed="rId1"/>
          <a:stretch/>
        </p:blipFill>
        <p:spPr>
          <a:xfrm>
            <a:off x="4356000" y="404640"/>
            <a:ext cx="4578480" cy="61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5516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Ландшафтный дизайн – дизайн среды.  Дизайнер занимается озеленением и благоустройством территорий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5" descr="landles2"/>
          <p:cNvPicPr/>
          <p:nvPr/>
        </p:nvPicPr>
        <p:blipFill>
          <a:blip r:embed="rId1"/>
          <a:stretch/>
        </p:blipFill>
        <p:spPr>
          <a:xfrm>
            <a:off x="1763640" y="2565360"/>
            <a:ext cx="6096240" cy="40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691920"/>
            <a:ext cx="83930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539640" y="907920"/>
            <a:ext cx="770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проект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обуждение интереса  к дизайну одежды, эстетике, красоте, стремлению увидеть интересное и необы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                                                                                                                                   - изучить виды дизайна;                                                                                                                          - изучить направления дизайна;                                                                                                           - выполнить дизайн одежды;                                                                                                             - воспитывать чувство красоты, функциональности, эсте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060280"/>
            <a:ext cx="83930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туальность проекта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дизайну в современном мире всё возрастает. А происходит это потому, что благодаря техническому прогрессу все научились владеть компьюте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ДИЗАЙ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изайн (англ, design - чертеж, проект, замысел) - особый метод проектирования, при котором объекту кроме его основного предназначения придаются качества красоты, экономичности, прочности и удобства. Это художественное проектирование и конструирование эстетических свойств окружающего нас предметного мира.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993080" cy="302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ДИЗАЙН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Цель дизайна – художественное проектирование предметно-пространственной среды человека, конструирование эстетических свойств окружающего нас предметного мир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Задачи:                                  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польза и красота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удобство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простота изготовления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серийность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транспортировка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упаковка и т.д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4" descr="162953"/>
          <p:cNvPicPr/>
          <p:nvPr/>
        </p:nvPicPr>
        <p:blipFill>
          <a:blip r:embed="rId1"/>
          <a:stretch/>
        </p:blipFill>
        <p:spPr>
          <a:xfrm>
            <a:off x="4643280" y="3141720"/>
            <a:ext cx="4284720" cy="271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мышленный дизайн – это конструирование станков, транспортных средств, бытовых приборов, посуды, мебели и многого другого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4" descr="139054_200901218"/>
          <p:cNvPicPr/>
          <p:nvPr/>
        </p:nvPicPr>
        <p:blipFill>
          <a:blip r:embed="rId1"/>
          <a:stretch/>
        </p:blipFill>
        <p:spPr>
          <a:xfrm>
            <a:off x="395280" y="2205000"/>
            <a:ext cx="3908520" cy="418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39052_200901216"/>
          <p:cNvPicPr/>
          <p:nvPr/>
        </p:nvPicPr>
        <p:blipFill>
          <a:blip r:embed="rId2"/>
          <a:stretch/>
        </p:blipFill>
        <p:spPr>
          <a:xfrm>
            <a:off x="4716360" y="2276640"/>
            <a:ext cx="4143600" cy="418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80000" y="380520"/>
            <a:ext cx="3106800" cy="30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Художник всегда выражает себя в своих произведениях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5" descr="139061_2009012115"/>
          <p:cNvPicPr/>
          <p:nvPr/>
        </p:nvPicPr>
        <p:blipFill>
          <a:blip r:embed="rId1"/>
          <a:stretch/>
        </p:blipFill>
        <p:spPr>
          <a:xfrm>
            <a:off x="4643280" y="3141720"/>
            <a:ext cx="4286520" cy="332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39070_2009012124"/>
          <p:cNvPicPr/>
          <p:nvPr/>
        </p:nvPicPr>
        <p:blipFill>
          <a:blip r:embed="rId2"/>
          <a:stretch/>
        </p:blipFill>
        <p:spPr>
          <a:xfrm>
            <a:off x="250920" y="260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18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оздание новой вещи – сложный творческий производственный процесс, в котором участвуют: учёные, инженеры и дизайнер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7"/>
          <p:cNvPicPr/>
          <p:nvPr/>
        </p:nvPicPr>
        <p:blipFill>
          <a:blip r:embed="rId1"/>
          <a:stretch/>
        </p:blipFill>
        <p:spPr>
          <a:xfrm>
            <a:off x="611280" y="2421000"/>
            <a:ext cx="8026200" cy="40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6:58:00Z</dcterms:created>
  <dc:creator>Neo</dc:creator>
  <dc:description/>
  <dc:language>en-US</dc:language>
  <cp:lastModifiedBy>uzer13</cp:lastModifiedBy>
  <dcterms:modified xsi:type="dcterms:W3CDTF">2020-03-14T02:24:50Z</dcterms:modified>
  <cp:revision>18</cp:revision>
  <dc:subject/>
  <dc:title>Виды дизайна</dc:title>
</cp:coreProperties>
</file>