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applause.wav" ContentType="audio/x-wav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F649-9A57-4DA8-824A-C370868E6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592B-23FB-410B-A442-2D4D2B2E3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FFC1-83A7-4580-AC82-8E93C0D69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7E7B-CDD8-4D1F-B9A0-2224DDA75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AF6F-BFF4-4908-9608-88D9669CE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23E6-00CA-4918-B960-D072396C5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1D34-B858-4E6A-AE47-D1F5CD002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3DD8-1BE5-4D85-8DD6-0D6558B6F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3CE4-CAD0-4632-BE12-150759B3A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5C18-AEC3-4E7A-887B-CB68F354A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6905-A87A-4778-AF01-88AADFCAA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1891-1E9C-490A-9334-AEF7943E8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3B112-3B94-4A2E-AEA6-BA430F595F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.png"/><Relationship Id="rId3" Type="http://schemas.openxmlformats.org/officeDocument/2006/relationships/hyperlink" Target="file:///tmp/home/.config/libreoffice/4/user/gallery/rabbit.wav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&#1050;&#1086;&#1088;&#1086;&#1074;&#1072;!!!.wav" TargetMode="External"/><Relationship Id="rId2" Type="http://schemas.openxmlformats.org/officeDocument/2006/relationships/hyperlink" Target="file:///tmp/home/.config/libreoffice/4/user/gallery/rabbit.wav" TargetMode="External"/><Relationship Id="rId3" Type="http://schemas.openxmlformats.org/officeDocument/2006/relationships/hyperlink" Target="file:///tmp/home/.config/libreoffice/4/user/gallery/pig.wav" TargetMode="External"/><Relationship Id="rId4" Type="http://schemas.openxmlformats.org/officeDocument/2006/relationships/hyperlink" Target="file:///tmp/home/.config/libreoffice/4/user/gallery/meow.wav" TargetMode="External"/><Relationship Id="rId5" Type="http://schemas.openxmlformats.org/officeDocument/2006/relationships/hyperlink" Target="file:///tmp/home/.config/libreoffice/4/user/gallery/donkey.wav" TargetMode="External"/><Relationship Id="rId6" Type="http://schemas.openxmlformats.org/officeDocument/2006/relationships/hyperlink" Target="file:///tmp/home/.config/libreoffice/4/user/gallery/&#1089;&#1086;&#1073;&#1072;&#1082;&#1072;.wav" TargetMode="External"/><Relationship Id="rId7" Type="http://schemas.openxmlformats.org/officeDocument/2006/relationships/hyperlink" Target="file:///usr/lib/libreoffice/share/gallery/sounds/horse.wav" TargetMode="External"/><Relationship Id="rId8" Type="http://schemas.openxmlformats.org/officeDocument/2006/relationships/hyperlink" Target="file:///tmp/home/.config/libreoffice/4/user/gallery/Goat.wav" TargetMode="External"/><Relationship Id="rId9" Type="http://schemas.openxmlformats.org/officeDocument/2006/relationships/hyperlink" Target="file:///tmp/home/.config/libreoffice/4/user/gallery/sheep.wav" TargetMode="External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image" Target="../media/image14.gif"/><Relationship Id="rId3" Type="http://schemas.openxmlformats.org/officeDocument/2006/relationships/audio" Target="../media/applause.wav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hyperlink" Target="file:///tmp/home/.config/libreoffice/4/user/gallery/&#1050;&#1086;&#1088;&#1086;&#1074;&#1072;!!!.wav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hyperlink" Target="file:///tmp/home/.config/libreoffice/4/user/gallery/pig.wav" TargetMode="External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hyperlink" Target="file:///tmp/home/.config/libreoffice/4/user/gallery/Goat.wav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hyperlink" Target="file:///usr/lib/libreoffice/share/gallery/sounds/horse.wav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png"/><Relationship Id="rId3" Type="http://schemas.openxmlformats.org/officeDocument/2006/relationships/hyperlink" Target="file:///tmp/home/.config/libreoffice/4/user/gallery/sheep.wav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png"/><Relationship Id="rId3" Type="http://schemas.openxmlformats.org/officeDocument/2006/relationships/hyperlink" Target="file:///tmp/home/.config/libreoffice/4/user/gallery/meow.wav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png"/><Relationship Id="rId3" Type="http://schemas.openxmlformats.org/officeDocument/2006/relationships/hyperlink" Target="file:///tmp/home/.config/libreoffice/4/user/gallery/&#1089;&#1086;&#1073;&#1072;&#1082;&#1072;.wav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png"/><Relationship Id="rId3" Type="http://schemas.openxmlformats.org/officeDocument/2006/relationships/hyperlink" Target="file:///tmp/home/.config/libreoffice/4/user/gallery/donkey.wav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1"/>
          <a:stretch/>
        </p:blipFill>
        <p:spPr>
          <a:xfrm>
            <a:off x="2340000" y="189000"/>
            <a:ext cx="4032360" cy="4032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7"/>
          <p:cNvSpPr txBox="1"/>
          <p:nvPr/>
        </p:nvSpPr>
        <p:spPr>
          <a:xfrm>
            <a:off x="1116000" y="3860640"/>
            <a:ext cx="720108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ТО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РЯТАЛСЯ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Picture 10" descr=""/>
          <p:cNvPicPr/>
          <p:nvPr/>
        </p:nvPicPr>
        <p:blipFill>
          <a:blip r:embed="rId2"/>
          <a:stretch/>
        </p:blipFill>
        <p:spPr>
          <a:xfrm>
            <a:off x="914400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762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3708360" y="285264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"/>
          <p:cNvPicPr/>
          <p:nvPr/>
        </p:nvPicPr>
        <p:blipFill>
          <a:blip r:embed="rId2"/>
          <a:stretch/>
        </p:blipFill>
        <p:spPr>
          <a:xfrm>
            <a:off x="3419640" y="1773360"/>
            <a:ext cx="4236840" cy="3593880"/>
          </a:xfrm>
          <a:prstGeom prst="rect">
            <a:avLst/>
          </a:prstGeom>
          <a:ln w="0">
            <a:noFill/>
          </a:ln>
        </p:spPr>
      </p:pic>
      <p:sp>
        <p:nvSpPr>
          <p:cNvPr id="96" name="AutoShape 8">
            <a:hlinkClick r:id="" action="ppaction://hlinkshowjump?jump=nextslide"/>
          </p:cNvPr>
          <p:cNvSpPr/>
          <p:nvPr/>
        </p:nvSpPr>
        <p:spPr>
          <a:xfrm>
            <a:off x="8101080" y="5805360"/>
            <a:ext cx="1042920" cy="105264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52640"/>
              <a:gd name="textAreaBottom" fmla="*/ 985320 h 1052640"/>
            </a:gdLst>
            <a:ahLst/>
            <a:rect l="textAreaLeft" t="textAreaTop" r="textAreaRight" b="textAreaBottom"/>
            <a:pathLst>
              <a:path w="21600" h="21801">
                <a:moveTo>
                  <a:pt x="0" y="0"/>
                </a:moveTo>
                <a:lnTo>
                  <a:pt x="21600" y="0"/>
                </a:lnTo>
                <a:lnTo>
                  <a:pt x="21600" y="21801"/>
                </a:lnTo>
                <a:lnTo>
                  <a:pt x="0" y="21801"/>
                </a:lnTo>
                <a:close/>
              </a:path>
              <a:path fill="lightenLess" w="21600" h="2180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01">
                <a:moveTo>
                  <a:pt x="21600" y="0"/>
                </a:moveTo>
                <a:lnTo>
                  <a:pt x="21600" y="21801"/>
                </a:lnTo>
                <a:lnTo>
                  <a:pt x="20200" y="20401"/>
                </a:lnTo>
                <a:lnTo>
                  <a:pt x="20200" y="1400"/>
                </a:lnTo>
                <a:close/>
              </a:path>
              <a:path fill="darkenLess" w="21600" h="21801">
                <a:moveTo>
                  <a:pt x="21600" y="21801"/>
                </a:moveTo>
                <a:lnTo>
                  <a:pt x="0" y="21801"/>
                </a:lnTo>
                <a:lnTo>
                  <a:pt x="1400" y="20401"/>
                </a:lnTo>
                <a:lnTo>
                  <a:pt x="20200" y="20401"/>
                </a:lnTo>
                <a:close/>
              </a:path>
              <a:path fill="lighten" w="21600" h="21801">
                <a:moveTo>
                  <a:pt x="0" y="2180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01"/>
                </a:lnTo>
                <a:close/>
              </a:path>
              <a:path fill="darken" w="21600" h="21801">
                <a:moveTo>
                  <a:pt x="3794" y="3894"/>
                </a:moveTo>
                <a:lnTo>
                  <a:pt x="17806" y="10901"/>
                </a:lnTo>
                <a:lnTo>
                  <a:pt x="3794" y="17907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9">
            <a:hlinkClick r:id="rId3"/>
          </p:cNvPr>
          <p:cNvSpPr/>
          <p:nvPr/>
        </p:nvSpPr>
        <p:spPr>
          <a:xfrm>
            <a:off x="8101080" y="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8406"/>
                </a:moveTo>
                <a:lnTo>
                  <a:pt x="8224" y="8406"/>
                </a:lnTo>
                <a:lnTo>
                  <a:pt x="12645" y="3794"/>
                </a:lnTo>
                <a:lnTo>
                  <a:pt x="12645" y="17806"/>
                </a:lnTo>
                <a:lnTo>
                  <a:pt x="8224" y="13194"/>
                </a:lnTo>
                <a:lnTo>
                  <a:pt x="3794" y="13194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17806" y="10800"/>
                </a:lnTo>
              </a:path>
              <a:path fill="darken" w="21600" h="21600">
                <a:moveTo>
                  <a:pt x="14299" y="8406"/>
                </a:moveTo>
                <a:lnTo>
                  <a:pt x="17806" y="5639"/>
                </a:lnTo>
              </a:path>
              <a:path fill="darken" w="21600" h="21600">
                <a:moveTo>
                  <a:pt x="14299" y="13194"/>
                </a:moveTo>
                <a:lnTo>
                  <a:pt x="17806" y="15961"/>
                </a:lnTo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0" descr=""/>
          <p:cNvPicPr/>
          <p:nvPr/>
        </p:nvPicPr>
        <p:blipFill>
          <a:blip r:embed="rId4"/>
          <a:stretch/>
        </p:blipFill>
        <p:spPr>
          <a:xfrm>
            <a:off x="8991720" y="-3049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"/>
          <p:cNvPicPr/>
          <p:nvPr/>
        </p:nvPicPr>
        <p:blipFill>
          <a:blip r:embed="rId5"/>
          <a:stretch/>
        </p:blipFill>
        <p:spPr>
          <a:xfrm>
            <a:off x="8101080" y="-3049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2" dur="9265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path" presetID="4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8 -0.00487 C -0.00712 -0.00556 -0.03143 -0.00602 -0.03976 -0.00602 C -0.09358 -0.00602 -0.14879 0.003 -0.14879 0.01226 C -0.14879 0.00763 -0.17639 0.003 -0.20243 0.003 C -0.23004 0.003 -0.25625 0.00763 -0.25625 0.01226 C -0.25625 0.00995 -0.26997 0.00763 -0.28386 0.00763 C -0.29757 0.00763 -0.31146 0.00972 -0.31146 0.01226 C -0.31146 0.01088 -0.31841 0.00995 -0.32535 0.00995 C -0.3323 0.00995 -0.33907 0.01111 -0.33907 0.01226 C -0.33907 0.01157 -0.34271 0.01088 -0.34584 0.01088 C -0.34775 0.01088 -0.35296 0.01157 -0.35296 0.01226 C -0.35296 0.0118 -0.35469 0.01157 -0.3566 0.01157 C -0.3566 0.01157 -0.36025 0.0118 -0.36025 0.01226 C -0.36025 0.01203 -0.36025 0.0118 -0.36198 0.0118 C -0.36198 0.01203 -0.36372 0.01203 -0.36372 0.01226 C -0.36372 0.01203 -0.36372 0.01203 -0.36372 0.01203 C -0.36563 0.01203 -0.36563 0.01203 -0.36563 0.01203 C -0.36737 0.01203 -0.36737 0.01203 -0.36737 0.01203 C -0.36893 0.01203 -0.36893 0.01203 -0.36893 0.01203 E">
                                      <p:cBhvr>
                                        <p:cTn id="126" dur="1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9" dur="7315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AutoShape 11">
            <a:hlinkClick r:id="rId1"/>
          </p:cNvPr>
          <p:cNvSpPr/>
          <p:nvPr/>
        </p:nvSpPr>
        <p:spPr>
          <a:xfrm>
            <a:off x="468360" y="333360"/>
            <a:ext cx="1511280" cy="1224000"/>
          </a:xfrm>
          <a:custGeom>
            <a:avLst/>
            <a:gdLst>
              <a:gd name="textAreaLeft" fmla="*/ 79200 w 1511280"/>
              <a:gd name="textAreaRight" fmla="*/ 1432080 w 151128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26668" h="21600">
                <a:moveTo>
                  <a:pt x="0" y="0"/>
                </a:moveTo>
                <a:lnTo>
                  <a:pt x="26668" y="0"/>
                </a:lnTo>
                <a:lnTo>
                  <a:pt x="26668" y="21600"/>
                </a:lnTo>
                <a:lnTo>
                  <a:pt x="0" y="21600"/>
                </a:lnTo>
                <a:close/>
              </a:path>
              <a:path fill="lightenLess" w="26668" h="21600">
                <a:moveTo>
                  <a:pt x="0" y="0"/>
                </a:moveTo>
                <a:lnTo>
                  <a:pt x="26668" y="0"/>
                </a:lnTo>
                <a:lnTo>
                  <a:pt x="25268" y="1400"/>
                </a:lnTo>
                <a:lnTo>
                  <a:pt x="1400" y="1400"/>
                </a:lnTo>
                <a:close/>
              </a:path>
              <a:path fill="darken" w="26668" h="21600">
                <a:moveTo>
                  <a:pt x="26668" y="0"/>
                </a:moveTo>
                <a:lnTo>
                  <a:pt x="26668" y="21600"/>
                </a:lnTo>
                <a:lnTo>
                  <a:pt x="25268" y="20200"/>
                </a:lnTo>
                <a:lnTo>
                  <a:pt x="25268" y="1400"/>
                </a:lnTo>
                <a:close/>
              </a:path>
              <a:path fill="darkenLess" w="26668" h="21600">
                <a:moveTo>
                  <a:pt x="266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268" y="20200"/>
                </a:lnTo>
                <a:close/>
              </a:path>
              <a:path fill="lighten" w="266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668" h="21600">
                <a:moveTo>
                  <a:pt x="6328" y="8406"/>
                </a:moveTo>
                <a:lnTo>
                  <a:pt x="10758" y="8406"/>
                </a:lnTo>
                <a:lnTo>
                  <a:pt x="15179" y="3794"/>
                </a:lnTo>
                <a:lnTo>
                  <a:pt x="15179" y="17806"/>
                </a:lnTo>
                <a:lnTo>
                  <a:pt x="10758" y="13194"/>
                </a:lnTo>
                <a:lnTo>
                  <a:pt x="6328" y="13194"/>
                </a:lnTo>
                <a:close/>
              </a:path>
              <a:path fill="darken" w="26668" h="21600">
                <a:moveTo>
                  <a:pt x="16833" y="10800"/>
                </a:moveTo>
                <a:lnTo>
                  <a:pt x="20341" y="10800"/>
                </a:lnTo>
              </a:path>
              <a:path fill="darken" w="26668" h="21600">
                <a:moveTo>
                  <a:pt x="16833" y="8406"/>
                </a:moveTo>
                <a:lnTo>
                  <a:pt x="20341" y="5639"/>
                </a:lnTo>
              </a:path>
              <a:path fill="darken" w="26668" h="21600">
                <a:moveTo>
                  <a:pt x="16833" y="13194"/>
                </a:moveTo>
                <a:lnTo>
                  <a:pt x="20341" y="15961"/>
                </a:lnTo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2">
            <a:hlinkClick r:id="rId2"/>
          </p:cNvPr>
          <p:cNvSpPr/>
          <p:nvPr/>
        </p:nvSpPr>
        <p:spPr>
          <a:xfrm>
            <a:off x="3780000" y="260280"/>
            <a:ext cx="1512720" cy="1368360"/>
          </a:xfrm>
          <a:custGeom>
            <a:avLst/>
            <a:gdLst>
              <a:gd name="textAreaLeft" fmla="*/ 88560 w 1512720"/>
              <a:gd name="textAreaRight" fmla="*/ 1424160 w 1512720"/>
              <a:gd name="textAreaTop" fmla="*/ 88560 h 1368360"/>
              <a:gd name="textAreaBottom" fmla="*/ 1279800 h 1368360"/>
            </a:gdLst>
            <a:ahLst/>
            <a:rect l="textAreaLeft" t="textAreaTop" r="textAreaRight" b="textAreaBottom"/>
            <a:pathLst>
              <a:path w="23878" h="21600">
                <a:moveTo>
                  <a:pt x="0" y="0"/>
                </a:moveTo>
                <a:lnTo>
                  <a:pt x="23878" y="0"/>
                </a:lnTo>
                <a:lnTo>
                  <a:pt x="23878" y="21600"/>
                </a:lnTo>
                <a:lnTo>
                  <a:pt x="0" y="21600"/>
                </a:lnTo>
                <a:close/>
              </a:path>
              <a:path fill="lightenLess" w="23878" h="21600">
                <a:moveTo>
                  <a:pt x="0" y="0"/>
                </a:moveTo>
                <a:lnTo>
                  <a:pt x="23878" y="0"/>
                </a:lnTo>
                <a:lnTo>
                  <a:pt x="22478" y="1400"/>
                </a:lnTo>
                <a:lnTo>
                  <a:pt x="1400" y="1400"/>
                </a:lnTo>
                <a:close/>
              </a:path>
              <a:path fill="darken" w="23878" h="21600">
                <a:moveTo>
                  <a:pt x="23878" y="0"/>
                </a:moveTo>
                <a:lnTo>
                  <a:pt x="23878" y="21600"/>
                </a:lnTo>
                <a:lnTo>
                  <a:pt x="22478" y="20200"/>
                </a:lnTo>
                <a:lnTo>
                  <a:pt x="22478" y="1400"/>
                </a:lnTo>
                <a:close/>
              </a:path>
              <a:path fill="darkenLess" w="23878" h="21600">
                <a:moveTo>
                  <a:pt x="238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78" y="20200"/>
                </a:lnTo>
                <a:close/>
              </a:path>
              <a:path fill="lighten" w="238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78" h="21600">
                <a:moveTo>
                  <a:pt x="4933" y="8406"/>
                </a:moveTo>
                <a:lnTo>
                  <a:pt x="9363" y="8406"/>
                </a:lnTo>
                <a:lnTo>
                  <a:pt x="13784" y="3794"/>
                </a:lnTo>
                <a:lnTo>
                  <a:pt x="13784" y="17806"/>
                </a:lnTo>
                <a:lnTo>
                  <a:pt x="9363" y="13194"/>
                </a:lnTo>
                <a:lnTo>
                  <a:pt x="4933" y="13194"/>
                </a:lnTo>
                <a:close/>
              </a:path>
              <a:path fill="darken" w="23878" h="21600">
                <a:moveTo>
                  <a:pt x="15438" y="10800"/>
                </a:moveTo>
                <a:lnTo>
                  <a:pt x="18946" y="10800"/>
                </a:lnTo>
              </a:path>
              <a:path fill="darken" w="23878" h="21600">
                <a:moveTo>
                  <a:pt x="15438" y="8406"/>
                </a:moveTo>
                <a:lnTo>
                  <a:pt x="18946" y="5639"/>
                </a:lnTo>
              </a:path>
              <a:path fill="darken" w="23878" h="21600">
                <a:moveTo>
                  <a:pt x="15438" y="13194"/>
                </a:moveTo>
                <a:lnTo>
                  <a:pt x="18946" y="15961"/>
                </a:lnTo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4">
            <a:hlinkClick r:id="rId3"/>
          </p:cNvPr>
          <p:cNvSpPr/>
          <p:nvPr/>
        </p:nvSpPr>
        <p:spPr>
          <a:xfrm>
            <a:off x="7236000" y="333360"/>
            <a:ext cx="1474560" cy="1440000"/>
          </a:xfrm>
          <a:custGeom>
            <a:avLst/>
            <a:gdLst>
              <a:gd name="textAreaLeft" fmla="*/ 93240 w 1474560"/>
              <a:gd name="textAreaRight" fmla="*/ 1381320 w 1474560"/>
              <a:gd name="textAreaTop" fmla="*/ 93240 h 1440000"/>
              <a:gd name="textAreaBottom" fmla="*/ 1346760 h 1440000"/>
            </a:gdLst>
            <a:ahLst/>
            <a:rect l="textAreaLeft" t="textAreaTop" r="textAreaRight" b="textAreaBottom"/>
            <a:pathLst>
              <a:path w="22118" h="21600">
                <a:moveTo>
                  <a:pt x="0" y="0"/>
                </a:moveTo>
                <a:lnTo>
                  <a:pt x="22118" y="0"/>
                </a:lnTo>
                <a:lnTo>
                  <a:pt x="22118" y="21600"/>
                </a:lnTo>
                <a:lnTo>
                  <a:pt x="0" y="21600"/>
                </a:lnTo>
                <a:close/>
              </a:path>
              <a:path fill="lightenLess" w="22118" h="21600">
                <a:moveTo>
                  <a:pt x="0" y="0"/>
                </a:moveTo>
                <a:lnTo>
                  <a:pt x="22118" y="0"/>
                </a:lnTo>
                <a:lnTo>
                  <a:pt x="20718" y="1400"/>
                </a:lnTo>
                <a:lnTo>
                  <a:pt x="1400" y="1400"/>
                </a:lnTo>
                <a:close/>
              </a:path>
              <a:path fill="darken" w="22118" h="21600">
                <a:moveTo>
                  <a:pt x="22118" y="0"/>
                </a:moveTo>
                <a:lnTo>
                  <a:pt x="22118" y="21600"/>
                </a:lnTo>
                <a:lnTo>
                  <a:pt x="20718" y="20200"/>
                </a:lnTo>
                <a:lnTo>
                  <a:pt x="20718" y="1400"/>
                </a:lnTo>
                <a:close/>
              </a:path>
              <a:path fill="darkenLess" w="22118" h="21600">
                <a:moveTo>
                  <a:pt x="221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718" y="20200"/>
                </a:lnTo>
                <a:close/>
              </a:path>
              <a:path fill="lighten" w="221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118" h="21600">
                <a:moveTo>
                  <a:pt x="4053" y="8406"/>
                </a:moveTo>
                <a:lnTo>
                  <a:pt x="8483" y="8406"/>
                </a:lnTo>
                <a:lnTo>
                  <a:pt x="12904" y="3794"/>
                </a:lnTo>
                <a:lnTo>
                  <a:pt x="12904" y="17806"/>
                </a:lnTo>
                <a:lnTo>
                  <a:pt x="8483" y="13194"/>
                </a:lnTo>
                <a:lnTo>
                  <a:pt x="4053" y="13194"/>
                </a:lnTo>
                <a:close/>
              </a:path>
              <a:path fill="darken" w="22118" h="21600">
                <a:moveTo>
                  <a:pt x="14558" y="10800"/>
                </a:moveTo>
                <a:lnTo>
                  <a:pt x="18066" y="10800"/>
                </a:lnTo>
              </a:path>
              <a:path fill="darken" w="22118" h="21600">
                <a:moveTo>
                  <a:pt x="14558" y="8406"/>
                </a:moveTo>
                <a:lnTo>
                  <a:pt x="18066" y="5639"/>
                </a:lnTo>
              </a:path>
              <a:path fill="darken" w="22118" h="21600">
                <a:moveTo>
                  <a:pt x="14558" y="13194"/>
                </a:moveTo>
                <a:lnTo>
                  <a:pt x="18066" y="15961"/>
                </a:lnTo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5">
            <a:hlinkClick r:id="rId4"/>
          </p:cNvPr>
          <p:cNvSpPr/>
          <p:nvPr/>
        </p:nvSpPr>
        <p:spPr>
          <a:xfrm>
            <a:off x="7164360" y="4797360"/>
            <a:ext cx="1474920" cy="1330560"/>
          </a:xfrm>
          <a:custGeom>
            <a:avLst/>
            <a:gdLst>
              <a:gd name="textAreaLeft" fmla="*/ 86040 w 1474920"/>
              <a:gd name="textAreaRight" fmla="*/ 1388880 w 1474920"/>
              <a:gd name="textAreaTop" fmla="*/ 86040 h 1330560"/>
              <a:gd name="textAreaBottom" fmla="*/ 1244520 h 1330560"/>
            </a:gdLst>
            <a:ahLst/>
            <a:rect l="textAreaLeft" t="textAreaTop" r="textAreaRight" b="textAreaBottom"/>
            <a:pathLst>
              <a:path w="23943" h="21600">
                <a:moveTo>
                  <a:pt x="0" y="0"/>
                </a:moveTo>
                <a:lnTo>
                  <a:pt x="23943" y="0"/>
                </a:lnTo>
                <a:lnTo>
                  <a:pt x="23943" y="21600"/>
                </a:lnTo>
                <a:lnTo>
                  <a:pt x="0" y="21600"/>
                </a:lnTo>
                <a:close/>
              </a:path>
              <a:path fill="lightenLess" w="23943" h="21600">
                <a:moveTo>
                  <a:pt x="0" y="0"/>
                </a:moveTo>
                <a:lnTo>
                  <a:pt x="23943" y="0"/>
                </a:lnTo>
                <a:lnTo>
                  <a:pt x="22543" y="1400"/>
                </a:lnTo>
                <a:lnTo>
                  <a:pt x="1400" y="1400"/>
                </a:lnTo>
                <a:close/>
              </a:path>
              <a:path fill="darken" w="23943" h="21600">
                <a:moveTo>
                  <a:pt x="23943" y="0"/>
                </a:moveTo>
                <a:lnTo>
                  <a:pt x="23943" y="21600"/>
                </a:lnTo>
                <a:lnTo>
                  <a:pt x="22543" y="20200"/>
                </a:lnTo>
                <a:lnTo>
                  <a:pt x="22543" y="1400"/>
                </a:lnTo>
                <a:close/>
              </a:path>
              <a:path fill="darkenLess" w="23943" h="21600">
                <a:moveTo>
                  <a:pt x="239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43" y="20200"/>
                </a:lnTo>
                <a:close/>
              </a:path>
              <a:path fill="lighten" w="239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43" h="21600">
                <a:moveTo>
                  <a:pt x="4965" y="8406"/>
                </a:moveTo>
                <a:lnTo>
                  <a:pt x="9395" y="8406"/>
                </a:lnTo>
                <a:lnTo>
                  <a:pt x="13817" y="3794"/>
                </a:lnTo>
                <a:lnTo>
                  <a:pt x="13817" y="17806"/>
                </a:lnTo>
                <a:lnTo>
                  <a:pt x="9395" y="13194"/>
                </a:lnTo>
                <a:lnTo>
                  <a:pt x="4965" y="13194"/>
                </a:lnTo>
                <a:close/>
              </a:path>
              <a:path fill="darken" w="23943" h="21600">
                <a:moveTo>
                  <a:pt x="15470" y="10800"/>
                </a:moveTo>
                <a:lnTo>
                  <a:pt x="18978" y="10800"/>
                </a:lnTo>
              </a:path>
              <a:path fill="darken" w="23943" h="21600">
                <a:moveTo>
                  <a:pt x="15470" y="8406"/>
                </a:moveTo>
                <a:lnTo>
                  <a:pt x="18978" y="5639"/>
                </a:lnTo>
              </a:path>
              <a:path fill="darken" w="23943" h="21600">
                <a:moveTo>
                  <a:pt x="15470" y="13194"/>
                </a:moveTo>
                <a:lnTo>
                  <a:pt x="18978" y="15961"/>
                </a:lnTo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6">
            <a:hlinkClick r:id="rId5"/>
          </p:cNvPr>
          <p:cNvSpPr/>
          <p:nvPr/>
        </p:nvSpPr>
        <p:spPr>
          <a:xfrm>
            <a:off x="539640" y="2421000"/>
            <a:ext cx="1440000" cy="1368360"/>
          </a:xfrm>
          <a:custGeom>
            <a:avLst/>
            <a:gdLst>
              <a:gd name="textAreaLeft" fmla="*/ 88560 w 1440000"/>
              <a:gd name="textAreaRight" fmla="*/ 1351440 w 1440000"/>
              <a:gd name="textAreaTop" fmla="*/ 88560 h 1368360"/>
              <a:gd name="textAreaBottom" fmla="*/ 1279800 h 1368360"/>
            </a:gdLst>
            <a:ahLst/>
            <a:rect l="textAreaLeft" t="textAreaTop" r="textAreaRight" b="textAreaBottom"/>
            <a:pathLst>
              <a:path w="22731" h="21600">
                <a:moveTo>
                  <a:pt x="0" y="0"/>
                </a:moveTo>
                <a:lnTo>
                  <a:pt x="22731" y="0"/>
                </a:lnTo>
                <a:lnTo>
                  <a:pt x="22731" y="21600"/>
                </a:lnTo>
                <a:lnTo>
                  <a:pt x="0" y="21600"/>
                </a:lnTo>
                <a:close/>
              </a:path>
              <a:path fill="lightenLess" w="22731" h="21600">
                <a:moveTo>
                  <a:pt x="0" y="0"/>
                </a:moveTo>
                <a:lnTo>
                  <a:pt x="22731" y="0"/>
                </a:lnTo>
                <a:lnTo>
                  <a:pt x="21331" y="1400"/>
                </a:lnTo>
                <a:lnTo>
                  <a:pt x="1400" y="1400"/>
                </a:lnTo>
                <a:close/>
              </a:path>
              <a:path fill="darken" w="22731" h="21600">
                <a:moveTo>
                  <a:pt x="22731" y="0"/>
                </a:moveTo>
                <a:lnTo>
                  <a:pt x="22731" y="21600"/>
                </a:lnTo>
                <a:lnTo>
                  <a:pt x="21331" y="20200"/>
                </a:lnTo>
                <a:lnTo>
                  <a:pt x="21331" y="1400"/>
                </a:lnTo>
                <a:close/>
              </a:path>
              <a:path fill="darkenLess" w="22731" h="21600">
                <a:moveTo>
                  <a:pt x="227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31" y="20200"/>
                </a:lnTo>
                <a:close/>
              </a:path>
              <a:path fill="lighten" w="227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31" h="21600">
                <a:moveTo>
                  <a:pt x="4359" y="8406"/>
                </a:moveTo>
                <a:lnTo>
                  <a:pt x="8789" y="8406"/>
                </a:lnTo>
                <a:lnTo>
                  <a:pt x="13210" y="3794"/>
                </a:lnTo>
                <a:lnTo>
                  <a:pt x="13210" y="17806"/>
                </a:lnTo>
                <a:lnTo>
                  <a:pt x="8789" y="13194"/>
                </a:lnTo>
                <a:lnTo>
                  <a:pt x="4359" y="13194"/>
                </a:lnTo>
                <a:close/>
              </a:path>
              <a:path fill="darken" w="22731" h="21600">
                <a:moveTo>
                  <a:pt x="14864" y="10800"/>
                </a:moveTo>
                <a:lnTo>
                  <a:pt x="18372" y="10800"/>
                </a:lnTo>
              </a:path>
              <a:path fill="darken" w="22731" h="21600">
                <a:moveTo>
                  <a:pt x="14864" y="8406"/>
                </a:moveTo>
                <a:lnTo>
                  <a:pt x="18372" y="5639"/>
                </a:lnTo>
              </a:path>
              <a:path fill="darken" w="22731" h="21600">
                <a:moveTo>
                  <a:pt x="14864" y="13194"/>
                </a:moveTo>
                <a:lnTo>
                  <a:pt x="18372" y="15961"/>
                </a:lnTo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7">
            <a:hlinkClick r:id="rId6"/>
          </p:cNvPr>
          <p:cNvSpPr/>
          <p:nvPr/>
        </p:nvSpPr>
        <p:spPr>
          <a:xfrm>
            <a:off x="3780000" y="2492280"/>
            <a:ext cx="1439640" cy="1368360"/>
          </a:xfrm>
          <a:custGeom>
            <a:avLst/>
            <a:gdLst>
              <a:gd name="textAreaLeft" fmla="*/ 88560 w 1439640"/>
              <a:gd name="textAreaRight" fmla="*/ 1351080 w 1439640"/>
              <a:gd name="textAreaTop" fmla="*/ 88560 h 1368360"/>
              <a:gd name="textAreaBottom" fmla="*/ 1279800 h 1368360"/>
            </a:gdLst>
            <a:ahLst/>
            <a:rect l="textAreaLeft" t="textAreaTop" r="textAreaRight" b="textAreaBottom"/>
            <a:pathLst>
              <a:path w="22725" h="21600">
                <a:moveTo>
                  <a:pt x="0" y="0"/>
                </a:moveTo>
                <a:lnTo>
                  <a:pt x="22725" y="0"/>
                </a:lnTo>
                <a:lnTo>
                  <a:pt x="22725" y="21600"/>
                </a:lnTo>
                <a:lnTo>
                  <a:pt x="0" y="21600"/>
                </a:lnTo>
                <a:close/>
              </a:path>
              <a:path fill="lightenLess" w="22725" h="21600">
                <a:moveTo>
                  <a:pt x="0" y="0"/>
                </a:moveTo>
                <a:lnTo>
                  <a:pt x="22725" y="0"/>
                </a:lnTo>
                <a:lnTo>
                  <a:pt x="21325" y="1400"/>
                </a:lnTo>
                <a:lnTo>
                  <a:pt x="1400" y="1400"/>
                </a:lnTo>
                <a:close/>
              </a:path>
              <a:path fill="darken" w="22725" h="21600">
                <a:moveTo>
                  <a:pt x="22725" y="0"/>
                </a:moveTo>
                <a:lnTo>
                  <a:pt x="22725" y="21600"/>
                </a:lnTo>
                <a:lnTo>
                  <a:pt x="21325" y="20200"/>
                </a:lnTo>
                <a:lnTo>
                  <a:pt x="21325" y="1400"/>
                </a:lnTo>
                <a:close/>
              </a:path>
              <a:path fill="darkenLess" w="22725" h="21600">
                <a:moveTo>
                  <a:pt x="227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25" y="20200"/>
                </a:lnTo>
                <a:close/>
              </a:path>
              <a:path fill="lighten" w="227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25" h="21600">
                <a:moveTo>
                  <a:pt x="4356" y="8406"/>
                </a:moveTo>
                <a:lnTo>
                  <a:pt x="8786" y="8406"/>
                </a:lnTo>
                <a:lnTo>
                  <a:pt x="13208" y="3794"/>
                </a:lnTo>
                <a:lnTo>
                  <a:pt x="13208" y="17806"/>
                </a:lnTo>
                <a:lnTo>
                  <a:pt x="8786" y="13194"/>
                </a:lnTo>
                <a:lnTo>
                  <a:pt x="4356" y="13194"/>
                </a:lnTo>
                <a:close/>
              </a:path>
              <a:path fill="darken" w="22725" h="21600">
                <a:moveTo>
                  <a:pt x="14861" y="10800"/>
                </a:moveTo>
                <a:lnTo>
                  <a:pt x="18369" y="10800"/>
                </a:lnTo>
              </a:path>
              <a:path fill="darken" w="22725" h="21600">
                <a:moveTo>
                  <a:pt x="14861" y="8406"/>
                </a:moveTo>
                <a:lnTo>
                  <a:pt x="18369" y="5639"/>
                </a:lnTo>
              </a:path>
              <a:path fill="darken" w="22725" h="21600">
                <a:moveTo>
                  <a:pt x="14861" y="13194"/>
                </a:moveTo>
                <a:lnTo>
                  <a:pt x="18369" y="15961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8">
            <a:hlinkClick r:id="rId7"/>
          </p:cNvPr>
          <p:cNvSpPr/>
          <p:nvPr/>
        </p:nvSpPr>
        <p:spPr>
          <a:xfrm>
            <a:off x="7164360" y="2492280"/>
            <a:ext cx="1474920" cy="1368360"/>
          </a:xfrm>
          <a:custGeom>
            <a:avLst/>
            <a:gdLst>
              <a:gd name="textAreaLeft" fmla="*/ 88560 w 1474920"/>
              <a:gd name="textAreaRight" fmla="*/ 1386360 w 1474920"/>
              <a:gd name="textAreaTop" fmla="*/ 88560 h 1368360"/>
              <a:gd name="textAreaBottom" fmla="*/ 1279800 h 1368360"/>
            </a:gdLst>
            <a:ahLst/>
            <a:rect l="textAreaLeft" t="textAreaTop" r="textAreaRight" b="textAreaBottom"/>
            <a:pathLst>
              <a:path w="23282" h="21600">
                <a:moveTo>
                  <a:pt x="0" y="0"/>
                </a:moveTo>
                <a:lnTo>
                  <a:pt x="23282" y="0"/>
                </a:lnTo>
                <a:lnTo>
                  <a:pt x="23282" y="21600"/>
                </a:lnTo>
                <a:lnTo>
                  <a:pt x="0" y="21600"/>
                </a:lnTo>
                <a:close/>
              </a:path>
              <a:path fill="lightenLess" w="23282" h="21600">
                <a:moveTo>
                  <a:pt x="0" y="0"/>
                </a:moveTo>
                <a:lnTo>
                  <a:pt x="23282" y="0"/>
                </a:lnTo>
                <a:lnTo>
                  <a:pt x="21882" y="1400"/>
                </a:lnTo>
                <a:lnTo>
                  <a:pt x="1400" y="1400"/>
                </a:lnTo>
                <a:close/>
              </a:path>
              <a:path fill="darken" w="23282" h="21600">
                <a:moveTo>
                  <a:pt x="23282" y="0"/>
                </a:moveTo>
                <a:lnTo>
                  <a:pt x="23282" y="21600"/>
                </a:lnTo>
                <a:lnTo>
                  <a:pt x="21882" y="20200"/>
                </a:lnTo>
                <a:lnTo>
                  <a:pt x="21882" y="1400"/>
                </a:lnTo>
                <a:close/>
              </a:path>
              <a:path fill="darkenLess" w="23282" h="21600">
                <a:moveTo>
                  <a:pt x="232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82" y="20200"/>
                </a:lnTo>
                <a:close/>
              </a:path>
              <a:path fill="lighten" w="232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82" h="21600">
                <a:moveTo>
                  <a:pt x="4634" y="8406"/>
                </a:moveTo>
                <a:lnTo>
                  <a:pt x="9065" y="8406"/>
                </a:lnTo>
                <a:lnTo>
                  <a:pt x="13486" y="3794"/>
                </a:lnTo>
                <a:lnTo>
                  <a:pt x="13486" y="17806"/>
                </a:lnTo>
                <a:lnTo>
                  <a:pt x="9065" y="13194"/>
                </a:lnTo>
                <a:lnTo>
                  <a:pt x="4634" y="13194"/>
                </a:lnTo>
                <a:close/>
              </a:path>
              <a:path fill="darken" w="23282" h="21600">
                <a:moveTo>
                  <a:pt x="15140" y="10800"/>
                </a:moveTo>
                <a:lnTo>
                  <a:pt x="18647" y="10800"/>
                </a:lnTo>
              </a:path>
              <a:path fill="darken" w="23282" h="21600">
                <a:moveTo>
                  <a:pt x="15140" y="8406"/>
                </a:moveTo>
                <a:lnTo>
                  <a:pt x="18647" y="5639"/>
                </a:lnTo>
              </a:path>
              <a:path fill="darken" w="23282" h="21600">
                <a:moveTo>
                  <a:pt x="15140" y="13194"/>
                </a:moveTo>
                <a:lnTo>
                  <a:pt x="18647" y="15961"/>
                </a:lnTo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9">
            <a:hlinkClick r:id="rId8"/>
          </p:cNvPr>
          <p:cNvSpPr/>
          <p:nvPr/>
        </p:nvSpPr>
        <p:spPr>
          <a:xfrm>
            <a:off x="3851280" y="4797360"/>
            <a:ext cx="1512720" cy="1332000"/>
          </a:xfrm>
          <a:custGeom>
            <a:avLst/>
            <a:gdLst>
              <a:gd name="textAreaLeft" fmla="*/ 86040 w 1512720"/>
              <a:gd name="textAreaRight" fmla="*/ 1426680 w 1512720"/>
              <a:gd name="textAreaTop" fmla="*/ 86040 h 1332000"/>
              <a:gd name="textAreaBottom" fmla="*/ 1245960 h 1332000"/>
            </a:gdLst>
            <a:ahLst/>
            <a:rect l="textAreaLeft" t="textAreaTop" r="textAreaRight" b="textAreaBottom"/>
            <a:pathLst>
              <a:path w="24530" h="21600">
                <a:moveTo>
                  <a:pt x="0" y="0"/>
                </a:moveTo>
                <a:lnTo>
                  <a:pt x="24530" y="0"/>
                </a:lnTo>
                <a:lnTo>
                  <a:pt x="24530" y="21600"/>
                </a:lnTo>
                <a:lnTo>
                  <a:pt x="0" y="21600"/>
                </a:lnTo>
                <a:close/>
              </a:path>
              <a:path fill="lightenLess" w="24530" h="21600">
                <a:moveTo>
                  <a:pt x="0" y="0"/>
                </a:moveTo>
                <a:lnTo>
                  <a:pt x="24530" y="0"/>
                </a:lnTo>
                <a:lnTo>
                  <a:pt x="23130" y="1400"/>
                </a:lnTo>
                <a:lnTo>
                  <a:pt x="1400" y="1400"/>
                </a:lnTo>
                <a:close/>
              </a:path>
              <a:path fill="darken" w="24530" h="21600">
                <a:moveTo>
                  <a:pt x="24530" y="0"/>
                </a:moveTo>
                <a:lnTo>
                  <a:pt x="24530" y="21600"/>
                </a:lnTo>
                <a:lnTo>
                  <a:pt x="23130" y="20200"/>
                </a:lnTo>
                <a:lnTo>
                  <a:pt x="23130" y="1400"/>
                </a:lnTo>
                <a:close/>
              </a:path>
              <a:path fill="darkenLess" w="24530" h="21600">
                <a:moveTo>
                  <a:pt x="245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30" y="20200"/>
                </a:lnTo>
                <a:close/>
              </a:path>
              <a:path fill="lighten" w="245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530" h="21600">
                <a:moveTo>
                  <a:pt x="5258" y="8406"/>
                </a:moveTo>
                <a:lnTo>
                  <a:pt x="9689" y="8406"/>
                </a:lnTo>
                <a:lnTo>
                  <a:pt x="14110" y="3794"/>
                </a:lnTo>
                <a:lnTo>
                  <a:pt x="14110" y="17806"/>
                </a:lnTo>
                <a:lnTo>
                  <a:pt x="9689" y="13194"/>
                </a:lnTo>
                <a:lnTo>
                  <a:pt x="5258" y="13194"/>
                </a:lnTo>
                <a:close/>
              </a:path>
              <a:path fill="darken" w="24530" h="21600">
                <a:moveTo>
                  <a:pt x="15764" y="10800"/>
                </a:moveTo>
                <a:lnTo>
                  <a:pt x="19271" y="10800"/>
                </a:lnTo>
              </a:path>
              <a:path fill="darken" w="24530" h="21600">
                <a:moveTo>
                  <a:pt x="15764" y="8406"/>
                </a:moveTo>
                <a:lnTo>
                  <a:pt x="19271" y="5639"/>
                </a:lnTo>
              </a:path>
              <a:path fill="darken" w="24530" h="21600">
                <a:moveTo>
                  <a:pt x="15764" y="13194"/>
                </a:moveTo>
                <a:lnTo>
                  <a:pt x="19271" y="15961"/>
                </a:lnTo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20">
            <a:hlinkClick r:id="rId9"/>
          </p:cNvPr>
          <p:cNvSpPr/>
          <p:nvPr/>
        </p:nvSpPr>
        <p:spPr>
          <a:xfrm>
            <a:off x="468360" y="4724280"/>
            <a:ext cx="1439640" cy="1403640"/>
          </a:xfrm>
          <a:custGeom>
            <a:avLst/>
            <a:gdLst>
              <a:gd name="textAreaLeft" fmla="*/ 90720 w 1439640"/>
              <a:gd name="textAreaRight" fmla="*/ 1348920 w 1439640"/>
              <a:gd name="textAreaTop" fmla="*/ 90720 h 1403640"/>
              <a:gd name="textAreaBottom" fmla="*/ 1312920 h 1403640"/>
            </a:gdLst>
            <a:ahLst/>
            <a:rect l="textAreaLeft" t="textAreaTop" r="textAreaRight" b="textAreaBottom"/>
            <a:pathLst>
              <a:path w="22154" h="21600">
                <a:moveTo>
                  <a:pt x="0" y="0"/>
                </a:moveTo>
                <a:lnTo>
                  <a:pt x="22154" y="0"/>
                </a:lnTo>
                <a:lnTo>
                  <a:pt x="22154" y="21600"/>
                </a:lnTo>
                <a:lnTo>
                  <a:pt x="0" y="21600"/>
                </a:lnTo>
                <a:close/>
              </a:path>
              <a:path fill="lightenLess" w="22154" h="21600">
                <a:moveTo>
                  <a:pt x="0" y="0"/>
                </a:moveTo>
                <a:lnTo>
                  <a:pt x="22154" y="0"/>
                </a:lnTo>
                <a:lnTo>
                  <a:pt x="20754" y="1400"/>
                </a:lnTo>
                <a:lnTo>
                  <a:pt x="1400" y="1400"/>
                </a:lnTo>
                <a:close/>
              </a:path>
              <a:path fill="darken" w="22154" h="21600">
                <a:moveTo>
                  <a:pt x="22154" y="0"/>
                </a:moveTo>
                <a:lnTo>
                  <a:pt x="22154" y="21600"/>
                </a:lnTo>
                <a:lnTo>
                  <a:pt x="20754" y="20200"/>
                </a:lnTo>
                <a:lnTo>
                  <a:pt x="20754" y="1400"/>
                </a:lnTo>
                <a:close/>
              </a:path>
              <a:path fill="darkenLess" w="22154" h="21600">
                <a:moveTo>
                  <a:pt x="221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754" y="20200"/>
                </a:lnTo>
                <a:close/>
              </a:path>
              <a:path fill="lighten" w="221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154" h="21600">
                <a:moveTo>
                  <a:pt x="4070" y="8406"/>
                </a:moveTo>
                <a:lnTo>
                  <a:pt x="8501" y="8406"/>
                </a:lnTo>
                <a:lnTo>
                  <a:pt x="12922" y="3794"/>
                </a:lnTo>
                <a:lnTo>
                  <a:pt x="12922" y="17806"/>
                </a:lnTo>
                <a:lnTo>
                  <a:pt x="8501" y="13194"/>
                </a:lnTo>
                <a:lnTo>
                  <a:pt x="4070" y="13194"/>
                </a:lnTo>
                <a:close/>
              </a:path>
              <a:path fill="darken" w="22154" h="21600">
                <a:moveTo>
                  <a:pt x="14576" y="10800"/>
                </a:moveTo>
                <a:lnTo>
                  <a:pt x="18083" y="10800"/>
                </a:lnTo>
              </a:path>
              <a:path fill="darken" w="22154" h="21600">
                <a:moveTo>
                  <a:pt x="14576" y="8406"/>
                </a:moveTo>
                <a:lnTo>
                  <a:pt x="18083" y="5639"/>
                </a:lnTo>
              </a:path>
              <a:path fill="darken" w="22154" h="21600">
                <a:moveTo>
                  <a:pt x="14576" y="13194"/>
                </a:moveTo>
                <a:lnTo>
                  <a:pt x="18083" y="15961"/>
                </a:lnTo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1" descr=""/>
          <p:cNvPicPr/>
          <p:nvPr/>
        </p:nvPicPr>
        <p:blipFill>
          <a:blip r:embed="rId10"/>
          <a:stretch/>
        </p:blipFill>
        <p:spPr>
          <a:xfrm>
            <a:off x="8317080" y="-3049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5" dur="13236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4"/>
          <p:cNvSpPr txBox="1"/>
          <p:nvPr/>
        </p:nvSpPr>
        <p:spPr>
          <a:xfrm>
            <a:off x="971640" y="907920"/>
            <a:ext cx="7272360" cy="33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ОЛОДЦЫ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879480" y="5300640"/>
            <a:ext cx="750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">
            <a:hlinkClick r:id="" action="ppaction://hlinkshowjump?jump=next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16360" y="2492280"/>
            <a:ext cx="288000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1197000"/>
            <a:ext cx="4824360" cy="4824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1628640"/>
            <a:ext cx="4535640" cy="384660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7">
            <a:hlinkClick r:id="" action="ppaction://hlinkshowjump?jump=nextslide"/>
          </p:cNvPr>
          <p:cNvSpPr/>
          <p:nvPr/>
        </p:nvSpPr>
        <p:spPr>
          <a:xfrm>
            <a:off x="8101080" y="5805360"/>
            <a:ext cx="1042920" cy="105264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52640"/>
              <a:gd name="textAreaBottom" fmla="*/ 985320 h 1052640"/>
            </a:gdLst>
            <a:ahLst/>
            <a:rect l="textAreaLeft" t="textAreaTop" r="textAreaRight" b="textAreaBottom"/>
            <a:pathLst>
              <a:path w="21600" h="21801">
                <a:moveTo>
                  <a:pt x="0" y="0"/>
                </a:moveTo>
                <a:lnTo>
                  <a:pt x="21600" y="0"/>
                </a:lnTo>
                <a:lnTo>
                  <a:pt x="21600" y="21801"/>
                </a:lnTo>
                <a:lnTo>
                  <a:pt x="0" y="21801"/>
                </a:lnTo>
                <a:close/>
              </a:path>
              <a:path fill="lightenLess" w="21600" h="2180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01">
                <a:moveTo>
                  <a:pt x="21600" y="0"/>
                </a:moveTo>
                <a:lnTo>
                  <a:pt x="21600" y="21801"/>
                </a:lnTo>
                <a:lnTo>
                  <a:pt x="20200" y="20401"/>
                </a:lnTo>
                <a:lnTo>
                  <a:pt x="20200" y="1400"/>
                </a:lnTo>
                <a:close/>
              </a:path>
              <a:path fill="darkenLess" w="21600" h="21801">
                <a:moveTo>
                  <a:pt x="21600" y="21801"/>
                </a:moveTo>
                <a:lnTo>
                  <a:pt x="0" y="21801"/>
                </a:lnTo>
                <a:lnTo>
                  <a:pt x="1400" y="20401"/>
                </a:lnTo>
                <a:lnTo>
                  <a:pt x="20200" y="20401"/>
                </a:lnTo>
                <a:close/>
              </a:path>
              <a:path fill="lighten" w="21600" h="21801">
                <a:moveTo>
                  <a:pt x="0" y="2180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01"/>
                </a:lnTo>
                <a:close/>
              </a:path>
              <a:path fill="darken" w="21600" h="21801">
                <a:moveTo>
                  <a:pt x="3794" y="3894"/>
                </a:moveTo>
                <a:lnTo>
                  <a:pt x="17806" y="10901"/>
                </a:lnTo>
                <a:lnTo>
                  <a:pt x="3794" y="17907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9">
            <a:hlinkClick r:id="rId3"/>
          </p:cNvPr>
          <p:cNvSpPr/>
          <p:nvPr/>
        </p:nvSpPr>
        <p:spPr>
          <a:xfrm>
            <a:off x="8101080" y="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8406"/>
                </a:moveTo>
                <a:lnTo>
                  <a:pt x="8224" y="8406"/>
                </a:lnTo>
                <a:lnTo>
                  <a:pt x="12645" y="3794"/>
                </a:lnTo>
                <a:lnTo>
                  <a:pt x="12645" y="17806"/>
                </a:lnTo>
                <a:lnTo>
                  <a:pt x="8224" y="13194"/>
                </a:lnTo>
                <a:lnTo>
                  <a:pt x="3794" y="13194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17806" y="10800"/>
                </a:lnTo>
              </a:path>
              <a:path fill="darken" w="21600" h="21600">
                <a:moveTo>
                  <a:pt x="14299" y="8406"/>
                </a:moveTo>
                <a:lnTo>
                  <a:pt x="17806" y="5639"/>
                </a:lnTo>
              </a:path>
              <a:path fill="darken" w="21600" h="21600">
                <a:moveTo>
                  <a:pt x="14299" y="13194"/>
                </a:moveTo>
                <a:lnTo>
                  <a:pt x="17806" y="15961"/>
                </a:lnTo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"/>
          <p:cNvPicPr/>
          <p:nvPr/>
        </p:nvPicPr>
        <p:blipFill>
          <a:blip r:embed="rId4"/>
          <a:stretch/>
        </p:blipFill>
        <p:spPr>
          <a:xfrm>
            <a:off x="8604360" y="-3049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"/>
          <p:cNvPicPr/>
          <p:nvPr/>
        </p:nvPicPr>
        <p:blipFill>
          <a:blip r:embed="rId5"/>
          <a:stretch/>
        </p:blipFill>
        <p:spPr>
          <a:xfrm>
            <a:off x="7812000" y="-304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" descr=""/>
          <p:cNvPicPr/>
          <p:nvPr/>
        </p:nvPicPr>
        <p:blipFill>
          <a:blip r:embed="rId6"/>
          <a:stretch/>
        </p:blipFill>
        <p:spPr>
          <a:xfrm>
            <a:off x="7020000" y="-3049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6827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8827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4559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8.67052E-007 L 0.47256 0.00532 E">
                                      <p:cBhvr>
                                        <p:cTn id="22" dur="3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7593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4392720" cy="4392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"/>
          <p:cNvPicPr/>
          <p:nvPr/>
        </p:nvPicPr>
        <p:blipFill>
          <a:blip r:embed="rId2"/>
          <a:stretch/>
        </p:blipFill>
        <p:spPr>
          <a:xfrm>
            <a:off x="755640" y="1123920"/>
            <a:ext cx="4176720" cy="4032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"/>
          <p:cNvPicPr/>
          <p:nvPr/>
        </p:nvPicPr>
        <p:blipFill>
          <a:blip r:embed="rId3"/>
          <a:stretch/>
        </p:blipFill>
        <p:spPr>
          <a:xfrm>
            <a:off x="685800" y="861048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12">
            <a:hlinkClick r:id="" action="ppaction://hlinkshowjump?jump=nextslide"/>
          </p:cNvPr>
          <p:cNvSpPr/>
          <p:nvPr/>
        </p:nvSpPr>
        <p:spPr>
          <a:xfrm>
            <a:off x="8101080" y="5805360"/>
            <a:ext cx="1042920" cy="105264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52640"/>
              <a:gd name="textAreaBottom" fmla="*/ 985320 h 1052640"/>
            </a:gdLst>
            <a:ahLst/>
            <a:rect l="textAreaLeft" t="textAreaTop" r="textAreaRight" b="textAreaBottom"/>
            <a:pathLst>
              <a:path w="21600" h="21801">
                <a:moveTo>
                  <a:pt x="0" y="0"/>
                </a:moveTo>
                <a:lnTo>
                  <a:pt x="21600" y="0"/>
                </a:lnTo>
                <a:lnTo>
                  <a:pt x="21600" y="21801"/>
                </a:lnTo>
                <a:lnTo>
                  <a:pt x="0" y="21801"/>
                </a:lnTo>
                <a:close/>
              </a:path>
              <a:path fill="lightenLess" w="21600" h="2180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01">
                <a:moveTo>
                  <a:pt x="21600" y="0"/>
                </a:moveTo>
                <a:lnTo>
                  <a:pt x="21600" y="21801"/>
                </a:lnTo>
                <a:lnTo>
                  <a:pt x="20200" y="20401"/>
                </a:lnTo>
                <a:lnTo>
                  <a:pt x="20200" y="1400"/>
                </a:lnTo>
                <a:close/>
              </a:path>
              <a:path fill="darkenLess" w="21600" h="21801">
                <a:moveTo>
                  <a:pt x="21600" y="21801"/>
                </a:moveTo>
                <a:lnTo>
                  <a:pt x="0" y="21801"/>
                </a:lnTo>
                <a:lnTo>
                  <a:pt x="1400" y="20401"/>
                </a:lnTo>
                <a:lnTo>
                  <a:pt x="20200" y="20401"/>
                </a:lnTo>
                <a:close/>
              </a:path>
              <a:path fill="lighten" w="21600" h="21801">
                <a:moveTo>
                  <a:pt x="0" y="2180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01"/>
                </a:lnTo>
                <a:close/>
              </a:path>
              <a:path fill="darken" w="21600" h="21801">
                <a:moveTo>
                  <a:pt x="3794" y="3894"/>
                </a:moveTo>
                <a:lnTo>
                  <a:pt x="17806" y="10901"/>
                </a:lnTo>
                <a:lnTo>
                  <a:pt x="3794" y="17907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3">
            <a:hlinkClick r:id="rId4"/>
          </p:cNvPr>
          <p:cNvSpPr/>
          <p:nvPr/>
        </p:nvSpPr>
        <p:spPr>
          <a:xfrm>
            <a:off x="8101080" y="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8406"/>
                </a:moveTo>
                <a:lnTo>
                  <a:pt x="8224" y="8406"/>
                </a:lnTo>
                <a:lnTo>
                  <a:pt x="12645" y="3794"/>
                </a:lnTo>
                <a:lnTo>
                  <a:pt x="12645" y="17806"/>
                </a:lnTo>
                <a:lnTo>
                  <a:pt x="8224" y="13194"/>
                </a:lnTo>
                <a:lnTo>
                  <a:pt x="3794" y="13194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17806" y="10800"/>
                </a:lnTo>
              </a:path>
              <a:path fill="darken" w="21600" h="21600">
                <a:moveTo>
                  <a:pt x="14299" y="8406"/>
                </a:moveTo>
                <a:lnTo>
                  <a:pt x="17806" y="5639"/>
                </a:lnTo>
              </a:path>
              <a:path fill="darken" w="21600" h="21600">
                <a:moveTo>
                  <a:pt x="14299" y="13194"/>
                </a:moveTo>
                <a:lnTo>
                  <a:pt x="17806" y="15961"/>
                </a:lnTo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5" descr=""/>
          <p:cNvPicPr/>
          <p:nvPr/>
        </p:nvPicPr>
        <p:blipFill>
          <a:blip r:embed="rId5"/>
          <a:stretch/>
        </p:blipFill>
        <p:spPr>
          <a:xfrm>
            <a:off x="8839080" y="-304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6" descr=""/>
          <p:cNvPicPr/>
          <p:nvPr/>
        </p:nvPicPr>
        <p:blipFill>
          <a:blip r:embed="rId6"/>
          <a:stretch/>
        </p:blipFill>
        <p:spPr>
          <a:xfrm>
            <a:off x="788508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11843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1.11111E-006 L 0.46077 -0.00509 E">
                                      <p:cBhvr>
                                        <p:cTn id="35" dur="3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6758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1619280" y="1628640"/>
            <a:ext cx="3600360" cy="3600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"/>
          <p:cNvPicPr/>
          <p:nvPr/>
        </p:nvPicPr>
        <p:blipFill>
          <a:blip r:embed="rId2"/>
          <a:stretch/>
        </p:blipFill>
        <p:spPr>
          <a:xfrm>
            <a:off x="1042920" y="1773360"/>
            <a:ext cx="4021200" cy="3411360"/>
          </a:xfrm>
          <a:prstGeom prst="rect">
            <a:avLst/>
          </a:prstGeom>
          <a:ln w="0">
            <a:noFill/>
          </a:ln>
        </p:spPr>
      </p:pic>
      <p:sp>
        <p:nvSpPr>
          <p:cNvPr id="60" name="AutoShape 10">
            <a:hlinkClick r:id="" action="ppaction://hlinkshowjump?jump=nextslide"/>
          </p:cNvPr>
          <p:cNvSpPr/>
          <p:nvPr/>
        </p:nvSpPr>
        <p:spPr>
          <a:xfrm>
            <a:off x="8101080" y="5805360"/>
            <a:ext cx="1042920" cy="105264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52640"/>
              <a:gd name="textAreaBottom" fmla="*/ 985320 h 1052640"/>
            </a:gdLst>
            <a:ahLst/>
            <a:rect l="textAreaLeft" t="textAreaTop" r="textAreaRight" b="textAreaBottom"/>
            <a:pathLst>
              <a:path w="21600" h="21801">
                <a:moveTo>
                  <a:pt x="0" y="0"/>
                </a:moveTo>
                <a:lnTo>
                  <a:pt x="21600" y="0"/>
                </a:lnTo>
                <a:lnTo>
                  <a:pt x="21600" y="21801"/>
                </a:lnTo>
                <a:lnTo>
                  <a:pt x="0" y="21801"/>
                </a:lnTo>
                <a:close/>
              </a:path>
              <a:path fill="lightenLess" w="21600" h="2180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01">
                <a:moveTo>
                  <a:pt x="21600" y="0"/>
                </a:moveTo>
                <a:lnTo>
                  <a:pt x="21600" y="21801"/>
                </a:lnTo>
                <a:lnTo>
                  <a:pt x="20200" y="20401"/>
                </a:lnTo>
                <a:lnTo>
                  <a:pt x="20200" y="1400"/>
                </a:lnTo>
                <a:close/>
              </a:path>
              <a:path fill="darkenLess" w="21600" h="21801">
                <a:moveTo>
                  <a:pt x="21600" y="21801"/>
                </a:moveTo>
                <a:lnTo>
                  <a:pt x="0" y="21801"/>
                </a:lnTo>
                <a:lnTo>
                  <a:pt x="1400" y="20401"/>
                </a:lnTo>
                <a:lnTo>
                  <a:pt x="20200" y="20401"/>
                </a:lnTo>
                <a:close/>
              </a:path>
              <a:path fill="lighten" w="21600" h="21801">
                <a:moveTo>
                  <a:pt x="0" y="2180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01"/>
                </a:lnTo>
                <a:close/>
              </a:path>
              <a:path fill="darken" w="21600" h="21801">
                <a:moveTo>
                  <a:pt x="3794" y="3894"/>
                </a:moveTo>
                <a:lnTo>
                  <a:pt x="17806" y="10901"/>
                </a:lnTo>
                <a:lnTo>
                  <a:pt x="3794" y="17907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1">
            <a:hlinkClick r:id="rId3"/>
          </p:cNvPr>
          <p:cNvSpPr/>
          <p:nvPr/>
        </p:nvSpPr>
        <p:spPr>
          <a:xfrm>
            <a:off x="8101080" y="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8406"/>
                </a:moveTo>
                <a:lnTo>
                  <a:pt x="8224" y="8406"/>
                </a:lnTo>
                <a:lnTo>
                  <a:pt x="12645" y="3794"/>
                </a:lnTo>
                <a:lnTo>
                  <a:pt x="12645" y="17806"/>
                </a:lnTo>
                <a:lnTo>
                  <a:pt x="8224" y="13194"/>
                </a:lnTo>
                <a:lnTo>
                  <a:pt x="3794" y="13194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17806" y="10800"/>
                </a:lnTo>
              </a:path>
              <a:path fill="darken" w="21600" h="21600">
                <a:moveTo>
                  <a:pt x="14299" y="8406"/>
                </a:moveTo>
                <a:lnTo>
                  <a:pt x="17806" y="5639"/>
                </a:lnTo>
              </a:path>
              <a:path fill="darken" w="21600" h="21600">
                <a:moveTo>
                  <a:pt x="14299" y="13194"/>
                </a:moveTo>
                <a:lnTo>
                  <a:pt x="17806" y="15961"/>
                </a:lnTo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2" descr=""/>
          <p:cNvPicPr/>
          <p:nvPr/>
        </p:nvPicPr>
        <p:blipFill>
          <a:blip r:embed="rId4"/>
          <a:stretch/>
        </p:blipFill>
        <p:spPr>
          <a:xfrm>
            <a:off x="8839080" y="-304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3" descr=""/>
          <p:cNvPicPr/>
          <p:nvPr/>
        </p:nvPicPr>
        <p:blipFill>
          <a:blip r:embed="rId5"/>
          <a:stretch/>
        </p:blipFill>
        <p:spPr>
          <a:xfrm>
            <a:off x="8101080" y="-3049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13445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4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7037E-006 L 0.02673 3.7037E-006 C 0.03923 3.7037E-006 0.05347 -0.02037 0.06614 -0.02315 C 0.07535 -0.02315 0.09288 -0.0044 0.10087 -0.0044 C 0.1118 -0.0044 0.12274 -0.01019 0.14323 -0.01019 L 0.15746 -0.23357 L 0.17326 0.03611 L 0.19219 3.7037E-006 L 0.20781 -0.01019 L 0.24566 -0.00162 C 0.26302 -0.00579 0.27726 -0.02454 0.29444 -0.03195 C 0.30069 -0.03311 0.31493 -0.03473 0.32448 -0.03195 C 0.33385 -0.02894 0.34167 -0.0088 0.34479 -0.00741 C 0.34965 -0.00162 0.36059 -0.00741 0.36684 -0.0044 L 0.37639 3.7037E-006 L 0.39375 3.7037E-006 E">
                                      <p:cBhvr>
                                        <p:cTn id="48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6897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7" descr=""/>
          <p:cNvPicPr/>
          <p:nvPr/>
        </p:nvPicPr>
        <p:blipFill>
          <a:blip r:embed="rId1"/>
          <a:stretch/>
        </p:blipFill>
        <p:spPr>
          <a:xfrm>
            <a:off x="0" y="1125360"/>
            <a:ext cx="4643280" cy="4788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"/>
          <p:cNvPicPr/>
          <p:nvPr/>
        </p:nvPicPr>
        <p:blipFill>
          <a:blip r:embed="rId2"/>
          <a:stretch/>
        </p:blipFill>
        <p:spPr>
          <a:xfrm>
            <a:off x="0" y="1243080"/>
            <a:ext cx="4859280" cy="412272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14">
            <a:hlinkClick r:id="" action="ppaction://hlinkshowjump?jump=nextslide"/>
          </p:cNvPr>
          <p:cNvSpPr/>
          <p:nvPr/>
        </p:nvSpPr>
        <p:spPr>
          <a:xfrm>
            <a:off x="8101080" y="5805360"/>
            <a:ext cx="1042920" cy="105264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52640"/>
              <a:gd name="textAreaBottom" fmla="*/ 985320 h 1052640"/>
            </a:gdLst>
            <a:ahLst/>
            <a:rect l="textAreaLeft" t="textAreaTop" r="textAreaRight" b="textAreaBottom"/>
            <a:pathLst>
              <a:path w="21600" h="21801">
                <a:moveTo>
                  <a:pt x="0" y="0"/>
                </a:moveTo>
                <a:lnTo>
                  <a:pt x="21600" y="0"/>
                </a:lnTo>
                <a:lnTo>
                  <a:pt x="21600" y="21801"/>
                </a:lnTo>
                <a:lnTo>
                  <a:pt x="0" y="21801"/>
                </a:lnTo>
                <a:close/>
              </a:path>
              <a:path fill="lightenLess" w="21600" h="2180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01">
                <a:moveTo>
                  <a:pt x="21600" y="0"/>
                </a:moveTo>
                <a:lnTo>
                  <a:pt x="21600" y="21801"/>
                </a:lnTo>
                <a:lnTo>
                  <a:pt x="20200" y="20401"/>
                </a:lnTo>
                <a:lnTo>
                  <a:pt x="20200" y="1400"/>
                </a:lnTo>
                <a:close/>
              </a:path>
              <a:path fill="darkenLess" w="21600" h="21801">
                <a:moveTo>
                  <a:pt x="21600" y="21801"/>
                </a:moveTo>
                <a:lnTo>
                  <a:pt x="0" y="21801"/>
                </a:lnTo>
                <a:lnTo>
                  <a:pt x="1400" y="20401"/>
                </a:lnTo>
                <a:lnTo>
                  <a:pt x="20200" y="20401"/>
                </a:lnTo>
                <a:close/>
              </a:path>
              <a:path fill="lighten" w="21600" h="21801">
                <a:moveTo>
                  <a:pt x="0" y="2180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01"/>
                </a:lnTo>
                <a:close/>
              </a:path>
              <a:path fill="darken" w="21600" h="21801">
                <a:moveTo>
                  <a:pt x="3794" y="3894"/>
                </a:moveTo>
                <a:lnTo>
                  <a:pt x="17806" y="10901"/>
                </a:lnTo>
                <a:lnTo>
                  <a:pt x="3794" y="17907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5">
            <a:hlinkClick r:id="rId3"/>
          </p:cNvPr>
          <p:cNvSpPr/>
          <p:nvPr/>
        </p:nvSpPr>
        <p:spPr>
          <a:xfrm>
            <a:off x="8101080" y="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8406"/>
                </a:moveTo>
                <a:lnTo>
                  <a:pt x="8224" y="8406"/>
                </a:lnTo>
                <a:lnTo>
                  <a:pt x="12645" y="3794"/>
                </a:lnTo>
                <a:lnTo>
                  <a:pt x="12645" y="17806"/>
                </a:lnTo>
                <a:lnTo>
                  <a:pt x="8224" y="13194"/>
                </a:lnTo>
                <a:lnTo>
                  <a:pt x="3794" y="13194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17806" y="10800"/>
                </a:lnTo>
              </a:path>
              <a:path fill="darken" w="21600" h="21600">
                <a:moveTo>
                  <a:pt x="14299" y="8406"/>
                </a:moveTo>
                <a:lnTo>
                  <a:pt x="17806" y="5639"/>
                </a:lnTo>
              </a:path>
              <a:path fill="darken" w="21600" h="21600">
                <a:moveTo>
                  <a:pt x="14299" y="13194"/>
                </a:moveTo>
                <a:lnTo>
                  <a:pt x="17806" y="15961"/>
                </a:lnTo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7" descr=""/>
          <p:cNvPicPr/>
          <p:nvPr/>
        </p:nvPicPr>
        <p:blipFill>
          <a:blip r:embed="rId4"/>
          <a:stretch/>
        </p:blipFill>
        <p:spPr>
          <a:xfrm>
            <a:off x="8532720" y="-304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" descr=""/>
          <p:cNvPicPr/>
          <p:nvPr/>
        </p:nvPicPr>
        <p:blipFill>
          <a:blip r:embed="rId5"/>
          <a:stretch/>
        </p:blipFill>
        <p:spPr>
          <a:xfrm>
            <a:off x="745164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12888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path" presetID="5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788 -0.04601 C 0.01788 -0.09272 0.07066 -0.12855 0.1349 -0.12855 C 0.20121 -0.12855 0.25417 -0.09272 0.25417 -0.04601 C 0.25417 0.000690000000000003 0.30694 0.03653 0.37326 0.03653 C 0.4375 0.03653 0.49045 0.000690000000000003 0.49045 -0.04601 E">
                                      <p:cBhvr>
                                        <p:cTn id="61" dur="1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606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4427640" y="1916280"/>
            <a:ext cx="3817800" cy="3733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"/>
          <p:cNvPicPr/>
          <p:nvPr/>
        </p:nvPicPr>
        <p:blipFill>
          <a:blip r:embed="rId2"/>
          <a:stretch/>
        </p:blipFill>
        <p:spPr>
          <a:xfrm>
            <a:off x="4643280" y="1773360"/>
            <a:ext cx="4237200" cy="3593880"/>
          </a:xfrm>
          <a:prstGeom prst="rect">
            <a:avLst/>
          </a:prstGeom>
          <a:ln w="0">
            <a:noFill/>
          </a:ln>
        </p:spPr>
      </p:pic>
      <p:sp>
        <p:nvSpPr>
          <p:cNvPr id="72" name="AutoShape 9">
            <a:hlinkClick r:id="" action="ppaction://hlinkshowjump?jump=nextslide"/>
          </p:cNvPr>
          <p:cNvSpPr/>
          <p:nvPr/>
        </p:nvSpPr>
        <p:spPr>
          <a:xfrm>
            <a:off x="8101080" y="5805360"/>
            <a:ext cx="1042920" cy="105264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52640"/>
              <a:gd name="textAreaBottom" fmla="*/ 985320 h 1052640"/>
            </a:gdLst>
            <a:ahLst/>
            <a:rect l="textAreaLeft" t="textAreaTop" r="textAreaRight" b="textAreaBottom"/>
            <a:pathLst>
              <a:path w="21600" h="21801">
                <a:moveTo>
                  <a:pt x="0" y="0"/>
                </a:moveTo>
                <a:lnTo>
                  <a:pt x="21600" y="0"/>
                </a:lnTo>
                <a:lnTo>
                  <a:pt x="21600" y="21801"/>
                </a:lnTo>
                <a:lnTo>
                  <a:pt x="0" y="21801"/>
                </a:lnTo>
                <a:close/>
              </a:path>
              <a:path fill="lightenLess" w="21600" h="2180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01">
                <a:moveTo>
                  <a:pt x="21600" y="0"/>
                </a:moveTo>
                <a:lnTo>
                  <a:pt x="21600" y="21801"/>
                </a:lnTo>
                <a:lnTo>
                  <a:pt x="20200" y="20401"/>
                </a:lnTo>
                <a:lnTo>
                  <a:pt x="20200" y="1400"/>
                </a:lnTo>
                <a:close/>
              </a:path>
              <a:path fill="darkenLess" w="21600" h="21801">
                <a:moveTo>
                  <a:pt x="21600" y="21801"/>
                </a:moveTo>
                <a:lnTo>
                  <a:pt x="0" y="21801"/>
                </a:lnTo>
                <a:lnTo>
                  <a:pt x="1400" y="20401"/>
                </a:lnTo>
                <a:lnTo>
                  <a:pt x="20200" y="20401"/>
                </a:lnTo>
                <a:close/>
              </a:path>
              <a:path fill="lighten" w="21600" h="21801">
                <a:moveTo>
                  <a:pt x="0" y="2180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01"/>
                </a:lnTo>
                <a:close/>
              </a:path>
              <a:path fill="darken" w="21600" h="21801">
                <a:moveTo>
                  <a:pt x="3794" y="3894"/>
                </a:moveTo>
                <a:lnTo>
                  <a:pt x="17806" y="10901"/>
                </a:lnTo>
                <a:lnTo>
                  <a:pt x="3794" y="17907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0">
            <a:hlinkClick r:id="rId3"/>
          </p:cNvPr>
          <p:cNvSpPr/>
          <p:nvPr/>
        </p:nvSpPr>
        <p:spPr>
          <a:xfrm>
            <a:off x="8101080" y="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8406"/>
                </a:moveTo>
                <a:lnTo>
                  <a:pt x="8224" y="8406"/>
                </a:lnTo>
                <a:lnTo>
                  <a:pt x="12645" y="3794"/>
                </a:lnTo>
                <a:lnTo>
                  <a:pt x="12645" y="17806"/>
                </a:lnTo>
                <a:lnTo>
                  <a:pt x="8224" y="13194"/>
                </a:lnTo>
                <a:lnTo>
                  <a:pt x="3794" y="13194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17806" y="10800"/>
                </a:lnTo>
              </a:path>
              <a:path fill="darken" w="21600" h="21600">
                <a:moveTo>
                  <a:pt x="14299" y="8406"/>
                </a:moveTo>
                <a:lnTo>
                  <a:pt x="17806" y="5639"/>
                </a:lnTo>
              </a:path>
              <a:path fill="darken" w="21600" h="21600">
                <a:moveTo>
                  <a:pt x="14299" y="13194"/>
                </a:moveTo>
                <a:lnTo>
                  <a:pt x="17806" y="15961"/>
                </a:lnTo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1" descr=""/>
          <p:cNvPicPr/>
          <p:nvPr/>
        </p:nvPicPr>
        <p:blipFill>
          <a:blip r:embed="rId4"/>
          <a:stretch/>
        </p:blipFill>
        <p:spPr>
          <a:xfrm>
            <a:off x="8604360" y="-3049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"/>
          <p:cNvPicPr/>
          <p:nvPr/>
        </p:nvPicPr>
        <p:blipFill>
          <a:blip r:embed="rId5"/>
          <a:stretch/>
        </p:blipFill>
        <p:spPr>
          <a:xfrm>
            <a:off x="7596360" y="-3049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13166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3.7037E-007 L -0.38975 0.00093 E">
                                      <p:cBhvr>
                                        <p:cTn id="74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7175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5364000" y="2060640"/>
            <a:ext cx="2857680" cy="28573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093920" cy="3593880"/>
          </a:xfrm>
          <a:prstGeom prst="rect">
            <a:avLst/>
          </a:prstGeom>
          <a:ln w="0">
            <a:noFill/>
          </a:ln>
        </p:spPr>
      </p:pic>
      <p:sp>
        <p:nvSpPr>
          <p:cNvPr id="78" name="AutoShape 8">
            <a:hlinkClick r:id="rId3"/>
          </p:cNvPr>
          <p:cNvSpPr/>
          <p:nvPr/>
        </p:nvSpPr>
        <p:spPr>
          <a:xfrm>
            <a:off x="8101080" y="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8406"/>
                </a:moveTo>
                <a:lnTo>
                  <a:pt x="8224" y="8406"/>
                </a:lnTo>
                <a:lnTo>
                  <a:pt x="12645" y="3794"/>
                </a:lnTo>
                <a:lnTo>
                  <a:pt x="12645" y="17806"/>
                </a:lnTo>
                <a:lnTo>
                  <a:pt x="8224" y="13194"/>
                </a:lnTo>
                <a:lnTo>
                  <a:pt x="3794" y="13194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17806" y="10800"/>
                </a:lnTo>
              </a:path>
              <a:path fill="darken" w="21600" h="21600">
                <a:moveTo>
                  <a:pt x="14299" y="8406"/>
                </a:moveTo>
                <a:lnTo>
                  <a:pt x="17806" y="5639"/>
                </a:lnTo>
              </a:path>
              <a:path fill="darken" w="21600" h="21600">
                <a:moveTo>
                  <a:pt x="14299" y="13194"/>
                </a:moveTo>
                <a:lnTo>
                  <a:pt x="17806" y="15961"/>
                </a:lnTo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9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0" descr=""/>
          <p:cNvPicPr/>
          <p:nvPr/>
        </p:nvPicPr>
        <p:blipFill>
          <a:blip r:embed="rId4"/>
          <a:stretch/>
        </p:blipFill>
        <p:spPr>
          <a:xfrm>
            <a:off x="8675640" y="-304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2" descr=""/>
          <p:cNvPicPr/>
          <p:nvPr/>
        </p:nvPicPr>
        <p:blipFill>
          <a:blip r:embed="rId5"/>
          <a:stretch/>
        </p:blipFill>
        <p:spPr>
          <a:xfrm>
            <a:off x="781200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11425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5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736 -0.06852 C 0.02136 -0.02199 -0.03802 -0.0213 -0.11198 -0.01019 C -0.18837 0.00115 -0.27448 0.0456 -0.27864 -0.00139 C -0.28264 -0.04769 -0.34757 -0.13473 -0.42361 -0.12361 C -0.49774 -0.11227 -0.52639 -0.03172 -0.52274 0.01412 E">
                                      <p:cBhvr>
                                        <p:cTn id="87" dur="1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6966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9" descr=""/>
          <p:cNvPicPr/>
          <p:nvPr/>
        </p:nvPicPr>
        <p:blipFill>
          <a:blip r:embed="rId1"/>
          <a:stretch/>
        </p:blipFill>
        <p:spPr>
          <a:xfrm rot="20905800">
            <a:off x="4572000" y="1916280"/>
            <a:ext cx="3373560" cy="33732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"/>
          <p:cNvPicPr/>
          <p:nvPr/>
        </p:nvPicPr>
        <p:blipFill>
          <a:blip r:embed="rId2"/>
          <a:stretch/>
        </p:blipFill>
        <p:spPr>
          <a:xfrm>
            <a:off x="4716360" y="2133720"/>
            <a:ext cx="3986280" cy="3498840"/>
          </a:xfrm>
          <a:prstGeom prst="rect">
            <a:avLst/>
          </a:prstGeom>
          <a:ln w="0">
            <a:noFill/>
          </a:ln>
        </p:spPr>
      </p:pic>
      <p:sp>
        <p:nvSpPr>
          <p:cNvPr id="84" name="AutoShape 12">
            <a:hlinkClick r:id="rId3"/>
          </p:cNvPr>
          <p:cNvSpPr/>
          <p:nvPr/>
        </p:nvSpPr>
        <p:spPr>
          <a:xfrm>
            <a:off x="8101080" y="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8406"/>
                </a:moveTo>
                <a:lnTo>
                  <a:pt x="8224" y="8406"/>
                </a:lnTo>
                <a:lnTo>
                  <a:pt x="12645" y="3794"/>
                </a:lnTo>
                <a:lnTo>
                  <a:pt x="12645" y="17806"/>
                </a:lnTo>
                <a:lnTo>
                  <a:pt x="8224" y="13194"/>
                </a:lnTo>
                <a:lnTo>
                  <a:pt x="3794" y="13194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17806" y="10800"/>
                </a:lnTo>
              </a:path>
              <a:path fill="darken" w="21600" h="21600">
                <a:moveTo>
                  <a:pt x="14299" y="8406"/>
                </a:moveTo>
                <a:lnTo>
                  <a:pt x="17806" y="5639"/>
                </a:lnTo>
              </a:path>
              <a:path fill="darken" w="21600" h="21600">
                <a:moveTo>
                  <a:pt x="14299" y="13194"/>
                </a:moveTo>
                <a:lnTo>
                  <a:pt x="17806" y="15961"/>
                </a:lnTo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3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4" descr=""/>
          <p:cNvPicPr/>
          <p:nvPr/>
        </p:nvPicPr>
        <p:blipFill>
          <a:blip r:embed="rId4"/>
          <a:stretch/>
        </p:blipFill>
        <p:spPr>
          <a:xfrm>
            <a:off x="8604360" y="-3049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5" descr=""/>
          <p:cNvPicPr/>
          <p:nvPr/>
        </p:nvPicPr>
        <p:blipFill>
          <a:blip r:embed="rId5"/>
          <a:stretch/>
        </p:blipFill>
        <p:spPr>
          <a:xfrm>
            <a:off x="7740720" y="-3049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226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path" presetID="4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33333E-006 C -0.00799 -0.00301 -0.03611 -0.00602 -0.04583 -0.00602 C -0.10781 -0.00602 -0.17153 0.04121 -0.17153 0.08843 C -0.17153 0.06459 -0.20347 0.04121 -0.23368 0.04121 C -0.26545 0.04121 -0.29566 0.06482 -0.29566 0.08843 C -0.29566 0.07662 -0.31163 0.06459 -0.32761 0.06459 C -0.3434 0.06459 -0.35938 0.07616 -0.35938 0.08843 C -0.35938 0.08218 -0.36736 0.07662 -0.37535 0.07662 C -0.38333 0.07662 -0.39132 0.08264 -0.39132 0.08843 C -0.39132 0.08519 -0.39549 0.08218 -0.39931 0.08218 C -0.40139 0.08218 -0.40729 0.08519 -0.40729 0.08843 C -0.40729 0.08681 -0.40938 0.08519 -0.41146 0.08519 C -0.41146 0.08496 -0.41563 0.08681 -0.41563 0.08843 C -0.41563 0.0875 -0.41563 0.08681 -0.41771 0.08681 C -0.41771 0.08727 -0.41979 0.0875 -0.41979 0.08843 C -0.41979 0.08797 -0.41979 0.0875 -0.41979 0.08727 C -0.42188 0.08727 -0.42188 0.0875 -0.42188 0.08797 C -0.42396 0.08797 -0.42396 0.0875 -0.42396 0.08727 C -0.42587 0.08727 -0.42587 0.0875 -0.42587 0.08797 E">
                                      <p:cBhvr>
                                        <p:cTn id="100" dur="1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" dur="6618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"/>
          <p:cNvPicPr/>
          <p:nvPr/>
        </p:nvPicPr>
        <p:blipFill>
          <a:blip r:embed="rId1"/>
          <a:stretch/>
        </p:blipFill>
        <p:spPr>
          <a:xfrm>
            <a:off x="3995640" y="1125360"/>
            <a:ext cx="3745080" cy="3745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"/>
          <p:cNvPicPr/>
          <p:nvPr/>
        </p:nvPicPr>
        <p:blipFill>
          <a:blip r:embed="rId2"/>
          <a:stretch/>
        </p:blipFill>
        <p:spPr>
          <a:xfrm>
            <a:off x="4140360" y="981000"/>
            <a:ext cx="4321080" cy="3794040"/>
          </a:xfrm>
          <a:prstGeom prst="rect">
            <a:avLst/>
          </a:prstGeom>
          <a:ln w="0">
            <a:noFill/>
          </a:ln>
        </p:spPr>
      </p:pic>
      <p:sp>
        <p:nvSpPr>
          <p:cNvPr id="90" name="AutoShape 8">
            <a:hlinkClick r:id="rId3"/>
          </p:cNvPr>
          <p:cNvSpPr/>
          <p:nvPr/>
        </p:nvSpPr>
        <p:spPr>
          <a:xfrm>
            <a:off x="8101080" y="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8406"/>
                </a:moveTo>
                <a:lnTo>
                  <a:pt x="8224" y="8406"/>
                </a:lnTo>
                <a:lnTo>
                  <a:pt x="12645" y="3794"/>
                </a:lnTo>
                <a:lnTo>
                  <a:pt x="12645" y="17806"/>
                </a:lnTo>
                <a:lnTo>
                  <a:pt x="8224" y="13194"/>
                </a:lnTo>
                <a:lnTo>
                  <a:pt x="3794" y="13194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17806" y="10800"/>
                </a:lnTo>
              </a:path>
              <a:path fill="darken" w="21600" h="21600">
                <a:moveTo>
                  <a:pt x="14299" y="8406"/>
                </a:moveTo>
                <a:lnTo>
                  <a:pt x="17806" y="5639"/>
                </a:lnTo>
              </a:path>
              <a:path fill="darken" w="21600" h="21600">
                <a:moveTo>
                  <a:pt x="14299" y="13194"/>
                </a:moveTo>
                <a:lnTo>
                  <a:pt x="17806" y="15961"/>
                </a:lnTo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9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0" descr=""/>
          <p:cNvPicPr/>
          <p:nvPr/>
        </p:nvPicPr>
        <p:blipFill>
          <a:blip r:embed="rId4"/>
          <a:stretch/>
        </p:blipFill>
        <p:spPr>
          <a:xfrm>
            <a:off x="8839080" y="-304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1" descr=""/>
          <p:cNvPicPr/>
          <p:nvPr/>
        </p:nvPicPr>
        <p:blipFill>
          <a:blip r:embed="rId5"/>
          <a:stretch/>
        </p:blipFill>
        <p:spPr>
          <a:xfrm>
            <a:off x="802800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9" dur="1414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96296E-006 L -0.40938 2.96296E-006 E">
                                      <p:cBhvr>
                                        <p:cTn id="113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6" dur="8290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7T17:30:57Z</dcterms:created>
  <dc:creator>DJ_Diesel</dc:creator>
  <dc:description/>
  <dc:language>en-US</dc:language>
  <cp:lastModifiedBy>днс</cp:lastModifiedBy>
  <dcterms:modified xsi:type="dcterms:W3CDTF">2023-01-21T18:37:13Z</dcterms:modified>
  <cp:revision>15</cp:revision>
  <dc:subject/>
  <dc:title>Слайд 1</dc:title>
</cp:coreProperties>
</file>