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8D09-7ABA-4325-85E8-65FFA434B6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2454-0528-43CF-A5C0-004BCFFE76F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7E3C-9C1E-47D5-9157-605D5DB3562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9EFE-0DB0-4F63-A13A-3A941DCDA1F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97B2-85DC-4A40-A39D-9268652F809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3A3E-D724-4DCF-B96A-2159F60B506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BB0B-3DEC-4256-8AA1-6972F39F470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85CF-E6E6-4AA2-AD05-41391296B1C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7AA1-0652-4623-A1FE-D96E59C9307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E192-0C3D-4BE2-B217-E51FBB9F7B4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B7F0-F3AA-418F-A069-7623109E336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FB38-317A-42D3-A289-F5A7CD8FB12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DBED-365F-4FE5-BB6A-1895EF4F7E7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6A7F-CB7C-47C0-A8C1-772EA042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F294-08FA-4E30-9706-354D8ECB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6BDC-2EF3-462B-9940-B68644D0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2DA4-BD24-4AFA-8E53-45323C969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E099-B6A0-4D80-96B6-F6D106000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980B-9E9F-46B4-A14F-B5F2D00B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7561B-C6A0-4A30-8E08-89EA9514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C787-EDFD-4636-B130-349037B9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36040-4FBE-4D5E-8E7A-D9CB47DE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A374-0784-43EB-A6F4-A65A6A67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039E-CB40-4874-98DB-203E0D33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F047-3FE1-4F49-906C-1D9485D4A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EC74-3D9E-4079-93A8-DAFBAAC4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4F2D-6EDD-4E41-99C0-85918AED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32A0-561F-42A5-A590-AF3ADF9B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4932-2592-45CB-B3ED-3957AD85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68F2-343E-455A-8304-A3E0E600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DC7BF-98BF-4A7B-8C71-3E1F4BBAD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F000D-7613-45F7-B9D9-21AD9F39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6CEDAB-B0AD-491A-86F4-279D30C5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2E02A-518B-498C-B999-AEBB612D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3F50E1-8BA1-4F88-AF37-F5BAB60A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DF5D-E599-4BF2-861C-58F95D48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88816C-4066-4EC9-891D-25DD3DA9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BC82D9-BBF8-40EC-AEE8-5468477B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65A51-68AC-4705-85F9-CB3B27E8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53970-3059-4FC2-83E0-F2E8F513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85D601-B73F-4171-95EB-BEA83A7B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AE869-6F26-48B5-87CA-0268CBA2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C2DFB4-F9D5-4EBA-8522-9112221D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04B09-DC72-4DE4-94F9-7016437E8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3DB20-346B-4123-9ED0-156C58B3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89271-82A4-4EAA-B9BB-5F228EF2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31CD-DF30-4702-9806-DF2C596B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270E8-1864-4611-9C57-4905014F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010F5-CD91-47C2-999E-C3C6347B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F1025-B2A2-454B-9FBD-B7545658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33C7A-5ECD-4713-9C9F-264F6D34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6BD32-059C-4E6A-813A-BE9E6598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2B50F-0E1D-43DB-9B1C-F3C2E49A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5997C-4466-42BC-B81A-66476262C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A1EFD-A955-4C1F-BD16-4A4F92B38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FC7DC-0798-4CB0-A9C9-310D74D2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FEF34B-BB4F-44EC-94FA-7AF32C6C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CC3A-D3AC-4F30-A647-7308F934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AC19F9-C093-4B06-990D-5CA11448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95AC6F-9F7C-4B45-BFD6-5E7B0056F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595A3-B343-4951-9CBC-3216526B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AE7B56-5F26-4B43-AF95-E26BF918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193AF4-4470-4EDF-BB19-D4E52A94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D3B1CD-100A-4FBE-9AA9-0A21E15E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BB4245-9D5C-49CB-86F8-EED21F00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3B8B37-77AC-48E7-96B0-1E80ECF3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F7DE9B-BC73-4D3D-8E05-302599F1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039D8B-EEA9-4E89-A05E-ABC57365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0C47-ACE4-46BA-95A2-08F89382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ED3114-9B24-4A4F-84B4-26CA721E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FCB0D8-8EEA-4B7F-9C3A-6B2CB471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03C477-5472-4372-8A67-C5E432C3F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EF5651-0310-4DE6-99A1-A29F15CD4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DC4B48-3026-4EC2-BDB4-30FBEE08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514AF7-6575-4565-862C-DB7B3B93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F94753-B82F-49B5-966C-14F0166E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32B5A0-79F8-4690-BF40-CA5E2049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27D99E-B956-4276-90DE-0DD053BD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F45F76-3951-4492-89C5-2647EC08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ED72-F307-43E6-B668-B9128CF6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6ABDFE-0D5A-49F3-B051-42874F88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2C21E7-EAC1-4AA5-8003-27F61B5E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1FE13C-32DE-4CAD-A54A-8B1757B1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B46B09-A396-467B-B677-FFBE1F57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620073-B218-4B67-A313-21F3C52A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772455-EF23-4D7E-BEFA-E0931AA9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DE0B85-EE75-4917-BA9C-B1455FDE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1BCC5A-B2A5-41E8-9B24-72621635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6EB040-B11A-46F0-A6A2-3B8BBA24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5E9A0C-FF56-4CFA-81B4-8E426614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ADC5-485B-45BC-AAD2-A5208845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0AFF1A-1B15-48A2-82C7-48F875C1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0A30DA-7C5B-461F-B561-185E73E3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9DAA52-564B-4B06-A926-1E771F7C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1115DF-5A12-46EF-9B6E-F100CB5E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BBB78B-AA72-487E-B2B8-DDAC4B06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5A07-F00A-4995-9AB5-8FD38BD7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700A-77AD-47EF-8BFB-B08DF48AF06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3AA6-2263-402D-BDA1-10B8D5319D0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C236-4F65-4AAB-A42F-5BEDA09054C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5B4A-074C-4310-8F99-AA93303DF97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41A5-78E6-42E3-BBD5-29F2DB37AFA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DF71-A2DA-4911-820A-CE8F4758526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8595-48FA-409D-B61A-123FC44FA6F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971360" y="2276640"/>
            <a:ext cx="6172200" cy="17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entury Schoolbook"/>
              </a:rPr>
              <a:t>РОДИТЕЛЬСКОЕ СОБРАНИЕ </a:t>
            </a:r>
            <a:br>
              <a:rPr sz="2800"/>
            </a:br>
            <a:r>
              <a:rPr b="1" lang="ru-RU" sz="2800" spc="-1" strike="noStrike">
                <a:solidFill>
                  <a:srgbClr val="0070c0"/>
                </a:solidFill>
                <a:latin typeface="Century Schoolbook"/>
              </a:rPr>
              <a:t> 3 «…» КЛАСС </a:t>
            </a:r>
            <a:br>
              <a:rPr sz="4000"/>
            </a:b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ТЕМА: «ИТОГОВОЕ СОБРАНИЕ 1 ЧЕТВЕРТИ»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Рисунок 5" descr="Рисунок8.png"/>
          <p:cNvPicPr/>
          <p:nvPr/>
        </p:nvPicPr>
        <p:blipFill>
          <a:blip r:embed="rId1"/>
          <a:stretch/>
        </p:blipFill>
        <p:spPr>
          <a:xfrm>
            <a:off x="2297160" y="2786040"/>
            <a:ext cx="6846840" cy="3643200"/>
          </a:xfrm>
          <a:prstGeom prst="rect">
            <a:avLst/>
          </a:prstGeom>
          <a:ln w="0">
            <a:noFill/>
          </a:ln>
        </p:spPr>
      </p:pic>
      <p:pic>
        <p:nvPicPr>
          <p:cNvPr id="361" name="13. А. ПЕТРОВ - ТАНЕЦ ВОСПОМИНАНИЙ .mp3" descr=""/>
          <p:cNvPicPr/>
          <p:nvPr/>
        </p:nvPicPr>
        <p:blipFill>
          <a:blip r:embed="rId2"/>
          <a:stretch/>
        </p:blipFill>
        <p:spPr>
          <a:xfrm>
            <a:off x="814392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7675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6840" y="620280"/>
            <a:ext cx="746748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Пунктационн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тсутствия знака в конце предлож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 соблюдение красной строк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формление предложен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Грамматические зада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нематический разбор слов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подбор однокоренных сл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разбор слова по состав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entury Schoolbook"/>
              </a:rPr>
              <a:t>ТИПИЧНЫЕ ОШИБКИ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entury Schoolbook"/>
              </a:rPr>
              <a:t>ТИПИЧНЫЕ ОШИБКИ 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476280"/>
            <a:ext cx="7467480" cy="59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членение числовых данных (как известные, так и неизвестны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аткое условие (краткая запись, схема-чертёж, таблица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пись только реш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пись неполного отве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ычислительн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став числа (разрядные слагаемые): сложение и вычитан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блица умножения и соответствующие случаи деле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отношения единиц измерения (именованные числ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674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5f6d"/>
                </a:solidFill>
                <a:latin typeface="Century Schoolbook"/>
              </a:rPr>
              <a:t>АНКЕТИРОВАНИЕ УЧАЩИХСЯ 3 «Б» КЛАССА (25 ЧЕЛОВЕК)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50920" y="549360"/>
          <a:ext cx="8424720" cy="6113520"/>
        </p:xfrm>
        <a:graphic>
          <a:graphicData uri="http://schemas.openxmlformats.org/drawingml/2006/table">
            <a:tbl>
              <a:tblPr/>
              <a:tblGrid>
                <a:gridCol w="823680"/>
                <a:gridCol w="3389400"/>
                <a:gridCol w="2104920"/>
                <a:gridCol w="2106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опро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наешь ли ты таблицу умножения на «5»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меешь ли ты складывать в ум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Умеешь ли ты вычитать в ум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равится ли тебе учитьс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ы с радостью ходишь в школу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Хотел бы учиться в другом класс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Любишь делать уроки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ак ты думаешь, можешь ли ты учиться на «5»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менял бы учителя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то тебе может помочь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 – учитель; 8- сам; 2 – родители; 1 - репети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  <a:ea typeface="Aharoni"/>
              </a:rPr>
              <a:t>ВНЕКЛАССНЫЕ  МЕРОПРИЯТИЯ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Century Schoolbook"/>
                <a:ea typeface="Aharoni"/>
              </a:rPr>
              <a:t>ВО 2 ЧЕТВЕРТИ.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413000"/>
            <a:ext cx="821844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 Black"/>
                <a:ea typeface="Aharoni"/>
              </a:rPr>
              <a:t>Конкурс агитбригад «За здоровый образ жизни»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 Black"/>
                <a:ea typeface="Aharoni"/>
              </a:rPr>
              <a:t>День осенних именинников 03.12.17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 Black"/>
                <a:ea typeface="Aharoni"/>
              </a:rPr>
              <a:t>День Матери 29.11. Сочинение о маме. (? Праздник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 Black"/>
                <a:ea typeface="Aharoni"/>
              </a:rPr>
              <a:t>Новогодний праздник 28.12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 Black"/>
                <a:ea typeface="Aharoni"/>
              </a:rPr>
              <a:t>Конкурс «Самая-самая ёлка…»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 Black"/>
                <a:ea typeface="Aharoni"/>
              </a:rPr>
              <a:t>Конкурс «Поздравляем с Новым годом!»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Schoolbook"/>
              </a:rPr>
              <a:t>РАЗНОЕ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50560" y="907560"/>
            <a:ext cx="856908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лимпиады.</a:t>
            </a: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едение дневника, тетрадей. Расписание писать в среду на следующую неделю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чебники. Закладки, обложки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нешний вид (деловой стиль одежды, волосы в порядке, сменная обувь)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опуски без уважительной причины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следний учебный день 29.12.17г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575f6d"/>
                </a:solidFill>
                <a:uFillTx/>
                <a:latin typeface="Century Schoolbook"/>
              </a:rPr>
              <a:t>ВЕДЕНИЕ ДНЕВНИКОВ В ШКОЛЕ.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620280"/>
            <a:ext cx="814716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62110"/>
                </a:solidFill>
                <a:latin typeface="Century Schoolbook"/>
              </a:rPr>
              <a:t>Единые требования к их ведению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писи выполняются аккуратно, разборчиво, грамотно, чернилами синего цвета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ребуется заполнение всех имеющихся разделов (пунктов) данного дневника (начиная с титульного листа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ведения о расписании уроков, звонков, названий предметов, фамилий преподавателей заполняются под руководством учителя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звания месяца следует писать с маленькой буквы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звания предметов следует писать с большой буквы. Допускается сокращенная запись (Матем., Лит. чт., Рус. яз. , Физ.кул, Изо 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запись домашнего задания производится в отведенной графе. </a:t>
            </a: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образец: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 с.132, упр.453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;   </a:t>
            </a:r>
            <a:r>
              <a:rPr b="0" i="1" lang="ru-RU" sz="2000" spc="-1" strike="noStrike">
                <a:solidFill>
                  <a:srgbClr val="000000"/>
                </a:solidFill>
                <a:latin typeface="Century Schoolbook"/>
              </a:rPr>
              <a:t>с. 154-155 (пересказ); с. 29, №6, №8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     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Родители регулярно просматривают дневники и ставят свою подпись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_AntiqueTradyTtlB&amp;W"/>
              </a:rPr>
              <a:t>ГРАФИК ШКОЛЬНЫХ КАНИКУЛ</a:t>
            </a:r>
            <a:r>
              <a:rPr b="1" lang="ru-RU" sz="2800" spc="-1" strike="noStrike">
                <a:solidFill>
                  <a:srgbClr val="898989"/>
                </a:solidFill>
                <a:latin typeface="a_AntiqueTradyTtlB&amp;W"/>
              </a:rPr>
              <a:t>  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_AntiqueTradyTtlB&amp;W"/>
              </a:rPr>
              <a:t>В 2017-2018 УЧЕБНОМ ГОДУ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826920" y="1341360"/>
          <a:ext cx="7561440" cy="551664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2 четвер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С 10.11.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имние (7 дне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2.2017 – 08.01.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3 четвер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С 09.01.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Дополнительные дни каникул к праздничным дня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23.02.2018 – 26.02.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енние (6 дней)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03.2018 – 31.03.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4 четвер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entury Schoolbook"/>
                        </a:rPr>
                        <a:t>С 01.04.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5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Дополнительные дни каникул к праздничным дням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(Майские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раздник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8.03 и 01.05 - Праздничные выходные дн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7.05.2018 – 09.05.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D:\My private\Презентации. Шаблоны 2\оформление презентаций\рамочки\94-3.jpg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D:\My private\картинки\Звонок\звонок.png"/>
          <p:cNvPicPr/>
          <p:nvPr/>
        </p:nvPicPr>
        <p:blipFill>
          <a:blip r:embed="rId2"/>
          <a:stretch/>
        </p:blipFill>
        <p:spPr>
          <a:xfrm>
            <a:off x="500040" y="71424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D:\My private\картинки\ШКОЛА. 1 СЕНТЯБРЯ (АНИМАЦИИ и КАРТИНКИ)\БОЛЬШОЕ СПАСИБО.gif"/>
          <p:cNvPicPr/>
          <p:nvPr/>
        </p:nvPicPr>
        <p:blipFill>
          <a:blip r:embed="rId3"/>
          <a:stretch/>
        </p:blipFill>
        <p:spPr>
          <a:xfrm>
            <a:off x="2143080" y="1143000"/>
            <a:ext cx="5405400" cy="3857760"/>
          </a:xfrm>
          <a:prstGeom prst="rect">
            <a:avLst/>
          </a:prstGeom>
          <a:ln w="0">
            <a:noFill/>
          </a:ln>
        </p:spPr>
      </p:pic>
      <p:pic>
        <p:nvPicPr>
          <p:cNvPr id="396" name="TextBox 4" descr=""/>
          <p:cNvPicPr/>
          <p:nvPr/>
        </p:nvPicPr>
        <p:blipFill>
          <a:blip r:embed="rId4"/>
          <a:stretch/>
        </p:blipFill>
        <p:spPr>
          <a:xfrm>
            <a:off x="1359000" y="4784760"/>
            <a:ext cx="6499080" cy="682560"/>
          </a:xfrm>
          <a:prstGeom prst="rect">
            <a:avLst/>
          </a:prstGeom>
          <a:ln w="0">
            <a:noFill/>
          </a:ln>
        </p:spPr>
      </p:pic>
      <p:pic>
        <p:nvPicPr>
          <p:cNvPr id="397" name="03 - Поль Мориа - Мужчина и женщина.mp3" descr=""/>
          <p:cNvPicPr/>
          <p:nvPr/>
        </p:nvPicPr>
        <p:blipFill>
          <a:blip r:embed="rId5"/>
          <a:stretch/>
        </p:blipFill>
        <p:spPr>
          <a:xfrm>
            <a:off x="850104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2399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ff0000"/>
                </a:solidFill>
                <a:latin typeface="Arial Black"/>
              </a:rPr>
              <a:t>ПЛАН СОБРАНИЯ</a:t>
            </a:r>
            <a:endParaRPr b="0" lang="en-US" sz="5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214280"/>
            <a:ext cx="804384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Итоги  1 четверти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Темы, изучаемые во 2-ой четверти 3 класса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Типичные ошибки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Анализ анкетировани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Внеклассные мероприяти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 Schoolbook"/>
              </a:rPr>
              <a:t>Разное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8296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ОТЛИЧНИКИ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28400" y="1557000"/>
            <a:ext cx="74674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ХОРОШИСТЫ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981000"/>
            <a:ext cx="7467480" cy="54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32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Schoolbook"/>
              </a:rPr>
              <a:t>УЧЕНИКИ С ОДНОЙ «3»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…</a:t>
            </a:r>
            <a:r>
              <a:rPr b="1" lang="ru-RU" sz="4000" spc="-1" strike="noStrike">
                <a:solidFill>
                  <a:srgbClr val="0070c0"/>
                </a:solidFill>
                <a:latin typeface="Century Schoolbook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 Black"/>
              </a:rPr>
              <a:t>ТЕМЫ, ИЗУЧАЕМЫЕ ВО 2 ЧЕТВЕРТИ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00040" y="78552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b0f0"/>
                </a:solidFill>
                <a:uFillTx/>
                <a:latin typeface="Century Schoolbook"/>
              </a:rPr>
              <a:t>Русский язык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остав слов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рфограммы корн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авописание приставок и суффикс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О, Ё после шипящи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Ы после Ц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равописание слов, образованных сложением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Имя существительное (род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Синтаксис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b0f0"/>
                </a:solidFill>
                <a:uFillTx/>
                <a:latin typeface="Century Schoolbook"/>
              </a:rPr>
              <a:t>МАТЕМАТИКА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79280" y="1071360"/>
            <a:ext cx="89647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       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Темы, изучаемые во 2 четверт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Таблица умножения и деле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Решение составных задач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Порядок выполнения действий в выражения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Числовые равенства и неравенств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Верные и неверные высказы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Участие во всероссийской олимпиад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Рисунок 3" descr="ifizika1.gif"/>
          <p:cNvPicPr/>
          <p:nvPr/>
        </p:nvPicPr>
        <p:blipFill>
          <a:blip r:embed="rId1"/>
          <a:stretch/>
        </p:blipFill>
        <p:spPr>
          <a:xfrm>
            <a:off x="611280" y="4797360"/>
            <a:ext cx="2376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b0f0"/>
                </a:solidFill>
                <a:uFillTx/>
                <a:latin typeface="Century Schoolbook"/>
              </a:rPr>
              <a:t>ЧТЕНИЕ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28760" y="35676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Arial Black"/>
              </a:rPr>
              <a:t>Техника чтения во 2 четверт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«2» - меньше 45 слов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«3» - 45-59 слов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«4» - 60-75 слов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«5» – больше 75 слов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Century Schoolbook"/>
              </a:rPr>
              <a:t>ТИПИЧНЫЕ ОШИБКИ </a:t>
            </a:r>
            <a:br>
              <a:rPr sz="2700"/>
            </a:br>
            <a:r>
              <a:rPr b="1" lang="ru-RU" sz="1800" spc="-1" strike="noStrike">
                <a:solidFill>
                  <a:srgbClr val="c00000"/>
                </a:solidFill>
                <a:latin typeface="Century Schoolbook"/>
              </a:rPr>
              <a:t>НЕАККУРАТНОСТЬ</a:t>
            </a: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907560"/>
            <a:ext cx="746748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УССКИЙ ЯЗЫК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Орфографическ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мена, пропуск, искажение бук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езударные гласные, проверяем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проверяемые гласные (словарные слов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делительный 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зделительный Ъ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Ь знак в конце и в середине слова (смягчающий Ь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исание жи-ши, ча-ща, чу-щ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еренос сл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авописание предлогов со слова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4T02:43:47Z</dcterms:created>
  <dc:creator>Лариса</dc:creator>
  <dc:description/>
  <dc:language>en-US</dc:language>
  <cp:lastModifiedBy>1</cp:lastModifiedBy>
  <dcterms:modified xsi:type="dcterms:W3CDTF">2023-01-12T19:45:28Z</dcterms:modified>
  <cp:revision>81</cp:revision>
  <dc:subject/>
  <dc:title>График школьных каникул   в 2010-2011 учебном году</dc:title>
</cp:coreProperties>
</file>