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8D6D-6DC0-4B62-8446-8DFDD11339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8B32-B146-4FF9-9148-34B2C45EB7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291D-2F0B-45DF-B694-B779CC75E1E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7507-E965-49D6-8033-FFBF20EC18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2702-5005-4008-8CF2-EC1A6F11C6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0683-B0F7-4729-9526-CD28B58A7D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7080-2D13-41BC-B239-6D40D1F81E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9E6B-2932-4B68-AA41-50E97B65B75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1141-4441-457A-8C68-68B9FA189B0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098-444B-486C-A845-11AB5C6950D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3312-9197-48C7-ACCC-AEB32F1CFF8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6BFD-4D09-458F-9357-4C1BA48DD5B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CAF7-CB36-4948-9FCC-56C3791E2E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86D-7E40-49B8-8AD5-CE594FC6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AB5-239C-4FC7-9D0F-C048D595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78E-4C96-4755-ACC3-9E80D92D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3FC-B826-47C0-B0F8-EC4FF071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D989-5EF6-4E35-A2A0-C3344421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7DD1-A2A0-4D9A-B27D-19F93682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A34C-F305-43D2-BE18-E7270EB2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EC80-3EB8-4F2C-BC2A-F4266385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1664-1B59-4B45-9388-2651DE64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689F-F109-4941-8A5C-93D9E1E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7C03-3DAD-4CD0-9450-C4F68FEF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30E-173C-433C-85A3-49743C54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E308-C1F1-43C2-A848-31AFED2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B2ED-1BBB-4C91-9240-BF35E9CB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272B-56F4-4269-A7C2-EC646C28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76DF-B2A5-4712-90D1-B6744902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19F3-2496-43EC-937E-9079F2EB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F8D44-A1BE-4EB7-A0F0-72470467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93AEE-768D-492B-A73A-9E823DAC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9590D-1177-4E5C-8F26-303B08CB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FDC2E-7560-41CC-82D9-38EC937B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E13C0-B898-44D1-B83B-AB4D0558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816-F762-497F-8F55-705891FB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6964D-F2AF-48F7-91A9-2CB0FC6D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1046C-6906-45F1-82E1-71483CD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8B7B9-CEEE-4C83-8A0F-A3C9F17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30D06-11A1-4EB2-922B-E5A09985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F7EF4-9944-4DBC-9F36-AC41C6FD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54A1E-BAC8-4500-9BA9-87EEDE3F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8481D-9342-4B86-8C0B-C10BC936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81FF-0C49-4817-A190-BC58644B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565F-AA9C-4105-A6C2-517B0119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216BF-D74A-40B0-955B-CD4BC048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81F-586B-425E-B879-9F4B7A8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D3A95-6727-48B2-82D1-774BB413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2A81-0143-4652-B83A-1C9D5A8F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C580-0030-4B39-B322-F3C6D674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6D96E-EEE3-4FC5-9DE7-C078913F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81969-CE61-4331-8ED2-1D32A4AE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F8C58-7B35-4934-9D4B-744A72BA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36669-2FC3-438D-BBE1-30F92551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2A35-6294-4AD5-A397-A90EC5B8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060A-2710-4145-AAB9-6C1C2D7A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519F3-91FE-40F1-B9B9-D8DD28A7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DA5-1096-4104-A275-6285C7EF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DB52E-0E3C-4B5B-9B40-5C0D8F8A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43AD6-66D8-446E-BE99-F63C9671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04A6C-4606-4581-8A55-4E0B5EEE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9761E-0BD6-4BF5-A493-0F1242A9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62D50-02B2-448B-89C1-A36416A8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C7281-26D4-4AAF-A4FC-0E761607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23E7C-0297-4E16-BC5A-63A2A70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E6A10-62B2-4DBA-82CB-B94B22CB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FDC5E-2884-4D62-A767-3DBD0890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AAD75-7F7D-4442-A709-0A68DE40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E23-A5E6-4890-8879-1B265A45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85C15-1000-48D5-A2FF-F38198A2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21D7D-5226-4472-8D3C-FCE54B68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0A78D-15BC-4B00-B9B2-1E25EACE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CC12C-3BD4-48DE-99A9-FFAC470C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19A26-68E4-4F42-9596-93F9EF70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D318F-24D3-412E-9C0A-A8D9675D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79E25-4A76-475F-8218-9D64855F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5B849-65D4-406E-A06B-FAEC5892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88453E-6901-456A-BD91-FEBE677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B3FA5-8791-4CE8-9A30-3323E59F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8B4-7C84-4BCB-B780-EE18796D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0A215-B7C7-436E-93B1-03F4D8FF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15AFC-B49C-4BEC-B41E-CFC24DAC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32EFC-2A1A-4AFD-AFA4-F1FA6994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77F00-4B2E-4333-95BB-CCD8A869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155645-30E4-40C6-98A8-394A09F2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4F19D3-D5B8-4D1F-B1C8-C639EC0A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2EF35-8434-4CA7-8E8B-42743CB4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915EAD-D16D-43A8-AD1F-609C276C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0BAD7-8597-4CD9-BD0B-AAA9E9B4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2148B-6917-4E57-8C9D-43012A8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EB8-86E2-4E8E-9E7C-94770C1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F3ED47-2885-47E1-BB1D-CD7DF61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E1FCD-686D-468C-8DB1-E92E6695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1CD1D-6684-452D-8CFE-8C0E15B6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D2761-DFC6-4153-8F97-E5CF09ED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45BA5-47B1-46DA-9824-DFF19DF5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0D7-FC0F-4F21-9932-6BEB938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5008-078B-4600-BFDA-29BA099785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7A7C-CF1C-4555-9F28-B533185C01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1272-0EDA-425E-96F1-8B7009D476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6812-9399-4B3A-AE56-77278F2DFB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E0A-FD98-4DEF-8D2D-FA7701F217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4B64-5C4A-4ECE-B5B2-A3D174394F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4566-1AA2-4104-A6DE-CFF1794943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71360" y="2276640"/>
            <a:ext cx="617220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РОДИТЕЛЬСКОЕ СОБРАНИЕ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 3 «…» КЛАСС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ТЕМА: «ИТОГОВОЕ СОБРАНИЕ 1 ЧЕТВЕРТИ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Рисунок 5" descr="Рисунок8.png"/>
          <p:cNvPicPr/>
          <p:nvPr/>
        </p:nvPicPr>
        <p:blipFill>
          <a:blip r:embed="rId1"/>
          <a:stretch/>
        </p:blipFill>
        <p:spPr>
          <a:xfrm>
            <a:off x="2297160" y="2786040"/>
            <a:ext cx="6846840" cy="3643200"/>
          </a:xfrm>
          <a:prstGeom prst="rect">
            <a:avLst/>
          </a:prstGeom>
          <a:ln w="0">
            <a:noFill/>
          </a:ln>
        </p:spPr>
      </p:pic>
      <p:pic>
        <p:nvPicPr>
          <p:cNvPr id="361" name="13. А. ПЕТРОВ - ТАНЕЦ ВОСПОМИНАНИЙ .mp3" descr=""/>
          <p:cNvPicPr/>
          <p:nvPr/>
        </p:nvPicPr>
        <p:blipFill>
          <a:blip r:embed="rId2"/>
          <a:stretch/>
        </p:blipFill>
        <p:spPr>
          <a:xfrm>
            <a:off x="814392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675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унктацион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я знака в конце предло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соблюдение красной стро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формление предложе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рамматические зад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нематический разбор сло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дбор однокоренных с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азбор слова по состав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ТИПИЧНЫЕ ОШИБКИ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ТИПИЧНЫЕ ОШИБКИ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47628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ленение числовых данных (как известные, так и неизве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ткое условие (краткая запись, схема-чертёж, таблица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пись только реш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пись неполного отв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ычислите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 числа (разрядные слагаемые): сложение и вычит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блица умножения и соответствующие случаи де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отношения единиц измерения (именованные числ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АНКЕТИРОВАНИЕ УЧАЩИХСЯ 3 «Б» КЛАССА (25 ЧЕЛОВЕК)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0920" y="549360"/>
          <a:ext cx="8424720" cy="6113520"/>
        </p:xfrm>
        <a:graphic>
          <a:graphicData uri="http://schemas.openxmlformats.org/drawingml/2006/table">
            <a:tbl>
              <a:tblPr/>
              <a:tblGrid>
                <a:gridCol w="823680"/>
                <a:gridCol w="3389400"/>
                <a:gridCol w="2104920"/>
                <a:gridCol w="2106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наешь ли ты таблицу умножения на «5»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меешь ли ты складывать в ум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меешь ли ты вычитать в ум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равится ли тебе учить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ы с радостью ходишь в шко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отел бы учиться в другом класс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юбишь делать урок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 ты думаешь, можешь ли ты учиться на «5»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менял бы учител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о тебе может помочь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 – учитель; 8- сам; 2 – родители; 1 - репети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  <a:ea typeface="Aharoni"/>
              </a:rPr>
              <a:t>ВНЕКЛАССНЫЕ  МЕРОПРИЯТИЯ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Schoolbook"/>
                <a:ea typeface="Aharoni"/>
              </a:rPr>
              <a:t>ВО 2 ЧЕТВЕРТИ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413000"/>
            <a:ext cx="8218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Конкурс агитбригад «За здоровый образ жизни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День осенних именинников 03.12.1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День Матери 29.11. Сочинение о маме. (? Праздник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Новогодний праздник 28.1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Конкурс «Самая-самая ёлка…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Конкурс «Поздравляем с Новым годом!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АЗНО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50560" y="907560"/>
            <a:ext cx="85690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лимпиады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дение дневника, тетрадей. Расписание писать в среду на следующую неделю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ебники. Закладки, облож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нешний вид (деловой стиль одежды, волосы в порядке, сменная обувь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пуски без уважительной причин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следний учебный день 29.12.17г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ВЕДЕНИЕ ДНЕВНИКОВ В ШКОЛЕ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620280"/>
            <a:ext cx="8147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62110"/>
                </a:solidFill>
                <a:latin typeface="Century Schoolbook"/>
              </a:rPr>
              <a:t>Единые требования к их ведени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и выполняются аккуратно, разборчиво, грамотно, чернилами синего цвета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буется заполнение всех имеющихся разделов (пунктов) данного дневника (начиная с титульного листа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ведения о расписании уроков, звонков, названий предметов, фамилий преподавателей заполняются под руководством учител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звания месяца следует писать с маленькой букв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звания предметов следует писать с большой буквы. Допускается сокращенная запись (Матем., Лит. чт., Рус. яз. , Физ.кул, Изо 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ь домашнего задания производится в отведенной графе.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бразец: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с.132, упр.453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;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с. 154-155 (пересказ); с. 29, №6, №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  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одители регулярно просматривают дневники и ставят свою подпис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_AntiqueTradyTtlB&amp;W"/>
              </a:rPr>
              <a:t>ГРАФИК ШКОЛЬНЫХ КАНИКУЛ</a:t>
            </a:r>
            <a:r>
              <a:rPr b="1" lang="ru-RU" sz="2800" spc="-1" strike="noStrike">
                <a:solidFill>
                  <a:srgbClr val="898989"/>
                </a:solidFill>
                <a:latin typeface="a_AntiqueTradyTtlB&amp;W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_AntiqueTradyTtlB&amp;W"/>
              </a:rPr>
              <a:t>В 2017-2018 УЧЕБНОМ ГОДУ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826920" y="1341360"/>
          <a:ext cx="7561440" cy="551664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 10.11.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мние (7 дн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2.2017 – 08.01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 09.01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Дополнительные дни каникул к праздничным дн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23.02.2018 – 26.02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нние (6 дней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3.2018 – 31.03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 01.04.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5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Дополнительные дни каникул к праздничным дням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Майские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здни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8.03 и 01.05 - Праздничные выходные д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7.05.2018 – 09.05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D:\My private\Презентации. Шаблоны 2\оформление презентаций\рамочки\94-3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D:\My private\картинки\Звонок\звонок.png"/>
          <p:cNvPicPr/>
          <p:nvPr/>
        </p:nvPicPr>
        <p:blipFill>
          <a:blip r:embed="rId2"/>
          <a:stretch/>
        </p:blipFill>
        <p:spPr>
          <a:xfrm>
            <a:off x="500040" y="714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D:\My private\картинки\ШКОЛА. 1 СЕНТЯБРЯ (АНИМАЦИИ и КАРТИНКИ)\БОЛЬШОЕ СПАСИБО.gif"/>
          <p:cNvPicPr/>
          <p:nvPr/>
        </p:nvPicPr>
        <p:blipFill>
          <a:blip r:embed="rId3"/>
          <a:stretch/>
        </p:blipFill>
        <p:spPr>
          <a:xfrm>
            <a:off x="2143080" y="1143000"/>
            <a:ext cx="5405400" cy="385776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4" descr=""/>
          <p:cNvPicPr/>
          <p:nvPr/>
        </p:nvPicPr>
        <p:blipFill>
          <a:blip r:embed="rId4"/>
          <a:stretch/>
        </p:blipFill>
        <p:spPr>
          <a:xfrm>
            <a:off x="1359000" y="4784760"/>
            <a:ext cx="6499080" cy="682560"/>
          </a:xfrm>
          <a:prstGeom prst="rect">
            <a:avLst/>
          </a:prstGeom>
          <a:ln w="0">
            <a:noFill/>
          </a:ln>
        </p:spPr>
      </p:pic>
      <p:pic>
        <p:nvPicPr>
          <p:cNvPr id="397" name="03 - Поль Мориа - Мужчина и женщина.mp3" descr=""/>
          <p:cNvPicPr/>
          <p:nvPr/>
        </p:nvPicPr>
        <p:blipFill>
          <a:blip r:embed="rId5"/>
          <a:stretch/>
        </p:blipFill>
        <p:spPr>
          <a:xfrm>
            <a:off x="850104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2399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0000"/>
                </a:solidFill>
                <a:latin typeface="Arial Black"/>
              </a:rPr>
              <a:t>ПЛАН СОБРАНИЯ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4280"/>
            <a:ext cx="80438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Итоги  1 четверт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Темы, изучаемые во 2-ой четверти 3 класс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Типичные ошибк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Анализ анкетирова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неклассные мероприят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Разно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ОТЛИЧНИК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1557000"/>
            <a:ext cx="74674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ХОРОШИСТ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981000"/>
            <a:ext cx="746748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УЧЕНИКИ С ОДНОЙ «3»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ЕМЫ, ИЗУЧАЕМЫЕ ВО 2 ЧЕТВЕРТИ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00040" y="78552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Русский язык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 сло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рфограммы корн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авописание приставок и суффикс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, Ё после шипящи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Ы после 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авописание слов, образованных сложение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мя существительное (род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нтаксис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МАТЕМАТИ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79280" y="1071360"/>
            <a:ext cx="8964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Темы, изучаемые во 2 четвер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аблица умножения и дел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шение составных зада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рядок выполнения действий в выраже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исловые равенства и неравенст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рные и неверные высказы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астие во всероссийской олимпиад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Рисунок 3" descr="ifizika1.gif"/>
          <p:cNvPicPr/>
          <p:nvPr/>
        </p:nvPicPr>
        <p:blipFill>
          <a:blip r:embed="rId1"/>
          <a:stretch/>
        </p:blipFill>
        <p:spPr>
          <a:xfrm>
            <a:off x="611280" y="4797360"/>
            <a:ext cx="2376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ЧТЕНИ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8760" y="35676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Техника чтения во 2 четвер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2» - меньше 45 сл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3» - 45-59 сл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4» - 60-75 сл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5» – больше 75 сл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ТИПИЧНЫЕ ОШИБКИ </a:t>
            </a:r>
            <a:br>
              <a:rPr sz="2700"/>
            </a:b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НЕАККУРАТНОСТЬ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рфографиче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мена, пропуск, искажение бук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ударные гласные, проверяем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проверяемые гласные (словарные сло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делительный 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делительный 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Ь знак в конце и в середине слова (смягчающий 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исание жи-ши, ча-ща, чу-щ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нос с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описание предлогов со слов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2:43:47Z</dcterms:created>
  <dc:creator>Лариса</dc:creator>
  <dc:description/>
  <dc:language>en-US</dc:language>
  <cp:lastModifiedBy>1</cp:lastModifiedBy>
  <dcterms:modified xsi:type="dcterms:W3CDTF">2023-01-12T19:45:28Z</dcterms:modified>
  <cp:revision>81</cp:revision>
  <dc:subject/>
  <dc:title>График школьных каникул   в 2010-2011 учебном году</dc:title>
</cp:coreProperties>
</file>