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A07-7FD2-4FBD-B1E5-CFBBC99A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EA6-53AB-46CA-8BE1-A6D0A827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1B3-F834-4BE3-8588-F8325F73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260-1E05-4C6C-AB6C-02201B8F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C9C-BCFE-459B-8EFA-F173C28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EC35-E049-4B10-ADC4-5F584E1A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62B7-F330-4F7D-BFA7-B325B0A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6A1-ABFF-43FA-8912-6D3E2AC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443E-C85B-4459-927C-2ECF764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1FA-9474-424F-8259-05E7DDDE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1996-9978-41A6-A894-30034F82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45E-9B66-4339-8736-5ECC4284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A9A8-505F-40BA-A925-7976F36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FF02-7998-46DC-BC89-E06D4E5B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E3A-7945-44FF-9DB8-FDC158E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8BF-0649-4FF9-A3A5-29361CBC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B9A9-6293-4FF1-9711-B456391E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2D9-D0A1-49C7-8941-644FA7FC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24C-654F-481F-A712-F81A4573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93E-D312-4C77-B441-C66BB9F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DA0-DD66-4DAB-BAB6-AD3898C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7CE-8763-4343-B132-5EC24A8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9FF-4697-4806-9E2E-56B57E8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AAD-FD9D-4EAD-A76F-23520E7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000" y="5930640"/>
            <a:ext cx="9153360" cy="927000"/>
            <a:chOff x="-9000" y="5930640"/>
            <a:chExt cx="915336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1800" y="5930640"/>
              <a:ext cx="9142200" cy="92700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400" y="5986080"/>
              <a:ext cx="6621120" cy="714240"/>
            </a:xfrm>
            <a:custGeom>
              <a:avLst/>
              <a:gdLst>
                <a:gd name="textAreaLeft" fmla="*/ 0 w 6621120"/>
                <a:gd name="textAreaRight" fmla="*/ 6621480 w 6621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000" y="6012000"/>
              <a:ext cx="3849480" cy="834480"/>
            </a:xfrm>
            <a:custGeom>
              <a:avLst/>
              <a:gdLst>
                <a:gd name="textAreaLeft" fmla="*/ 0 w 3849480"/>
                <a:gd name="textAreaRight" fmla="*/ 3849840 w 3849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7" h="714">
                  <a:moveTo>
                    <a:pt x="48" y="0"/>
                  </a:moveTo>
                  <a:lnTo>
                    <a:pt x="480" y="336"/>
                  </a:lnTo>
                  <a:lnTo>
                    <a:pt x="432" y="336"/>
                  </a:lnTo>
                  <a:lnTo>
                    <a:pt x="720" y="624"/>
                  </a:lnTo>
                  <a:cubicBezTo>
                    <a:pt x="776" y="676"/>
                    <a:pt x="761" y="631"/>
                    <a:pt x="768" y="645"/>
                  </a:cubicBezTo>
                  <a:cubicBezTo>
                    <a:pt x="776" y="653"/>
                    <a:pt x="777" y="698"/>
                    <a:pt x="761" y="706"/>
                  </a:cubicBezTo>
                  <a:cubicBezTo>
                    <a:pt x="745" y="714"/>
                    <a:pt x="729" y="701"/>
                    <a:pt x="713" y="693"/>
                  </a:cubicBezTo>
                  <a:cubicBezTo>
                    <a:pt x="697" y="685"/>
                    <a:pt x="696" y="656"/>
                    <a:pt x="672" y="624"/>
                  </a:cubicBezTo>
                  <a:lnTo>
                    <a:pt x="528" y="480"/>
                  </a:lnTo>
                  <a:lnTo>
                    <a:pt x="528" y="528"/>
                  </a:lnTo>
                  <a:lnTo>
                    <a:pt x="480" y="480"/>
                  </a:lnTo>
                  <a:lnTo>
                    <a:pt x="384" y="336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CB26-3686-4673-A5FC-B5B536B962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000" y="5930640"/>
            <a:ext cx="9153360" cy="927000"/>
            <a:chOff x="-9000" y="5930640"/>
            <a:chExt cx="915336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1800" y="5930640"/>
              <a:ext cx="9142200" cy="92700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400" y="5986080"/>
              <a:ext cx="6621120" cy="714240"/>
            </a:xfrm>
            <a:custGeom>
              <a:avLst/>
              <a:gdLst>
                <a:gd name="textAreaLeft" fmla="*/ 0 w 6621120"/>
                <a:gd name="textAreaRight" fmla="*/ 6621480 w 6621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000" y="6012000"/>
              <a:ext cx="3849480" cy="834480"/>
            </a:xfrm>
            <a:custGeom>
              <a:avLst/>
              <a:gdLst>
                <a:gd name="textAreaLeft" fmla="*/ 0 w 3849480"/>
                <a:gd name="textAreaRight" fmla="*/ 3849840 w 3849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65BD-FC66-4A82-9CF9-798A6636FD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lnet.ee/names/index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olnet.ee/sol/001/s_000.html" TargetMode="External"/><Relationship Id="rId2" Type="http://schemas.openxmlformats.org/officeDocument/2006/relationships/hyperlink" Target="http://www.solnet.ee/parents/p1_s00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olnet.ee/gallery/dream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кета «Адаптация первоклассника (уровень готовности ребёнка к школе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ерочная работ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знания учащихся по запоминанию письменных изображений 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 а  О о  И и  У у  Е 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  Н н  С с  Т т  П 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 р  В в  Л л  К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вой ря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последующее и предшествующее(предыдущее)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ть соседей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 1 2 3 4 5 6 7 8 9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нать наизус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 изучения данных тем случа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2      стр.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       стр. 1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ИКАКИХ ПОДСЧЁТОВ НА ПАЛЬ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Users\Hp\Desktop\2 собрание 1 класс\3105863P - копия.jpg"/>
          <p:cNvPicPr/>
          <p:nvPr/>
        </p:nvPicPr>
        <p:blipFill>
          <a:blip r:embed="rId1"/>
          <a:stretch/>
        </p:blipFill>
        <p:spPr>
          <a:xfrm>
            <a:off x="1420920" y="1066680"/>
            <a:ext cx="627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тфолио  ученика начальной школы, как метод оценивания личностного рос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формирования портфоли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вводится с целью объективного фиксирования индивидуальных достижений школьников. Портфолио – коллекция работ и результатов учащегося, которая демонстрирует его усилия, прогресс и достижения в различных областях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руктура портфоли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стких требований (государственного образца) на данный момент не существует. Ведь работа над портфолио - хорошая возможность проявить себя, подойти творчески к этой задаче, придумать что-то свое, оригинальное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мерная структура портфолио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ТИТУЛЬНЫЙ ЛИСТ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ит основную информацию (фамилия имя и отчество; учебное заведение, класс), контактную информацию и фото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РАЗДЕЛ "МОЙ МИР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е им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информация о том,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то означает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я семь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здесь можно рассказать о каждом члене семьи или составить небольшой рассказ о своей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друзь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фотографии друзей, информация об их интересах, увле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увлечени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небольшой рассказ о том, чем увлекается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любимые школьные предметы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небольшие заметки о любимых школьных предметах, построенные по принципу "мне нравится..., потому что...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РАЗДЕЛ "МОЯ УЧЁБ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азделе заголовки листов посвящены конкретному школьному предмету. 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РАЗДЕЛ "МОЯ ОБЩЕСТВЕННАЯ РАБОТ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их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а торжественной линейке, или оформил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тенгазе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собр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даптация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ования к результатам обучения  учащихся на конец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чие моменты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РАЗДЕЛ "МОЁ ТВОРЧЕСТВО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т раздел ребенок помещает свои творческие работы: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ису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РАЗДЕЛ "МОИ ДОСТИЖЕ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Лучше выбрать расположение не в порядке значимости, а, например, в хронологическом порядк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1 классе при оформлении портфолио ребенку необходима помощь взрослых, но уже к 3-4 классу эта помощь сводится к минимуму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шение собр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читать дома с ребёнком: слова, предложения, тек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дома с ребёнком следующими зада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о под диктовку изученных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исывание с печатного в черн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Матема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упить или изготовить веер циф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батывать правильное и  аккуратное написание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каникулы подготовить проект « Математика вокруг н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Портфоли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декабря подготовить и сдать на проверку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кет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Уровень готовности  к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читаете ли вы, что ваш ребёнок общи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пособен ли ребёнок выполнить устное пор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ожет ли он заниматься каким – либо делом самостояте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бирает ли ребёнок свои игрушки и личные вещи после игры или в конце дня самостоятельно, без вашего напом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, выполняя задание взрослого, ребёнок не может сам справиться с чем – либо, обратится ли он за помощ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формированы ли у вашего ребёнка основные навыки самообслуж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меет ли ребёнок слушать других, не перебив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пособен ли он соблюдать очередь в игре, в процессе другой деяте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Способен ли ребёнок сам познакомиться с детьми, оказавшись в нов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Может ли он справиться с гневом и раздражением, когда его чем  - то оби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Может ли ребёнок выступить в роли организатора игры или какого – либо дела в процессе общения со сверстни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Пытается ли ребёнок справиться с трудностями самостоятельно, прежде чем обратиться за помощ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Есть ли у вашего ребёнка друз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Готов ли ребёнок делиться своими игрушками в процессе игры с други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Может ли ребёнок сам помириться после ссоры с други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Адекватно ли ребёнок воспринимает замечание в свой адр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баллов – достаточно высокий (хороший) уровень готовности к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9 баллов – средний уровень готовности к 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5 баллов – низкий уровень готовности к поступлению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ля того чтобы правильно читать, ребёнок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изученные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азличать букву и зву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 – буква л(эль), звук (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меть «сливать» согласный   и гласный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комство с новой бук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066680"/>
            <a:ext cx="7696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 что похо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сный или согласный (определяем по месту языка, губ, зубов при произнош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Сравниваем звучание данного звука в разных словах: лось – лес (делаем вывод: твёрдый, мяг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вонкий или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гласный, может быть твёрдым, может быть мягким,он звон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Hp\Desktop\8 и 9 буква п\1263137751_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RePack by SPecialiST</cp:lastModifiedBy>
  <dcterms:modified xsi:type="dcterms:W3CDTF">2014-10-30T05:14:22Z</dcterms:modified>
  <cp:revision>37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