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CB1B-8CE5-466A-BC1B-267F063DB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DD51-86F6-445C-A801-D83BF678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5C1C-E8CB-4194-914B-704DF3B0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958D-CB33-4C30-99CC-FF4047DE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443D-3127-44A5-85B9-C578784A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675D-E66C-4E81-8846-522A6399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3C79-3F52-4610-AFB8-8AA5266D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D63C-A021-48CE-A6D0-05283284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4DDB-2A15-4105-A60C-4367E650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923B-9394-48DC-8416-E564454F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2DCC-C427-4590-96D3-F77279D8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E716-6B6F-465A-9B64-3760ACFC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FFB9-5073-4164-8386-4933CC2A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7EE86-011B-4F1D-8FB6-508ACEC7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9E18-363D-49E2-8BBB-BAD5EA26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5C0A-2BE8-4E57-8190-CA8E1D5DC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7E7C-BFB3-4BC0-BCE1-B2A9DB50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822F-E88F-4665-888B-59EE47E0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3CB0-B69D-4117-AC84-2FDC4F92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3932-5ECD-43A8-9538-20EF29E2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DB42-179D-468E-8648-B97074F5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073E-A267-4B6D-8589-3C7EA41E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D862-4397-4948-8FC0-C24209A4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2074-734F-4386-B463-A2BC88A1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-9000" y="5930640"/>
            <a:ext cx="9153360" cy="927000"/>
            <a:chOff x="-9000" y="5930640"/>
            <a:chExt cx="9153360" cy="927000"/>
          </a:xfrm>
        </p:grpSpPr>
        <p:sp>
          <p:nvSpPr>
            <p:cNvPr id="1" name="Freeform 8"/>
            <p:cNvSpPr/>
            <p:nvPr/>
          </p:nvSpPr>
          <p:spPr>
            <a:xfrm flipH="1" rot="10800000">
              <a:off x="1800" y="5930640"/>
              <a:ext cx="9142200" cy="927000"/>
            </a:xfrm>
            <a:custGeom>
              <a:avLst/>
              <a:gdLst>
                <a:gd name="textAreaLeft" fmla="*/ -360 w 9142200"/>
                <a:gd name="textAreaRight" fmla="*/ 9142200 w 9142200"/>
                <a:gd name="textAreaTop" fmla="*/ 0 h 927000"/>
                <a:gd name="textAreaBottom" fmla="*/ 927360 h 927000"/>
              </a:gdLst>
              <a:ahLst/>
              <a:rect l="textAreaLeft" t="textAreaTop" r="textAreaRight" b="textAreaBottom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 rot="10800000">
              <a:off x="5400" y="5986080"/>
              <a:ext cx="6621120" cy="714240"/>
            </a:xfrm>
            <a:custGeom>
              <a:avLst/>
              <a:gdLst>
                <a:gd name="textAreaLeft" fmla="*/ 0 w 6621120"/>
                <a:gd name="textAreaRight" fmla="*/ 6621480 w 662112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 rot="10800000">
              <a:off x="-9000" y="6012000"/>
              <a:ext cx="3849480" cy="834480"/>
            </a:xfrm>
            <a:custGeom>
              <a:avLst/>
              <a:gdLst>
                <a:gd name="textAreaLeft" fmla="*/ 0 w 3849480"/>
                <a:gd name="textAreaRight" fmla="*/ 3849840 w 3849480"/>
                <a:gd name="textAreaTop" fmla="*/ 0 h 834480"/>
                <a:gd name="textAreaBottom" fmla="*/ 834840 h 834480"/>
              </a:gdLst>
              <a:ahLst/>
              <a:rect l="textAreaLeft" t="textAreaTop" r="textAreaRight" b="textAreaBottom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Rectangle 11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2" descr="leaf 11"/>
          <p:cNvPicPr/>
          <p:nvPr/>
        </p:nvPicPr>
        <p:blipFill>
          <a:blip r:embed="rId2"/>
          <a:stretch/>
        </p:blipFill>
        <p:spPr>
          <a:xfrm>
            <a:off x="0" y="4724280"/>
            <a:ext cx="826920" cy="962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" descr="j0437824"/>
          <p:cNvPicPr/>
          <p:nvPr/>
        </p:nvPicPr>
        <p:blipFill>
          <a:blip r:embed="rId3"/>
          <a:stretch/>
        </p:blipFill>
        <p:spPr>
          <a:xfrm>
            <a:off x="0" y="31240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6" descr="j0250876"/>
          <p:cNvPicPr/>
          <p:nvPr/>
        </p:nvPicPr>
        <p:blipFill>
          <a:blip r:embed="rId4"/>
          <a:stretch/>
        </p:blipFill>
        <p:spPr>
          <a:xfrm>
            <a:off x="0" y="152280"/>
            <a:ext cx="1371600" cy="881280"/>
          </a:xfrm>
          <a:prstGeom prst="rect">
            <a:avLst/>
          </a:prstGeom>
          <a:ln w="0">
            <a:noFill/>
          </a:ln>
        </p:spPr>
      </p:pic>
      <p:grpSp>
        <p:nvGrpSpPr>
          <p:cNvPr id="8" name="Group 18"/>
          <p:cNvGrpSpPr/>
          <p:nvPr/>
        </p:nvGrpSpPr>
        <p:grpSpPr>
          <a:xfrm>
            <a:off x="0" y="1523880"/>
            <a:ext cx="914400" cy="914400"/>
            <a:chOff x="0" y="1523880"/>
            <a:chExt cx="914400" cy="914400"/>
          </a:xfrm>
        </p:grpSpPr>
        <p:sp>
          <p:nvSpPr>
            <p:cNvPr id="9" name="Freeform 17"/>
            <p:cNvSpPr/>
            <p:nvPr/>
          </p:nvSpPr>
          <p:spPr>
            <a:xfrm>
              <a:off x="63000" y="1523880"/>
              <a:ext cx="819720" cy="914400"/>
            </a:xfrm>
            <a:custGeom>
              <a:avLst/>
              <a:gdLst>
                <a:gd name="textAreaLeft" fmla="*/ 0 w 819720"/>
                <a:gd name="textAreaRight" fmla="*/ 820080 w 8197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777" h="714">
                  <a:moveTo>
                    <a:pt x="48" y="0"/>
                  </a:moveTo>
                  <a:lnTo>
                    <a:pt x="480" y="336"/>
                  </a:lnTo>
                  <a:lnTo>
                    <a:pt x="432" y="336"/>
                  </a:lnTo>
                  <a:lnTo>
                    <a:pt x="720" y="624"/>
                  </a:lnTo>
                  <a:cubicBezTo>
                    <a:pt x="776" y="676"/>
                    <a:pt x="761" y="631"/>
                    <a:pt x="768" y="645"/>
                  </a:cubicBezTo>
                  <a:cubicBezTo>
                    <a:pt x="776" y="653"/>
                    <a:pt x="777" y="698"/>
                    <a:pt x="761" y="706"/>
                  </a:cubicBezTo>
                  <a:cubicBezTo>
                    <a:pt x="745" y="714"/>
                    <a:pt x="729" y="701"/>
                    <a:pt x="713" y="693"/>
                  </a:cubicBezTo>
                  <a:cubicBezTo>
                    <a:pt x="697" y="685"/>
                    <a:pt x="696" y="656"/>
                    <a:pt x="672" y="624"/>
                  </a:cubicBezTo>
                  <a:lnTo>
                    <a:pt x="528" y="480"/>
                  </a:lnTo>
                  <a:lnTo>
                    <a:pt x="528" y="528"/>
                  </a:lnTo>
                  <a:lnTo>
                    <a:pt x="480" y="480"/>
                  </a:lnTo>
                  <a:lnTo>
                    <a:pt x="384" y="336"/>
                  </a:lnTo>
                  <a:lnTo>
                    <a:pt x="0" y="0"/>
                  </a:lnTo>
                </a:path>
              </a:pathLst>
            </a:custGeom>
            <a:solidFill>
              <a:srgbClr val="663300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" name="Picture 15" descr="forget-me-not02"/>
            <p:cNvPicPr/>
            <p:nvPr/>
          </p:nvPicPr>
          <p:blipFill>
            <a:blip r:embed="rId5"/>
            <a:stretch/>
          </p:blipFill>
          <p:spPr>
            <a:xfrm>
              <a:off x="0" y="1589040"/>
              <a:ext cx="914400" cy="82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7556-6336-4E1B-A416-AAA4FE1324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j0438974"/>
          <p:cNvPicPr/>
          <p:nvPr/>
        </p:nvPicPr>
        <p:blipFill>
          <a:blip r:embed="rId2"/>
          <a:stretch/>
        </p:blipFill>
        <p:spPr>
          <a:xfrm>
            <a:off x="6905520" y="0"/>
            <a:ext cx="2238480" cy="3352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438933"/>
          <p:cNvPicPr/>
          <p:nvPr/>
        </p:nvPicPr>
        <p:blipFill>
          <a:blip r:embed="rId3"/>
          <a:stretch/>
        </p:blipFill>
        <p:spPr>
          <a:xfrm>
            <a:off x="4572000" y="0"/>
            <a:ext cx="2238480" cy="3352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j0425153"/>
          <p:cNvPicPr/>
          <p:nvPr/>
        </p:nvPicPr>
        <p:blipFill>
          <a:blip r:embed="rId4"/>
          <a:stretch/>
        </p:blipFill>
        <p:spPr>
          <a:xfrm>
            <a:off x="0" y="0"/>
            <a:ext cx="2219400" cy="3352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j0432829"/>
          <p:cNvPicPr/>
          <p:nvPr/>
        </p:nvPicPr>
        <p:blipFill>
          <a:blip r:embed="rId5"/>
          <a:stretch/>
        </p:blipFill>
        <p:spPr>
          <a:xfrm>
            <a:off x="2286000" y="0"/>
            <a:ext cx="2238480" cy="3352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0"/>
          <p:cNvGrpSpPr/>
          <p:nvPr/>
        </p:nvGrpSpPr>
        <p:grpSpPr>
          <a:xfrm>
            <a:off x="-9000" y="5930640"/>
            <a:ext cx="9153360" cy="927000"/>
            <a:chOff x="-9000" y="5930640"/>
            <a:chExt cx="9153360" cy="927000"/>
          </a:xfrm>
        </p:grpSpPr>
        <p:sp>
          <p:nvSpPr>
            <p:cNvPr id="58" name="Freeform 17"/>
            <p:cNvSpPr/>
            <p:nvPr/>
          </p:nvSpPr>
          <p:spPr>
            <a:xfrm flipH="1" rot="10800000">
              <a:off x="1800" y="5930640"/>
              <a:ext cx="9142200" cy="927000"/>
            </a:xfrm>
            <a:custGeom>
              <a:avLst/>
              <a:gdLst>
                <a:gd name="textAreaLeft" fmla="*/ -360 w 9142200"/>
                <a:gd name="textAreaRight" fmla="*/ 9142200 w 9142200"/>
                <a:gd name="textAreaTop" fmla="*/ 0 h 927000"/>
                <a:gd name="textAreaBottom" fmla="*/ 927360 h 927000"/>
              </a:gdLst>
              <a:ahLst/>
              <a:rect l="textAreaLeft" t="textAreaTop" r="textAreaRight" b="textAreaBottom"/>
              <a:pathLst>
                <a:path w="5778" h="1215">
                  <a:moveTo>
                    <a:pt x="5778" y="640"/>
                  </a:moveTo>
                  <a:cubicBezTo>
                    <a:pt x="4217" y="104"/>
                    <a:pt x="3024" y="562"/>
                    <a:pt x="2656" y="668"/>
                  </a:cubicBezTo>
                  <a:cubicBezTo>
                    <a:pt x="2288" y="774"/>
                    <a:pt x="1066" y="1215"/>
                    <a:pt x="0" y="726"/>
                  </a:cubicBezTo>
                  <a:cubicBezTo>
                    <a:pt x="0" y="726"/>
                    <a:pt x="12" y="292"/>
                    <a:pt x="12" y="6"/>
                  </a:cubicBezTo>
                  <a:cubicBezTo>
                    <a:pt x="2901" y="5"/>
                    <a:pt x="5778" y="0"/>
                    <a:pt x="5778" y="0"/>
                  </a:cubicBezTo>
                  <a:cubicBezTo>
                    <a:pt x="5778" y="227"/>
                    <a:pt x="5778" y="413"/>
                    <a:pt x="5778" y="640"/>
                  </a:cubicBezTo>
                  <a:close/>
                </a:path>
              </a:pathLst>
            </a:cu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 rot="10800000">
              <a:off x="5400" y="5986080"/>
              <a:ext cx="6621120" cy="714240"/>
            </a:xfrm>
            <a:custGeom>
              <a:avLst/>
              <a:gdLst>
                <a:gd name="textAreaLeft" fmla="*/ 0 w 6621120"/>
                <a:gd name="textAreaRight" fmla="*/ 6621480 w 662112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4173" h="936">
                  <a:moveTo>
                    <a:pt x="669" y="179"/>
                  </a:moveTo>
                  <a:cubicBezTo>
                    <a:pt x="1122" y="287"/>
                    <a:pt x="1351" y="360"/>
                    <a:pt x="1538" y="422"/>
                  </a:cubicBezTo>
                  <a:cubicBezTo>
                    <a:pt x="1725" y="484"/>
                    <a:pt x="3122" y="936"/>
                    <a:pt x="4173" y="374"/>
                  </a:cubicBezTo>
                  <a:cubicBezTo>
                    <a:pt x="4173" y="374"/>
                    <a:pt x="4173" y="387"/>
                    <a:pt x="4173" y="306"/>
                  </a:cubicBezTo>
                  <a:cubicBezTo>
                    <a:pt x="3957" y="435"/>
                    <a:pt x="3346" y="626"/>
                    <a:pt x="2845" y="589"/>
                  </a:cubicBezTo>
                  <a:cubicBezTo>
                    <a:pt x="2344" y="552"/>
                    <a:pt x="1639" y="170"/>
                    <a:pt x="1165" y="85"/>
                  </a:cubicBezTo>
                  <a:cubicBezTo>
                    <a:pt x="691" y="0"/>
                    <a:pt x="261" y="21"/>
                    <a:pt x="0" y="77"/>
                  </a:cubicBezTo>
                  <a:cubicBezTo>
                    <a:pt x="2" y="84"/>
                    <a:pt x="261" y="92"/>
                    <a:pt x="669" y="179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5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 rot="10800000">
              <a:off x="-9000" y="6012000"/>
              <a:ext cx="3849480" cy="834480"/>
            </a:xfrm>
            <a:custGeom>
              <a:avLst/>
              <a:gdLst>
                <a:gd name="textAreaLeft" fmla="*/ 0 w 3849480"/>
                <a:gd name="textAreaRight" fmla="*/ 3849840 w 3849480"/>
                <a:gd name="textAreaTop" fmla="*/ 0 h 834480"/>
                <a:gd name="textAreaBottom" fmla="*/ 834840 h 834480"/>
              </a:gdLst>
              <a:ahLst/>
              <a:rect l="textAreaLeft" t="textAreaTop" r="textAreaRight" b="textAreaBottom"/>
              <a:pathLst>
                <a:path w="2426" h="1095">
                  <a:moveTo>
                    <a:pt x="2426" y="1"/>
                  </a:moveTo>
                  <a:cubicBezTo>
                    <a:pt x="2426" y="232"/>
                    <a:pt x="2426" y="464"/>
                    <a:pt x="2426" y="464"/>
                  </a:cubicBezTo>
                  <a:cubicBezTo>
                    <a:pt x="1216" y="1095"/>
                    <a:pt x="584" y="162"/>
                    <a:pt x="0" y="0"/>
                  </a:cubicBezTo>
                  <a:cubicBezTo>
                    <a:pt x="0" y="0"/>
                    <a:pt x="1213" y="0"/>
                    <a:pt x="2426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27" descr="tree21"/>
          <p:cNvPicPr/>
          <p:nvPr/>
        </p:nvPicPr>
        <p:blipFill>
          <a:blip r:embed="rId6"/>
          <a:stretch/>
        </p:blipFill>
        <p:spPr>
          <a:xfrm>
            <a:off x="8077320" y="541008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DE2F-B6C9-4DB5-8CE3-DB696EE83C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olnet.ee/names/index.html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solnet.ee/sol/001/s_000.html" TargetMode="External"/><Relationship Id="rId2" Type="http://schemas.openxmlformats.org/officeDocument/2006/relationships/hyperlink" Target="http://www.solnet.ee/parents/p1_s00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olnet.ee/gallery/dream.html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Анкета «Адаптация первоклассника (уровень готовности ребёнка к школе)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53337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оверочная работа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ить знания учащихся по запоминанию письменных изображений  бук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90720" y="167652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 а  О о  И и  У у  Е 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ы  Н н  С с  Т т  П п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 р  В в  Л л  К 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исловой ряд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ть последующее и предшествующее(предыдущее)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Знать соседей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0 1 2 3 4 5 6 7 8 9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Знать наизусть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ле изучения данных тем случа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2952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 8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2      стр. 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3       стр. 1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ИКАКИХ ПОДСЧЁТОВ НА ПАЛЬЦАХ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C:\Users\Hp\Desktop\2 собрание 1 класс\3105863P - копия.jpg"/>
          <p:cNvPicPr/>
          <p:nvPr/>
        </p:nvPicPr>
        <p:blipFill>
          <a:blip r:embed="rId1"/>
          <a:stretch/>
        </p:blipFill>
        <p:spPr>
          <a:xfrm>
            <a:off x="1420920" y="1066680"/>
            <a:ext cx="6275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ртфолио  ученика начальной школы, как метод оценивания личностного рост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и формирования портфоли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фолио вводится с целью объективного фиксирования индивидуальных достижений школьников. Портфолио – коллекция работ и результатов учащегося, которая демонстрирует его усилия, прогресс и достижения в различных областях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труктура портфоли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стких требований (государственного образца) на данный момент не существует. Ведь работа над портфолио - хорошая возможность проявить себя, подойти творчески к этой задаче, придумать что-то свое, оригинальное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имерная структура портфолио 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ТИТУЛЬНЫЙ ЛИСТ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ит основную информацию (фамилия имя и отчество; учебное заведение, класс), контактную информацию и фото уче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РАЗДЕЛ "МОЙ МИР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"Мое имя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- информация о том, 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что означает и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"Моя семья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- здесь можно рассказать о каждом члене семьи или составить небольшой рассказ о своей сем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"Мои друзья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- фотографии друзей, информация об их интересах, увлечен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"Мои увлечения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- небольшой рассказ о том, чем увлекается ребе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"Мои любимые школьные предметы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- небольшие заметки о любимых школьных предметах, построенные по принципу "мне нравится..., потому что...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РАЗДЕЛ "МОЯ УЧЁБА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м разделе заголовки листов посвящены конкретному школьному предмету. Ученик наполняет этот раздел удачно написанными контрольными работами, интересными проектами, отзывами о прочитанных книгах, графиками роста скорости чтения, творческими рабо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РАЗДЕЛ "МОЯ ОБЩЕСТВЕННАЯ РАБОТА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мероприятия, которые проводятся вне рамок учебной деятельности можно отнести к общественной работе (поручениям). Может быть, ребенок играл роль в школьном спектакле, или читал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тих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на торжественной линейке, или оформил 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тенгазет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к празднику или выступал на утреннике… Вариантов очень много. Оформлять этот раздел желательно с использованием фотографий и кратких сообщений на тему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ан собр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Адаптация первокласс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Требования к результатам обучения  учащихся на конец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Рабочие моменты на уро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Раз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)РАЗДЕЛ "МОЁ ТВОРЧЕСТВО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т раздел ребенок помещает свои творческие работы: 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рису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сказки, стихи. Если выполнена объемная работа (поделка), нужно поместить ее фотографию. Родителям необходимо предоставить полную свободу ребенку при наполнении этого раздел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)РАЗДЕЛ "МОИ ДОСТИЖЕНИЯ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десь размещаются грамоты, сертификаты, дипломы, благодарственные письма, а также итоговые аттестационные ведомости. Причем в начальной школе не следует разделять по важности успехи в учебе (похвальный лист) и успехи, например, в спорте (диплом). Лучше выбрать расположение не в порядке значимости, а, например, в хронологическом порядке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ажно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В 1 классе при оформлении портфолио ребенку необходима помощь взрослых, но уже к 3-4 классу эта помощь сводится к минимуму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ешение собр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440" y="609480"/>
            <a:ext cx="84582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Чт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дневно читать дома с ребёнком: слова, предложения, текс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Пись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иматься дома с ребёнком следующими задания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исьмо под диктовку изученных бук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исывание с печатного в чернов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Математ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упить или изготовить веер циф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рабатывать правильное и  аккуратное написание циф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 каникулы подготовить проект « Математика вокруг на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Портфоли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онца декабря подготовить и сдать на проверку портфол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нкет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Уровень готовности  к школ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читаете ли вы, что ваш ребёнок общителе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пособен ли ребёнок выполнить устное поруч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Может ли он заниматься каким – либо делом самостоятель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Убирает ли ребёнок свои игрушки и личные вещи после игры или в конце дня самостоятельно, без вашего напомин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Если, выполняя задание взрослого, ребёнок не может сам справиться с чем – либо, обратится ли он за помощь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144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Сформированы ли у вашего ребёнка основные навыки самообслужи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Умеет ли ребёнок слушать других, не перебива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Способен ли он соблюдать очередь в игре, в процессе другой деятельн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Способен ли ребёнок сам познакомиться с детьми, оказавшись в новом мес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Может ли он справиться с гневом и раздражением, когда его чем  - то обиде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Может ли ребёнок выступить в роли организатора игры или какого – либо дела в процессе общения со сверстник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Пытается ли ребёнок справиться с трудностями самостоятельно, прежде чем обратиться за помощь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Есть ли у вашего ребёнка друзь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Готов ли ребёнок делиться своими игрушками в процессе игры с другими деть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Может ли ребёнок сам помириться после ссоры с другими деть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Адекватно ли ребёнок воспринимает замечание в свой адрес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5 баллов – достаточно высокий (хороший) уровень готовности к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-9 баллов – средний уровень готовности к обуч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5 баллов – низкий уровень готовности к поступлению в шко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ля того чтобы правильно читать, ребёнок долж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90720" y="1676520"/>
            <a:ext cx="769608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ть изученные бук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Различать букву и звук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с – буква л(эль), звук (л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Уметь «сливать» согласный   и гласный зв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накомство с новой букво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90720" y="1066680"/>
            <a:ext cx="76960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л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на что похож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сный или согласный (определяем по месту языка, губ, зубов при произношен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Сравниваем звучание данного звука в разных словах: лось – лес (делаем вывод: твёрдый, мягк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Звонкий или глух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вод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у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огласный, может быть твёрдым, может быть мягким,он звон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Users\Hp\Desktop\8 и 9 буква п\1263137751_p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RePack by SPecialiST</cp:lastModifiedBy>
  <dcterms:modified xsi:type="dcterms:W3CDTF">2014-10-30T05:14:22Z</dcterms:modified>
  <cp:revision>37</cp:revision>
  <dc:subject>Времена года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