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A91-6194-4042-BCAB-6117001B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D62-E0FC-419A-A778-4EC62FA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C4B-F471-43B1-99B3-F500A088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B95-8088-4795-9C32-F89364BB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B05-460B-4586-B43F-0C2D02B2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5AF-A231-456B-90FF-A31A1664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CFA-65B2-4B09-B694-0F370C8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9334-0E4F-4B19-8173-992381B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6CF0-90DB-4662-BD6B-0991DCF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6E86-36FE-4B6D-8A51-1A8A3A80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3C3-40A6-45F0-A264-99D06A1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B5A-BE20-4840-9F10-2A917523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9815-7CA6-465B-ACDB-CF0623E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BDA3-C55F-4257-B792-8E444E6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BCDD-CCAA-41C2-96D8-F77B5928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9B35-7CAA-4CEE-8AAF-1D7E0E8F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168D-18FE-4DEF-8FE2-4BF2AB74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8F87-07BE-4E34-9A75-60D6D00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C2CA-6075-4302-9C39-0A21406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827D-1813-4F0B-867A-5DEB4F4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39F6-E788-48E0-8FC0-E04B173C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C791-70B6-4393-A1C0-F4FA460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DF1-A264-4DAE-B58D-6A6565A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6677-F1EA-4CF4-9E1E-CC115F7F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22C9-DED5-4176-B872-09520603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09FF-F3B2-4018-BC9A-F5B1327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1523-360B-4D45-915B-9BACBEC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5DF7-4F3C-48F4-B877-99A5800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066E-D315-49E9-8831-14782762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EC35-617F-4175-9958-41611519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791A-3CF1-4F00-9698-74BD385A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F840-41D0-4FA2-8DD4-25D073D3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B29B-10E0-45EF-992E-7FF02C0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743-86F3-4910-864B-490074C0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00D4-0565-4520-A79A-8886463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4C13-18A9-49E6-831F-45A3FC9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A177-7861-490D-9FB8-09B7725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9375-5E0C-42D5-A143-D476CB3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AB54-DEB0-4AA4-AC09-0677260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1A7A-1A5F-4901-95BC-F66511B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E1AC-3EF9-4267-BB78-3EF0285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F09B-8532-410D-AE10-80D3CE6D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6E6B-3E9E-40C1-8B42-AFE6509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5D51-297E-48EA-BDED-AF441D2C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610-9CEE-4A1D-B158-DBC72034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38CB-D891-4A44-A5C9-8C1DC28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04D2-3C89-408A-8BF0-4879618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2B25-9F1B-440D-9A38-C799A76B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FC434-A28A-4F28-833B-9505A71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14F9-E3CD-47C6-A888-80DB5DD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3BD1-42B2-4320-891F-BFB2923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5706-0B6B-4CD5-B7CB-B2D2182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F8CD-B45C-4DA7-ADDB-6B751AE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3434-0385-440B-8AB7-A273D08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2A04-C9A7-49A0-8B70-F31587A6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75B-F496-4BD3-AC9A-2D66C80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5B8F-3B14-41A6-B461-8076F720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372-5C18-4794-A71E-51C081D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DB1-C2C1-4E96-8C19-98D1DF6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A19-0EEB-4AE9-8261-8684C63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9B09-4118-453B-9432-63D363A8E7C1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78A-579A-4DB2-8573-B6979CD78666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D9D3-EEBE-48E6-B833-97F614E71282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D82E-A8D5-46DF-AB15-31ED3A830680}" type="slidenum">
              <a:rPr b="0" lang="ru-RU" sz="1100" spc="-1" strike="noStrike">
                <a:solidFill>
                  <a:srgbClr val="f4e7ed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616-3674-464A-9EEB-83A55A986695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4" descr="D:\Games\img9.jpg"/>
          <p:cNvPicPr/>
          <p:nvPr/>
        </p:nvPicPr>
        <p:blipFill>
          <a:blip r:embed="rId1"/>
          <a:stretch/>
        </p:blipFill>
        <p:spPr>
          <a:xfrm>
            <a:off x="846000" y="928800"/>
            <a:ext cx="6726240" cy="5527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D:\Games\img0.jpg"/>
          <p:cNvPicPr/>
          <p:nvPr/>
        </p:nvPicPr>
        <p:blipFill>
          <a:blip r:embed="rId1"/>
          <a:stretch/>
        </p:blipFill>
        <p:spPr>
          <a:xfrm>
            <a:off x="846000" y="714240"/>
            <a:ext cx="686916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D:\Games\img5.jpg"/>
          <p:cNvPicPr/>
          <p:nvPr/>
        </p:nvPicPr>
        <p:blipFill>
          <a:blip r:embed="rId1"/>
          <a:stretch/>
        </p:blipFill>
        <p:spPr>
          <a:xfrm>
            <a:off x="571680" y="785880"/>
            <a:ext cx="7143480" cy="56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D:\Games\img14.jpg"/>
          <p:cNvPicPr/>
          <p:nvPr/>
        </p:nvPicPr>
        <p:blipFill>
          <a:blip r:embed="rId1"/>
          <a:stretch/>
        </p:blipFill>
        <p:spPr>
          <a:xfrm>
            <a:off x="857160" y="571680"/>
            <a:ext cx="7143840" cy="535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27:40Z</dcterms:created>
  <dc:creator>1</dc:creator>
  <dc:description/>
  <dc:language>en-US</dc:language>
  <cp:lastModifiedBy>Азы</cp:lastModifiedBy>
  <dcterms:modified xsi:type="dcterms:W3CDTF">2022-04-12T00:53:53Z</dcterms:modified>
  <cp:revision>50</cp:revision>
  <dc:subject/>
  <dc:title>Холодная гамма</dc:title>
</cp:coreProperties>
</file>