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7DCE-4BB8-4F88-84A9-784439B6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023-5665-4E7B-80ED-283788C3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A8C-341F-4347-B6F1-38DB4D33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970-E32D-4F47-BEE9-59874DA7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F4B9-B767-4204-8CDE-277A9A4C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9B56-2BFE-45E3-AA22-A9855BCE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E0F0-FFBF-4575-A673-D4BF1103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5BEE-910E-4777-A065-A403BE31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E847-DC4D-4C2B-9261-69FDF70A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659A-D4FA-4244-B5E5-0C9512A8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1C0A-543B-4D2A-BD6B-64F2F076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6BA-F5B0-4F89-8925-15240B5E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0835-D9A3-4EDF-A450-64573A90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1E87-1E1A-40AE-8181-9464A762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C71D-9E8A-4742-B226-DCE18ED3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AE21-DCDC-4063-BCE4-59BB8332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F369-611B-4426-8799-1DE65E4E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56BB7-91FF-4063-A885-05D56B14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4BE77-08A9-49F5-A29B-A37BDDDE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8AC89-1480-4B4E-95BE-97EC394F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9FACA-3CE1-4F74-9EA6-2059B7AC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652A9-F034-4DEE-8488-BDB7E8E0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190-ADCC-479A-A220-E664A1E3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9861B-B428-44F5-B5BD-D0290905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690A2-2412-43F8-87AA-D7A61945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B0DA0-51A0-477C-81C4-158A1ACA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80775-3316-41AB-B216-654A129E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05BC9-C262-4C88-B1E1-F98ABD9F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F4F84-FA4F-46D3-9E97-A9545FE4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75F33-9ED5-4E4B-AD37-7D0194DB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08494-BED8-47E8-A247-34961D5F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D4C9D-B374-4CA2-AC1E-CC3FCC92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71C99-6244-44F1-9717-A83211B8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097-9787-4A3F-B689-88DF2A8F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6D70A-3680-48AF-A6C6-CB3F1552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0A5C9-7944-4BF0-A318-7ACD8FEF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F754D-D04D-4940-92E1-5467C211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27021-C3D7-45CC-8C0D-7E5B25AB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63CA7-F585-4B58-923C-5D05EFEC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004A2-49C0-4CB1-A9B0-E92D4060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2CAEF-073C-4F48-A2EE-C0160A9D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12D15-D50D-4794-8FAE-DF764305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8B070-B673-41C6-A618-F16D62BA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ABCAD-C7C2-4931-8FF6-9497730C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382-AFAA-4CCB-9BB8-19FEED71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CCDC3-955A-446D-A90F-99380784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F68FB-5CAC-413B-9E3A-62261FCB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77216-D901-43CB-B896-3F46DBF2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4D346-5E33-4759-B605-6AD63D05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50E16-E136-4D9D-9A95-86F1ADF8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C4765-B152-40EA-A688-9288F48D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DC7D2-7B2F-4785-B3B7-457354E0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F6018-2334-4C0C-8735-E7304CC9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CDE91-9A34-4727-899E-583D7453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0D32A-8F19-4496-B0F8-C75AF21D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FAD-619E-4B9B-BAEC-F37EF523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EE423-D3CE-4179-AFAB-7E2DCD27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530-2E9F-40B1-AB47-92E2ED53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B69B-A696-4F87-AC19-BF188C48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BFC4-E9B4-4C0F-A06F-CA637196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E230-EE76-497E-A61A-2D5231A24D5A}" type="slidenum">
              <a:rPr b="0" lang="ru-RU" sz="1100" spc="-1" strike="noStrike">
                <a:solidFill>
                  <a:srgbClr val="b13f9a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ED2C-2EB1-4D83-9982-594E177778E8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1A9D-276B-4F15-B698-55736B616000}" type="slidenum">
              <a:rPr b="0" lang="ru-RU" sz="1100" spc="-1" strike="noStrike">
                <a:solidFill>
                  <a:srgbClr val="b13f9a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1E2C-4E46-4F49-AC2B-9243FA7E5611}" type="slidenum">
              <a:rPr b="0" lang="ru-RU" sz="1100" spc="-1" strike="noStrike">
                <a:solidFill>
                  <a:srgbClr val="f4e7ed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C678-CCE5-4136-B2FD-6EDD624B2F27}" type="slidenum">
              <a:rPr b="0" lang="ru-RU" sz="1100" spc="-1" strike="noStrike">
                <a:solidFill>
                  <a:srgbClr val="b13f9a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Picture 4" descr="D:\Games\img9.jpg"/>
          <p:cNvPicPr/>
          <p:nvPr/>
        </p:nvPicPr>
        <p:blipFill>
          <a:blip r:embed="rId1"/>
          <a:stretch/>
        </p:blipFill>
        <p:spPr>
          <a:xfrm>
            <a:off x="846000" y="928800"/>
            <a:ext cx="6726240" cy="5527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2" descr="D:\Games\img0.jpg"/>
          <p:cNvPicPr/>
          <p:nvPr/>
        </p:nvPicPr>
        <p:blipFill>
          <a:blip r:embed="rId1"/>
          <a:stretch/>
        </p:blipFill>
        <p:spPr>
          <a:xfrm>
            <a:off x="846000" y="714240"/>
            <a:ext cx="6869160" cy="574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Picture 2" descr="D:\Games\img5.jpg"/>
          <p:cNvPicPr/>
          <p:nvPr/>
        </p:nvPicPr>
        <p:blipFill>
          <a:blip r:embed="rId1"/>
          <a:stretch/>
        </p:blipFill>
        <p:spPr>
          <a:xfrm>
            <a:off x="571680" y="785880"/>
            <a:ext cx="7143480" cy="5670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2" descr="D:\Games\img14.jpg"/>
          <p:cNvPicPr/>
          <p:nvPr/>
        </p:nvPicPr>
        <p:blipFill>
          <a:blip r:embed="rId1"/>
          <a:stretch/>
        </p:blipFill>
        <p:spPr>
          <a:xfrm>
            <a:off x="857160" y="571680"/>
            <a:ext cx="7143840" cy="5357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2:27:40Z</dcterms:created>
  <dc:creator>1</dc:creator>
  <dc:description/>
  <dc:language>en-US</dc:language>
  <cp:lastModifiedBy>Азы</cp:lastModifiedBy>
  <dcterms:modified xsi:type="dcterms:W3CDTF">2022-04-12T00:53:53Z</dcterms:modified>
  <cp:revision>50</cp:revision>
  <dc:subject/>
  <dc:title>Холодная гамма</dc:title>
</cp:coreProperties>
</file>