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2F3-6721-4D56-8852-85A91AC36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D2C2-EE09-4D4D-9D3F-48C611250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630-336F-4489-B472-1EC1C37B7F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C61-EC6D-4DF8-A63C-B2A82FB2B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B56D-DAF1-4E0C-8EAA-AEE1D5088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C397-51D9-4857-8E79-994C24C2AB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97ED-7E6F-4004-9EC3-3B89AF2B45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EE2-F0DC-436B-9366-12CC5603D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729-FF99-41EA-A0B1-7C76810B8C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470-F12C-4DFC-97AA-E79A9788F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DA2-95EA-4B7F-9C8E-71BE08461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4AF-662A-4F68-B7F4-18A69D0AB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95BB-C28E-415A-B74B-6511E56729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FAF-AE42-4204-B97C-E91056B8C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CAD-38E9-430F-B27E-8DF6A2AD0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56C-381E-4953-916D-7218D4BF51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DE6-7F01-49FE-A513-EE451041F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766-0565-4481-80E5-52A47D3EEB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51B-911F-442A-9161-2824DE16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FE4-4CC6-4195-BFF0-00F79AD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C68-6F32-4D05-8824-5FDAFA46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E33-C9E9-480F-8B66-6C316FF8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060-203E-4E35-8266-FBC4167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383-01C8-4118-A7F2-6A3B0921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53C-7A63-4C2B-8200-BED2A8A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1A7-5CAD-47A7-A00D-3E48C3E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0D1-918C-4C2C-BACB-3B1F89E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117-BDB3-4883-A00A-58D9006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DDD-1094-403A-81D9-D6CC086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5E9-84CA-4F82-AC6D-9A4B57E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778-35E8-4C28-A188-7A24698D3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7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14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нам всем понятен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, величествен и ясен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ём мы мысли выражае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м, и пишем, и читае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есть и птичьи голос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ви и счастья чудес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учие леса, бескрайние пол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аски осени, и свежесть январ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ете нет другого, такого нам родного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благороден, ты велик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ый русский наш язык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я пусть славят все на свет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наши, внуки, де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наем мы тебя, и чтим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сли надо защити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56451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95280" y="2924280"/>
            <a:ext cx="7777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неправда - ло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жно заме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инонимом без НЕ.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                           (не) правд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5280" y="2924280"/>
            <a:ext cx="77770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                  ненависть – не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употребляется бе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(не) нависть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95280" y="2924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кни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трицание: не заяц, н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кри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)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см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жно заменить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синонимом без НЕ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об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) см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алеко НЕ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слово ДАЛЕКО Н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ничуть не, нисколько не,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все н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далеко  (не)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победимый челов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лово не у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без 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) победимый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395280" y="2924280"/>
            <a:ext cx="7777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гладкая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роховат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противопо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 союз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74760" y="1225440"/>
            <a:ext cx="7632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гладкая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роховат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95280" y="2924280"/>
            <a:ext cx="7777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    не кирпичный дом. С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тносительными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тяжатель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лагатель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кирпич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395280" y="2924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ва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с глаголами пишется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уважать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год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слитно, т.к.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потребляется без 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 год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7" descr=""/>
          <p:cNvPicPr/>
          <p:nvPr/>
        </p:nvPicPr>
        <p:blipFill>
          <a:blip r:embed="rId1"/>
          <a:stretch/>
        </p:blipFill>
        <p:spPr>
          <a:xfrm>
            <a:off x="249120" y="2279520"/>
            <a:ext cx="57247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8" descr=""/>
          <p:cNvPicPr/>
          <p:nvPr/>
        </p:nvPicPr>
        <p:blipFill>
          <a:blip r:embed="rId2"/>
          <a:stretch/>
        </p:blipFill>
        <p:spPr>
          <a:xfrm>
            <a:off x="1279440" y="669960"/>
            <a:ext cx="63835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300720" y="4049640"/>
            <a:ext cx="649440" cy="6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1293840" y="4049640"/>
            <a:ext cx="649440" cy="6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3824280" y="4721400"/>
            <a:ext cx="64944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2346480" y="479736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278320" y="4786200"/>
            <a:ext cx="64944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395280" y="2924280"/>
            <a:ext cx="77770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до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ишем слитно, т.к. сл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разовано с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ставки недо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до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распола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с глаголами пишется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распола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2924280"/>
            <a:ext cx="7777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ж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слитно, т.к.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потребляется без 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5" descr=""/>
          <p:cNvPicPr/>
          <p:nvPr/>
        </p:nvPicPr>
        <p:blipFill>
          <a:blip r:embed="rId2"/>
          <a:stretch/>
        </p:blipFill>
        <p:spPr>
          <a:xfrm>
            <a:off x="1176480" y="938160"/>
            <a:ext cx="69199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692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Не) правдой весь свет пройдешь, да назад не вороти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 (не) беда, коли во двор взошла, а то беда, как со двора не и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Не) поседа портит бес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(Не) умейка кузнечит – себе руки кале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ез правды (не) житьё, а выть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2360" y="3068640"/>
          <a:ext cx="4895640" cy="2305080"/>
        </p:xfrm>
        <a:graphic>
          <a:graphicData uri="http://schemas.openxmlformats.org/drawingml/2006/table">
            <a:tbl>
              <a:tblPr/>
              <a:tblGrid>
                <a:gridCol w="2887560"/>
                <a:gridCol w="461880"/>
                <a:gridCol w="390600"/>
                <a:gridCol w="390600"/>
                <a:gridCol w="390600"/>
                <a:gridCol w="37440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существи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60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676440" y="551664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76440" y="556740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35040" y="556740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725400" y="556740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676440" y="5572080"/>
            <a:ext cx="446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0.42517 -0.1787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0.47257 -0.10393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7037E-007 L 0.52431 -0.19838 E">
                                      <p:cBhvr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3.7037E-007 L 0.55642 -0.19838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0.59862 -0.10462 E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979640" y="620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Не) грамотный человек подобен слеп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Не) сильный в споре побеждает, а ум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Не) брежный человек делает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(Не) доброе слово больше огня жж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нтяй всем (не)навист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17640" y="2637000"/>
          <a:ext cx="4896000" cy="2304720"/>
        </p:xfrm>
        <a:graphic>
          <a:graphicData uri="http://schemas.openxmlformats.org/drawingml/2006/table">
            <a:tbl>
              <a:tblPr/>
              <a:tblGrid>
                <a:gridCol w="2887560"/>
                <a:gridCol w="462240"/>
                <a:gridCol w="390240"/>
                <a:gridCol w="390600"/>
                <a:gridCol w="390600"/>
                <a:gridCol w="37476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прилага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2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676440" y="557208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731880" y="5572080"/>
            <a:ext cx="446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0.44115 -0.25162 E">
                                      <p:cBhvr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48628 -0.16759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52569 -0.25162 E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5651 -0.25162 E">
                                      <p:cBhvr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60035 -0.25162 E">
                                      <p:cBhvr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60600" y="62064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жом доме (не) ука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яю все (не) можется да (не) здоров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лонку хлеб (не) ма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ора до добра (не) дове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 хвали сам себя, есть много лучше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817640" y="2637000"/>
          <a:ext cx="4896000" cy="2304720"/>
        </p:xfrm>
        <a:graphic>
          <a:graphicData uri="http://schemas.openxmlformats.org/drawingml/2006/table">
            <a:tbl>
              <a:tblPr/>
              <a:tblGrid>
                <a:gridCol w="2887560"/>
                <a:gridCol w="462240"/>
                <a:gridCol w="390240"/>
                <a:gridCol w="390600"/>
                <a:gridCol w="390600"/>
                <a:gridCol w="37476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глаго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2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731880" y="557208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62040" y="5494320"/>
            <a:ext cx="446040" cy="46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731880" y="5492880"/>
            <a:ext cx="446040" cy="46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723960" y="548964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743040" y="5494320"/>
            <a:ext cx="444240" cy="461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Рисунок19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6165720"/>
            <a:ext cx="280800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43507 -0.16759 E">
                                      <p:cBhvr>
                                        <p:cTn id="7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8993 -0.24028 E">
                                      <p:cBhvr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0.5217 -0.15602 E">
                                      <p:cBhvr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56979 -0.15556 E">
                                      <p:cBhvr>
                                        <p:cTn id="8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60711 -0.15625 E">
                                      <p:cBhvr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420048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490212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558792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634356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7062840" y="345744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4211640" y="224784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-fotki.yandex.ru/get/6306/162549541.6/0_744cd_83128e8d_XL"/>
          <p:cNvPicPr/>
          <p:nvPr/>
        </p:nvPicPr>
        <p:blipFill>
          <a:blip r:embed="rId8"/>
          <a:stretch/>
        </p:blipFill>
        <p:spPr>
          <a:xfrm>
            <a:off x="4932360" y="222552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img-fotki.yandex.ru/get/6306/162549541.6/0_744cd_83128e8d_XL"/>
          <p:cNvPicPr/>
          <p:nvPr/>
        </p:nvPicPr>
        <p:blipFill>
          <a:blip r:embed="rId9"/>
          <a:stretch/>
        </p:blipFill>
        <p:spPr>
          <a:xfrm>
            <a:off x="5651640" y="225108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g-fotki.yandex.ru/get/6306/162549541.6/0_744cd_83128e8d_XL"/>
          <p:cNvPicPr/>
          <p:nvPr/>
        </p:nvPicPr>
        <p:blipFill>
          <a:blip r:embed="rId10"/>
          <a:stretch/>
        </p:blipFill>
        <p:spPr>
          <a:xfrm>
            <a:off x="6343560" y="224316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img-fotki.yandex.ru/get/6306/162549541.6/0_744cd_83128e8d_XL"/>
          <p:cNvPicPr/>
          <p:nvPr/>
        </p:nvPicPr>
        <p:blipFill>
          <a:blip r:embed="rId11"/>
          <a:stretch/>
        </p:blipFill>
        <p:spPr>
          <a:xfrm>
            <a:off x="7043760" y="226368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g-fotki.yandex.ru/get/6306/162549541.6/0_744cd_83128e8d_XL"/>
          <p:cNvPicPr/>
          <p:nvPr/>
        </p:nvPicPr>
        <p:blipFill>
          <a:blip r:embed="rId12"/>
          <a:stretch/>
        </p:blipFill>
        <p:spPr>
          <a:xfrm>
            <a:off x="709308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img-fotki.yandex.ru/get/6306/162549541.6/0_744cd_83128e8d_XL"/>
          <p:cNvPicPr/>
          <p:nvPr/>
        </p:nvPicPr>
        <p:blipFill>
          <a:blip r:embed="rId13"/>
          <a:stretch/>
        </p:blipFill>
        <p:spPr>
          <a:xfrm>
            <a:off x="637236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mg-fotki.yandex.ru/get/6306/162549541.6/0_744cd_83128e8d_XL"/>
          <p:cNvPicPr/>
          <p:nvPr/>
        </p:nvPicPr>
        <p:blipFill>
          <a:blip r:embed="rId14"/>
          <a:stretch/>
        </p:blipFill>
        <p:spPr>
          <a:xfrm>
            <a:off x="565164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img-fotki.yandex.ru/get/6306/162549541.6/0_744cd_83128e8d_XL"/>
          <p:cNvPicPr/>
          <p:nvPr/>
        </p:nvPicPr>
        <p:blipFill>
          <a:blip r:embed="rId15"/>
          <a:stretch/>
        </p:blipFill>
        <p:spPr>
          <a:xfrm>
            <a:off x="493236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g-fotki.yandex.ru/get/6306/162549541.6/0_744cd_83128e8d_XL"/>
          <p:cNvPicPr/>
          <p:nvPr/>
        </p:nvPicPr>
        <p:blipFill>
          <a:blip r:embed="rId16"/>
          <a:stretch/>
        </p:blipFill>
        <p:spPr>
          <a:xfrm>
            <a:off x="4211640" y="1125360"/>
            <a:ext cx="792000" cy="819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7">
            <a:hlinkClick r:id="rId17" action="ppaction://hlinksldjump"/>
          </p:cNvPr>
          <p:cNvSpPr/>
          <p:nvPr/>
        </p:nvSpPr>
        <p:spPr>
          <a:xfrm>
            <a:off x="435600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9">
            <a:hlinkClick r:id="rId18" action="ppaction://hlinksldjump"/>
          </p:cNvPr>
          <p:cNvSpPr/>
          <p:nvPr/>
        </p:nvSpPr>
        <p:spPr>
          <a:xfrm>
            <a:off x="5076720" y="1268280"/>
            <a:ext cx="50184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0">
            <a:hlinkClick r:id="rId19" action="ppaction://hlinksldjump"/>
          </p:cNvPr>
          <p:cNvSpPr/>
          <p:nvPr/>
        </p:nvSpPr>
        <p:spPr>
          <a:xfrm>
            <a:off x="579600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1">
            <a:hlinkClick r:id="rId20" action="ppaction://hlinksldjump"/>
          </p:cNvPr>
          <p:cNvSpPr/>
          <p:nvPr/>
        </p:nvSpPr>
        <p:spPr>
          <a:xfrm>
            <a:off x="651672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2">
            <a:hlinkClick r:id="rId21" action="ppaction://hlinksldjump"/>
          </p:cNvPr>
          <p:cNvSpPr/>
          <p:nvPr/>
        </p:nvSpPr>
        <p:spPr>
          <a:xfrm>
            <a:off x="7236000" y="1268280"/>
            <a:ext cx="50292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3">
            <a:hlinkClick r:id="rId22" action="ppaction://hlinksldjump"/>
          </p:cNvPr>
          <p:cNvSpPr/>
          <p:nvPr/>
        </p:nvSpPr>
        <p:spPr>
          <a:xfrm>
            <a:off x="4327560" y="2406600"/>
            <a:ext cx="5032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4">
            <a:hlinkClick r:id="rId23" action="ppaction://hlinksldjump"/>
          </p:cNvPr>
          <p:cNvSpPr/>
          <p:nvPr/>
        </p:nvSpPr>
        <p:spPr>
          <a:xfrm>
            <a:off x="5048280" y="2406600"/>
            <a:ext cx="5014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5">
            <a:hlinkClick r:id="rId24" action="ppaction://hlinksldjump"/>
          </p:cNvPr>
          <p:cNvSpPr/>
          <p:nvPr/>
        </p:nvSpPr>
        <p:spPr>
          <a:xfrm>
            <a:off x="5767560" y="2406600"/>
            <a:ext cx="50292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6"/>
          <p:cNvSpPr/>
          <p:nvPr/>
        </p:nvSpPr>
        <p:spPr>
          <a:xfrm>
            <a:off x="6488280" y="2406600"/>
            <a:ext cx="50292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7"/>
          <p:cNvSpPr/>
          <p:nvPr/>
        </p:nvSpPr>
        <p:spPr>
          <a:xfrm>
            <a:off x="7207200" y="2406600"/>
            <a:ext cx="5032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8"/>
          <p:cNvSpPr/>
          <p:nvPr/>
        </p:nvSpPr>
        <p:spPr>
          <a:xfrm>
            <a:off x="432756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9"/>
          <p:cNvSpPr/>
          <p:nvPr/>
        </p:nvSpPr>
        <p:spPr>
          <a:xfrm>
            <a:off x="5048280" y="3573360"/>
            <a:ext cx="5014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0"/>
          <p:cNvSpPr/>
          <p:nvPr/>
        </p:nvSpPr>
        <p:spPr>
          <a:xfrm>
            <a:off x="571968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1"/>
          <p:cNvSpPr/>
          <p:nvPr/>
        </p:nvSpPr>
        <p:spPr>
          <a:xfrm>
            <a:off x="6488280" y="3573360"/>
            <a:ext cx="50292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2"/>
          <p:cNvSpPr/>
          <p:nvPr/>
        </p:nvSpPr>
        <p:spPr>
          <a:xfrm>
            <a:off x="720720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7"/>
          <p:cNvSpPr/>
          <p:nvPr/>
        </p:nvSpPr>
        <p:spPr>
          <a:xfrm>
            <a:off x="973080" y="1208160"/>
            <a:ext cx="2952720" cy="50472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>
            <a:off x="932040" y="2386080"/>
            <a:ext cx="2952720" cy="5014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900000" y="3573360"/>
            <a:ext cx="295272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7" descr="Рисунок40.png">
            <a:hlinkClick r:id="" action="ppaction://hlinkshowjump?jump=endshow"/>
          </p:cNvPr>
          <p:cNvPicPr/>
          <p:nvPr/>
        </p:nvPicPr>
        <p:blipFill>
          <a:blip r:embed="rId25"/>
          <a:stretch/>
        </p:blipFill>
        <p:spPr>
          <a:xfrm>
            <a:off x="4643280" y="6485040"/>
            <a:ext cx="1513080" cy="3729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3" descr=""/>
          <p:cNvPicPr/>
          <p:nvPr/>
        </p:nvPicPr>
        <p:blipFill>
          <a:blip r:embed="rId26"/>
          <a:stretch/>
        </p:blipFill>
        <p:spPr>
          <a:xfrm>
            <a:off x="324000" y="122400"/>
            <a:ext cx="7850160" cy="119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img-fotki.yandex.ru/get/6306/162549541.6/0_744cd_83128e8d_XL"/>
          <p:cNvPicPr/>
          <p:nvPr/>
        </p:nvPicPr>
        <p:blipFill>
          <a:blip r:embed="rId27"/>
          <a:stretch/>
        </p:blipFill>
        <p:spPr>
          <a:xfrm>
            <a:off x="324000" y="1125360"/>
            <a:ext cx="649080" cy="6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img-fotki.yandex.ru/get/6306/162549541.6/0_744cd_83128e8d_XL"/>
          <p:cNvPicPr/>
          <p:nvPr/>
        </p:nvPicPr>
        <p:blipFill>
          <a:blip r:embed="rId28"/>
          <a:stretch/>
        </p:blipFill>
        <p:spPr>
          <a:xfrm>
            <a:off x="324000" y="184464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-fotki.yandex.ru/get/6306/162549541.6/0_744cd_83128e8d_XL"/>
          <p:cNvPicPr/>
          <p:nvPr/>
        </p:nvPicPr>
        <p:blipFill>
          <a:blip r:embed="rId29"/>
          <a:stretch/>
        </p:blipFill>
        <p:spPr>
          <a:xfrm>
            <a:off x="324000" y="2614680"/>
            <a:ext cx="64908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img-fotki.yandex.ru/get/6306/162549541.6/0_744cd_83128e8d_XL"/>
          <p:cNvPicPr/>
          <p:nvPr/>
        </p:nvPicPr>
        <p:blipFill>
          <a:blip r:embed="rId30"/>
          <a:stretch/>
        </p:blipFill>
        <p:spPr>
          <a:xfrm>
            <a:off x="324000" y="3357720"/>
            <a:ext cx="649080" cy="66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g-fotki.yandex.ru/get/6306/162549541.6/0_744cd_83128e8d_XL"/>
          <p:cNvPicPr/>
          <p:nvPr/>
        </p:nvPicPr>
        <p:blipFill>
          <a:blip r:embed="rId31"/>
          <a:stretch/>
        </p:blipFill>
        <p:spPr>
          <a:xfrm>
            <a:off x="324000" y="407664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Елена\Pictures\klip_249_божьи коровки_adr\1 (10).png"/>
          <p:cNvPicPr/>
          <p:nvPr/>
        </p:nvPicPr>
        <p:blipFill>
          <a:blip r:embed="rId32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img-fotki.yandex.ru/get/6306/162549541.6/0_744cd_83128e8d_XL"/>
          <p:cNvPicPr/>
          <p:nvPr/>
        </p:nvPicPr>
        <p:blipFill>
          <a:blip r:embed="rId33"/>
          <a:stretch/>
        </p:blipFill>
        <p:spPr>
          <a:xfrm>
            <a:off x="3562200" y="4722840"/>
            <a:ext cx="649440" cy="67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img-fotki.yandex.ru/get/6306/162549541.6/0_744cd_83128e8d_XL"/>
          <p:cNvPicPr/>
          <p:nvPr/>
        </p:nvPicPr>
        <p:blipFill>
          <a:blip r:embed="rId34"/>
          <a:stretch/>
        </p:blipFill>
        <p:spPr>
          <a:xfrm>
            <a:off x="5078520" y="463716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img-fotki.yandex.ru/get/6306/162549541.6/0_744cd_83128e8d_XL"/>
          <p:cNvPicPr/>
          <p:nvPr/>
        </p:nvPicPr>
        <p:blipFill>
          <a:blip r:embed="rId35"/>
          <a:stretch/>
        </p:blipFill>
        <p:spPr>
          <a:xfrm>
            <a:off x="2050920" y="4748040"/>
            <a:ext cx="649440" cy="6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9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незабудка – не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употребляется бе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заб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95280" y="2924280"/>
            <a:ext cx="7777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НЕ успех, а про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противопо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 союз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успех, а провал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Елена</dc:creator>
  <dc:description/>
  <dc:language>en-US</dc:language>
  <cp:lastModifiedBy>Кристина</cp:lastModifiedBy>
  <dcterms:modified xsi:type="dcterms:W3CDTF">2009-12-31T22:03:02Z</dcterms:modified>
  <cp:revision>49</cp:revision>
  <dc:subject/>
  <dc:title>Слайд 1</dc:title>
</cp:coreProperties>
</file>