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E8F-4DAC-4FA8-9155-0EC32FD81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8F62-5E62-4EB4-AFC6-2A07E0CB0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F3F8-1B50-4535-BE93-7FF8077C9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996-AC2B-4876-B071-D26F3D232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61F1-4150-4AE7-9867-627C8C36A0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5461-2C7F-4721-879B-20B36EE10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D3E-3BF2-4FE1-AC82-EDC4FD1F3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B985-8231-4F30-99BE-9DBDEE5FF0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95B-CAA9-447A-8445-4CA13891F8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3121-139B-4B88-B270-CF9B3FDF4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3F1-85B8-4F36-97CE-43CEAD657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F8D-D4FD-4C02-8199-6285381DF9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03D-6284-4B59-8202-84EEA9A81B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B5EE-D6F2-4BFC-9739-B7125A5F5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A59C-44E1-447C-8A1D-6F3E833DA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665-D1DF-4276-81B7-FAF62C53A1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F4D-E39C-4B5B-B499-948912EC5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FC6-9576-449C-B4AD-660A3AA75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178-5F7B-478B-BB68-6A5E1D3C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E48-685C-4E87-9FB0-80CAAEF6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EBA-82C5-45DD-9011-89715BE7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F21-71D7-4CAA-9A7F-2F8CE362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029-B0D5-4BF0-B53C-C19DE79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76F-64FE-4A32-8AD8-7F6D99B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30F-DC61-4406-A6CB-5E64E46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89D-985C-4FF1-86E2-27E0EFD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E8E-428A-41D4-95E3-6ED53224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DEB-82B3-4675-A3B5-95CF1F6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667-8565-4CC3-BC91-B463691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AF7-72FF-46BE-A779-D9B273D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04ED-D350-4D08-B3E7-F5C6B29D5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7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4.xml"/><Relationship Id="rId24" Type="http://schemas.openxmlformats.org/officeDocument/2006/relationships/slide" Target="slide15.xml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14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нам всем понятен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, величествен и ясен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ём мы мысли выражае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м, и пишем, и читае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есть и птичьи голос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ви и счастья чудес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учие леса, бескрайние пол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аски осени, и свежесть январ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ете нет другого, такого нам родного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благороден, ты велик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ый русский наш язык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я пусть славят все на свет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наши, внуки, де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наем мы тебя, и чтим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сли надо защити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56451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95280" y="2924280"/>
            <a:ext cx="7777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неправда - лож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жно заме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инонимом без НЕ.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                           (не) правд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95280" y="2924280"/>
            <a:ext cx="77770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                  ненависть – не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употребляется бе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(не) нависть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95280" y="2924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кни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трицание: не заяц, н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кри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)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см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ожно заменить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синонимом без НЕ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об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) см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алеко НЕ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слово ДАЛЕКО Н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ничуть не, нисколько не,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все н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далеко  (не)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победимый челов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лово не употреб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без 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) победимый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395280" y="2924280"/>
            <a:ext cx="7777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гладкая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роховат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противопо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 союз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74760" y="1225440"/>
            <a:ext cx="7632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гладкая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ероховат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95280" y="2924280"/>
            <a:ext cx="7777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    не кирпичный дом. С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тносительными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тяжатель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лагатель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кирпичны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395280" y="2924280"/>
            <a:ext cx="777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ва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с глаголами пишется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уважать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395280" y="2924280"/>
            <a:ext cx="7777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год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слитно, т.к.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потребляется без 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 год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7" descr=""/>
          <p:cNvPicPr/>
          <p:nvPr/>
        </p:nvPicPr>
        <p:blipFill>
          <a:blip r:embed="rId1"/>
          <a:stretch/>
        </p:blipFill>
        <p:spPr>
          <a:xfrm>
            <a:off x="249120" y="2279520"/>
            <a:ext cx="57247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8" descr=""/>
          <p:cNvPicPr/>
          <p:nvPr/>
        </p:nvPicPr>
        <p:blipFill>
          <a:blip r:embed="rId2"/>
          <a:stretch/>
        </p:blipFill>
        <p:spPr>
          <a:xfrm>
            <a:off x="1279440" y="669960"/>
            <a:ext cx="63835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300720" y="4049640"/>
            <a:ext cx="649440" cy="6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1293840" y="4049640"/>
            <a:ext cx="649440" cy="6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3824280" y="4721400"/>
            <a:ext cx="64944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2346480" y="479736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278320" y="4786200"/>
            <a:ext cx="64944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395280" y="2924280"/>
            <a:ext cx="77770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до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ишем слитно, т.к. сл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разовано с помощ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ставки недо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до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распола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с глаголами пишется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распола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2924280"/>
            <a:ext cx="7777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ж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пишется слитно, т.к.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 употребляется без Н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img-fotki.yandex.ru/get/9349/20573769.52/0_94204_946b02f5_L.png"/>
          <p:cNvPicPr/>
          <p:nvPr/>
        </p:nvPicPr>
        <p:blipFill>
          <a:blip r:embed="rId3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Users\Елена\Pictures\klip_249_божьи коровки_adr\1 (10).png"/>
          <p:cNvPicPr/>
          <p:nvPr/>
        </p:nvPicPr>
        <p:blipFill>
          <a:blip r:embed="rId4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8" descr=""/>
          <p:cNvPicPr/>
          <p:nvPr/>
        </p:nvPicPr>
        <p:blipFill>
          <a:blip r:embed="rId5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5" descr=""/>
          <p:cNvPicPr/>
          <p:nvPr/>
        </p:nvPicPr>
        <p:blipFill>
          <a:blip r:embed="rId2"/>
          <a:stretch/>
        </p:blipFill>
        <p:spPr>
          <a:xfrm>
            <a:off x="1176480" y="938160"/>
            <a:ext cx="69199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692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Не) правдой весь свет пройдешь, да назад не вороти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 (не) беда, коли во двор взошла, а то беда, как со двора не и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Не) поседа портит бес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(Не) умейка кузнечит – себе руки кале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ез правды (не) житьё, а выть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2360" y="3068640"/>
          <a:ext cx="4895640" cy="2305080"/>
        </p:xfrm>
        <a:graphic>
          <a:graphicData uri="http://schemas.openxmlformats.org/drawingml/2006/table">
            <a:tbl>
              <a:tblPr/>
              <a:tblGrid>
                <a:gridCol w="2887560"/>
                <a:gridCol w="461880"/>
                <a:gridCol w="390600"/>
                <a:gridCol w="390600"/>
                <a:gridCol w="390600"/>
                <a:gridCol w="37440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существи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60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676440" y="551664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76440" y="556740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35040" y="556740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725400" y="556740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676440" y="5572080"/>
            <a:ext cx="446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0.42517 -0.1787 E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0.47257 -0.10393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7037E-007 L 0.52431 -0.19838 E">
                                      <p:cBhvr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3.7037E-007 L 0.55642 -0.19838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0.59862 -0.10462 E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979640" y="620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Не) грамотный человек подобен слеп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Не) сильный в споре побеждает, а ум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Не) брежный человек делает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(Не) доброе слово больше огня жж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нтяй всем (не)навист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17640" y="2637000"/>
          <a:ext cx="4896000" cy="2304720"/>
        </p:xfrm>
        <a:graphic>
          <a:graphicData uri="http://schemas.openxmlformats.org/drawingml/2006/table">
            <a:tbl>
              <a:tblPr/>
              <a:tblGrid>
                <a:gridCol w="2887560"/>
                <a:gridCol w="462240"/>
                <a:gridCol w="390240"/>
                <a:gridCol w="390600"/>
                <a:gridCol w="390600"/>
                <a:gridCol w="37476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прилага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2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676440" y="557208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95160" y="5572080"/>
            <a:ext cx="446400" cy="461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731880" y="5572080"/>
            <a:ext cx="4460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0.44115 -0.25162 E">
                                      <p:cBhvr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48628 -0.16759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52569 -0.25162 E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5651 -0.25162 E">
                                      <p:cBhvr>
                                        <p:cTn id="6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60035 -0.25162 E">
                                      <p:cBhvr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60600" y="62064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ужом доме (не) ука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яю все (не) можется да (не) здоров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лонку хлеб (не) ма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ора до добра (не) дове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 хвали сам себя, есть много лучше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817640" y="2637000"/>
          <a:ext cx="4896000" cy="2304720"/>
        </p:xfrm>
        <a:graphic>
          <a:graphicData uri="http://schemas.openxmlformats.org/drawingml/2006/table">
            <a:tbl>
              <a:tblPr/>
              <a:tblGrid>
                <a:gridCol w="2887560"/>
                <a:gridCol w="462240"/>
                <a:gridCol w="390240"/>
                <a:gridCol w="390600"/>
                <a:gridCol w="390600"/>
                <a:gridCol w="374760"/>
              </a:tblGrid>
              <a:tr h="11444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 глаго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810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79240"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д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2" descr="http://img-fotki.yandex.ru/get/6306/162549541.6/0_744cd_83128e8d_XL"/>
          <p:cNvPicPr/>
          <p:nvPr/>
        </p:nvPicPr>
        <p:blipFill>
          <a:blip r:embed="rId1"/>
          <a:stretch/>
        </p:blipFill>
        <p:spPr>
          <a:xfrm>
            <a:off x="731880" y="5572080"/>
            <a:ext cx="446040" cy="46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62040" y="5494320"/>
            <a:ext cx="446040" cy="46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731880" y="5492880"/>
            <a:ext cx="446040" cy="46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723960" y="5489640"/>
            <a:ext cx="444600" cy="461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743040" y="5494320"/>
            <a:ext cx="444240" cy="461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Рисунок19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6165720"/>
            <a:ext cx="280800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43507 -0.16759 E">
                                      <p:cBhvr>
                                        <p:cTn id="7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8993 -0.24028 E">
                                      <p:cBhvr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0.5217 -0.15602 E">
                                      <p:cBhvr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56979 -0.15556 E">
                                      <p:cBhvr>
                                        <p:cTn id="8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60711 -0.15625 E">
                                      <p:cBhvr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420048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490212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558792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6343560" y="345744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7062840" y="345744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4211640" y="224784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-fotki.yandex.ru/get/6306/162549541.6/0_744cd_83128e8d_XL"/>
          <p:cNvPicPr/>
          <p:nvPr/>
        </p:nvPicPr>
        <p:blipFill>
          <a:blip r:embed="rId8"/>
          <a:stretch/>
        </p:blipFill>
        <p:spPr>
          <a:xfrm>
            <a:off x="4932360" y="222552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img-fotki.yandex.ru/get/6306/162549541.6/0_744cd_83128e8d_XL"/>
          <p:cNvPicPr/>
          <p:nvPr/>
        </p:nvPicPr>
        <p:blipFill>
          <a:blip r:embed="rId9"/>
          <a:stretch/>
        </p:blipFill>
        <p:spPr>
          <a:xfrm>
            <a:off x="5651640" y="225108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mg-fotki.yandex.ru/get/6306/162549541.6/0_744cd_83128e8d_XL"/>
          <p:cNvPicPr/>
          <p:nvPr/>
        </p:nvPicPr>
        <p:blipFill>
          <a:blip r:embed="rId10"/>
          <a:stretch/>
        </p:blipFill>
        <p:spPr>
          <a:xfrm>
            <a:off x="6343560" y="2243160"/>
            <a:ext cx="792360" cy="82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img-fotki.yandex.ru/get/6306/162549541.6/0_744cd_83128e8d_XL"/>
          <p:cNvPicPr/>
          <p:nvPr/>
        </p:nvPicPr>
        <p:blipFill>
          <a:blip r:embed="rId11"/>
          <a:stretch/>
        </p:blipFill>
        <p:spPr>
          <a:xfrm>
            <a:off x="7043760" y="2263680"/>
            <a:ext cx="792000" cy="82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g-fotki.yandex.ru/get/6306/162549541.6/0_744cd_83128e8d_XL"/>
          <p:cNvPicPr/>
          <p:nvPr/>
        </p:nvPicPr>
        <p:blipFill>
          <a:blip r:embed="rId12"/>
          <a:stretch/>
        </p:blipFill>
        <p:spPr>
          <a:xfrm>
            <a:off x="709308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img-fotki.yandex.ru/get/6306/162549541.6/0_744cd_83128e8d_XL"/>
          <p:cNvPicPr/>
          <p:nvPr/>
        </p:nvPicPr>
        <p:blipFill>
          <a:blip r:embed="rId13"/>
          <a:stretch/>
        </p:blipFill>
        <p:spPr>
          <a:xfrm>
            <a:off x="637236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mg-fotki.yandex.ru/get/6306/162549541.6/0_744cd_83128e8d_XL"/>
          <p:cNvPicPr/>
          <p:nvPr/>
        </p:nvPicPr>
        <p:blipFill>
          <a:blip r:embed="rId14"/>
          <a:stretch/>
        </p:blipFill>
        <p:spPr>
          <a:xfrm>
            <a:off x="565164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img-fotki.yandex.ru/get/6306/162549541.6/0_744cd_83128e8d_XL"/>
          <p:cNvPicPr/>
          <p:nvPr/>
        </p:nvPicPr>
        <p:blipFill>
          <a:blip r:embed="rId15"/>
          <a:stretch/>
        </p:blipFill>
        <p:spPr>
          <a:xfrm>
            <a:off x="4932360" y="1125360"/>
            <a:ext cx="792000" cy="81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g-fotki.yandex.ru/get/6306/162549541.6/0_744cd_83128e8d_XL"/>
          <p:cNvPicPr/>
          <p:nvPr/>
        </p:nvPicPr>
        <p:blipFill>
          <a:blip r:embed="rId16"/>
          <a:stretch/>
        </p:blipFill>
        <p:spPr>
          <a:xfrm>
            <a:off x="4211640" y="1125360"/>
            <a:ext cx="792000" cy="819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7">
            <a:hlinkClick r:id="rId17" action="ppaction://hlinksldjump"/>
          </p:cNvPr>
          <p:cNvSpPr/>
          <p:nvPr/>
        </p:nvSpPr>
        <p:spPr>
          <a:xfrm>
            <a:off x="435600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9">
            <a:hlinkClick r:id="rId18" action="ppaction://hlinksldjump"/>
          </p:cNvPr>
          <p:cNvSpPr/>
          <p:nvPr/>
        </p:nvSpPr>
        <p:spPr>
          <a:xfrm>
            <a:off x="5076720" y="1268280"/>
            <a:ext cx="50184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0">
            <a:hlinkClick r:id="rId19" action="ppaction://hlinksldjump"/>
          </p:cNvPr>
          <p:cNvSpPr/>
          <p:nvPr/>
        </p:nvSpPr>
        <p:spPr>
          <a:xfrm>
            <a:off x="579600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1">
            <a:hlinkClick r:id="rId20" action="ppaction://hlinksldjump"/>
          </p:cNvPr>
          <p:cNvSpPr/>
          <p:nvPr/>
        </p:nvSpPr>
        <p:spPr>
          <a:xfrm>
            <a:off x="6516720" y="1268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2">
            <a:hlinkClick r:id="rId21" action="ppaction://hlinksldjump"/>
          </p:cNvPr>
          <p:cNvSpPr/>
          <p:nvPr/>
        </p:nvSpPr>
        <p:spPr>
          <a:xfrm>
            <a:off x="7236000" y="1268280"/>
            <a:ext cx="502920" cy="50328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3">
            <a:hlinkClick r:id="rId22" action="ppaction://hlinksldjump"/>
          </p:cNvPr>
          <p:cNvSpPr/>
          <p:nvPr/>
        </p:nvSpPr>
        <p:spPr>
          <a:xfrm>
            <a:off x="4327560" y="2406600"/>
            <a:ext cx="5032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4">
            <a:hlinkClick r:id="rId23" action="ppaction://hlinksldjump"/>
          </p:cNvPr>
          <p:cNvSpPr/>
          <p:nvPr/>
        </p:nvSpPr>
        <p:spPr>
          <a:xfrm>
            <a:off x="5048280" y="2406600"/>
            <a:ext cx="5014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5">
            <a:hlinkClick r:id="rId24" action="ppaction://hlinksldjump"/>
          </p:cNvPr>
          <p:cNvSpPr/>
          <p:nvPr/>
        </p:nvSpPr>
        <p:spPr>
          <a:xfrm>
            <a:off x="5767560" y="2406600"/>
            <a:ext cx="50292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6"/>
          <p:cNvSpPr/>
          <p:nvPr/>
        </p:nvSpPr>
        <p:spPr>
          <a:xfrm>
            <a:off x="6488280" y="2406600"/>
            <a:ext cx="50292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7"/>
          <p:cNvSpPr/>
          <p:nvPr/>
        </p:nvSpPr>
        <p:spPr>
          <a:xfrm>
            <a:off x="7207200" y="2406600"/>
            <a:ext cx="503280" cy="5032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8"/>
          <p:cNvSpPr/>
          <p:nvPr/>
        </p:nvSpPr>
        <p:spPr>
          <a:xfrm>
            <a:off x="432756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9"/>
          <p:cNvSpPr/>
          <p:nvPr/>
        </p:nvSpPr>
        <p:spPr>
          <a:xfrm>
            <a:off x="5048280" y="3573360"/>
            <a:ext cx="5014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0"/>
          <p:cNvSpPr/>
          <p:nvPr/>
        </p:nvSpPr>
        <p:spPr>
          <a:xfrm>
            <a:off x="571968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1"/>
          <p:cNvSpPr/>
          <p:nvPr/>
        </p:nvSpPr>
        <p:spPr>
          <a:xfrm>
            <a:off x="6488280" y="3573360"/>
            <a:ext cx="50292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2"/>
          <p:cNvSpPr/>
          <p:nvPr/>
        </p:nvSpPr>
        <p:spPr>
          <a:xfrm>
            <a:off x="7207200" y="3573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7"/>
          <p:cNvSpPr/>
          <p:nvPr/>
        </p:nvSpPr>
        <p:spPr>
          <a:xfrm>
            <a:off x="973080" y="1208160"/>
            <a:ext cx="2952720" cy="50472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>
            <a:off x="932040" y="2386080"/>
            <a:ext cx="2952720" cy="501480"/>
          </a:xfrm>
          <a:prstGeom prst="ellipse">
            <a:avLst/>
          </a:prstGeom>
          <a:gradFill rotWithShape="0">
            <a:gsLst>
              <a:gs pos="0">
                <a:srgbClr val="c3d69b"/>
              </a:gs>
              <a:gs pos="100000">
                <a:srgbClr val="ebf1de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900000" y="3573360"/>
            <a:ext cx="2952720" cy="503280"/>
          </a:xfrm>
          <a:prstGeom prst="ellipse">
            <a:avLst/>
          </a:prstGeom>
          <a:gradFill rotWithShape="0">
            <a:gsLst>
              <a:gs pos="0">
                <a:srgbClr val="e6b9b8"/>
              </a:gs>
              <a:gs pos="100000">
                <a:srgbClr val="f6e7e6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7" descr="Рисунок40.png">
            <a:hlinkClick r:id="" action="ppaction://hlinkshowjump?jump=endshow"/>
          </p:cNvPr>
          <p:cNvPicPr/>
          <p:nvPr/>
        </p:nvPicPr>
        <p:blipFill>
          <a:blip r:embed="rId25"/>
          <a:stretch/>
        </p:blipFill>
        <p:spPr>
          <a:xfrm>
            <a:off x="4643280" y="6485040"/>
            <a:ext cx="1513080" cy="3729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3" descr=""/>
          <p:cNvPicPr/>
          <p:nvPr/>
        </p:nvPicPr>
        <p:blipFill>
          <a:blip r:embed="rId26"/>
          <a:stretch/>
        </p:blipFill>
        <p:spPr>
          <a:xfrm>
            <a:off x="324000" y="122400"/>
            <a:ext cx="7850160" cy="119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img-fotki.yandex.ru/get/6306/162549541.6/0_744cd_83128e8d_XL"/>
          <p:cNvPicPr/>
          <p:nvPr/>
        </p:nvPicPr>
        <p:blipFill>
          <a:blip r:embed="rId27"/>
          <a:stretch/>
        </p:blipFill>
        <p:spPr>
          <a:xfrm>
            <a:off x="324000" y="1125360"/>
            <a:ext cx="649080" cy="6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img-fotki.yandex.ru/get/6306/162549541.6/0_744cd_83128e8d_XL"/>
          <p:cNvPicPr/>
          <p:nvPr/>
        </p:nvPicPr>
        <p:blipFill>
          <a:blip r:embed="rId28"/>
          <a:stretch/>
        </p:blipFill>
        <p:spPr>
          <a:xfrm>
            <a:off x="324000" y="184464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-fotki.yandex.ru/get/6306/162549541.6/0_744cd_83128e8d_XL"/>
          <p:cNvPicPr/>
          <p:nvPr/>
        </p:nvPicPr>
        <p:blipFill>
          <a:blip r:embed="rId29"/>
          <a:stretch/>
        </p:blipFill>
        <p:spPr>
          <a:xfrm>
            <a:off x="324000" y="2614680"/>
            <a:ext cx="64908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img-fotki.yandex.ru/get/6306/162549541.6/0_744cd_83128e8d_XL"/>
          <p:cNvPicPr/>
          <p:nvPr/>
        </p:nvPicPr>
        <p:blipFill>
          <a:blip r:embed="rId30"/>
          <a:stretch/>
        </p:blipFill>
        <p:spPr>
          <a:xfrm>
            <a:off x="324000" y="3357720"/>
            <a:ext cx="649080" cy="66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g-fotki.yandex.ru/get/6306/162549541.6/0_744cd_83128e8d_XL"/>
          <p:cNvPicPr/>
          <p:nvPr/>
        </p:nvPicPr>
        <p:blipFill>
          <a:blip r:embed="rId31"/>
          <a:stretch/>
        </p:blipFill>
        <p:spPr>
          <a:xfrm>
            <a:off x="324000" y="407664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Елена\Pictures\klip_249_божьи коровки_adr\1 (10).png"/>
          <p:cNvPicPr/>
          <p:nvPr/>
        </p:nvPicPr>
        <p:blipFill>
          <a:blip r:embed="rId32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img-fotki.yandex.ru/get/6306/162549541.6/0_744cd_83128e8d_XL"/>
          <p:cNvPicPr/>
          <p:nvPr/>
        </p:nvPicPr>
        <p:blipFill>
          <a:blip r:embed="rId33"/>
          <a:stretch/>
        </p:blipFill>
        <p:spPr>
          <a:xfrm>
            <a:off x="3562200" y="4722840"/>
            <a:ext cx="649440" cy="67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img-fotki.yandex.ru/get/6306/162549541.6/0_744cd_83128e8d_XL"/>
          <p:cNvPicPr/>
          <p:nvPr/>
        </p:nvPicPr>
        <p:blipFill>
          <a:blip r:embed="rId34"/>
          <a:stretch/>
        </p:blipFill>
        <p:spPr>
          <a:xfrm>
            <a:off x="5078520" y="4637160"/>
            <a:ext cx="649080" cy="67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img-fotki.yandex.ru/get/6306/162549541.6/0_744cd_83128e8d_XL"/>
          <p:cNvPicPr/>
          <p:nvPr/>
        </p:nvPicPr>
        <p:blipFill>
          <a:blip r:embed="rId35"/>
          <a:stretch/>
        </p:blipFill>
        <p:spPr>
          <a:xfrm>
            <a:off x="2050920" y="4748040"/>
            <a:ext cx="649440" cy="6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9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2924280"/>
            <a:ext cx="7777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незабудка – не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употребляется бе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5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заб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6948360" y="333360"/>
            <a:ext cx="1152720" cy="1192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95280" y="2924280"/>
            <a:ext cx="7777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ведите ответ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 НЕ успех, а про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ть противопо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 союз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ведите вопрос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е) успех, а провал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7"/>
          <p:cNvSpPr/>
          <p:nvPr/>
        </p:nvSpPr>
        <p:spPr>
          <a:xfrm>
            <a:off x="7236000" y="620640"/>
            <a:ext cx="576000" cy="576360"/>
          </a:xfrm>
          <a:prstGeom prst="ellipse">
            <a:avLst/>
          </a:prstGeom>
          <a:gradFill rotWithShape="0">
            <a:gsLst>
              <a:gs pos="0">
                <a:srgbClr val="ccc1da"/>
              </a:gs>
              <a:gs pos="100000">
                <a:srgbClr val="f2eff5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extBox 12" descr=""/>
          <p:cNvPicPr/>
          <p:nvPr/>
        </p:nvPicPr>
        <p:blipFill>
          <a:blip r:embed="rId3"/>
          <a:stretch/>
        </p:blipFill>
        <p:spPr>
          <a:xfrm>
            <a:off x="712800" y="285840"/>
            <a:ext cx="6353280" cy="10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img-fotki.yandex.ru/get/9349/20573769.52/0_94204_946b02f5_L.png"/>
          <p:cNvPicPr/>
          <p:nvPr/>
        </p:nvPicPr>
        <p:blipFill>
          <a:blip r:embed="rId4"/>
          <a:stretch/>
        </p:blipFill>
        <p:spPr>
          <a:xfrm>
            <a:off x="0" y="5345280"/>
            <a:ext cx="1403280" cy="113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Елена\Pictures\klip_249_божьи коровки_adr\1 (10).png"/>
          <p:cNvPicPr/>
          <p:nvPr/>
        </p:nvPicPr>
        <p:blipFill>
          <a:blip r:embed="rId5"/>
          <a:stretch/>
        </p:blipFill>
        <p:spPr>
          <a:xfrm>
            <a:off x="6012000" y="4869000"/>
            <a:ext cx="270324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Елена</dc:creator>
  <dc:description/>
  <dc:language>en-US</dc:language>
  <cp:lastModifiedBy>Кристина</cp:lastModifiedBy>
  <dcterms:modified xsi:type="dcterms:W3CDTF">2009-12-31T22:03:02Z</dcterms:modified>
  <cp:revision>49</cp:revision>
  <dc:subject/>
  <dc:title>Слайд 1</dc:title>
</cp:coreProperties>
</file>