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CB1-6583-4B62-B480-8A7220B4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818-1F1D-463B-9DD8-97E3FA56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F81-FAFE-4CD8-9881-A81E558B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62E-6204-4DCC-A479-C6A7FD82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FF96-A365-479D-816D-E2968B78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68A8-6C0D-48B0-90C6-C60CA671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A0E0-40C7-494E-8C6F-76A74694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5105-D8D5-468F-B92C-5D64701D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2849-350E-4CBE-A7F4-46079205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35D6-F64A-4F44-9DA5-B28BEFF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C22E-5D7A-40E5-9838-5B165F32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C98-DE00-4732-A573-7682005C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2C41-477C-47EA-A9DA-55CAACF1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394E-65E4-4A98-B190-D15178C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44F4-F4D0-48EF-B250-6AD40564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2EBB-ABCC-487A-99EA-B54D496C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0AC5-7439-4236-A4D7-143A2495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13A-CE60-46E0-95C1-537326B8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EA2-4B28-4F36-B498-07F89748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BB2-19D3-4D31-BE87-2D22C3C5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F8E-0C1D-4A6C-8A9A-EF8E9C05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D06-9906-416F-BBFE-C755CD89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AB7-7DF1-47E8-BA89-B238FEED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FD3-0B90-4A6C-B86A-A07CE419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613F-0B9F-402D-9890-B28C6F7D4B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956E-B7BC-45F9-AEDC-EC55DF8969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Развитие эмоциональной сферы детей старшего дошкольного возраста в процессе рисования»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статирующий этап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: выявление уровня развития эмоциональной сферы детей старшего дошкольного возраста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ачи: Подобрать методики , которые будут направлены на выявление уровня развития эмоциональной сферы старших дошкольник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ведение первичной диагностики уровня эмоционального состояния детей.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тодик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Эмоциональные лица» Н.Я.Семаго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Эмоциональные лица» Н.Я.Семаго. 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Оценка возможности адекватного опознания эмоционального состояния, точность и качество этого опознания, возможность соотнесения с личными переживаниями ребен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58920" y="3792600"/>
            <a:ext cx="2736720" cy="2695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540160" cy="1892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771640" y="2492280"/>
            <a:ext cx="37702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итерии оценк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сокий уровень – развёрнутый и подробный ответ, способность адекватно обозначать эмоциональные состояния и оценивать лицевую экспресси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редний уровень – ответы на вопросы с помощью; трудности в опознании и назывании абстрактных изображений, оценивает настроение и называет эмоции с помощью взрослог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изкий уровень - задание не выполняет даже с помощью вопросов, не называет настроение, не может показать его на себ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-й этап методики «Эмоциональные лиц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2117880"/>
          <a:ext cx="7418520" cy="47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17880"/>
                    <a:ext cx="741852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-й этап методики «Эмоциональные лиц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2449440"/>
          <a:ext cx="735012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49440"/>
                    <a:ext cx="735012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8360" y="1773360"/>
            <a:ext cx="8362800" cy="5084640"/>
            <a:chOff x="468360" y="1773360"/>
            <a:chExt cx="8362800" cy="5084640"/>
          </a:xfrm>
        </p:grpSpPr>
        <p:graphicFrame>
          <p:nvGraphicFramePr>
            <p:cNvPr id="129" name=""/>
            <p:cNvGraphicFramePr/>
            <p:nvPr/>
          </p:nvGraphicFramePr>
          <p:xfrm>
            <a:off x="468360" y="1773360"/>
            <a:ext cx="8362800" cy="50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773360"/>
                      <a:ext cx="8362800" cy="50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2124000" y="3213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92360" y="33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6360" y="436572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 детей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68360" y="1773360"/>
            <a:ext cx="8362800" cy="5084640"/>
            <a:chOff x="468360" y="1773360"/>
            <a:chExt cx="8362800" cy="5084640"/>
          </a:xfrm>
        </p:grpSpPr>
        <p:graphicFrame>
          <p:nvGraphicFramePr>
            <p:cNvPr id="135" name=""/>
            <p:cNvGraphicFramePr/>
            <p:nvPr/>
          </p:nvGraphicFramePr>
          <p:xfrm>
            <a:off x="468360" y="1773360"/>
            <a:ext cx="8362800" cy="5084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360" y="1773360"/>
                      <a:ext cx="8362800" cy="50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2124000" y="3213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3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16360" y="436572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 детей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68360" y="1773360"/>
            <a:ext cx="8362800" cy="5084640"/>
            <a:chOff x="468360" y="1773360"/>
            <a:chExt cx="8362800" cy="5084640"/>
          </a:xfrm>
        </p:grpSpPr>
        <p:graphicFrame>
          <p:nvGraphicFramePr>
            <p:cNvPr id="141" name=""/>
            <p:cNvGraphicFramePr/>
            <p:nvPr/>
          </p:nvGraphicFramePr>
          <p:xfrm>
            <a:off x="468360" y="1773360"/>
            <a:ext cx="8362800" cy="508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1773360"/>
                      <a:ext cx="8362800" cy="50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124000" y="3213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360" y="33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16360" y="436572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 детей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68360" y="1773360"/>
            <a:ext cx="8362800" cy="5084640"/>
            <a:chOff x="468360" y="1773360"/>
            <a:chExt cx="8362800" cy="5084640"/>
          </a:xfrm>
        </p:grpSpPr>
        <p:graphicFrame>
          <p:nvGraphicFramePr>
            <p:cNvPr id="147" name=""/>
            <p:cNvGraphicFramePr/>
            <p:nvPr/>
          </p:nvGraphicFramePr>
          <p:xfrm>
            <a:off x="468360" y="1773360"/>
            <a:ext cx="8362800" cy="5084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8360" y="1773360"/>
                      <a:ext cx="8362800" cy="50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2124000" y="321300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92360" y="33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 ребенк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16360" y="436572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 детей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ормирующий этап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: формирование эмоциональной сферы детей в процессе рисования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ача: Проведение и апробирование занятий, психогимнастических упражнений и дидактических игр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ля развития эмоциональной сферы детей в процессе рисования были использован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Занятия по художественной деятельности (рисование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Психогимнастические упражнен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Дидактические игр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ерспективный план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2205000"/>
          <a:ext cx="8964720" cy="4843440"/>
        </p:xfrm>
        <a:graphic>
          <a:graphicData uri="http://schemas.openxmlformats.org/drawingml/2006/table">
            <a:tbl>
              <a:tblPr/>
              <a:tblGrid>
                <a:gridCol w="2808360"/>
                <a:gridCol w="3024360"/>
                <a:gridCol w="3132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исунок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нятие в нетрадиционной технике «Солнышко, которое мне светит»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етрадиционные техники: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оттиск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: вызвать эстетические чувства к природе и ее изображению в нетрадиционной технике, развивать восприятие. Воспитывать аккуратность в работе с краскам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: «Кто съел варенье?»;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Путешествие в картину «Утро в сосновом лесу»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ь: формирование основ художественной культуры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сихогимнастическое упражнение «В лесу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туальность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ктуальность работы заключается в том, что  развитие эмоциональной сферы детей старшего дошкольного возраста в процессе рисования проходит путь прогрессивного развития, приобретая все более богатое содержание и все более сложные формы проявления под влиянием социальных условий жизни и воспит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838080" y="2362320"/>
          <a:ext cx="7694640" cy="4120920"/>
        </p:xfrm>
        <a:graphic>
          <a:graphicData uri="http://schemas.openxmlformats.org/drawingml/2006/table">
            <a:tbl>
              <a:tblPr/>
              <a:tblGrid>
                <a:gridCol w="2565360"/>
                <a:gridCol w="2248200"/>
                <a:gridCol w="288108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исунок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исование в нетрадиционной технике «Ветка мимозы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етрадиционная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хника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катывание бумажной салфетки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чить технике рисования салфеткой, создавать изображение путем использования точки, как выразительности. 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крепить знания и представление о цвете (желтый), форме (круглая). Развитие ассоциативного мышления, восприятие цвета, форм. Воспитывать интерес к творческой изобразительной деятельности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Новая кукла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Баба-Яга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Золушка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16000" y="2997360"/>
            <a:ext cx="1754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838080" y="2362320"/>
          <a:ext cx="7693200" cy="454500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0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анятие в нетрадиционной технике «Как я люблю одуванчики»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етрадиционные техники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: тычкование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граммное содержание: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учить технике тычкования, совершенствовать эстетическое восприятие природных явлений. Развивать чувственное восприятие, выражение образа одуванчик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: «Кот Васька»; «Про Таню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Дуремар и Тартилла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19461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идактические игр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Что за погода?»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Мы и природа»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Будь внимателен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Воздушные шарики»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Четвертый лишний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онтрольный этап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Цель: убедиться в эффективности формирующего этап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дачи: Проведение вторичной контрольной диагностики уровня развития  эмоциональной сферы детей старшего дошкольного возраста в процессе рисования при помощи выбранной метод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дтверждение эффективности проведенной рабо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608720" cy="2546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454560" y="4206960"/>
            <a:ext cx="5689440" cy="2651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0000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зультаты контрольного этап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5589720"/>
            <a:ext cx="86364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2565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зультаты констатирующего этап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643280" y="2781360"/>
            <a:ext cx="71928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2060640"/>
          <a:ext cx="377028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377028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789440" y="3932280"/>
          <a:ext cx="4351320" cy="29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9440" y="3932280"/>
                    <a:ext cx="43513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116000" y="5157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зультаты контрольного этап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5300640"/>
            <a:ext cx="10080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299736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зультаты констатирующего этап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708000" y="3284640"/>
            <a:ext cx="108108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лючени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веденное исследование подтвердило выдвинутую гипотезу о том, что изобразительная деятельность будет эффективным средством эмоционального развития детей старшего дошкольного возрас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2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СПАСИБО ЗА ВНИМАНИЕ!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 данной проблеме работали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.А. Ветлугин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.В Крюков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.М. Чумичёв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.А. Изикеев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ГОС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федеральном государственном образовательном стандарте дошкольного образования в разделе I «Общие положения» п.2.6. при реализации образовательной области «Социально- коммуникативное развитие» определены направления развития и образования детей по эмоциональному развитию дошкольник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разделе III ФГОС «Требования к условиям реализации основной образовательной Программы дошкольного образования» указано, что условия реализации программы должны обеспечить полноценное развитие личности детей во всех основных образовательных областях на фоне их эмоционального благополучия и положительного отношения к миру, к себе и другим людям. 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блема исследования-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ким образом рисование влияет на развитие эмоциональной сферы детей старшего дошкольного возрас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– процесс развития  эмоциональной  сферы  детей старшего дошкольного возраста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–  развитие эмоциональной сферы детей старшего дошкольного возраста в процессе рисования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ль исследования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– изучить возможности изобразительной деятельности в эмоциональном развитии детей старшего дошкольного возрас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ипотеза исследования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изобразительная деятельность будет эффективным средством эмоционального развития детей старшего дошкольного возраста в том случае, если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педагогический процесс будет строиться с учётом особенностей эмоционального развития старших дошкольников; 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организация непосредственной изобразительной деятельности будет включать в себя содержание, направленное на решение задач эмоционального развития детей;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дачи исследования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 Обобщить и проанализировать методическую и педагогическую литературу по проблеме исследов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 Обобщить различные подходы к методике изучения развития эмоциональной сферы детей старшего дошкольного возраста в процессе рисов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 Подобрать и апробировать конспекты занятий, соответствующие предмету исслед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Провести и проанализировать опытно-педагогическую работу по проверке справедливости гипотезы исследов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тоды исследования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анализ психолого-педагогической литературы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актическая значимость исследования :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истематизирование  материала по проблеме эмоционального развития детей дошкольного возраста в процессе рисования ,а так же в том, что материалы исследования могут быть полезны педагогам ДОО для их профессиональной деятельности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ля доказательства гипотезы на практическом уровне мной была проведена опытно-педагогическая работа на базе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БДОУ Детский сад № 225 "Теремок"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старшая  группа №5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бота состояла из трех этап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констатирующего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формирующего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контрольног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2T10:14:11Z</dcterms:created>
  <dc:creator>qwerty</dc:creator>
  <dc:description/>
  <dc:language>en-US</dc:language>
  <cp:lastModifiedBy>qwerty</cp:lastModifiedBy>
  <dcterms:modified xsi:type="dcterms:W3CDTF">2023-01-22T14:46:19Z</dcterms:modified>
  <cp:revision>37</cp:revision>
  <dc:subject/>
  <dc:title> «Развитие эмоциональной сферы детей старшего дошкольного возраста в процессе рисования» </dc:title>
</cp:coreProperties>
</file>