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1B1-E5D4-44ED-9C85-4B3246E6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1FE-6A77-4F9D-A651-B32C73F7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E74-1A02-4761-9877-B2DC97CB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5C9-CB49-4B85-8F9E-9870361D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CF7E-0540-411D-86DA-3FCCE928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EC35-B45B-4CD3-BCE6-0774438E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1B9B-40F3-4D8E-AD2B-E729CAB8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C76F-2943-4BB3-9CDD-A2654B6D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6189-EF36-4ED9-A5A9-EEBDC5AC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7BE1-0AF1-4F8C-AC46-BF261F70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DE6A-72F4-41D7-80E7-2668A034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6D6-AE50-4150-80FE-199BD0C4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1090-91BE-492A-8F5A-5ACC6481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C850-CC07-4A73-AF4B-6BD80E8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20FB-6A05-40BD-9FE6-E9F3C2AC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C0C9-CBB0-49EA-9F09-238A58B2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1314-8675-4CAA-A277-B5A3549B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782-F1CC-421E-A9DC-053AD2CE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93D-AAEC-4655-B4CA-1397AE3B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F3B-4B8E-4CA5-BD8E-6BD17709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BD3-797A-450B-AE42-20890500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028-618E-4E0C-AD2B-DF1F36D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407-2F95-4532-818E-A304749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F62-1D8A-4D4E-94A8-8BF48052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32F1-6517-4F6C-AC90-6C1B6BBF38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2F2-56CB-48D2-9D8D-A9CFB308BC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Развитие эмоциональной сферы детей старшего дошкольного возраста в процессе рисования»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статирующий этап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: выявление уровня развития эмоциональной сферы детей старшего дошкольного возраста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ачи: Подобрать методики , которые будут направлены на выявление уровня развития эмоциональной сферы старших дошкольник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ведение первичной диагностики уровня эмоционального состояния детей.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тодик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Эмоциональные лица» Н.Я.Семаго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Эмоциональные лица» Н.Я.Семаго. 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Оценка возможности адекватного опознания эмоционального состояния, точность и качество этого опознания, возможность соотнесения с личными переживаниями ребен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58920" y="3792600"/>
            <a:ext cx="2736720" cy="2695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540160" cy="1892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771640" y="2492280"/>
            <a:ext cx="37702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итерии оценк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сокий уровень – развёрнутый и подробный ответ, способность адекватно обозначать эмоциональные состояния и оценивать лицевую экспресси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редний уровень – ответы на вопросы с помощью; трудности в опознании и назывании абстрактных изображений, оценивает настроение и называет эмоции с помощью взрослог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изкий уровень - задание не выполняет даже с помощью вопросов, не называет настроение, не может показать его на себ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-й этап методики «Эмоциональные лиц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2117880"/>
          <a:ext cx="7418520" cy="47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17880"/>
                    <a:ext cx="741852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-й этап методики «Эмоциональные лиц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2449440"/>
          <a:ext cx="735012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49440"/>
                    <a:ext cx="735012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8360" y="1773360"/>
            <a:ext cx="8362800" cy="5084640"/>
            <a:chOff x="468360" y="1773360"/>
            <a:chExt cx="8362800" cy="5084640"/>
          </a:xfrm>
        </p:grpSpPr>
        <p:graphicFrame>
          <p:nvGraphicFramePr>
            <p:cNvPr id="129" name=""/>
            <p:cNvGraphicFramePr/>
            <p:nvPr/>
          </p:nvGraphicFramePr>
          <p:xfrm>
            <a:off x="468360" y="1773360"/>
            <a:ext cx="8362800" cy="50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773360"/>
                      <a:ext cx="8362800" cy="50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2124000" y="3213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92360" y="33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6360" y="436572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 детей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68360" y="1773360"/>
            <a:ext cx="8362800" cy="5084640"/>
            <a:chOff x="468360" y="1773360"/>
            <a:chExt cx="8362800" cy="5084640"/>
          </a:xfrm>
        </p:grpSpPr>
        <p:graphicFrame>
          <p:nvGraphicFramePr>
            <p:cNvPr id="135" name=""/>
            <p:cNvGraphicFramePr/>
            <p:nvPr/>
          </p:nvGraphicFramePr>
          <p:xfrm>
            <a:off x="468360" y="1773360"/>
            <a:ext cx="8362800" cy="5084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360" y="1773360"/>
                      <a:ext cx="8362800" cy="50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2124000" y="3213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3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16360" y="436572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 детей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68360" y="1773360"/>
            <a:ext cx="8362800" cy="5084640"/>
            <a:chOff x="468360" y="1773360"/>
            <a:chExt cx="8362800" cy="5084640"/>
          </a:xfrm>
        </p:grpSpPr>
        <p:graphicFrame>
          <p:nvGraphicFramePr>
            <p:cNvPr id="141" name=""/>
            <p:cNvGraphicFramePr/>
            <p:nvPr/>
          </p:nvGraphicFramePr>
          <p:xfrm>
            <a:off x="468360" y="1773360"/>
            <a:ext cx="8362800" cy="508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1773360"/>
                      <a:ext cx="8362800" cy="50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124000" y="3213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360" y="33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16360" y="436572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 детей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68360" y="1773360"/>
            <a:ext cx="8362800" cy="5084640"/>
            <a:chOff x="468360" y="1773360"/>
            <a:chExt cx="8362800" cy="5084640"/>
          </a:xfrm>
        </p:grpSpPr>
        <p:graphicFrame>
          <p:nvGraphicFramePr>
            <p:cNvPr id="147" name=""/>
            <p:cNvGraphicFramePr/>
            <p:nvPr/>
          </p:nvGraphicFramePr>
          <p:xfrm>
            <a:off x="468360" y="1773360"/>
            <a:ext cx="8362800" cy="5084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8360" y="1773360"/>
                      <a:ext cx="8362800" cy="50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2124000" y="3213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92360" y="33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16360" y="436572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 детей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ормирующий этап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: формирование эмоциональной сферы детей в процессе рисования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ача: Проведение и апробирование занятий, психогимнастических упражнений и дидактических игр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ля развития эмоциональной сферы детей в процессе рисования были использован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Занятия по художественной деятельности (рисование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Психогимнастические упражнен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Дидактические игр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ерспективный план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2205000"/>
          <a:ext cx="8964720" cy="4843440"/>
        </p:xfrm>
        <a:graphic>
          <a:graphicData uri="http://schemas.openxmlformats.org/drawingml/2006/table">
            <a:tbl>
              <a:tblPr/>
              <a:tblGrid>
                <a:gridCol w="2808360"/>
                <a:gridCol w="3024360"/>
                <a:gridCol w="3132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исунок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нятие в нетрадиционной технике «Солнышко, которое мне светит»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етрадиционные техники: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оттиск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: вызвать эстетические чувства к природе и ее изображению в нетрадиционной технике, развивать восприятие. Воспитывать аккуратность в работе с краскам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: «Кто съел варенье?»;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Путешествие в картину «Утро в сосновом лесу»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: формирование основ художественной культуры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сихогимнастическое упражнение «В лесу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туальность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ктуальность работы заключается в том, что  развитие эмоциональной сферы детей старшего дошкольного возраста в процессе рисования проходит путь прогрессивного развития, приобретая все более богатое содержание и все более сложные формы проявления под влиянием социальных условий жизни и воспит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838080" y="2362320"/>
          <a:ext cx="7694640" cy="4120920"/>
        </p:xfrm>
        <a:graphic>
          <a:graphicData uri="http://schemas.openxmlformats.org/drawingml/2006/table">
            <a:tbl>
              <a:tblPr/>
              <a:tblGrid>
                <a:gridCol w="2565360"/>
                <a:gridCol w="2248200"/>
                <a:gridCol w="288108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исунок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исование в нетрадиционной технике «Ветка мимозы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етрадиционная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хника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катывание бумажной салфетки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ить технике рисования салфеткой, создавать изображение путем использования точки, как выразительности. 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крепить знания и представление о цвете (желтый), форме (круглая). Развитие ассоциативного мышления, восприятие цвета, форм. Воспитывать интерес к творческой изобразительной деятельности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Новая кукла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Баба-Яга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Золушка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16000" y="2997360"/>
            <a:ext cx="1754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838080" y="2362320"/>
          <a:ext cx="7693200" cy="454500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0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нятие в нетрадиционной технике «Как я люблю одуванчики»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етрадиционные техники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: тычкование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: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учить технике тычкования, совершенствовать эстетическое восприятие природных явлений. Развивать чувственное восприятие, выражение образа одуванчик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: «Кот Васька»; «Про Таню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Дуремар и Тартилла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19461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идактические игр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Что за погода?»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Мы и природа»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Будь внимателен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Воздушные шарики»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Четвертый лишний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онтрольный этап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Цель: убедиться в эффективности формирующего этап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дачи: Проведение вторичной контрольной диагностики уровня развития  эмоциональной сферы детей старшего дошкольного возраста в процессе рисования при помощи выбранной метод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дтверждение эффективности проведенной рабо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608720" cy="2546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454560" y="4206960"/>
            <a:ext cx="5689440" cy="2651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0000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зультаты контрольного этап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5589720"/>
            <a:ext cx="86364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2565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зультаты констатирующего этап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643280" y="2781360"/>
            <a:ext cx="71928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2060640"/>
          <a:ext cx="377028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377028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789440" y="3932280"/>
          <a:ext cx="4351320" cy="29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9440" y="3932280"/>
                    <a:ext cx="43513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116000" y="5157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зультаты контрольного этап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5300640"/>
            <a:ext cx="10080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299736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зультаты констатирующего этап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708000" y="3284640"/>
            <a:ext cx="108108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лючени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веденное исследование подтвердило выдвинутую гипотезу о том, что изобразительная деятельность будет эффективным средством эмоционального развития детей старшего дошкольного возрас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СПАСИБО ЗА ВНИМАНИЕ!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 данной проблеме работали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.А. Ветлугин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.В Крюков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.М. Чумичёв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.А. Изикеев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ГОС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федеральном государственном образовательном стандарте дошкольного образования в разделе I «Общие положения» п.2.6. при реализации образовательной области «Социально- коммуникативное развитие» определены направления развития и образования детей по эмоциональному развитию дошкольник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разделе III ФГОС «Требования к условиям реализации основной образовательной Программы дошкольного образования» указано, что условия реализации программы должны обеспечить полноценное развитие личности детей во всех основных образовательных областях на фоне их эмоционального благополучия и положительного отношения к миру, к себе и другим людям. 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блема исследования-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ким образом рисование влияет на развитие эмоциональной сферы детей старшего дошкольного возрас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– процесс развития  эмоциональной  сферы  детей старшего дошкольного возраста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–  развитие эмоциональной сферы детей старшего дошкольного возраста в процессе рисования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 исследования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– изучить возможности изобразительной деятельности в эмоциональном развитии детей старшего дошкольного возрас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ипотеза исследования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изобразительная деятельность будет эффективным средством эмоционального развития детей старшего дошкольного возраста в том случае, если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педагогический процесс будет строиться с учётом особенностей эмоционального развития старших дошкольников; 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организация непосредственной изобразительной деятельности будет включать в себя содержание, направленное на решение задач эмоционального развития детей;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дачи исследования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 Обобщить и проанализировать методическую и педагогическую литературу по проблеме исследов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 Обобщить различные подходы к методике изучения развития эмоциональной сферы детей старшего дошкольного возраста в процессе рисов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 Подобрать и апробировать конспекты занятий, соответствующие предмету исслед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Провести и проанализировать опытно-педагогическую работу по проверке справедливости гипотезы исследов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тоды исследования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анализ психолого-педагогической литературы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актическая значимость исследования 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истематизирование  материала по проблеме эмоционального развития детей дошкольного возраста в процессе рисования ,а так же в том, что материалы исследования могут быть полезны педагогам ДОО для их профессиональной деятельности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ля доказательства гипотезы на практическом уровне мной была проведена опытно-педагогическая работа на базе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БДОУ Детский сад № 225 "Теремок"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старшая  группа №5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бота состояла из трех этап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констатирующего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формирующего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контрольног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2T10:14:11Z</dcterms:created>
  <dc:creator>qwerty</dc:creator>
  <dc:description/>
  <dc:language>en-US</dc:language>
  <cp:lastModifiedBy>qwerty</cp:lastModifiedBy>
  <dcterms:modified xsi:type="dcterms:W3CDTF">2023-01-22T14:46:19Z</dcterms:modified>
  <cp:revision>37</cp:revision>
  <dc:subject/>
  <dc:title> «Развитие эмоциональной сферы детей старшего дошкольного возраста в процессе рисования» </dc:title>
</cp:coreProperties>
</file>