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4.jpeg" ContentType="image/jpeg"/>
  <Override PartName="/ppt/media/image1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00E0-B25F-40B8-967C-32F38B18A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C407-E505-4F92-BA38-E027F2DB0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4E96-2D7E-4477-BC94-4873EB182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A55A-A627-4BF4-B387-E1A247297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57D9-3325-4A61-B3E2-F418E0F6D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6584-FCAC-4D7F-9D0C-D1321508C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874B-16E2-4149-A33B-A15E9E9FA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A606-BE91-400A-A16F-CEBFC806D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F3E7-0AB9-4D5D-9BA3-9321F3884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C64F-9902-4F27-83AE-32C27649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EF82-9628-48FB-A340-F8F0E2AE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4521-9C6E-40F2-B8BA-7BB9532B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A36EF-5C88-477B-A246-A7C383B8FC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76360" y="549000"/>
            <a:ext cx="6400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Calibri"/>
              </a:rPr>
              <a:t>МА ДОУ д/с 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Calibri"/>
              </a:rPr>
              <a:t>« 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Ф</a:t>
            </a:r>
            <a:r>
              <a:rPr b="0" lang="ru-RU" sz="3600" spc="-1" strike="noStrike">
                <a:solidFill>
                  <a:srgbClr val="0000ff"/>
                </a:solidFill>
                <a:latin typeface="Calibri"/>
              </a:rPr>
              <a:t>изкультурный уголок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Старшая групп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«Кот Леопольд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Воспитатель: Матюханова Л.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detskie_pesni_-_v_kazhdom_malenkom_rebenke_(zaycev.net).mp3" descr=""/>
          <p:cNvPicPr/>
          <p:nvPr/>
        </p:nvPicPr>
        <p:blipFill>
          <a:blip r:embed="rId2"/>
          <a:stretch/>
        </p:blipFill>
        <p:spPr>
          <a:xfrm>
            <a:off x="7236000" y="569736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705280"/>
            <a:ext cx="4330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1384200" y="5516640"/>
            <a:ext cx="347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643280" y="260280"/>
            <a:ext cx="4321440" cy="6013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95280" y="189000"/>
            <a:ext cx="4105440" cy="6048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32000" y="5734080"/>
            <a:ext cx="167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юханова Л.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6951240" y="5877000"/>
            <a:ext cx="19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юханова Л.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4572000" y="260280"/>
            <a:ext cx="4321080" cy="6013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163640" y="5877000"/>
            <a:ext cx="136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юханова Л.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2000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«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79280" y="404640"/>
            <a:ext cx="4608720" cy="6264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788000" y="404640"/>
            <a:ext cx="4105080" cy="2737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4788000" y="3141720"/>
            <a:ext cx="4105080" cy="3382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699640" y="6238800"/>
            <a:ext cx="136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юханова Л.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6804000" y="2852640"/>
            <a:ext cx="195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юханова Л.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6876360" y="6165720"/>
            <a:ext cx="136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юханова Л.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3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211640" y="549360"/>
            <a:ext cx="4465800" cy="5832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84360" y="549360"/>
            <a:ext cx="3429000" cy="2950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755640" y="3500280"/>
            <a:ext cx="3384720" cy="2953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915640" y="6093000"/>
            <a:ext cx="136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юханова Л.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6877080" y="6021360"/>
            <a:ext cx="16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юханова Л.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1692360" y="324648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юханова Л.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2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4680000" cy="5904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5076720" y="0"/>
            <a:ext cx="4067280" cy="37828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913840" y="5878440"/>
            <a:ext cx="187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юханова Л.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4932360" y="3860640"/>
            <a:ext cx="2232000" cy="2033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6516720" y="4437000"/>
            <a:ext cx="2376360" cy="2160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494400" y="3284640"/>
            <a:ext cx="529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юханова Л.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6732720" y="623880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юханова Л.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4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971640" y="189000"/>
            <a:ext cx="7200720" cy="64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6T09:31:46Z</dcterms:created>
  <dc:creator>User</dc:creator>
  <dc:description/>
  <dc:language>en-US</dc:language>
  <cp:lastModifiedBy>Пользователь Windows</cp:lastModifiedBy>
  <dcterms:modified xsi:type="dcterms:W3CDTF">2023-01-22T14:37:48Z</dcterms:modified>
  <cp:revision>15</cp:revision>
  <dc:subject/>
  <dc:title>Презентация PowerPoint</dc:title>
</cp:coreProperties>
</file>