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DC4-E0D5-4BE7-839C-C8FE2803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13A-4F1B-4F14-9BEA-D177A820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658-E76E-4CCD-B52E-DCA248B3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F77-BA3D-450C-ADF1-E249DD72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ACE-BE11-45E4-81B9-AFEB69B5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723-7408-4E6F-AE3E-C2E54048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D8B-0541-4228-82EC-312E14CD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A67-6CF1-407E-8D1A-3BFDAA38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332-2E3D-4275-8D8C-062BC7A3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58C-BD9F-458F-9A0D-3034AFA4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4B4-B728-4575-ACBD-10C5BE4C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506-60D1-4333-B974-CDB3953E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A417-65D0-4529-B09C-A65FEC6D55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76360" y="549000"/>
            <a:ext cx="6400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МА ДОУ д/с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«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изкультурный уголо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таршая групп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Кот Леопольд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оспитатель: Матюханова Л.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detskie_pesni_-_v_kazhdom_malenkom_rebenke_(zaycev.net).mp3" descr=""/>
          <p:cNvPicPr/>
          <p:nvPr/>
        </p:nvPicPr>
        <p:blipFill>
          <a:blip r:embed="rId2"/>
          <a:stretch/>
        </p:blipFill>
        <p:spPr>
          <a:xfrm>
            <a:off x="7236000" y="5697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705280"/>
            <a:ext cx="433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384200" y="5516640"/>
            <a:ext cx="347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4321440" cy="601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4105440" cy="604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32000" y="5734080"/>
            <a:ext cx="16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6951240" y="58770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572000" y="260280"/>
            <a:ext cx="4321080" cy="6013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163640" y="5877000"/>
            <a:ext cx="136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2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4608720" cy="626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88000" y="404640"/>
            <a:ext cx="4105080" cy="2737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788000" y="3141720"/>
            <a:ext cx="4105080" cy="3382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99640" y="6238800"/>
            <a:ext cx="136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2852640"/>
            <a:ext cx="19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6876360" y="6165720"/>
            <a:ext cx="136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11640" y="549360"/>
            <a:ext cx="4465800" cy="583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3429000" cy="2950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55640" y="3500280"/>
            <a:ext cx="3384720" cy="2953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15640" y="6093000"/>
            <a:ext cx="136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602136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32464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680000" cy="590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4067280" cy="3782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13840" y="587844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932360" y="3860640"/>
            <a:ext cx="2232000" cy="2033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516720" y="4437000"/>
            <a:ext cx="2376360" cy="2160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94400" y="3284640"/>
            <a:ext cx="52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6732720" y="623880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юханова Л.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71640" y="189000"/>
            <a:ext cx="720072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6T09:31:46Z</dcterms:created>
  <dc:creator>User</dc:creator>
  <dc:description/>
  <dc:language>en-US</dc:language>
  <cp:lastModifiedBy>Пользователь Windows</cp:lastModifiedBy>
  <dcterms:modified xsi:type="dcterms:W3CDTF">2023-01-22T14:37:48Z</dcterms:modified>
  <cp:revision>15</cp:revision>
  <dc:subject/>
  <dc:title>Презентация PowerPoint</dc:title>
</cp:coreProperties>
</file>