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jpeg" ContentType="image/jpeg"/>
  <Override PartName="/ppt/media/image23.png" ContentType="image/png"/>
  <Override PartName="/ppt/media/image28.jpeg" ContentType="image/jpeg"/>
  <Override PartName="/ppt/media/image7.jpeg" ContentType="image/jpeg"/>
  <Override PartName="/ppt/media/image18.png" ContentType="image/png"/>
  <Override PartName="/ppt/media/image10.jpeg" ContentType="image/jpeg"/>
  <Override PartName="/ppt/media/image8.jpeg" ContentType="image/jpeg"/>
  <Override PartName="/ppt/media/image6.png" ContentType="image/png"/>
  <Override PartName="/ppt/media/image29.png" ContentType="image/png"/>
  <Override PartName="/ppt/media/image12.jpeg" ContentType="image/jpeg"/>
  <Override PartName="/ppt/media/image13.png" ContentType="image/pn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png" ContentType="image/png"/>
  <Override PartName="/ppt/media/image19.jpeg" ContentType="image/jpeg"/>
  <Override PartName="/ppt/media/image20.jpeg" ContentType="image/jpeg"/>
  <Override PartName="/ppt/media/image2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3F9B-A846-438D-B825-8BF95A670216}"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74DF-B542-4613-8318-9F29F559BCFA}"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75136-91E7-442A-9ECE-9473CE3B7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9FDE5-18CA-423C-B598-C4DA299FE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5BFB8-9D9F-4277-9474-374BB98A4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322AC-3AB2-4CC0-80BB-F26210B95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B7082FE-B912-48B1-88FD-F2BB47EC03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C294CC2-0108-4429-A69D-7DC9CD156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4899442-A8C8-4248-96A3-32E966F66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C64FC75-36C1-4242-AAE2-987D389F9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573AFD2-64D0-4189-8DF0-B57C66D5E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DCE2E77-BB10-4173-9F59-619A1ECB9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34EEE55-5D4E-4F1E-8608-FF62BCB88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F9FCD-E54E-45C2-8DD4-0342AD502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BDBB29-6AB5-4933-83A4-56784F250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3A6A9A-F768-4EDB-BE91-D93269905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F857661-058E-4209-8FDE-F0A861D31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BA0DBBE-0B94-4E7E-8835-BDCBC24D20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8BEB7A2-735E-46E4-9B8E-609C5ADE9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4A1BD8-B0F6-42B9-B53F-1972DE69EE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FA0F7C-4CD6-4543-AB84-7414874DFA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1050B1-ACE8-47BD-8EB8-8FACF5D543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417075-50E6-40C2-B66A-024EFD22C4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C57D0E-0E88-4BDD-8025-2ABA6DB2E6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8952F-DC79-4553-8DE7-E53798C1B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4E0CE9-0340-4865-B8F1-0E63CC73DC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35D324-4E84-4E21-A0AF-AF88D6C371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9CC4AD-18B1-4163-934B-6BCC290162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5C3109-5A06-4C39-8212-636E5C22F5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F0C9FE-E476-44DB-AFCA-DB7D324C3B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6FADB5-60E1-4BDF-8FF7-005DE393E2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FD893A-0130-4EFC-883B-C516852BFE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22D6CD7F-DC18-42C6-AB51-D61937C8990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31353AD-3337-480D-927F-2952E08FB03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F2880CF-E09D-4162-8E8C-3DB066730F5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D57FC-AF91-454E-8C68-A3604F3BE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1CF2B36-1C88-4520-9637-2121108CCD8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98A8C5E-07E1-4B7B-9058-59F1E8B0DC6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B073FFA-DBED-44FB-8450-6F68B3FE9B4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CAA4FDC-FE36-4590-89CF-709ED161C4F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9A89300-4896-4DC4-BD91-49160C03EE5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01211C0-48B9-4056-8DCE-95CAC08CCED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A3BDE38-31BE-4CEF-857B-D4004D71218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D14066BC-6E8C-4C12-B6B1-4C403A1294D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5689E6B1-96B4-4472-8F46-DD5505C42E6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253F4-3710-451E-9B3A-114CE10FE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7D570-6C19-48EF-B6CD-601BDEF4D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829A5-5EE9-4500-BCF9-BF73F9F43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B80D4-B1D6-4900-A463-93EE5CE83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5D7D0-51BD-477E-8468-504496D8B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869A-5894-4F15-BA19-BA42D931E8F8}"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88E5-679A-4FEA-9460-7C12808368EF}"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1E8FE-9B89-425B-AA0B-C8F5874257A4}"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2954-6181-4176-B4A0-FD9B3754DE42}"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yandex.ru/yandsearch?text=&#1057;&#1074;&#1072;&#1076;&#1077;&#1073;&#1085;&#1099;&#1077;%20&#1086;&#1073;&#1088;&#1103;&#1076;&#1099;%20&#1090;&#1077;&#1088;&#1089;&#1082;&#1086;&#1075;&#1086;%20&#1082;&#1072;&#1079;&#1072;&#1095;&#1077;&#1089;&#1090;&#1074;&#1072;&amp;img_url=tltgorod.ru/pics/news4/Kazaki1_2w02132.jpg&amp;pos=12&amp;rpt=simage" TargetMode="External"/><Relationship Id="rId3" Type="http://schemas.openxmlformats.org/officeDocument/2006/relationships/image" Target="../media/image4.jpeg"/><Relationship Id="rId4" Type="http://schemas.openxmlformats.org/officeDocument/2006/relationships/hyperlink" Target="http://images.yandex.ru/yandsearch?text=&#1057;&#1074;&#1072;&#1076;&#1077;&#1073;&#1085;&#1099;&#1077;%20&#1086;&#1073;&#1088;&#1103;&#1076;&#1099;%20&#1090;&#1077;&#1088;&#1089;&#1082;&#1086;&#1075;&#1086;%20&#1082;&#1072;&#1079;&#1072;&#1095;&#1077;&#1089;&#1090;&#1074;&#1072;&amp;img_url=img0.liveinternet.ru/images/attach/c/0/37/839/37839768_kuban_kosaks.jpg&amp;pos=22&amp;rpt=simage" TargetMode="External"/><Relationship Id="rId5" Type="http://schemas.openxmlformats.org/officeDocument/2006/relationships/hyperlink" Target="http://images.yandex.ru/yandsearch?text=&#1057;&#1074;&#1072;&#1076;&#1077;&#1073;&#1085;&#1099;&#1077;%20&#1086;&#1073;&#1088;&#1103;&#1076;&#1099;%20&#1090;&#1077;&#1088;&#1089;&#1082;&#1086;&#1075;&#1086;%20&#1082;&#1072;&#1079;&#1072;&#1095;&#1077;&#1089;&#1090;&#1074;&#1072;&amp;img_url=img0.liveinternet.ru/images/attach/c/0/37/839/37839768_kuban_kosaks.jpg&amp;pos=22&amp;rpt=simage"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images.yandex.ru/yandsearch?text=&#1080;&#1089;&#1090;&#1086;&#1088;&#1080;&#1103;%20&#1082;&#1086;&#1089;&#1090;&#1102;&#1084;&#1072;%20&#1090;&#1077;&#1088;&#1089;&#1082;&#1080;&#1093;%20&#1082;&#1072;&#1079;&#1072;&#1082;&#1086;&#1074;%20&#1074;%20&#1082;&#1072;&#1088;&#1090;&#1080;&#1085;&#1082;&#1072;&#1093;&amp;img_url=img-fotki.yandex.ru/get/3014/south-krest.4/0_8710_29b22ca6_XL&amp;pos=9&amp;rpt=simage" TargetMode="External"/><Relationship Id="rId3" Type="http://schemas.openxmlformats.org/officeDocument/2006/relationships/image" Target="../media/image7.jpeg"/><Relationship Id="rId4" Type="http://schemas.openxmlformats.org/officeDocument/2006/relationships/hyperlink" Target="http://images.yandex.ru/yandsearch?text=&#1080;&#1089;&#1090;&#1086;&#1088;&#1080;&#1103;%20&#1082;&#1086;&#1089;&#1090;&#1102;&#1084;&#1072;%20&#1090;&#1077;&#1088;&#1089;&#1082;&#1080;&#1093;%20&#1082;&#1072;&#1079;&#1072;&#1082;&#1086;&#1074;%20&#1074;%20&#1082;&#1072;&#1088;&#1090;&#1080;&#1085;&#1082;&#1072;&#1093;&amp;img_url=upload.wikimedia.org/wikipedia/commons/1/11/Cosacos_Artilleros_de_Terek.jpg&amp;pos=10&amp;rpt=simage" TargetMode="External"/><Relationship Id="rId5" Type="http://schemas.openxmlformats.org/officeDocument/2006/relationships/image" Target="../media/image8.jpeg"/><Relationship Id="rId6" Type="http://schemas.openxmlformats.org/officeDocument/2006/relationships/hyperlink" Target="http://images.yandex.ru/yandsearch?text=&#1080;&#1089;&#1090;&#1086;&#1088;&#1080;&#1103;%20&#1082;&#1086;&#1089;&#1090;&#1102;&#1084;&#1072;%20&#1090;&#1077;&#1088;&#1089;&#1082;&#1080;&#1093;%20&#1082;&#1072;&#1079;&#1072;&#1082;&#1086;&#1074;%20&#1074;%20&#1082;&#1072;&#1088;&#1090;&#1080;&#1085;&#1082;&#1072;&#1093;&amp;img_url=de.trinixy.ru/pics3/20080218/forma_46.jpg&amp;pos=11&amp;rpt=simage" TargetMode="External"/><Relationship Id="rId7" Type="http://schemas.openxmlformats.org/officeDocument/2006/relationships/image" Target="../media/image9.jpeg"/><Relationship Id="rId8" Type="http://schemas.openxmlformats.org/officeDocument/2006/relationships/hyperlink" Target="http://images.yandex.ru/yandsearch?text=&#1080;&#1089;&#1090;&#1086;&#1088;&#1080;&#1103;%20&#1082;&#1086;&#1089;&#1090;&#1102;&#1084;&#1072;%20&#1090;&#1077;&#1088;&#1089;&#1082;&#1080;&#1093;%20&#1082;&#1072;&#1079;&#1072;&#1082;&#1086;&#1074;%20&#1074;%20&#1082;&#1072;&#1088;&#1090;&#1080;&#1085;&#1082;&#1072;&#1093;&amp;img_url=cossackstan.ru/uploads/posts/2009-01/thumbs/1231247340_image002.jpg&amp;pos=13&amp;rpt=simage" TargetMode="External"/><Relationship Id="rId9" Type="http://schemas.openxmlformats.org/officeDocument/2006/relationships/image" Target="../media/image10.jpeg"/><Relationship Id="rId10" Type="http://schemas.openxmlformats.org/officeDocument/2006/relationships/hyperlink" Target="http://images.yandex.ru/yandsearch?text=&#1080;&#1089;&#1090;&#1086;&#1088;&#1080;&#1103;%20&#1082;&#1086;&#1089;&#1090;&#1102;&#1084;&#1072;%20&#1090;&#1077;&#1088;&#1089;&#1082;&#1080;&#1093;%20&#1082;&#1072;&#1079;&#1072;&#1082;&#1086;&#1074;%20&#1074;%20&#1082;&#1072;&#1088;&#1090;&#1080;&#1085;&#1082;&#1072;&#1093;&amp;img_url=www.rusarchives.ru/pik/events/1904_1905/5016.jpg&amp;pos=14&amp;rpt=simage" TargetMode="External"/><Relationship Id="rId11" Type="http://schemas.openxmlformats.org/officeDocument/2006/relationships/image" Target="../media/image11.jpeg"/><Relationship Id="rId12" Type="http://schemas.openxmlformats.org/officeDocument/2006/relationships/hyperlink" Target="http://images.yandex.ru/yandsearch?text=&#1080;&#1089;&#1090;&#1086;&#1088;&#1080;&#1103;%20&#1082;&#1086;&#1089;&#1090;&#1102;&#1084;&#1072;%20&#1090;&#1077;&#1088;&#1089;&#1082;&#1080;&#1093;%20&#1082;&#1072;&#1079;&#1072;&#1082;&#1086;&#1074;%20&#1074;%20&#1082;&#1072;&#1088;&#1090;&#1080;&#1085;&#1082;&#1072;&#1093;&amp;img_url=forum.udmnet.ru/uploads/1311605599/gallery_1978_524_13230.jpg&amp;pos=15&amp;rpt=simage" TargetMode="External"/><Relationship Id="rId13" Type="http://schemas.openxmlformats.org/officeDocument/2006/relationships/image" Target="../media/image12.jpe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images.yandex.ru/yandsearch?text=&#1095;&#1077;&#1088;&#1082;&#1077;&#1089;&#1082;&#1072;%20&#1086;&#1076;&#1077;&#1078;&#1076;&#1072;%20&#1090;&#1077;&#1088;&#1089;&#1082;&#1080;&#1093;%20&#1082;&#1072;&#1079;&#1072;&#1082;&#1086;&#1074;%20&#1074;%20&#1082;&#1072;&#1088;&#1090;&#1080;&#1085;&#1082;&#1072;&#1093;&amp;img_url=pohodd.ru/images/product_images/popup_images/1313_1.jpg&amp;pos=10&amp;rpt=simage" TargetMode="External"/><Relationship Id="rId3" Type="http://schemas.openxmlformats.org/officeDocument/2006/relationships/hyperlink" Target="http://images.yandex.ru/yandsearch?text=&#1095;&#1077;&#1088;&#1082;&#1077;&#1089;&#1082;&#1072;%20&#1086;&#1076;&#1077;&#1078;&#1076;&#1072;%20&#1090;&#1077;&#1088;&#1089;&#1082;&#1080;&#1093;%20&#1082;&#1072;&#1079;&#1072;&#1082;&#1086;&#1074;%20&#1074;%20&#1082;&#1072;&#1088;&#1090;&#1080;&#1085;&#1082;&#1072;&#1093;&amp;img_url=pohodd.ru/images/product_images/popup_images/1313_1.jpg&amp;pos=10&amp;rpt=simage" TargetMode="External"/><Relationship Id="rId4" Type="http://schemas.openxmlformats.org/officeDocument/2006/relationships/image" Target="../media/image14.jpeg"/><Relationship Id="rId5" Type="http://schemas.openxmlformats.org/officeDocument/2006/relationships/hyperlink" Target="http://images.yandex.ru/yandsearch?text=&#1095;&#1077;&#1088;&#1082;&#1077;&#1089;&#1082;&#1072;%20&#1086;&#1076;&#1077;&#1078;&#1076;&#1072;%20&#1090;&#1077;&#1088;&#1089;&#1082;&#1080;&#1093;%20&#1082;&#1072;&#1079;&#1072;&#1082;&#1086;&#1074;%20&#1074;%20&#1082;&#1072;&#1088;&#1090;&#1080;&#1085;&#1082;&#1072;&#1093;&amp;img_url=www.spbgu.ru/forums/uploads/post-11-1146224593.jpg&amp;pos=22&amp;rpt=simage" TargetMode="External"/><Relationship Id="rId6" Type="http://schemas.openxmlformats.org/officeDocument/2006/relationships/hyperlink" Target="http://images.yandex.ru/yandsearch?text=&#1095;&#1077;&#1088;&#1082;&#1077;&#1089;&#1082;&#1072;%20&#1086;&#1076;&#1077;&#1078;&#1076;&#1072;%20&#1090;&#1077;&#1088;&#1089;&#1082;&#1080;&#1093;%20&#1082;&#1072;&#1079;&#1072;&#1082;&#1086;&#1074;%20&#1074;%20&#1082;&#1072;&#1088;&#1090;&#1080;&#1085;&#1082;&#1072;&#1093;&amp;img_url=www.spbgu.ru/forums/uploads/post-11-1146224593.jpg&amp;pos=22&amp;rpt=simage" TargetMode="External"/><Relationship Id="rId7" Type="http://schemas.openxmlformats.org/officeDocument/2006/relationships/image" Target="../media/image15.jpeg"/><Relationship Id="rId8" Type="http://schemas.openxmlformats.org/officeDocument/2006/relationships/hyperlink" Target="http://www.kazakii.narod.ru/" TargetMode="External"/><Relationship Id="rId9" Type="http://schemas.openxmlformats.org/officeDocument/2006/relationships/image" Target="../media/image16.png"/><Relationship Id="rId10" Type="http://schemas.openxmlformats.org/officeDocument/2006/relationships/hyperlink" Target="http://images.yandex.ru/yandsearch?text=&#1073;&#1072;&#1096;&#1083;&#1099;&#1082;%20&#1086;&#1076;&#1077;&#1078;&#1076;&#1072;%20&#1090;&#1077;&#1088;&#1089;&#1082;&#1080;&#1093;%20&#1082;&#1072;&#1079;&#1072;&#1082;&#1086;&#1074;%20&#1074;%20&#1082;&#1072;&#1088;&#1090;&#1080;&#1085;&#1082;&#1072;&#1093;&amp;img_url=www.antikvariat.ru/upload/resize_cache/iblock/d9b/660_660_1/IMG_4293.jpg&amp;pos=3&amp;rpt=simage" TargetMode="External"/><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images.yandex.ru/yandsearch?text=&#1080;&#1089;&#1090;&#1086;&#1088;&#1080;&#1103;%20&#1082;&#1086;&#1089;&#1090;&#1102;&#1084;&#1072;%20&#1090;&#1077;&#1088;&#1089;&#1082;&#1080;&#1093;%20&#1082;&#1072;&#1079;&#1072;&#1082;&#1086;&#1074;%20&#1074;%20&#1082;&#1072;&#1088;&#1090;&#1080;&#1085;&#1082;&#1072;&#1093;&amp;img_url=img-fotki.yandex.ru/get/3410/south-krest.4/0_8705_9d135b61_XL&amp;pos=4&amp;rpt=simage" TargetMode="External"/><Relationship Id="rId3" Type="http://schemas.openxmlformats.org/officeDocument/2006/relationships/image" Target="../media/image19.jpeg"/><Relationship Id="rId4" Type="http://schemas.openxmlformats.org/officeDocument/2006/relationships/hyperlink" Target="http://images.yandex.ru/yandsearch?p=1&amp;text=&#1080;&#1089;&#1090;&#1086;&#1088;&#1080;&#1103;%20&#1082;&#1086;&#1089;&#1090;&#1102;&#1084;&#1072;%20&#1090;&#1077;&#1088;&#1089;&#1082;&#1080;&#1093;%20&#1082;&#1072;&#1079;&#1072;&#1082;&#1086;&#1074;%20&#1074;%20&#1082;&#1072;&#1088;&#1090;&#1080;&#1085;&#1082;&#1072;&#1093;&amp;noreask=1&amp;img_url=img-fotki.yandex.ru/get/3011/south-krest.3/0_86dd_519f0a18_XL&amp;pos=36&amp;rpt=simage&amp;lr=36" TargetMode="External"/><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images.yandex.ru/yandsearch?text=&#1080;&#1089;&#1090;&#1086;&#1088;&#1080;&#1103;%20&#1082;&#1086;&#1089;&#1090;&#1102;&#1084;&#1072;%20&#1090;&#1077;&#1088;&#1089;&#1082;&#1080;&#1093;%20&#1082;&#1072;&#1079;&#1072;&#1082;&#1086;&#1074;%20&#1074;%20&#1082;&#1072;&#1088;&#1090;&#1080;&#1085;&#1082;&#1072;&#1093;&amp;img_url=s47.radikal.ru/i117/0809/b8/1697e4b0fe59.jpg&amp;pos=16&amp;rpt=simage" TargetMode="External"/><Relationship Id="rId3" Type="http://schemas.openxmlformats.org/officeDocument/2006/relationships/image" Target="../media/image24.jpeg"/><Relationship Id="rId4" Type="http://schemas.openxmlformats.org/officeDocument/2006/relationships/hyperlink" Target="http://images.yandex.ru/yandsearch?text=&#1080;&#1089;&#1090;&#1086;&#1088;&#1080;&#1103;%20&#1082;&#1086;&#1089;&#1090;&#1102;&#1084;&#1072;%20&#1090;&#1077;&#1088;&#1089;&#1082;&#1080;&#1093;%20&#1082;&#1072;&#1079;&#1072;&#1082;&#1086;&#1074;%20&#1074;%20&#1082;&#1072;&#1088;&#1090;&#1080;&#1085;&#1082;&#1072;&#1093;&amp;img_url=img-fotki.yandex.ru/get/3410/south-krest.4/0_8702_dbb31d8c_XL&amp;pos=20&amp;rpt=simage" TargetMode="External"/><Relationship Id="rId5" Type="http://schemas.openxmlformats.org/officeDocument/2006/relationships/image" Target="../media/image25.jpeg"/><Relationship Id="rId6" Type="http://schemas.openxmlformats.org/officeDocument/2006/relationships/hyperlink" Target="http://images.yandex.ru/yandsearch?p=1&amp;text=&#1080;&#1089;&#1090;&#1086;&#1088;&#1080;&#1103;%20&#1082;&#1086;&#1089;&#1090;&#1102;&#1084;&#1072;%20&#1090;&#1077;&#1088;&#1089;&#1082;&#1080;&#1093;%20&#1082;&#1072;&#1079;&#1072;&#1082;&#1086;&#1074;%20&#1074;%20&#1082;&#1072;&#1088;&#1090;&#1080;&#1085;&#1082;&#1072;&#1093;&amp;img_url=img-fotki.yandex.ru/get/35/pravdas.28/0_1129a_ba58a8d7_XL&amp;pos=32&amp;rpt=simage" TargetMode="External"/><Relationship Id="rId7" Type="http://schemas.openxmlformats.org/officeDocument/2006/relationships/image" Target="../media/image26.jpeg"/><Relationship Id="rId8" Type="http://schemas.openxmlformats.org/officeDocument/2006/relationships/hyperlink" Target="http://images.yandex.ru/yandsearch?p=1&amp;text=&#1080;&#1089;&#1090;&#1086;&#1088;&#1080;&#1103;%20&#1082;&#1086;&#1089;&#1090;&#1102;&#1084;&#1072;%20&#1090;&#1077;&#1088;&#1089;&#1082;&#1080;&#1093;%20&#1082;&#1072;&#1079;&#1072;&#1082;&#1086;&#1074;%20&#1074;%20&#1082;&#1072;&#1088;&#1090;&#1080;&#1085;&#1082;&#1072;&#1093;&amp;img_url=kp.ru/f/3/image/44/87/1168744.jpg&amp;pos=33&amp;rpt=simage" TargetMode="External"/><Relationship Id="rId9" Type="http://schemas.openxmlformats.org/officeDocument/2006/relationships/image" Target="../media/image27.jpeg"/><Relationship Id="rId10" Type="http://schemas.openxmlformats.org/officeDocument/2006/relationships/hyperlink" Target="http://images.yandex.ru/yandsearch?p=2&amp;text=&#1080;&#1089;&#1090;&#1086;&#1088;&#1080;&#1103;%20&#1082;&#1086;&#1089;&#1090;&#1102;&#1084;&#1072;%20&#1090;&#1077;&#1088;&#1089;&#1082;&#1080;&#1093;%20&#1082;&#1072;&#1079;&#1072;&#1082;&#1086;&#1074;%20&#1074;%20&#1082;&#1072;&#1088;&#1090;&#1080;&#1085;&#1082;&#1072;&#1093;&amp;noreask=1&amp;img_url=s003.radikal.ru/i202/1002/79/ce00d55e4239t.jpg&amp;pos=81&amp;rpt=simage&amp;lr=36" TargetMode="External"/><Relationship Id="rId11" Type="http://schemas.openxmlformats.org/officeDocument/2006/relationships/image" Target="../media/image28.jpe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3789360"/>
            <a:ext cx="8305920" cy="110016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200" spc="-1" strike="noStrike">
              <a:solidFill>
                <a:srgbClr val="fefac9"/>
              </a:solidFill>
              <a:latin typeface="Constantia"/>
            </a:endParaRPr>
          </a:p>
        </p:txBody>
      </p:sp>
      <p:pic>
        <p:nvPicPr>
          <p:cNvPr id="178" name="Заголовок 1" descr=""/>
          <p:cNvPicPr/>
          <p:nvPr/>
        </p:nvPicPr>
        <p:blipFill>
          <a:blip r:embed="rId1"/>
          <a:stretch/>
        </p:blipFill>
        <p:spPr>
          <a:xfrm>
            <a:off x="457200" y="1432080"/>
            <a:ext cx="8308800" cy="231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Заголовок 1" descr=""/>
          <p:cNvPicPr/>
          <p:nvPr/>
        </p:nvPicPr>
        <p:blipFill>
          <a:blip r:embed="rId1"/>
          <a:stretch/>
        </p:blipFill>
        <p:spPr>
          <a:xfrm>
            <a:off x="225360" y="152280"/>
            <a:ext cx="8461440" cy="1505160"/>
          </a:xfrm>
          <a:prstGeom prst="rect">
            <a:avLst/>
          </a:prstGeom>
          <a:ln w="0">
            <a:noFill/>
          </a:ln>
        </p:spPr>
      </p:pic>
      <p:pic>
        <p:nvPicPr>
          <p:cNvPr id="216" name="Picture 2" descr="http://im8-tub-ru.yandex.net/i?id=155035878-05-72&amp;n=21"/>
          <p:cNvPicPr/>
          <p:nvPr/>
        </p:nvPicPr>
        <p:blipFill>
          <a:blip r:embed="rId2"/>
          <a:stretch/>
        </p:blipFill>
        <p:spPr>
          <a:xfrm>
            <a:off x="250920" y="1341360"/>
            <a:ext cx="2870280" cy="3527640"/>
          </a:xfrm>
          <a:prstGeom prst="rect">
            <a:avLst/>
          </a:prstGeom>
          <a:ln w="0">
            <a:noFill/>
          </a:ln>
        </p:spPr>
      </p:pic>
      <p:pic>
        <p:nvPicPr>
          <p:cNvPr id="217" name="Picture 4" descr="http://im6-tub-ru.yandex.net/i?id=431636242-52-72&amp;n=21"/>
          <p:cNvPicPr/>
          <p:nvPr/>
        </p:nvPicPr>
        <p:blipFill>
          <a:blip r:embed="rId3"/>
          <a:stretch/>
        </p:blipFill>
        <p:spPr>
          <a:xfrm>
            <a:off x="5940360" y="1700280"/>
            <a:ext cx="2982960" cy="2935080"/>
          </a:xfrm>
          <a:prstGeom prst="rect">
            <a:avLst/>
          </a:prstGeom>
          <a:ln w="0">
            <a:noFill/>
          </a:ln>
        </p:spPr>
      </p:pic>
      <p:graphicFrame>
        <p:nvGraphicFramePr>
          <p:cNvPr id="218" name=""/>
          <p:cNvGraphicFramePr/>
          <p:nvPr/>
        </p:nvGraphicFramePr>
        <p:xfrm>
          <a:off x="5580000" y="2274840"/>
          <a:ext cx="3313080" cy="1371600"/>
        </p:xfrm>
        <a:graphic>
          <a:graphicData uri="http://schemas.openxmlformats.org/drawingml/2006/table">
            <a:tbl>
              <a:tblPr/>
              <a:tblGrid>
                <a:gridCol w="3313080"/>
              </a:tblGrid>
              <a:tr h="152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a:lnL>
                      <a:noFill/>
                    </a:lnL>
                    <a:lnR>
                      <a:noFill/>
                    </a:lnR>
                    <a:lnT>
                      <a:noFill/>
                    </a:lnT>
                    <a:lnB>
                      <a:noFill/>
                    </a:lnB>
                    <a:noFill/>
                  </a:tcPr>
                </a:tc>
              </a:tr>
              <a:tr h="608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onstantia"/>
                        </a:rPr>
                        <a:t>большое значение в Уральском, Оренбургском, Сибирском и Амурском войсках.</a:t>
                      </a:r>
                      <a:endParaRPr b="0" lang="en-US" sz="1000" spc="-1" strike="noStrike">
                        <a:solidFill>
                          <a:srgbClr val="ffffff"/>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bl>
          </a:graphicData>
        </a:graphic>
      </p:graphicFrame>
      <p:sp>
        <p:nvSpPr>
          <p:cNvPr id="219" name="Rectangle 1"/>
          <p:cNvSpPr/>
          <p:nvPr/>
        </p:nvSpPr>
        <p:spPr>
          <a:xfrm>
            <a:off x="2160" y="4428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 </a:t>
            </a:r>
            <a:endParaRPr b="0" lang="en-US" sz="1800" spc="-1" strike="noStrike">
              <a:solidFill>
                <a:srgbClr val="ffffff"/>
              </a:solidFill>
              <a:latin typeface="Arial"/>
            </a:endParaRPr>
          </a:p>
        </p:txBody>
      </p:sp>
      <p:pic>
        <p:nvPicPr>
          <p:cNvPr id="220" name="Picture 2" descr="http://www.russiafederation.ru/ethnography/imgsm/171-1.jpg"/>
          <p:cNvPicPr/>
          <p:nvPr/>
        </p:nvPicPr>
        <p:blipFill>
          <a:blip r:embed="rId4"/>
          <a:stretch/>
        </p:blipFill>
        <p:spPr>
          <a:xfrm>
            <a:off x="3203640" y="3284640"/>
            <a:ext cx="3333600" cy="33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23880"/>
            <a:ext cx="8229600" cy="4572000"/>
          </a:xfrm>
          <a:prstGeom prst="rect">
            <a:avLst/>
          </a:prstGeom>
          <a:noFill/>
          <a:ln w="0">
            <a:noFill/>
          </a:ln>
        </p:spPr>
        <p:txBody>
          <a:bodyPr anchor="t">
            <a:normAutofit fontScale="92000"/>
          </a:bodyPr>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Казаками с конца 15 века называли вольных людей, работавших по найму или несших военную службу на пограничных окраинах России. Казаки, служившие на Кавказе на нынешней территории Чеченской республики, получили по  месту службы  имя «гребенских» (от старого казачьего слова гребень – гора), а позднее «терских» (по названию реки Терек).</a:t>
            </a:r>
            <a:endParaRPr b="0" lang="en-US" sz="2600" spc="-1" strike="noStrike">
              <a:solidFill>
                <a:srgbClr val="ffffff"/>
              </a:solidFill>
              <a:latin typeface="Constantia"/>
            </a:endParaRPr>
          </a:p>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Впервые  казаки  появились на Северном Кавказе в 1578-1579 гг., когда по требованию Турции русская крепость на реке Сунже была снесена.</a:t>
            </a:r>
            <a:endParaRPr b="0" lang="en-US" sz="2600" spc="-1" strike="noStrike">
              <a:solidFill>
                <a:srgbClr val="ffffff"/>
              </a:solidFill>
              <a:latin typeface="Constantia"/>
            </a:endParaRPr>
          </a:p>
        </p:txBody>
      </p:sp>
      <p:sp>
        <p:nvSpPr>
          <p:cNvPr id="180" name="PlaceHolder 1"/>
          <p:cNvSpPr>
            <a:spLocks noGrp="1"/>
          </p:cNvSpPr>
          <p:nvPr>
            <p:ph type="title"/>
          </p:nvPr>
        </p:nvSpPr>
        <p:spPr>
          <a:xfrm>
            <a:off x="457200" y="-10274400"/>
            <a:ext cx="46080" cy="1161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523880"/>
            <a:ext cx="8229600" cy="4572000"/>
          </a:xfrm>
          <a:prstGeom prst="rect">
            <a:avLst/>
          </a:prstGeom>
          <a:noFill/>
          <a:ln w="0">
            <a:noFill/>
          </a:ln>
        </p:spPr>
        <p:txBody>
          <a:bodyPr anchor="t">
            <a:normAutofit fontScale="96000"/>
          </a:bodyPr>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Горская одежда, приспособленная к  укладу местной жизни, была принята и освоена казаками, как мужчинами, так и женщинами.  Мужчины носили кавказскую бурку, бешмет, папаху, башлык, черкеску. Украшали себя кавказским поясом, кинжалом и газырями с металлическими или серебряными наконечниками. Праздничная одежда казака висела в избе на видном месте: несколько  черкесок разных цветов,  украшенных простыми и серебряными газырями, мягкая праздничная обувь - сапоги, ноговицы и чувяки с чулками, обшитыми галуном или бархатом. Чеченцы, ингуши, кумыки, черкесы, ногайцы в свою очередь, многое из одежды переняли у русских.  «Последствия сближения с русскими, – отмечал в 1859 году современник, – были очевидны». Детей стали одевать в рубашки. А с течением времени и взрослые стали пробовать носить одежду европейского покроя.</a:t>
            </a:r>
            <a:endParaRPr b="0" lang="en-US" sz="22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95280" y="5589360"/>
            <a:ext cx="890640" cy="25542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84" name="Заголовок 2" descr=""/>
          <p:cNvPicPr/>
          <p:nvPr/>
        </p:nvPicPr>
        <p:blipFill>
          <a:blip r:embed="rId1"/>
          <a:stretch/>
        </p:blipFill>
        <p:spPr>
          <a:xfrm>
            <a:off x="457200" y="152280"/>
            <a:ext cx="8229600" cy="1505160"/>
          </a:xfrm>
          <a:prstGeom prst="rect">
            <a:avLst/>
          </a:prstGeom>
          <a:ln w="0">
            <a:noFill/>
          </a:ln>
        </p:spPr>
      </p:pic>
      <p:pic>
        <p:nvPicPr>
          <p:cNvPr id="185" name="Picture 2" descr="http://im8-tub-ru.yandex.net/i?id=79078574-26-72&amp;n=21">
            <a:hlinkClick r:id="rId2"/>
          </p:cNvPr>
          <p:cNvPicPr/>
          <p:nvPr/>
        </p:nvPicPr>
        <p:blipFill>
          <a:blip r:embed="rId3"/>
          <a:stretch/>
        </p:blipFill>
        <p:spPr>
          <a:xfrm>
            <a:off x="271440" y="2492280"/>
            <a:ext cx="4437000" cy="3097440"/>
          </a:xfrm>
          <a:prstGeom prst="rect">
            <a:avLst/>
          </a:prstGeom>
          <a:ln w="0">
            <a:noFill/>
          </a:ln>
        </p:spPr>
      </p:pic>
      <p:sp>
        <p:nvSpPr>
          <p:cNvPr id="186" name="Rectangle 3"/>
          <p:cNvSpPr/>
          <p:nvPr/>
        </p:nvSpPr>
        <p:spPr>
          <a:xfrm>
            <a:off x="0" y="-969120"/>
            <a:ext cx="9144000" cy="193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8e58b6"/>
                </a:solidFill>
                <a:uFillTx/>
                <a:latin typeface="Arial"/>
                <a:ea typeface="Arial"/>
                <a:hlinkClick r:id="rId4"/>
              </a:rPr>
              <a:t>  </a:t>
            </a:r>
            <a:r>
              <a:rPr b="0" lang="ru-RU" sz="9000" spc="-1" strike="noStrike">
                <a:solidFill>
                  <a:srgbClr val="ffffff"/>
                </a:solidFill>
                <a:latin typeface="Arial"/>
                <a:ea typeface="Arial"/>
              </a:rPr>
              <a:t> </a:t>
            </a:r>
            <a:r>
              <a:rPr b="0" lang="ru-RU" sz="1800" spc="-1" strike="noStrike">
                <a:solidFill>
                  <a:srgbClr val="ffffff"/>
                </a:solidFill>
                <a:latin typeface="Arial"/>
                <a:ea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  </a:t>
            </a:r>
            <a:endParaRPr b="0" lang="en-US" sz="1800" spc="-1" strike="noStrike">
              <a:solidFill>
                <a:srgbClr val="ffffff"/>
              </a:solidFill>
              <a:latin typeface="Arial"/>
            </a:endParaRPr>
          </a:p>
        </p:txBody>
      </p:sp>
      <p:pic>
        <p:nvPicPr>
          <p:cNvPr id="187" name="Picture 4" descr="http://im3-tub-ru.yandex.net/i?id=124119785-58-72&amp;n=21">
            <a:hlinkClick r:id="rId5"/>
          </p:cNvPr>
          <p:cNvPicPr/>
          <p:nvPr/>
        </p:nvPicPr>
        <p:blipFill>
          <a:blip r:embed="rId6"/>
          <a:stretch/>
        </p:blipFill>
        <p:spPr>
          <a:xfrm>
            <a:off x="5076720" y="2048040"/>
            <a:ext cx="3532320" cy="404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Заголовок 1" descr=""/>
          <p:cNvPicPr/>
          <p:nvPr/>
        </p:nvPicPr>
        <p:blipFill>
          <a:blip r:embed="rId1"/>
          <a:stretch/>
        </p:blipFill>
        <p:spPr>
          <a:xfrm>
            <a:off x="225360" y="152280"/>
            <a:ext cx="8461440" cy="1505160"/>
          </a:xfrm>
          <a:prstGeom prst="rect">
            <a:avLst/>
          </a:prstGeom>
          <a:ln w="0">
            <a:noFill/>
          </a:ln>
        </p:spPr>
      </p:pic>
      <p:pic>
        <p:nvPicPr>
          <p:cNvPr id="189" name="Содержимое 3" descr="http://im4-tub-ru.yandex.net/i?id=58051136-46-72&amp;n=21">
            <a:hlinkClick r:id="rId2"/>
          </p:cNvPr>
          <p:cNvPicPr/>
          <p:nvPr/>
        </p:nvPicPr>
        <p:blipFill>
          <a:blip r:embed="rId3"/>
          <a:stretch/>
        </p:blipFill>
        <p:spPr>
          <a:xfrm>
            <a:off x="395280" y="1341360"/>
            <a:ext cx="1655640" cy="3743280"/>
          </a:xfrm>
          <a:prstGeom prst="rect">
            <a:avLst/>
          </a:prstGeom>
          <a:ln w="0">
            <a:noFill/>
          </a:ln>
        </p:spPr>
      </p:pic>
      <p:pic>
        <p:nvPicPr>
          <p:cNvPr id="190" name="Рисунок 4" descr="http://im4-tub-ru.yandex.net/i?id=236967956-29-72&amp;n=21">
            <a:hlinkClick r:id="rId4"/>
          </p:cNvPr>
          <p:cNvPicPr/>
          <p:nvPr/>
        </p:nvPicPr>
        <p:blipFill>
          <a:blip r:embed="rId5"/>
          <a:stretch/>
        </p:blipFill>
        <p:spPr>
          <a:xfrm>
            <a:off x="2195640" y="1700280"/>
            <a:ext cx="1904760" cy="1434960"/>
          </a:xfrm>
          <a:prstGeom prst="rect">
            <a:avLst/>
          </a:prstGeom>
          <a:ln w="0">
            <a:noFill/>
          </a:ln>
        </p:spPr>
      </p:pic>
      <p:pic>
        <p:nvPicPr>
          <p:cNvPr id="191" name="Рисунок 5" descr="http://im2-tub-ru.yandex.net/i?id=111490724-14-72&amp;n=21">
            <a:hlinkClick r:id="rId6"/>
          </p:cNvPr>
          <p:cNvPicPr/>
          <p:nvPr/>
        </p:nvPicPr>
        <p:blipFill>
          <a:blip r:embed="rId7"/>
          <a:stretch/>
        </p:blipFill>
        <p:spPr>
          <a:xfrm>
            <a:off x="7164360" y="4221000"/>
            <a:ext cx="1008000" cy="2232360"/>
          </a:xfrm>
          <a:prstGeom prst="rect">
            <a:avLst/>
          </a:prstGeom>
          <a:ln w="0">
            <a:noFill/>
          </a:ln>
        </p:spPr>
      </p:pic>
      <p:pic>
        <p:nvPicPr>
          <p:cNvPr id="192" name="Рисунок 7" descr="http://im5-tub-ru.yandex.net/i?id=517338855-54-72&amp;n=21">
            <a:hlinkClick r:id="rId8"/>
          </p:cNvPr>
          <p:cNvPicPr/>
          <p:nvPr/>
        </p:nvPicPr>
        <p:blipFill>
          <a:blip r:embed="rId9"/>
          <a:stretch/>
        </p:blipFill>
        <p:spPr>
          <a:xfrm>
            <a:off x="2484360" y="3789360"/>
            <a:ext cx="1366920" cy="2664000"/>
          </a:xfrm>
          <a:prstGeom prst="rect">
            <a:avLst/>
          </a:prstGeom>
          <a:ln w="0">
            <a:noFill/>
          </a:ln>
        </p:spPr>
      </p:pic>
      <p:pic>
        <p:nvPicPr>
          <p:cNvPr id="193" name="Рисунок 8" descr="http://im8-tub-ru.yandex.net/i?id=110767635-19-72&amp;n=21">
            <a:hlinkClick r:id="rId10"/>
          </p:cNvPr>
          <p:cNvPicPr/>
          <p:nvPr/>
        </p:nvPicPr>
        <p:blipFill>
          <a:blip r:embed="rId11"/>
          <a:stretch/>
        </p:blipFill>
        <p:spPr>
          <a:xfrm>
            <a:off x="4284720" y="2708280"/>
            <a:ext cx="2158920" cy="2521080"/>
          </a:xfrm>
          <a:prstGeom prst="rect">
            <a:avLst/>
          </a:prstGeom>
          <a:ln w="0">
            <a:noFill/>
          </a:ln>
        </p:spPr>
      </p:pic>
      <p:pic>
        <p:nvPicPr>
          <p:cNvPr id="194" name="Рисунок 9" descr="http://im5-tub-ru.yandex.net/i?id=347396426-24-72&amp;n=21">
            <a:hlinkClick r:id="rId12"/>
          </p:cNvPr>
          <p:cNvPicPr/>
          <p:nvPr/>
        </p:nvPicPr>
        <p:blipFill>
          <a:blip r:embed="rId13"/>
          <a:stretch/>
        </p:blipFill>
        <p:spPr>
          <a:xfrm>
            <a:off x="6659640" y="907920"/>
            <a:ext cx="1800000" cy="309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96" name="Заголовок 2" descr=""/>
          <p:cNvPicPr/>
          <p:nvPr/>
        </p:nvPicPr>
        <p:blipFill>
          <a:blip r:embed="rId1"/>
          <a:stretch/>
        </p:blipFill>
        <p:spPr>
          <a:xfrm>
            <a:off x="225360" y="152280"/>
            <a:ext cx="8705880" cy="1494000"/>
          </a:xfrm>
          <a:prstGeom prst="rect">
            <a:avLst/>
          </a:prstGeom>
          <a:ln w="0">
            <a:noFill/>
          </a:ln>
        </p:spPr>
      </p:pic>
      <p:sp>
        <p:nvSpPr>
          <p:cNvPr id="197" name="Rectangle 1"/>
          <p:cNvSpPr/>
          <p:nvPr/>
        </p:nvSpPr>
        <p:spPr>
          <a:xfrm>
            <a:off x="0" y="46080"/>
            <a:ext cx="9144000" cy="186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8e58b6"/>
                </a:solidFill>
                <a:uFillTx/>
                <a:latin typeface="Arial"/>
                <a:ea typeface="Arial"/>
                <a:hlinkClick r:id="rId2"/>
              </a:rPr>
              <a:t>  </a:t>
            </a:r>
            <a:r>
              <a:rPr b="0" lang="ru-RU" sz="9000" spc="-1" strike="noStrike">
                <a:solidFill>
                  <a:srgbClr val="ffffff"/>
                </a:solidFill>
                <a:latin typeface="Arial"/>
                <a:ea typeface="Arial"/>
              </a:rPr>
              <a:t> </a:t>
            </a:r>
            <a:r>
              <a:rPr b="0" lang="ru-RU" sz="1800" spc="-1" strike="noStrike">
                <a:solidFill>
                  <a:srgbClr val="ffffff"/>
                </a:solidFill>
                <a:latin typeface="Arial"/>
                <a:ea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pic>
        <p:nvPicPr>
          <p:cNvPr id="198" name="Picture 2" descr="http://im8-tub-ru.yandex.net/i?id=394501438-33-72&amp;n=21">
            <a:hlinkClick r:id="rId3"/>
          </p:cNvPr>
          <p:cNvPicPr/>
          <p:nvPr/>
        </p:nvPicPr>
        <p:blipFill>
          <a:blip r:embed="rId4"/>
          <a:stretch/>
        </p:blipFill>
        <p:spPr>
          <a:xfrm>
            <a:off x="5003640" y="1773360"/>
            <a:ext cx="3672000" cy="3671640"/>
          </a:xfrm>
          <a:prstGeom prst="rect">
            <a:avLst/>
          </a:prstGeom>
          <a:ln w="0">
            <a:noFill/>
          </a:ln>
        </p:spPr>
      </p:pic>
      <p:sp>
        <p:nvSpPr>
          <p:cNvPr id="199" name="Rectangle 3"/>
          <p:cNvSpPr/>
          <p:nvPr/>
        </p:nvSpPr>
        <p:spPr>
          <a:xfrm>
            <a:off x="0" y="-783360"/>
            <a:ext cx="9144000" cy="193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8e58b6"/>
                </a:solidFill>
                <a:uFillTx/>
                <a:latin typeface="Arial"/>
                <a:ea typeface="Arial"/>
                <a:hlinkClick r:id="rId5"/>
              </a:rPr>
              <a:t>  </a:t>
            </a:r>
            <a:r>
              <a:rPr b="0" lang="ru-RU" sz="9000" spc="-1" strike="noStrike">
                <a:solidFill>
                  <a:srgbClr val="ffffff"/>
                </a:solidFill>
                <a:latin typeface="Arial"/>
                <a:ea typeface="Arial"/>
              </a:rPr>
              <a:t> </a:t>
            </a:r>
            <a:r>
              <a:rPr b="0" lang="ru-RU" sz="1800" spc="-1" strike="noStrike">
                <a:solidFill>
                  <a:srgbClr val="ffffff"/>
                </a:solidFill>
                <a:latin typeface="Arial"/>
                <a:ea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 </a:t>
            </a:r>
            <a:endParaRPr b="0" lang="en-US" sz="1800" spc="-1" strike="noStrike">
              <a:solidFill>
                <a:srgbClr val="ffffff"/>
              </a:solidFill>
              <a:latin typeface="Arial"/>
            </a:endParaRPr>
          </a:p>
        </p:txBody>
      </p:sp>
      <p:pic>
        <p:nvPicPr>
          <p:cNvPr id="200" name="Picture 4" descr="http://im6-tub-ru.yandex.net/i?id=86444201-55-72&amp;n=21">
            <a:hlinkClick r:id="rId6"/>
          </p:cNvPr>
          <p:cNvPicPr/>
          <p:nvPr/>
        </p:nvPicPr>
        <p:blipFill>
          <a:blip r:embed="rId7"/>
          <a:stretch/>
        </p:blipFill>
        <p:spPr>
          <a:xfrm>
            <a:off x="3635280" y="4941720"/>
            <a:ext cx="2266920" cy="1428840"/>
          </a:xfrm>
          <a:prstGeom prst="rect">
            <a:avLst/>
          </a:prstGeom>
          <a:ln w="0">
            <a:noFill/>
          </a:ln>
        </p:spPr>
      </p:pic>
      <p:pic>
        <p:nvPicPr>
          <p:cNvPr id="201" name="Picture 8" descr="http://molodidov-cossacks.com/pics/04.gif">
            <a:hlinkClick r:id="rId8"/>
          </p:cNvPr>
          <p:cNvPicPr/>
          <p:nvPr/>
        </p:nvPicPr>
        <p:blipFill>
          <a:blip r:embed="rId9"/>
          <a:stretch/>
        </p:blipFill>
        <p:spPr>
          <a:xfrm>
            <a:off x="324000" y="4076640"/>
            <a:ext cx="2976480" cy="2232000"/>
          </a:xfrm>
          <a:prstGeom prst="rect">
            <a:avLst/>
          </a:prstGeom>
          <a:ln w="0">
            <a:noFill/>
          </a:ln>
        </p:spPr>
      </p:pic>
      <p:pic>
        <p:nvPicPr>
          <p:cNvPr id="202" name="Picture 12" descr="http://im2-tub-ru.yandex.net/i?id=61240873-49-72&amp;n=21">
            <a:hlinkClick r:id="rId10"/>
          </p:cNvPr>
          <p:cNvPicPr/>
          <p:nvPr/>
        </p:nvPicPr>
        <p:blipFill>
          <a:blip r:embed="rId11"/>
          <a:stretch/>
        </p:blipFill>
        <p:spPr>
          <a:xfrm>
            <a:off x="468360" y="1557360"/>
            <a:ext cx="2879640" cy="2158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523880"/>
            <a:ext cx="8229600" cy="4572000"/>
          </a:xfrm>
          <a:prstGeom prst="rect">
            <a:avLst/>
          </a:prstGeom>
          <a:noFill/>
          <a:ln w="0">
            <a:noFill/>
          </a:ln>
        </p:spPr>
        <p:txBody>
          <a:bodyPr anchor="t">
            <a:normAutofit/>
          </a:bodyPr>
          <a:p>
            <a:pPr lvl="1" marL="63972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04" name="Заголовок 2" descr=""/>
          <p:cNvPicPr/>
          <p:nvPr/>
        </p:nvPicPr>
        <p:blipFill>
          <a:blip r:embed="rId1"/>
          <a:stretch/>
        </p:blipFill>
        <p:spPr>
          <a:xfrm>
            <a:off x="225360" y="152280"/>
            <a:ext cx="8601120" cy="1505160"/>
          </a:xfrm>
          <a:prstGeom prst="rect">
            <a:avLst/>
          </a:prstGeom>
          <a:ln w="0">
            <a:noFill/>
          </a:ln>
        </p:spPr>
      </p:pic>
      <p:pic>
        <p:nvPicPr>
          <p:cNvPr id="205" name="Рисунок 6" descr="http://im7-tub-ru.yandex.net/i?id=96238046-30-72&amp;n=21">
            <a:hlinkClick r:id="rId2"/>
          </p:cNvPr>
          <p:cNvPicPr/>
          <p:nvPr/>
        </p:nvPicPr>
        <p:blipFill>
          <a:blip r:embed="rId3"/>
          <a:stretch/>
        </p:blipFill>
        <p:spPr>
          <a:xfrm>
            <a:off x="4643280" y="1773360"/>
            <a:ext cx="3313440" cy="4464000"/>
          </a:xfrm>
          <a:prstGeom prst="rect">
            <a:avLst/>
          </a:prstGeom>
          <a:ln w="0">
            <a:noFill/>
          </a:ln>
        </p:spPr>
      </p:pic>
      <p:pic>
        <p:nvPicPr>
          <p:cNvPr id="206" name="Рисунок 7" descr="http://im3-tub-ru.yandex.net/i?id=48911621-67-72&amp;n=21">
            <a:hlinkClick r:id="rId4"/>
          </p:cNvPr>
          <p:cNvPicPr/>
          <p:nvPr/>
        </p:nvPicPr>
        <p:blipFill>
          <a:blip r:embed="rId5"/>
          <a:stretch/>
        </p:blipFill>
        <p:spPr>
          <a:xfrm>
            <a:off x="1258920" y="1628640"/>
            <a:ext cx="2017800" cy="47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Заголовок 2" descr=""/>
          <p:cNvPicPr/>
          <p:nvPr/>
        </p:nvPicPr>
        <p:blipFill>
          <a:blip r:embed="rId1"/>
          <a:stretch/>
        </p:blipFill>
        <p:spPr>
          <a:xfrm>
            <a:off x="457200" y="23760"/>
            <a:ext cx="8229600" cy="1592280"/>
          </a:xfrm>
          <a:prstGeom prst="rect">
            <a:avLst/>
          </a:prstGeom>
          <a:ln w="0">
            <a:noFill/>
          </a:ln>
        </p:spPr>
      </p:pic>
      <p:pic>
        <p:nvPicPr>
          <p:cNvPr id="208" name="Содержимое 3" descr="http://i075.radikal.ru/0912/5d/98407d4c7f49.jpg"/>
          <p:cNvPicPr/>
          <p:nvPr/>
        </p:nvPicPr>
        <p:blipFill>
          <a:blip r:embed="rId2"/>
          <a:stretch/>
        </p:blipFill>
        <p:spPr>
          <a:xfrm>
            <a:off x="1695600" y="1895400"/>
            <a:ext cx="5752800" cy="38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Заголовок 1" descr=""/>
          <p:cNvPicPr/>
          <p:nvPr/>
        </p:nvPicPr>
        <p:blipFill>
          <a:blip r:embed="rId1"/>
          <a:stretch/>
        </p:blipFill>
        <p:spPr>
          <a:xfrm>
            <a:off x="225360" y="152280"/>
            <a:ext cx="8467920" cy="1505160"/>
          </a:xfrm>
          <a:prstGeom prst="rect">
            <a:avLst/>
          </a:prstGeom>
          <a:ln w="0">
            <a:noFill/>
          </a:ln>
        </p:spPr>
      </p:pic>
      <p:pic>
        <p:nvPicPr>
          <p:cNvPr id="210" name="Содержимое 3" descr="http://im0-tub-ru.yandex.net/i?id=48979410-41-72&amp;n=21">
            <a:hlinkClick r:id="rId2"/>
          </p:cNvPr>
          <p:cNvPicPr/>
          <p:nvPr/>
        </p:nvPicPr>
        <p:blipFill>
          <a:blip r:embed="rId3"/>
          <a:stretch/>
        </p:blipFill>
        <p:spPr>
          <a:xfrm>
            <a:off x="2843280" y="1628640"/>
            <a:ext cx="1873080" cy="2232000"/>
          </a:xfrm>
          <a:prstGeom prst="rect">
            <a:avLst/>
          </a:prstGeom>
          <a:ln w="0">
            <a:noFill/>
          </a:ln>
        </p:spPr>
      </p:pic>
      <p:pic>
        <p:nvPicPr>
          <p:cNvPr id="211" name="Рисунок 7" descr="http://im6-tub-ru.yandex.net/i?id=49607766-49-72&amp;n=21">
            <a:hlinkClick r:id="rId4"/>
          </p:cNvPr>
          <p:cNvPicPr/>
          <p:nvPr/>
        </p:nvPicPr>
        <p:blipFill>
          <a:blip r:embed="rId5"/>
          <a:stretch/>
        </p:blipFill>
        <p:spPr>
          <a:xfrm>
            <a:off x="500040" y="2214720"/>
            <a:ext cx="1857240" cy="3786120"/>
          </a:xfrm>
          <a:prstGeom prst="rect">
            <a:avLst/>
          </a:prstGeom>
          <a:ln w="0">
            <a:noFill/>
          </a:ln>
        </p:spPr>
      </p:pic>
      <p:pic>
        <p:nvPicPr>
          <p:cNvPr id="212" name="Рисунок 11" descr="http://im7-tub-ru.yandex.net/i?id=370961735-13-72&amp;n=21">
            <a:hlinkClick r:id="rId6"/>
          </p:cNvPr>
          <p:cNvPicPr/>
          <p:nvPr/>
        </p:nvPicPr>
        <p:blipFill>
          <a:blip r:embed="rId7"/>
          <a:stretch/>
        </p:blipFill>
        <p:spPr>
          <a:xfrm>
            <a:off x="3500280" y="4214880"/>
            <a:ext cx="1008360" cy="2232000"/>
          </a:xfrm>
          <a:prstGeom prst="rect">
            <a:avLst/>
          </a:prstGeom>
          <a:ln w="0">
            <a:noFill/>
          </a:ln>
        </p:spPr>
      </p:pic>
      <p:pic>
        <p:nvPicPr>
          <p:cNvPr id="213" name="Рисунок 12" descr="http://im7-tub-ru.yandex.net/i?id=305742745-00-72&amp;n=21">
            <a:hlinkClick r:id="rId8"/>
          </p:cNvPr>
          <p:cNvPicPr/>
          <p:nvPr/>
        </p:nvPicPr>
        <p:blipFill>
          <a:blip r:embed="rId9"/>
          <a:stretch/>
        </p:blipFill>
        <p:spPr>
          <a:xfrm>
            <a:off x="6659640" y="1700280"/>
            <a:ext cx="1944720" cy="3889440"/>
          </a:xfrm>
          <a:prstGeom prst="rect">
            <a:avLst/>
          </a:prstGeom>
          <a:ln w="0">
            <a:noFill/>
          </a:ln>
        </p:spPr>
      </p:pic>
      <p:pic>
        <p:nvPicPr>
          <p:cNvPr id="214" name="Рисунок 8" descr="http://im7-tub-ru.yandex.net/i?id=56304506-00-72&amp;n=21">
            <a:hlinkClick r:id="rId10"/>
          </p:cNvPr>
          <p:cNvPicPr/>
          <p:nvPr/>
        </p:nvPicPr>
        <p:blipFill>
          <a:blip r:embed="rId11"/>
          <a:stretch/>
        </p:blipFill>
        <p:spPr>
          <a:xfrm>
            <a:off x="5072040" y="2286000"/>
            <a:ext cx="1209600" cy="258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7T07:01:03Z</dcterms:created>
  <dc:creator>Лазарева  М И</dc:creator>
  <dc:description/>
  <dc:language>en-US</dc:language>
  <cp:lastModifiedBy>Tany</cp:lastModifiedBy>
  <dcterms:modified xsi:type="dcterms:W3CDTF">2019-02-17T15:43:11Z</dcterms:modified>
  <cp:revision>62</cp:revision>
  <dc:subject/>
  <dc:title>Терское казачество</dc:title>
</cp:coreProperties>
</file>