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1FB-019A-4FD8-B89A-CCC7ADAA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ED8D-DF6B-4A6A-A7BE-89CF2199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ADB7-8959-4606-BF7A-219A20BAD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BE44-8E23-41C2-89AD-41160E0C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447-FBF8-4AD7-9D0B-E45F6878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608-1313-4442-BD24-4A965D01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DAE-3C28-4539-AA9D-558FE302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F84B-37FA-4CDA-931E-92C9188A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28A-38EA-4F61-BC35-C92BF07C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C40-38FD-4CF3-A80F-4E88C943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C0E-0396-4F61-AAE9-86AC1026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A32-DAEE-4816-9720-CDBC8E18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12904BC-2561-4964-BFD4-ECA2E88420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1" i="1" lang="ru-RU" sz="1800" spc="-1" strike="noStrike">
                <a:solidFill>
                  <a:srgbClr val="99284c"/>
                </a:solidFill>
                <a:latin typeface="Times New Roman"/>
              </a:rPr>
              <a:t>Муниципальное бюджетное общеобразовательное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99284c"/>
                </a:solidFill>
                <a:latin typeface="Times New Roman"/>
              </a:rPr>
              <a:t>«Средняя общеобразовательная школа №28»</a:t>
            </a:r>
            <a:endParaRPr b="1" i="1" lang="en-US" sz="18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Arial"/>
              </a:rPr>
              <a:t>История и культура Мордовского края до ХI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03280" y="4375080"/>
            <a:ext cx="907092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Ученица 6А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Шведкова Софья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овер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Рунова Мария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Занятие 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нимались изготовлением различных вещей и материалов, из которых самым важным было железо. Его не выплавливали, а варили в горшках и специальных печах-горнах из железа кузнецы выковывали косы, серпы, топоры, мечи копья и другое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Верование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ревняя мордва покланялась различным силам природы: воде, земле, огню, лесу, ветру. В основном это женские божества: земля — Мода-ава, воды —  Ведь-ава, леса — Вирь-ава, ветра — Варма-ава, огня — Тол-ав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Торговые связи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амыми древними из них были реки Мокша, Сура и Волга, связывавшие мордовские территории с русскими и татарскими землям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XVI в. Кроме водных путей большое значение приобрели сухопутные дороги. Широко известной стала дорога из Казани в Муром. По ней, чтобы не платить пошлины в Нижний Новгороде, ходили казанские купцы. Об этой дороге говорится и в письменных источниках XV век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Культура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С древнейших времен в культуре мордвы сохранились хороводы-гадания, пляски-заклинания, магические танцы, детские танцевальные игры, календарные плясовые действа, свадебные пляски, переплясы, образные  и сюжетные танцы, а также пантомимы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473040" y="287280"/>
            <a:ext cx="9247320" cy="691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99284c"/>
                </a:solidFill>
                <a:latin typeface="Times New Roman"/>
              </a:rPr>
              <a:t>Древнемордовские племена до IV века нашей эры занимали обширную территорию Цнинского — Окско - Сурского междуречья. Среди них выделялись южная группа племен в Верхнем Посурье, другая проживала на Нижней Суре и в юассейнах рек Теша, Пьяна, Мокша и Цна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284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99284c"/>
                </a:solidFill>
                <a:latin typeface="Times New Roman"/>
              </a:rPr>
              <a:t>В VI- VII веках мордовские поселения появляются на побережье Волги и между устьями Суры и Ок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502920" y="2880"/>
            <a:ext cx="90709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Древнемордовские племена </a:t>
            </a:r>
            <a:br>
              <a:rPr sz="4400"/>
            </a:b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31640" y="287280"/>
            <a:ext cx="9360000" cy="68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8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       </a:t>
            </a: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Мордва и Древняя Русь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олее тысячи лет назад на западных и северных границах расселение мордвы появились славяне. Это предки русского, украинского, белорусского народов, объединенные в единое государства — Киевскую Русь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усские князья совершали походы на Оку и Волгу, в результате которых был разгромлен Хазарский каганат и мордва освободилась из под его власти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i="1" lang="ru-RU" sz="2400" spc="-1" strike="noStrike">
                <a:solidFill>
                  <a:srgbClr val="333333"/>
                </a:solidFill>
                <a:latin typeface="Times New Roman"/>
              </a:rPr>
              <a:t>Монах Иордан, живущий на берегу Средиземного моря писал, что король готов Германарих покорил племя Морденс. Это было тысяча лет назад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502920" y="2880"/>
            <a:ext cx="907092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Первые письменные сообщения о мордве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51600" y="1770120"/>
            <a:ext cx="442584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marL="503280" indent="-432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 algn="ctr">
              <a:lnSpc>
                <a:spcPct val="95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ревние рукописи в виде свитков хранятся в Мордовии в Центральном Государственном архиве Республ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047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431640" y="1871640"/>
            <a:ext cx="9072720" cy="48862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Мордва состоит из двух народов-мокша и эрзя.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Войско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е всегда спокойно было на границе мордовских племен. Для защиты от врагов у  древней мордвы существовало войско. Внего входили все взрослые мужчины. Во главе стоял вождь. По оканчанию войны войско распускалась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99284c"/>
                </a:solidFill>
                <a:latin typeface="Times New Roman"/>
              </a:rPr>
              <a:t>Жилища</a:t>
            </a:r>
            <a:endParaRPr b="1" i="1" lang="en-US" sz="4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800000"/>
            <a:ext cx="9072360" cy="4957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503280" indent="0" algn="just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03280" indent="0" algn="just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едки мордвы жили по берегам рек в укрепленных городищах. Древние люди умели строить различные дома: длинные, прямоугольные, круглые землянки, полуземлянки и наземные избы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09T09:22:57Z</dcterms:created>
  <dc:creator/>
  <dc:description/>
  <dc:language>en-US</dc:language>
  <cp:lastModifiedBy>User</cp:lastModifiedBy>
  <dcterms:modified xsi:type="dcterms:W3CDTF">2023-01-22T13:37:53Z</dcterms:modified>
  <cp:revision>27</cp:revision>
  <dc:subject/>
  <dc:title> Муниципальное бюджетное общеобразовательное учреждение «Средняя общеобразовательная школа №28»</dc:title>
</cp:coreProperties>
</file>