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D6A-4F7F-464E-882E-467F468B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3076-579D-40D4-AEC8-3319E373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300E-B206-4C75-9649-8BB5D720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A82F-B5CA-469D-B4B0-0D75769C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347F-1E1F-43D8-9708-F3F604E1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46C-E3C0-49EA-9E8A-0210D089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59A4-23CB-470E-8751-1456DEAD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0AB-D16E-4309-8A6A-9CECA1A2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039F-25F0-4152-B3AD-740ED85E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76A-0B72-4B38-8EA9-173164AA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C37-ACCE-4B26-80AE-3AA13578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819-1C3A-46E7-A24E-E687C1D2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2B3FDF-23EE-4FBD-B02A-99C8E1DC57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1" i="1" lang="ru-RU" sz="1800" spc="-1" strike="noStrike">
                <a:solidFill>
                  <a:srgbClr val="99284c"/>
                </a:solidFill>
                <a:latin typeface="Times New Roman"/>
              </a:rPr>
              <a:t>Муниципальное бюджетное общеобразовательное учреждение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Times New Roman"/>
              </a:rPr>
              <a:t>«Средняя общеобразовательная школа №28»</a:t>
            </a:r>
            <a:endParaRPr b="1" i="1" lang="en-US" sz="1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284c"/>
                </a:solidFill>
                <a:latin typeface="Arial"/>
              </a:rPr>
              <a:t>История и культура Мордовского края до ХI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03280" y="4375080"/>
            <a:ext cx="907092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Работу выполн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Ученица 6А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Шведкова Софья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ровер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Рунова Мария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Занятие 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анимались изготовлением различных вещей и материалов, из которых самым важным было железо. Его не выплавливали, а варили в горшках и специальных печах-горнах из железа кузнецы выковывали косы, серпы, топоры, мечи копья и друго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Верование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ревняя мордва покланялась различным силам природы: воде, земле, огню, лесу, ветру. В основном это женские божества: земля — Мода-ава, воды —  Ведь-ава, леса — Вирь-ава, ветра — Варма-ава, огня — Тол-ава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Торговые связи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амыми древними из них были реки Мокша, Сура и Волга, связывавшие мордовские территории с русскими и татарскими землям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XVI в. Кроме водных путей большое значение приобрели сухопутные дороги. Широко известной стала дорога из Казани в Муром. По ней, чтобы не платить пошлины в Нижний Новгороде, ходили казанские купцы. Об этой дороге говорится и в письменных источниках XV века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Культура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 древнейших времен в культуре мордвы сохранились хороводы-гадания, пляски-заклинания, магические танцы, детские танцевальные игры, календарные плясовые действа, свадебные пляски, переплясы, образные  и сюжетные танцы, а также пантомимы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473040" y="287280"/>
            <a:ext cx="9247320" cy="691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284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99284c"/>
                </a:solidFill>
                <a:latin typeface="Times New Roman"/>
              </a:rPr>
              <a:t>Древнемордовские племена до IV века нашей эры занимали обширную территорию Цнинского — Окско - Сурского междуречья. Среди них выделялись южная группа племен в Верхнем Посурье, другая проживала на Нижней Суре и в юассейнах рек Теша, Пьяна, Мокша и Цна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284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99284c"/>
                </a:solidFill>
                <a:latin typeface="Times New Roman"/>
              </a:rPr>
              <a:t>В VI- VII веках мордовские поселения появляются на побережье Волги и между устьями Суры и Ок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02920" y="2880"/>
            <a:ext cx="907092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Древнемордовские племена </a:t>
            </a:r>
            <a:br>
              <a:rPr sz="4400"/>
            </a:b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431640" y="287280"/>
            <a:ext cx="9360000" cy="68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8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       </a:t>
            </a: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Мордва и Древняя Русь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олее тысячи лет назад на западных и северных границах расселение мордвы появились славяне. Это предки русского, украинского, белорусского народов, объединенные в единое государства — Киевскую Русь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усские князья совершали походы на Оку и Волгу, в результате которых был разгромлен Хазарский каганат и мордва освободилась из под его власт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5032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Монах Иордан, живущий на берегу Средиземного моря писал, что король готов Германарих покорил племя Морденс. Это было тысяча лет назад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02920" y="2880"/>
            <a:ext cx="907092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Первые письменные сообщения о мордве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151600" y="1770120"/>
            <a:ext cx="442584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503280" indent="-432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 algn="ctr">
              <a:lnSpc>
                <a:spcPct val="95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ревние рукописи в виде свитков хранятся в Мордовии в Центральном Государственном архиве Республ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431640" y="1871640"/>
            <a:ext cx="9072720" cy="4886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Мордва состоит из двух народов-мокша и эрзя.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Войско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е всегда спокойно было на границе мордовских племен. Для защиты от врагов у  древней мордвы существовало войско. Внего входили все взрослые мужчины. Во главе стоял вождь. По оканчанию войны войско распускалас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Жилища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957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едки мордвы жили по берегам рек в укрепленных городищах. Древние люди умели строить различные дома: длинные, прямоугольные, круглые землянки, полуземлянки и наземные избы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09T09:22:57Z</dcterms:created>
  <dc:creator/>
  <dc:description/>
  <dc:language>en-US</dc:language>
  <cp:lastModifiedBy>User</cp:lastModifiedBy>
  <dcterms:modified xsi:type="dcterms:W3CDTF">2023-01-22T13:37:53Z</dcterms:modified>
  <cp:revision>27</cp:revision>
  <dc:subject/>
  <dc:title> Муниципальное бюджетное общеобразовательное учреждение «Средняя общеобразовательная школа №28»</dc:title>
</cp:coreProperties>
</file>