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220-6E91-481D-BA17-7A2EFEC6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BD6-9C65-41EF-94D8-EAEC1B66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F2E56-5129-4CD4-988C-B46EA32A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1C8A7-52EA-4A64-9094-F586F90C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C0422-3557-418E-89D3-6A38A47F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3467A-501D-405F-A658-2418CAB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CD48-063B-4671-BC55-0EB7D10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A058-346B-461A-8320-88A7300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9E49E-E6CF-465E-B82D-F8FFBEB6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B446D-4C63-4F3D-8C5C-0C05FB24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4C8A5-CDFF-455C-8813-7250E550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FDCB-DDB2-4A51-9B22-81ABC8AE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439-1219-439A-8687-82E75958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93768-1E17-44A3-9E58-B25A38C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9401C-ACC8-4BBE-9BE3-010C5966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4D0AC-3951-4125-9B28-3EB3A80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61705-9D3A-4B4A-88FE-327E1C9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48227-3005-4165-A115-A38D207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C3BC6-5EC4-4650-B572-56A1D17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3C4D5-8AD8-406E-BE5D-81F6F86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103E4-45EE-46E2-9D6B-215F1B8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FEC40-2ABD-4EE1-BE4C-495F7CAA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5CFDC-1E3C-4467-A6D8-2FBBD9AF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000-D9E4-4101-8EA1-107952AA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5BFD8-741F-4F2B-8534-32548470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3DDF4-037A-465B-AB57-297B7E63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BEBD2-27DC-4369-BB1A-F3E2BE6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ECE2A-8C4C-4FD9-A674-D989C413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4C767-0F97-4EA0-957C-14126D7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7215A-EA4B-43BE-83BC-DF351D7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552DD-8CE9-410B-8DE5-BB96ABAC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C7B65-EE00-41C3-9272-7CC1F2C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82619-4941-48C7-89A7-5B450C6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B83C-DE97-4BF3-A4EC-CBE8AB0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6A5B-350D-4111-9C9A-E3924613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0A32-6D92-42AB-82D9-6FBDE7E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EC0B3-23C6-4D80-8B88-346BAE00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4328B-85A9-4C60-A264-F983D0AA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206DB-36DF-4E3C-AE57-1352DB7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44FFF-4D96-4F45-ACA4-9DF3FE4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591CC-83FB-4753-AE8D-4533C3B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B2645-944E-4BED-8F2C-54629AEB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C163-6B8D-419A-95F7-ED4E053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6CC74-8850-4646-8350-65A7CF4A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98EA8-37DF-43FA-A7E8-725B3CE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DCC2-B1F6-4C10-90FE-645A7A00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2FFE0-47EA-4AD9-B638-D2A9894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6FD12-C431-4876-B8AC-DE2E6E8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E3DC8-990D-4863-BD98-A243F549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F261C-3291-4351-AD92-46D76767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B4F30-1641-469B-8285-0A6FD5B8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7B1CD-A719-44EB-ABFD-50C92FA1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114F4-A9B3-4B8D-AD15-98CCAA4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17F07-5C43-4825-86DE-345FE2C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88D79-6B22-4F18-856D-39BFA2E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BFDAD-3D16-4F95-A86D-DBC7DFC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6F1-222A-44CC-86B5-58E82C93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2DA33-AFC4-4455-8FBF-A7D4E012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47F62-318A-450E-8D3A-AF9C5556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62C5B-16FE-4378-993F-AC3ABD93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CA252-22A5-430C-86B7-46DF46F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8740E-A4F7-4485-AEC8-8687689C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E6324-C100-42A4-917F-C02CC85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BD381-4803-493E-BE50-DDAF4155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6A101-C3CA-4F0E-806E-18787CD0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8074B-E934-4A19-BD0E-11804995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256CE-7529-472E-A864-6400DB1C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D81-F2E9-4249-A2EF-EE680495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74605-135E-4115-A28A-F09DBAD3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EDB90-210E-4FFE-8B33-F380EE9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66D89-5D18-40F4-AAA5-8EEABD5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DF9B8-8AD8-4607-946B-9658C3DF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C8CF8-D659-4D44-9F23-7078F61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F5AF5-5BCE-4923-A8F3-E7118DA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74B4F-2A59-4A11-983C-AB308E9F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EEF0E-A2E5-448B-BCB4-8D4717BB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75C7D-DFF6-4F4D-99C1-B131635B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7173-18D7-457E-8411-0E08187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A458-046C-4434-8B1D-6892712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F34F-E289-4452-ADB9-DFEF845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5BF-0EE9-4BF3-81E1-DFB44A21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B78C-AF1E-4A9A-ADE4-F91ACC9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E72-8D76-46E7-A200-33D35D6D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7594-5E83-4838-AD5C-6BF4635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A496-536C-446A-94C8-CE8B6A1E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FBC6-77EC-4E58-8671-5E614FFA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03FD-2552-465D-AFCC-558C5C5D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F07A-116E-4C48-9121-B1D5A9D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752B-739B-41E8-9C19-2CD17C4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0FDA-329F-4367-8757-347CE4A8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5DFC-80A6-43E2-B2F6-653ED279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0ED-3430-42A5-9614-0EF9D863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D8D5-4A2C-4546-B4AF-6B3C4CD4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7160-1A92-4BB9-9ACF-E2F606F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5896-48E1-4F9C-A7B9-729AFB3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2518-9CDB-4C27-86CC-235DAE0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92E2-5638-4412-AC41-D42DD38E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C280-4A1E-4FA2-A782-0B5D434B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BD1B-A243-4C36-8B15-52B87ECA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B8AE-2AA3-4D28-A618-41923889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E4D9-7CEC-4E0E-87B4-74F2274E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C917-3FA7-4C7C-A5B9-B0A88EC1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528-7E34-4829-9D60-419B10AD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B59B-DE7A-4CBE-B7B9-DE4A9365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B718-A652-450B-9EBE-87C751A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21607-3476-4169-AF0C-8861EA1D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5DAA-EC59-48CF-B9DB-82D0920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F09B-7E7D-45F2-A7E7-1FBB821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8479-F1F2-469C-A230-0C499EF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0D43-A786-4E20-9EFD-1CE0391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42948-0987-46A1-BEAB-823DB77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0FC1-A30A-414C-B35F-53907FA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FF59-E576-4155-91E0-93C85853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533-4EA1-4B01-9A9D-7246B9C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AB4E-3961-462B-A601-2242115A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2844C-99F5-40CA-BA37-102CF75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FCF4-15E3-4760-87C2-31E64228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71350-61E5-41C0-A555-A0F62DE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B80FE-7459-4D09-A24F-23B3754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43C41-973A-4D77-80F1-7CA563E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2BEF-9C6B-4A0A-A9F2-695420B1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B7CD-0DD7-4B96-8A6A-8E2DD50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173F-D87D-46B9-9083-0D6F0C1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F64E-9D0B-4E3B-9C2E-1F7AE0CB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825-B319-4B87-A138-E698CD3A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6038-6E3C-4077-8D10-9963F76F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57316-0595-4388-899E-2DE918B5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C69B3-CB92-45C2-B940-DB84A1C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61C2-5D48-4FCD-AE80-2F06BE6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4886-7AD4-453F-9DDE-4CF1635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236E-59D9-4E0B-887D-932EDA2C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9F72D-3484-424D-9B81-DD9DE38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06C49-1145-4274-BF42-448C471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A46DE-89AB-4CAC-B305-4F8CFE1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2890-AE6B-48B7-9F5C-C25C8F2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911-8BB4-4E0C-954D-8A97DC4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F048-B6BA-43CF-99D4-DDD985C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2C725-3798-45CB-BB5D-98B29FFE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971E-2C44-4B30-8DDE-5F074BE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DCDAE-B265-42B9-BC19-A19EC4BC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0557-EEB6-4513-BDE7-ED9FD0E1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C9994-41E8-4693-8E87-3DD584F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0B657-038C-4092-A931-163BBFC1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048F4-6F4F-41EE-8136-BCEA82D5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D8BBD-DDFF-407B-B915-D94D59E9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FA09-9B67-4A70-8FA8-2420FBC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174-B38B-42F6-B432-50C49BF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333B5-01D9-4468-BC03-0BA5219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AE57-F820-48DF-A6DE-9BF01A4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947D-5DF5-48D3-A275-7FFD5B02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C761-7D15-4737-BE76-0FBBB442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5FCBC-0E8F-4048-998F-82FB133F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4412B-1A6F-4355-9A86-2DB4B122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44350-BDE5-4C01-8D7D-55E70DF8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26A19-360B-493F-A39A-F7B56F40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6F45E-3B48-4CE2-825C-0F22BA20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827A-E65A-4A83-B6CD-2F966D77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055-E1F3-4F7F-900D-AC1E6CB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ED89-9830-4A38-A101-27F49995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444C4-DD59-4D1F-BD72-54E16A1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D523B-044B-4A83-ADBE-3CDF306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03B8-F5DF-46D0-BF92-EE24BB3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DA64-3ECE-4104-8DB2-AA26D6D7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141C-6170-4EBC-90A0-47FACC2B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706B0-E63A-4652-998A-B8922FBB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58046-A72E-4ADA-9D63-15E9B79B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46218-3A0D-4F44-8742-5A84E683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92F53-5178-4776-AD20-3D6583A0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49DC6-2716-416D-AAD3-188A7A1E8AC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A409E-0019-4E9A-85DF-51BF7DC3E2D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873BE-5EB9-47CE-B843-37576500BA5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A7093-69D1-444C-9A91-418377A839F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9C97E-3796-4D16-9881-D4D0F2EE7F5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280D3-8EA2-4D13-A71F-C0EBB854B89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E7F0C-5E18-4776-9DD8-8D16F4E7E03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FD6D2-062A-4738-AAEE-1CCB6ADC581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07CC2-DA4A-49F7-8F6B-9057B8A607C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EE402-FE0B-49E0-BAA0-B189BDBE2A2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518FD-EC66-4129-A2FE-505A34D0286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2C17B-49D2-4351-B970-96554B2EFF48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0FEF2-F43F-416A-BFD3-0F49D96186C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703BA-FF9C-4D7A-8C5F-82C93C2E57C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4" descr="1180049L"/>
          <p:cNvPicPr/>
          <p:nvPr/>
        </p:nvPicPr>
        <p:blipFill>
          <a:blip r:embed="rId1"/>
          <a:stretch/>
        </p:blipFill>
        <p:spPr>
          <a:xfrm>
            <a:off x="395280" y="843120"/>
            <a:ext cx="7929720" cy="50274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771640" y="2707920"/>
            <a:ext cx="4391280" cy="23763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cc"/>
                </a:solidFill>
                <a:latin typeface="Book Antiqua"/>
              </a:rPr>
              <a:t>«БРЕННАЯ ПЕНА МОРСКАЯ…»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Book Antiqua"/>
              </a:rPr>
              <a:t>( ПО ЛИРИКЕ М.ЦВЕТАЕВОЙ)</a:t>
            </a:r>
            <a:br>
              <a:rPr sz="3200"/>
            </a:br>
            <a:r>
              <a:rPr b="1" i="1" lang="ru-RU" sz="2500" spc="-1" strike="noStrike">
                <a:solidFill>
                  <a:srgbClr val="0066ff"/>
                </a:solidFill>
                <a:latin typeface="Book Antiqua"/>
              </a:rPr>
              <a:t>.</a:t>
            </a: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УЧИТЕЛЬ РУССКОГО ЯЗЫКА И ЛИТЕРАТУРЫ –А. С. АБЛАЕВ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187280" y="5464080"/>
            <a:ext cx="223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35000" y="576108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755640" y="48546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вящается 115 - летию со дня рождения Марины Цветаевой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1619280" y="244440"/>
            <a:ext cx="5543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 Antiqua"/>
              </a:rPr>
              <a:t>Урок литератур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9" name="CHCENTER.WAV" descr=""/>
          <p:cNvPicPr/>
          <p:nvPr/>
        </p:nvPicPr>
        <p:blipFill>
          <a:blip r:embed="rId2"/>
          <a:stretch/>
        </p:blipFill>
        <p:spPr>
          <a:xfrm>
            <a:off x="4419720" y="3084480"/>
            <a:ext cx="287280" cy="285840"/>
          </a:xfrm>
          <a:prstGeom prst="rect">
            <a:avLst/>
          </a:prstGeom>
          <a:ln w="0">
            <a:noFill/>
          </a:ln>
        </p:spPr>
      </p:pic>
      <p:sp>
        <p:nvSpPr>
          <p:cNvPr id="640" name="Скругленный прямоугольник 10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ill Sans MT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5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«МНЕ КАЖЕТСЯ…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, что вы больны не м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, что я больна не вами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Что никогда тяжелый шар земно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Не уплывет под нашими ногам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, что можно быть смешной-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Распущенной - и не играть словами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И не краснеть удушливой вол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Слегка соприкоснувшись рукавам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 еще, что вы при м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Спокойно обнимаете другую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Не прочите мне в адовом ог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Гореть за то, что я не вас целу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642920" y="1413000"/>
            <a:ext cx="40388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Что имя нежное мое, мой нежный, 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Упоминаете ни днем, ни ночью – всуе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Что никогда в церковной тиши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Не пропоют над нами: аллилуйя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Спасибо вам и сердцем и руко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то, что вы меня – не зная сами!-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Так Любите: за мой ночной пок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редкость встреч закатными часами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наши не – гулянья под лу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солнце, не у нас над головами,-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то, что вы больны – увы! – не м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то, что я больна – увы – не вами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324000" y="5516640"/>
            <a:ext cx="83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тихи Цветаевой мелодичны, задушевны и чарующи, к ним постоянно обращаются композиторы, и тогда они превращаются в удивительные по красоте романс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AutoShape 10"/>
          <p:cNvSpPr/>
          <p:nvPr/>
        </p:nvSpPr>
        <p:spPr>
          <a:xfrm>
            <a:off x="8086680" y="6062760"/>
            <a:ext cx="862200" cy="620640"/>
          </a:xfrm>
          <a:custGeom>
            <a:avLst/>
            <a:gdLst>
              <a:gd name="textAreaLeft" fmla="*/ 39960 w 862200"/>
              <a:gd name="textAreaRight" fmla="*/ 822240 w 862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02" h="21600">
                <a:moveTo>
                  <a:pt x="0" y="0"/>
                </a:moveTo>
                <a:lnTo>
                  <a:pt x="30002" y="0"/>
                </a:lnTo>
                <a:lnTo>
                  <a:pt x="30002" y="21600"/>
                </a:lnTo>
                <a:lnTo>
                  <a:pt x="0" y="21600"/>
                </a:lnTo>
                <a:close/>
              </a:path>
              <a:path fill="lightenLess" w="30002" h="21600">
                <a:moveTo>
                  <a:pt x="0" y="0"/>
                </a:moveTo>
                <a:lnTo>
                  <a:pt x="30002" y="0"/>
                </a:lnTo>
                <a:lnTo>
                  <a:pt x="28602" y="1400"/>
                </a:lnTo>
                <a:lnTo>
                  <a:pt x="1400" y="1400"/>
                </a:lnTo>
                <a:close/>
              </a:path>
              <a:path fill="darken" w="30002" h="21600">
                <a:moveTo>
                  <a:pt x="30002" y="0"/>
                </a:moveTo>
                <a:lnTo>
                  <a:pt x="30002" y="21600"/>
                </a:lnTo>
                <a:lnTo>
                  <a:pt x="28602" y="20200"/>
                </a:lnTo>
                <a:lnTo>
                  <a:pt x="28602" y="1400"/>
                </a:lnTo>
                <a:close/>
              </a:path>
              <a:path fill="darkenLess" w="30002" h="21600">
                <a:moveTo>
                  <a:pt x="30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02" y="20200"/>
                </a:lnTo>
                <a:close/>
              </a:path>
              <a:path fill="lighten" w="30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02" h="21600">
                <a:moveTo>
                  <a:pt x="7995" y="10800"/>
                </a:moveTo>
                <a:lnTo>
                  <a:pt x="22008" y="3794"/>
                </a:lnTo>
                <a:lnTo>
                  <a:pt x="22008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ill Sans MT"/>
              </a:rPr>
              <a:t>КУМИР ЦВЕТАЕВО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Имя твое – птица в руке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Имя твое – льдинка на язык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Одно – единственное движенье губ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Имя твое – пять букв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Мячик, пойманный на лету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Серебряный бубенец во рту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                        </a:t>
            </a: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«Стихи к Блоку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3" name="Picture 7" descr="Цветаева_книг"/>
          <p:cNvPicPr/>
          <p:nvPr/>
        </p:nvPicPr>
        <p:blipFill>
          <a:blip r:embed="rId1"/>
          <a:stretch/>
        </p:blipFill>
        <p:spPr>
          <a:xfrm>
            <a:off x="5076720" y="155736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10"/>
          <p:cNvSpPr/>
          <p:nvPr/>
        </p:nvSpPr>
        <p:spPr>
          <a:xfrm>
            <a:off x="900000" y="5300640"/>
            <a:ext cx="79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1816200" y="5845320"/>
            <a:ext cx="592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1042920" y="5589720"/>
            <a:ext cx="727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1042920" y="522936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аева была знакома со многими поэтами начал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ека, но ее поэтическим кумиром был Александр Блок, свое преклонение она пронесла через всю свою жизнь…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AutoShape 15">
            <a:hlinkClick r:id="" action="ppaction://hlinkshowjump?jump=previousslide"/>
          </p:cNvPr>
          <p:cNvSpPr/>
          <p:nvPr/>
        </p:nvSpPr>
        <p:spPr>
          <a:xfrm>
            <a:off x="8101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ill Sans MT"/>
              </a:rPr>
              <a:t>1913 – 1915 ГОД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39280" y="2852280"/>
            <a:ext cx="748836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454545"/>
                </a:solidFill>
                <a:latin typeface="Gill Sans MT"/>
              </a:rPr>
              <a:t>«Это было время  расцвета Марининой красоты… Ясная зелень ее глаз, затуманенная близоруким взглядом, застенчиво уклоняющимся, имеет в себе что – то колдовское…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454545"/>
                </a:solidFill>
                <a:latin typeface="Gill Sans MT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140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Подарю тебе, дружочек, гребеш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тобы помнили подружек мил –Чтобы помнил не часок, не годок –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дружки –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Есть на свете золотые гребешки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тоб дружочку не пилось без меня-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Гребень, гребень мой, расческа моя!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Нет на свете той расчески чудне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Струны – зубья у расчески моей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уть притронешься – пойдёт трескотн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Про меня одну, да всё про мен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тоб дружочку не спалось без меня-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Гребень, гребень мой, расчёска мо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2" name="Picture 7" descr="Цветаева_дочь"/>
          <p:cNvPicPr/>
          <p:nvPr/>
        </p:nvPicPr>
        <p:blipFill>
          <a:blip r:embed="rId1"/>
          <a:stretch/>
        </p:blipFill>
        <p:spPr>
          <a:xfrm>
            <a:off x="971640" y="1125360"/>
            <a:ext cx="2570040" cy="3071880"/>
          </a:xfrm>
          <a:prstGeom prst="rect">
            <a:avLst/>
          </a:prstGeom>
          <a:ln w="0">
            <a:noFill/>
          </a:ln>
        </p:spPr>
      </p:pic>
      <p:sp>
        <p:nvSpPr>
          <p:cNvPr id="713" name="AutoShape 8">
            <a:hlinkClick r:id="" action="ppaction://hlinkshowjump?jump=previousslide"/>
          </p:cNvPr>
          <p:cNvSpPr/>
          <p:nvPr/>
        </p:nvSpPr>
        <p:spPr>
          <a:xfrm>
            <a:off x="849636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Gill Sans MT"/>
              </a:rPr>
              <a:t>ТОСКА ПО РОДИНЕ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Русской ржи от меня поклон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Ниве, где баба застится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Друг! Дожди за моим окном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Беды и блажи на сердце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Ты, в погудке дождей и бед –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То ж, что Гомер в гекзаметр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Дай мне руку – на весь тот свет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Здесь – мои обе заняты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 1922 году Марина Цветаева вместе с дочерью уезжает за границу к мужу, Сергею Эфрону, оказавшемуся в рядах белой эмиграции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6" name="Picture 5" descr="Цветаева_2"/>
          <p:cNvPicPr/>
          <p:nvPr/>
        </p:nvPicPr>
        <p:blipFill>
          <a:blip r:embed="rId1"/>
          <a:stretch/>
        </p:blipFill>
        <p:spPr>
          <a:xfrm>
            <a:off x="5329080" y="1601640"/>
            <a:ext cx="2676600" cy="452448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7">
            <a:hlinkClick r:id="" action="ppaction://hlinkshowjump?jump=previousslide"/>
          </p:cNvPr>
          <p:cNvSpPr/>
          <p:nvPr/>
        </p:nvSpPr>
        <p:spPr>
          <a:xfrm>
            <a:off x="817236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ill Sans MT"/>
              </a:rPr>
              <a:t>ВОЗВРАЩЕНИЕ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11280" y="5300640"/>
            <a:ext cx="7632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В 1939 году Марина Цветаева вернулась, наконец, на родную землю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Однако надежды, связанные с возвращением, не оправдались…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4" descr="Цветаева_1"/>
          <p:cNvPicPr/>
          <p:nvPr/>
        </p:nvPicPr>
        <p:blipFill>
          <a:blip r:embed="rId1"/>
          <a:stretch/>
        </p:blipFill>
        <p:spPr>
          <a:xfrm>
            <a:off x="2771640" y="1413000"/>
            <a:ext cx="3529080" cy="367164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6">
            <a:hlinkClick r:id="" action="ppaction://hlinkshowjump?jump=previousslide"/>
          </p:cNvPr>
          <p:cNvSpPr/>
          <p:nvPr/>
        </p:nvSpPr>
        <p:spPr>
          <a:xfrm>
            <a:off x="817236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чащиеся разделены на три группы: задание к уроку получены заране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1 группа учащихся – ведущие готовят к уроку сообщения о жизни М.Цветаевой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2 группа учащихся – Чтецы (учат к уроку наизусть стихи М. Цветаевой, готовят краткий анализ лирических произведений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3 группа учащихся – «музыканты» (готовят музыкальное сопровождение урока, разучивают песни на стихи М. Цветаевой для исполнения на уроке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46836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од уро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ill Sans MT"/>
              </a:rPr>
              <a:t>Звучит вальс Е. Доги из кинофильма «Мой ласковый и нежный зверь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Чтец1:Моим стихам, написанным так рано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Что и не знала я, что я – поэт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Сорвавшимся, как брызги из фонтана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Как искры из ракет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орвавшимся, как маленькие черти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 святилище, где сон и фимиам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моим стихам о юности и смерт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-Нечитанным стихам! –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Разбросанным в пыли по магазина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(Где их никто не брал и не берет)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Моим стихам, как драгоценным винам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Настанет свой черед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едущий 1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Автору стихов Марине Цветаевой – двадцать лет, но она уже поэт, поэт яркий и самобытный, уверенный в своем дальнейшем поэтическом успехе.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Чтец 2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расною кистью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Рябина зажглась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Падали листья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Я родилась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Спорили сотн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олоколов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День был субботни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оанн Богосло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Мне и доныне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Хочется грызть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Жаркой рябины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Горькую кисть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«Красною кистью»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427640" y="260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Вед2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( Рассказывает о родителях поэтессы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Вед 3:(Из воспоминаний М. Цветаевой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«Когда вместо желанного, предрешенного, почти приказанного сына Александра родилась всего только я, мать сказала: «По крайней мере, будет музыкантша». Когда же первым, явно бессмысленным… словом оказалось «гамма», мать только подтвердила: «Я так и знала», - и тут же принялась учить меня музыке… Могу сказать, что я родилась не в жизнь, а в музыку»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23640" y="0"/>
            <a:ext cx="777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ец 3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Кто создан из камня, кто создан из глины, 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А я серебрюсь и сверкаю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Мне дело – измена, мне имя – Марина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Я – бренная пена морская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Кто создан из глины, кто создан из плоти –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ем гроб и надгробные плиты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-В купели морской крещена – и в полёт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Своем – непрестанно разбита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Сквозь каждое слово, сквозь каждые сет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робьется мое своеволь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Меня – видишь кудри беспутные эти?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Земною не сделаешь солью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Дробясь о гранитные ваши колена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Я с каждой волной – воскресаю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Да здравствует пена – весёлая пена –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Высокая пена морская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Вед 4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После смерти матери интерес к музыке У Марины Цветаевой постепенно угасает, но появляется новое увлечение – книги и стих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Юная Цветаева пишет стихи как на русском языке, так и на немецком и французском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Ни у кого ничего не заимствовать, не подражать, не подвергаться влияниям, «Быть самой собой» - такою Цветаева вышла из детства и такою осталась навсегд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Вед 1: Искренние,  непосредственные и чистые стихи восемнадцатилетней Цветаевой из сборника «вечерний альбом»(1910г.) понравились взыскательным Валерию Брюсову и Максимилиану Волошину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Цветаева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11280" y="1268280"/>
            <a:ext cx="25351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2" name="Rectangle 5"/>
          <p:cNvSpPr/>
          <p:nvPr/>
        </p:nvSpPr>
        <p:spPr>
          <a:xfrm>
            <a:off x="3492360" y="1700280"/>
            <a:ext cx="504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Красною кистью </a:t>
            </a: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Рябина зажглась.</a:t>
            </a: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Падали листья,</a:t>
            </a: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Я родилась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3" name="Picture 6" descr="Рябина"/>
          <p:cNvPicPr/>
          <p:nvPr/>
        </p:nvPicPr>
        <p:blipFill>
          <a:blip r:embed="rId2"/>
          <a:srcRect l="13040" t="18501" r="11197" b="6690"/>
          <a:stretch/>
        </p:blipFill>
        <p:spPr>
          <a:xfrm>
            <a:off x="6515280" y="5084640"/>
            <a:ext cx="2217600" cy="1368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7"/>
          <p:cNvSpPr/>
          <p:nvPr/>
        </p:nvSpPr>
        <p:spPr>
          <a:xfrm>
            <a:off x="268560" y="4653000"/>
            <a:ext cx="33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92 - 194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ец 4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усть я лишь стих в твоем альбоме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Едва поющий, как родник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(Ты стал мне лучшею из книг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А их не мало в старом доме!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усть я лишь стебель, в светлый миг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обой, желающим, не смятый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(Ты для меня цветник богатый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Благоухающий цветник!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усть так. но вот полуистом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ы над страничкою поник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ы вспомнишь всё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ы сдержишь крик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-Пусть я лишь стих в твоем альбоме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«Надпись в альбом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240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ill Sans MT"/>
              </a:rPr>
              <a:t>Вед. 5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Какой была Марина Цветаева?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Небольшого роста со строгой и стройной осанкой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Золотисто – каштановые волосы, бледное лицо, глаза… зеленые, цвета винограда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Привычные к степям глаза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Привычные к слёзам глаза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Зеленые – солёные –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Крестьянские глаза.            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« Глаза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Черты лица и его контуры были очень точными и четкими. Ее голос был высоким, звонким и гибким. Стихи читала охотно, по первой просьбе, или предлагала сама: «Хотите я вам прочту стихи?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Милый читатель! Смеясь, как ребёнок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есело встреть мой «Волшебный фонарь»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скренний смех твой, да будет он звонок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 безотчетен, как встарь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д 6:Как поэт и личность марина Цветаева развивалась стремительно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За «Вечерним альбомом» последовали ещё два сборника стихов: «Волшебный фонарь»(1912г.) и «Из двух книг» (1913г.), созданные при содействии Сергея Эфрон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Чтец 5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Я с вызовом ношу его кольцо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-Да, в Вечности – жена, не на бумаге!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Чрезмерно узкое его лицо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добно шпаг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Безмолвен рот его, углами вниз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Мучительно-великолепны бров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его лице трагически слились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ве древних кров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Он тонок первой тонкостью ветве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Его глаза – прекрасно – бесполезны!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д крыльями раскинутых бровей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ве бездны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его лице я рыцарству верна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-всем вам, кто жил и умирал без страху!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акие в роковые имена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Слагают стансы и идут на плаху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68360" y="2602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ff3300"/>
                </a:solidFill>
                <a:latin typeface="Book Antiqua"/>
              </a:rPr>
              <a:t>Вед 2: В стихах Цветаевой «ощущается стремление к сжатой, краткой и выразительной манере, где всё ясно, точно и стремительно в ритме», но вместе с тем глубоко лирично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ы, идущие мимо меня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К не моим и сомнительным чарам,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Если б знали вы, сколько огня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Сколько жизни, растраченной даром,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И какой героический пы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На случайную тень и на шорох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И как сердце мне испепели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Этот даром истраченный порох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О, летящие в ночь поезда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Уносящие сон на вокзале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прочем, знаю я, что и тогда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Не узнали бы вы – если б знали, 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Почему мои речи резк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 вечном дыме моей папиросы,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Сколько темной и грозной тоски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 голове моей светловолосой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   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«Вы, идущие мимо меня…»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549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ед 3: Сжатостью мысли и энергией чувства отмечены многие стихи Марины Цветаево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Среди них стихотворение «Бабушке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Сестра Анастасия вспоминает:»В комнате матери висел портрет бабушки, красавицы-польки Марии Лукиничны Бернацкой, умершей очень рано - в двадцать семь лет. Увеличенная фотография – темноокое, с тяжелыми веками, печальное лицо с точно кистью проведенными бровями, правильными, милыми чертами, добрым, горечью тронутым ртом…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Чтец 6: вот как об этом говорит Марина Цветаев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Бабушк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родолговатый твёрдый овал,                                                      Черного платья раструбы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Юная бабушка! - Кто целовал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аши надменные губы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Руки, которые в залах дворца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альсы Шопена играли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 сторонам ледяного лица 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Локоны в виде спирал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емный, прямой и взыскательный взгляд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згляд, к обороне готовы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Юные женщины так не глядят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Юная бабушка, кто вы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Сколько возможностей вы унесли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И невозможностей – сколько? 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ненасытную прорву земли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вадцатилетняя полька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ень был невинен, и ветер был свеж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емные звёзды погасл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-Бабушка! - Этот жестокий мятеж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сердце моём – не от вас ли?.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д. 4: Стихи Цветаевой мелодичны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д. 5: Стремительно и властно в жизнь Марины Цветаевой вошел Пушкин и стал постоянной духовной опорой этой гордой, тонкой и мятежной души. Пушкинскую «Капитанскую дочку» Цветаева перечитывала много раз, а стихотворение «К морю» стало её любимым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ликому русскому поэту Пушкину Цветаева посвятила цикл стихотворений «Стихи к Пушкину»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Чтец 7: Нет, бил барабан перед смутным полком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Когда мы вождя хоронили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о зубы царёвы над мёртвым певцом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чётную дробь выводил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акой уж почёт, что ближайшим друзьям 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Нет места. В изглавьи, в изножьи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И справа, и слева – ручищи по швам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Жандармские груди и рож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Кого ж это так – точно воры вора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ристреленного – выносили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Изменника? Нет. С проходного двора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Умнейшего мужа Росси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« Поэт и царь»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Вед 6: ( Рассказывает о друзьях – поэтах начала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 в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Чтец 1: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тица в руке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льдинка на язык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Одно – единственное движенье губ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ять бук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Мячик, пойманный на лету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Серебряный бубенец во рту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амень, кинутый в тихий пруд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Всхлипнет так, как тебя зовут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В лёгком щёлканье ночных копыт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Громкое имя твоё гремит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 назовет его нам в висок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Звонко щёлкающий кур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ах, нельзя!</a:t>
            </a:r>
            <a:r>
              <a:rPr b="1" i="1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оцелуй в глаза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В нежную стужу недвижных  ве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оцелуй в снег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лючевой, ледяной, голубой глот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С именем твоим – сон глуб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            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«Стихи к Блоку»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6836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ед.1:(Рассказывает  о детях поэтессы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Исполняется или прослушивается в записи песня «Гребешок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ед.2 : В 1922 году Цветаева вместе дочерью уезжает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Эмиграция встречает её как единомышленницу. Но затем всё изменилось. Эмигрантские журналы постепенно перестали печатать её стихи. «… Мой читатель остаётся в России, куда мои стихи… не доходят…» ( Из воспоминаний Цветаевой.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округ Цветаевой всё теснее смыкалась глухая стена одиночества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 не спасут ни стансы, ни созвездья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А это называется – возмездь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За то, что каждый раз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Стан разгибая над строкой упорной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скала я над лбом своим просторны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Звёзд только, а не глаз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«И не спасут ни стансы…»+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аходясь 17 лет в эмиграции, Цветаева постоянно думала о Родине. В 1934 году она написала удивительное стихотворение «Тоска по Родине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Тоска по родине! Давн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Разоблаченная морока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Мне совершенно всё равно –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Где совершенно одиноко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Быть, по каким камням домо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Брести с кошелкою базарно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дом, и не знающий, что – мой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Как госпиталь или казарма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Чтец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 стихи, обращенном к Борису Пастернаку, звучат ноты непередаваемой грусти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Русской ржи от меня поклон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ill Sans MT"/>
              </a:rPr>
              <a:t>ЦЕЛЬ УРОКА</a:t>
            </a:r>
            <a:r>
              <a:rPr b="0" lang="ru-RU" sz="4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95280" y="148392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ill Sans MT"/>
              </a:rPr>
              <a:t>познакомиться с </a:t>
            </a:r>
            <a:r>
              <a:rPr b="1" i="1" lang="ru-RU" sz="4000" spc="-1" strike="noStrike">
                <a:solidFill>
                  <a:srgbClr val="0000cc"/>
                </a:solidFill>
                <a:latin typeface="Gill Sans MT"/>
              </a:rPr>
              <a:t>творчеством Марины Цветаевой и с особенностью поэтической манеры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AutoShape 4">
            <a:hlinkClick r:id="rId1" action="ppaction://hlinksldjump"/>
          </p:cNvPr>
          <p:cNvSpPr/>
          <p:nvPr/>
        </p:nvSpPr>
        <p:spPr>
          <a:xfrm>
            <a:off x="7451640" y="5516640"/>
            <a:ext cx="1224000" cy="64908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0722" h="21600">
                <a:moveTo>
                  <a:pt x="0" y="0"/>
                </a:moveTo>
                <a:lnTo>
                  <a:pt x="40722" y="0"/>
                </a:lnTo>
                <a:lnTo>
                  <a:pt x="40722" y="21600"/>
                </a:lnTo>
                <a:lnTo>
                  <a:pt x="0" y="21600"/>
                </a:lnTo>
                <a:close/>
              </a:path>
              <a:path fill="lightenLess" w="40722" h="21600">
                <a:moveTo>
                  <a:pt x="0" y="0"/>
                </a:moveTo>
                <a:lnTo>
                  <a:pt x="40722" y="0"/>
                </a:lnTo>
                <a:lnTo>
                  <a:pt x="39322" y="1400"/>
                </a:lnTo>
                <a:lnTo>
                  <a:pt x="1400" y="1400"/>
                </a:lnTo>
                <a:close/>
              </a:path>
              <a:path fill="darken" w="40722" h="21600">
                <a:moveTo>
                  <a:pt x="40722" y="0"/>
                </a:moveTo>
                <a:lnTo>
                  <a:pt x="40722" y="21600"/>
                </a:lnTo>
                <a:lnTo>
                  <a:pt x="39322" y="20200"/>
                </a:lnTo>
                <a:lnTo>
                  <a:pt x="39322" y="1400"/>
                </a:lnTo>
                <a:close/>
              </a:path>
              <a:path fill="darkenLess" w="40722" h="21600">
                <a:moveTo>
                  <a:pt x="40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22" y="20200"/>
                </a:lnTo>
                <a:close/>
              </a:path>
              <a:path fill="lighten" w="40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22" h="21600">
                <a:moveTo>
                  <a:pt x="13354" y="3794"/>
                </a:moveTo>
                <a:lnTo>
                  <a:pt x="27367" y="10800"/>
                </a:lnTo>
                <a:lnTo>
                  <a:pt x="13354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7451640" y="63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ед.4: Тяжёлые удары судьбы… Начало войны… Постоянная тревога за жизнь близких. Высылка в Елабугу. Под гнётом личных несчастий, в одиночестве, в состоянии депрессии, она покончила с собой 31 августа 1941 год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(В исполнении А.Пугачёвой звучит « Уж сколько их упало в эту бездну…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арина Ивановна Цветаева – поэт «предельной правды чувства».Она со всей своей «не просто сложившейся судьбой, со всей яркостью и неповторимостью самобытного дарования по праву вошла в русскую поэзию…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AutoShape 4"/>
          <p:cNvSpPr/>
          <p:nvPr/>
        </p:nvSpPr>
        <p:spPr>
          <a:xfrm>
            <a:off x="7885080" y="5950080"/>
            <a:ext cx="790560" cy="57456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15" h="21600">
                <a:moveTo>
                  <a:pt x="0" y="0"/>
                </a:moveTo>
                <a:lnTo>
                  <a:pt x="29715" y="0"/>
                </a:lnTo>
                <a:lnTo>
                  <a:pt x="29715" y="21600"/>
                </a:lnTo>
                <a:lnTo>
                  <a:pt x="0" y="21600"/>
                </a:lnTo>
                <a:close/>
              </a:path>
              <a:path fill="lightenLess" w="29715" h="21600">
                <a:moveTo>
                  <a:pt x="0" y="0"/>
                </a:moveTo>
                <a:lnTo>
                  <a:pt x="29715" y="0"/>
                </a:lnTo>
                <a:lnTo>
                  <a:pt x="28315" y="1400"/>
                </a:lnTo>
                <a:lnTo>
                  <a:pt x="1400" y="1400"/>
                </a:lnTo>
                <a:close/>
              </a:path>
              <a:path fill="darken" w="29715" h="21600">
                <a:moveTo>
                  <a:pt x="29715" y="0"/>
                </a:moveTo>
                <a:lnTo>
                  <a:pt x="29715" y="21600"/>
                </a:lnTo>
                <a:lnTo>
                  <a:pt x="28315" y="20200"/>
                </a:lnTo>
                <a:lnTo>
                  <a:pt x="28315" y="1400"/>
                </a:lnTo>
                <a:close/>
              </a:path>
              <a:path fill="darkenLess" w="29715" h="21600">
                <a:moveTo>
                  <a:pt x="29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5" y="20200"/>
                </a:lnTo>
                <a:close/>
              </a:path>
              <a:path fill="lighten" w="29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5" h="21600">
                <a:moveTo>
                  <a:pt x="7851" y="10800"/>
                </a:moveTo>
                <a:lnTo>
                  <a:pt x="21864" y="3794"/>
                </a:lnTo>
                <a:lnTo>
                  <a:pt x="21864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Методические рекомендации по литературе. 9-11 классы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А.А. Саакьянц. Марина Цветаева. Автобиографическая проз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Журнал «Литература в школе» №5 2001 год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66" descr="1180049L"/>
          <p:cNvPicPr/>
          <p:nvPr/>
        </p:nvPicPr>
        <p:blipFill>
          <a:blip r:embed="rId1"/>
          <a:stretch/>
        </p:blipFill>
        <p:spPr>
          <a:xfrm>
            <a:off x="736560" y="666720"/>
            <a:ext cx="7670880" cy="506736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65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651" name="Music"/>
            <p:cNvSpPr/>
            <p:nvPr/>
          </p:nvSpPr>
          <p:spPr>
            <a:xfrm>
              <a:off x="0" y="4903920"/>
              <a:ext cx="1809720" cy="195372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ождение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652" name="Group 63"/>
            <p:cNvGrpSpPr/>
            <p:nvPr/>
          </p:nvGrpSpPr>
          <p:grpSpPr>
            <a:xfrm>
              <a:off x="1042920" y="0"/>
              <a:ext cx="8101080" cy="6057720"/>
              <a:chOff x="1042920" y="0"/>
              <a:chExt cx="8101080" cy="6057720"/>
            </a:xfrm>
          </p:grpSpPr>
          <p:sp>
            <p:nvSpPr>
              <p:cNvPr id="653" name="Music"/>
              <p:cNvSpPr/>
              <p:nvPr/>
            </p:nvSpPr>
            <p:spPr>
              <a:xfrm>
                <a:off x="1042920" y="399060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Сборник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4" name="Music"/>
              <p:cNvSpPr/>
              <p:nvPr/>
            </p:nvSpPr>
            <p:spPr>
              <a:xfrm>
                <a:off x="3132000" y="250668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Ее песн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5" name="Music"/>
              <p:cNvSpPr/>
              <p:nvPr/>
            </p:nvSpPr>
            <p:spPr>
              <a:xfrm>
                <a:off x="2124000" y="3306240"/>
                <a:ext cx="1809720" cy="218268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Любовь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6" name="Music"/>
              <p:cNvSpPr/>
              <p:nvPr/>
            </p:nvSpPr>
            <p:spPr>
              <a:xfrm>
                <a:off x="6948360" y="0"/>
                <a:ext cx="219564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озвращение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7" name="Music"/>
              <p:cNvSpPr/>
              <p:nvPr/>
            </p:nvSpPr>
            <p:spPr>
              <a:xfrm>
                <a:off x="6300720" y="567720"/>
                <a:ext cx="1809720" cy="22986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Эмиграция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8" name="Music"/>
              <p:cNvSpPr/>
              <p:nvPr/>
            </p:nvSpPr>
            <p:spPr>
              <a:xfrm>
                <a:off x="5292720" y="1252080"/>
                <a:ext cx="180972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т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9" name="Music"/>
              <p:cNvSpPr/>
              <p:nvPr/>
            </p:nvSpPr>
            <p:spPr>
              <a:xfrm>
                <a:off x="4211640" y="1938600"/>
                <a:ext cx="1809720" cy="20664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умир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660" name="Group 68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661" name="Music"/>
            <p:cNvSpPr/>
            <p:nvPr/>
          </p:nvSpPr>
          <p:spPr>
            <a:xfrm>
              <a:off x="0" y="4903920"/>
              <a:ext cx="1809720" cy="195372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 u="sng">
                  <a:solidFill>
                    <a:srgbClr val="fa2b5c"/>
                  </a:solidFill>
                  <a:uFillTx/>
                  <a:latin typeface="Arial"/>
                  <a:hlinkClick r:id="rId2" action="ppaction://hlinksldjump"/>
                </a:rPr>
                <a:t>Рождение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662" name="Group 70"/>
            <p:cNvGrpSpPr/>
            <p:nvPr/>
          </p:nvGrpSpPr>
          <p:grpSpPr>
            <a:xfrm>
              <a:off x="1042920" y="0"/>
              <a:ext cx="8101080" cy="6057720"/>
              <a:chOff x="1042920" y="0"/>
              <a:chExt cx="8101080" cy="6057720"/>
            </a:xfrm>
          </p:grpSpPr>
          <p:sp>
            <p:nvSpPr>
              <p:cNvPr id="663" name="Music"/>
              <p:cNvSpPr/>
              <p:nvPr/>
            </p:nvSpPr>
            <p:spPr>
              <a:xfrm>
                <a:off x="1042920" y="399060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 u="sng">
                    <a:solidFill>
                      <a:srgbClr val="fa2b5c"/>
                    </a:solidFill>
                    <a:uFillTx/>
                    <a:latin typeface="Arial"/>
                    <a:hlinkClick r:id="rId3" action="ppaction://hlinksldjump"/>
                  </a:rPr>
                  <a:t>Сборник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4" name="Music">
                <a:hlinkClick r:id="rId4" action="ppaction://hlinksldjump"/>
              </p:cNvPr>
              <p:cNvSpPr/>
              <p:nvPr/>
            </p:nvSpPr>
            <p:spPr>
              <a:xfrm>
                <a:off x="3132000" y="250668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 u="sng">
                    <a:solidFill>
                      <a:srgbClr val="fa2b5c"/>
                    </a:solidFill>
                    <a:uFillTx/>
                    <a:latin typeface="Arial"/>
                    <a:hlinkClick r:id="rId5" action="ppaction://hlinksldjump"/>
                  </a:rPr>
                  <a:t>Ее песн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5" name="Music"/>
              <p:cNvSpPr/>
              <p:nvPr/>
            </p:nvSpPr>
            <p:spPr>
              <a:xfrm>
                <a:off x="2124000" y="3306240"/>
                <a:ext cx="1809720" cy="218268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 u="sng">
                    <a:solidFill>
                      <a:srgbClr val="fa2b5c"/>
                    </a:solidFill>
                    <a:uFillTx/>
                    <a:latin typeface="Arial"/>
                    <a:hlinkClick r:id="rId6" action="ppaction://hlinksldjump"/>
                  </a:rPr>
                  <a:t>Любовь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6" name="Music"/>
              <p:cNvSpPr/>
              <p:nvPr/>
            </p:nvSpPr>
            <p:spPr>
              <a:xfrm>
                <a:off x="6948360" y="0"/>
                <a:ext cx="219564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озвращение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7" name="Music"/>
              <p:cNvSpPr/>
              <p:nvPr/>
            </p:nvSpPr>
            <p:spPr>
              <a:xfrm>
                <a:off x="6300720" y="567720"/>
                <a:ext cx="1809720" cy="22986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Эмиграция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8" name="Music"/>
              <p:cNvSpPr/>
              <p:nvPr/>
            </p:nvSpPr>
            <p:spPr>
              <a:xfrm>
                <a:off x="5292720" y="1252080"/>
                <a:ext cx="180972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т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9" name="Music"/>
              <p:cNvSpPr/>
              <p:nvPr/>
            </p:nvSpPr>
            <p:spPr>
              <a:xfrm>
                <a:off x="4211640" y="1938600"/>
                <a:ext cx="1809720" cy="20664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умир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670" name="AutoShape 78">
            <a:hlinkClick r:id="" action="ppaction://hlinkshowjump?jump=lastslide"/>
          </p:cNvPr>
          <p:cNvSpPr/>
          <p:nvPr/>
        </p:nvSpPr>
        <p:spPr>
          <a:xfrm>
            <a:off x="8244000" y="5950080"/>
            <a:ext cx="576000" cy="5745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1" y="17806"/>
                </a:lnTo>
                <a:lnTo>
                  <a:pt x="3821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4" y="17806"/>
                </a:lnTo>
                <a:lnTo>
                  <a:pt x="17834" y="3794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2" name="Picture 7" descr="Цветаева_Марина"/>
          <p:cNvPicPr/>
          <p:nvPr/>
        </p:nvPicPr>
        <p:blipFill>
          <a:blip r:embed="rId1"/>
          <a:stretch/>
        </p:blipFill>
        <p:spPr>
          <a:xfrm>
            <a:off x="395280" y="2421000"/>
            <a:ext cx="2670120" cy="381636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2197080" y="2708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9000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Кто создан из камня, кто создан из глины,-</a:t>
            </a:r>
            <a:br>
              <a:rPr sz="2400"/>
            </a:b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А я серебрюсь и сверкаю!</a:t>
            </a:r>
            <a:br>
              <a:rPr sz="2400"/>
            </a:b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Мне дело – измена, мне имя Марина,</a:t>
            </a:r>
            <a:br>
              <a:rPr sz="2400"/>
            </a:b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Я- бренная пена морска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3276720" y="2637000"/>
            <a:ext cx="614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Марина Ивановна Цветаева родилась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 Москве 26 сентября 1892 года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 субботы на воскресень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на Иоанна Богослова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 уютном особняке одног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из старинных московских переулков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ill Sans MT"/>
              </a:rPr>
              <a:t>РОДИТЕЛИ ПОЭТЕСС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419280" y="1557360"/>
            <a:ext cx="54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Gill Sans MT"/>
              </a:rPr>
              <a:t>Профессор Московского университета, искусствовед, филолог, директор Румянцевского музея и основатель Музея изящных искусств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ill Sans MT"/>
              </a:rPr>
              <a:t>«Талантливая пианистка, она открыла глаза детям на вечное чудо-природу, одарила их  многими радостями детства, дала им в руки лучшие в мире книги.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ill Sans MT"/>
              </a:rPr>
              <a:t>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Gill Sans MT"/>
              </a:rPr>
              <a:t>Ариадна Эфрон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8" name="Picture 4" descr="Цветаева_род 001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116000" y="126828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Цветаева_род"/>
          <p:cNvPicPr/>
          <p:nvPr/>
        </p:nvPicPr>
        <p:blipFill>
          <a:blip r:embed="rId2"/>
          <a:stretch/>
        </p:blipFill>
        <p:spPr>
          <a:xfrm>
            <a:off x="900000" y="4076640"/>
            <a:ext cx="2448000" cy="230364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10"/>
          <p:cNvSpPr/>
          <p:nvPr/>
        </p:nvSpPr>
        <p:spPr>
          <a:xfrm>
            <a:off x="781200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7493"/>
                </a:moveTo>
                <a:lnTo>
                  <a:pt x="13500" y="7493"/>
                </a:lnTo>
                <a:lnTo>
                  <a:pt x="13500" y="12828"/>
                </a:lnTo>
                <a:cubicBezTo>
                  <a:pt x="13500" y="13751"/>
                  <a:pt x="14301" y="14482"/>
                  <a:pt x="15337" y="14482"/>
                </a:cubicBezTo>
                <a:lnTo>
                  <a:pt x="16999" y="14482"/>
                </a:lnTo>
                <a:cubicBezTo>
                  <a:pt x="18035" y="14482"/>
                  <a:pt x="18835" y="13751"/>
                  <a:pt x="18835" y="12828"/>
                </a:cubicBezTo>
                <a:lnTo>
                  <a:pt x="18835" y="7493"/>
                </a:lnTo>
                <a:lnTo>
                  <a:pt x="16999" y="7493"/>
                </a:lnTo>
                <a:lnTo>
                  <a:pt x="20507" y="3985"/>
                </a:lnTo>
                <a:lnTo>
                  <a:pt x="24180" y="7493"/>
                </a:lnTo>
                <a:lnTo>
                  <a:pt x="22343" y="7493"/>
                </a:lnTo>
                <a:lnTo>
                  <a:pt x="22343" y="12828"/>
                </a:lnTo>
                <a:cubicBezTo>
                  <a:pt x="22343" y="15596"/>
                  <a:pt x="19767" y="18155"/>
                  <a:pt x="16999" y="18155"/>
                </a:cubicBezTo>
                <a:lnTo>
                  <a:pt x="15337" y="18155"/>
                </a:lnTo>
                <a:cubicBezTo>
                  <a:pt x="12569" y="18155"/>
                  <a:pt x="9993" y="15596"/>
                  <a:pt x="9993" y="12828"/>
                </a:cubicBez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Пусть я лишь стих в твоем альбоме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Едва поющий, как родник;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(ты стал мне лучшею из книг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А их не мало в старом доме!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                          </a:t>
            </a: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«Надпись в альбом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Искренние, непосредственные и чистые стихи восемнадцатилетней Марины Цветаевой из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Ее первого сборника «Вечерний альбом» (1910г.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Понравились Максимилиану Волошину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который стал другом на всю жизнь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cc3399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2" name="Picture 9" descr="Цветаева_кн"/>
          <p:cNvPicPr/>
          <p:nvPr/>
        </p:nvPicPr>
        <p:blipFill>
          <a:blip r:embed="rId1"/>
          <a:stretch/>
        </p:blipFill>
        <p:spPr>
          <a:xfrm>
            <a:off x="7164360" y="1125360"/>
            <a:ext cx="1584360" cy="21862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2" descr="Волошин"/>
          <p:cNvPicPr/>
          <p:nvPr/>
        </p:nvPicPr>
        <p:blipFill>
          <a:blip r:embed="rId2"/>
          <a:stretch/>
        </p:blipFill>
        <p:spPr>
          <a:xfrm>
            <a:off x="395280" y="4221000"/>
            <a:ext cx="1728720" cy="21164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4"/>
          <p:cNvSpPr/>
          <p:nvPr/>
        </p:nvSpPr>
        <p:spPr>
          <a:xfrm>
            <a:off x="75564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97964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AutoShape 15">
            <a:hlinkClick r:id="" action="ppaction://hlinkshowjump?jump=previousslide"/>
          </p:cNvPr>
          <p:cNvSpPr/>
          <p:nvPr/>
        </p:nvSpPr>
        <p:spPr>
          <a:xfrm>
            <a:off x="7524720" y="6021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49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49" y="20200"/>
                </a:lnTo>
                <a:lnTo>
                  <a:pt x="39049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9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9" h="21600">
                <a:moveTo>
                  <a:pt x="13218" y="10800"/>
                </a:moveTo>
                <a:lnTo>
                  <a:pt x="27231" y="3794"/>
                </a:lnTo>
                <a:lnTo>
                  <a:pt x="2723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AutoShape 16">
            <a:hlinkClick r:id="" action="ppaction://hlinkshowjump?jump=previousslide"/>
          </p:cNvPr>
          <p:cNvSpPr/>
          <p:nvPr/>
        </p:nvSpPr>
        <p:spPr>
          <a:xfrm>
            <a:off x="8172360" y="6524640"/>
            <a:ext cx="71640" cy="730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032">
                <a:moveTo>
                  <a:pt x="0" y="0"/>
                </a:moveTo>
                <a:lnTo>
                  <a:pt x="21600" y="0"/>
                </a:lnTo>
                <a:lnTo>
                  <a:pt x="21600" y="22032"/>
                </a:lnTo>
                <a:lnTo>
                  <a:pt x="0" y="22032"/>
                </a:lnTo>
                <a:close/>
              </a:path>
              <a:path fill="lightenLess" w="21600" h="22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32">
                <a:moveTo>
                  <a:pt x="21600" y="0"/>
                </a:moveTo>
                <a:lnTo>
                  <a:pt x="21600" y="22032"/>
                </a:lnTo>
                <a:lnTo>
                  <a:pt x="20200" y="20632"/>
                </a:lnTo>
                <a:lnTo>
                  <a:pt x="20200" y="1400"/>
                </a:lnTo>
                <a:close/>
              </a:path>
              <a:path fill="darkenLess" w="21600" h="22032">
                <a:moveTo>
                  <a:pt x="21600" y="22032"/>
                </a:moveTo>
                <a:lnTo>
                  <a:pt x="0" y="22032"/>
                </a:lnTo>
                <a:lnTo>
                  <a:pt x="1400" y="20632"/>
                </a:lnTo>
                <a:lnTo>
                  <a:pt x="20200" y="20632"/>
                </a:lnTo>
                <a:close/>
              </a:path>
              <a:path fill="lighten" w="21600" h="22032">
                <a:moveTo>
                  <a:pt x="0" y="22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32"/>
                </a:lnTo>
                <a:close/>
              </a:path>
              <a:path fill="darken" w="21600" h="22032">
                <a:moveTo>
                  <a:pt x="3794" y="11016"/>
                </a:moveTo>
                <a:lnTo>
                  <a:pt x="17806" y="4010"/>
                </a:lnTo>
                <a:lnTo>
                  <a:pt x="17806" y="18022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Gill Sans MT"/>
              </a:rPr>
              <a:t>МАРИНА ЦВЕТАЕВА И СЕРГЕЙ ЭФРОН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51280" y="1626840"/>
            <a:ext cx="4114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Gill Sans MT"/>
              </a:rPr>
              <a:t>Они встретились 5 мая 1911 г. на пустынном коктебельском берегу. «Заглянув в его глаза и все прочтя наперед, Марина загадала: если он найдет и подарит ей сердолик, то выйдет за него замуж. Конечно же, сердолик этот он нашел тотчас же, на ощупь, ибо не отрывал своих серых глаз от ее зеленых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0" name="Picture 4" descr="Цветаева_солд"/>
          <p:cNvPicPr/>
          <p:nvPr/>
        </p:nvPicPr>
        <p:blipFill>
          <a:blip r:embed="rId1"/>
          <a:stretch/>
        </p:blipFill>
        <p:spPr>
          <a:xfrm>
            <a:off x="539640" y="1773360"/>
            <a:ext cx="2952720" cy="3817800"/>
          </a:xfrm>
          <a:prstGeom prst="rect">
            <a:avLst/>
          </a:prstGeom>
          <a:ln w="0">
            <a:noFill/>
          </a:ln>
        </p:spPr>
      </p:pic>
      <p:sp>
        <p:nvSpPr>
          <p:cNvPr id="691" name="AutoShape 8"/>
          <p:cNvSpPr/>
          <p:nvPr/>
        </p:nvSpPr>
        <p:spPr>
          <a:xfrm>
            <a:off x="7308720" y="5805360"/>
            <a:ext cx="1150920" cy="64800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8355" h="21600">
                <a:moveTo>
                  <a:pt x="0" y="0"/>
                </a:moveTo>
                <a:lnTo>
                  <a:pt x="38355" y="0"/>
                </a:lnTo>
                <a:lnTo>
                  <a:pt x="38355" y="21600"/>
                </a:lnTo>
                <a:lnTo>
                  <a:pt x="0" y="21600"/>
                </a:lnTo>
                <a:close/>
              </a:path>
              <a:path fill="lightenLess" w="38355" h="21600">
                <a:moveTo>
                  <a:pt x="0" y="0"/>
                </a:moveTo>
                <a:lnTo>
                  <a:pt x="38355" y="0"/>
                </a:lnTo>
                <a:lnTo>
                  <a:pt x="36955" y="1400"/>
                </a:lnTo>
                <a:lnTo>
                  <a:pt x="1400" y="1400"/>
                </a:lnTo>
                <a:close/>
              </a:path>
              <a:path fill="darken" w="38355" h="21600">
                <a:moveTo>
                  <a:pt x="38355" y="0"/>
                </a:moveTo>
                <a:lnTo>
                  <a:pt x="38355" y="21600"/>
                </a:lnTo>
                <a:lnTo>
                  <a:pt x="36955" y="20200"/>
                </a:lnTo>
                <a:lnTo>
                  <a:pt x="36955" y="1400"/>
                </a:lnTo>
                <a:close/>
              </a:path>
              <a:path fill="darkenLess" w="38355" h="21600">
                <a:moveTo>
                  <a:pt x="38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55" y="20200"/>
                </a:lnTo>
                <a:close/>
              </a:path>
              <a:path fill="lighten" w="38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55" h="21600">
                <a:moveTo>
                  <a:pt x="12171" y="10800"/>
                </a:moveTo>
                <a:lnTo>
                  <a:pt x="26184" y="3794"/>
                </a:lnTo>
                <a:lnTo>
                  <a:pt x="26184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03848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Обвенчались Марина и Сергей Эфрон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27 января 1912 года. Эфрон подарил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любимой кольцо, на внутренней стороне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которого была выгравирована дата свадьбы и имя «Марина»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Я с вызовом ношу его кольцо!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-Да, в Вечности – жена, не на бумаге! –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Чрезмерно узкое лицо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Подобно шпаге…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4" name="Picture 4" descr="Цветаева_муж"/>
          <p:cNvPicPr/>
          <p:nvPr/>
        </p:nvPicPr>
        <p:blipFill>
          <a:blip r:embed="rId1"/>
          <a:stretch/>
        </p:blipFill>
        <p:spPr>
          <a:xfrm>
            <a:off x="395280" y="981000"/>
            <a:ext cx="4292640" cy="4464000"/>
          </a:xfrm>
          <a:prstGeom prst="rect">
            <a:avLst/>
          </a:prstGeom>
          <a:ln w="0">
            <a:noFill/>
          </a:ln>
        </p:spPr>
      </p:pic>
      <p:sp>
        <p:nvSpPr>
          <p:cNvPr id="695" name="AutoShape 5"/>
          <p:cNvSpPr/>
          <p:nvPr/>
        </p:nvSpPr>
        <p:spPr>
          <a:xfrm>
            <a:off x="7812000" y="5805360"/>
            <a:ext cx="1081080" cy="64800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6028" h="21600">
                <a:moveTo>
                  <a:pt x="0" y="0"/>
                </a:moveTo>
                <a:lnTo>
                  <a:pt x="36028" y="0"/>
                </a:lnTo>
                <a:lnTo>
                  <a:pt x="36028" y="21600"/>
                </a:lnTo>
                <a:lnTo>
                  <a:pt x="0" y="21600"/>
                </a:lnTo>
                <a:close/>
              </a:path>
              <a:path fill="lightenLess" w="36028" h="21600">
                <a:moveTo>
                  <a:pt x="0" y="0"/>
                </a:moveTo>
                <a:lnTo>
                  <a:pt x="36028" y="0"/>
                </a:lnTo>
                <a:lnTo>
                  <a:pt x="34628" y="1400"/>
                </a:lnTo>
                <a:lnTo>
                  <a:pt x="1400" y="1400"/>
                </a:lnTo>
                <a:close/>
              </a:path>
              <a:path fill="darken" w="36028" h="21600">
                <a:moveTo>
                  <a:pt x="36028" y="0"/>
                </a:moveTo>
                <a:lnTo>
                  <a:pt x="36028" y="21600"/>
                </a:lnTo>
                <a:lnTo>
                  <a:pt x="34628" y="20200"/>
                </a:lnTo>
                <a:lnTo>
                  <a:pt x="34628" y="1400"/>
                </a:lnTo>
                <a:close/>
              </a:path>
              <a:path fill="darkenLess" w="36028" h="21600">
                <a:moveTo>
                  <a:pt x="36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8" y="20200"/>
                </a:lnTo>
                <a:close/>
              </a:path>
              <a:path fill="lighten" w="36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8" h="21600">
                <a:moveTo>
                  <a:pt x="11008" y="10800"/>
                </a:moveTo>
                <a:lnTo>
                  <a:pt x="25020" y="3794"/>
                </a:lnTo>
                <a:lnTo>
                  <a:pt x="25020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2:45:55Z</dcterms:created>
  <dc:creator>Школа</dc:creator>
  <dc:description/>
  <dc:language>en-US</dc:language>
  <cp:lastModifiedBy>Afize</cp:lastModifiedBy>
  <dcterms:modified xsi:type="dcterms:W3CDTF">2023-01-22T16:01:39Z</dcterms:modified>
  <cp:revision>39</cp:revision>
  <dc:subject/>
  <dc:title>«Бренная пена морская» ( По лирике М.Цветаевой)</dc:title>
</cp:coreProperties>
</file>