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186-3C41-41C0-A609-DDEEB9F3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54F-849C-4BA3-AA44-A2B6595B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8C93B-B849-42B2-80A4-CFF656F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7A556-DBF7-4DC9-B55A-DD4588D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A0673-358E-4C95-84B7-66743C8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E4FF2-69D3-4FFB-895C-591D811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B6FC0-2AB0-4BD4-8E84-FCF5BE3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58567-CDF8-48A8-8EDB-D711644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D149-4F4D-4F6F-A947-56B2AA7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4F6E-1B49-4186-8F2D-02E64B3D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79251-AC8B-4413-9F8B-E28D4134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EF7AB-CBC6-40D9-8689-FCEC81BE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A3E-F9AB-400A-93D7-AD63CC12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E5123-FF25-4404-8156-BF7C164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6779D-FB39-468C-BC17-8C3B17B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8526-B102-42EA-9CE2-AC5CBCF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2B3FF-B3FE-4CB7-B83C-A19A0C7E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E43E3-40B0-461D-BBF6-B1A757E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FEC59-074A-4A11-AD51-9FED0BA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E6E46-2C60-41C5-B9A6-0EAEB97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0898B-628E-4A12-9212-045B0BE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83782-1DFF-4316-A242-60AD893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6DCB5-8C8D-4FB5-BE75-D8062898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72A-01F4-40B1-9B5E-22522098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C703F-85EB-4BC3-99CE-720AF97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0DD4-8AA4-49E9-915C-1787C4F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FF5E1-CB47-4B11-8BE9-6C7B3BC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FD059-0FC4-4F74-A845-A21B6FD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2793A-BCD5-4B80-9F7B-CF5F582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3A21-DDF8-4BD6-9421-3E7D924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D815D-E18F-45DB-A231-2E97CAAF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D123-D624-4638-9C5F-F59F10EA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03A6C-37F2-40A4-96DA-E8B2B92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41D5-77F2-47CB-9FB5-D563453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7F70-1F8E-4C80-B35F-ED237B06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54602-E200-4910-A63F-6DC1AD2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BD50A-40CF-442F-8603-79C4473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918B-D31F-4531-A9A9-717539FB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595E8-EA14-4852-8824-E96F0FF9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55610-A187-4768-9F55-7BB02A1E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20E8B-C086-4D50-8B4A-025C1559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E7FB-ECEB-460E-B548-53CB46D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5EF52-977F-48B2-82E7-75DFD104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4B444-0617-4CEC-9B0F-84566E8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4358-B762-473E-8FFD-470190F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7A5A-2F50-4282-85B3-3A0FB8AE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881C-2D7C-4729-9413-56118AD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A88BA-461B-4F60-9899-4F9195B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3BFC8-B4A0-43D7-9887-0A8724BB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095BA-19FB-44DD-8A26-1BBF8D1E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42D6A-E4F4-4885-8185-5A4EA834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8C299-C08B-4825-BFA7-F79A1929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6CF6C-11EB-4DDE-890B-B276C8F6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85DF7-EAAA-49FA-B1FE-41F7F4D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07534-A56C-4F6D-9921-5904E91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EBE2C-35BE-47C7-BB44-489CC504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232-1448-4FD5-AC38-3E4586C0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FBF01-CC1B-4A5E-BE0C-AD981D21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6921E-E1EE-4381-BE1E-672FD921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96E1D-6440-445B-8035-31C63FA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1B81E-A941-452D-B8E4-49BEAC5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DB7FD-680F-4C76-A733-AD85E7CC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37ABC-504E-407B-A168-F0263251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1D535-3CC6-4628-8AC2-550B241E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D0D68-2D4E-489C-A2B8-AF7C6D23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B7E9A-F4F1-4C92-B5B4-171B54E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E1827-AD70-4038-AC28-EC48F72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55FC-94CE-4132-8536-F2F3E83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8FD8B-4BCD-4CFC-9E19-189BC11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6AF86-BF50-4D59-B93F-C56B741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3DA87-B284-4383-852A-B63A9F54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D8A03-16F6-4F0D-91F9-B8FABA5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7B890-3435-4E1A-B18A-6CFAED5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E9F8B-52CA-4715-9782-BEC85CE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C26C9-3F27-4A58-80BE-66DD1595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95FF3-25E0-410A-AD42-BA525794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8F04F-214C-475B-9D74-125CF365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EA86-EB02-4853-A3E8-510B47C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F017-D421-46AB-836E-DEDDD86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F6A-ADCB-4B76-8102-9F0F904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E4F-3871-4FE5-84A1-876420D6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A3D-02EF-47AD-AC1B-98635DB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D37-FD36-4A2A-98B6-18D94A0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E55A-12BB-4D4F-83C5-983FF4D4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ED84-7A9A-4E14-BEB5-440EAADF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0A18-8483-4938-8C5A-A8E0547E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5C80-2D7C-4FE0-8F6F-D7D2B6D0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136D-78AD-4EC6-A696-2D0976C5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AB94-8224-48C8-B030-838DFBC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FD4A-1094-4CF0-88F0-3A7AB1E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37F8-0AFD-44E7-B1A8-70B07F61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90F-9596-4CBF-801A-058C75F0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4E80-C6A2-4129-A925-805AAFCE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0B1B-BE9E-4328-ADE2-DD0FFB7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28F7-ED08-40EC-AF70-57460DC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FC57-F236-4348-9D2E-FDA1A8E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ED2E-BCD0-4432-9B68-CC4D4410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FE19-12EF-478A-A433-869BBB05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71AE-3130-44E1-B662-92C0D13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EC5F-D0B1-4517-BB21-2486580E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9CBE-31DA-4240-96B4-D8877C4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E7F8-2953-4D60-A7F5-FE946983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422-EA27-47D1-87A5-EFF8C9C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CF95-1A01-4CC3-81DF-13ADAEBF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5963-F740-464F-9D60-BCF248A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FE52-4A06-4F40-9A7E-DC9B2936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2561-66CA-42A9-8DB0-C42A6AD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AC8A-A06D-467A-BA14-BA9E910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6D0C-BCF1-47C0-A51F-69D5699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0B23-2BE3-49B5-90A6-6FB38D8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C5FE-7FDF-4095-8F1D-337C38EE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ED28-DAE0-4FB3-BDFC-911798C5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1C1C-667A-4FEF-8A1E-DC6376C2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93D-295E-4812-B1FC-BCCC640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7347-A8B0-46DA-AF40-3710902D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84DA-1D86-4280-849C-85D5C93E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4154-14DA-45A7-854D-411FB25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CB1B-CB25-48C8-978A-7AD0922B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5652-548C-4119-B4C1-B2D87122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E1842-D1F5-4138-9471-EDE30A7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B313E-4160-4930-9FB1-2AC1D53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DF83-22C2-48AC-BDEB-095646F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40AE-33BB-40DB-B82D-EC82284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D8AE-5922-4E67-9A07-8B0978D3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BA8-F3D1-4284-AFEF-8F1E6DF7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5C75D-9878-419B-938C-668DB005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38E9-B0C8-4F1C-92F3-9B3429B2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23392-A151-49FB-B004-1F5B853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EEE4-2D9B-4C37-A620-EC8686FF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37DD-F45E-4B83-802A-D5D33B71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1A3A-5BDE-4D32-B749-659B977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77AE-3678-4D1E-A980-E4E15331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5FB6-CA9E-4173-8F2A-E61F973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28D0-F116-4D4D-886C-C25CEF8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D797-782F-4307-B4C9-E90C86E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26A-13DE-423B-B548-1525C76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781EE-DF74-4CF3-8B77-457E62C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BFAD-5B0B-44C4-8862-07B8E6ED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682A-B769-4AE8-A1A0-50AA03C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8B6F-6AC6-485B-A9DE-8392AAC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94DE-5CEB-464D-A3BC-6CF2B0D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7998-E350-4C60-AE4E-97F285A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4F0E-6AD2-4B6D-8AB6-DD13533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1BAEC-35E0-4BCD-97E4-C919532E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BCE6-4CD8-4FD2-BD95-7870D7B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D90CA-A37A-4939-923A-CD64483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185-7D97-418E-BEB0-97B40044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903B-A21A-4224-BD3C-C440437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147C9-E9A0-4409-9CE9-CE12C46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78328-4F18-473C-B39B-394588B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576C-4375-4531-8EF7-103475BF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0CCE-6790-4784-95B8-73C3655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887D0-4081-4B5A-B6CD-EB34792A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6D60-0200-4974-8A2B-F6CA45D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EA7E-A1F8-47D0-8D9A-E11AAB8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B1F18-F873-4CA2-8AC2-132EB37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6891-E958-4F59-AB10-AB83927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567-F1F9-4CC4-AD75-427CD95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4B84-CEC9-4650-8AE8-FB62503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FFF3-1C0C-4D2B-9DD5-CDE6DEF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F177-D850-4A2E-B6EA-2ACED5D9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571B-03F0-4A2C-924C-5A89F0A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CA028-7AC0-4B5F-85E5-9CCE378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B7F32-E611-4D84-BFE0-14F15053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6B65-8E86-4D4E-B941-83BA51A8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C68DB-F522-4641-9F62-085715F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0EF7-76C6-40CE-B0D6-B4E4646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486A1-63F7-47F1-A990-897C6B2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2B03B-CEE6-49E6-95E0-36A99971A7B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300CA-0C11-4E2C-9A83-EF88AD91D53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E1433-7991-4108-AE94-4F4F3BBECF2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403F2-EAAD-41F7-BEDF-F64BE2017AD5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A7488-22FD-459D-8F77-9F74D82C6AD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738B6-C1FA-4730-8A21-EA2B2648B4D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547C6-7937-437F-8BD8-283360FA722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8BD32-F1C3-4C00-81BC-88FAE522DAC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ACB1E-6C7D-4919-A2BE-208705F4125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8B32C-DC7A-4C40-823D-CF8805CCD5E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C50A2-8463-4D9E-9FD0-E4FB5E4CE08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2E79F-1902-4E1A-99E0-328C73F7FF15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CED85-F5AF-414A-AB40-11A80400F54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9FDCB-4AA7-49B1-8386-9F05EBEB184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4" descr="1180049L"/>
          <p:cNvPicPr/>
          <p:nvPr/>
        </p:nvPicPr>
        <p:blipFill>
          <a:blip r:embed="rId1"/>
          <a:stretch/>
        </p:blipFill>
        <p:spPr>
          <a:xfrm>
            <a:off x="395280" y="843120"/>
            <a:ext cx="7929720" cy="50274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771640" y="2707920"/>
            <a:ext cx="4391280" cy="2376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cc"/>
                </a:solidFill>
                <a:latin typeface="Book Antiqua"/>
              </a:rPr>
              <a:t>«БРЕННАЯ ПЕНА МОРСКАЯ…»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Book Antiqua"/>
              </a:rPr>
              <a:t>( ПО ЛИРИКЕ М.ЦВЕТАЕВОЙ)</a:t>
            </a:r>
            <a:br>
              <a:rPr sz="3200"/>
            </a:br>
            <a:r>
              <a:rPr b="1" i="1" lang="ru-RU" sz="2500" spc="-1" strike="noStrike">
                <a:solidFill>
                  <a:srgbClr val="0066ff"/>
                </a:solidFill>
                <a:latin typeface="Book Antiqua"/>
              </a:rPr>
              <a:t>.</a:t>
            </a: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УЧИТЕЛЬ РУССКОГО ЯЗЫКА И ЛИТЕРАТУРЫ –А. С. АБЛАЕВ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187280" y="5464080"/>
            <a:ext cx="223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35000" y="576108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755640" y="48546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вящается 115 - летию со дня рождения Марины Цветаевой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1619280" y="244440"/>
            <a:ext cx="55436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Урок литератур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9" name="CHCENTER.WAV" descr=""/>
          <p:cNvPicPr/>
          <p:nvPr/>
        </p:nvPicPr>
        <p:blipFill>
          <a:blip r:embed="rId2"/>
          <a:stretch/>
        </p:blipFill>
        <p:spPr>
          <a:xfrm>
            <a:off x="4419720" y="3084480"/>
            <a:ext cx="287280" cy="285840"/>
          </a:xfrm>
          <a:prstGeom prst="rect">
            <a:avLst/>
          </a:prstGeom>
          <a:ln w="0">
            <a:noFill/>
          </a:ln>
        </p:spPr>
      </p:pic>
      <p:sp>
        <p:nvSpPr>
          <p:cNvPr id="640" name="Скругленный прямоугольник 10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ill Sans MT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5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«МНЕ КАЖЕТСЯ…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вы больны не м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я больна не в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никогда тяжелый шар земно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уплывет под нашими ног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, что можно быть смешной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Распущенной - и не играть слов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И не краснеть удушливой вол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легка соприкоснувшись рукав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Мне нравится еще, что вы при м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покойно обнимаете другую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прочите мне в адовом ог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8720" indent="-198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Гореть за то, что я не вас целу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642920" y="1413000"/>
            <a:ext cx="40388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имя нежное мое, мой нежный, 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Упоминаете ни днем, ни ночью – всуе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Что никогда в церковной тиши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Не пропоют над нами: аллилуйя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Спасибо вам и сердцем и руко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вы меня – не зная сами!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Так Любите: за мой ночной пок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редкость встреч закатными часами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наши не – гулянья под лу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солнце, не у нас над головами,-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вы больны – увы! – не мной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Monotype Corsiva"/>
              </a:rPr>
              <a:t>За то, что я больна – увы – не вами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89720" indent="-189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324000" y="551664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тихи Цветаевой мелодичны, задушевны и чарующи, к ним постоянно обращаются композиторы, и тогда они превращаются в удивительные по красоте романс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AutoShape 10"/>
          <p:cNvSpPr/>
          <p:nvPr/>
        </p:nvSpPr>
        <p:spPr>
          <a:xfrm>
            <a:off x="8086680" y="6062760"/>
            <a:ext cx="862200" cy="620640"/>
          </a:xfrm>
          <a:custGeom>
            <a:avLst/>
            <a:gdLst>
              <a:gd name="textAreaLeft" fmla="*/ 39960 w 862200"/>
              <a:gd name="textAreaRight" fmla="*/ 822240 w 862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02" h="21600">
                <a:moveTo>
                  <a:pt x="0" y="0"/>
                </a:moveTo>
                <a:lnTo>
                  <a:pt x="30002" y="0"/>
                </a:lnTo>
                <a:lnTo>
                  <a:pt x="30002" y="21600"/>
                </a:lnTo>
                <a:lnTo>
                  <a:pt x="0" y="21600"/>
                </a:lnTo>
                <a:close/>
              </a:path>
              <a:path fill="lightenLess" w="30002" h="21600">
                <a:moveTo>
                  <a:pt x="0" y="0"/>
                </a:moveTo>
                <a:lnTo>
                  <a:pt x="30002" y="0"/>
                </a:lnTo>
                <a:lnTo>
                  <a:pt x="28602" y="1400"/>
                </a:lnTo>
                <a:lnTo>
                  <a:pt x="1400" y="1400"/>
                </a:lnTo>
                <a:close/>
              </a:path>
              <a:path fill="darken" w="30002" h="21600">
                <a:moveTo>
                  <a:pt x="30002" y="0"/>
                </a:moveTo>
                <a:lnTo>
                  <a:pt x="30002" y="21600"/>
                </a:lnTo>
                <a:lnTo>
                  <a:pt x="28602" y="20200"/>
                </a:lnTo>
                <a:lnTo>
                  <a:pt x="28602" y="1400"/>
                </a:lnTo>
                <a:close/>
              </a:path>
              <a:path fill="darkenLess" w="30002" h="21600">
                <a:moveTo>
                  <a:pt x="30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02" y="20200"/>
                </a:lnTo>
                <a:close/>
              </a:path>
              <a:path fill="lighten" w="30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02" h="21600">
                <a:moveTo>
                  <a:pt x="7995" y="10800"/>
                </a:moveTo>
                <a:lnTo>
                  <a:pt x="22008" y="3794"/>
                </a:lnTo>
                <a:lnTo>
                  <a:pt x="22008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ill Sans MT"/>
              </a:rPr>
              <a:t>КУМИР ЦВЕТАЕВОЙ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птица в руке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льдинка на язык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Одно – единственное движенье губ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Имя твое – пять букв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Мячик, пойманный на лету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Серебряный бубенец во рту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                        </a:t>
            </a:r>
            <a:r>
              <a:rPr b="1" i="1" lang="ru-RU" sz="1800" spc="-1" strike="noStrike">
                <a:solidFill>
                  <a:srgbClr val="0066ff"/>
                </a:solidFill>
                <a:latin typeface="Gill Sans MT"/>
              </a:rPr>
              <a:t>«Стихи к Блоку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3" name="Picture 7" descr="Цветаева_книг"/>
          <p:cNvPicPr/>
          <p:nvPr/>
        </p:nvPicPr>
        <p:blipFill>
          <a:blip r:embed="rId1"/>
          <a:stretch/>
        </p:blipFill>
        <p:spPr>
          <a:xfrm>
            <a:off x="5076720" y="155736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10"/>
          <p:cNvSpPr/>
          <p:nvPr/>
        </p:nvSpPr>
        <p:spPr>
          <a:xfrm>
            <a:off x="900000" y="5300640"/>
            <a:ext cx="79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1816200" y="5845320"/>
            <a:ext cx="592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1042920" y="5589720"/>
            <a:ext cx="727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1042920" y="522936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аева была знакома со многими поэтами начал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ека, но ее поэтическим кумиром был Александр Блок, свое преклонение она пронесла через всю свою жизнь…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AutoShape 15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ill Sans MT"/>
              </a:rPr>
              <a:t>1913 – 1915 ГОД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9280" y="2852280"/>
            <a:ext cx="748836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454545"/>
                </a:solidFill>
                <a:latin typeface="Gill Sans MT"/>
              </a:rPr>
              <a:t>«Это было время  расцвета Марининой красоты… Ясная зелень ее глаз, затуманенная близоруким взглядом, застенчиво уклоняющимся, имеет в себе что – то колдовское…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454545"/>
                </a:solidFill>
                <a:latin typeface="Gill Sans MT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140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Подарю тебе, дружочек, гребеш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ы помнили подружек мил –Чтобы помнил не часок, не годок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дружки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Есть на свете золотые гребешк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 дружочку не пилось без меня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Гребень, гребень мой, расческа моя!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Нет на свете той расчески чудн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Струны – зубья у расчески мо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уть притронешься – пойдёт трескотня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Про меня одну, да всё про мен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Чтоб дружочку не спалось без меня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66"/>
                </a:solidFill>
                <a:latin typeface="Gill Sans MT"/>
              </a:rPr>
              <a:t>Гребень, гребень мой, расчёска мо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2" name="Picture 7" descr="Цветаева_дочь"/>
          <p:cNvPicPr/>
          <p:nvPr/>
        </p:nvPicPr>
        <p:blipFill>
          <a:blip r:embed="rId1"/>
          <a:stretch/>
        </p:blipFill>
        <p:spPr>
          <a:xfrm>
            <a:off x="971640" y="1125360"/>
            <a:ext cx="2570040" cy="3071880"/>
          </a:xfrm>
          <a:prstGeom prst="rect">
            <a:avLst/>
          </a:prstGeom>
          <a:ln w="0">
            <a:noFill/>
          </a:ln>
        </p:spPr>
      </p:pic>
      <p:sp>
        <p:nvSpPr>
          <p:cNvPr id="713" name="AutoShape 8">
            <a:hlinkClick r:id="" action="ppaction://hlinkshowjump?jump=previousslide"/>
          </p:cNvPr>
          <p:cNvSpPr/>
          <p:nvPr/>
        </p:nvSpPr>
        <p:spPr>
          <a:xfrm>
            <a:off x="8496360" y="5805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ff66cc"/>
                </a:solidFill>
                <a:latin typeface="Gill Sans MT"/>
              </a:rPr>
              <a:t>ТОСКА ПО РОДИНЕ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Русской ржи от меня поклон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Ниве, где баба застится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Друг! Дожди за моим окном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Беды и блажи на сердце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Ты, в погудке дождей и бед –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То ж, что Гомер в гекзаметр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Дай мне руку – на весь тот свет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Gill Sans MT"/>
              </a:rPr>
              <a:t>Здесь – мои обе заняты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 1922 году Марина Цветаева вместе с дочерью уезжает за границу к мужу, Сергею Эфрону, оказавшемуся в рядах белой эмиграции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6" name="Picture 5" descr="Цветаева_2"/>
          <p:cNvPicPr/>
          <p:nvPr/>
        </p:nvPicPr>
        <p:blipFill>
          <a:blip r:embed="rId1"/>
          <a:stretch/>
        </p:blipFill>
        <p:spPr>
          <a:xfrm>
            <a:off x="5329080" y="1601640"/>
            <a:ext cx="2676600" cy="452448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7">
            <a:hlinkClick r:id="" action="ppaction://hlinkshowjump?jump=previousslide"/>
          </p:cNvPr>
          <p:cNvSpPr/>
          <p:nvPr/>
        </p:nvSpPr>
        <p:spPr>
          <a:xfrm>
            <a:off x="817236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ill Sans MT"/>
              </a:rPr>
              <a:t>ВОЗВРАЩЕНИЕ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11280" y="5300640"/>
            <a:ext cx="7632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В 1939 году Марина Цветаева вернулась, наконец, на родную землю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Однако надежды, связанные с возвращением, не оправдались…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4" descr="Цветаева_1"/>
          <p:cNvPicPr/>
          <p:nvPr/>
        </p:nvPicPr>
        <p:blipFill>
          <a:blip r:embed="rId1"/>
          <a:stretch/>
        </p:blipFill>
        <p:spPr>
          <a:xfrm>
            <a:off x="2771640" y="1413000"/>
            <a:ext cx="3529080" cy="3671640"/>
          </a:xfrm>
          <a:prstGeom prst="rect">
            <a:avLst/>
          </a:prstGeom>
          <a:ln w="0">
            <a:noFill/>
          </a:ln>
        </p:spPr>
      </p:pic>
      <p:sp>
        <p:nvSpPr>
          <p:cNvPr id="721" name="AutoShape 6">
            <a:hlinkClick r:id="" action="ppaction://hlinkshowjump?jump=previousslide"/>
          </p:cNvPr>
          <p:cNvSpPr/>
          <p:nvPr/>
        </p:nvSpPr>
        <p:spPr>
          <a:xfrm>
            <a:off x="817236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чащиеся разделены на три группы: задание к уроку получены заране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1 группа учащихся – ведущие готовят к уроку сообщения о жизни М.Цветаевой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2 группа учащихся – Чтецы (учат к уроку наизусть стихи М. Цветаевой, готовят краткий анализ лирических произведений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3 группа учащихся – «музыканты» (готовят музыкальное сопровождение урока, разучивают песни на стихи М. Цветаевой для исполнения на уроке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6836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од уро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ill Sans MT"/>
              </a:rPr>
              <a:t>Звучит вальс Е. Доги из кинофильма «Мой ласковый и нежный зверь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Чтец1:Моим стихам, написанным так рано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Что и не знала я, что я – поэт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Сорвавшимся, как брызги из фонтан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Как искры из ракет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орвавшимся, как маленькие черти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 святилище, где сон и фимиам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оим стихам о юности и смерт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-Нечитанным стихам! –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Разбросанным в пыли по магазина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(Где их никто не брал и не берет)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оим стихам, как драгоценным винам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Настанет свой черед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ущий 1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Автору стихов Марине Цветаевой – двадцать лет, но она уже поэт, поэт яркий и самобытный, уверенный в своем дальнейшем поэтическом успехе.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Чтец 2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расною кистью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Рябина зажглас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Падали листья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Я родилас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порили сотни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олоколов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День был субботни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оанн Богосл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Мне и доныне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Хочется грызть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Жаркой рябины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Горькую кисть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«Красною кистью»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427640" y="260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Вед2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( Рассказывает о родителях поэтессы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Вед 3:(Из воспоминаний М. Цветаевой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Gill Sans MT"/>
              </a:rPr>
              <a:t>«Когда вместо желанного, предрешенного, почти приказанного сына Александра родилась всего только я, мать сказала: «По крайней мере, будет музыкантша». Когда же первым, явно бессмысленным… словом оказалось «гамма», мать только подтвердила: «Я так и знала», - и тут же принялась учить меня музыке… Могу сказать, что я родилась не в жизнь, а в музыку»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23640" y="0"/>
            <a:ext cx="777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ец 3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Кто создан из камня, кто создан из глины, 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А я серебрюсь и сверкаю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Мне дело – измена, мне имя – Марина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Я – бренная пена морска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Кто создан из глины, кто создан из плоти –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ем гроб и надгробные плиты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-В купели морской крещена – и в полёт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Своем – непрестанно разбита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Сквозь каждое слово, сквозь каждые сет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робьется мое своеволь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Меня – видишь кудри беспутные эти?-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Земною не сделаешь солью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Дробясь о гранитные ваши колена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Я с каждой волной – воскресаю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Да здравствует пена – весёлая пена –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Высокая пена морская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Вед 4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После смерти матери интерес к музыке У Марины Цветаевой постепенно угасает, но появляется новое увлечение – книги и стих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Юная Цветаева пишет стихи как на русском языке, так и на немецком и французском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Ни у кого ничего не заимствовать, не подражать, не подвергаться влияниям, «Быть самой собой» - такою Цветаева вышла из детства и такою осталась навсегд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ill Sans MT"/>
              </a:rPr>
              <a:t>Вед 1: Искренние,  непосредственные и чистые стихи восемнадцатилетней Цветаевой из сборника «вечерний альбом»(1910г.) понравились взыскательным Валерию Брюсову и Максимилиану Волошину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Цветаева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11280" y="1268280"/>
            <a:ext cx="25351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2" name="Rectangle 5"/>
          <p:cNvSpPr/>
          <p:nvPr/>
        </p:nvSpPr>
        <p:spPr>
          <a:xfrm>
            <a:off x="3492360" y="1700280"/>
            <a:ext cx="504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Красною кистью 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Рябина зажглась.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Падали листья,</a:t>
            </a:r>
            <a:br>
              <a:rPr sz="4400"/>
            </a:b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Я родилась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3" name="Picture 6" descr="Рябина"/>
          <p:cNvPicPr/>
          <p:nvPr/>
        </p:nvPicPr>
        <p:blipFill>
          <a:blip r:embed="rId2"/>
          <a:srcRect l="13040" t="18501" r="11197" b="6690"/>
          <a:stretch/>
        </p:blipFill>
        <p:spPr>
          <a:xfrm>
            <a:off x="6515280" y="5084640"/>
            <a:ext cx="2217600" cy="1368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7"/>
          <p:cNvSpPr/>
          <p:nvPr/>
        </p:nvSpPr>
        <p:spPr>
          <a:xfrm>
            <a:off x="268560" y="465300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92 - 1941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ец 4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я лишь стих в твоем альбоме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Едва поющий, как родник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(Ты стал мне лучшею из книг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А их не мало в старом доме!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я лишь стебель, в светлый миг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обой, желающим, не смятый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(Ты для меня цветник богатый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Благоухающий цветник!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Пусть так. но вот полуистом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над страничкою поник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вспомнишь всё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Ты сдержишь крик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-Пусть я лишь стих в твоем альбоме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«Надпись в альбом»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240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ill Sans MT"/>
              </a:rPr>
              <a:t>Вед. 5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Какой была Марина Цветаева?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Небольшого роста со строгой и стройной осанкой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Золотисто – каштановые волосы, бледное лицо, глаза… зеленые, цвета виноград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Привычные к степям глаз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Привычные к слёзам глаз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еленые – солёные –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Крестьянские глаза.             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« Глаза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Черты лица и его контуры были очень точными и четкими. Ее голос был высоким, звонким и гибким. Стихи читала охотно, по первой просьбе, или предлагала сама: «Хотите я вам прочту стихи?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Милый читатель! Смеясь, как ребёнок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Весело встреть мой «Волшебный фонарь»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скренний смех твой, да будет он звонок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 безотчетен, как встарь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 6:Как поэт и личность марина Цветаева развивалась стремительно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За «Вечерним альбомом» последовали ещё два сборника стихов: «Волшебный фонарь»(1912г.) и «Из двух книг» (1913г.), созданные при содействии Сергея Эфрон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Чтец 5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Я с вызовом ношу его кольцо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Да, в Вечности – жена, не на бумаге!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Чрезмерно узкое его лицо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добно шпаг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Безмолвен рот его, углами вниз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Мучительно-великолепны бров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его лице трагически слились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е древних кров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Он тонок первой тонкостью ветве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Его глаза – прекрасно – бесполезны!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д крыльями раскинутых бровей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е бездны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его лице я рыцарству верна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всем вам, кто жил и умирал без страху!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акие в роковые имена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Слагают стансы и идут на плаху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68360" y="2602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ff3300"/>
                </a:solidFill>
                <a:latin typeface="Book Antiqua"/>
              </a:rPr>
              <a:t>Вед 2: В стихах Цветаевой «ощущается стремление к сжатой, краткой и выразительной манере, где всё ясно, точно и стремительно в ритме», но вместе с тем глубоко лирично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ы, идущие мимо меня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К не моим и сомнительным чарам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Если б знали вы, сколько огня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Сколько жизни, растраченной даром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И какой героический пы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На случайную тень и на шорох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И как сердце мне испепели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Этот даром истраченный порох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О, летящие в ночь поезда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Уносящие сон на вокзале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прочем, знаю я, что и тогда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Не узнали бы вы – если б знали, 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Почему мои речи резк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 вечном дыме моей папиросы,-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Сколько темной и грозной тоски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В голове моей светловолосой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   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Book Antiqua"/>
              </a:rPr>
              <a:t>«Вы, идущие мимо меня…»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549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ед 3: Сжатостью мысли и энергией чувства отмечены многие стихи Марины Цветаево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Среди них стихотворение «Бабушке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Сестра Анастасия вспоминает:»В комнате матери висел портрет бабушки, красавицы-польки Марии Лукиничны Бернацкой, умершей очень рано - в двадцать семь лет. Увеличенная фотография – темноокое, с тяжелыми веками, печальное лицо с точно кистью проведенными бровями, правильными, милыми чертами, добрым, горечью тронутым ртом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Чтец 6: вот как об этом говорит Марина Цветаев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Бабушке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родолговатый твёрдый овал,                                                      Черного платья раструб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ая бабушка! - Кто целова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аши надменные губы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Руки, которые в залах дворца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альсы Шопена играли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 сторонам ледяного лица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Локоны в виде спира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емный, прямой и взыскательный взгляд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згляд, к обороне готовый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ые женщины так не глядят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Юная бабушка, кто вы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Сколько возможностей вы унесл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 невозможностей – сколько?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ненасытную прорву земл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вадцатилетняя полька!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День был невинен, и ветер был свеж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емные звёзды погас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-Бабушка! - Этот жестокий мятеж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В сердце моём – не от вас ли?.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. 4: Стихи Цветаевой мелодичны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д. 5: Стремительно и властно в жизнь Марины Цветаевой вошел Пушкин и стал постоянной духовной опорой этой гордой, тонкой и мятежной души. Пушкинскую «Капитанскую дочку» Цветаева перечитывала много раз, а стихотворение «К морю» стало её любимым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ru-RU" sz="1700" spc="-1" strike="noStrike">
                <a:solidFill>
                  <a:srgbClr val="000000"/>
                </a:solidFill>
                <a:latin typeface="Gill Sans MT"/>
              </a:rPr>
              <a:t>Великому русскому поэту Пушкину Цветаева посвятила цикл стихотворений «Стихи к Пушкину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Чтец 7: Нет, бил барабан перед смутным полком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Когда мы вождя хоронили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о зубы царёвы над мёртвым певцом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очётную дробь выводил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Такой уж почёт, что ближайшим друзьям -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Нет места. В изглавьи, в изножьи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 справа, и слева – ручищи по швам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Жандармские груди и рож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Кого ж это так – точно воры вора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Пристреленного – выносили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Изменника? Нет. С проходного двора –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Умнейшего мужа России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Gill Sans MT"/>
              </a:rPr>
              <a:t>« Поэт и царь»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Вед 6: ( Рассказывает о друзьях – поэтах начала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 в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Чтец 1: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тица в руке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льдинка на язык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Одно – единственное движенье губ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ять бук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Мячик, пойманный на лету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еребряный бубенец во рту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амень, кинутый в тихий пруд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схлипнет так, как тебя зовут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 лёгком щёлканье ночных копыт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Громкое имя твоё гремит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 назовет его нам в висок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Звонко щёлкающий кур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ах, нельзя!</a:t>
            </a:r>
            <a:r>
              <a:rPr b="1" i="1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оцелуй в глаза,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В нежную стужу недвижных  ве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Имя твоё – поцелуй в снег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Ключевой, ледяной, голубой глот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С именем твоим – сон глубок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                                      </a:t>
            </a:r>
            <a:r>
              <a:rPr b="1" i="1" lang="ru-RU" sz="1500" spc="-1" strike="noStrike">
                <a:solidFill>
                  <a:srgbClr val="000000"/>
                </a:solidFill>
                <a:latin typeface="Gill Sans MT"/>
              </a:rPr>
              <a:t>«Стихи к Блоку»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6836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.1:(Рассказывает  о детях поэтессы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Исполняется или прослушивается в записи песня «Гребешок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ед.2 : В 1922 году Цветаева вместе дочерью уезжает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Эмиграция встречает её как единомышленницу. Но затем всё изменилось. Эмигрантские журналы постепенно перестали печатать её стихи. «… Мой читатель остаётся в России, куда мои стихи… не доходят…» ( Из воспоминаний Цветаевой.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ill Sans MT"/>
              </a:rPr>
              <a:t>Вокруг Цветаевой всё теснее смыкалась глухая стена одиночества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 не спасут ни стансы, ни созвездья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А это называется – возмездь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а то, что каждый раз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Стан разгибая над строкой упорной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Искала я над лбом своим просторны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Звёзд только, а не глаз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Gill Sans MT"/>
              </a:rPr>
              <a:t>«И не спасут ни стансы…»+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аходясь 17 лет в эмиграции, Цветаева постоянно думала о Родине. В 1934 году она написала удивительное стихотворение «Тоска по Родине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Тоска по родине! Давн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Разоблаченная морока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Мне совершенно всё равно –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Где совершенно одинок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Быть, по каким камням дом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Брести с кошелкою базарно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дом, и не знающий, что – мой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Как госпиталь или казарма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Чтец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 стихи, обращенном к Борису Пастернаку, звучат ноты непередаваемой грусти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Русской ржи от меня поклон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ill Sans MT"/>
              </a:rPr>
              <a:t>ЦЕЛЬ УРОКА</a:t>
            </a:r>
            <a:r>
              <a:rPr b="0" lang="ru-RU" sz="4800" spc="-1" strike="noStrike">
                <a:solidFill>
                  <a:srgbClr val="ff0000"/>
                </a:solidFill>
                <a:latin typeface="Gill Sans MT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95280" y="148392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ill Sans MT"/>
              </a:rPr>
              <a:t>познакомиться с </a:t>
            </a:r>
            <a:r>
              <a:rPr b="1" i="1" lang="ru-RU" sz="4000" spc="-1" strike="noStrike">
                <a:solidFill>
                  <a:srgbClr val="0000cc"/>
                </a:solidFill>
                <a:latin typeface="Gill Sans MT"/>
              </a:rPr>
              <a:t>творчеством Марины Цветаевой и с особенностью поэтической манеры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AutoShape 4">
            <a:hlinkClick r:id="rId1" action="ppaction://hlinksldjump"/>
          </p:cNvPr>
          <p:cNvSpPr/>
          <p:nvPr/>
        </p:nvSpPr>
        <p:spPr>
          <a:xfrm>
            <a:off x="7451640" y="5516640"/>
            <a:ext cx="1224000" cy="64908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0722" h="21600">
                <a:moveTo>
                  <a:pt x="0" y="0"/>
                </a:moveTo>
                <a:lnTo>
                  <a:pt x="40722" y="0"/>
                </a:lnTo>
                <a:lnTo>
                  <a:pt x="40722" y="21600"/>
                </a:lnTo>
                <a:lnTo>
                  <a:pt x="0" y="21600"/>
                </a:lnTo>
                <a:close/>
              </a:path>
              <a:path fill="lightenLess" w="40722" h="21600">
                <a:moveTo>
                  <a:pt x="0" y="0"/>
                </a:moveTo>
                <a:lnTo>
                  <a:pt x="40722" y="0"/>
                </a:lnTo>
                <a:lnTo>
                  <a:pt x="39322" y="1400"/>
                </a:lnTo>
                <a:lnTo>
                  <a:pt x="1400" y="1400"/>
                </a:lnTo>
                <a:close/>
              </a:path>
              <a:path fill="darken" w="40722" h="21600">
                <a:moveTo>
                  <a:pt x="40722" y="0"/>
                </a:moveTo>
                <a:lnTo>
                  <a:pt x="40722" y="21600"/>
                </a:lnTo>
                <a:lnTo>
                  <a:pt x="39322" y="20200"/>
                </a:lnTo>
                <a:lnTo>
                  <a:pt x="39322" y="1400"/>
                </a:lnTo>
                <a:close/>
              </a:path>
              <a:path fill="darkenLess" w="40722" h="21600">
                <a:moveTo>
                  <a:pt x="4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22" y="20200"/>
                </a:lnTo>
                <a:close/>
              </a:path>
              <a:path fill="lighten" w="4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22" h="21600">
                <a:moveTo>
                  <a:pt x="13354" y="3794"/>
                </a:moveTo>
                <a:lnTo>
                  <a:pt x="27367" y="10800"/>
                </a:lnTo>
                <a:lnTo>
                  <a:pt x="1335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7451640" y="63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ед.4: Тяжёлые удары судьбы… Начало войны… Постоянная тревога за жизнь близких. Высылка в Елабугу. Под гнётом личных несчастий, в одиночестве, в состоянии депрессии, она покончила с собой 31 августа 1941 год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(В исполнении А.Пугачёвой звучит « Уж сколько их упало в эту бездну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арина Ивановна Цветаева – поэт «предельной правды чувства».Она со всей своей «не просто сложившейся судьбой, со всей яркостью и неповторимостью самобытного дарования по праву вошла в русскую поэзию…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AutoShape 4"/>
          <p:cNvSpPr/>
          <p:nvPr/>
        </p:nvSpPr>
        <p:spPr>
          <a:xfrm>
            <a:off x="7885080" y="5950080"/>
            <a:ext cx="790560" cy="574560"/>
          </a:xfrm>
          <a:custGeom>
            <a:avLst/>
            <a:gdLst>
              <a:gd name="textAreaLeft" fmla="*/ 37080 w 790560"/>
              <a:gd name="textAreaRight" fmla="*/ 753480 w 7905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15" h="21600">
                <a:moveTo>
                  <a:pt x="0" y="0"/>
                </a:moveTo>
                <a:lnTo>
                  <a:pt x="29715" y="0"/>
                </a:lnTo>
                <a:lnTo>
                  <a:pt x="29715" y="21600"/>
                </a:lnTo>
                <a:lnTo>
                  <a:pt x="0" y="21600"/>
                </a:lnTo>
                <a:close/>
              </a:path>
              <a:path fill="lightenLess" w="29715" h="21600">
                <a:moveTo>
                  <a:pt x="0" y="0"/>
                </a:moveTo>
                <a:lnTo>
                  <a:pt x="29715" y="0"/>
                </a:lnTo>
                <a:lnTo>
                  <a:pt x="28315" y="1400"/>
                </a:lnTo>
                <a:lnTo>
                  <a:pt x="1400" y="1400"/>
                </a:lnTo>
                <a:close/>
              </a:path>
              <a:path fill="darken" w="29715" h="21600">
                <a:moveTo>
                  <a:pt x="29715" y="0"/>
                </a:moveTo>
                <a:lnTo>
                  <a:pt x="29715" y="21600"/>
                </a:lnTo>
                <a:lnTo>
                  <a:pt x="28315" y="20200"/>
                </a:lnTo>
                <a:lnTo>
                  <a:pt x="28315" y="1400"/>
                </a:lnTo>
                <a:close/>
              </a:path>
              <a:path fill="darkenLess" w="29715" h="21600">
                <a:moveTo>
                  <a:pt x="29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5" y="20200"/>
                </a:lnTo>
                <a:close/>
              </a:path>
              <a:path fill="lighten" w="29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5" h="21600">
                <a:moveTo>
                  <a:pt x="7851" y="10800"/>
                </a:moveTo>
                <a:lnTo>
                  <a:pt x="21864" y="3794"/>
                </a:lnTo>
                <a:lnTo>
                  <a:pt x="2186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Методические рекомендации по литературе. 9-11 классы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А.А. Саакьянц. Марина Цветаева. Автобиографическая проз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Журнал «Литература в школе» №5 2001 год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1120" indent="-59112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Gill Sans M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66" descr="1180049L"/>
          <p:cNvPicPr/>
          <p:nvPr/>
        </p:nvPicPr>
        <p:blipFill>
          <a:blip r:embed="rId1"/>
          <a:stretch/>
        </p:blipFill>
        <p:spPr>
          <a:xfrm>
            <a:off x="736560" y="666720"/>
            <a:ext cx="7670880" cy="50673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65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651" name="Music"/>
            <p:cNvSpPr/>
            <p:nvPr/>
          </p:nvSpPr>
          <p:spPr>
            <a:xfrm>
              <a:off x="0" y="4903920"/>
              <a:ext cx="1809720" cy="19537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ождение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652" name="Group 63"/>
            <p:cNvGrpSpPr/>
            <p:nvPr/>
          </p:nvGrpSpPr>
          <p:grpSpPr>
            <a:xfrm>
              <a:off x="1042920" y="0"/>
              <a:ext cx="8101080" cy="6057720"/>
              <a:chOff x="1042920" y="0"/>
              <a:chExt cx="8101080" cy="6057720"/>
            </a:xfrm>
          </p:grpSpPr>
          <p:sp>
            <p:nvSpPr>
              <p:cNvPr id="653" name="Music"/>
              <p:cNvSpPr/>
              <p:nvPr/>
            </p:nvSpPr>
            <p:spPr>
              <a:xfrm>
                <a:off x="1042920" y="399060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Сборник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4" name="Music"/>
              <p:cNvSpPr/>
              <p:nvPr/>
            </p:nvSpPr>
            <p:spPr>
              <a:xfrm>
                <a:off x="3132000" y="250668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Ее песн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5" name="Music"/>
              <p:cNvSpPr/>
              <p:nvPr/>
            </p:nvSpPr>
            <p:spPr>
              <a:xfrm>
                <a:off x="2124000" y="3306240"/>
                <a:ext cx="1809720" cy="218268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Любовь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6" name="Music"/>
              <p:cNvSpPr/>
              <p:nvPr/>
            </p:nvSpPr>
            <p:spPr>
              <a:xfrm>
                <a:off x="6948360" y="0"/>
                <a:ext cx="219564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озвращение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7" name="Music"/>
              <p:cNvSpPr/>
              <p:nvPr/>
            </p:nvSpPr>
            <p:spPr>
              <a:xfrm>
                <a:off x="6300720" y="567720"/>
                <a:ext cx="1809720" cy="22986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Эмиграция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8" name="Music"/>
              <p:cNvSpPr/>
              <p:nvPr/>
            </p:nvSpPr>
            <p:spPr>
              <a:xfrm>
                <a:off x="5292720" y="1252080"/>
                <a:ext cx="180972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т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59" name="Music"/>
              <p:cNvSpPr/>
              <p:nvPr/>
            </p:nvSpPr>
            <p:spPr>
              <a:xfrm>
                <a:off x="4211640" y="1938600"/>
                <a:ext cx="1809720" cy="20664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умир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660" name="Group 68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661" name="Music"/>
            <p:cNvSpPr/>
            <p:nvPr/>
          </p:nvSpPr>
          <p:spPr>
            <a:xfrm>
              <a:off x="0" y="4903920"/>
              <a:ext cx="1809720" cy="19537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 u="sng">
                  <a:solidFill>
                    <a:srgbClr val="fa2b5c"/>
                  </a:solidFill>
                  <a:uFillTx/>
                  <a:latin typeface="Arial"/>
                  <a:hlinkClick r:id="rId2" action="ppaction://hlinksldjump"/>
                </a:rPr>
                <a:t>Рождение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662" name="Group 70"/>
            <p:cNvGrpSpPr/>
            <p:nvPr/>
          </p:nvGrpSpPr>
          <p:grpSpPr>
            <a:xfrm>
              <a:off x="1042920" y="0"/>
              <a:ext cx="8101080" cy="6057720"/>
              <a:chOff x="1042920" y="0"/>
              <a:chExt cx="8101080" cy="6057720"/>
            </a:xfrm>
          </p:grpSpPr>
          <p:sp>
            <p:nvSpPr>
              <p:cNvPr id="663" name="Music"/>
              <p:cNvSpPr/>
              <p:nvPr/>
            </p:nvSpPr>
            <p:spPr>
              <a:xfrm>
                <a:off x="1042920" y="399060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3" action="ppaction://hlinksldjump"/>
                  </a:rPr>
                  <a:t>Сборник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4" name="Music">
                <a:hlinkClick r:id="rId4" action="ppaction://hlinksldjump"/>
              </p:cNvPr>
              <p:cNvSpPr/>
              <p:nvPr/>
            </p:nvSpPr>
            <p:spPr>
              <a:xfrm>
                <a:off x="3132000" y="2506680"/>
                <a:ext cx="1809720" cy="206712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5" action="ppaction://hlinksldjump"/>
                  </a:rPr>
                  <a:t>Ее песн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5" name="Music"/>
              <p:cNvSpPr/>
              <p:nvPr/>
            </p:nvSpPr>
            <p:spPr>
              <a:xfrm>
                <a:off x="2124000" y="3306240"/>
                <a:ext cx="1809720" cy="218268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 u="sng">
                    <a:solidFill>
                      <a:srgbClr val="fa2b5c"/>
                    </a:solidFill>
                    <a:uFillTx/>
                    <a:latin typeface="Arial"/>
                    <a:hlinkClick r:id="rId6" action="ppaction://hlinksldjump"/>
                  </a:rPr>
                  <a:t>Любовь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6" name="Music"/>
              <p:cNvSpPr/>
              <p:nvPr/>
            </p:nvSpPr>
            <p:spPr>
              <a:xfrm>
                <a:off x="6948360" y="0"/>
                <a:ext cx="219564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озвращение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7" name="Music"/>
              <p:cNvSpPr/>
              <p:nvPr/>
            </p:nvSpPr>
            <p:spPr>
              <a:xfrm>
                <a:off x="6300720" y="567720"/>
                <a:ext cx="1809720" cy="22986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Эмиграция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8" name="Music"/>
              <p:cNvSpPr/>
              <p:nvPr/>
            </p:nvSpPr>
            <p:spPr>
              <a:xfrm>
                <a:off x="5292720" y="1252080"/>
                <a:ext cx="1809720" cy="195336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ти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  <p:sp>
            <p:nvSpPr>
              <p:cNvPr id="669" name="Music"/>
              <p:cNvSpPr/>
              <p:nvPr/>
            </p:nvSpPr>
            <p:spPr>
              <a:xfrm>
                <a:off x="4211640" y="1938600"/>
                <a:ext cx="1809720" cy="2066400"/>
              </a:xfrm>
              <a:prstGeom prst="pi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умир</a:t>
                </a:r>
                <a:endParaRPr b="0" lang="en-US" sz="14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670" name="AutoShape 78">
            <a:hlinkClick r:id="" action="ppaction://hlinkshowjump?jump=lastslide"/>
          </p:cNvPr>
          <p:cNvSpPr/>
          <p:nvPr/>
        </p:nvSpPr>
        <p:spPr>
          <a:xfrm>
            <a:off x="8244000" y="5950080"/>
            <a:ext cx="576000" cy="5745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1" y="17806"/>
                </a:lnTo>
                <a:lnTo>
                  <a:pt x="3821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4" y="17806"/>
                </a:lnTo>
                <a:lnTo>
                  <a:pt x="17834" y="3794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2" name="Picture 7" descr="Цветаева_Марина"/>
          <p:cNvPicPr/>
          <p:nvPr/>
        </p:nvPicPr>
        <p:blipFill>
          <a:blip r:embed="rId1"/>
          <a:stretch/>
        </p:blipFill>
        <p:spPr>
          <a:xfrm>
            <a:off x="395280" y="2421000"/>
            <a:ext cx="2670120" cy="381636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2197080" y="2708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9000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Кто создан из камня, кто создан из глины,-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А я серебрюсь и сверкаю!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Мне дело – измена, мне имя Марина,</a:t>
            </a:r>
            <a:br>
              <a:rPr sz="2400"/>
            </a:br>
            <a:r>
              <a:rPr b="1" i="1" lang="ru-RU" sz="2400" spc="-1" strike="noStrike">
                <a:solidFill>
                  <a:srgbClr val="fa2b5c"/>
                </a:solidFill>
                <a:latin typeface="Book Antiqua"/>
              </a:rPr>
              <a:t>Я- бренная пена морска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3276720" y="2637000"/>
            <a:ext cx="614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Марина Ивановна Цветаева родилась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Москве 26 сентября 1892 года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 субботы на воскресенье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на Иоанна Богослова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уютном особняке одного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из старинных московских переулко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ill Sans MT"/>
              </a:rPr>
              <a:t>РОДИТЕЛИ ПОЭТЕСС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419280" y="1557360"/>
            <a:ext cx="54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Gill Sans MT"/>
              </a:rPr>
              <a:t>Профессор Московского университета, искусствовед, филолог, директор Румянцевского музея и основатель Музея изящных искусст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«Талантливая пианистка, она открыла глаза детям на вечное чудо-природу, одарила их  многими радостями детства, дала им в руки лучшие в мире книги.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Gill Sans MT"/>
              </a:rPr>
              <a:t>Ариадна Эфрон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8" name="Picture 4" descr="Цветаева_род 00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16000" y="126828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Цветаева_род"/>
          <p:cNvPicPr/>
          <p:nvPr/>
        </p:nvPicPr>
        <p:blipFill>
          <a:blip r:embed="rId2"/>
          <a:stretch/>
        </p:blipFill>
        <p:spPr>
          <a:xfrm>
            <a:off x="900000" y="4076640"/>
            <a:ext cx="2448000" cy="230364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10"/>
          <p:cNvSpPr/>
          <p:nvPr/>
        </p:nvSpPr>
        <p:spPr>
          <a:xfrm>
            <a:off x="781200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7493"/>
                </a:moveTo>
                <a:lnTo>
                  <a:pt x="13500" y="7493"/>
                </a:lnTo>
                <a:lnTo>
                  <a:pt x="13500" y="12828"/>
                </a:lnTo>
                <a:cubicBezTo>
                  <a:pt x="13500" y="13751"/>
                  <a:pt x="14301" y="14482"/>
                  <a:pt x="15337" y="14482"/>
                </a:cubicBezTo>
                <a:lnTo>
                  <a:pt x="16999" y="14482"/>
                </a:lnTo>
                <a:cubicBezTo>
                  <a:pt x="18035" y="14482"/>
                  <a:pt x="18835" y="13751"/>
                  <a:pt x="18835" y="12828"/>
                </a:cubicBezTo>
                <a:lnTo>
                  <a:pt x="18835" y="7493"/>
                </a:lnTo>
                <a:lnTo>
                  <a:pt x="16999" y="7493"/>
                </a:lnTo>
                <a:lnTo>
                  <a:pt x="20507" y="3985"/>
                </a:lnTo>
                <a:lnTo>
                  <a:pt x="24180" y="7493"/>
                </a:lnTo>
                <a:lnTo>
                  <a:pt x="22343" y="7493"/>
                </a:lnTo>
                <a:lnTo>
                  <a:pt x="22343" y="12828"/>
                </a:lnTo>
                <a:cubicBezTo>
                  <a:pt x="22343" y="15596"/>
                  <a:pt x="19767" y="18155"/>
                  <a:pt x="16999" y="18155"/>
                </a:cubicBezTo>
                <a:lnTo>
                  <a:pt x="15337" y="18155"/>
                </a:lnTo>
                <a:cubicBezTo>
                  <a:pt x="12569" y="18155"/>
                  <a:pt x="9993" y="15596"/>
                  <a:pt x="9993" y="12828"/>
                </a:cubicBez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Пусть я лишь стих в твоем альбоме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Едва поющий, как родник;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(ты стал мне лучшею из книг,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А их не мало в старом доме!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                          </a:t>
            </a:r>
            <a:r>
              <a:rPr b="1" i="1" lang="ru-RU" sz="1900" spc="-1" strike="noStrike">
                <a:solidFill>
                  <a:srgbClr val="ff0000"/>
                </a:solidFill>
                <a:latin typeface="Gill Sans MT"/>
              </a:rPr>
              <a:t>«Надпись в альбом»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Искренние, непосредственные и чистые стихи восемнадцатилетней Марины Цветаевой из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Ее первого сборника «Вечерний альбом» (1910г.)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Понравились Максимилиану Волошину,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900" spc="-1" strike="noStrike">
                <a:solidFill>
                  <a:srgbClr val="cc3399"/>
                </a:solidFill>
                <a:latin typeface="Gill Sans MT"/>
              </a:rPr>
              <a:t>который стал другом на всю жизнь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700" spc="-1" strike="noStrike">
                <a:solidFill>
                  <a:srgbClr val="cc3399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2" name="Picture 9" descr="Цветаева_кн"/>
          <p:cNvPicPr/>
          <p:nvPr/>
        </p:nvPicPr>
        <p:blipFill>
          <a:blip r:embed="rId1"/>
          <a:stretch/>
        </p:blipFill>
        <p:spPr>
          <a:xfrm>
            <a:off x="7164360" y="1125360"/>
            <a:ext cx="1584360" cy="21862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2" descr="Волошин"/>
          <p:cNvPicPr/>
          <p:nvPr/>
        </p:nvPicPr>
        <p:blipFill>
          <a:blip r:embed="rId2"/>
          <a:stretch/>
        </p:blipFill>
        <p:spPr>
          <a:xfrm>
            <a:off x="395280" y="4221000"/>
            <a:ext cx="1728720" cy="2116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"/>
          <p:cNvSpPr/>
          <p:nvPr/>
        </p:nvSpPr>
        <p:spPr>
          <a:xfrm>
            <a:off x="75564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97964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AutoShape 15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079640" cy="5763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49" h="21600">
                <a:moveTo>
                  <a:pt x="0" y="0"/>
                </a:moveTo>
                <a:lnTo>
                  <a:pt x="40449" y="0"/>
                </a:lnTo>
                <a:lnTo>
                  <a:pt x="40449" y="21600"/>
                </a:lnTo>
                <a:lnTo>
                  <a:pt x="0" y="21600"/>
                </a:lnTo>
                <a:close/>
              </a:path>
              <a:path fill="lightenLess" w="40449" h="21600">
                <a:moveTo>
                  <a:pt x="0" y="0"/>
                </a:moveTo>
                <a:lnTo>
                  <a:pt x="40449" y="0"/>
                </a:lnTo>
                <a:lnTo>
                  <a:pt x="39049" y="1400"/>
                </a:lnTo>
                <a:lnTo>
                  <a:pt x="1400" y="1400"/>
                </a:lnTo>
                <a:close/>
              </a:path>
              <a:path fill="darken" w="40449" h="21600">
                <a:moveTo>
                  <a:pt x="40449" y="0"/>
                </a:moveTo>
                <a:lnTo>
                  <a:pt x="40449" y="21600"/>
                </a:lnTo>
                <a:lnTo>
                  <a:pt x="39049" y="20200"/>
                </a:lnTo>
                <a:lnTo>
                  <a:pt x="39049" y="1400"/>
                </a:lnTo>
                <a:close/>
              </a:path>
              <a:path fill="darkenLess" w="40449" h="21600">
                <a:moveTo>
                  <a:pt x="40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9" y="20200"/>
                </a:lnTo>
                <a:close/>
              </a:path>
              <a:path fill="lighten" w="40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9" h="21600">
                <a:moveTo>
                  <a:pt x="13218" y="10800"/>
                </a:moveTo>
                <a:lnTo>
                  <a:pt x="27231" y="3794"/>
                </a:lnTo>
                <a:lnTo>
                  <a:pt x="27231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AutoShape 16">
            <a:hlinkClick r:id="" action="ppaction://hlinkshowjump?jump=previousslide"/>
          </p:cNvPr>
          <p:cNvSpPr/>
          <p:nvPr/>
        </p:nvSpPr>
        <p:spPr>
          <a:xfrm>
            <a:off x="8172360" y="6524640"/>
            <a:ext cx="71640" cy="73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032">
                <a:moveTo>
                  <a:pt x="0" y="0"/>
                </a:moveTo>
                <a:lnTo>
                  <a:pt x="21600" y="0"/>
                </a:lnTo>
                <a:lnTo>
                  <a:pt x="21600" y="22032"/>
                </a:lnTo>
                <a:lnTo>
                  <a:pt x="0" y="22032"/>
                </a:lnTo>
                <a:close/>
              </a:path>
              <a:path fill="lightenLess" w="21600" h="22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32">
                <a:moveTo>
                  <a:pt x="21600" y="0"/>
                </a:moveTo>
                <a:lnTo>
                  <a:pt x="21600" y="22032"/>
                </a:lnTo>
                <a:lnTo>
                  <a:pt x="20200" y="20632"/>
                </a:lnTo>
                <a:lnTo>
                  <a:pt x="20200" y="1400"/>
                </a:lnTo>
                <a:close/>
              </a:path>
              <a:path fill="darkenLess" w="21600" h="22032">
                <a:moveTo>
                  <a:pt x="21600" y="22032"/>
                </a:moveTo>
                <a:lnTo>
                  <a:pt x="0" y="22032"/>
                </a:lnTo>
                <a:lnTo>
                  <a:pt x="1400" y="20632"/>
                </a:lnTo>
                <a:lnTo>
                  <a:pt x="20200" y="20632"/>
                </a:lnTo>
                <a:close/>
              </a:path>
              <a:path fill="lighten" w="21600" h="22032">
                <a:moveTo>
                  <a:pt x="0" y="22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32"/>
                </a:lnTo>
                <a:close/>
              </a:path>
              <a:path fill="darken" w="21600" h="22032">
                <a:moveTo>
                  <a:pt x="3794" y="11016"/>
                </a:moveTo>
                <a:lnTo>
                  <a:pt x="17806" y="4010"/>
                </a:lnTo>
                <a:lnTo>
                  <a:pt x="17806" y="18022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Gill Sans MT"/>
              </a:rPr>
              <a:t>МАРИНА ЦВЕТАЕВА И СЕРГЕЙ ЭФРОН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51280" y="1626840"/>
            <a:ext cx="4114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Gill Sans MT"/>
              </a:rPr>
              <a:t>Они встретились 5 мая 1911 г. на пустынном коктебельском берегу. «Заглянув в его глаза и все прочтя наперед, Марина загадала: если он найдет и подарит ей сердолик, то выйдет за него замуж. Конечно же, сердолик этот он нашел тотчас же, на ощупь, ибо не отрывал своих серых глаз от ее зеленых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0" name="Picture 4" descr="Цветаева_солд"/>
          <p:cNvPicPr/>
          <p:nvPr/>
        </p:nvPicPr>
        <p:blipFill>
          <a:blip r:embed="rId1"/>
          <a:stretch/>
        </p:blipFill>
        <p:spPr>
          <a:xfrm>
            <a:off x="539640" y="1773360"/>
            <a:ext cx="2952720" cy="3817800"/>
          </a:xfrm>
          <a:prstGeom prst="rect">
            <a:avLst/>
          </a:prstGeom>
          <a:ln w="0">
            <a:noFill/>
          </a:ln>
        </p:spPr>
      </p:pic>
      <p:sp>
        <p:nvSpPr>
          <p:cNvPr id="691" name="AutoShape 8"/>
          <p:cNvSpPr/>
          <p:nvPr/>
        </p:nvSpPr>
        <p:spPr>
          <a:xfrm>
            <a:off x="7308720" y="5805360"/>
            <a:ext cx="1150920" cy="64800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8355" h="21600">
                <a:moveTo>
                  <a:pt x="0" y="0"/>
                </a:moveTo>
                <a:lnTo>
                  <a:pt x="38355" y="0"/>
                </a:lnTo>
                <a:lnTo>
                  <a:pt x="38355" y="21600"/>
                </a:lnTo>
                <a:lnTo>
                  <a:pt x="0" y="21600"/>
                </a:lnTo>
                <a:close/>
              </a:path>
              <a:path fill="lightenLess" w="38355" h="21600">
                <a:moveTo>
                  <a:pt x="0" y="0"/>
                </a:moveTo>
                <a:lnTo>
                  <a:pt x="38355" y="0"/>
                </a:lnTo>
                <a:lnTo>
                  <a:pt x="36955" y="1400"/>
                </a:lnTo>
                <a:lnTo>
                  <a:pt x="1400" y="1400"/>
                </a:lnTo>
                <a:close/>
              </a:path>
              <a:path fill="darken" w="38355" h="21600">
                <a:moveTo>
                  <a:pt x="38355" y="0"/>
                </a:moveTo>
                <a:lnTo>
                  <a:pt x="38355" y="21600"/>
                </a:lnTo>
                <a:lnTo>
                  <a:pt x="36955" y="20200"/>
                </a:lnTo>
                <a:lnTo>
                  <a:pt x="36955" y="1400"/>
                </a:lnTo>
                <a:close/>
              </a:path>
              <a:path fill="darkenLess" w="38355" h="21600">
                <a:moveTo>
                  <a:pt x="38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55" y="20200"/>
                </a:lnTo>
                <a:close/>
              </a:path>
              <a:path fill="lighten" w="38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55" h="21600">
                <a:moveTo>
                  <a:pt x="12171" y="10800"/>
                </a:moveTo>
                <a:lnTo>
                  <a:pt x="26184" y="3794"/>
                </a:lnTo>
                <a:lnTo>
                  <a:pt x="26184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03848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Обвенчались Марина и Сергей Эфрон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27 января 1912 года. Эфрон подарил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любимой кольцо, на внутренней стороне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ill Sans MT"/>
              </a:rPr>
              <a:t>которого была выгравирована дата свадьбы и имя «Марина»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Я с вызовом ношу его кольцо!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-Да, в Вечности – жена, не на бумаге! –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Чрезмерно узкое лицо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Подобно шпаге…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Picture 4" descr="Цветаева_муж"/>
          <p:cNvPicPr/>
          <p:nvPr/>
        </p:nvPicPr>
        <p:blipFill>
          <a:blip r:embed="rId1"/>
          <a:stretch/>
        </p:blipFill>
        <p:spPr>
          <a:xfrm>
            <a:off x="395280" y="981000"/>
            <a:ext cx="4292640" cy="4464000"/>
          </a:xfrm>
          <a:prstGeom prst="rect">
            <a:avLst/>
          </a:prstGeom>
          <a:ln w="0">
            <a:noFill/>
          </a:ln>
        </p:spPr>
      </p:pic>
      <p:sp>
        <p:nvSpPr>
          <p:cNvPr id="695" name="AutoShape 5"/>
          <p:cNvSpPr/>
          <p:nvPr/>
        </p:nvSpPr>
        <p:spPr>
          <a:xfrm>
            <a:off x="7812000" y="5805360"/>
            <a:ext cx="1081080" cy="64800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6028" h="21600">
                <a:moveTo>
                  <a:pt x="0" y="0"/>
                </a:moveTo>
                <a:lnTo>
                  <a:pt x="36028" y="0"/>
                </a:lnTo>
                <a:lnTo>
                  <a:pt x="36028" y="21600"/>
                </a:lnTo>
                <a:lnTo>
                  <a:pt x="0" y="21600"/>
                </a:lnTo>
                <a:close/>
              </a:path>
              <a:path fill="lightenLess" w="36028" h="21600">
                <a:moveTo>
                  <a:pt x="0" y="0"/>
                </a:moveTo>
                <a:lnTo>
                  <a:pt x="36028" y="0"/>
                </a:lnTo>
                <a:lnTo>
                  <a:pt x="34628" y="1400"/>
                </a:lnTo>
                <a:lnTo>
                  <a:pt x="1400" y="1400"/>
                </a:lnTo>
                <a:close/>
              </a:path>
              <a:path fill="darken" w="36028" h="21600">
                <a:moveTo>
                  <a:pt x="36028" y="0"/>
                </a:moveTo>
                <a:lnTo>
                  <a:pt x="36028" y="21600"/>
                </a:lnTo>
                <a:lnTo>
                  <a:pt x="34628" y="20200"/>
                </a:lnTo>
                <a:lnTo>
                  <a:pt x="34628" y="1400"/>
                </a:lnTo>
                <a:close/>
              </a:path>
              <a:path fill="darkenLess" w="36028" h="21600">
                <a:moveTo>
                  <a:pt x="36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8" y="20200"/>
                </a:lnTo>
                <a:close/>
              </a:path>
              <a:path fill="lighten" w="36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8" h="21600">
                <a:moveTo>
                  <a:pt x="11008" y="10800"/>
                </a:moveTo>
                <a:lnTo>
                  <a:pt x="25020" y="3794"/>
                </a:lnTo>
                <a:lnTo>
                  <a:pt x="25020" y="17806"/>
                </a:lnTo>
                <a:close/>
              </a:path>
            </a:pathLst>
          </a:custGeom>
          <a:solidFill>
            <a:srgbClr val="b71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2:45:55Z</dcterms:created>
  <dc:creator>Школа</dc:creator>
  <dc:description/>
  <dc:language>en-US</dc:language>
  <cp:lastModifiedBy>Afize</cp:lastModifiedBy>
  <dcterms:modified xsi:type="dcterms:W3CDTF">2023-01-22T16:01:39Z</dcterms:modified>
  <cp:revision>39</cp:revision>
  <dc:subject/>
  <dc:title>«Бренная пена морская» ( По лирике М.Цветаевой)</dc:title>
</cp:coreProperties>
</file>