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6A32-B877-4741-8E44-D5630E2AD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7DBD-D70A-4920-A1F4-36EB72078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1038-B1AD-4D17-901B-D226DEB91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DBD5-0304-4354-9DA7-57D6B6A4C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721C-FBD2-4818-A98C-07A818E22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E6C3-1A96-491A-9555-2D88B8CBE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8171-A4B6-4E02-9025-14F87A142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82CF-ED97-43F8-8484-47CD0A34E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0C4C-FD29-419F-BEFD-91A64AF65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F7EB-0EC1-49FA-90C8-8372A208B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2560-CC72-401D-8D42-852E99557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BF5C-1C6D-4EB9-AB6D-43FB15F28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933AA-DA76-4259-B3A9-9636D600BF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24000" y="-243000"/>
            <a:ext cx="97250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339640" y="1341360"/>
            <a:ext cx="58323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орого яичко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 Христову дню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390560" y="3860280"/>
            <a:ext cx="4753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а ученица 3-б клас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Волосовская начальная общеобразовательная школ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трозашвили Ди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16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84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радиция красить яйца у различных народностей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03640" y="3933360"/>
            <a:ext cx="550872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 древних народов яйца считались символом новой жизни и творящей силы природ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492360" y="1628640"/>
            <a:ext cx="4105440" cy="21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11280" y="2599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чему яйца красили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 красный цве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980640"/>
            <a:ext cx="403848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означает жизнь и здоров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означает плодородие и урожа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щищает и оберегает от злых дух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имволизировал кровь Хрис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292720" y="1557360"/>
            <a:ext cx="352908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92360" y="33300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расное пасхальное яйцо связано с обычая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71640" y="1483920"/>
            <a:ext cx="49752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может найти заблудившуюся скотин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ороший урожай  ль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могает бороться с пожар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508720" y="1773360"/>
            <a:ext cx="3132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32000" y="2599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ифические истории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явления пасхальных яиц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32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 время Великого поста верующим запрещалось есть яйца, из-за чего они портились, поэтому люди стали варить яйца и окрашивать их, чтобы не спутать с сыры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484360" y="2421000"/>
            <a:ext cx="223200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47280" y="188640"/>
            <a:ext cx="73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ифические истории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явления пасхальных яиц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69236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вое пасхальное яйцо преподнесла в дар римскому императору Тиберию Мария Магдали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508720" y="1484280"/>
            <a:ext cx="347976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34920" y="259920"/>
            <a:ext cx="69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ифические истории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явления пасхальных яиц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63280" y="14130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Воскресение Христово шла женщина с корзинкой яиц и всем рассказывала светлую весть о Воскресении Господ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435640" y="1916280"/>
            <a:ext cx="3456000" cy="30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834920" y="259920"/>
            <a:ext cx="70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радиции крашения яиц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88000" y="1341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вещенное пасхальное яйцо было первой пищей на Пасху, оно чистилось и делилось поровну между всеми членами семь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547640" y="1700280"/>
            <a:ext cx="316872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18:02:04Z</dcterms:created>
  <dc:creator>ПАВЕЛ</dc:creator>
  <dc:description/>
  <dc:language>en-US</dc:language>
  <cp:lastModifiedBy>ПАВЕЛ</cp:lastModifiedBy>
  <dcterms:modified xsi:type="dcterms:W3CDTF">2016-04-11T19:47:56Z</dcterms:modified>
  <cp:revision>11</cp:revision>
  <dc:subject/>
  <dc:title>“Дорого яичко  к Христову дню" </dc:title>
</cp:coreProperties>
</file>