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51C-46C5-46F3-9182-2F7E1B2B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AB7-C8C0-4435-BFD5-5AF8671C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937-35B2-47B6-8F47-4B6FC593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C23-195E-48DF-B9DC-03563B37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11E-9EEC-4707-8962-0AE8BA2A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513-2170-442A-9018-D424F06D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569-E358-4BE3-939B-68861776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543-321E-4CB5-A397-8D9DA89B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264-E912-40AC-9675-2C1B3B40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01E-0630-487D-AF2E-E5672B14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310-0168-4486-8FC3-227DCA0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BC4-1EF6-428D-8524-EC007562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FEFD-4CD9-4F0F-ACC4-40668273D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39640" y="1341360"/>
            <a:ext cx="583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рого яичк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 Христову дн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90560" y="3860280"/>
            <a:ext cx="475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ученица 3-б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олосовская началь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зашвили Ди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адиция красить яйца у различных народност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03640" y="3933360"/>
            <a:ext cx="5508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древних народов яйца считались символом новой жизни и творящей силы при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410544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чему яйца красил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расный цв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98064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значает жизнь и 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значает плодородие и урожа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щищает и оберегает от злых дух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волизировал кровь Хри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529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асное пасхальное яйцо связано с обыча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49752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ожет найти заблудившуюся скот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оший урожай  ль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огает бороться с пожа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08720" y="1773360"/>
            <a:ext cx="313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ифические истор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явления пасхальных я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ремя Великого поста верующим запрещалось есть яйца, из-за чего они портились, поэтому люди стали варить яйца и окрашивать их, чтобы не спутать с сыр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2232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73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ифические истор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явления пасхальных я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92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ое пасхальное яйцо преподнесла в дар римскому императору Тиберию Мария Магдал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3479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69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ифические истор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явления пасхальных я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Воскресение Христово шла женщина с корзинкой яиц и всем рассказывала светлую весть о Воскресении Госп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345600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диции крашения яи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880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вещенное пасхальное яйцо было первой пищей на Пасху, оно чистилось и делилось поровну между всеми членам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3168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8:02:04Z</dcterms:created>
  <dc:creator>ПАВЕЛ</dc:creator>
  <dc:description/>
  <dc:language>en-US</dc:language>
  <cp:lastModifiedBy>ПАВЕЛ</cp:lastModifiedBy>
  <dcterms:modified xsi:type="dcterms:W3CDTF">2016-04-11T19:47:56Z</dcterms:modified>
  <cp:revision>11</cp:revision>
  <dc:subject/>
  <dc:title>“Дорого яичко  к Христову дню" </dc:title>
</cp:coreProperties>
</file>