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E1E-7B5C-4921-849A-8F4FA91CB39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amous peopl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BF9-C3DA-45A7-98E1-D87AFE895E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ok at the picture. Who is this person? What does sh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563-AC2C-4C22-8A15-D9E964B502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6E8-D22F-495D-A00C-8B6EC136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76D-A3E0-49DF-A0BD-1E7EC9A0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7CA-34D7-42DC-8660-F744E0AF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CAE-627A-4B31-917A-A61AE0C0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CA3-886D-4916-B9BF-0A7F3295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7551-CE2F-4545-B19E-E32428E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A27-CE14-435B-A614-23DEB0F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E9F7-B9DD-48AE-96F7-D44F5374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12B-D916-4B60-A6EE-4234DAB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F3B5-B443-417E-BF3F-747414CE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0BB-85ED-49A4-B76A-EC4EF24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580-A34F-48FD-A91E-3F97ECE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9505-EC57-4774-BCA7-55999AC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02A-153A-446B-8132-C8C0325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43EB-71E7-4FC8-859F-BC86964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84F-85E7-42E9-A4FF-03DFE91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4D9-7502-4375-8749-FF1E0DA4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4DD-1442-4F1E-AE53-8A7B9EFA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63-1DCB-4D9B-B494-29DE39BC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774-A6CE-4106-A694-E5B16D1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CCD-FFF0-4AB4-A0C3-6412DA8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1F6-5902-416C-9134-C29CCD8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A51-8411-464A-B5F5-A5A4459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E63-5BBA-44A3-BD6D-9390EE6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58F7-1E9D-4E57-BBCB-2500FBFC3B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ADF-9611-4755-AB66-6659AD64001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2195640" y="56260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Famous 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3" descr="C:\Users\user\Downloads\unnamed-2.jpg"/>
          <p:cNvPicPr/>
          <p:nvPr/>
        </p:nvPicPr>
        <p:blipFill>
          <a:blip r:embed="rId1"/>
          <a:stretch/>
        </p:blipFill>
        <p:spPr>
          <a:xfrm>
            <a:off x="0" y="7920"/>
            <a:ext cx="1889280" cy="1765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C:\Users\user\Downloads\b66f54be4c3921c5b67df50613c2639a.jpeg"/>
          <p:cNvPicPr/>
          <p:nvPr/>
        </p:nvPicPr>
        <p:blipFill>
          <a:blip r:embed="rId2"/>
          <a:stretch/>
        </p:blipFill>
        <p:spPr>
          <a:xfrm>
            <a:off x="1736640" y="79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4494131_clip_image008_thumb"/>
          <p:cNvPicPr/>
          <p:nvPr/>
        </p:nvPicPr>
        <p:blipFill>
          <a:blip r:embed="rId3"/>
          <a:stretch/>
        </p:blipFill>
        <p:spPr>
          <a:xfrm>
            <a:off x="7056360" y="3917880"/>
            <a:ext cx="1982880" cy="2906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user\Downloads\7a6404a01413ed254804d5022751f1b1.jpg"/>
          <p:cNvPicPr/>
          <p:nvPr/>
        </p:nvPicPr>
        <p:blipFill>
          <a:blip r:embed="rId4"/>
          <a:stretch/>
        </p:blipFill>
        <p:spPr>
          <a:xfrm>
            <a:off x="2340000" y="1654200"/>
            <a:ext cx="3672000" cy="2338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:\Users\user\Downloads\pushkin2.jpg"/>
          <p:cNvPicPr/>
          <p:nvPr/>
        </p:nvPicPr>
        <p:blipFill>
          <a:blip r:embed="rId5"/>
          <a:stretch/>
        </p:blipFill>
        <p:spPr>
          <a:xfrm>
            <a:off x="7236000" y="7920"/>
            <a:ext cx="1912680" cy="2347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:\Users\user\Downloads\gagarin_nov.jpg"/>
          <p:cNvPicPr/>
          <p:nvPr/>
        </p:nvPicPr>
        <p:blipFill>
          <a:blip r:embed="rId6"/>
          <a:stretch/>
        </p:blipFill>
        <p:spPr>
          <a:xfrm>
            <a:off x="-6480" y="1733400"/>
            <a:ext cx="2394000" cy="2197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C:\Users\user\Downloads\663f0e48f15a63bf5ce020e8bd04022c.jpg"/>
          <p:cNvPicPr/>
          <p:nvPr/>
        </p:nvPicPr>
        <p:blipFill>
          <a:blip r:embed="rId7"/>
          <a:stretch/>
        </p:blipFill>
        <p:spPr>
          <a:xfrm>
            <a:off x="39600" y="3930480"/>
            <a:ext cx="2054160" cy="2927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C:\Users\user\Downloads\scale_1200.jpeg"/>
          <p:cNvPicPr/>
          <p:nvPr/>
        </p:nvPicPr>
        <p:blipFill>
          <a:blip r:embed="rId8"/>
          <a:stretch/>
        </p:blipFill>
        <p:spPr>
          <a:xfrm>
            <a:off x="3914640" y="3930480"/>
            <a:ext cx="3135600" cy="1793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C:\Users\user\Downloads\einstein-1.jpg"/>
          <p:cNvPicPr/>
          <p:nvPr/>
        </p:nvPicPr>
        <p:blipFill>
          <a:blip r:embed="rId9"/>
          <a:stretch/>
        </p:blipFill>
        <p:spPr>
          <a:xfrm>
            <a:off x="2111400" y="3930480"/>
            <a:ext cx="1884240" cy="1793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C:\Users\user\Downloads\6f0ed8016b9a904c9b1af18d0535c77b.jpg"/>
          <p:cNvPicPr/>
          <p:nvPr/>
        </p:nvPicPr>
        <p:blipFill>
          <a:blip r:embed="rId10"/>
          <a:stretch/>
        </p:blipFill>
        <p:spPr>
          <a:xfrm>
            <a:off x="4335480" y="0"/>
            <a:ext cx="290052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C:\Users\user\Downloads\1561181616_0_0_2048_1348_1920x0_80_0_0_a6ea5ec098c9bbac9ba770460e81966b.jpg"/>
          <p:cNvPicPr/>
          <p:nvPr/>
        </p:nvPicPr>
        <p:blipFill>
          <a:blip r:embed="rId11"/>
          <a:stretch/>
        </p:blipFill>
        <p:spPr>
          <a:xfrm>
            <a:off x="5867280" y="1658880"/>
            <a:ext cx="32655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C:\Users\user\Downloads\maxresdefault.jpg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C:\Users\user\Downloads\2022-12-08_00-27-44.png"/>
          <p:cNvPicPr/>
          <p:nvPr/>
        </p:nvPicPr>
        <p:blipFill>
          <a:blip r:embed="rId1"/>
          <a:stretch/>
        </p:blipFill>
        <p:spPr>
          <a:xfrm>
            <a:off x="719280" y="119160"/>
            <a:ext cx="770544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826920" y="63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task is to say the words associated wit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bbies  and favo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Овал 2" descr=""/>
          <p:cNvPicPr/>
          <p:nvPr/>
        </p:nvPicPr>
        <p:blipFill>
          <a:blip r:embed="rId1"/>
          <a:stretch/>
        </p:blipFill>
        <p:spPr>
          <a:xfrm>
            <a:off x="2687760" y="2395440"/>
            <a:ext cx="3805200" cy="14637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108000" y="1712880"/>
            <a:ext cx="259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in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s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ying the gui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ying langu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7020000" y="1684440"/>
            <a:ext cx="190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b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lthy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wal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i?id=9943d5d9d0dd13c43f7baea8a758e2cf-l&amp;n=13"/>
          <p:cNvPicPr/>
          <p:nvPr/>
        </p:nvPicPr>
        <p:blipFill>
          <a:blip r:embed="rId1"/>
          <a:stretch/>
        </p:blipFill>
        <p:spPr>
          <a:xfrm>
            <a:off x="2124000" y="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hael-jackson1"/>
          <p:cNvPicPr/>
          <p:nvPr/>
        </p:nvPicPr>
        <p:blipFill>
          <a:blip r:embed="rId2"/>
          <a:stretch/>
        </p:blipFill>
        <p:spPr>
          <a:xfrm>
            <a:off x="0" y="0"/>
            <a:ext cx="2635200" cy="27813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1187280" y="4059360"/>
            <a:ext cx="71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Georgia"/>
              </a:rPr>
              <a:t>Look at the picture. Who is this person? What does he look lik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5" descr="МАле"/>
          <p:cNvPicPr/>
          <p:nvPr/>
        </p:nvPicPr>
        <p:blipFill>
          <a:blip r:embed="rId3"/>
          <a:stretch/>
        </p:blipFill>
        <p:spPr>
          <a:xfrm>
            <a:off x="5219640" y="-4680"/>
            <a:ext cx="388944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179280" y="-2520"/>
            <a:ext cx="60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Michael Joseph Jackso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mous American singer, dancer, song wri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was born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on the 29th of August, 1958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in the state of Indiana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had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five brother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three  sisters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bbies: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music and danci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can: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dance and s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s styles of dance are moonwalk and rob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ichael-Jackson-Bad-Era-michael-jackson-9688224-645-926"/>
          <p:cNvPicPr/>
          <p:nvPr/>
        </p:nvPicPr>
        <p:blipFill>
          <a:blip r:embed="rId1"/>
          <a:stretch/>
        </p:blipFill>
        <p:spPr>
          <a:xfrm>
            <a:off x="6248520" y="115920"/>
            <a:ext cx="26128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468360" y="620640"/>
            <a:ext cx="73436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d the information and complete the prof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ichael Jackson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name:…………………………………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from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 of Birth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y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bbies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can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C:\Users\user\Desktop\Английский в Фокусе\5 класс\Учитель Года 08.12.22\Путин для слайда.jpg"/>
          <p:cNvPicPr/>
          <p:nvPr/>
        </p:nvPicPr>
        <p:blipFill>
          <a:blip r:embed="rId1"/>
          <a:stretch/>
        </p:blipFill>
        <p:spPr>
          <a:xfrm>
            <a:off x="2185920" y="15840"/>
            <a:ext cx="47624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C:\Users\user\Desktop\Английский в Фокусе\5 класс\Учитель Года 08.12.22\Елизавета 2.jpg"/>
          <p:cNvPicPr/>
          <p:nvPr/>
        </p:nvPicPr>
        <p:blipFill>
          <a:blip r:embed="rId1"/>
          <a:stretch/>
        </p:blipFill>
        <p:spPr>
          <a:xfrm>
            <a:off x="10800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C:\Users\user\Downloads\97859a5bdc28b77b203ed6edba10ca28.jpg"/>
          <p:cNvPicPr/>
          <p:nvPr/>
        </p:nvPicPr>
        <p:blipFill>
          <a:blip r:embed="rId1"/>
          <a:stretch/>
        </p:blipFill>
        <p:spPr>
          <a:xfrm>
            <a:off x="1835280" y="135000"/>
            <a:ext cx="534816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C:\Users\user\Desktop\Английский в Фокусе\5 класс\Учитель Года 08.12.22\Дениэль Редклиф 1.png"/>
          <p:cNvPicPr/>
          <p:nvPr/>
        </p:nvPicPr>
        <p:blipFill>
          <a:blip r:embed="rId1"/>
          <a:stretch/>
        </p:blipFill>
        <p:spPr>
          <a:xfrm>
            <a:off x="108000" y="30240"/>
            <a:ext cx="88866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4:25:28Z</dcterms:created>
  <dc:creator>halva</dc:creator>
  <dc:description/>
  <dc:language>en-US</dc:language>
  <cp:lastModifiedBy>user</cp:lastModifiedBy>
  <dcterms:modified xsi:type="dcterms:W3CDTF">2023-01-23T20:13:13Z</dcterms:modified>
  <cp:revision>111</cp:revision>
  <dc:subject/>
  <dc:title>Слайд 1</dc:title>
</cp:coreProperties>
</file>