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2B37-E9D8-4AEB-98A6-F5431E95CDC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amous peopl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8DE-7352-4444-95BE-0BEBC778B9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ok at the picture. Who is this person? What does sh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E0C-777E-4E30-83B3-4A0B9BF0A9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550-FD69-494F-8BC0-3885A09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6B4-DDA9-478E-A5C1-5F5D4A9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762-34BA-4764-8DFB-949A6CFE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B45-E103-4DF1-A7CB-5ABE5071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2AC-37D4-4315-88D1-B3FB7018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88B5-F59E-4AC2-AB59-74DB946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976-C4E1-40B5-95C9-C584F6C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5427-5DD4-4D43-96BA-61FF8188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FFB-88CF-4C4C-8605-78A4B95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5CC4-F031-41F5-BD61-F59BCE6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B14-6C84-4DE5-AE5C-7DDE9BC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6CF-4993-434D-BBD7-A9469B03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4F53-56CB-4537-AAF7-F38588C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708-7B3C-4822-AD9E-C18C60A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5BCA-84D6-4FDB-AA42-66391F2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6F2F-5E53-4B69-852E-75CF9B61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EDDD-6E75-4DF9-B5E9-DEEE705C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9BF-0D3D-4FEB-AE70-A0E7A7E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AEB-7E27-40C3-96AE-92A8FF23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862-FE93-4A60-951D-50083EE8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478-B1A8-48AF-8FBF-D582CE1A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CAB-1266-4724-A402-FFE674B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024-7642-43F7-BDD1-723CB55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36E-8DB2-48F1-9E51-86CC502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03F2-127C-40B3-B775-0F7B13C4CD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43CA-38AA-4CAF-9D96-49D59186956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2195640" y="56260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Famous 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3" descr="C:\Users\user\Downloads\unnamed-2.jpg"/>
          <p:cNvPicPr/>
          <p:nvPr/>
        </p:nvPicPr>
        <p:blipFill>
          <a:blip r:embed="rId1"/>
          <a:stretch/>
        </p:blipFill>
        <p:spPr>
          <a:xfrm>
            <a:off x="0" y="7920"/>
            <a:ext cx="1889280" cy="1765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C:\Users\user\Downloads\b66f54be4c3921c5b67df50613c2639a.jpeg"/>
          <p:cNvPicPr/>
          <p:nvPr/>
        </p:nvPicPr>
        <p:blipFill>
          <a:blip r:embed="rId2"/>
          <a:stretch/>
        </p:blipFill>
        <p:spPr>
          <a:xfrm>
            <a:off x="1736640" y="79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4494131_clip_image008_thumb"/>
          <p:cNvPicPr/>
          <p:nvPr/>
        </p:nvPicPr>
        <p:blipFill>
          <a:blip r:embed="rId3"/>
          <a:stretch/>
        </p:blipFill>
        <p:spPr>
          <a:xfrm>
            <a:off x="7056360" y="3917880"/>
            <a:ext cx="1982880" cy="2906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user\Downloads\7a6404a01413ed254804d5022751f1b1.jpg"/>
          <p:cNvPicPr/>
          <p:nvPr/>
        </p:nvPicPr>
        <p:blipFill>
          <a:blip r:embed="rId4"/>
          <a:stretch/>
        </p:blipFill>
        <p:spPr>
          <a:xfrm>
            <a:off x="2340000" y="1654200"/>
            <a:ext cx="3672000" cy="2338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:\Users\user\Downloads\pushkin2.jpg"/>
          <p:cNvPicPr/>
          <p:nvPr/>
        </p:nvPicPr>
        <p:blipFill>
          <a:blip r:embed="rId5"/>
          <a:stretch/>
        </p:blipFill>
        <p:spPr>
          <a:xfrm>
            <a:off x="7236000" y="7920"/>
            <a:ext cx="1912680" cy="2347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:\Users\user\Downloads\gagarin_nov.jpg"/>
          <p:cNvPicPr/>
          <p:nvPr/>
        </p:nvPicPr>
        <p:blipFill>
          <a:blip r:embed="rId6"/>
          <a:stretch/>
        </p:blipFill>
        <p:spPr>
          <a:xfrm>
            <a:off x="-6480" y="1733400"/>
            <a:ext cx="2394000" cy="2197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C:\Users\user\Downloads\663f0e48f15a63bf5ce020e8bd04022c.jpg"/>
          <p:cNvPicPr/>
          <p:nvPr/>
        </p:nvPicPr>
        <p:blipFill>
          <a:blip r:embed="rId7"/>
          <a:stretch/>
        </p:blipFill>
        <p:spPr>
          <a:xfrm>
            <a:off x="39600" y="3930480"/>
            <a:ext cx="2054160" cy="2927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C:\Users\user\Downloads\scale_1200.jpeg"/>
          <p:cNvPicPr/>
          <p:nvPr/>
        </p:nvPicPr>
        <p:blipFill>
          <a:blip r:embed="rId8"/>
          <a:stretch/>
        </p:blipFill>
        <p:spPr>
          <a:xfrm>
            <a:off x="3914640" y="3930480"/>
            <a:ext cx="3135600" cy="1793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C:\Users\user\Downloads\einstein-1.jpg"/>
          <p:cNvPicPr/>
          <p:nvPr/>
        </p:nvPicPr>
        <p:blipFill>
          <a:blip r:embed="rId9"/>
          <a:stretch/>
        </p:blipFill>
        <p:spPr>
          <a:xfrm>
            <a:off x="2111400" y="3930480"/>
            <a:ext cx="1884240" cy="1793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C:\Users\user\Downloads\6f0ed8016b9a904c9b1af18d0535c77b.jpg"/>
          <p:cNvPicPr/>
          <p:nvPr/>
        </p:nvPicPr>
        <p:blipFill>
          <a:blip r:embed="rId10"/>
          <a:stretch/>
        </p:blipFill>
        <p:spPr>
          <a:xfrm>
            <a:off x="4335480" y="0"/>
            <a:ext cx="290052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C:\Users\user\Downloads\1561181616_0_0_2048_1348_1920x0_80_0_0_a6ea5ec098c9bbac9ba770460e81966b.jpg"/>
          <p:cNvPicPr/>
          <p:nvPr/>
        </p:nvPicPr>
        <p:blipFill>
          <a:blip r:embed="rId11"/>
          <a:stretch/>
        </p:blipFill>
        <p:spPr>
          <a:xfrm>
            <a:off x="5867280" y="1658880"/>
            <a:ext cx="32655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C:\Users\user\Downloads\maxresdefault.jpg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C:\Users\user\Downloads\2022-12-08_00-27-44.png"/>
          <p:cNvPicPr/>
          <p:nvPr/>
        </p:nvPicPr>
        <p:blipFill>
          <a:blip r:embed="rId1"/>
          <a:stretch/>
        </p:blipFill>
        <p:spPr>
          <a:xfrm>
            <a:off x="719280" y="119160"/>
            <a:ext cx="770544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826920" y="63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task is to say the words associated wit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bbies  and favo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Овал 2" descr=""/>
          <p:cNvPicPr/>
          <p:nvPr/>
        </p:nvPicPr>
        <p:blipFill>
          <a:blip r:embed="rId1"/>
          <a:stretch/>
        </p:blipFill>
        <p:spPr>
          <a:xfrm>
            <a:off x="2687760" y="2395440"/>
            <a:ext cx="3805200" cy="14637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108000" y="1712880"/>
            <a:ext cx="259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c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in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s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ying the gui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ying langu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7020000" y="1684440"/>
            <a:ext cx="190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otb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lthy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wal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i?id=9943d5d9d0dd13c43f7baea8a758e2cf-l&amp;n=13"/>
          <p:cNvPicPr/>
          <p:nvPr/>
        </p:nvPicPr>
        <p:blipFill>
          <a:blip r:embed="rId1"/>
          <a:stretch/>
        </p:blipFill>
        <p:spPr>
          <a:xfrm>
            <a:off x="2124000" y="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" descr="michael-jackson1"/>
          <p:cNvPicPr/>
          <p:nvPr/>
        </p:nvPicPr>
        <p:blipFill>
          <a:blip r:embed="rId2"/>
          <a:stretch/>
        </p:blipFill>
        <p:spPr>
          <a:xfrm>
            <a:off x="0" y="0"/>
            <a:ext cx="2635200" cy="27813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1187280" y="4059360"/>
            <a:ext cx="71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Georgia"/>
              </a:rPr>
              <a:t>Look at the picture. Who is this person? What does he look lik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5" descr="МАле"/>
          <p:cNvPicPr/>
          <p:nvPr/>
        </p:nvPicPr>
        <p:blipFill>
          <a:blip r:embed="rId3"/>
          <a:stretch/>
        </p:blipFill>
        <p:spPr>
          <a:xfrm>
            <a:off x="5219640" y="-4680"/>
            <a:ext cx="388944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179280" y="-2520"/>
            <a:ext cx="60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Michael Joseph Jackso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mous American singer, dancer, song wri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was born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on the 29th of August, 1958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in the state of Indiana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had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five brother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three  sisters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bbies: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music and danci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 can: </a:t>
            </a:r>
            <a:r>
              <a:rPr b="1" lang="en-US" sz="2800" spc="-1" strike="noStrike">
                <a:solidFill>
                  <a:srgbClr val="cab8ff"/>
                </a:solidFill>
                <a:latin typeface="Tahoma"/>
              </a:rPr>
              <a:t>dance and s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s styles of dance are moonwalk and rob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ichael-Jackson-Bad-Era-michael-jackson-9688224-645-926"/>
          <p:cNvPicPr/>
          <p:nvPr/>
        </p:nvPicPr>
        <p:blipFill>
          <a:blip r:embed="rId1"/>
          <a:stretch/>
        </p:blipFill>
        <p:spPr>
          <a:xfrm>
            <a:off x="6248520" y="115920"/>
            <a:ext cx="26128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468360" y="620640"/>
            <a:ext cx="73436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ad the information and complete the prof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ichael Jackson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name:…………………………………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from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 of Birth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y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bbies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can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……………………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C:\Users\user\Desktop\Английский в Фокусе\5 класс\Учитель Года 08.12.22\Путин для слайда.jpg"/>
          <p:cNvPicPr/>
          <p:nvPr/>
        </p:nvPicPr>
        <p:blipFill>
          <a:blip r:embed="rId1"/>
          <a:stretch/>
        </p:blipFill>
        <p:spPr>
          <a:xfrm>
            <a:off x="2185920" y="15840"/>
            <a:ext cx="47624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C:\Users\user\Desktop\Английский в Фокусе\5 класс\Учитель Года 08.12.22\Елизавета 2.jpg"/>
          <p:cNvPicPr/>
          <p:nvPr/>
        </p:nvPicPr>
        <p:blipFill>
          <a:blip r:embed="rId1"/>
          <a:stretch/>
        </p:blipFill>
        <p:spPr>
          <a:xfrm>
            <a:off x="108000" y="11592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C:\Users\user\Downloads\97859a5bdc28b77b203ed6edba10ca28.jpg"/>
          <p:cNvPicPr/>
          <p:nvPr/>
        </p:nvPicPr>
        <p:blipFill>
          <a:blip r:embed="rId1"/>
          <a:stretch/>
        </p:blipFill>
        <p:spPr>
          <a:xfrm>
            <a:off x="1835280" y="135000"/>
            <a:ext cx="534816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C:\Users\user\Desktop\Английский в Фокусе\5 класс\Учитель Года 08.12.22\Дениэль Редклиф 1.png"/>
          <p:cNvPicPr/>
          <p:nvPr/>
        </p:nvPicPr>
        <p:blipFill>
          <a:blip r:embed="rId1"/>
          <a:stretch/>
        </p:blipFill>
        <p:spPr>
          <a:xfrm>
            <a:off x="108000" y="30240"/>
            <a:ext cx="88866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4:25:28Z</dcterms:created>
  <dc:creator>halva</dc:creator>
  <dc:description/>
  <dc:language>en-US</dc:language>
  <cp:lastModifiedBy>user</cp:lastModifiedBy>
  <dcterms:modified xsi:type="dcterms:W3CDTF">2023-01-23T20:13:13Z</dcterms:modified>
  <cp:revision>111</cp:revision>
  <dc:subject/>
  <dc:title>Слайд 1</dc:title>
</cp:coreProperties>
</file>