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4BB-66FB-4BBD-9781-0AA2E81D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E24-98A6-4067-866D-A547E49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FD9-DBB7-42D1-8E40-F59B2A8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EF7-D11D-4B05-B29D-4614A6B1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EF1-5837-45DB-85F9-64D3937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943-2899-497A-8804-8B7AB55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6D3-E5BE-4986-AF57-298BD10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B55-86FF-4FE1-B4FF-284154F1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28D-7233-460B-8CA1-3D11265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782-7181-4B61-A17D-B41787F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7A6-CA58-4ACD-B000-042926A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164-4D4D-44F2-B703-3AB756F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FC2-1DC4-4E7C-8C97-791E6041F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USER\Desktop\depositphotos_8000957-stock-photo-abstract-soap-bubb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6480" y="244440"/>
            <a:ext cx="89056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USER\Desktop\peachcry2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USER\Desktop\krknr.jpg"/>
          <p:cNvPicPr/>
          <p:nvPr/>
        </p:nvPicPr>
        <p:blipFill>
          <a:blip r:embed="rId1"/>
          <a:stretch/>
        </p:blipFill>
        <p:spPr>
          <a:xfrm>
            <a:off x="4716360" y="11160"/>
            <a:ext cx="4427640" cy="684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USER\Desktop\i.jpg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683ea4391d8e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7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Desktop\1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482287.jpg"/>
          <p:cNvPicPr/>
          <p:nvPr/>
        </p:nvPicPr>
        <p:blipFill>
          <a:blip r:embed="rId1"/>
          <a:stretch/>
        </p:blipFill>
        <p:spPr>
          <a:xfrm>
            <a:off x="0" y="1440"/>
            <a:ext cx="485928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3113 (1).jpg"/>
          <p:cNvPicPr/>
          <p:nvPr/>
        </p:nvPicPr>
        <p:blipFill>
          <a:blip r:embed="rId2"/>
          <a:stretch/>
        </p:blipFill>
        <p:spPr>
          <a:xfrm>
            <a:off x="4795920" y="17640"/>
            <a:ext cx="4348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hello_html_m38bd59b9.jpg"/>
          <p:cNvPicPr/>
          <p:nvPr/>
        </p:nvPicPr>
        <p:blipFill>
          <a:blip r:embed="rId1"/>
          <a:stretch/>
        </p:blipFill>
        <p:spPr>
          <a:xfrm>
            <a:off x="4427640" y="0"/>
            <a:ext cx="47480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Desktop\64428877_astruy16.jpg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USER\Desktop\large_3 (1).png"/>
          <p:cNvPicPr/>
          <p:nvPr/>
        </p:nvPicPr>
        <p:blipFill>
          <a:blip r:embed="rId1"/>
          <a:stretch/>
        </p:blipFill>
        <p:spPr>
          <a:xfrm>
            <a:off x="1332000" y="90360"/>
            <a:ext cx="67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7:14:53Z</dcterms:created>
  <dc:creator>USER</dc:creator>
  <dc:description/>
  <dc:language>en-US</dc:language>
  <cp:lastModifiedBy>USER</cp:lastModifiedBy>
  <dcterms:modified xsi:type="dcterms:W3CDTF">2017-04-12T04:39:24Z</dcterms:modified>
  <cp:revision>4</cp:revision>
  <dc:subject/>
  <dc:title>Презентация PowerPoint</dc:title>
</cp:coreProperties>
</file>