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488-B86A-4984-9937-EB3F4103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A0D-370F-4ECF-9AB2-7609CD4F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2CF-52AA-4124-9FDD-7FFF91E9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0C5-7338-4479-B6E4-6F841782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924-10CB-4230-9556-DDA624B9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1C7-095E-4158-B919-F73ABF6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265-BBCE-4C12-AA02-79D719C5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E38-DB75-499C-A99A-2CA81585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127-B5CC-47E0-9274-03390AF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65E-52B3-4749-AD55-6C2B4B3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9F9-A18E-4A04-A741-22AF2DB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21D-F3F1-4DE5-9EF0-1AC4A59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4B54-A8D6-4AAA-845F-3190A363F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depositphotos_8000957-stock-photo-abstract-soap-bubb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244440"/>
            <a:ext cx="8905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peachcry2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USER\Desktop\krknr.jpg"/>
          <p:cNvPicPr/>
          <p:nvPr/>
        </p:nvPicPr>
        <p:blipFill>
          <a:blip r:embed="rId1"/>
          <a:stretch/>
        </p:blipFill>
        <p:spPr>
          <a:xfrm>
            <a:off x="4716360" y="11160"/>
            <a:ext cx="4427640" cy="684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Desktop\i.jpg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683ea4391d8e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7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Desktop\1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482287.jpg"/>
          <p:cNvPicPr/>
          <p:nvPr/>
        </p:nvPicPr>
        <p:blipFill>
          <a:blip r:embed="rId1"/>
          <a:stretch/>
        </p:blipFill>
        <p:spPr>
          <a:xfrm>
            <a:off x="0" y="1440"/>
            <a:ext cx="485928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3113 (1).jpg"/>
          <p:cNvPicPr/>
          <p:nvPr/>
        </p:nvPicPr>
        <p:blipFill>
          <a:blip r:embed="rId2"/>
          <a:stretch/>
        </p:blipFill>
        <p:spPr>
          <a:xfrm>
            <a:off x="4795920" y="17640"/>
            <a:ext cx="4348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hello_html_m38bd59b9.jpg"/>
          <p:cNvPicPr/>
          <p:nvPr/>
        </p:nvPicPr>
        <p:blipFill>
          <a:blip r:embed="rId1"/>
          <a:stretch/>
        </p:blipFill>
        <p:spPr>
          <a:xfrm>
            <a:off x="442764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Desktop\64428877_astruy16.jpg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USER\Desktop\large_3 (1).png"/>
          <p:cNvPicPr/>
          <p:nvPr/>
        </p:nvPicPr>
        <p:blipFill>
          <a:blip r:embed="rId1"/>
          <a:stretch/>
        </p:blipFill>
        <p:spPr>
          <a:xfrm>
            <a:off x="1332000" y="90360"/>
            <a:ext cx="67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7:14:53Z</dcterms:created>
  <dc:creator>USER</dc:creator>
  <dc:description/>
  <dc:language>en-US</dc:language>
  <cp:lastModifiedBy>USER</cp:lastModifiedBy>
  <dcterms:modified xsi:type="dcterms:W3CDTF">2017-04-12T04:39:24Z</dcterms:modified>
  <cp:revision>4</cp:revision>
  <dc:subject/>
  <dc:title>Презентация PowerPoint</dc:title>
</cp:coreProperties>
</file>