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34C7-FECA-4AFA-9E32-01A1AD1E0B0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C308-CF2B-425E-81E0-76AA052967C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354-A1DA-47D6-AB37-44C02C86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7DE-53E5-4340-BBEB-EB6DC7B9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0AC-9E99-4A09-9FE6-FBDC53AA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94A-EB74-4DA2-9F49-78B15933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1498-1136-4BA9-A884-D00611BA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AD71-5EE2-42DE-B2C8-A0DE1B28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3E4C-25F8-4933-BFD7-0D63DF01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A455-D109-4C5B-AD96-0893258B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2C8B-15D1-49B5-B763-D4DA4610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5A57-B6E6-42AF-83F5-7C617143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2CAF-7209-4B01-B468-FCDFE0E4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BFC-9283-40F7-B01A-3A316C41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0DE8-F343-4F8B-8877-037DAA5B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1583-6A9E-4624-B184-262DE3ED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AE6F-B95D-4C7B-9E86-F5ACAE1F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5441-9647-4D5B-89FE-6BF70589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0550-732A-420F-A39A-7694A74F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9690B-E726-4DC6-BFAB-00D67CDE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1EBCC-4342-457D-A2A0-1447472A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CAA9-0931-4344-A519-CB1C83A3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4451-9E73-4ED3-8059-804EA34C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3E04-EABB-4D77-956A-03334069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BF1-89BA-46FA-81FD-FC9E5AD7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16A3B-7D14-4493-8938-23EC4C3A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22A8-3BD5-4919-B747-DB16C40B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5626-2134-46E9-A690-A193148D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12CD-E2AC-4814-976B-71B120BE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B062-61F6-4DDC-87FB-420E0DB4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EE7DD-AEA1-4204-B54C-D64C0126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9696C-3C9F-40A1-AD0E-6C449E88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2614-92E9-4E9C-85AD-1509DCC9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1EF01-A0C5-4D56-90FD-4C1C5C4F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A001A-9509-4516-AEEC-69891E25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422-E45C-4CA0-B039-9E460B35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02879-B0AD-42E7-9659-0FBAA166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95E4C-8ADE-4F1F-A8A9-A44E68D8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2AE18-A2B1-4C72-93D1-819607B8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440FA-0664-4467-9353-05948D29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6920E-B619-492B-9562-CAC036F1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F62D-0B18-4856-B22C-77B702BB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9C5BB-0D82-4F80-A808-DB8C67F9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16A55-F125-459F-A9E7-7AF0941B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29015-7241-4264-BDE4-A97D802E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AC3-EFAF-4E4A-8980-212BA7DB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1B3-5717-43FF-82D1-DB964CAA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3E2-F387-43D2-AF76-67822A82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662-BD4A-43A4-B8FF-839622CD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AD3-A574-4764-9AD1-2F91509B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3982-98ED-47BD-9DFF-4D34AD5A80A7}" type="slidenum">
              <a:rPr b="0" lang="ru-RU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2D75-B3D1-4524-8F8B-BD05C6A263FC}" type="slidenum">
              <a:rPr b="0" lang="ru-RU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CB65-C31D-40F0-810C-2CC4214AB12D}" type="slidenum">
              <a:rPr b="0" lang="ru-RU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DFAD-5BFB-4D21-8918-29FC066DDD1E}" type="slidenum">
              <a:rPr b="0" lang="ru-RU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Sandra 1.mp3" descr=""/>
          <p:cNvPicPr/>
          <p:nvPr/>
        </p:nvPicPr>
        <p:blipFill>
          <a:blip r:embed="rId1"/>
          <a:stretch/>
        </p:blipFill>
        <p:spPr>
          <a:xfrm>
            <a:off x="324000" y="5732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4"/>
          <p:cNvSpPr/>
          <p:nvPr/>
        </p:nvSpPr>
        <p:spPr>
          <a:xfrm>
            <a:off x="2286000" y="139716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Ты — моя мотивация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Я была бы беспомощна, если бы не ты.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Ты — моя мотивация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Мотивация, мотивация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Ты, та самая… ты, это ты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Мотивация — это ты</a:t>
            </a:r>
            <a:br>
              <a:rPr sz="2400"/>
            </a:b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Теперь я знаю, что это 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028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C:\Users\user\Downloads\2022-12-15_04-22-03.png"/>
          <p:cNvPicPr/>
          <p:nvPr/>
        </p:nvPicPr>
        <p:blipFill>
          <a:blip r:embed="rId1"/>
          <a:stretch/>
        </p:blipFill>
        <p:spPr>
          <a:xfrm>
            <a:off x="1913040" y="333360"/>
            <a:ext cx="5286240" cy="3828960"/>
          </a:xfrm>
          <a:prstGeom prst="rect">
            <a:avLst/>
          </a:prstGeom>
          <a:ln w="0">
            <a:noFill/>
          </a:ln>
        </p:spPr>
      </p:pic>
      <p:pic>
        <p:nvPicPr>
          <p:cNvPr id="199" name="Биты для рэпа.mp3" descr=""/>
          <p:cNvPicPr/>
          <p:nvPr/>
        </p:nvPicPr>
        <p:blipFill>
          <a:blip r:embed="rId2"/>
          <a:stretch/>
        </p:blipFill>
        <p:spPr>
          <a:xfrm>
            <a:off x="539640" y="5084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67100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user\Downloads\362_original.png"/>
          <p:cNvPicPr/>
          <p:nvPr/>
        </p:nvPicPr>
        <p:blipFill>
          <a:blip r:embed="rId1"/>
          <a:stretch/>
        </p:blipFill>
        <p:spPr>
          <a:xfrm>
            <a:off x="2050920" y="231840"/>
            <a:ext cx="511668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971640" y="476280"/>
            <a:ext cx="53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b050"/>
                </a:solidFill>
                <a:latin typeface="Tahoma"/>
              </a:rPr>
              <a:t>ВИДЕОФРАГ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2"/>
          <p:cNvSpPr/>
          <p:nvPr/>
        </p:nvSpPr>
        <p:spPr>
          <a:xfrm>
            <a:off x="395280" y="125568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«Говорят, что 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ahoma"/>
              </a:rPr>
              <a:t>мотивация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 длится не долго. Что ж, свежесть после ванны — тож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Поэтому заботиться о них стоит ежедневно».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г Зигла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Users\user\Desktop\Английский в Фокусе\5 класс\Учитель Года 08.12.22\Мастер-КЛАСС\Финальная картинка Мотивирующая)).jpg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1692360" y="333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00b050"/>
                </a:solidFill>
                <a:latin typeface="Tahoma"/>
              </a:rPr>
              <a:t>ЗАРОЖДЕНИЕ МОТИВ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1" descr="C:\Users\user\Desktop\Английский в Фокусе\5 класс\Учитель Года 08.12.22\Мастер-КЛАСС\i.jpg"/>
          <p:cNvPicPr/>
          <p:nvPr/>
        </p:nvPicPr>
        <p:blipFill>
          <a:blip r:embed="rId1"/>
          <a:stretch/>
        </p:blipFill>
        <p:spPr>
          <a:xfrm>
            <a:off x="539640" y="793800"/>
            <a:ext cx="82137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C:\Users\user\Desktop\Английский в Фокусе\5 класс\Учитель Года 08.12.22\Мастер-КЛАСС\post-2525811-1360930743.jpg"/>
          <p:cNvPicPr/>
          <p:nvPr/>
        </p:nvPicPr>
        <p:blipFill>
          <a:blip r:embed="rId1"/>
          <a:stretch/>
        </p:blipFill>
        <p:spPr>
          <a:xfrm>
            <a:off x="395280" y="476280"/>
            <a:ext cx="84488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C:\Users\user\Desktop\Английский в Фокусе\5 класс\Учитель Года 08.12.22\Мастер-КЛАСС\i (1).jpg"/>
          <p:cNvPicPr/>
          <p:nvPr/>
        </p:nvPicPr>
        <p:blipFill>
          <a:blip r:embed="rId1"/>
          <a:stretch/>
        </p:blipFill>
        <p:spPr>
          <a:xfrm>
            <a:off x="611280" y="318960"/>
            <a:ext cx="792144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C:\Users\user\Desktop\Английский в Фокусе\5 класс\Учитель Года 08.12.22\Мастер-КЛАСС\55392_ed7c366fa8341bd1a58cdec9b9a429f8.jpg"/>
          <p:cNvPicPr/>
          <p:nvPr/>
        </p:nvPicPr>
        <p:blipFill>
          <a:blip r:embed="rId1"/>
          <a:stretch/>
        </p:blipFill>
        <p:spPr>
          <a:xfrm>
            <a:off x="184320" y="692280"/>
            <a:ext cx="3146400" cy="2089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Users\user\Desktop\Английский в Фокусе\5 класс\Учитель Года 08.12.22\Мастер-КЛАСС\P2Q0772.s.jpg"/>
          <p:cNvPicPr/>
          <p:nvPr/>
        </p:nvPicPr>
        <p:blipFill>
          <a:blip r:embed="rId2"/>
          <a:stretch/>
        </p:blipFill>
        <p:spPr>
          <a:xfrm>
            <a:off x="184320" y="2709720"/>
            <a:ext cx="3146400" cy="2374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Users\user\Desktop\Английский в Фокусе\5 класс\Учитель Года 08.12.22\Мастер-КЛАСС\1655272904_1-gas-kvas-com-p-khvost-foto-zhivotnogo-1.jpg"/>
          <p:cNvPicPr/>
          <p:nvPr/>
        </p:nvPicPr>
        <p:blipFill>
          <a:blip r:embed="rId3"/>
          <a:stretch/>
        </p:blipFill>
        <p:spPr>
          <a:xfrm>
            <a:off x="3492360" y="138240"/>
            <a:ext cx="3449880" cy="206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:\Users\user\Desktop\Английский в Фокусе\5 класс\Учитель Года 08.12.22\Мастер-КЛАСС\dog-animal-canine-mammal-ear-close-up-human-body-nose-whiskers-snout-eye-head-organ-doggy-funny-dog-happy-dog-dog-nose-running-nose-850935.jpg"/>
          <p:cNvPicPr/>
          <p:nvPr/>
        </p:nvPicPr>
        <p:blipFill>
          <a:blip r:embed="rId4"/>
          <a:stretch/>
        </p:blipFill>
        <p:spPr>
          <a:xfrm>
            <a:off x="7164360" y="527040"/>
            <a:ext cx="1611360" cy="2419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C:\Users\user\Desktop\Английский в Фокусе\5 класс\Учитель Года 08.12.22\Мастер-КЛАСС\1652084893_66-o-tendencii-com-p-lapa-lva-foto-76.jpg"/>
          <p:cNvPicPr/>
          <p:nvPr/>
        </p:nvPicPr>
        <p:blipFill>
          <a:blip r:embed="rId5"/>
          <a:stretch/>
        </p:blipFill>
        <p:spPr>
          <a:xfrm>
            <a:off x="7164360" y="2924280"/>
            <a:ext cx="1709640" cy="2565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C:\Users\user\Desktop\Английский в Фокусе\5 класс\Учитель Года 08.12.22\Мастер-КЛАСС\1626266181_43-krasivosti-pro-p-glaza-korovi-zhivotnie-krasivo-foto-43.jpg"/>
          <p:cNvPicPr/>
          <p:nvPr/>
        </p:nvPicPr>
        <p:blipFill>
          <a:blip r:embed="rId6"/>
          <a:stretch/>
        </p:blipFill>
        <p:spPr>
          <a:xfrm>
            <a:off x="3505320" y="2205000"/>
            <a:ext cx="3450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1042920" y="260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ru-RU" sz="4000" spc="-1" strike="noStrike">
                <a:solidFill>
                  <a:srgbClr val="00b050"/>
                </a:solidFill>
                <a:latin typeface="Tahoma"/>
              </a:rPr>
              <a:t>ПАЗЛ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1" descr="C:\Users\user\Downloads\puzzle-word-surrounded-by-pieces.jpeg"/>
          <p:cNvPicPr/>
          <p:nvPr/>
        </p:nvPicPr>
        <p:blipFill>
          <a:blip r:embed="rId1"/>
          <a:stretch/>
        </p:blipFill>
        <p:spPr>
          <a:xfrm>
            <a:off x="1187280" y="968400"/>
            <a:ext cx="6697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2843280" y="11592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00b050"/>
                </a:solidFill>
                <a:latin typeface="Tahoma"/>
              </a:rPr>
              <a:t>КВЕС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1" descr="C:\Users\user\Downloads\0E6W-dGAXVE.jpg"/>
          <p:cNvPicPr/>
          <p:nvPr/>
        </p:nvPicPr>
        <p:blipFill>
          <a:blip r:embed="rId1"/>
          <a:stretch/>
        </p:blipFill>
        <p:spPr>
          <a:xfrm>
            <a:off x="108000" y="692280"/>
            <a:ext cx="3154320" cy="2367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Users\user\Downloads\0002.jpg"/>
          <p:cNvPicPr/>
          <p:nvPr/>
        </p:nvPicPr>
        <p:blipFill>
          <a:blip r:embed="rId2"/>
          <a:stretch/>
        </p:blipFill>
        <p:spPr>
          <a:xfrm>
            <a:off x="5519880" y="660240"/>
            <a:ext cx="3600360" cy="2399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C:\Users\user\Downloads\aa4a42ab-974a-5cbe-a13d-c44813585efd.jpg"/>
          <p:cNvPicPr/>
          <p:nvPr/>
        </p:nvPicPr>
        <p:blipFill>
          <a:blip r:embed="rId3"/>
          <a:stretch/>
        </p:blipFill>
        <p:spPr>
          <a:xfrm>
            <a:off x="2522520" y="2881440"/>
            <a:ext cx="392580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2484360" y="252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ЗВУ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izverjenie-vulkana-2-27449.mp3" descr=""/>
          <p:cNvPicPr/>
          <p:nvPr/>
        </p:nvPicPr>
        <p:blipFill>
          <a:blip r:embed="rId1"/>
          <a:stretch/>
        </p:blipFill>
        <p:spPr>
          <a:xfrm>
            <a:off x="763560" y="524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Users\user\Downloads\1648815837_23-vsegda-pomnim-com-p-izverzhenie-vulkanov-foto-26.jpg"/>
          <p:cNvPicPr/>
          <p:nvPr/>
        </p:nvPicPr>
        <p:blipFill>
          <a:blip r:embed="rId2"/>
          <a:stretch/>
        </p:blipFill>
        <p:spPr>
          <a:xfrm>
            <a:off x="1619280" y="1370160"/>
            <a:ext cx="53578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75458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2124000" y="333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00b050"/>
                </a:solidFill>
                <a:latin typeface="Tahoma"/>
              </a:rPr>
              <a:t>МУЗЫКА И ПЕС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retty_Woman.mp3" descr=""/>
          <p:cNvPicPr/>
          <p:nvPr/>
        </p:nvPicPr>
        <p:blipFill>
          <a:blip r:embed="rId1"/>
          <a:stretch/>
        </p:blipFill>
        <p:spPr>
          <a:xfrm>
            <a:off x="25092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" descr="C:\Users\user\Downloads\f01fd99a6722333cc92f11003a0ada00.jpg"/>
          <p:cNvPicPr/>
          <p:nvPr/>
        </p:nvPicPr>
        <p:blipFill>
          <a:blip r:embed="rId2"/>
          <a:stretch/>
        </p:blipFill>
        <p:spPr>
          <a:xfrm>
            <a:off x="4716360" y="1035000"/>
            <a:ext cx="3743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8012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04:25:28Z</dcterms:created>
  <dc:creator>halva</dc:creator>
  <dc:description/>
  <dc:language>en-US</dc:language>
  <cp:lastModifiedBy>user</cp:lastModifiedBy>
  <dcterms:modified xsi:type="dcterms:W3CDTF">2022-12-14T22:57:57Z</dcterms:modified>
  <cp:revision>173</cp:revision>
  <dc:subject/>
  <dc:title>Слайд 1</dc:title>
</cp:coreProperties>
</file>