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11.jpeg" ContentType="image/jpeg"/>
  <Override PartName="/ppt/media/image9.jpeg" ContentType="image/jpeg"/>
  <Override PartName="/ppt/media/image21.jpeg" ContentType="image/jpeg"/>
  <Override PartName="/ppt/media/image16.jpeg" ContentType="image/jpeg"/>
  <Override PartName="/ppt/media/image19.png" ContentType="image/png"/>
  <Override PartName="/ppt/media/image1.png" ContentType="image/png"/>
  <Override PartName="/ppt/media/image18.jpeg" ContentType="image/jpeg"/>
  <Override PartName="/ppt/media/image15.jpeg" ContentType="image/jpeg"/>
  <Override PartName="/ppt/media/image14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move the slide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0D0D8-5291-44D9-88D4-7DF1EEFDEF2A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AC504-117A-4499-A596-6F4225CCE69F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16C20-C106-4BDD-950A-991F974AA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9AE28-3DD8-4B09-9EDB-50C43E6D7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D6C56-721E-4291-A592-B8A746A3D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8896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6880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8896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6880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A8933-89E1-46E7-84CF-D50B39748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FE890-2781-49BE-8665-4D8EC0051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DAD19-3646-4A3B-A677-A7BE2650C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61018-B145-4695-A002-320E81A67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947DF-2F6E-4A17-BE89-F590AF8A6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7B77A-81EE-4A12-9313-85EF0F7A4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7925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1417B-D296-4FF5-9A03-5924F9B24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2DFE2-28BB-4200-9D9B-750DC8EE2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7AE81-0AAB-4A25-83A2-672ABACAC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B9B50-A10D-413B-A8E7-8C987A015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50B59-24E1-4D14-AAD2-5DDB57D4F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E2D6C-6D2D-4C97-960B-40D835422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6FE50-12EF-45A7-B22E-ABB1479DA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8896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6880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8896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6880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19047-A03B-488C-B7E7-FA3AF7965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30BA3C-CA65-4470-B934-D13589F48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EF82BD-C0AC-4F76-A82B-CD071888E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9B0EE2-09C6-4DF5-8F54-01906C45E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D3C78A-9B58-4A67-A243-2263F5C9B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9D225E-6940-4BCA-B3FC-7E76DEC92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02130-A71D-47C8-BA81-0D9513138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7925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1C6301-2929-4ACC-9376-31A8C09C4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DEC303-B913-431C-A9A0-B6AC2B21E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12E3F6-9C68-4F45-9124-F530156A1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555452-936E-416F-A0B6-7FB69E1CA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09D3B7-AC7A-4520-B79F-530B56618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881D69-E0BB-40A7-92B5-7A2EE2007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8896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96880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8896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596880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E78AE2-A81A-4FEA-B499-91E2FDCED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4D546D-606C-475C-8749-43797F61C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89A343-FEB5-4CC3-9C5B-C2840F279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ECF378-D904-48F2-9A60-2FB228145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64177-991F-4B0E-9C38-1832555F1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5C7012-5C8B-4127-A06F-C0A281D58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CDA27A-706F-4A02-AD2B-312C3B9E6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7925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D70476-0810-45B6-B5EA-BE5756028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1D9254-216C-4AAF-8FFC-E24B50422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55E2F7-C6D5-4AEB-8369-18AADCB7B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482E1F-1AE0-44C9-BC48-46A6E7885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96E128-540E-492B-BEAF-2A16C3D67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FD13CD-128A-4280-999C-C950D7302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8896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96880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8896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96880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6FAF05-F567-4D1A-B3E3-F9E3F0901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86412-3E51-4EDE-AB5A-8F1BE99BB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7925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3FEF8-18C9-4D2F-B07A-BFF9C6446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0F1D3-DFD9-42AF-B741-03D49DFB7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7D0FA-4A2A-4B08-8AF6-16A87B5D5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FA166-2C9F-41C7-868F-8703E8158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horizon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3" marL="16002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4" marL="20574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5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6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5714640" y="6356520"/>
            <a:ext cx="152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609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543800" y="6356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05CE1-C161-4D97-8BA6-4612FDCCB2DB}" type="slidenum">
              <a:rPr b="0" lang="ru-RU" sz="11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6" descr="horizon.png"/>
          <p:cNvPicPr/>
          <p:nvPr/>
        </p:nvPicPr>
        <p:blipFill>
          <a:blip r:embed="rId2"/>
          <a:srcRect l="0" t="33333" r="0" b="0"/>
          <a:stretch/>
        </p:blipFill>
        <p:spPr>
          <a:xfrm>
            <a:off x="0" y="0"/>
            <a:ext cx="9144000" cy="4572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3" marL="16002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4" marL="20574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5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6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5714640" y="6356520"/>
            <a:ext cx="152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609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7543800" y="6356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1B12D-3AAF-4203-B159-C0848A84DDB8}" type="slidenum">
              <a:rPr b="0" lang="ru-RU" sz="11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3" marL="16002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4" marL="20574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5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6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5714640" y="6356520"/>
            <a:ext cx="152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609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7543800" y="6356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ED2F1-A61B-46FE-9B9D-E4B2B1CA18A7}" type="slidenum">
              <a:rPr b="0" lang="ru-RU" sz="11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10" descr="horizon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3" marL="16002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4" marL="20574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5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6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5714640" y="6356520"/>
            <a:ext cx="152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609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7543800" y="6356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73210-7F13-49F4-AA4B-DBCD85C11F6A}" type="slidenum">
              <a:rPr b="0" lang="ru-RU" sz="11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Sandra 1.mp3" descr=""/>
          <p:cNvPicPr/>
          <p:nvPr/>
        </p:nvPicPr>
        <p:blipFill>
          <a:blip r:embed="rId1"/>
          <a:stretch/>
        </p:blipFill>
        <p:spPr>
          <a:xfrm>
            <a:off x="324000" y="5732640"/>
            <a:ext cx="609480" cy="609480"/>
          </a:xfrm>
          <a:prstGeom prst="rect">
            <a:avLst/>
          </a:prstGeom>
          <a:ln w="0">
            <a:noFill/>
          </a:ln>
        </p:spPr>
      </p:pic>
      <p:sp>
        <p:nvSpPr>
          <p:cNvPr id="175" name="Прямоугольник 4"/>
          <p:cNvSpPr/>
          <p:nvPr/>
        </p:nvSpPr>
        <p:spPr>
          <a:xfrm>
            <a:off x="2286000" y="1397160"/>
            <a:ext cx="4572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2d050"/>
                </a:solidFill>
                <a:latin typeface="Tahoma"/>
              </a:rPr>
              <a:t>Ты — моя мотивация</a:t>
            </a:r>
            <a:br>
              <a:rPr sz="2400"/>
            </a:br>
            <a:r>
              <a:rPr b="0" lang="ru-RU" sz="2400" spc="-1" strike="noStrike">
                <a:solidFill>
                  <a:srgbClr val="92d050"/>
                </a:solidFill>
                <a:latin typeface="Tahoma"/>
              </a:rPr>
              <a:t>Я была бы беспомощна, если бы не ты.</a:t>
            </a:r>
            <a:br>
              <a:rPr sz="2400"/>
            </a:br>
            <a:r>
              <a:rPr b="0" lang="ru-RU" sz="2400" spc="-1" strike="noStrike">
                <a:solidFill>
                  <a:srgbClr val="92d050"/>
                </a:solidFill>
                <a:latin typeface="Tahoma"/>
              </a:rPr>
              <a:t>Ты — моя мотивация</a:t>
            </a:r>
            <a:br>
              <a:rPr sz="2400"/>
            </a:br>
            <a:r>
              <a:rPr b="0" lang="ru-RU" sz="2400" spc="-1" strike="noStrike">
                <a:solidFill>
                  <a:srgbClr val="92d050"/>
                </a:solidFill>
                <a:latin typeface="Tahoma"/>
              </a:rPr>
              <a:t>Мотивация, мотивация</a:t>
            </a:r>
            <a:br>
              <a:rPr sz="2400"/>
            </a:br>
            <a:r>
              <a:rPr b="0" lang="ru-RU" sz="2400" spc="-1" strike="noStrike">
                <a:solidFill>
                  <a:srgbClr val="92d050"/>
                </a:solidFill>
                <a:latin typeface="Tahoma"/>
              </a:rPr>
              <a:t>Ты, та самая… ты, это ты</a:t>
            </a:r>
            <a:br>
              <a:rPr sz="2400"/>
            </a:br>
            <a:r>
              <a:rPr b="0" lang="ru-RU" sz="2400" spc="-1" strike="noStrike">
                <a:solidFill>
                  <a:srgbClr val="92d050"/>
                </a:solidFill>
                <a:latin typeface="Tahoma"/>
              </a:rPr>
              <a:t>Мотивация — это ты</a:t>
            </a:r>
            <a:br>
              <a:rPr sz="2400"/>
            </a:br>
            <a:r>
              <a:rPr b="0" lang="ru-RU" sz="2400" spc="-1" strike="noStrike">
                <a:solidFill>
                  <a:srgbClr val="92d050"/>
                </a:solidFill>
                <a:latin typeface="Tahoma"/>
              </a:rPr>
              <a:t>Теперь я знаю, что это т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" restart="whenNotActive" nodeType="interactiveSeq" fill="hold">
                <p:stCondLst>
                  <p:cond evt="onClick">
                    <p:tgtEl>
                      <p:spTgt spid="174"/>
                    </p:tgtEl>
                  </p:cond>
                </p:stCondLst>
                <p:childTnLst>
                  <p:par>
                    <p:cTn id="9" nodeType="clickEffect" fill="hold">
                      <p:stCondLst>
                        <p:cond evt="onClick">
                          <p:tgtEl>
                            <p:spTgt spid="174"/>
                          </p:tgtEl>
                        </p:cond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32028" fill="hold"/>
                                        <p:tgtEl>
                                          <p:spTgt spid="1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1" descr="C:\Users\user\Downloads\2022-12-15_04-22-03.png"/>
          <p:cNvPicPr/>
          <p:nvPr/>
        </p:nvPicPr>
        <p:blipFill>
          <a:blip r:embed="rId1"/>
          <a:stretch/>
        </p:blipFill>
        <p:spPr>
          <a:xfrm>
            <a:off x="1913040" y="333360"/>
            <a:ext cx="5286240" cy="3828960"/>
          </a:xfrm>
          <a:prstGeom prst="rect">
            <a:avLst/>
          </a:prstGeom>
          <a:ln w="0">
            <a:noFill/>
          </a:ln>
        </p:spPr>
      </p:pic>
      <p:pic>
        <p:nvPicPr>
          <p:cNvPr id="199" name="Биты для рэпа.mp3" descr=""/>
          <p:cNvPicPr/>
          <p:nvPr/>
        </p:nvPicPr>
        <p:blipFill>
          <a:blip r:embed="rId2"/>
          <a:stretch/>
        </p:blipFill>
        <p:spPr>
          <a:xfrm>
            <a:off x="539640" y="508464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restart="whenNotActive" nodeType="interactiveSeq" fill="hold">
                <p:stCondLst>
                  <p:cond evt="onClick">
                    <p:tgtEl>
                      <p:spTgt spid="199"/>
                    </p:tgtEl>
                  </p:cond>
                </p:stCondLst>
                <p:childTnLst>
                  <p:par>
                    <p:cTn id="41" fill="hold">
                      <p:stCondLst>
                        <p:cond evt="onClick">
                          <p:tgtEl>
                            <p:spTgt spid="199"/>
                          </p:tgtEl>
                        </p:cond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" dur="167100" fill="hold"/>
                                        <p:tgtEl>
                                          <p:spTgt spid="1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2" descr="C:\Users\user\Downloads\362_original.png"/>
          <p:cNvPicPr/>
          <p:nvPr/>
        </p:nvPicPr>
        <p:blipFill>
          <a:blip r:embed="rId1"/>
          <a:stretch/>
        </p:blipFill>
        <p:spPr>
          <a:xfrm>
            <a:off x="2050920" y="231840"/>
            <a:ext cx="5116680" cy="51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Прямоугольник 1"/>
          <p:cNvSpPr/>
          <p:nvPr/>
        </p:nvSpPr>
        <p:spPr>
          <a:xfrm>
            <a:off x="971640" y="476280"/>
            <a:ext cx="53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050"/>
                </a:solidFill>
                <a:latin typeface="Tahoma"/>
              </a:rPr>
              <a:t>                 </a:t>
            </a:r>
            <a:r>
              <a:rPr b="0" lang="ru-RU" sz="2800" spc="-1" strike="noStrike">
                <a:solidFill>
                  <a:srgbClr val="00b050"/>
                </a:solidFill>
                <a:latin typeface="Tahoma"/>
              </a:rPr>
              <a:t>ВИДЕОФРАГМЕН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Прямоугольник 2"/>
          <p:cNvSpPr/>
          <p:nvPr/>
        </p:nvSpPr>
        <p:spPr>
          <a:xfrm>
            <a:off x="395280" y="1255680"/>
            <a:ext cx="8137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Tahoma"/>
              </a:rPr>
              <a:t>«Говорят, что </a:t>
            </a:r>
            <a:r>
              <a:rPr b="1" i="1" lang="ru-RU" sz="2400" spc="-1" strike="noStrike" u="sng">
                <a:solidFill>
                  <a:srgbClr val="00b050"/>
                </a:solidFill>
                <a:uFillTx/>
                <a:latin typeface="Tahoma"/>
              </a:rPr>
              <a:t>мотивация</a:t>
            </a:r>
            <a:r>
              <a:rPr b="1" lang="ru-RU" sz="2400" spc="-1" strike="noStrike">
                <a:solidFill>
                  <a:srgbClr val="00b050"/>
                </a:solidFill>
                <a:latin typeface="Tahoma"/>
              </a:rPr>
              <a:t> длится не долго. Что ж, свежесть после ванны — тоже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Tahoma"/>
              </a:rPr>
              <a:t>Поэтому заботиться о них стоит ежедневно».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Зиг Зиглар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2" descr="C:\Users\user\Desktop\Английский в Фокусе\5 класс\Учитель Года 08.12.22\Мастер-КЛАСС\Финальная картинка Мотивирующая)).jpg"/>
          <p:cNvPicPr/>
          <p:nvPr/>
        </p:nvPicPr>
        <p:blipFill>
          <a:blip r:embed="rId1"/>
          <a:stretch/>
        </p:blipFill>
        <p:spPr>
          <a:xfrm>
            <a:off x="457200" y="189000"/>
            <a:ext cx="82296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Прямоугольник 1"/>
          <p:cNvSpPr/>
          <p:nvPr/>
        </p:nvSpPr>
        <p:spPr>
          <a:xfrm>
            <a:off x="1692360" y="333360"/>
            <a:ext cx="60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0" lang="ru-RU" sz="2400" spc="-1" strike="noStrike">
                <a:solidFill>
                  <a:srgbClr val="00b050"/>
                </a:solidFill>
                <a:latin typeface="Tahoma"/>
              </a:rPr>
              <a:t>ЗАРОЖДЕНИЕ МОТИВАЦИ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7" name="Picture 1" descr="C:\Users\user\Desktop\Английский в Фокусе\5 класс\Учитель Года 08.12.22\Мастер-КЛАСС\i.jpg"/>
          <p:cNvPicPr/>
          <p:nvPr/>
        </p:nvPicPr>
        <p:blipFill>
          <a:blip r:embed="rId1"/>
          <a:stretch/>
        </p:blipFill>
        <p:spPr>
          <a:xfrm>
            <a:off x="539640" y="793800"/>
            <a:ext cx="8213760" cy="46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1" descr="C:\Users\user\Desktop\Английский в Фокусе\5 класс\Учитель Года 08.12.22\Мастер-КЛАСС\post-2525811-1360930743.jpg"/>
          <p:cNvPicPr/>
          <p:nvPr/>
        </p:nvPicPr>
        <p:blipFill>
          <a:blip r:embed="rId1"/>
          <a:stretch/>
        </p:blipFill>
        <p:spPr>
          <a:xfrm>
            <a:off x="395280" y="476280"/>
            <a:ext cx="844884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1" descr="C:\Users\user\Desktop\Английский в Фокусе\5 класс\Учитель Года 08.12.22\Мастер-КЛАСС\i (1).jpg"/>
          <p:cNvPicPr/>
          <p:nvPr/>
        </p:nvPicPr>
        <p:blipFill>
          <a:blip r:embed="rId1"/>
          <a:stretch/>
        </p:blipFill>
        <p:spPr>
          <a:xfrm>
            <a:off x="611280" y="318960"/>
            <a:ext cx="7921440" cy="527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1" descr="C:\Users\user\Desktop\Английский в Фокусе\5 класс\Учитель Года 08.12.22\Мастер-КЛАСС\55392_ed7c366fa8341bd1a58cdec9b9a429f8.jpg"/>
          <p:cNvPicPr/>
          <p:nvPr/>
        </p:nvPicPr>
        <p:blipFill>
          <a:blip r:embed="rId1"/>
          <a:stretch/>
        </p:blipFill>
        <p:spPr>
          <a:xfrm>
            <a:off x="184320" y="692280"/>
            <a:ext cx="3146400" cy="208908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3" descr="C:\Users\user\Desktop\Английский в Фокусе\5 класс\Учитель Года 08.12.22\Мастер-КЛАСС\P2Q0772.s.jpg"/>
          <p:cNvPicPr/>
          <p:nvPr/>
        </p:nvPicPr>
        <p:blipFill>
          <a:blip r:embed="rId2"/>
          <a:stretch/>
        </p:blipFill>
        <p:spPr>
          <a:xfrm>
            <a:off x="184320" y="2709720"/>
            <a:ext cx="3146400" cy="237492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4" descr="C:\Users\user\Desktop\Английский в Фокусе\5 класс\Учитель Года 08.12.22\Мастер-КЛАСС\1655272904_1-gas-kvas-com-p-khvost-foto-zhivotnogo-1.jpg"/>
          <p:cNvPicPr/>
          <p:nvPr/>
        </p:nvPicPr>
        <p:blipFill>
          <a:blip r:embed="rId3"/>
          <a:stretch/>
        </p:blipFill>
        <p:spPr>
          <a:xfrm>
            <a:off x="3492360" y="138240"/>
            <a:ext cx="3449880" cy="20667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5" descr="C:\Users\user\Desktop\Английский в Фокусе\5 класс\Учитель Года 08.12.22\Мастер-КЛАСС\dog-animal-canine-mammal-ear-close-up-human-body-nose-whiskers-snout-eye-head-organ-doggy-funny-dog-happy-dog-dog-nose-running-nose-850935.jpg"/>
          <p:cNvPicPr/>
          <p:nvPr/>
        </p:nvPicPr>
        <p:blipFill>
          <a:blip r:embed="rId4"/>
          <a:stretch/>
        </p:blipFill>
        <p:spPr>
          <a:xfrm>
            <a:off x="7164360" y="527040"/>
            <a:ext cx="1611360" cy="24192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6" descr="C:\Users\user\Desktop\Английский в Фокусе\5 класс\Учитель Года 08.12.22\Мастер-КЛАСС\1652084893_66-o-tendencii-com-p-lapa-lva-foto-76.jpg"/>
          <p:cNvPicPr/>
          <p:nvPr/>
        </p:nvPicPr>
        <p:blipFill>
          <a:blip r:embed="rId5"/>
          <a:stretch/>
        </p:blipFill>
        <p:spPr>
          <a:xfrm>
            <a:off x="7164360" y="2924280"/>
            <a:ext cx="1709640" cy="256536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7" descr="C:\Users\user\Desktop\Английский в Фокусе\5 класс\Учитель Года 08.12.22\Мастер-КЛАСС\1626266181_43-krasivosti-pro-p-glaza-korovi-zhivotnie-krasivo-foto-43.jpg"/>
          <p:cNvPicPr/>
          <p:nvPr/>
        </p:nvPicPr>
        <p:blipFill>
          <a:blip r:embed="rId6"/>
          <a:stretch/>
        </p:blipFill>
        <p:spPr>
          <a:xfrm>
            <a:off x="3505320" y="2205000"/>
            <a:ext cx="345096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Box 1"/>
          <p:cNvSpPr/>
          <p:nvPr/>
        </p:nvSpPr>
        <p:spPr>
          <a:xfrm>
            <a:off x="1042920" y="260280"/>
            <a:ext cx="655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                               </a:t>
            </a:r>
            <a:r>
              <a:rPr b="0" lang="ru-RU" sz="4000" spc="-1" strike="noStrike">
                <a:solidFill>
                  <a:srgbClr val="00b050"/>
                </a:solidFill>
                <a:latin typeface="Tahoma"/>
              </a:rPr>
              <a:t>ПАЗЛЫ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7" name="Picture 1" descr="C:\Users\user\Downloads\puzzle-word-surrounded-by-pieces.jpeg"/>
          <p:cNvPicPr/>
          <p:nvPr/>
        </p:nvPicPr>
        <p:blipFill>
          <a:blip r:embed="rId1"/>
          <a:stretch/>
        </p:blipFill>
        <p:spPr>
          <a:xfrm>
            <a:off x="1187280" y="968400"/>
            <a:ext cx="6697800" cy="44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Box 1"/>
          <p:cNvSpPr/>
          <p:nvPr/>
        </p:nvSpPr>
        <p:spPr>
          <a:xfrm>
            <a:off x="2843280" y="115920"/>
            <a:ext cx="331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b050"/>
                </a:solidFill>
                <a:latin typeface="Tahoma"/>
              </a:rPr>
              <a:t>     </a:t>
            </a:r>
            <a:r>
              <a:rPr b="0" lang="ru-RU" sz="4000" spc="-1" strike="noStrike">
                <a:solidFill>
                  <a:srgbClr val="00b050"/>
                </a:solidFill>
                <a:latin typeface="Tahoma"/>
              </a:rPr>
              <a:t>КВЕСТ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9" name="Picture 1" descr="C:\Users\user\Downloads\0E6W-dGAXVE.jpg"/>
          <p:cNvPicPr/>
          <p:nvPr/>
        </p:nvPicPr>
        <p:blipFill>
          <a:blip r:embed="rId1"/>
          <a:stretch/>
        </p:blipFill>
        <p:spPr>
          <a:xfrm>
            <a:off x="108000" y="692280"/>
            <a:ext cx="3154320" cy="236700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2" descr="C:\Users\user\Downloads\0002.jpg"/>
          <p:cNvPicPr/>
          <p:nvPr/>
        </p:nvPicPr>
        <p:blipFill>
          <a:blip r:embed="rId2"/>
          <a:stretch/>
        </p:blipFill>
        <p:spPr>
          <a:xfrm>
            <a:off x="5519880" y="660240"/>
            <a:ext cx="3600360" cy="239904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3" descr="C:\Users\user\Downloads\aa4a42ab-974a-5cbe-a13d-c44813585efd.jpg"/>
          <p:cNvPicPr/>
          <p:nvPr/>
        </p:nvPicPr>
        <p:blipFill>
          <a:blip r:embed="rId3"/>
          <a:stretch/>
        </p:blipFill>
        <p:spPr>
          <a:xfrm>
            <a:off x="2522520" y="2881440"/>
            <a:ext cx="3925800" cy="26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Box 1"/>
          <p:cNvSpPr/>
          <p:nvPr/>
        </p:nvSpPr>
        <p:spPr>
          <a:xfrm>
            <a:off x="2484360" y="252360"/>
            <a:ext cx="395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050"/>
                </a:solidFill>
                <a:latin typeface="Tahoma"/>
              </a:rPr>
              <a:t>         </a:t>
            </a:r>
            <a:r>
              <a:rPr b="0" lang="ru-RU" sz="3200" spc="-1" strike="noStrike">
                <a:solidFill>
                  <a:srgbClr val="00b050"/>
                </a:solidFill>
                <a:latin typeface="Tahoma"/>
              </a:rPr>
              <a:t>ЗВУК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3" name="izverjenie-vulkana-2-27449.mp3" descr=""/>
          <p:cNvPicPr/>
          <p:nvPr/>
        </p:nvPicPr>
        <p:blipFill>
          <a:blip r:embed="rId1"/>
          <a:stretch/>
        </p:blipFill>
        <p:spPr>
          <a:xfrm>
            <a:off x="763560" y="524664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4" descr="C:\Users\user\Downloads\1648815837_23-vsegda-pomnim-com-p-izverzhenie-vulkanov-foto-26.jpg"/>
          <p:cNvPicPr/>
          <p:nvPr/>
        </p:nvPicPr>
        <p:blipFill>
          <a:blip r:embed="rId2"/>
          <a:stretch/>
        </p:blipFill>
        <p:spPr>
          <a:xfrm>
            <a:off x="1619280" y="1370160"/>
            <a:ext cx="5357880" cy="35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" restart="whenNotActive" nodeType="interactiveSeq" fill="hold">
                <p:stCondLst>
                  <p:cond evt="onClick">
                    <p:tgtEl>
                      <p:spTgt spid="193"/>
                    </p:tgtEl>
                  </p:cond>
                </p:stCondLst>
                <p:childTnLst>
                  <p:par>
                    <p:cTn id="23" nodeType="clickEffect" fill="hold">
                      <p:stCondLst>
                        <p:cond evt="onClick">
                          <p:tgtEl>
                            <p:spTgt spid="193"/>
                          </p:tgtEl>
                        </p:cond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" dur="75458" fill="hold"/>
                                        <p:tgtEl>
                                          <p:spTgt spid="1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Box 1"/>
          <p:cNvSpPr/>
          <p:nvPr/>
        </p:nvSpPr>
        <p:spPr>
          <a:xfrm>
            <a:off x="2124000" y="333360"/>
            <a:ext cx="431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050"/>
                </a:solidFill>
                <a:latin typeface="Tahoma"/>
              </a:rPr>
              <a:t>        </a:t>
            </a:r>
            <a:r>
              <a:rPr b="0" lang="ru-RU" sz="2800" spc="-1" strike="noStrike">
                <a:solidFill>
                  <a:srgbClr val="00b050"/>
                </a:solidFill>
                <a:latin typeface="Tahoma"/>
              </a:rPr>
              <a:t>МУЗЫКА И ПЕСН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6" name="Pretty_Woman.mp3" descr=""/>
          <p:cNvPicPr/>
          <p:nvPr/>
        </p:nvPicPr>
        <p:blipFill>
          <a:blip r:embed="rId1"/>
          <a:stretch/>
        </p:blipFill>
        <p:spPr>
          <a:xfrm>
            <a:off x="250920" y="508464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" descr="C:\Users\user\Downloads\f01fd99a6722333cc92f11003a0ada00.jpg"/>
          <p:cNvPicPr/>
          <p:nvPr/>
        </p:nvPicPr>
        <p:blipFill>
          <a:blip r:embed="rId2"/>
          <a:stretch/>
        </p:blipFill>
        <p:spPr>
          <a:xfrm>
            <a:off x="4716360" y="1035000"/>
            <a:ext cx="374328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" restart="whenNotActive" nodeType="interactiveSeq" fill="hold">
                <p:stCondLst>
                  <p:cond evt="onClick">
                    <p:tgtEl>
                      <p:spTgt spid="196"/>
                    </p:tgtEl>
                  </p:cond>
                </p:stCondLst>
                <p:childTnLst>
                  <p:par>
                    <p:cTn id="35" fill="hold">
                      <p:stCondLst>
                        <p:cond evt="onClick">
                          <p:tgtEl>
                            <p:spTgt spid="196"/>
                          </p:tgtEl>
                        </p:cond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" dur="180126" fill="hold"/>
                                        <p:tgtEl>
                                          <p:spTgt spid="1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2-10T04:25:28Z</dcterms:created>
  <dc:creator>halva</dc:creator>
  <dc:description/>
  <dc:language>en-US</dc:language>
  <cp:lastModifiedBy>user</cp:lastModifiedBy>
  <dcterms:modified xsi:type="dcterms:W3CDTF">2022-12-14T22:57:57Z</dcterms:modified>
  <cp:revision>173</cp:revision>
  <dc:subject/>
  <dc:title>Слайд 1</dc:title>
</cp:coreProperties>
</file>