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7.jpeg" ContentType="image/jpeg"/>
  <Override PartName="/ppt/media/image28.jpeg" ContentType="image/jpeg"/>
  <Override PartName="/ppt/media/image19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3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20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34A6-39F1-4E61-B41B-72794874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9C3E-57D4-484F-8F54-2CFF23AA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B0FEF-EBF0-4791-9F38-8FAE5C1F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1A2B8-D8AB-44F3-BDB1-2188C1D0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C3234-D9EE-46F8-8790-6586C269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AA719-3666-4827-85B6-DF1A9E8E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7F01A-54D0-46A8-8C06-3B2FBFAD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3E224-3FF2-4326-82F6-01E0AC1B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C6320-40EA-4446-A3EA-05304878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360A6-4FD6-4902-A388-E7634E33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55E39-A828-45E6-976A-2B730232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D2F9-2F69-46F9-9535-8D8759A79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7DDD-5657-4C9B-BAC0-33AB7BB5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A03C-77D1-434D-B2AA-2B5FF165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8ABD-CEB9-4C18-992A-DBDC0017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2A53-722A-4B12-8B63-1CB72FB4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53EC-5315-46D2-A22E-984C49AF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819F-63B1-4BF6-A832-E5E46B56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161F-4B7F-424D-8ECA-5385884F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1FAE-A9B1-4A17-AEDB-FAF4D3CD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5DAA-640D-4DB8-8416-569D3419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BDA0-DC47-41DB-9ABC-77316E44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47EF-5D9B-4144-92D6-47043B62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88BF-05E5-44C6-B754-2DDDE0BD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DB15-D4CA-4011-9951-12349740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153B-AE35-4E72-B6A4-D2454BA3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37039-A79F-42BB-B6D6-8A2F7C27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82D7F-3D89-4531-AB19-144490AC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A3F55-CCB0-4D51-B1A3-E2BB110E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416A2-AF82-4BDF-AAF8-6C728F23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F5F8E-C53E-406C-B152-3C17468D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E9A5-4EFB-4B0B-BB3C-93AA9A7E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2F78A-59D2-42E9-A0BC-BD68D59B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1E78D-CC7B-433C-8A69-087A5CE2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1F85F-DB9C-4E4A-988C-9252AC29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369E6-F220-44EB-AFE1-08DCFF04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C9C8E-C649-437A-974D-1E36CD1E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8C9D3-EB0B-4422-A4DD-70872978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90944-AF22-4B0C-98DF-458E5105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907CC-9B70-410C-AFD7-9E76C182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0F51F-C64F-4EDB-99C4-6E201AAA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9BF58-40A6-4716-A052-093D6A63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D9AD-7515-46EA-8202-5412F298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6F57D-9BE5-428D-9E96-B93F6347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59172-A3BE-4E3B-8EC9-1CBD29AD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209C3-86E8-4142-942A-A7B39487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BAA98-5D12-47FB-ADD2-C3CCF90C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E0027-CF4D-45DC-8686-42FDEA27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A2D2E-C5F6-4A62-96CC-1E1111A4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EA817-A812-4DA1-946C-1A3A1384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BEA42-A107-4457-B91B-E2E62DEB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954B1-751C-4D42-A118-16B5C5DD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8F894-709C-40F9-9989-8E0C6FCE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1245-E588-4995-B4C5-0658F9B6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6051D-53E1-4ED7-9B6F-3A9DE523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C7E66-DFE4-4586-B622-FFB8DFFE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D8365-5487-4CAF-8396-A71BF1F9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391C1-D46C-4D1D-BF3A-2240B75F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5EFA6-8632-47C2-BE27-2E0CCBBD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C028F-10AD-448A-A851-3C99C203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1ABAC-0FEC-4783-9EB0-FADE156C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F5F2C-5A46-4561-8C32-2F605BB9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731E3-7EF9-4ED6-8FE2-143BE868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06ECE-ADAC-4D60-A103-4ADE5ABC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FC12-EBC8-4C58-8B5A-53DCF454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1CC79-90A7-42E4-B399-47C99D77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BA807-6BDC-4EEF-B12D-C3DD118E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51D4C-ADA6-46B4-8F45-0B1506DE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CD840-DDFB-43EB-AD6F-2C214943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4CE8C-0C38-48BB-B0A3-2497599B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6FC8B-1164-49E7-90B0-503B95E6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A4D55-EBF4-4583-9EF7-18D29B07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36DC2-2959-4051-9C76-79DEE9EC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C742A-7F3C-4BB4-B122-EA06A716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427B2-191A-4E72-A3C2-991E406F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AC07-5C31-4615-A5C3-5E7A7E5C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080A9-A4A3-41AD-9BB1-32835305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61FEF-D1D3-48D0-B4AE-DFD95C1A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432BE-4026-4593-BE20-B3D1F8B9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7B4B0-E42F-4AAE-BF97-C6F4E664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95DCF-337C-4FE0-8B12-11A90FF6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D4FA0-1744-4E62-8C8E-75F73104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80CE5-22E6-4874-84A1-0A58F3D2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B2EAA-591B-4593-BF2A-7DE5F815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61761-7F52-4153-988B-E2424E20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76272-EB5A-432C-A5E7-4083BB7C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8143-7722-451D-A8D9-6ADD97DF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D08BE-A6CE-4F83-A256-2C9DBA47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C33F0-FFFA-49A8-8242-E23C8DD5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97522-EA04-49FC-A899-BF39A2F7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860DB-4233-45BB-9DAB-55D3A573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A723F-27E0-4127-A908-4DAC8F3B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DDCC9-9D71-4379-B516-93FBC36A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D9E66-8E67-4BCC-BB99-6A0230D1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F4B8A-8687-4A88-950D-25AA47BE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2BA1D-0184-4BA8-9703-3F6F0ACC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4097C-0624-4E93-8FCC-A046726E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17C7-D7D8-4743-A83E-919287DD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548D7-3E51-4B66-93E0-A3EC7129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9DCC4-1414-4582-AA6C-F1BF8DD5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FB9A6-442E-46EC-96EB-35F8BC4D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9558B-3C8E-4C2C-B592-A844921E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E9521-59E0-44D6-9C78-764A150E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AE6E3-1EAA-4AD2-B3A0-03EECD33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01093-A564-488E-BFA8-143101EA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44242-41CC-4AA4-BA28-F231B2B8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B2258-C1C1-4FB1-9952-A4A14251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28384-78B6-463D-971D-16C1E146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7DE27C-1164-4266-ACF7-E3BA42C0B387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F36B0C-7E7A-4A05-865E-A917C2486A23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E6F4BD-ADEB-4AB9-AD69-DBCA234ADD6E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EC702D-D806-44C6-A9E1-D34B326C5E94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CE8C034-B16C-48A1-B16E-484AE799EAFF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5B2D98D-9580-4A27-AFB0-3A62B6F4C561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7E2086-E8BE-4E36-ABF6-B35537C23927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BF0129-D718-4509-B0D9-9B1061A2E919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0C82B85-FC9C-4693-A72A-7541C84266F2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462200" y="616572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2019г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0" name="Подзаголовок 2"/>
          <p:cNvSpPr/>
          <p:nvPr/>
        </p:nvSpPr>
        <p:spPr>
          <a:xfrm>
            <a:off x="395280" y="260280"/>
            <a:ext cx="82803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ranklin Gothic Book"/>
              </a:rPr>
              <a:t>МБОУ «Иракиндинская средняя общеобразовательная школа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Подзаголовок 2"/>
          <p:cNvSpPr/>
          <p:nvPr/>
        </p:nvSpPr>
        <p:spPr>
          <a:xfrm>
            <a:off x="552600" y="836640"/>
            <a:ext cx="828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следовательская работа по тем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ые игры своими рука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Подзаголовок 2"/>
          <p:cNvSpPr/>
          <p:nvPr/>
        </p:nvSpPr>
        <p:spPr>
          <a:xfrm>
            <a:off x="5332320" y="3789360"/>
            <a:ext cx="3672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Автор: ученик 6 класса Балданов Чингис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Руководитель: учитель математик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Балданова М.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7" descr="C:\Users\User\Desktop\Шаг в будущее 2019-2020 Чингис\IMG_7829.JPG"/>
          <p:cNvPicPr/>
          <p:nvPr/>
        </p:nvPicPr>
        <p:blipFill>
          <a:blip r:embed="rId1"/>
          <a:stretch/>
        </p:blipFill>
        <p:spPr>
          <a:xfrm>
            <a:off x="0" y="2276640"/>
            <a:ext cx="52927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24000" y="6840"/>
            <a:ext cx="849600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А ИГ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игроков: 2-4 коман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: игра, лист с ответами для проверки, фишки, карточки с заданиями, игральный куби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игры: игроки путем выбрасывания игральной кости определяют очередность хода. Далее по очереди кидают кубик и совершают ходы на выпавшее число очков с одним условием: бросив игральную кость, капитан команды берет карточку с заданием (у каждой команды свой цвет), затем идет к своей команде. В течение двух минут команда решает задание, вносит ответ в лист протокола и отдает помощнику ведущего. Если задание выполнено верно, то игрок выполняет ход, если ответ неправильный, то он остается на месте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адая на призовые задания, команда может получить сразу 10 баллов и сделать 10 ходов вперед, при условии, если справиться с заданием повышенной слож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игрывает та команда, которая первая достигнет финиш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"/>
          <p:cNvSpPr/>
          <p:nvPr/>
        </p:nvSpPr>
        <p:spPr>
          <a:xfrm>
            <a:off x="0" y="389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468360" y="313380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Прямоугольник 4"/>
          <p:cNvSpPr/>
          <p:nvPr/>
        </p:nvSpPr>
        <p:spPr>
          <a:xfrm>
            <a:off x="324000" y="1268280"/>
            <a:ext cx="856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 третьем этапе, мы приступили к созданию игры. Совместно с учителем мы придумывали, сколько будет ходов, что изобразить при оформлении, как раскрасить. Потом это все было перенесено на лист ватма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5" descr="C:\Users\User\Desktop\Шаг в будущее 2019-2020 Чингис\IMG_7825.JPG"/>
          <p:cNvPicPr/>
          <p:nvPr/>
        </p:nvPicPr>
        <p:blipFill>
          <a:blip r:embed="rId1"/>
          <a:stretch/>
        </p:blipFill>
        <p:spPr>
          <a:xfrm>
            <a:off x="5651640" y="3141720"/>
            <a:ext cx="3097080" cy="37162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C:\Users\User\Desktop\Шаг в будущее 2019-2020 Чингис\IMG_7829.JPG"/>
          <p:cNvPicPr/>
          <p:nvPr/>
        </p:nvPicPr>
        <p:blipFill>
          <a:blip r:embed="rId2"/>
          <a:stretch/>
        </p:blipFill>
        <p:spPr>
          <a:xfrm>
            <a:off x="0" y="3645000"/>
            <a:ext cx="5292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C:\Users\User\Desktop\Шаг в будущее 2019-2020 Чингис\IMG_7831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2846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C:\Users\User\Desktop\Шаг в будущее 2019-2020 Чингис\IMG_7836.JPG"/>
          <p:cNvPicPr/>
          <p:nvPr/>
        </p:nvPicPr>
        <p:blipFill>
          <a:blip r:embed="rId2"/>
          <a:stretch/>
        </p:blipFill>
        <p:spPr>
          <a:xfrm>
            <a:off x="4923000" y="0"/>
            <a:ext cx="4221000" cy="32846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C:\Users\User\Desktop\Шаг в будущее 2019-2020 Чингис\IMG_7828.JPG"/>
          <p:cNvPicPr/>
          <p:nvPr/>
        </p:nvPicPr>
        <p:blipFill>
          <a:blip r:embed="rId3"/>
          <a:stretch/>
        </p:blipFill>
        <p:spPr>
          <a:xfrm>
            <a:off x="0" y="3357720"/>
            <a:ext cx="4589640" cy="35002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C:\Users\User\Desktop\Шаг в будущее 2019-2020 Чингис\IMG_7832.JPG"/>
          <p:cNvPicPr/>
          <p:nvPr/>
        </p:nvPicPr>
        <p:blipFill>
          <a:blip r:embed="rId4"/>
          <a:stretch/>
        </p:blipFill>
        <p:spPr>
          <a:xfrm>
            <a:off x="4932360" y="3357720"/>
            <a:ext cx="42116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0" y="389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этап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2"/>
          <p:cNvSpPr/>
          <p:nvPr/>
        </p:nvSpPr>
        <p:spPr>
          <a:xfrm>
            <a:off x="468360" y="313380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Прямоугольник 4"/>
          <p:cNvSpPr/>
          <p:nvPr/>
        </p:nvSpPr>
        <p:spPr>
          <a:xfrm>
            <a:off x="468360" y="1268280"/>
            <a:ext cx="849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четвертом этапе мы пригласили учеников из 5-6 классов, составили четыре команды и провели нашу игр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2" descr="C:\Users\User\Desktop\Шаг в будущее 2019 Чингис\IMG_7812.JPG"/>
          <p:cNvPicPr/>
          <p:nvPr/>
        </p:nvPicPr>
        <p:blipFill>
          <a:blip r:embed="rId1"/>
          <a:stretch/>
        </p:blipFill>
        <p:spPr>
          <a:xfrm>
            <a:off x="250920" y="2637000"/>
            <a:ext cx="3821040" cy="286524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6" descr="C:\Users\User\Desktop\Шаг в будущее 2019 Чингис\IMG_7801.JPG"/>
          <p:cNvPicPr/>
          <p:nvPr/>
        </p:nvPicPr>
        <p:blipFill>
          <a:blip r:embed="rId2"/>
          <a:stretch/>
        </p:blipFill>
        <p:spPr>
          <a:xfrm>
            <a:off x="4788000" y="2637000"/>
            <a:ext cx="37036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2" descr="C:\Users\User\Desktop\Шаг в будущее 2019 Чингис\IMG_7805.JPG"/>
          <p:cNvPicPr/>
          <p:nvPr/>
        </p:nvPicPr>
        <p:blipFill>
          <a:blip r:embed="rId1"/>
          <a:stretch/>
        </p:blipFill>
        <p:spPr>
          <a:xfrm>
            <a:off x="0" y="0"/>
            <a:ext cx="4284720" cy="35002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C:\Users\User\Desktop\Шаг в будущее 2019 Чингис\IMG_7811.JPG"/>
          <p:cNvPicPr/>
          <p:nvPr/>
        </p:nvPicPr>
        <p:blipFill>
          <a:blip r:embed="rId2"/>
          <a:stretch/>
        </p:blipFill>
        <p:spPr>
          <a:xfrm>
            <a:off x="4746600" y="0"/>
            <a:ext cx="4397400" cy="35002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C:\Users\User\Desktop\Шаг в будущее 2019 Чингис\IMG_7810.JPG"/>
          <p:cNvPicPr/>
          <p:nvPr/>
        </p:nvPicPr>
        <p:blipFill>
          <a:blip r:embed="rId3"/>
          <a:stretch/>
        </p:blipFill>
        <p:spPr>
          <a:xfrm>
            <a:off x="0" y="3686040"/>
            <a:ext cx="4284720" cy="31719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C:\Users\User\Desktop\Шаг в будущее 2019 Чингис\IMG_7801.JPG"/>
          <p:cNvPicPr/>
          <p:nvPr/>
        </p:nvPicPr>
        <p:blipFill>
          <a:blip r:embed="rId4"/>
          <a:stretch/>
        </p:blipFill>
        <p:spPr>
          <a:xfrm>
            <a:off x="4716360" y="3645000"/>
            <a:ext cx="44276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463680" y="396720"/>
            <a:ext cx="8242200" cy="11638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250560" y="141300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50000"/>
              </a:lnSpc>
              <a:spcBef>
                <a:spcPts val="751"/>
              </a:spcBef>
              <a:buClr>
                <a:srgbClr val="7fd13b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Команды выполняют задания с разной скоростью, поэтому ходить по очереди, просто не удобно; 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  <a:p>
            <a:pPr marL="488520" indent="-488520">
              <a:lnSpc>
                <a:spcPct val="50000"/>
              </a:lnSpc>
              <a:spcBef>
                <a:spcPts val="751"/>
              </a:spcBef>
              <a:buClr>
                <a:srgbClr val="7fd13b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Две минуты времени ничем не обусловлены, сильные команды справляются гораздо быстрее, а слабые тратят больше двух минут; 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  <a:p>
            <a:pPr marL="488520" indent="-488520">
              <a:lnSpc>
                <a:spcPct val="50000"/>
              </a:lnSpc>
              <a:spcBef>
                <a:spcPts val="751"/>
              </a:spcBef>
              <a:buClr>
                <a:srgbClr val="7fd13b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Задания получились очень разного уровня сложности, с одними команды справлялись очень быстро, а над другими очень долго думали; 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  <a:p>
            <a:pPr marL="488520" indent="-488520">
              <a:lnSpc>
                <a:spcPct val="50000"/>
              </a:lnSpc>
              <a:spcBef>
                <a:spcPts val="751"/>
              </a:spcBef>
              <a:buClr>
                <a:srgbClr val="7fd13b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Непонятно, когда считать игру законченной: когда встаешь точно на клетку «ФИНИШ», выбрав нужное количество очков, или когда просто выбираешь то количество, которое позволяет как-бы перейти через эту клетку; 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  <a:p>
            <a:pPr marL="488520" indent="-488520">
              <a:lnSpc>
                <a:spcPct val="50000"/>
              </a:lnSpc>
              <a:spcBef>
                <a:spcPts val="751"/>
              </a:spcBef>
              <a:buClr>
                <a:srgbClr val="7fd13b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Помощник ведущего не успевал достаточно быстро проверять ответы всех команд, ему явно требовалась помощь.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  <a:p>
            <a:pPr marL="488520" indent="-48852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250920" y="231120"/>
            <a:ext cx="849780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ереходе к 5 этапу у нас появились следующие идеи по изменению правил игр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одить надо не по очереди, а сразу после того, как выполнено зад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обще не кидать кубик, а просто сделать вопросы четырех разных уровней сложности: 1 уровень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шаг вперед, 2 уровень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шага, 3 уровень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шага, 4 уровень-4 шага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анды сами будут выбирать сложность задания и решать, с какой скоростью продвигаться вперед. Таким образом снимется также проблема решения того, что считать окончание игры, так как всегда можно попасть на клетк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ИШ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ыбрав нужный уровень вопро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мощников у ведущего должно быть как минимум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463680" y="396720"/>
            <a:ext cx="8242200" cy="11638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250560" y="1412640"/>
            <a:ext cx="87138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5b6f"/>
                </a:solidFill>
                <a:latin typeface="Franklin Gothic Book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На основании вышеизложенного, можно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сделать вывод, что создать настольную игру не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так то просто и легко, как мне казалось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первоначально. Для этого необходимо собрать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и обработать немало информации из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учебников, задачников, интернета.   Самым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сложным, оказалось, придумать правила игры.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После чего нужно придумать подходящий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дизайн и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макет настольной игры. Но под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руководством учителя я смог преодолеть все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трудности в создании настольной игры, чему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очень рад </a:t>
            </a:r>
            <a:r>
              <a:rPr b="0" i="1" lang="ru-RU" sz="32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458" name="Рисунок 4" descr="C:\Users\User\Desktop\Шаг в будущее 2019 Чингис\IMG_7820.JPG"/>
          <p:cNvPicPr/>
          <p:nvPr/>
        </p:nvPicPr>
        <p:blipFill>
          <a:blip r:embed="rId2"/>
          <a:stretch/>
        </p:blipFill>
        <p:spPr>
          <a:xfrm>
            <a:off x="2268360" y="3429000"/>
            <a:ext cx="4751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1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488360" cy="561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9528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29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4e5b6f"/>
                </a:solidFill>
                <a:uFillTx/>
                <a:latin typeface="Franklin Gothic Book"/>
              </a:rPr>
              <a:t>Цель:</a:t>
            </a:r>
            <a:r>
              <a:rPr b="1" lang="en-US" sz="3000" spc="-1" strike="noStrike" u="sng">
                <a:solidFill>
                  <a:srgbClr val="4e5b6f"/>
                </a:solidFill>
                <a:uFillTx/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5b6f"/>
                </a:solidFill>
                <a:latin typeface="Franklin Gothic Book"/>
              </a:rPr>
              <a:t>создание настольной игры для 5-6  классов своими руками. 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129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5b6f"/>
                </a:solidFill>
                <a:latin typeface="Franklin Gothic Book"/>
              </a:rPr>
              <a:t>  </a:t>
            </a:r>
            <a:r>
              <a:rPr b="1" lang="ru-RU" sz="3000" spc="-1" strike="noStrike" u="sng">
                <a:solidFill>
                  <a:srgbClr val="4e5b6f"/>
                </a:solidFill>
                <a:uFillTx/>
                <a:latin typeface="Franklin Gothic Book"/>
              </a:rPr>
              <a:t>Задачи: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  <a:p>
            <a:pPr marL="12960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Franklin Gothic Book"/>
              </a:rPr>
              <a:t>Изучить историю настольных игр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  <a:p>
            <a:pPr marL="12960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Franklin Gothic Book"/>
              </a:rPr>
              <a:t>Узнать и познакомиться с последовательностью  изготовления настольной игры  своими руками;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  <a:p>
            <a:pPr marL="12960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Franklin Gothic Book"/>
              </a:rPr>
              <a:t>Придумать правила игры;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  <a:p>
            <a:pPr marL="12960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Franklin Gothic Book"/>
              </a:rPr>
              <a:t>Подобрать необходимый материал;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  <a:p>
            <a:pPr marL="12960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Franklin Gothic Book"/>
              </a:rPr>
              <a:t>Познакомить ребят нашей школы  с игрой.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  <a:p>
            <a:pPr marL="12960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Franklin Gothic Book"/>
              </a:rPr>
              <a:t>Совершенствовать  вычислительные навыки, умение решать нестандартные задачи.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  <a:p>
            <a:pPr marL="129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  <a:p>
            <a:pPr marL="129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457200" y="19044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нятие настольной игр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Picture 6" descr="C:\TEMP\Rar$DR71.632\IMG_2417-20-11-18-12-35.JPG"/>
          <p:cNvPicPr/>
          <p:nvPr/>
        </p:nvPicPr>
        <p:blipFill>
          <a:blip r:embed="rId1"/>
          <a:stretch/>
        </p:blipFill>
        <p:spPr>
          <a:xfrm>
            <a:off x="0" y="1268280"/>
            <a:ext cx="4284720" cy="339408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6"/>
          <p:cNvSpPr/>
          <p:nvPr/>
        </p:nvSpPr>
        <p:spPr>
          <a:xfrm>
            <a:off x="5003640" y="1341360"/>
            <a:ext cx="3672000" cy="74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ая игра – это игра, в которую играют двое и более игроков, используя специальную доску, игровое поле или обычный сто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цировать настольные игры можно по нескольким признак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унк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арактеру иг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ипу используемых предме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ипу прави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Прямоугольник 1"/>
          <p:cNvSpPr/>
          <p:nvPr/>
        </p:nvSpPr>
        <p:spPr>
          <a:xfrm>
            <a:off x="900000" y="47628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з истории возникновения настольных иг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Прямоугольник 2"/>
          <p:cNvSpPr/>
          <p:nvPr/>
        </p:nvSpPr>
        <p:spPr>
          <a:xfrm>
            <a:off x="900000" y="1125360"/>
            <a:ext cx="42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и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французское слово. Так называлось зимнее одеяние католических священников, которое было черным снаружи и белым внутр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Прямоугольник 3"/>
          <p:cNvSpPr/>
          <p:nvPr/>
        </p:nvSpPr>
        <p:spPr>
          <a:xfrm>
            <a:off x="971640" y="2828880"/>
            <a:ext cx="410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аш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были изобретены французами. Существовало два варианта игры в шашки: а) бить шашку было не обязательно; б) бить обязательн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Рисунок 4" descr="h_wxfjvnhyo5q7vhlfrtwb0qk8d6lpos39_"/>
          <p:cNvPicPr/>
          <p:nvPr/>
        </p:nvPicPr>
        <p:blipFill>
          <a:blip r:embed="rId1"/>
          <a:stretch/>
        </p:blipFill>
        <p:spPr>
          <a:xfrm>
            <a:off x="5724360" y="907920"/>
            <a:ext cx="2962440" cy="259236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5" descr="i"/>
          <p:cNvPicPr/>
          <p:nvPr/>
        </p:nvPicPr>
        <p:blipFill>
          <a:blip r:embed="rId2"/>
          <a:stretch/>
        </p:blipFill>
        <p:spPr>
          <a:xfrm>
            <a:off x="5724360" y="3645000"/>
            <a:ext cx="299088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4" descr="C:\TEMP\Rar$DR26.592\IMG_2398-20-11-18-11-39.JPG"/>
          <p:cNvPicPr/>
          <p:nvPr/>
        </p:nvPicPr>
        <p:blipFill>
          <a:blip r:embed="rId1"/>
          <a:stretch/>
        </p:blipFill>
        <p:spPr>
          <a:xfrm>
            <a:off x="5364000" y="3429000"/>
            <a:ext cx="3635640" cy="32400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95280" y="469800"/>
            <a:ext cx="4968720" cy="139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800" spc="-1" strike="noStrike">
                <a:solidFill>
                  <a:srgbClr val="4e5b6f"/>
                </a:solidFill>
                <a:latin typeface="Times New Roman"/>
                <a:ea typeface="Microsoft YaHei"/>
              </a:rPr>
              <a:t>АНКЕТИРОВАНИЕ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600" spc="-1" strike="noStrike">
                <a:solidFill>
                  <a:srgbClr val="4e5b6f"/>
                </a:solidFill>
                <a:latin typeface="Times New Roman"/>
                <a:ea typeface="Microsoft YaHei"/>
              </a:rPr>
              <a:t>Ответьте, пожалуйста, на следующие вопросы:</a:t>
            </a:r>
            <a:endParaRPr b="0" lang="en-US" sz="16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Franklin Gothic Book"/>
                <a:ea typeface="Microsoft YaHe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Microsoft YaHe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  <a:ea typeface="Microsoft YaHei"/>
              </a:rPr>
              <a:t>1) В какие игры вы играете в свободное время?</a:t>
            </a:r>
            <a:endParaRPr b="0" lang="en-US" sz="14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34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4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34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4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416" name="Picture 4" descr="C:\TEMP\Rar$DR22.592\IMG_2391-20-11-18-11-39.JPG"/>
          <p:cNvPicPr/>
          <p:nvPr/>
        </p:nvPicPr>
        <p:blipFill>
          <a:blip r:embed="rId2"/>
          <a:stretch/>
        </p:blipFill>
        <p:spPr>
          <a:xfrm>
            <a:off x="5364000" y="189000"/>
            <a:ext cx="3672000" cy="3141720"/>
          </a:xfrm>
          <a:prstGeom prst="rect">
            <a:avLst/>
          </a:prstGeom>
          <a:ln w="0">
            <a:noFill/>
          </a:ln>
        </p:spPr>
      </p:pic>
      <p:pic>
        <p:nvPicPr>
          <p:cNvPr id="417" name="Диаграмма 5" descr=""/>
          <p:cNvPicPr/>
          <p:nvPr/>
        </p:nvPicPr>
        <p:blipFill>
          <a:blip r:embed="rId3"/>
          <a:stretch/>
        </p:blipFill>
        <p:spPr>
          <a:xfrm>
            <a:off x="468360" y="1268280"/>
            <a:ext cx="4421160" cy="245916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6"/>
          <p:cNvSpPr/>
          <p:nvPr/>
        </p:nvSpPr>
        <p:spPr>
          <a:xfrm>
            <a:off x="0" y="3642120"/>
            <a:ext cx="53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Играете ли в  настольные игры дома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Диаграмма 7" descr=""/>
          <p:cNvPicPr/>
          <p:nvPr/>
        </p:nvPicPr>
        <p:blipFill>
          <a:blip r:embed="rId4"/>
          <a:stretch/>
        </p:blipFill>
        <p:spPr>
          <a:xfrm>
            <a:off x="488880" y="4076640"/>
            <a:ext cx="47782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539640" y="25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5b6f"/>
                </a:solidFill>
                <a:latin typeface="Franklin Gothic Book"/>
              </a:rPr>
              <a:t>3) Хотелось ли вам поиграть в новые настольные игры?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421" name="Диаграмма 3" descr=""/>
          <p:cNvPicPr/>
          <p:nvPr/>
        </p:nvPicPr>
        <p:blipFill>
          <a:blip r:embed="rId1"/>
          <a:stretch/>
        </p:blipFill>
        <p:spPr>
          <a:xfrm>
            <a:off x="1496880" y="2009880"/>
            <a:ext cx="507852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1"/>
          <p:cNvSpPr/>
          <p:nvPr/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468360" y="308880"/>
            <a:ext cx="82803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создания и правила настольной иг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ы разбили процесс создания игры на пять этап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) Сбор и обработка  материал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) Анализ правил  настольных иг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) Создание настольной иг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4) Апробация с учащимися 5-6-х клас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5) Завершение проек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4" descr="C:\TEMP\Rar$DR61.632\IMG_2418-20-11-18-12-35.JPG"/>
          <p:cNvPicPr/>
          <p:nvPr/>
        </p:nvPicPr>
        <p:blipFill>
          <a:blip r:embed="rId1"/>
          <a:stretch/>
        </p:blipFill>
        <p:spPr>
          <a:xfrm>
            <a:off x="485928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"/>
          <p:cNvSpPr/>
          <p:nvPr/>
        </p:nvSpPr>
        <p:spPr>
          <a:xfrm>
            <a:off x="0" y="389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468360" y="1341360"/>
            <a:ext cx="82072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первом этапе для поиска заданий мы использовали такие источник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формации как учебники по математике  для 5-6-х классов; дидактические     материалы для 5-6-х классов; литература по занимательной  математике; интер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тем мы отбирали наиболее интересные задания, пытаясь добиться того, чтобы они были более-менее одного уровня слож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3" descr="C:\TEMP\Rar$DR07.632\IMG_2408-20-11-18-12-35.JPG"/>
          <p:cNvPicPr/>
          <p:nvPr/>
        </p:nvPicPr>
        <p:blipFill>
          <a:blip r:embed="rId1"/>
          <a:stretch/>
        </p:blipFill>
        <p:spPr>
          <a:xfrm>
            <a:off x="4859280" y="4221000"/>
            <a:ext cx="3816360" cy="2637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C:\TEMP\Rar$DR71.632\IMG_2417-20-11-18-12-35.JPG"/>
          <p:cNvPicPr/>
          <p:nvPr/>
        </p:nvPicPr>
        <p:blipFill>
          <a:blip r:embed="rId2"/>
          <a:stretch/>
        </p:blipFill>
        <p:spPr>
          <a:xfrm>
            <a:off x="539640" y="4437000"/>
            <a:ext cx="36734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"/>
          <p:cNvSpPr/>
          <p:nvPr/>
        </p:nvSpPr>
        <p:spPr>
          <a:xfrm>
            <a:off x="0" y="389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468360" y="313380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3"/>
          <p:cNvSpPr/>
          <p:nvPr/>
        </p:nvSpPr>
        <p:spPr>
          <a:xfrm>
            <a:off x="395280" y="1341360"/>
            <a:ext cx="446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а втором этапе, чтобы создать правила своей игры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мы провели анализ правил различных видов настольных игр и попытались выбрать  из них те, которые наиболее подойдут к создаваемой игре. Вот что у нас получило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6" descr="C:\Users\User\Desktop\Шаг в будущее 2019-2020 Чингис\IMG_7837.JPG"/>
          <p:cNvPicPr/>
          <p:nvPr/>
        </p:nvPicPr>
        <p:blipFill>
          <a:blip r:embed="rId1"/>
          <a:stretch/>
        </p:blipFill>
        <p:spPr>
          <a:xfrm>
            <a:off x="5208480" y="1341360"/>
            <a:ext cx="39355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05:09:42Z</dcterms:created>
  <dc:creator>Book</dc:creator>
  <dc:description/>
  <dc:language>en-US</dc:language>
  <cp:lastModifiedBy>User</cp:lastModifiedBy>
  <dcterms:modified xsi:type="dcterms:W3CDTF">2023-01-23T08:39:05Z</dcterms:modified>
  <cp:revision>104</cp:revision>
  <dc:subject/>
  <dc:title>Тема: Математические расчёты семейного бюджета</dc:title>
</cp:coreProperties>
</file>