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7.jpeg" ContentType="image/jpeg"/>
  <Override PartName="/ppt/media/image28.jpeg" ContentType="image/jpeg"/>
  <Override PartName="/ppt/media/image19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0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C1B9-1322-45A7-8A1D-0FB42620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FB54-2842-4E34-8C57-08F1EFE4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0FFC6-932D-4F77-83BD-EA7DB537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E600F-0357-4FCC-B66B-44E5C662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6690D-F8F2-43C9-B087-3A3B2373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78D4C-8490-4280-AA9B-0C0EB834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D2121-CE6D-47B2-9870-94B909FD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FB2DD-A42D-49BD-AA6F-548B0A8A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C4374-3B43-4E41-A11F-0C0716CF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2BF0A-DD20-4BAB-AAB6-1343963A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1DEE7-1407-4C38-BD18-DDCCCDEA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520-6BC2-472E-8F91-C6169522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C38F-67B7-42EA-934C-6655DB44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6D80-A0B1-4FD0-A7B4-96669BBE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6429-39E9-45D3-844C-52ACED17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F5C8-18A3-4EE3-8190-25DD0AD5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E72E-7133-4F0D-839B-F96C1AA7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4B56-B470-4536-92E8-56B58DBB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30FB-0101-407A-996A-CBBAB82D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D641-C7A5-4C50-BC02-A651FBA5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B7F-B995-4F8C-ACF6-7C267A73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5492-20E6-4D36-A6D8-D006B8E6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61BE-3584-4189-93D4-9D9A2993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022E-C277-491F-ABA2-61C72B0C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6F82-61F4-49BC-B035-65AD32B0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6B43-4CCE-4EA9-B810-E9AEEFE5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ABD16-0D5C-47B5-94F3-00DB81EC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ECCDB-FDB8-4506-9768-7BCA6E55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103E9-B4C6-49F6-BE95-4F7FE056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842A0-908D-4C98-885A-78AE46A8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CA053-6C9F-40C9-8586-82610009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AB2C-B33C-46F5-B1A7-CBD889B2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73A8E-8A93-4951-8616-BC22A4D6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D4501-EFDA-4593-A1DF-9D8ABC7F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A9649-E303-4708-A568-A5620135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2D4B8-C194-42CA-9115-AC0D4DEC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3489D-DE40-43B0-BDCB-93EEB87B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A4B68-E75C-441A-AD84-889ED47C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3F8D6-16C8-46B4-89C9-A69743E2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35811-CBE0-4CDB-A811-F0175413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A3052-C975-4FF7-877D-8EBD4A63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C33F8-6722-4295-BDB6-FCE7C72D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0A7-C90E-4800-9EFE-A285B0F2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3D7A2-C136-4FA4-B237-3AB61DA8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31232-6F7D-4B45-A016-FB458384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E8C31-1AE6-48A3-AF21-76E6CD98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9056F-C6DD-46E8-B346-B33C7B3A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7AE7A-E381-408C-8BE8-A9FD93F8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AE20B-380C-4D9B-A304-2DAC7C1E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91609-9E04-411E-9CE3-0645DC9C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93414-691D-4E4D-90FE-A2DFD9B7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43D56-F9B4-4552-A49A-4FA81486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F550D-2DA6-4335-B5B1-8EBCBF20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D2D9-7EDE-4385-984A-4A0A2130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B92BB-8E22-4798-AB0D-B8BF7ADF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0B4D1-5173-4786-9064-89585F30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F7958-1474-41F7-A453-0F92527A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8DC37-B1FA-4BAA-8FD8-44B22E55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961AB-7E49-4889-9749-40EC0EF1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A1FAD-1BE6-4CD1-9E5F-25860FDD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03148-47EF-4AAD-A416-71C04631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AA309-FA9B-4F60-83BE-B437E299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CFA21-2EF5-433E-87D3-9E6ED83B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BAC44-EDC3-405C-A15D-8CC4AED7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9D43-D2E8-4646-B2D9-E6D6380E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946EF-EAEC-43E0-8768-D347553B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071FD-8D40-443D-8481-B41BF91F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6F0A3-1B10-41EB-9AF9-10AA457C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4FF32-0DC0-4C9B-8014-5381526A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272C9-D365-4648-9403-8E9B5D1D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9E108-CE28-46B8-A76A-C63C9CBE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339FA-5CF4-4D2F-9181-1C86426D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57203-1C9C-4EBF-A353-8580A719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FE778-0747-431C-ACE2-35CE7E92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4F685-B4A7-4474-8F7F-F7C71380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252-9FDB-47AB-9E79-E9F482A4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436D0-BD6D-4E5F-AEB8-9C474920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A35E5-BE1A-49B8-B57F-4EC34DDF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FDAAF-A3C2-48D7-9B78-DBD59B2D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6F48A-D307-4C56-B4E2-4844DD53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C07F3-5B8F-4437-8A0E-E7598BD4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CD8EE-66C5-43CE-9D24-ED969C04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7A2EA-56A9-4674-8E40-DE16E2BE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D1BF8-6C1A-4D0D-954E-9B9B3C66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1A6E1-BA98-4033-A476-FF405EAF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DA477-A5D3-490C-A43A-6637D75F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26A0-7616-4934-B654-D706351F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BDF16-4144-4433-9A5C-612A50C8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C3DA9-22EC-4766-A584-1DDFC23F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560B5-D997-4650-B1D8-1C01BCED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85C24-5AF3-47E3-A9CD-2A9F8511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2F9A1-472A-4512-9B34-3F7A2655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1A700-1FFB-4C43-9912-F30E9FAD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59E5D-E414-4B45-A866-7ED8C47B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BADF1-2E9D-4F9F-822A-7B968BCA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1816E-D6C8-426B-9070-D88ED04B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14498-9440-4929-B81B-3E2E8C17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0705-2DD2-43DB-A396-B559E426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AFDC4-F3FA-4DE9-BBAC-69C83905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EA487-6977-41C1-B92C-3570ABAB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4D7F2-6CA3-4D16-8E8B-C153C390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3B77B-C1BC-4EB7-B8D8-41C3553D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A02DE-3B33-49D7-A49D-C6B4E083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C95D3-6EDA-48D6-9F83-86CE598C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02458-BDDB-4379-9E73-58F8F763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4DD38-A772-4EE3-9C32-885398E3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AACF5-E6F9-45A8-906C-6E39754C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84D63-1824-4384-9866-1E35D7B8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B6FB65-E6C3-4EDC-B4C1-E390399AEE13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2FF216-2F94-4F63-B26F-279EFB20228B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F23706-6C99-42B4-8537-278C7958C2A1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993DAF-03F7-44D2-BDAD-0C86670F8A9D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B26D15-4B61-47AA-8052-DD9E50512BCD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E14147-A349-41E3-93E1-7B7CD2ED9713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5E5586-0A86-413B-933D-E898A5EFD7B5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E06D35-8F47-43C8-AD3F-BDA39DE1C3AB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B44619-7759-4A1E-BB89-A2B7A538DE20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462200" y="616572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019г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0" name="Подзаголовок 2"/>
          <p:cNvSpPr/>
          <p:nvPr/>
        </p:nvSpPr>
        <p:spPr>
          <a:xfrm>
            <a:off x="395280" y="260280"/>
            <a:ext cx="82803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Book"/>
              </a:rPr>
              <a:t>МБОУ «Иракиндинская средняя общеобразовательная школа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Подзаголовок 2"/>
          <p:cNvSpPr/>
          <p:nvPr/>
        </p:nvSpPr>
        <p:spPr>
          <a:xfrm>
            <a:off x="552600" y="836640"/>
            <a:ext cx="828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следовательская работа по тем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ые игры своими рука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Подзаголовок 2"/>
          <p:cNvSpPr/>
          <p:nvPr/>
        </p:nvSpPr>
        <p:spPr>
          <a:xfrm>
            <a:off x="5332320" y="3789360"/>
            <a:ext cx="3672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Автор: ученик 6 класса Балданов Чинги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Руководитель: учитель математик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Балданова М.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7" descr="C:\Users\User\Desktop\Шаг в будущее 2019-2020 Чингис\IMG_7829.JPG"/>
          <p:cNvPicPr/>
          <p:nvPr/>
        </p:nvPicPr>
        <p:blipFill>
          <a:blip r:embed="rId1"/>
          <a:stretch/>
        </p:blipFill>
        <p:spPr>
          <a:xfrm>
            <a:off x="0" y="2276640"/>
            <a:ext cx="52927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24000" y="6840"/>
            <a:ext cx="84960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А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игроков: 2-4 коман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: игра, лист с ответами для проверки, фишки, карточки с заданиями, игральный куб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игры: игроки путем выбрасывания игральной кости определяют очередность хода. Далее по очереди кидают кубик и совершают ходы на выпавшее число очков с одним условием: бросив игральную кость, капитан команды берет карточку с заданием (у каждой команды свой цвет), затем идет к своей команде. В течение двух минут команда решает задание, вносит ответ в лист протокола и отдает помощнику ведущего. Если задание выполнено верно, то игрок выполняет ход, если ответ неправильный, то он остается на мест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адая на призовые задания, команда может получить сразу 10 баллов и сделать 10 ходов вперед, при условии, если справиться с заданием повышенной слож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игрывает та команда, которая первая достигнет финиш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"/>
          <p:cNvSpPr/>
          <p:nvPr/>
        </p:nvSpPr>
        <p:spPr>
          <a:xfrm>
            <a:off x="0" y="389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468360" y="313380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Прямоугольник 4"/>
          <p:cNvSpPr/>
          <p:nvPr/>
        </p:nvSpPr>
        <p:spPr>
          <a:xfrm>
            <a:off x="324000" y="1268280"/>
            <a:ext cx="85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 третьем этапе, мы приступили к созданию игры. Совместно с учителем мы придумывали, сколько будет ходов, что изобразить при оформлении, как раскрасить. Потом это все было перенесено на лист ватма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5" descr="C:\Users\User\Desktop\Шаг в будущее 2019-2020 Чингис\IMG_7825.JPG"/>
          <p:cNvPicPr/>
          <p:nvPr/>
        </p:nvPicPr>
        <p:blipFill>
          <a:blip r:embed="rId1"/>
          <a:stretch/>
        </p:blipFill>
        <p:spPr>
          <a:xfrm>
            <a:off x="5651640" y="3141720"/>
            <a:ext cx="3097080" cy="37162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C:\Users\User\Desktop\Шаг в будущее 2019-2020 Чингис\IMG_7829.JPG"/>
          <p:cNvPicPr/>
          <p:nvPr/>
        </p:nvPicPr>
        <p:blipFill>
          <a:blip r:embed="rId2"/>
          <a:stretch/>
        </p:blipFill>
        <p:spPr>
          <a:xfrm>
            <a:off x="0" y="3645000"/>
            <a:ext cx="5292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C:\Users\User\Desktop\Шаг в будущее 2019-2020 Чингис\IMG_7831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2846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C:\Users\User\Desktop\Шаг в будущее 2019-2020 Чингис\IMG_7836.JPG"/>
          <p:cNvPicPr/>
          <p:nvPr/>
        </p:nvPicPr>
        <p:blipFill>
          <a:blip r:embed="rId2"/>
          <a:stretch/>
        </p:blipFill>
        <p:spPr>
          <a:xfrm>
            <a:off x="4923000" y="0"/>
            <a:ext cx="4221000" cy="32846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C:\Users\User\Desktop\Шаг в будущее 2019-2020 Чингис\IMG_7828.JPG"/>
          <p:cNvPicPr/>
          <p:nvPr/>
        </p:nvPicPr>
        <p:blipFill>
          <a:blip r:embed="rId3"/>
          <a:stretch/>
        </p:blipFill>
        <p:spPr>
          <a:xfrm>
            <a:off x="0" y="3357720"/>
            <a:ext cx="4589640" cy="35002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C:\Users\User\Desktop\Шаг в будущее 2019-2020 Чингис\IMG_7832.JPG"/>
          <p:cNvPicPr/>
          <p:nvPr/>
        </p:nvPicPr>
        <p:blipFill>
          <a:blip r:embed="rId4"/>
          <a:stretch/>
        </p:blipFill>
        <p:spPr>
          <a:xfrm>
            <a:off x="4932360" y="3357720"/>
            <a:ext cx="4211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0" y="389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этап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468360" y="313380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Прямоугольник 4"/>
          <p:cNvSpPr/>
          <p:nvPr/>
        </p:nvSpPr>
        <p:spPr>
          <a:xfrm>
            <a:off x="468360" y="1268280"/>
            <a:ext cx="84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четвертом этапе мы пригласили учеников из 5-6 классов, составили четыре команды и провели нашу игр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2" descr="C:\Users\User\Desktop\Шаг в будущее 2019 Чингис\IMG_7812.JPG"/>
          <p:cNvPicPr/>
          <p:nvPr/>
        </p:nvPicPr>
        <p:blipFill>
          <a:blip r:embed="rId1"/>
          <a:stretch/>
        </p:blipFill>
        <p:spPr>
          <a:xfrm>
            <a:off x="250920" y="2637000"/>
            <a:ext cx="3821040" cy="286524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6" descr="C:\Users\User\Desktop\Шаг в будущее 2019 Чингис\IMG_7801.JPG"/>
          <p:cNvPicPr/>
          <p:nvPr/>
        </p:nvPicPr>
        <p:blipFill>
          <a:blip r:embed="rId2"/>
          <a:stretch/>
        </p:blipFill>
        <p:spPr>
          <a:xfrm>
            <a:off x="4788000" y="2637000"/>
            <a:ext cx="37036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C:\Users\User\Desktop\Шаг в будущее 2019 Чингис\IMG_7805.JPG"/>
          <p:cNvPicPr/>
          <p:nvPr/>
        </p:nvPicPr>
        <p:blipFill>
          <a:blip r:embed="rId1"/>
          <a:stretch/>
        </p:blipFill>
        <p:spPr>
          <a:xfrm>
            <a:off x="0" y="0"/>
            <a:ext cx="4284720" cy="35002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C:\Users\User\Desktop\Шаг в будущее 2019 Чингис\IMG_7811.JPG"/>
          <p:cNvPicPr/>
          <p:nvPr/>
        </p:nvPicPr>
        <p:blipFill>
          <a:blip r:embed="rId2"/>
          <a:stretch/>
        </p:blipFill>
        <p:spPr>
          <a:xfrm>
            <a:off x="4746600" y="0"/>
            <a:ext cx="4397400" cy="3500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Users\User\Desktop\Шаг в будущее 2019 Чингис\IMG_7810.JPG"/>
          <p:cNvPicPr/>
          <p:nvPr/>
        </p:nvPicPr>
        <p:blipFill>
          <a:blip r:embed="rId3"/>
          <a:stretch/>
        </p:blipFill>
        <p:spPr>
          <a:xfrm>
            <a:off x="0" y="3686040"/>
            <a:ext cx="4284720" cy="31719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C:\Users\User\Desktop\Шаг в будущее 2019 Чингис\IMG_7801.JPG"/>
          <p:cNvPicPr/>
          <p:nvPr/>
        </p:nvPicPr>
        <p:blipFill>
          <a:blip r:embed="rId4"/>
          <a:stretch/>
        </p:blipFill>
        <p:spPr>
          <a:xfrm>
            <a:off x="4716360" y="3645000"/>
            <a:ext cx="44276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463680" y="396720"/>
            <a:ext cx="8242200" cy="11638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250560" y="141300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50000"/>
              </a:lnSpc>
              <a:spcBef>
                <a:spcPts val="751"/>
              </a:spcBef>
              <a:buClr>
                <a:srgbClr val="7fd13b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Команды выполняют задания с разной скоростью, поэтому ходить по очереди, просто не удобно; 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488520" indent="-488520">
              <a:lnSpc>
                <a:spcPct val="50000"/>
              </a:lnSpc>
              <a:spcBef>
                <a:spcPts val="751"/>
              </a:spcBef>
              <a:buClr>
                <a:srgbClr val="7fd13b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Две минуты времени ничем не обусловлены, сильные команды справляются гораздо быстрее, а слабые тратят больше двух минут; 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488520" indent="-488520">
              <a:lnSpc>
                <a:spcPct val="50000"/>
              </a:lnSpc>
              <a:spcBef>
                <a:spcPts val="751"/>
              </a:spcBef>
              <a:buClr>
                <a:srgbClr val="7fd13b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Задания получились очень разного уровня сложности, с одними команды справлялись очень быстро, а над другими очень долго думали; 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488520" indent="-488520">
              <a:lnSpc>
                <a:spcPct val="50000"/>
              </a:lnSpc>
              <a:spcBef>
                <a:spcPts val="751"/>
              </a:spcBef>
              <a:buClr>
                <a:srgbClr val="7fd13b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Непонятно, когда считать игру законченной: когда встаешь точно на клетку «ФИНИШ», выбрав нужное количество очков, или когда просто выбираешь то количество, которое позволяет как-бы перейти через эту клетку; 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488520" indent="-488520">
              <a:lnSpc>
                <a:spcPct val="50000"/>
              </a:lnSpc>
              <a:spcBef>
                <a:spcPts val="751"/>
              </a:spcBef>
              <a:buClr>
                <a:srgbClr val="7fd13b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Помощник ведущего не успевал достаточно быстро проверять ответы всех команд, ему явно требовалась помощь.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488520" indent="-48852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250920" y="231120"/>
            <a:ext cx="84978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ереходе к 5 этапу у нас появились следующие идеи по изменению правил иг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одить надо не по очереди, а сразу после того, как выполнено зад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обще не кидать кубик, а просто сделать вопросы четырех разных уровней сложности: 1 уровен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шаг вперед, 2 уровен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шага, 3 уровен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шага, 4 уровень-4 шаг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анды сами будут выбирать сложность задания и решать, с какой скоростью продвигаться вперед. Таким образом снимется также проблема решения того, что считать окончание игры, так как всегда можно попасть на клетк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ИШ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брав нужный уровень вопро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мощников у ведущего должно быть как минимум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463680" y="396720"/>
            <a:ext cx="8242200" cy="11638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250560" y="1412640"/>
            <a:ext cx="87138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b6f"/>
                </a:solidFill>
                <a:latin typeface="Franklin Gothic Book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На основании вышеизложенного, можно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сделать вывод, что создать настольную игру не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так то просто и легко, как мне казалось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ервоначально. Для этого необходимо собрать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и обработать немало информации из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учебников, задачников, интернета.   Самым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сложным, оказалось, придумать правила игры.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осле чего нужно придумать подходящий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дизайн и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макет настольной игры. Но под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руководством учителя я смог преодолеть все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трудности в создании настольной игры, чему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очень рад </a:t>
            </a:r>
            <a:r>
              <a:rPr b="0" i="1" lang="ru-RU" sz="3200" spc="-1" strike="noStrike">
                <a:solidFill>
                  <a:srgbClr val="4e5b6f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58" name="Рисунок 4" descr="C:\Users\User\Desktop\Шаг в будущее 2019 Чингис\IMG_7820.JPG"/>
          <p:cNvPicPr/>
          <p:nvPr/>
        </p:nvPicPr>
        <p:blipFill>
          <a:blip r:embed="rId2"/>
          <a:stretch/>
        </p:blipFill>
        <p:spPr>
          <a:xfrm>
            <a:off x="2268360" y="3429000"/>
            <a:ext cx="4751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1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488360" cy="56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9528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29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4e5b6f"/>
                </a:solidFill>
                <a:uFillTx/>
                <a:latin typeface="Franklin Gothic Book"/>
              </a:rPr>
              <a:t>Цель:</a:t>
            </a:r>
            <a:r>
              <a:rPr b="1" lang="en-US" sz="3000" spc="-1" strike="noStrike" u="sng">
                <a:solidFill>
                  <a:srgbClr val="4e5b6f"/>
                </a:solidFill>
                <a:uFillTx/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5b6f"/>
                </a:solidFill>
                <a:latin typeface="Franklin Gothic Book"/>
              </a:rPr>
              <a:t>создание настольной игры для 5-6  классов своими руками. 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129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5b6f"/>
                </a:solidFill>
                <a:latin typeface="Franklin Gothic Book"/>
              </a:rPr>
              <a:t>  </a:t>
            </a:r>
            <a:r>
              <a:rPr b="1" lang="ru-RU" sz="3000" spc="-1" strike="noStrike" u="sng">
                <a:solidFill>
                  <a:srgbClr val="4e5b6f"/>
                </a:solidFill>
                <a:uFillTx/>
                <a:latin typeface="Franklin Gothic Book"/>
              </a:rPr>
              <a:t>Задачи: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12960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Franklin Gothic Book"/>
              </a:rPr>
              <a:t>Изучить историю настольных игр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12960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Franklin Gothic Book"/>
              </a:rPr>
              <a:t>Узнать и познакомиться с последовательностью  изготовления настольной игры  своими руками;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12960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Franklin Gothic Book"/>
              </a:rPr>
              <a:t>Придумать правила игры;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12960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Franklin Gothic Book"/>
              </a:rPr>
              <a:t>Подобрать необходимый материал;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12960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Franklin Gothic Book"/>
              </a:rPr>
              <a:t>Познакомить ребят нашей школы  с игрой.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12960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Franklin Gothic Book"/>
              </a:rPr>
              <a:t>Совершенствовать  вычислительные навыки, умение решать нестандартные задачи.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129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  <a:p>
            <a:pPr marL="129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457200" y="19044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нятие настольной игр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6" descr="C:\TEMP\Rar$DR71.632\IMG_2417-20-11-18-12-35.JPG"/>
          <p:cNvPicPr/>
          <p:nvPr/>
        </p:nvPicPr>
        <p:blipFill>
          <a:blip r:embed="rId1"/>
          <a:stretch/>
        </p:blipFill>
        <p:spPr>
          <a:xfrm>
            <a:off x="0" y="1268280"/>
            <a:ext cx="4284720" cy="339408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6"/>
          <p:cNvSpPr/>
          <p:nvPr/>
        </p:nvSpPr>
        <p:spPr>
          <a:xfrm>
            <a:off x="5003640" y="1341360"/>
            <a:ext cx="3672000" cy="74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ая игра – это игра, в которую играют двое и более игроков, используя специальную доску, игровое поле или обычный сто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цировать настольные игры можно по нескольким призна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унк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иг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ипу используемых предме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ипу прав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рямоугольник 1"/>
          <p:cNvSpPr/>
          <p:nvPr/>
        </p:nvSpPr>
        <p:spPr>
          <a:xfrm>
            <a:off x="900000" y="47628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 истории возникновения настольных иг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оугольник 2"/>
          <p:cNvSpPr/>
          <p:nvPr/>
        </p:nvSpPr>
        <p:spPr>
          <a:xfrm>
            <a:off x="900000" y="1125360"/>
            <a:ext cx="42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и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французское слово. Так называлось зимнее одеяние католических священников, которое было черным снаружи и белым внутр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3"/>
          <p:cNvSpPr/>
          <p:nvPr/>
        </p:nvSpPr>
        <p:spPr>
          <a:xfrm>
            <a:off x="971640" y="2828880"/>
            <a:ext cx="410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ш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ыли изобретены французами. Существовало два варианта игры в шашки: а) бить шашку было не обязательно; б) бить обязатель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Рисунок 4" descr="h_wxfjvnhyo5q7vhlfrtwb0qk8d6lpos39_"/>
          <p:cNvPicPr/>
          <p:nvPr/>
        </p:nvPicPr>
        <p:blipFill>
          <a:blip r:embed="rId1"/>
          <a:stretch/>
        </p:blipFill>
        <p:spPr>
          <a:xfrm>
            <a:off x="5724360" y="907920"/>
            <a:ext cx="2962440" cy="259236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5" descr="i"/>
          <p:cNvPicPr/>
          <p:nvPr/>
        </p:nvPicPr>
        <p:blipFill>
          <a:blip r:embed="rId2"/>
          <a:stretch/>
        </p:blipFill>
        <p:spPr>
          <a:xfrm>
            <a:off x="5724360" y="3645000"/>
            <a:ext cx="299088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C:\TEMP\Rar$DR26.592\IMG_2398-20-11-18-11-39.JPG"/>
          <p:cNvPicPr/>
          <p:nvPr/>
        </p:nvPicPr>
        <p:blipFill>
          <a:blip r:embed="rId1"/>
          <a:stretch/>
        </p:blipFill>
        <p:spPr>
          <a:xfrm>
            <a:off x="5364000" y="3429000"/>
            <a:ext cx="3635640" cy="32400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95280" y="469800"/>
            <a:ext cx="4968720" cy="139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Microsoft YaHei"/>
              </a:rPr>
              <a:t>АНКЕТИРОВАНИЕ</a:t>
            </a:r>
            <a:endParaRPr b="0" lang="en-US" sz="18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1600" spc="-1" strike="noStrike">
                <a:solidFill>
                  <a:srgbClr val="4e5b6f"/>
                </a:solidFill>
                <a:latin typeface="Times New Roman"/>
                <a:ea typeface="Microsoft YaHei"/>
              </a:rPr>
              <a:t>Ответьте, пожалуйста, на следующие вопросы:</a:t>
            </a:r>
            <a:endParaRPr b="0" lang="en-US" sz="16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Franklin Gothic Book"/>
                <a:ea typeface="Microsoft YaHe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Microsoft YaHe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  <a:ea typeface="Microsoft YaHei"/>
              </a:rPr>
              <a:t>1) В какие игры вы играете в свободное время?</a:t>
            </a:r>
            <a:endParaRPr b="0" lang="en-US" sz="14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34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4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34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4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16" name="Picture 4" descr="C:\TEMP\Rar$DR22.592\IMG_2391-20-11-18-11-39.JPG"/>
          <p:cNvPicPr/>
          <p:nvPr/>
        </p:nvPicPr>
        <p:blipFill>
          <a:blip r:embed="rId2"/>
          <a:stretch/>
        </p:blipFill>
        <p:spPr>
          <a:xfrm>
            <a:off x="5364000" y="189000"/>
            <a:ext cx="3672000" cy="3141720"/>
          </a:xfrm>
          <a:prstGeom prst="rect">
            <a:avLst/>
          </a:prstGeom>
          <a:ln w="0">
            <a:noFill/>
          </a:ln>
        </p:spPr>
      </p:pic>
      <p:pic>
        <p:nvPicPr>
          <p:cNvPr id="417" name="Диаграмма 5" descr=""/>
          <p:cNvPicPr/>
          <p:nvPr/>
        </p:nvPicPr>
        <p:blipFill>
          <a:blip r:embed="rId3"/>
          <a:stretch/>
        </p:blipFill>
        <p:spPr>
          <a:xfrm>
            <a:off x="468360" y="1268280"/>
            <a:ext cx="4421160" cy="245916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6"/>
          <p:cNvSpPr/>
          <p:nvPr/>
        </p:nvSpPr>
        <p:spPr>
          <a:xfrm>
            <a:off x="0" y="3642120"/>
            <a:ext cx="53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граете ли в  настольные игры дома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Диаграмма 7" descr=""/>
          <p:cNvPicPr/>
          <p:nvPr/>
        </p:nvPicPr>
        <p:blipFill>
          <a:blip r:embed="rId4"/>
          <a:stretch/>
        </p:blipFill>
        <p:spPr>
          <a:xfrm>
            <a:off x="488880" y="4076640"/>
            <a:ext cx="4778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539640" y="25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b6f"/>
                </a:solidFill>
                <a:latin typeface="Franklin Gothic Book"/>
              </a:rPr>
              <a:t>3) Хотелось ли вам поиграть в новые настольные игры?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21" name="Диаграмма 3" descr=""/>
          <p:cNvPicPr/>
          <p:nvPr/>
        </p:nvPicPr>
        <p:blipFill>
          <a:blip r:embed="rId1"/>
          <a:stretch/>
        </p:blipFill>
        <p:spPr>
          <a:xfrm>
            <a:off x="1496880" y="2009880"/>
            <a:ext cx="50785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468360" y="308880"/>
            <a:ext cx="8280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создания и правила настольной 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ы разбили процесс создания игры на пять этап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) Сбор и обработка  материа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) Анализ правил  настольных иг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) Создание настольной иг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) Апробация с учащимися 5-6-х клас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) Завершение проек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4" descr="C:\TEMP\Rar$DR61.632\IMG_2418-20-11-18-12-35.JPG"/>
          <p:cNvPicPr/>
          <p:nvPr/>
        </p:nvPicPr>
        <p:blipFill>
          <a:blip r:embed="rId1"/>
          <a:stretch/>
        </p:blipFill>
        <p:spPr>
          <a:xfrm>
            <a:off x="485928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"/>
          <p:cNvSpPr/>
          <p:nvPr/>
        </p:nvSpPr>
        <p:spPr>
          <a:xfrm>
            <a:off x="0" y="389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468360" y="1341360"/>
            <a:ext cx="82072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первом этапе для поиска заданий мы использовали такие источник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формации как учебники по математике  для 5-6-х классов; дидактические     материалы для 5-6-х классов; литература по занимательной  математике; интер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тем мы отбирали наиболее интересные задания, пытаясь добиться того, чтобы они были более-менее одного уровня слож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3" descr="C:\TEMP\Rar$DR07.632\IMG_2408-20-11-18-12-35.JPG"/>
          <p:cNvPicPr/>
          <p:nvPr/>
        </p:nvPicPr>
        <p:blipFill>
          <a:blip r:embed="rId1"/>
          <a:stretch/>
        </p:blipFill>
        <p:spPr>
          <a:xfrm>
            <a:off x="4859280" y="4221000"/>
            <a:ext cx="3816360" cy="2637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C:\TEMP\Rar$DR71.632\IMG_2417-20-11-18-12-35.JPG"/>
          <p:cNvPicPr/>
          <p:nvPr/>
        </p:nvPicPr>
        <p:blipFill>
          <a:blip r:embed="rId2"/>
          <a:stretch/>
        </p:blipFill>
        <p:spPr>
          <a:xfrm>
            <a:off x="539640" y="4437000"/>
            <a:ext cx="36734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"/>
          <p:cNvSpPr/>
          <p:nvPr/>
        </p:nvSpPr>
        <p:spPr>
          <a:xfrm>
            <a:off x="0" y="389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468360" y="313380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3"/>
          <p:cNvSpPr/>
          <p:nvPr/>
        </p:nvSpPr>
        <p:spPr>
          <a:xfrm>
            <a:off x="395280" y="1341360"/>
            <a:ext cx="446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а втором этапе, чтобы создать правила своей игр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мы провели анализ правил различных видов настольных игр и попытались выбрать  из них те, которые наиболее подойдут к создаваемой игре. Вот что у нас получило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6" descr="C:\Users\User\Desktop\Шаг в будущее 2019-2020 Чингис\IMG_7837.JPG"/>
          <p:cNvPicPr/>
          <p:nvPr/>
        </p:nvPicPr>
        <p:blipFill>
          <a:blip r:embed="rId1"/>
          <a:stretch/>
        </p:blipFill>
        <p:spPr>
          <a:xfrm>
            <a:off x="5208480" y="1341360"/>
            <a:ext cx="39355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05:09:42Z</dcterms:created>
  <dc:creator>Book</dc:creator>
  <dc:description/>
  <dc:language>en-US</dc:language>
  <cp:lastModifiedBy>User</cp:lastModifiedBy>
  <dcterms:modified xsi:type="dcterms:W3CDTF">2023-01-23T08:39:05Z</dcterms:modified>
  <cp:revision>104</cp:revision>
  <dc:subject/>
  <dc:title>Тема: Математические расчёты семейного бюджета</dc:title>
</cp:coreProperties>
</file>