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7BD-6A2E-460B-855E-5E6192BE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9A8-7569-442B-AA46-EE3B2C63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AB8-75DA-419F-BBBC-EBE915F2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AD8-3435-4678-BAAB-A722AABD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B21-DD1D-4DCE-A65A-ACF8EC7A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D9A-B91A-4068-B67E-43BEDC6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ACA-4914-4ADC-9526-8A87231A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6AD-6DC4-47D0-ABDE-FF80409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CD5-D1FC-401C-BC4D-3E14C10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A5C-58A5-4D66-A5BE-42A2ED0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38B-849A-49FA-AC98-6D67BC1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BFF-2FCC-4202-A901-0458ACA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B7BA-63BB-491E-9D90-BAB327CF4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070200">
            <a:off x="899640" y="1125360"/>
            <a:ext cx="690264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но-исследовательский  проект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Полезный лимон"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500720" y="3789360"/>
            <a:ext cx="40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4 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Баянголь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ичен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бих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3"/>
          <p:cNvSpPr txBox="1"/>
          <p:nvPr/>
        </p:nvSpPr>
        <p:spPr>
          <a:xfrm rot="21070200">
            <a:off x="906480" y="2419200"/>
            <a:ext cx="7840800" cy="19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знавательные </a:t>
            </a:r>
            <a:endParaRPr b="0" lang="en-US" sz="1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ыты</a:t>
            </a:r>
            <a:endParaRPr b="0" lang="en-US" sz="1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Рисунок 9" descr="0cd8bd855dd1.png"/>
          <p:cNvPicPr/>
          <p:nvPr/>
        </p:nvPicPr>
        <p:blipFill>
          <a:blip r:embed="rId1"/>
          <a:stretch/>
        </p:blipFill>
        <p:spPr>
          <a:xfrm rot="9748800">
            <a:off x="683640" y="907560"/>
            <a:ext cx="302868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9" descr="0cd8bd855dd1.png"/>
          <p:cNvPicPr/>
          <p:nvPr/>
        </p:nvPicPr>
        <p:blipFill>
          <a:blip r:embed="rId2"/>
          <a:stretch/>
        </p:blipFill>
        <p:spPr>
          <a:xfrm rot="20614200">
            <a:off x="5435280" y="4437000"/>
            <a:ext cx="302904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1 «Чай с лимон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928800" y="16430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едет себя лимон с натуральным красителем чая, который меняет цвет наших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826920" y="2492280"/>
            <a:ext cx="17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йник с заваренным 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а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148360" y="2708280"/>
            <a:ext cx="26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Мне понадоб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C:\Users\User\AppData\Local\Temp\Rar$DIa0.555\IMG-20221027-WA0029.jpg"/>
          <p:cNvPicPr/>
          <p:nvPr/>
        </p:nvPicPr>
        <p:blipFill>
          <a:blip r:embed="rId1"/>
          <a:stretch/>
        </p:blipFill>
        <p:spPr>
          <a:xfrm>
            <a:off x="2786040" y="3214800"/>
            <a:ext cx="471492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0"/>
          <p:cNvSpPr/>
          <p:nvPr/>
        </p:nvSpPr>
        <p:spPr>
          <a:xfrm>
            <a:off x="4716360" y="907920"/>
            <a:ext cx="15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967120" y="3282840"/>
            <a:ext cx="26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4289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раска чая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9" descr="C:\Users\User\AppData\Local\Temp\Rar$DIa0.744\IMG-20221027-WA0023.jpg"/>
          <p:cNvPicPr/>
          <p:nvPr/>
        </p:nvPicPr>
        <p:blipFill>
          <a:blip r:embed="rId1"/>
          <a:stretch/>
        </p:blipFill>
        <p:spPr>
          <a:xfrm>
            <a:off x="857160" y="1563840"/>
            <a:ext cx="6572520" cy="3222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1"/>
          <p:cNvSpPr/>
          <p:nvPr/>
        </p:nvSpPr>
        <p:spPr>
          <a:xfrm>
            <a:off x="857160" y="492912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- лимон обесцветил чайную окрас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 самым защитил наши зубы от появления на них желтоватого отт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15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2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«Лимон-пятновыводит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57160" y="19288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едет себя лимон с пятнами на ткани, оде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26920" y="2492280"/>
            <a:ext cx="17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тные д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C:\Users\User\AppData\Local\Temp\Rar$DIa0.387\IMG-20221027-WA0028.jpg"/>
          <p:cNvPicPr/>
          <p:nvPr/>
        </p:nvPicPr>
        <p:blipFill>
          <a:blip r:embed="rId1"/>
          <a:stretch/>
        </p:blipFill>
        <p:spPr>
          <a:xfrm>
            <a:off x="3246480" y="3000240"/>
            <a:ext cx="461160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0"/>
          <p:cNvSpPr/>
          <p:nvPr/>
        </p:nvSpPr>
        <p:spPr>
          <a:xfrm>
            <a:off x="1714680" y="7858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жимаю сок лимона на п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C:\Users\User\AppData\Local\Temp\Rar$DIa0.316\IMG-20221027-WA0024.jpg"/>
          <p:cNvPicPr/>
          <p:nvPr/>
        </p:nvPicPr>
        <p:blipFill>
          <a:blip r:embed="rId1"/>
          <a:stretch/>
        </p:blipFill>
        <p:spPr>
          <a:xfrm>
            <a:off x="1571760" y="1650960"/>
            <a:ext cx="5929200" cy="4135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571680"/>
            <a:ext cx="8072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000240" y="1000080"/>
            <a:ext cx="31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ятно исчезл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C:\Users\User\AppData\Local\Temp\Rar$DIa0.041\IMG-20221027-WA0026.jpg"/>
          <p:cNvPicPr/>
          <p:nvPr/>
        </p:nvPicPr>
        <p:blipFill>
          <a:blip r:embed="rId1"/>
          <a:stretch/>
        </p:blipFill>
        <p:spPr>
          <a:xfrm>
            <a:off x="1785960" y="1676520"/>
            <a:ext cx="5715000" cy="3395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1143000" y="535788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-лимон может помогать выводить некоторые пятна с одежды, без применения хим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3 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«Лимон надувает воздушный шар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43000" y="20001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заимодействует лимон с пищевой с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26920" y="2492280"/>
            <a:ext cx="17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щевая с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ты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душный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C:\Users\User\AppData\Local\Temp\Rar$DIa0.330\IMG-20221027-WA0019.jpg"/>
          <p:cNvPicPr/>
          <p:nvPr/>
        </p:nvPicPr>
        <p:blipFill>
          <a:blip r:embed="rId1"/>
          <a:stretch/>
        </p:blipFill>
        <p:spPr>
          <a:xfrm>
            <a:off x="2500200" y="2770200"/>
            <a:ext cx="5286600" cy="332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5003640" y="83664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14240" y="64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ливаю сок ли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000760" y="17146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ар наду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0" descr="C:\Users\User\AppData\Local\Temp\Rar$DIa0.525\IMG-20221027-WA0010.jpg"/>
          <p:cNvPicPr/>
          <p:nvPr/>
        </p:nvPicPr>
        <p:blipFill>
          <a:blip r:embed="rId1"/>
          <a:stretch/>
        </p:blipFill>
        <p:spPr>
          <a:xfrm>
            <a:off x="714240" y="1265400"/>
            <a:ext cx="3714840" cy="2377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C:\Users\User\AppData\Local\Temp\Rar$DIa0.454\IMG-20221027-WA0007.jpg"/>
          <p:cNvPicPr/>
          <p:nvPr/>
        </p:nvPicPr>
        <p:blipFill>
          <a:blip r:embed="rId2"/>
          <a:stretch/>
        </p:blipFill>
        <p:spPr>
          <a:xfrm>
            <a:off x="4000680" y="2743200"/>
            <a:ext cx="3857400" cy="23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2"/>
          <p:cNvSpPr/>
          <p:nvPr/>
        </p:nvSpPr>
        <p:spPr>
          <a:xfrm>
            <a:off x="928800" y="4572000"/>
            <a:ext cx="721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вод: При взаимодействии соды и кислоты лимона, образуется газ, который может надуть ш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4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«Засекреченное посл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928800" y="21430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едет себя лимон при нагре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26920" y="2492280"/>
            <a:ext cx="17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C:\Users\User\AppData\Local\Temp\Rar$DIa0.663\IMG-20221027-WA0018.jpg"/>
          <p:cNvPicPr/>
          <p:nvPr/>
        </p:nvPicPr>
        <p:blipFill>
          <a:blip r:embed="rId1"/>
          <a:stretch/>
        </p:blipFill>
        <p:spPr>
          <a:xfrm>
            <a:off x="2714760" y="3036960"/>
            <a:ext cx="4929120" cy="3178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571680" y="57168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греваю секретное пос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C:\Users\User\AppData\Local\Temp\Rar$DIa0.323\IMG-20221027-WA0017.jpg"/>
          <p:cNvPicPr/>
          <p:nvPr/>
        </p:nvPicPr>
        <p:blipFill>
          <a:blip r:embed="rId1"/>
          <a:srcRect l="16246" t="0" r="0" b="0"/>
          <a:stretch/>
        </p:blipFill>
        <p:spPr>
          <a:xfrm>
            <a:off x="714240" y="1563840"/>
            <a:ext cx="3429000" cy="23652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C:\Users\User\AppData\Local\Temp\Rar$DIa0.300\IMG-20221027-WA0015.jpg"/>
          <p:cNvPicPr/>
          <p:nvPr/>
        </p:nvPicPr>
        <p:blipFill>
          <a:blip r:embed="rId2"/>
          <a:srcRect l="13876" t="0" r="8811" b="0"/>
          <a:stretch/>
        </p:blipFill>
        <p:spPr>
          <a:xfrm>
            <a:off x="4857840" y="1571760"/>
            <a:ext cx="3354120" cy="24955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5089680" y="7858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ово проявилос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4041000"/>
            <a:ext cx="807264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 действием огня органические вещества темнею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происходит оттого, что углерод, входящий в их состав, от высокой температуры  высвобожд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508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Цель моего исследования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71680" y="1643040"/>
            <a:ext cx="77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Значение лимона в жизни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Интересные факты о лимоне (12 фото)"/>
          <p:cNvPicPr/>
          <p:nvPr/>
        </p:nvPicPr>
        <p:blipFill>
          <a:blip r:embed="rId1"/>
          <a:stretch/>
        </p:blipFill>
        <p:spPr>
          <a:xfrm>
            <a:off x="2571840" y="2786040"/>
            <a:ext cx="378612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-3239640" y="90360"/>
            <a:ext cx="156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 Под действием огня органические вещества темнеют. Это происходит оттого, что углерод, входящий в их состав, от высокой температуры  высвоб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-3239640" y="90360"/>
            <a:ext cx="156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 Под действием огня органические вещества темнеют. Это происходит оттого, что углерод, входящий в их состав, от высокой температуры  высвоб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-3239640" y="90360"/>
            <a:ext cx="156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 Под действием огня органические вещества темнеют. Это происходит оттого, что углерод, входящий в их состав, от высокой температуры  высвоб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4857480"/>
            <a:ext cx="80722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ипячении чайника с добавлением лимонной кислотой, известковый налет удаляе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C:\Users\User\AppData\Local\Temp\Rar$DIa0.993\IMG-20221110-WA0018.jpg"/>
          <p:cNvPicPr/>
          <p:nvPr/>
        </p:nvPicPr>
        <p:blipFill>
          <a:blip r:embed="rId1"/>
          <a:srcRect l="0" t="6496" r="-489" b="14973"/>
          <a:stretch/>
        </p:blipFill>
        <p:spPr>
          <a:xfrm>
            <a:off x="714240" y="2043000"/>
            <a:ext cx="178596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C:\Users\User\AppData\Local\Temp\Rar$DIa0.621\IMG_20221110_141501.jpg"/>
          <p:cNvPicPr/>
          <p:nvPr/>
        </p:nvPicPr>
        <p:blipFill>
          <a:blip r:embed="rId2"/>
          <a:stretch/>
        </p:blipFill>
        <p:spPr>
          <a:xfrm>
            <a:off x="3214800" y="2019240"/>
            <a:ext cx="2000160" cy="2838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C:\Users\User\AppData\Local\Temp\Rar$DIa0.966\IMG_20221110_141745.jpg"/>
          <p:cNvPicPr/>
          <p:nvPr/>
        </p:nvPicPr>
        <p:blipFill>
          <a:blip r:embed="rId3"/>
          <a:stretch/>
        </p:blipFill>
        <p:spPr>
          <a:xfrm>
            <a:off x="6072120" y="1917720"/>
            <a:ext cx="2071800" cy="29401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1"/>
          <p:cNvSpPr/>
          <p:nvPr/>
        </p:nvSpPr>
        <p:spPr>
          <a:xfrm>
            <a:off x="745560" y="571680"/>
            <a:ext cx="77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 «Лимонная кисло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728640" y="1285920"/>
            <a:ext cx="75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Узнать, как взаимодействует лимон с известковым налетом в чайнике.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лимон"/>
          <p:cNvPicPr/>
          <p:nvPr/>
        </p:nvPicPr>
        <p:blipFill>
          <a:blip r:embed="rId1"/>
          <a:stretch/>
        </p:blipFill>
        <p:spPr>
          <a:xfrm>
            <a:off x="3780000" y="2784600"/>
            <a:ext cx="1947600" cy="2014560"/>
          </a:xfrm>
          <a:prstGeom prst="rect">
            <a:avLst/>
          </a:prstGeom>
          <a:ln w="0">
            <a:noFill/>
          </a:ln>
        </p:spPr>
      </p:pic>
      <p:sp>
        <p:nvSpPr>
          <p:cNvPr id="120" name="Oval 8"/>
          <p:cNvSpPr/>
          <p:nvPr/>
        </p:nvSpPr>
        <p:spPr>
          <a:xfrm>
            <a:off x="1187280" y="4941720"/>
            <a:ext cx="216072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ше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5940360" y="4941720"/>
            <a:ext cx="216072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6012000" y="1989000"/>
            <a:ext cx="216036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ин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1116000" y="907920"/>
            <a:ext cx="691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истине...</a:t>
            </a:r>
            <a:endParaRPr b="0" lang="en-US" sz="1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Oval 13"/>
          <p:cNvSpPr/>
          <p:nvPr/>
        </p:nvSpPr>
        <p:spPr>
          <a:xfrm>
            <a:off x="1258920" y="2060640"/>
            <a:ext cx="216072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>
            <a:off x="5724360" y="2924280"/>
            <a:ext cx="1368720" cy="50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 flipV="1">
            <a:off x="2627280" y="4149720"/>
            <a:ext cx="1081080" cy="792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5724360" y="4149720"/>
            <a:ext cx="935280" cy="792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2556000" y="2997360"/>
            <a:ext cx="122400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10"/>
          <p:cNvSpPr txBox="1"/>
          <p:nvPr/>
        </p:nvSpPr>
        <p:spPr>
          <a:xfrm rot="21070200">
            <a:off x="538200" y="969840"/>
            <a:ext cx="76388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 одно растение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может соперничать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воим целебным свойствам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олшебной силе с лимоном!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Lime Green Kolor Stix are secured with decorative floral wire into a freeform wreath shape, accented with artificial lemons. Created by David E. Siders, AIFD."/>
          <p:cNvPicPr/>
          <p:nvPr/>
        </p:nvPicPr>
        <p:blipFill>
          <a:blip r:embed="rId1"/>
          <a:stretch/>
        </p:blipFill>
        <p:spPr>
          <a:xfrm>
            <a:off x="1428840" y="1214280"/>
            <a:ext cx="6245280" cy="44053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 rot="20991600">
            <a:off x="3809520" y="2847600"/>
            <a:ext cx="15843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удьте 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доровы!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52563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ru-RU" sz="3600" spc="-1" strike="noStrike" u="sng">
                <a:solidFill>
                  <a:srgbClr val="006600"/>
                </a:solidFill>
                <a:uFillTx/>
                <a:latin typeface="Times New Roman"/>
              </a:rPr>
              <a:t>Гипотеза: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лимоны обладают не только целебными свойствами, но имеют и волшебную силу при взаимодействии с другими вещест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48568964_1178047869_limon"/>
          <p:cNvPicPr/>
          <p:nvPr/>
        </p:nvPicPr>
        <p:blipFill>
          <a:blip r:embed="rId1"/>
          <a:stretch/>
        </p:blipFill>
        <p:spPr>
          <a:xfrm>
            <a:off x="6072120" y="1254240"/>
            <a:ext cx="23068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52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700" spc="-1" strike="noStrike">
                <a:solidFill>
                  <a:srgbClr val="006600"/>
                </a:solidFill>
                <a:latin typeface="Times New Roman"/>
              </a:rPr>
              <a:t>Проблемные</a:t>
            </a:r>
            <a:r>
              <a:rPr b="0" lang="ru-RU" sz="47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700" spc="-1" strike="noStrike">
                <a:solidFill>
                  <a:srgbClr val="006600"/>
                </a:solidFill>
                <a:latin typeface="Times New Roman"/>
              </a:rPr>
              <a:t>вопросы: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5600" y="1714680"/>
            <a:ext cx="590076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Чем полезны лимо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В чём таится  волшебная сила лимо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5560152_thumb_G_1184453809921"/>
          <p:cNvPicPr/>
          <p:nvPr/>
        </p:nvPicPr>
        <p:blipFill>
          <a:blip r:embed="rId1"/>
          <a:stretch/>
        </p:blipFill>
        <p:spPr>
          <a:xfrm>
            <a:off x="1928880" y="3571920"/>
            <a:ext cx="1582560" cy="206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oto2947"/>
          <p:cNvPicPr/>
          <p:nvPr/>
        </p:nvPicPr>
        <p:blipFill>
          <a:blip r:embed="rId2"/>
          <a:srcRect l="10066" t="0" r="0" b="0"/>
          <a:stretch/>
        </p:blipFill>
        <p:spPr>
          <a:xfrm>
            <a:off x="5286240" y="3214800"/>
            <a:ext cx="216216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1285920" y="714240"/>
            <a:ext cx="64292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и</a:t>
            </a:r>
            <a:endParaRPr b="0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следования</a:t>
            </a:r>
            <a:endParaRPr b="0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933840" y="5286240"/>
            <a:ext cx="35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овела опрос среди однокласс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C:\Users\User\AppData\Local\Microsoft\Windows\Temporary Internet Files\Content.Word\IMG_20221102_113433.jpg"/>
          <p:cNvPicPr/>
          <p:nvPr/>
        </p:nvPicPr>
        <p:blipFill>
          <a:blip r:embed="rId1"/>
          <a:stretch/>
        </p:blipFill>
        <p:spPr>
          <a:xfrm>
            <a:off x="785880" y="2214720"/>
            <a:ext cx="3786120" cy="225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C:\Users\User\Downloads\IMG_20221114_115339.jpg"/>
          <p:cNvPicPr/>
          <p:nvPr/>
        </p:nvPicPr>
        <p:blipFill>
          <a:blip r:embed="rId2"/>
          <a:stretch/>
        </p:blipFill>
        <p:spPr>
          <a:xfrm>
            <a:off x="4857840" y="2214720"/>
            <a:ext cx="3120840" cy="357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езультаты анкетирования</a:t>
            </a:r>
            <a:br>
              <a:rPr sz="4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 лимона все ли части являются полез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-main-pic" descr="Картинка 3 из 4358"/>
          <p:cNvPicPr/>
          <p:nvPr/>
        </p:nvPicPr>
        <p:blipFill>
          <a:blip r:embed="rId1"/>
          <a:stretch/>
        </p:blipFill>
        <p:spPr>
          <a:xfrm>
            <a:off x="6929280" y="3643200"/>
            <a:ext cx="1582920" cy="124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7a3f2ff7e4f"/>
          <p:cNvPicPr/>
          <p:nvPr/>
        </p:nvPicPr>
        <p:blipFill>
          <a:blip r:embed="rId2"/>
          <a:stretch/>
        </p:blipFill>
        <p:spPr>
          <a:xfrm>
            <a:off x="6143760" y="4643280"/>
            <a:ext cx="1476360" cy="148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_4fb3f_96528150_XL"/>
          <p:cNvPicPr/>
          <p:nvPr/>
        </p:nvPicPr>
        <p:blipFill>
          <a:blip r:embed="rId3"/>
          <a:stretch/>
        </p:blipFill>
        <p:spPr>
          <a:xfrm>
            <a:off x="6072120" y="2262240"/>
            <a:ext cx="164304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9" descr=""/>
          <p:cNvPicPr/>
          <p:nvPr/>
        </p:nvPicPr>
        <p:blipFill>
          <a:blip r:embed="rId4"/>
          <a:stretch/>
        </p:blipFill>
        <p:spPr>
          <a:xfrm>
            <a:off x="642960" y="257184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оказ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Диаграмма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59292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оказ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Диаграмма 4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оказ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Диаграмма 3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86280" cy="370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5:21:43Z</dcterms:created>
  <dc:creator>Customer</dc:creator>
  <dc:description/>
  <dc:language>en-US</dc:language>
  <cp:lastModifiedBy>User</cp:lastModifiedBy>
  <dcterms:modified xsi:type="dcterms:W3CDTF">2023-01-23T02:57:07Z</dcterms:modified>
  <cp:revision>131</cp:revision>
  <dc:subject/>
  <dc:title>Слайд 1</dc:title>
</cp:coreProperties>
</file>