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6.jpeg" ContentType="image/jpeg"/>
  <Override PartName="/ppt/media/image27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D3F4-AB66-4504-9718-DB52E9A5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BD1-831E-4A6C-8AC2-8277029E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BFC-E7CE-4159-91E6-EACB3A7F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FD5-9B99-4800-86AC-257155E2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680-102B-4D25-B18F-7A0406E6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B49F-D8E1-4851-B5BE-63B29529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02C9-5DB0-408F-989D-66DDFE59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0AD3-9C7F-4CA6-8073-3BF4A4AE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924-DCFC-4358-AE02-15957D3E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9FD-F548-4061-892B-A3B4C1D5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F644-F544-4F0F-A7EA-AF36DCBB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AE2F-AB67-4ED6-B5F7-593038DE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D05B-D398-43CC-A075-6B9191DF13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 rot="21070200">
            <a:off x="899640" y="1125360"/>
            <a:ext cx="690264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учно-исследовательский  проект</a:t>
            </a:r>
            <a:endParaRPr b="0" lang="en-US" sz="40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Полезный лимон"</a:t>
            </a:r>
            <a:endParaRPr b="0" lang="en-US" sz="40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500720" y="3789360"/>
            <a:ext cx="403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4 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Баянголь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тичен Л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бих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3"/>
          <p:cNvSpPr txBox="1"/>
          <p:nvPr/>
        </p:nvSpPr>
        <p:spPr>
          <a:xfrm rot="21070200">
            <a:off x="906480" y="2419200"/>
            <a:ext cx="7840800" cy="19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знавательные </a:t>
            </a:r>
            <a:endParaRPr b="0" lang="en-US" sz="14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ыты</a:t>
            </a:r>
            <a:endParaRPr b="0" lang="en-US" sz="14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" name="Рисунок 9" descr="0cd8bd855dd1.png"/>
          <p:cNvPicPr/>
          <p:nvPr/>
        </p:nvPicPr>
        <p:blipFill>
          <a:blip r:embed="rId1"/>
          <a:stretch/>
        </p:blipFill>
        <p:spPr>
          <a:xfrm rot="9748800">
            <a:off x="683640" y="907560"/>
            <a:ext cx="3028680" cy="165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Рисунок 9" descr="0cd8bd855dd1.png"/>
          <p:cNvPicPr/>
          <p:nvPr/>
        </p:nvPicPr>
        <p:blipFill>
          <a:blip r:embed="rId2"/>
          <a:stretch/>
        </p:blipFill>
        <p:spPr>
          <a:xfrm rot="20614200">
            <a:off x="5435280" y="4437000"/>
            <a:ext cx="3029040" cy="165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1920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Эксперимент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1 «Чай с лимон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928800" y="164304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Цель: Узнать, как ведет себя лимон с натуральным красителем чая, который меняет цвет наших зу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826920" y="2492280"/>
            <a:ext cx="17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оруд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айник с заваренным 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ва стак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м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5148360" y="2708280"/>
            <a:ext cx="266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Мне понадоб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C:\Users\User\AppData\Local\Temp\Rar$DIa0.555\IMG-20221027-WA0029.jpg"/>
          <p:cNvPicPr/>
          <p:nvPr/>
        </p:nvPicPr>
        <p:blipFill>
          <a:blip r:embed="rId1"/>
          <a:stretch/>
        </p:blipFill>
        <p:spPr>
          <a:xfrm>
            <a:off x="2786040" y="3214800"/>
            <a:ext cx="471492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0"/>
          <p:cNvSpPr/>
          <p:nvPr/>
        </p:nvSpPr>
        <p:spPr>
          <a:xfrm>
            <a:off x="4716360" y="907920"/>
            <a:ext cx="151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2967120" y="3282840"/>
            <a:ext cx="261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428920" y="64296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краска чая измен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9" descr="C:\Users\User\AppData\Local\Temp\Rar$DIa0.744\IMG-20221027-WA0023.jpg"/>
          <p:cNvPicPr/>
          <p:nvPr/>
        </p:nvPicPr>
        <p:blipFill>
          <a:blip r:embed="rId1"/>
          <a:stretch/>
        </p:blipFill>
        <p:spPr>
          <a:xfrm>
            <a:off x="857160" y="1563840"/>
            <a:ext cx="6572520" cy="32223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1"/>
          <p:cNvSpPr/>
          <p:nvPr/>
        </p:nvSpPr>
        <p:spPr>
          <a:xfrm>
            <a:off x="857160" y="492912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- лимон обесцветил чайную окрас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м самым защитил наши зубы от появления на них желтоватого отт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152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Эксперимент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 2</a:t>
            </a: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 «Лимон-пятновыводител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857160" y="192888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Цель: Узнать, как ведет себя лимон с пятнами на ткани, одеж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826920" y="2492280"/>
            <a:ext cx="17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оруд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й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тные д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м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6" descr="C:\Users\User\AppData\Local\Temp\Rar$DIa0.387\IMG-20221027-WA0028.jpg"/>
          <p:cNvPicPr/>
          <p:nvPr/>
        </p:nvPicPr>
        <p:blipFill>
          <a:blip r:embed="rId1"/>
          <a:stretch/>
        </p:blipFill>
        <p:spPr>
          <a:xfrm>
            <a:off x="3246480" y="3000240"/>
            <a:ext cx="4611600" cy="300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0"/>
          <p:cNvSpPr/>
          <p:nvPr/>
        </p:nvSpPr>
        <p:spPr>
          <a:xfrm>
            <a:off x="1714680" y="78588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жимаю сок лимона на пя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5" descr="C:\Users\User\AppData\Local\Temp\Rar$DIa0.316\IMG-20221027-WA0024.jpg"/>
          <p:cNvPicPr/>
          <p:nvPr/>
        </p:nvPicPr>
        <p:blipFill>
          <a:blip r:embed="rId1"/>
          <a:stretch/>
        </p:blipFill>
        <p:spPr>
          <a:xfrm>
            <a:off x="1571760" y="1650960"/>
            <a:ext cx="5929200" cy="4135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571680"/>
            <a:ext cx="8072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000240" y="1000080"/>
            <a:ext cx="31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ятно исчезло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5" descr="C:\Users\User\AppData\Local\Temp\Rar$DIa0.041\IMG-20221027-WA0026.jpg"/>
          <p:cNvPicPr/>
          <p:nvPr/>
        </p:nvPicPr>
        <p:blipFill>
          <a:blip r:embed="rId1"/>
          <a:stretch/>
        </p:blipFill>
        <p:spPr>
          <a:xfrm>
            <a:off x="1785960" y="1676520"/>
            <a:ext cx="5715000" cy="33955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5"/>
          <p:cNvSpPr/>
          <p:nvPr/>
        </p:nvSpPr>
        <p:spPr>
          <a:xfrm>
            <a:off x="1143000" y="5357880"/>
            <a:ext cx="742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-лимон может помогать выводить некоторые пятна с одежды, без применения химически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1920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Эксперимент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3 </a:t>
            </a: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«Лимон надувает воздушный шари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143000" y="20001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Цель: Узнать, как взаимодействует лимон с пищевой с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826920" y="2492280"/>
            <a:ext cx="172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оруд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щевая с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ты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душный ша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м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6" descr="C:\Users\User\AppData\Local\Temp\Rar$DIa0.330\IMG-20221027-WA0019.jpg"/>
          <p:cNvPicPr/>
          <p:nvPr/>
        </p:nvPicPr>
        <p:blipFill>
          <a:blip r:embed="rId1"/>
          <a:stretch/>
        </p:blipFill>
        <p:spPr>
          <a:xfrm>
            <a:off x="2500200" y="2770200"/>
            <a:ext cx="5286600" cy="3322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9"/>
          <p:cNvSpPr/>
          <p:nvPr/>
        </p:nvSpPr>
        <p:spPr>
          <a:xfrm>
            <a:off x="5003640" y="836640"/>
            <a:ext cx="19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714240" y="6429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ливаю сок лим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000760" y="17146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ар наду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10" descr="C:\Users\User\AppData\Local\Temp\Rar$DIa0.525\IMG-20221027-WA0010.jpg"/>
          <p:cNvPicPr/>
          <p:nvPr/>
        </p:nvPicPr>
        <p:blipFill>
          <a:blip r:embed="rId1"/>
          <a:stretch/>
        </p:blipFill>
        <p:spPr>
          <a:xfrm>
            <a:off x="714240" y="1265400"/>
            <a:ext cx="3714840" cy="2377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1" descr="C:\Users\User\AppData\Local\Temp\Rar$DIa0.454\IMG-20221027-WA0007.jpg"/>
          <p:cNvPicPr/>
          <p:nvPr/>
        </p:nvPicPr>
        <p:blipFill>
          <a:blip r:embed="rId2"/>
          <a:stretch/>
        </p:blipFill>
        <p:spPr>
          <a:xfrm>
            <a:off x="4000680" y="2743200"/>
            <a:ext cx="3857400" cy="23288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2"/>
          <p:cNvSpPr/>
          <p:nvPr/>
        </p:nvSpPr>
        <p:spPr>
          <a:xfrm>
            <a:off x="928800" y="4572000"/>
            <a:ext cx="721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вод: При взаимодействии соды и кислоты лимона, образуется газ, который может надуть ш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1920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Эксперимент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4</a:t>
            </a: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 «Засекреченное посл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928800" y="214308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Цель: Узнать, как ведет себя лимон при нагре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826920" y="2492280"/>
            <a:ext cx="17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оруд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ст 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и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м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5" descr="C:\Users\User\AppData\Local\Temp\Rar$DIa0.663\IMG-20221027-WA0018.jpg"/>
          <p:cNvPicPr/>
          <p:nvPr/>
        </p:nvPicPr>
        <p:blipFill>
          <a:blip r:embed="rId1"/>
          <a:stretch/>
        </p:blipFill>
        <p:spPr>
          <a:xfrm>
            <a:off x="2714760" y="3036960"/>
            <a:ext cx="4929120" cy="3178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8"/>
          <p:cNvSpPr/>
          <p:nvPr/>
        </p:nvSpPr>
        <p:spPr>
          <a:xfrm>
            <a:off x="571680" y="571680"/>
            <a:ext cx="37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агреваю секретное посл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5" descr="C:\Users\User\AppData\Local\Temp\Rar$DIa0.323\IMG-20221027-WA0017.jpg"/>
          <p:cNvPicPr/>
          <p:nvPr/>
        </p:nvPicPr>
        <p:blipFill>
          <a:blip r:embed="rId1"/>
          <a:srcRect l="16246" t="0" r="0" b="0"/>
          <a:stretch/>
        </p:blipFill>
        <p:spPr>
          <a:xfrm>
            <a:off x="714240" y="1563840"/>
            <a:ext cx="3429000" cy="23652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C:\Users\User\AppData\Local\Temp\Rar$DIa0.300\IMG-20221027-WA0015.jpg"/>
          <p:cNvPicPr/>
          <p:nvPr/>
        </p:nvPicPr>
        <p:blipFill>
          <a:blip r:embed="rId2"/>
          <a:srcRect l="13876" t="0" r="8811" b="0"/>
          <a:stretch/>
        </p:blipFill>
        <p:spPr>
          <a:xfrm>
            <a:off x="4857840" y="1571760"/>
            <a:ext cx="3354120" cy="249552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9"/>
          <p:cNvSpPr/>
          <p:nvPr/>
        </p:nvSpPr>
        <p:spPr>
          <a:xfrm>
            <a:off x="5089680" y="78588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лово проявилось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0040" y="4041000"/>
            <a:ext cx="8072640" cy="22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: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имонный сок - органическое веществ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 действием огня органические вещества темнею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происходит оттого, что углерод, входящий в их состав, от высокой температуры  высвобожд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508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Цель моего исследования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571680" y="1643040"/>
            <a:ext cx="77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Значение лимона в жизни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2" descr="Интересные факты о лимоне (12 фото)"/>
          <p:cNvPicPr/>
          <p:nvPr/>
        </p:nvPicPr>
        <p:blipFill>
          <a:blip r:embed="rId1"/>
          <a:stretch/>
        </p:blipFill>
        <p:spPr>
          <a:xfrm>
            <a:off x="2571840" y="2786040"/>
            <a:ext cx="378612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-3239640" y="90360"/>
            <a:ext cx="156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Лимонный сок - органическое вещество. Под действием огня органические вещества темнеют. Это происходит оттого, что углерод, входящий в их состав, от высокой температуры  высвобожд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-3239640" y="90360"/>
            <a:ext cx="156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Лимонный сок - органическое вещество. Под действием огня органические вещества темнеют. Это происходит оттого, что углерод, входящий в их состав, от высокой температуры  высвобожд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-3239640" y="90360"/>
            <a:ext cx="156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Лимонный сок - органическое вещество. Под действием огня органические вещества темнеют. Это происходит оттого, что углерод, входящий в их состав, от высокой температуры  высвобожд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4857480"/>
            <a:ext cx="807228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: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кипячении чайника с добавлением лимонной кислотой, известковый налет удаляетс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7" descr="C:\Users\User\AppData\Local\Temp\Rar$DIa0.993\IMG-20221110-WA0018.jpg"/>
          <p:cNvPicPr/>
          <p:nvPr/>
        </p:nvPicPr>
        <p:blipFill>
          <a:blip r:embed="rId1"/>
          <a:srcRect l="0" t="6496" r="-489" b="14973"/>
          <a:stretch/>
        </p:blipFill>
        <p:spPr>
          <a:xfrm>
            <a:off x="714240" y="2043000"/>
            <a:ext cx="178596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9" descr="C:\Users\User\AppData\Local\Temp\Rar$DIa0.621\IMG_20221110_141501.jpg"/>
          <p:cNvPicPr/>
          <p:nvPr/>
        </p:nvPicPr>
        <p:blipFill>
          <a:blip r:embed="rId2"/>
          <a:stretch/>
        </p:blipFill>
        <p:spPr>
          <a:xfrm>
            <a:off x="3214800" y="2019240"/>
            <a:ext cx="2000160" cy="28386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0" descr="C:\Users\User\AppData\Local\Temp\Rar$DIa0.966\IMG_20221110_141745.jpg"/>
          <p:cNvPicPr/>
          <p:nvPr/>
        </p:nvPicPr>
        <p:blipFill>
          <a:blip r:embed="rId3"/>
          <a:stretch/>
        </p:blipFill>
        <p:spPr>
          <a:xfrm>
            <a:off x="6072120" y="1917720"/>
            <a:ext cx="2071800" cy="29401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1"/>
          <p:cNvSpPr/>
          <p:nvPr/>
        </p:nvSpPr>
        <p:spPr>
          <a:xfrm>
            <a:off x="745560" y="571680"/>
            <a:ext cx="778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Эксперимент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5 «Лимонная кисло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2"/>
          <p:cNvSpPr/>
          <p:nvPr/>
        </p:nvSpPr>
        <p:spPr>
          <a:xfrm>
            <a:off x="728640" y="1285920"/>
            <a:ext cx="750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Узнать, как взаимодействует лимон с известковым налетом в чайнике.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лимон"/>
          <p:cNvPicPr/>
          <p:nvPr/>
        </p:nvPicPr>
        <p:blipFill>
          <a:blip r:embed="rId1"/>
          <a:stretch/>
        </p:blipFill>
        <p:spPr>
          <a:xfrm>
            <a:off x="3780000" y="2784600"/>
            <a:ext cx="1947600" cy="2014560"/>
          </a:xfrm>
          <a:prstGeom prst="rect">
            <a:avLst/>
          </a:prstGeom>
          <a:ln w="0">
            <a:noFill/>
          </a:ln>
        </p:spPr>
      </p:pic>
      <p:sp>
        <p:nvSpPr>
          <p:cNvPr id="120" name="Oval 8"/>
          <p:cNvSpPr/>
          <p:nvPr/>
        </p:nvSpPr>
        <p:spPr>
          <a:xfrm>
            <a:off x="1187280" y="4941720"/>
            <a:ext cx="2160720" cy="914400"/>
          </a:xfrm>
          <a:prstGeom prst="ellipse">
            <a:avLst/>
          </a:prstGeom>
          <a:solidFill>
            <a:srgbClr val="ee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шеб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5940360" y="4941720"/>
            <a:ext cx="2160720" cy="914400"/>
          </a:xfrm>
          <a:prstGeom prst="ellipse">
            <a:avLst/>
          </a:prstGeom>
          <a:solidFill>
            <a:srgbClr val="ee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ад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6012000" y="1989000"/>
            <a:ext cx="2160360" cy="914400"/>
          </a:xfrm>
          <a:prstGeom prst="ellipse">
            <a:avLst/>
          </a:prstGeom>
          <a:solidFill>
            <a:srgbClr val="ee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ин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1"/>
          <p:cNvSpPr txBox="1"/>
          <p:nvPr/>
        </p:nvSpPr>
        <p:spPr>
          <a:xfrm>
            <a:off x="1116000" y="907920"/>
            <a:ext cx="6912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истине...</a:t>
            </a:r>
            <a:endParaRPr b="0" lang="en-US" sz="14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Oval 13"/>
          <p:cNvSpPr/>
          <p:nvPr/>
        </p:nvSpPr>
        <p:spPr>
          <a:xfrm>
            <a:off x="1258920" y="2060640"/>
            <a:ext cx="2160720" cy="914400"/>
          </a:xfrm>
          <a:prstGeom prst="ellipse">
            <a:avLst/>
          </a:prstGeom>
          <a:solidFill>
            <a:srgbClr val="ee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7"/>
          <p:cNvSpPr/>
          <p:nvPr/>
        </p:nvSpPr>
        <p:spPr>
          <a:xfrm flipH="1">
            <a:off x="5724360" y="2924280"/>
            <a:ext cx="1368720" cy="504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 flipV="1">
            <a:off x="2627280" y="4149720"/>
            <a:ext cx="1081080" cy="792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 flipH="1" flipV="1">
            <a:off x="5724360" y="4149720"/>
            <a:ext cx="935280" cy="792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>
            <a:off x="2556000" y="2997360"/>
            <a:ext cx="122400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10"/>
          <p:cNvSpPr txBox="1"/>
          <p:nvPr/>
        </p:nvSpPr>
        <p:spPr>
          <a:xfrm rot="21070200">
            <a:off x="538200" y="969840"/>
            <a:ext cx="76388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 одно растение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может соперничать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своим целебным свойствам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волшебной силе с лимоном!</a:t>
            </a:r>
            <a:endParaRPr b="0" lang="en-US" sz="20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Lime Green Kolor Stix are secured with decorative floral wire into a freeform wreath shape, accented with artificial lemons. Created by David E. Siders, AIFD."/>
          <p:cNvPicPr/>
          <p:nvPr/>
        </p:nvPicPr>
        <p:blipFill>
          <a:blip r:embed="rId1"/>
          <a:stretch/>
        </p:blipFill>
        <p:spPr>
          <a:xfrm>
            <a:off x="1428840" y="1214280"/>
            <a:ext cx="6245280" cy="4405320"/>
          </a:xfrm>
          <a:prstGeom prst="rect">
            <a:avLst/>
          </a:prstGeom>
          <a:ln w="0">
            <a:noFill/>
          </a:ln>
        </p:spPr>
      </p:pic>
      <p:sp>
        <p:nvSpPr>
          <p:cNvPr id="131" name="WordArt 5"/>
          <p:cNvSpPr txBox="1"/>
          <p:nvPr/>
        </p:nvSpPr>
        <p:spPr>
          <a:xfrm rot="20991600">
            <a:off x="3809520" y="2847600"/>
            <a:ext cx="158436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удьте </a:t>
            </a:r>
            <a:endParaRPr b="0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доровы!</a:t>
            </a:r>
            <a:endParaRPr b="0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525636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i="1" lang="ru-RU" sz="3600" spc="-1" strike="noStrike" u="sng">
                <a:solidFill>
                  <a:srgbClr val="006600"/>
                </a:solidFill>
                <a:uFillTx/>
                <a:latin typeface="Times New Roman"/>
              </a:rPr>
              <a:t>Гипотеза: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лимоны обладают не только целебными свойствами, но имеют и волшебную силу при взаимодействии с другими веществ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48568964_1178047869_limon"/>
          <p:cNvPicPr/>
          <p:nvPr/>
        </p:nvPicPr>
        <p:blipFill>
          <a:blip r:embed="rId1"/>
          <a:stretch/>
        </p:blipFill>
        <p:spPr>
          <a:xfrm>
            <a:off x="6072120" y="1254240"/>
            <a:ext cx="2306880" cy="435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252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4700" spc="-1" strike="noStrike">
                <a:solidFill>
                  <a:srgbClr val="006600"/>
                </a:solidFill>
                <a:latin typeface="Times New Roman"/>
              </a:rPr>
              <a:t>Проблемные</a:t>
            </a:r>
            <a:r>
              <a:rPr b="0" lang="ru-RU" sz="47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4700" spc="-1" strike="noStrike">
                <a:solidFill>
                  <a:srgbClr val="006600"/>
                </a:solidFill>
                <a:latin typeface="Times New Roman"/>
              </a:rPr>
              <a:t>вопросы: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5600" y="1714680"/>
            <a:ext cx="5900760" cy="15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Times New Roman"/>
              </a:rPr>
              <a:t>Чем полезны лимон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Times New Roman"/>
              </a:rPr>
              <a:t>В чём таится  волшебная сила лимон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5560152_thumb_G_1184453809921"/>
          <p:cNvPicPr/>
          <p:nvPr/>
        </p:nvPicPr>
        <p:blipFill>
          <a:blip r:embed="rId1"/>
          <a:stretch/>
        </p:blipFill>
        <p:spPr>
          <a:xfrm>
            <a:off x="1928880" y="3571920"/>
            <a:ext cx="1582560" cy="2065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oto2947"/>
          <p:cNvPicPr/>
          <p:nvPr/>
        </p:nvPicPr>
        <p:blipFill>
          <a:blip r:embed="rId2"/>
          <a:srcRect l="10066" t="0" r="0" b="0"/>
          <a:stretch/>
        </p:blipFill>
        <p:spPr>
          <a:xfrm>
            <a:off x="5286240" y="3214800"/>
            <a:ext cx="2162160" cy="3062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3"/>
          <p:cNvSpPr txBox="1"/>
          <p:nvPr/>
        </p:nvSpPr>
        <p:spPr>
          <a:xfrm>
            <a:off x="1285920" y="714240"/>
            <a:ext cx="64292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и</a:t>
            </a:r>
            <a:endParaRPr b="0" lang="en-US" sz="44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4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следования</a:t>
            </a:r>
            <a:endParaRPr b="0" lang="en-US" sz="44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933840" y="5286240"/>
            <a:ext cx="350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провела опрос среди однокласс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C:\Users\User\AppData\Local\Microsoft\Windows\Temporary Internet Files\Content.Word\IMG_20221102_113433.jpg"/>
          <p:cNvPicPr/>
          <p:nvPr/>
        </p:nvPicPr>
        <p:blipFill>
          <a:blip r:embed="rId1"/>
          <a:stretch/>
        </p:blipFill>
        <p:spPr>
          <a:xfrm>
            <a:off x="785880" y="2214720"/>
            <a:ext cx="3786120" cy="22572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C:\Users\User\Downloads\IMG_20221114_115339.jpg"/>
          <p:cNvPicPr/>
          <p:nvPr/>
        </p:nvPicPr>
        <p:blipFill>
          <a:blip r:embed="rId2"/>
          <a:stretch/>
        </p:blipFill>
        <p:spPr>
          <a:xfrm>
            <a:off x="4857840" y="2214720"/>
            <a:ext cx="3120840" cy="3571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Результаты анкетирования</a:t>
            </a:r>
            <a:br>
              <a:rPr sz="4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1.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У лимона все ли части являются полез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-main-pic" descr="Картинка 3 из 4358"/>
          <p:cNvPicPr/>
          <p:nvPr/>
        </p:nvPicPr>
        <p:blipFill>
          <a:blip r:embed="rId1"/>
          <a:stretch/>
        </p:blipFill>
        <p:spPr>
          <a:xfrm>
            <a:off x="6929280" y="3643200"/>
            <a:ext cx="1582920" cy="1249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17a3f2ff7e4f"/>
          <p:cNvPicPr/>
          <p:nvPr/>
        </p:nvPicPr>
        <p:blipFill>
          <a:blip r:embed="rId2"/>
          <a:stretch/>
        </p:blipFill>
        <p:spPr>
          <a:xfrm>
            <a:off x="6143760" y="4643280"/>
            <a:ext cx="1476360" cy="148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0_4fb3f_96528150_XL"/>
          <p:cNvPicPr/>
          <p:nvPr/>
        </p:nvPicPr>
        <p:blipFill>
          <a:blip r:embed="rId3"/>
          <a:stretch/>
        </p:blipFill>
        <p:spPr>
          <a:xfrm>
            <a:off x="6072120" y="2262240"/>
            <a:ext cx="164304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Диаграмма 9" descr=""/>
          <p:cNvPicPr/>
          <p:nvPr/>
        </p:nvPicPr>
        <p:blipFill>
          <a:blip r:embed="rId4"/>
          <a:stretch/>
        </p:blipFill>
        <p:spPr>
          <a:xfrm>
            <a:off x="642960" y="2571840"/>
            <a:ext cx="54864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показ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Диаграмма 4" descr=""/>
          <p:cNvPicPr/>
          <p:nvPr/>
        </p:nvPicPr>
        <p:blipFill>
          <a:blip r:embed="rId1"/>
          <a:stretch/>
        </p:blipFill>
        <p:spPr>
          <a:xfrm>
            <a:off x="1714680" y="2143080"/>
            <a:ext cx="592920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показ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Диаграмма 4" descr=""/>
          <p:cNvPicPr/>
          <p:nvPr/>
        </p:nvPicPr>
        <p:blipFill>
          <a:blip r:embed="rId1"/>
          <a:stretch/>
        </p:blipFill>
        <p:spPr>
          <a:xfrm>
            <a:off x="1571760" y="1428840"/>
            <a:ext cx="6215040" cy="4143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показ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Диаграмма 3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786280" cy="3706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5:21:43Z</dcterms:created>
  <dc:creator>Customer</dc:creator>
  <dc:description/>
  <dc:language>en-US</dc:language>
  <cp:lastModifiedBy>User</cp:lastModifiedBy>
  <dcterms:modified xsi:type="dcterms:W3CDTF">2023-01-23T02:57:07Z</dcterms:modified>
  <cp:revision>131</cp:revision>
  <dc:subject/>
  <dc:title>Слайд 1</dc:title>
</cp:coreProperties>
</file>