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AE8-72A3-4FE1-96B9-0D2B3FCA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E9D-031C-45CC-8BEE-1771D863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A0B6D-6D4E-454A-9AC4-88057E7C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C5969-704A-4167-8D1C-13D38047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D5030-3631-4A8C-B763-55966FF7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417B6-5889-4D9C-B4C1-6DF039ED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1B2A5-9F39-41DB-A68F-A838661B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966A2-12D5-4A73-920A-2C5C1D25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84A78-555C-4B31-B97A-237C24E3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1D0FA-6B5D-405B-AC59-D7910F0D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CA6D1-035E-4037-B6F2-636CA2F8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6D434-1077-404D-8D6A-B90EE04A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2AC3-4D9C-48EC-81E2-AF322F30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EAE22-2643-4383-9120-480C8DAB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E9D27-43B4-4BD6-81DE-3B0EE284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51745-07E0-4064-BD01-0855BD84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4C393-D4C7-4A6D-8AFA-2FBD6FAD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E91A5-A627-4BE3-9F59-C02364BF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35046-716F-4050-AD14-CBB1BEFB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5E36A-E90C-436C-BD8D-51557821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2996D-DC21-4859-9E46-30B770AD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6BF76-D111-4421-A203-BC63F61F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F3889-342B-4AFA-818B-94D33F8D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933-28C0-404F-A9ED-06CFC510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E0D8A-8889-4CDF-9433-31B375AF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10680-7029-40A3-A1E5-4A7655D2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98C64-34CA-4DE7-A90E-0094BA5B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E6FB4-9142-4CC9-8F92-23F6B9A4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C54C5-CFB3-44CE-A100-62122538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E4161-104E-46C1-84E2-CA20FC82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C1C2D-CE5A-4E58-9448-45F92EDA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07357-0A57-4AF8-8AB8-9B20F32F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DF02C-D1F1-4CE3-80C7-2E59BC24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165E0-EAC3-434F-ADE6-07F0970F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9B92-9428-43DB-A2D0-22A3E6D6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8624F-AB1A-4DC3-936C-B8E2914F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4BEFB-E8B9-4FF7-A216-DECD6577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61F98-ED85-4070-A250-D7EF55CC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3F190-2ACB-413C-B163-2B5CF607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D02F0-E375-4496-A97A-BD66AF32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220D9-1E58-48D8-B462-36D29A8F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A2617-FD6F-4C89-9DB5-DE66947A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15253-5D7A-4C78-8389-48034C97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0B450-2393-4C95-8B30-4FDE1225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D0BBB-8992-4C92-B798-43F13AEE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139B-E1DC-4781-A6F0-6EDB9D45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28D76-3D74-496C-B289-A520D712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A8C81-3BDE-487D-856A-E5FA0F37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7F56A-E922-45FC-9E56-803A8DAE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6D5CA-BF99-4E08-B39A-78A935F0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1CC1C-52C6-4240-B091-09ABDCA8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4C0A7E-0B4D-4970-BDB0-AF8F5DC0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1D97A4-992C-4588-8802-300AF2A2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A9DDF-20F1-4E65-803E-EC2F1E52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9FBDE2-95BA-4E0E-873E-110C4982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C44F19-4652-4225-A272-3CCE492C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9C00-BC0E-487E-86B3-D99AF925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E6B54-4F1E-4862-8070-E4EE95A8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63EFF2-3190-4A6E-A221-3FE08EC3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6D2AC-E8A1-41B3-B157-7C28825E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33528-DE7C-4B59-BC59-FDCB2029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A4DFC-F416-47D0-B6A8-F08FDBD7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BD01B-5683-4A27-800C-D385B485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15E64A-A63C-4A44-B44C-934E5052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2A18F-95B6-44A0-B573-37893448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2A2923-5C13-4C59-8EA4-E5440B8F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2A9F7-1A8F-4361-946B-809A8A5B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77DE-C722-42A4-9678-637B5D42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8B18B3-C193-4D15-9BB6-AE15CB94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F39BA-A59C-43D4-8C39-1E26CF2C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295FE6-14D1-4C20-BDF5-4D98C628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2EC331-07EC-43E7-9A67-87DF8DC9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5C717B-A5B8-4525-95AD-06FD8EB7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037A9-482B-4DB5-8EAA-B070E51B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1E98B4-63D0-4D08-89D1-6B27ACF1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987A2B-CEF6-46F6-A579-B969963D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5FA3EB-9C54-4F14-B7F6-B4CE2D55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DAAF0-E404-4F0E-BF5B-104F7E77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BB35-9F2C-4B79-8073-2435BBC9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95B8F2-7E0C-4CCB-9BEE-3078B15E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A6B2C4-A2AD-4EE6-95AB-D4F384C1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9B0927-DCA6-4CF2-9C4E-C7CDC586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7A51DB-331C-4D26-A6C2-B6A4B0D7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82D648-7768-4704-AD56-68681D26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620DB4-5B8C-411F-800E-E92BEBD3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11ACF4-4A4B-4724-929F-63576619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7D1EA2-E379-4963-B44E-3E7EA0C7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C3E0C-5E9E-4FBB-AD85-B509C83E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667147-E46A-4152-954A-14EFFC32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B247-B3A8-4AED-8E6D-D5E90269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B12FE1-716E-4BF4-8880-26F4DDBA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9C3208-D46C-4F79-8B47-5EB4274D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19330D-B281-433B-9075-604F56F9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95C346-D9A4-4BE5-9B6B-AA438802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0C32A8-C4FE-4332-8EE1-D21148B8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AA0876-BD66-43AE-8EB2-C46ECC48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030168-B013-4ED2-97C6-AE9B19F3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9660D5-FFEF-42EF-817F-3DC21D67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1BDD23-1142-4093-A286-70844AE1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58C4AE-EF48-454A-B59C-D1442079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A75D-3A51-43DD-A865-C8CE5A03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4A12D5-A393-4F8B-A7EB-55898BB5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6740E-DA59-42E0-8E16-56DAB181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CC6847-B934-44B7-A859-994E73D4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B988EA-F8BE-46D0-B9E3-BFAEC38A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41A936-6EB1-4D76-945E-B47FA180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982FAF-0B58-4CB6-B2C8-39BAFF77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29B763-56EC-4E27-8DA5-C4F512F8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1022A5-5A37-4BA4-BD45-20F8684E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9ACBF5-0310-49BD-9857-9C59F3B5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C740B0-747D-4C25-A6C6-830DA202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6B4-39E1-49DC-96FE-1441E3B4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0CFE-2187-4F01-BB6D-D6D9CB55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473152-C3E0-4DD6-A99A-5E0BFD54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AEBF61-6F48-4234-A930-2655A237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612B64-22DA-4C1E-88FF-8C81FAA4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439ABA-A7BA-4624-8829-ED4E280D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2CB01C-7CB4-4D5A-8044-86AD3BA9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9C7636-F25C-4630-916B-22024AAF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3ED3A-779C-4DBE-800E-2DEE5782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ABAAEB-E694-4C5B-8E8A-E7EDF884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E3B006-FB11-4238-AD4E-77B4C581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F35E1E-D3AD-4CFB-A153-62AAE646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85F1-34AA-492A-9F53-7BE8ACA4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8EC6CC-2490-4952-B594-C8A767B4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294F7E-339E-4D03-A3B3-568BFDE7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BEDA09-7EE4-4E95-8423-43246D38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E7E9BF-7EB8-41EE-886E-9489E4A3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429441-C416-47EF-8F52-070E7031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2D3EDF-B6AE-4BDE-A2DD-42120C9B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A8C2CA-E555-4A40-A048-C55BC4E8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605B-BD2A-487A-8FBC-01890D29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69AB-C927-4B57-AAF7-F3008237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CF09-7B56-4D18-84FC-2D6D700B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4C526-F75E-43F0-A94D-938B8FED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1E787-F15F-4BF8-B083-D3824FC0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D98DE-41CB-4507-B480-DE542DD1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D2A55-C77E-4294-81F9-E4B916FB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19E88-D7B4-4BC1-B335-DA2E9816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A5A-75A2-42A6-B407-96ABA992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ABCE2-0A10-4426-A6B2-D67FAB64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E9C75-E297-4A7E-8455-8A9CD1BC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1F887-71BB-4AAA-9188-7E4F467E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730B9-8503-4F7D-ABFD-DF9D6981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A10F6-E7AD-48F2-B6BF-C6DB22CB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CD489-FD36-4590-86AB-7F43DE9A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01F0E-DF1A-4C51-BE51-FC5550E0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A7125-B249-43C1-BEBF-C4DDF14A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C2979-F3C3-4C0A-A91E-632E8614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16BB3-0F5D-47EE-AC7A-3C156FE3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BB9-731E-4FDD-AEF4-7A68EDE6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C58C9-4F33-48A0-83B5-49507618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74372-1894-4D94-8610-E4EE2782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26A6F-5009-473C-A8B1-D61F0CAA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E3C39-E882-44C3-BC0E-838F540B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83101-1C3A-496C-B898-768CE169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5DDF9-BE72-4707-9FD3-30307B3F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C1115-1488-4429-BD49-4BC8BE0E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360E4-9567-48B2-A40C-459508BC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4442B-78A3-4C05-9D81-38B40660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05FB3-B4DA-4535-A769-8E763284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74B-2766-4675-9044-33C3DE7A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25CBC-B1B0-406A-B55B-47588B0E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70252-8D41-41F7-8698-AB9C5025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748FB-1DC3-46FD-B04E-BA8E6397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54145-525F-4A15-9BE8-5A5E78C6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2A5B1-09BD-4721-BBF0-296150B0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43564-1AFB-4095-B00F-28832938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48CE0-7689-4C80-BF4F-52FE8300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64833-B93F-43B3-BD43-1A9BD3C4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8DFBF-66D3-4F2E-92EB-32B88E6F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B9B2C-E683-4FDE-981B-B27D6545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FDD-DBF5-4283-BA74-A8082EF6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F8EAB-D336-400D-A135-9A7F3C1E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CB300-0D17-4D3D-9DB8-E27B49D9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46DB0-8791-42D2-BC87-72928286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303ED-55D0-498C-AD66-599EF257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6DAAD-62A6-40A9-AF0C-4B4C7584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C4D79-87AB-4E1E-AB26-16DF95F3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2935B-EA7F-4899-BAD8-29AF3277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7C339-9276-4857-9CBE-356A8F49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296B5-807E-42B7-BF9D-9277802D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81657-4492-4A30-B0D7-1E104624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5733-B780-4B7B-8E1C-DE9229F9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C37E6-5DEB-4A83-91B5-6E66D56F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A4B97-0A22-4F93-97E2-D8D23B14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AA391-BCC4-4648-8ED1-625DBED5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75A18-E75B-4915-8A41-CFA1D164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81A45-DD5E-4898-A377-1DC5E090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F6A65-7EA5-469D-B168-84BADF25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370E1-639E-4B04-A397-4D5AFD9E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146DA-A9F1-4D2D-981D-F5A48367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7E959-FD6C-41BA-91A4-748809E1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5A56A-357F-4A6A-BCA2-F204AD46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EA1-37DD-4F9C-A536-6DA9F926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97191-BEC0-4AED-8FBC-E9187942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C0A34-F603-4233-8307-EEACAAEC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79384-A9C4-4BC6-9992-667C9A87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DE403-7423-46B6-AA57-BD2B9A74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78E42-3049-43D0-A6A9-5BC24860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648C9-7729-4F97-B6E8-9B7F4C05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47F66-53F3-4081-A6EE-043683F8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0AF84-774C-472B-8277-2BADA6EB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AFE78-DE4E-4CC3-BCBC-87AD8321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A1CF3-48CD-4A52-AA1A-86796FF7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503-50B8-4397-A7AA-74F81074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14F60-31CD-48C3-99BF-5751DABA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AD473-EAC4-4A80-8A9A-8B9A050E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6D8EF-D173-4BAC-B2E7-3CD569F8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F1B62-8EF6-44CA-BDD4-3E48BA20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4711A-BD87-48F6-9974-9E700C9C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7FD46-FB96-4F8C-88FA-769D699D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87EFA-9A7F-45EB-A8CA-793207D0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E5333-8250-4CAF-A71B-498ECE05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ECE50-4A9C-4C45-B9B8-46B9B501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F8F44-B2D6-4BAA-AF28-222A382F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01B4-6699-4484-B04C-3D03174DCE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76D9-3F16-435D-A0EE-9AE8F14B1F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242C-C534-483A-9D78-69D2288F6E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1E0D-CCA1-45E1-9EAF-01D142682FF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6719-213A-49B7-A0FD-877DC14262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551E-D085-4CC1-9CD0-059B77B93A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57BE-E8FE-49B5-B9D8-586970E7D31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69E1-EC2D-4152-AF75-ADC8858D481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3C21-27D4-4BAC-B456-30489499DE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596E-6F65-40C2-B37E-A40722AEB0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AE92-3CC1-4126-84A2-4C22765EF3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CDFA-A061-40F0-8320-78518782C0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393A-70A2-4F7A-A61E-0DCE323FF5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8FEE-C489-4A85-B067-546EA3B858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FC36-6D4A-4D15-85AB-9D8933222F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5FE5-6B4B-43EF-A0F5-4ADC3C45AF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15D1-6CDC-409F-B944-723C34CD5E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28AB-B03B-4D2E-88F7-D90EECD799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4" descr="24c7bf66729f"/>
          <p:cNvPicPr/>
          <p:nvPr/>
        </p:nvPicPr>
        <p:blipFill>
          <a:blip r:embed="rId2"/>
          <a:stretch/>
        </p:blipFill>
        <p:spPr>
          <a:xfrm>
            <a:off x="6443640" y="476280"/>
            <a:ext cx="2255760" cy="2255760"/>
          </a:xfrm>
          <a:prstGeom prst="rect">
            <a:avLst/>
          </a:prstGeom>
          <a:ln w="0">
            <a:noFill/>
          </a:ln>
        </p:spPr>
      </p:pic>
      <p:pic>
        <p:nvPicPr>
          <p:cNvPr id="776" name="WordArt 8" descr=""/>
          <p:cNvPicPr/>
          <p:nvPr/>
        </p:nvPicPr>
        <p:blipFill>
          <a:blip r:embed="rId3"/>
          <a:stretch/>
        </p:blipFill>
        <p:spPr>
          <a:xfrm>
            <a:off x="1046160" y="2341440"/>
            <a:ext cx="647856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4"/>
          <p:cNvSpPr/>
          <p:nvPr/>
        </p:nvSpPr>
        <p:spPr>
          <a:xfrm>
            <a:off x="3564720" y="-243000"/>
            <a:ext cx="17352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0" spc="-1" strike="noStrike">
                <a:solidFill>
                  <a:srgbClr val="4bcaad"/>
                </a:solidFill>
                <a:latin typeface="Arial"/>
              </a:rPr>
              <a:t>10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6"/>
          <p:cNvSpPr/>
          <p:nvPr/>
        </p:nvSpPr>
        <p:spPr>
          <a:xfrm flipV="1">
            <a:off x="3780000" y="1125000"/>
            <a:ext cx="718920" cy="576360"/>
          </a:xfrm>
          <a:prstGeom prst="line">
            <a:avLst/>
          </a:prstGeom>
          <a:ln w="57240">
            <a:solidFill>
              <a:srgbClr val="4bca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7"/>
          <p:cNvSpPr/>
          <p:nvPr/>
        </p:nvSpPr>
        <p:spPr>
          <a:xfrm>
            <a:off x="4500720" y="1125360"/>
            <a:ext cx="720720" cy="576360"/>
          </a:xfrm>
          <a:prstGeom prst="line">
            <a:avLst/>
          </a:prstGeom>
          <a:ln w="57240">
            <a:solidFill>
              <a:srgbClr val="4bca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9"/>
          <p:cNvSpPr/>
          <p:nvPr/>
        </p:nvSpPr>
        <p:spPr>
          <a:xfrm>
            <a:off x="3060720" y="134136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0"/>
          <p:cNvSpPr/>
          <p:nvPr/>
        </p:nvSpPr>
        <p:spPr>
          <a:xfrm>
            <a:off x="4937040" y="141300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1"/>
          <p:cNvSpPr/>
          <p:nvPr/>
        </p:nvSpPr>
        <p:spPr>
          <a:xfrm>
            <a:off x="2989080" y="501336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2"/>
          <p:cNvSpPr/>
          <p:nvPr/>
        </p:nvSpPr>
        <p:spPr>
          <a:xfrm>
            <a:off x="5078160" y="227664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3"/>
          <p:cNvSpPr/>
          <p:nvPr/>
        </p:nvSpPr>
        <p:spPr>
          <a:xfrm>
            <a:off x="3060720" y="227664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4"/>
          <p:cNvSpPr/>
          <p:nvPr/>
        </p:nvSpPr>
        <p:spPr>
          <a:xfrm>
            <a:off x="3063960" y="321300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5"/>
          <p:cNvSpPr/>
          <p:nvPr/>
        </p:nvSpPr>
        <p:spPr>
          <a:xfrm>
            <a:off x="5149800" y="314172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6"/>
          <p:cNvSpPr/>
          <p:nvPr/>
        </p:nvSpPr>
        <p:spPr>
          <a:xfrm>
            <a:off x="5149800" y="407664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7"/>
          <p:cNvSpPr/>
          <p:nvPr/>
        </p:nvSpPr>
        <p:spPr>
          <a:xfrm>
            <a:off x="2989080" y="407664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18"/>
          <p:cNvSpPr/>
          <p:nvPr/>
        </p:nvSpPr>
        <p:spPr>
          <a:xfrm>
            <a:off x="5149800" y="501336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Рисунок 15" descr=""/>
          <p:cNvPicPr/>
          <p:nvPr/>
        </p:nvPicPr>
        <p:blipFill>
          <a:blip r:embed="rId1"/>
          <a:stretch/>
        </p:blipFill>
        <p:spPr>
          <a:xfrm>
            <a:off x="6324480" y="4906800"/>
            <a:ext cx="25686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5" name=""/>
          <p:cNvGraphicFramePr/>
          <p:nvPr/>
        </p:nvGraphicFramePr>
        <p:xfrm>
          <a:off x="539640" y="1868400"/>
          <a:ext cx="2808360" cy="1096920"/>
        </p:xfrm>
        <a:graphic>
          <a:graphicData uri="http://schemas.openxmlformats.org/drawingml/2006/table">
            <a:tbl>
              <a:tblPr/>
              <a:tblGrid>
                <a:gridCol w="792360"/>
                <a:gridCol w="20160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М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-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6" name=""/>
          <p:cNvGraphicFramePr/>
          <p:nvPr/>
        </p:nvGraphicFramePr>
        <p:xfrm>
          <a:off x="509760" y="5194440"/>
          <a:ext cx="2808000" cy="1096920"/>
        </p:xfrm>
        <a:graphic>
          <a:graphicData uri="http://schemas.openxmlformats.org/drawingml/2006/table">
            <a:tbl>
              <a:tblPr/>
              <a:tblGrid>
                <a:gridCol w="792000"/>
                <a:gridCol w="20160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-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7" name=""/>
          <p:cNvGraphicFramePr/>
          <p:nvPr/>
        </p:nvGraphicFramePr>
        <p:xfrm>
          <a:off x="5176800" y="3456000"/>
          <a:ext cx="2792520" cy="1096920"/>
        </p:xfrm>
        <a:graphic>
          <a:graphicData uri="http://schemas.openxmlformats.org/drawingml/2006/table">
            <a:tbl>
              <a:tblPr/>
              <a:tblGrid>
                <a:gridCol w="792360"/>
                <a:gridCol w="200016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2-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8" name=""/>
          <p:cNvGraphicFramePr/>
          <p:nvPr/>
        </p:nvGraphicFramePr>
        <p:xfrm>
          <a:off x="5148360" y="1917720"/>
          <a:ext cx="2808360" cy="1098360"/>
        </p:xfrm>
        <a:graphic>
          <a:graphicData uri="http://schemas.openxmlformats.org/drawingml/2006/table">
            <a:tbl>
              <a:tblPr/>
              <a:tblGrid>
                <a:gridCol w="792000"/>
                <a:gridCol w="201636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Д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+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9" name=""/>
          <p:cNvGraphicFramePr/>
          <p:nvPr/>
        </p:nvGraphicFramePr>
        <p:xfrm>
          <a:off x="5187960" y="5181480"/>
          <a:ext cx="2808360" cy="1096920"/>
        </p:xfrm>
        <a:graphic>
          <a:graphicData uri="http://schemas.openxmlformats.org/drawingml/2006/table">
            <a:tbl>
              <a:tblPr/>
              <a:tblGrid>
                <a:gridCol w="792000"/>
                <a:gridCol w="201636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+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0" name=""/>
          <p:cNvGraphicFramePr/>
          <p:nvPr/>
        </p:nvGraphicFramePr>
        <p:xfrm>
          <a:off x="517680" y="3456000"/>
          <a:ext cx="2808000" cy="1096920"/>
        </p:xfrm>
        <a:graphic>
          <a:graphicData uri="http://schemas.openxmlformats.org/drawingml/2006/table">
            <a:tbl>
              <a:tblPr/>
              <a:tblGrid>
                <a:gridCol w="792000"/>
                <a:gridCol w="20160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Ц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+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1523880" y="146160"/>
          <a:ext cx="6096240" cy="155412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91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2" name=""/>
          <p:cNvGraphicFramePr/>
          <p:nvPr/>
        </p:nvGraphicFramePr>
        <p:xfrm>
          <a:off x="539640" y="1868400"/>
          <a:ext cx="2808360" cy="1096920"/>
        </p:xfrm>
        <a:graphic>
          <a:graphicData uri="http://schemas.openxmlformats.org/drawingml/2006/table">
            <a:tbl>
              <a:tblPr/>
              <a:tblGrid>
                <a:gridCol w="792360"/>
                <a:gridCol w="20160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М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-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3" name=""/>
          <p:cNvGraphicFramePr/>
          <p:nvPr/>
        </p:nvGraphicFramePr>
        <p:xfrm>
          <a:off x="509760" y="5194440"/>
          <a:ext cx="2808000" cy="1096920"/>
        </p:xfrm>
        <a:graphic>
          <a:graphicData uri="http://schemas.openxmlformats.org/drawingml/2006/table">
            <a:tbl>
              <a:tblPr/>
              <a:tblGrid>
                <a:gridCol w="792000"/>
                <a:gridCol w="20160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-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4" name=""/>
          <p:cNvGraphicFramePr/>
          <p:nvPr/>
        </p:nvGraphicFramePr>
        <p:xfrm>
          <a:off x="5176800" y="3456000"/>
          <a:ext cx="2792520" cy="1096920"/>
        </p:xfrm>
        <a:graphic>
          <a:graphicData uri="http://schemas.openxmlformats.org/drawingml/2006/table">
            <a:tbl>
              <a:tblPr/>
              <a:tblGrid>
                <a:gridCol w="792360"/>
                <a:gridCol w="200016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2-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5" name=""/>
          <p:cNvGraphicFramePr/>
          <p:nvPr/>
        </p:nvGraphicFramePr>
        <p:xfrm>
          <a:off x="5148360" y="1917720"/>
          <a:ext cx="2808360" cy="1098360"/>
        </p:xfrm>
        <a:graphic>
          <a:graphicData uri="http://schemas.openxmlformats.org/drawingml/2006/table">
            <a:tbl>
              <a:tblPr/>
              <a:tblGrid>
                <a:gridCol w="792000"/>
                <a:gridCol w="201636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Д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+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6" name=""/>
          <p:cNvGraphicFramePr/>
          <p:nvPr/>
        </p:nvGraphicFramePr>
        <p:xfrm>
          <a:off x="5187960" y="5181480"/>
          <a:ext cx="2808360" cy="1096920"/>
        </p:xfrm>
        <a:graphic>
          <a:graphicData uri="http://schemas.openxmlformats.org/drawingml/2006/table">
            <a:tbl>
              <a:tblPr/>
              <a:tblGrid>
                <a:gridCol w="792000"/>
                <a:gridCol w="201636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+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7" name=""/>
          <p:cNvGraphicFramePr/>
          <p:nvPr/>
        </p:nvGraphicFramePr>
        <p:xfrm>
          <a:off x="517680" y="3456000"/>
          <a:ext cx="2808000" cy="1096920"/>
        </p:xfrm>
        <a:graphic>
          <a:graphicData uri="http://schemas.openxmlformats.org/drawingml/2006/table">
            <a:tbl>
              <a:tblPr/>
              <a:tblGrid>
                <a:gridCol w="792000"/>
                <a:gridCol w="20160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Ц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+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8" name=""/>
          <p:cNvGraphicFramePr/>
          <p:nvPr/>
        </p:nvGraphicFramePr>
        <p:xfrm>
          <a:off x="1523880" y="146160"/>
          <a:ext cx="6096240" cy="164628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М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Д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Ц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9" name="Рисунок 3" descr=""/>
          <p:cNvPicPr/>
          <p:nvPr/>
        </p:nvPicPr>
        <p:blipFill>
          <a:blip r:embed="rId1"/>
          <a:srcRect l="4262" t="2519" r="14797" b="11550"/>
          <a:stretch/>
        </p:blipFill>
        <p:spPr>
          <a:xfrm>
            <a:off x="2484360" y="189000"/>
            <a:ext cx="446400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11280" y="1080"/>
            <a:ext cx="7773840" cy="15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НАШ   ГИД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1" name="Picture 2" descr="1-points-a-relier-132[1]"/>
          <p:cNvPicPr/>
          <p:nvPr/>
        </p:nvPicPr>
        <p:blipFill>
          <a:blip r:embed="rId1"/>
          <a:srcRect l="1853" t="3970" r="1853" b="4760"/>
          <a:stretch/>
        </p:blipFill>
        <p:spPr>
          <a:xfrm>
            <a:off x="2843280" y="1341360"/>
            <a:ext cx="3744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11280" y="1080"/>
            <a:ext cx="7773840" cy="15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НАШ   ГИД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3" name="Picture 2" descr="1-points-a-relier-132[1]"/>
          <p:cNvPicPr/>
          <p:nvPr/>
        </p:nvPicPr>
        <p:blipFill>
          <a:blip r:embed="rId1"/>
          <a:srcRect l="1853" t="3970" r="1853" b="4760"/>
          <a:stretch/>
        </p:blipFill>
        <p:spPr>
          <a:xfrm>
            <a:off x="2843280" y="1341360"/>
            <a:ext cx="3744720" cy="4967280"/>
          </a:xfrm>
          <a:prstGeom prst="rect">
            <a:avLst/>
          </a:prstGeom>
          <a:ln w="0">
            <a:noFill/>
          </a:ln>
        </p:spPr>
      </p:pic>
      <p:sp>
        <p:nvSpPr>
          <p:cNvPr id="784" name="Полилиния 9"/>
          <p:cNvSpPr/>
          <p:nvPr/>
        </p:nvSpPr>
        <p:spPr>
          <a:xfrm>
            <a:off x="3056040" y="2722680"/>
            <a:ext cx="3387600" cy="3389040"/>
          </a:xfrm>
          <a:custGeom>
            <a:avLst/>
            <a:gdLst/>
            <a:ahLst/>
            <a:rect l="l" t="t" r="r" b="b"/>
            <a:pathLst>
              <a:path w="3386944" h="3390471">
                <a:moveTo>
                  <a:pt x="2255824" y="2398599"/>
                </a:moveTo>
                <a:cubicBezTo>
                  <a:pt x="2203572" y="2500199"/>
                  <a:pt x="2678189" y="2402953"/>
                  <a:pt x="2830589" y="2311513"/>
                </a:cubicBezTo>
                <a:cubicBezTo>
                  <a:pt x="2982989" y="2220073"/>
                  <a:pt x="3078784" y="1829639"/>
                  <a:pt x="3170224" y="1849959"/>
                </a:cubicBezTo>
                <a:cubicBezTo>
                  <a:pt x="3261664" y="1870279"/>
                  <a:pt x="3424223" y="2196850"/>
                  <a:pt x="3379229" y="2433433"/>
                </a:cubicBezTo>
                <a:cubicBezTo>
                  <a:pt x="3334235" y="2670016"/>
                  <a:pt x="3250052" y="3121410"/>
                  <a:pt x="2900258" y="3269456"/>
                </a:cubicBezTo>
                <a:cubicBezTo>
                  <a:pt x="2550464" y="3417502"/>
                  <a:pt x="1637515" y="3423308"/>
                  <a:pt x="1280464" y="3321708"/>
                </a:cubicBezTo>
                <a:cubicBezTo>
                  <a:pt x="923412" y="3220108"/>
                  <a:pt x="861001" y="2863056"/>
                  <a:pt x="757949" y="2659856"/>
                </a:cubicBezTo>
                <a:cubicBezTo>
                  <a:pt x="654897" y="2456656"/>
                  <a:pt x="788429" y="2266519"/>
                  <a:pt x="662155" y="2102508"/>
                </a:cubicBezTo>
                <a:cubicBezTo>
                  <a:pt x="535881" y="1938497"/>
                  <a:pt x="13367" y="1768679"/>
                  <a:pt x="304" y="1675788"/>
                </a:cubicBezTo>
                <a:cubicBezTo>
                  <a:pt x="-12759" y="1582897"/>
                  <a:pt x="397995" y="1643856"/>
                  <a:pt x="583778" y="1545159"/>
                </a:cubicBezTo>
                <a:cubicBezTo>
                  <a:pt x="769561" y="1446462"/>
                  <a:pt x="1040978" y="1016839"/>
                  <a:pt x="1115001" y="1083605"/>
                </a:cubicBezTo>
                <a:cubicBezTo>
                  <a:pt x="1189024" y="1150371"/>
                  <a:pt x="845035" y="1896405"/>
                  <a:pt x="1027915" y="1945753"/>
                </a:cubicBezTo>
                <a:cubicBezTo>
                  <a:pt x="1210795" y="1995101"/>
                  <a:pt x="2036658" y="1624987"/>
                  <a:pt x="2212281" y="1379696"/>
                </a:cubicBezTo>
                <a:cubicBezTo>
                  <a:pt x="2387904" y="1134405"/>
                  <a:pt x="2149869" y="662691"/>
                  <a:pt x="2081652" y="474005"/>
                </a:cubicBezTo>
                <a:cubicBezTo>
                  <a:pt x="2013435" y="285319"/>
                  <a:pt x="1698475" y="325959"/>
                  <a:pt x="1802978" y="247582"/>
                </a:cubicBezTo>
                <a:cubicBezTo>
                  <a:pt x="1907481" y="169205"/>
                  <a:pt x="2598361" y="-29641"/>
                  <a:pt x="2708669" y="3742"/>
                </a:cubicBezTo>
                <a:cubicBezTo>
                  <a:pt x="2818977" y="37125"/>
                  <a:pt x="2483698" y="231616"/>
                  <a:pt x="2464829" y="447879"/>
                </a:cubicBezTo>
                <a:cubicBezTo>
                  <a:pt x="2445961" y="664142"/>
                  <a:pt x="2518532" y="1131502"/>
                  <a:pt x="2595458" y="1301319"/>
                </a:cubicBezTo>
                <a:cubicBezTo>
                  <a:pt x="2672384" y="1471136"/>
                  <a:pt x="2834944" y="1400016"/>
                  <a:pt x="2926384" y="1466782"/>
                </a:cubicBezTo>
                <a:cubicBezTo>
                  <a:pt x="3017824" y="1533548"/>
                  <a:pt x="3257309" y="1545159"/>
                  <a:pt x="3144098" y="1701913"/>
                </a:cubicBezTo>
                <a:cubicBezTo>
                  <a:pt x="3030887" y="1858667"/>
                  <a:pt x="2308076" y="2296999"/>
                  <a:pt x="2255824" y="2398599"/>
                </a:cubicBezTo>
                <a:close/>
              </a:path>
            </a:pathLst>
          </a:custGeom>
          <a:noFill/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Полилиния 3"/>
          <p:cNvGrpSpPr/>
          <p:nvPr/>
        </p:nvGrpSpPr>
        <p:grpSpPr>
          <a:xfrm>
            <a:off x="2335320" y="291960"/>
            <a:ext cx="5271840" cy="1347840"/>
            <a:chOff x="2335320" y="291960"/>
            <a:chExt cx="5271840" cy="1347840"/>
          </a:xfrm>
        </p:grpSpPr>
        <p:pic>
          <p:nvPicPr>
            <p:cNvPr id="786" name="Полилиния 3" descr=""/>
            <p:cNvPicPr/>
            <p:nvPr/>
          </p:nvPicPr>
          <p:blipFill>
            <a:blip r:embed="rId1"/>
            <a:stretch/>
          </p:blipFill>
          <p:spPr>
            <a:xfrm>
              <a:off x="2335320" y="291960"/>
              <a:ext cx="5271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2340000" y="297000"/>
              <a:ext cx="5256360" cy="13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8" name="Рисунок 4" descr=""/>
          <p:cNvPicPr/>
          <p:nvPr/>
        </p:nvPicPr>
        <p:blipFill>
          <a:blip r:embed="rId2"/>
          <a:stretch/>
        </p:blipFill>
        <p:spPr>
          <a:xfrm>
            <a:off x="6607080" y="5364000"/>
            <a:ext cx="2521080" cy="139068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26560" y="296640"/>
            <a:ext cx="7774200" cy="15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ГЕОМЕТРИЧЕСКИЙ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0" name="Трапеция 4"/>
          <p:cNvSpPr/>
          <p:nvPr/>
        </p:nvSpPr>
        <p:spPr>
          <a:xfrm rot="10800000">
            <a:off x="1618920" y="4059360"/>
            <a:ext cx="4608360" cy="1304640"/>
          </a:xfrm>
          <a:custGeom>
            <a:avLst/>
            <a:gdLst/>
            <a:ahLst/>
            <a:rect l="l" t="t" r="r" b="b"/>
            <a:pathLst>
              <a:path w="4608513" h="1304925">
                <a:moveTo>
                  <a:pt x="0" y="1304925"/>
                </a:moveTo>
                <a:lnTo>
                  <a:pt x="631153" y="0"/>
                </a:lnTo>
                <a:lnTo>
                  <a:pt x="3977360" y="0"/>
                </a:lnTo>
                <a:lnTo>
                  <a:pt x="4608513" y="1304925"/>
                </a:lnTo>
                <a:lnTo>
                  <a:pt x="0" y="1304925"/>
                </a:lnTo>
                <a:close/>
              </a:path>
            </a:pathLst>
          </a:custGeom>
          <a:solidFill>
            <a:srgbClr val="ffff00"/>
          </a:solidFill>
          <a:ln w="15840">
            <a:solidFill>
              <a:srgbClr val="2077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Прямоугольный треугольник 8"/>
          <p:cNvSpPr/>
          <p:nvPr/>
        </p:nvSpPr>
        <p:spPr>
          <a:xfrm>
            <a:off x="3708360" y="1844640"/>
            <a:ext cx="1440000" cy="2232000"/>
          </a:xfrm>
          <a:prstGeom prst="rtTriangle">
            <a:avLst/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9"/>
          <p:cNvSpPr/>
          <p:nvPr/>
        </p:nvSpPr>
        <p:spPr>
          <a:xfrm>
            <a:off x="2916360" y="1844640"/>
            <a:ext cx="792000" cy="792360"/>
          </a:xfrm>
          <a:prstGeom prst="rect">
            <a:avLst/>
          </a:prstGeom>
          <a:solidFill>
            <a:srgbClr val="ff0000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Полилиния 6"/>
          <p:cNvSpPr/>
          <p:nvPr/>
        </p:nvSpPr>
        <p:spPr>
          <a:xfrm>
            <a:off x="2090880" y="523800"/>
            <a:ext cx="4938480" cy="2341800"/>
          </a:xfrm>
          <a:custGeom>
            <a:avLst/>
            <a:gdLst/>
            <a:ahLst/>
            <a:rect l="l" t="t" r="r" b="b"/>
            <a:pathLst>
              <a:path w="4938906" h="2340997">
                <a:moveTo>
                  <a:pt x="2211977" y="15808"/>
                </a:moveTo>
                <a:lnTo>
                  <a:pt x="2211977" y="15808"/>
                </a:lnTo>
                <a:lnTo>
                  <a:pt x="1428206" y="7100"/>
                </a:lnTo>
                <a:cubicBezTo>
                  <a:pt x="1305397" y="7100"/>
                  <a:pt x="1187383" y="-20534"/>
                  <a:pt x="1079863" y="33226"/>
                </a:cubicBezTo>
                <a:cubicBezTo>
                  <a:pt x="1064724" y="40796"/>
                  <a:pt x="1050404" y="49962"/>
                  <a:pt x="1036320" y="59351"/>
                </a:cubicBezTo>
                <a:cubicBezTo>
                  <a:pt x="1024243" y="67402"/>
                  <a:pt x="1013097" y="76768"/>
                  <a:pt x="1001486" y="85477"/>
                </a:cubicBezTo>
                <a:cubicBezTo>
                  <a:pt x="966652" y="152243"/>
                  <a:pt x="930661" y="218418"/>
                  <a:pt x="896983" y="285774"/>
                </a:cubicBezTo>
                <a:cubicBezTo>
                  <a:pt x="889545" y="300650"/>
                  <a:pt x="883909" y="332466"/>
                  <a:pt x="879566" y="346734"/>
                </a:cubicBezTo>
                <a:cubicBezTo>
                  <a:pt x="862725" y="402067"/>
                  <a:pt x="836822" y="455145"/>
                  <a:pt x="827314" y="512197"/>
                </a:cubicBezTo>
                <a:cubicBezTo>
                  <a:pt x="817097" y="573503"/>
                  <a:pt x="824190" y="547697"/>
                  <a:pt x="809897" y="590574"/>
                </a:cubicBezTo>
                <a:cubicBezTo>
                  <a:pt x="804091" y="637020"/>
                  <a:pt x="799423" y="683622"/>
                  <a:pt x="792480" y="729911"/>
                </a:cubicBezTo>
                <a:cubicBezTo>
                  <a:pt x="790705" y="741748"/>
                  <a:pt x="785823" y="752954"/>
                  <a:pt x="783772" y="764746"/>
                </a:cubicBezTo>
                <a:cubicBezTo>
                  <a:pt x="774205" y="819758"/>
                  <a:pt x="767213" y="875196"/>
                  <a:pt x="757646" y="930208"/>
                </a:cubicBezTo>
                <a:cubicBezTo>
                  <a:pt x="755595" y="942000"/>
                  <a:pt x="754875" y="954651"/>
                  <a:pt x="748937" y="965043"/>
                </a:cubicBezTo>
                <a:cubicBezTo>
                  <a:pt x="742827" y="975736"/>
                  <a:pt x="733059" y="984337"/>
                  <a:pt x="722812" y="991168"/>
                </a:cubicBezTo>
                <a:cubicBezTo>
                  <a:pt x="706362" y="1002135"/>
                  <a:pt x="640596" y="1008045"/>
                  <a:pt x="635726" y="1008586"/>
                </a:cubicBezTo>
                <a:cubicBezTo>
                  <a:pt x="603859" y="1012127"/>
                  <a:pt x="571784" y="1013619"/>
                  <a:pt x="539932" y="1017294"/>
                </a:cubicBezTo>
                <a:cubicBezTo>
                  <a:pt x="496293" y="1022329"/>
                  <a:pt x="452745" y="1028195"/>
                  <a:pt x="409303" y="1034711"/>
                </a:cubicBezTo>
                <a:cubicBezTo>
                  <a:pt x="394665" y="1036907"/>
                  <a:pt x="380413" y="1041327"/>
                  <a:pt x="365760" y="1043420"/>
                </a:cubicBezTo>
                <a:cubicBezTo>
                  <a:pt x="299106" y="1052942"/>
                  <a:pt x="232067" y="1059679"/>
                  <a:pt x="165463" y="1069546"/>
                </a:cubicBezTo>
                <a:cubicBezTo>
                  <a:pt x="153624" y="1071300"/>
                  <a:pt x="142291" y="1075563"/>
                  <a:pt x="130629" y="1078254"/>
                </a:cubicBezTo>
                <a:lnTo>
                  <a:pt x="52252" y="1095671"/>
                </a:lnTo>
                <a:cubicBezTo>
                  <a:pt x="39498" y="1108425"/>
                  <a:pt x="24009" y="1121635"/>
                  <a:pt x="17417" y="1139214"/>
                </a:cubicBezTo>
                <a:cubicBezTo>
                  <a:pt x="12220" y="1153073"/>
                  <a:pt x="11920" y="1168308"/>
                  <a:pt x="8709" y="1182757"/>
                </a:cubicBezTo>
                <a:cubicBezTo>
                  <a:pt x="6113" y="1194441"/>
                  <a:pt x="2903" y="1205980"/>
                  <a:pt x="0" y="1217591"/>
                </a:cubicBezTo>
                <a:cubicBezTo>
                  <a:pt x="2903" y="1322094"/>
                  <a:pt x="-756" y="1426986"/>
                  <a:pt x="8709" y="1531100"/>
                </a:cubicBezTo>
                <a:cubicBezTo>
                  <a:pt x="11749" y="1564545"/>
                  <a:pt x="63252" y="1656459"/>
                  <a:pt x="78377" y="1679146"/>
                </a:cubicBezTo>
                <a:cubicBezTo>
                  <a:pt x="85209" y="1689393"/>
                  <a:pt x="96488" y="1695920"/>
                  <a:pt x="104503" y="1705271"/>
                </a:cubicBezTo>
                <a:cubicBezTo>
                  <a:pt x="142464" y="1749559"/>
                  <a:pt x="112857" y="1734182"/>
                  <a:pt x="156754" y="1748814"/>
                </a:cubicBezTo>
                <a:cubicBezTo>
                  <a:pt x="200297" y="1786551"/>
                  <a:pt x="240995" y="1827846"/>
                  <a:pt x="287383" y="1862026"/>
                </a:cubicBezTo>
                <a:cubicBezTo>
                  <a:pt x="297018" y="1869126"/>
                  <a:pt x="311216" y="1866019"/>
                  <a:pt x="322217" y="1870734"/>
                </a:cubicBezTo>
                <a:cubicBezTo>
                  <a:pt x="331837" y="1874857"/>
                  <a:pt x="338097" y="1886016"/>
                  <a:pt x="348343" y="1888151"/>
                </a:cubicBezTo>
                <a:cubicBezTo>
                  <a:pt x="408628" y="1900710"/>
                  <a:pt x="470263" y="1905568"/>
                  <a:pt x="531223" y="1914277"/>
                </a:cubicBezTo>
                <a:cubicBezTo>
                  <a:pt x="539932" y="1917180"/>
                  <a:pt x="548911" y="1919370"/>
                  <a:pt x="557349" y="1922986"/>
                </a:cubicBezTo>
                <a:cubicBezTo>
                  <a:pt x="569281" y="1928100"/>
                  <a:pt x="579435" y="1937951"/>
                  <a:pt x="592183" y="1940403"/>
                </a:cubicBezTo>
                <a:cubicBezTo>
                  <a:pt x="655477" y="1952575"/>
                  <a:pt x="720271" y="1955484"/>
                  <a:pt x="783772" y="1966528"/>
                </a:cubicBezTo>
                <a:cubicBezTo>
                  <a:pt x="853884" y="1978721"/>
                  <a:pt x="923307" y="1994633"/>
                  <a:pt x="992777" y="2010071"/>
                </a:cubicBezTo>
                <a:cubicBezTo>
                  <a:pt x="1142207" y="2043278"/>
                  <a:pt x="864036" y="1989548"/>
                  <a:pt x="1053737" y="2027488"/>
                </a:cubicBezTo>
                <a:lnTo>
                  <a:pt x="1236617" y="2062323"/>
                </a:lnTo>
                <a:cubicBezTo>
                  <a:pt x="1454331" y="2059420"/>
                  <a:pt x="1672168" y="2061479"/>
                  <a:pt x="1889760" y="2053614"/>
                </a:cubicBezTo>
                <a:cubicBezTo>
                  <a:pt x="1947299" y="2051534"/>
                  <a:pt x="1997152" y="2015436"/>
                  <a:pt x="2046514" y="1992654"/>
                </a:cubicBezTo>
                <a:cubicBezTo>
                  <a:pt x="2054849" y="1988807"/>
                  <a:pt x="2063931" y="1986849"/>
                  <a:pt x="2072640" y="1983946"/>
                </a:cubicBezTo>
                <a:cubicBezTo>
                  <a:pt x="2081349" y="1975237"/>
                  <a:pt x="2087750" y="1963328"/>
                  <a:pt x="2098766" y="1957820"/>
                </a:cubicBezTo>
                <a:cubicBezTo>
                  <a:pt x="2128432" y="1942987"/>
                  <a:pt x="2183868" y="1928509"/>
                  <a:pt x="2220686" y="1922986"/>
                </a:cubicBezTo>
                <a:cubicBezTo>
                  <a:pt x="2264128" y="1916470"/>
                  <a:pt x="2307771" y="1911374"/>
                  <a:pt x="2351314" y="1905568"/>
                </a:cubicBezTo>
                <a:cubicBezTo>
                  <a:pt x="2781334" y="1914169"/>
                  <a:pt x="2666754" y="1883219"/>
                  <a:pt x="2943497" y="1949111"/>
                </a:cubicBezTo>
                <a:cubicBezTo>
                  <a:pt x="2952427" y="1951237"/>
                  <a:pt x="2960914" y="1954917"/>
                  <a:pt x="2969623" y="1957820"/>
                </a:cubicBezTo>
                <a:cubicBezTo>
                  <a:pt x="2987040" y="1978140"/>
                  <a:pt x="3009456" y="1995073"/>
                  <a:pt x="3021874" y="2018780"/>
                </a:cubicBezTo>
                <a:cubicBezTo>
                  <a:pt x="3041898" y="2057007"/>
                  <a:pt x="3040969" y="2105139"/>
                  <a:pt x="3065417" y="2140700"/>
                </a:cubicBezTo>
                <a:cubicBezTo>
                  <a:pt x="3097349" y="2187146"/>
                  <a:pt x="3121358" y="2240181"/>
                  <a:pt x="3161212" y="2280037"/>
                </a:cubicBezTo>
                <a:cubicBezTo>
                  <a:pt x="3169920" y="2288746"/>
                  <a:pt x="3177090" y="2299332"/>
                  <a:pt x="3187337" y="2306163"/>
                </a:cubicBezTo>
                <a:cubicBezTo>
                  <a:pt x="3203540" y="2316965"/>
                  <a:pt x="3221509" y="2325056"/>
                  <a:pt x="3239589" y="2332288"/>
                </a:cubicBezTo>
                <a:cubicBezTo>
                  <a:pt x="3250702" y="2336733"/>
                  <a:pt x="3262812" y="2338094"/>
                  <a:pt x="3274423" y="2340997"/>
                </a:cubicBezTo>
                <a:lnTo>
                  <a:pt x="3535680" y="2332288"/>
                </a:lnTo>
                <a:cubicBezTo>
                  <a:pt x="3628150" y="2317129"/>
                  <a:pt x="3713761" y="2272288"/>
                  <a:pt x="3805646" y="2253911"/>
                </a:cubicBezTo>
                <a:cubicBezTo>
                  <a:pt x="3949622" y="2225116"/>
                  <a:pt x="4102075" y="2213968"/>
                  <a:pt x="4249783" y="2201660"/>
                </a:cubicBezTo>
                <a:lnTo>
                  <a:pt x="4519749" y="2140700"/>
                </a:lnTo>
                <a:cubicBezTo>
                  <a:pt x="4534198" y="2137489"/>
                  <a:pt x="4550672" y="2139726"/>
                  <a:pt x="4563292" y="2131991"/>
                </a:cubicBezTo>
                <a:cubicBezTo>
                  <a:pt x="4641557" y="2084022"/>
                  <a:pt x="4716277" y="2030315"/>
                  <a:pt x="4789714" y="1975237"/>
                </a:cubicBezTo>
                <a:cubicBezTo>
                  <a:pt x="4894088" y="1896957"/>
                  <a:pt x="4789426" y="1940500"/>
                  <a:pt x="4894217" y="1905568"/>
                </a:cubicBezTo>
                <a:cubicBezTo>
                  <a:pt x="4902926" y="1882345"/>
                  <a:pt x="4914328" y="1859961"/>
                  <a:pt x="4920343" y="1835900"/>
                </a:cubicBezTo>
                <a:cubicBezTo>
                  <a:pt x="4929998" y="1797281"/>
                  <a:pt x="4937189" y="1636031"/>
                  <a:pt x="4937760" y="1626894"/>
                </a:cubicBezTo>
                <a:cubicBezTo>
                  <a:pt x="4933023" y="1451616"/>
                  <a:pt x="4954083" y="1370846"/>
                  <a:pt x="4911634" y="1235008"/>
                </a:cubicBezTo>
                <a:cubicBezTo>
                  <a:pt x="4878634" y="1129408"/>
                  <a:pt x="4888554" y="1180047"/>
                  <a:pt x="4807132" y="1069546"/>
                </a:cubicBezTo>
                <a:cubicBezTo>
                  <a:pt x="4790887" y="1047499"/>
                  <a:pt x="4781411" y="1020670"/>
                  <a:pt x="4763589" y="999877"/>
                </a:cubicBezTo>
                <a:cubicBezTo>
                  <a:pt x="4746172" y="979557"/>
                  <a:pt x="4721005" y="967083"/>
                  <a:pt x="4702629" y="947626"/>
                </a:cubicBezTo>
                <a:cubicBezTo>
                  <a:pt x="4671495" y="914660"/>
                  <a:pt x="4656100" y="863402"/>
                  <a:pt x="4615543" y="843123"/>
                </a:cubicBezTo>
                <a:cubicBezTo>
                  <a:pt x="4592320" y="831511"/>
                  <a:pt x="4568301" y="821371"/>
                  <a:pt x="4545874" y="808288"/>
                </a:cubicBezTo>
                <a:cubicBezTo>
                  <a:pt x="4533337" y="800975"/>
                  <a:pt x="4523728" y="789212"/>
                  <a:pt x="4511040" y="782163"/>
                </a:cubicBezTo>
                <a:cubicBezTo>
                  <a:pt x="4383234" y="711161"/>
                  <a:pt x="4563922" y="829478"/>
                  <a:pt x="4415246" y="738620"/>
                </a:cubicBezTo>
                <a:cubicBezTo>
                  <a:pt x="4280680" y="656385"/>
                  <a:pt x="4355378" y="683828"/>
                  <a:pt x="4284617" y="660243"/>
                </a:cubicBezTo>
                <a:cubicBezTo>
                  <a:pt x="4275909" y="654437"/>
                  <a:pt x="4267579" y="648019"/>
                  <a:pt x="4258492" y="642826"/>
                </a:cubicBezTo>
                <a:cubicBezTo>
                  <a:pt x="4247220" y="636385"/>
                  <a:pt x="4233427" y="633957"/>
                  <a:pt x="4223657" y="625408"/>
                </a:cubicBezTo>
                <a:cubicBezTo>
                  <a:pt x="4209669" y="613168"/>
                  <a:pt x="4203495" y="593277"/>
                  <a:pt x="4188823" y="581866"/>
                </a:cubicBezTo>
                <a:cubicBezTo>
                  <a:pt x="4176483" y="572269"/>
                  <a:pt x="4159262" y="571439"/>
                  <a:pt x="4145280" y="564448"/>
                </a:cubicBezTo>
                <a:cubicBezTo>
                  <a:pt x="4135919" y="559767"/>
                  <a:pt x="4129083" y="550341"/>
                  <a:pt x="4119154" y="547031"/>
                </a:cubicBezTo>
                <a:cubicBezTo>
                  <a:pt x="4093764" y="538568"/>
                  <a:pt x="4067299" y="533198"/>
                  <a:pt x="4040777" y="529614"/>
                </a:cubicBezTo>
                <a:cubicBezTo>
                  <a:pt x="3727152" y="487232"/>
                  <a:pt x="3677522" y="501429"/>
                  <a:pt x="3291840" y="494780"/>
                </a:cubicBezTo>
                <a:cubicBezTo>
                  <a:pt x="3271520" y="491877"/>
                  <a:pt x="3250499" y="492107"/>
                  <a:pt x="3230880" y="486071"/>
                </a:cubicBezTo>
                <a:cubicBezTo>
                  <a:pt x="3217966" y="482098"/>
                  <a:pt x="3147973" y="444130"/>
                  <a:pt x="3135086" y="433820"/>
                </a:cubicBezTo>
                <a:cubicBezTo>
                  <a:pt x="3119058" y="420997"/>
                  <a:pt x="3106057" y="404791"/>
                  <a:pt x="3091543" y="390277"/>
                </a:cubicBezTo>
                <a:cubicBezTo>
                  <a:pt x="3055599" y="264474"/>
                  <a:pt x="3103527" y="394862"/>
                  <a:pt x="3013166" y="268357"/>
                </a:cubicBezTo>
                <a:cubicBezTo>
                  <a:pt x="2990373" y="236446"/>
                  <a:pt x="2934884" y="151700"/>
                  <a:pt x="2899954" y="137728"/>
                </a:cubicBezTo>
                <a:cubicBezTo>
                  <a:pt x="2885440" y="131922"/>
                  <a:pt x="2870077" y="127903"/>
                  <a:pt x="2856412" y="120311"/>
                </a:cubicBezTo>
                <a:cubicBezTo>
                  <a:pt x="2843724" y="113262"/>
                  <a:pt x="2835246" y="99068"/>
                  <a:pt x="2821577" y="94186"/>
                </a:cubicBezTo>
                <a:cubicBezTo>
                  <a:pt x="2793698" y="84229"/>
                  <a:pt x="2763520" y="82574"/>
                  <a:pt x="2734492" y="76768"/>
                </a:cubicBezTo>
                <a:cubicBezTo>
                  <a:pt x="2697803" y="61045"/>
                  <a:pt x="2660334" y="42990"/>
                  <a:pt x="2621280" y="33226"/>
                </a:cubicBezTo>
                <a:cubicBezTo>
                  <a:pt x="2604150" y="28943"/>
                  <a:pt x="2586343" y="27980"/>
                  <a:pt x="2569029" y="24517"/>
                </a:cubicBezTo>
                <a:cubicBezTo>
                  <a:pt x="2541693" y="19050"/>
                  <a:pt x="2532968" y="15399"/>
                  <a:pt x="2508069" y="7100"/>
                </a:cubicBezTo>
                <a:cubicBezTo>
                  <a:pt x="2426789" y="10003"/>
                  <a:pt x="2345392" y="10572"/>
                  <a:pt x="2264229" y="15808"/>
                </a:cubicBezTo>
                <a:cubicBezTo>
                  <a:pt x="2255068" y="16399"/>
                  <a:pt x="2238103" y="24517"/>
                  <a:pt x="2211977" y="15808"/>
                </a:cubicBezTo>
                <a:close/>
              </a:path>
            </a:pathLst>
          </a:custGeom>
          <a:gradFill rotWithShape="0">
            <a:gsLst>
              <a:gs pos="0">
                <a:srgbClr val="d1f2ba"/>
              </a:gs>
              <a:gs pos="100000">
                <a:srgbClr val="f0fae9"/>
              </a:gs>
            </a:gsLst>
            <a:lin ang="0"/>
          </a:gradFill>
          <a:ln w="15840">
            <a:solidFill>
              <a:srgbClr val="2077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7240" y="80964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ЦИФРОВОЙ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5" name="Объект 3" descr=""/>
          <p:cNvPicPr/>
          <p:nvPr/>
        </p:nvPicPr>
        <p:blipFill>
          <a:blip r:embed="rId1"/>
          <a:srcRect l="0" t="8787" r="0" b="0"/>
          <a:stretch/>
        </p:blipFill>
        <p:spPr>
          <a:xfrm>
            <a:off x="324000" y="3117960"/>
            <a:ext cx="2327040" cy="2265120"/>
          </a:xfrm>
          <a:prstGeom prst="rect">
            <a:avLst/>
          </a:prstGeom>
          <a:ln w="0">
            <a:noFill/>
          </a:ln>
        </p:spPr>
      </p:pic>
      <p:pic>
        <p:nvPicPr>
          <p:cNvPr id="796" name="Рисунок 3" descr=""/>
          <p:cNvPicPr/>
          <p:nvPr/>
        </p:nvPicPr>
        <p:blipFill>
          <a:blip r:embed="rId2"/>
          <a:stretch/>
        </p:blipFill>
        <p:spPr>
          <a:xfrm>
            <a:off x="6732720" y="5433840"/>
            <a:ext cx="2395440" cy="1320840"/>
          </a:xfrm>
          <a:prstGeom prst="rect">
            <a:avLst/>
          </a:prstGeom>
          <a:ln w="0">
            <a:noFill/>
          </a:ln>
        </p:spPr>
      </p:pic>
      <p:pic>
        <p:nvPicPr>
          <p:cNvPr id="797" name="Объект 3" descr=""/>
          <p:cNvPicPr/>
          <p:nvPr/>
        </p:nvPicPr>
        <p:blipFill>
          <a:blip r:embed="rId3"/>
          <a:srcRect l="0" t="8787" r="0" b="0"/>
          <a:stretch/>
        </p:blipFill>
        <p:spPr>
          <a:xfrm>
            <a:off x="6311880" y="3166920"/>
            <a:ext cx="2327400" cy="2264040"/>
          </a:xfrm>
          <a:prstGeom prst="rect">
            <a:avLst/>
          </a:prstGeom>
          <a:ln w="0">
            <a:noFill/>
          </a:ln>
        </p:spPr>
      </p:pic>
      <p:pic>
        <p:nvPicPr>
          <p:cNvPr id="798" name="Рисунок 4" descr=""/>
          <p:cNvPicPr/>
          <p:nvPr/>
        </p:nvPicPr>
        <p:blipFill>
          <a:blip r:embed="rId4"/>
          <a:srcRect l="20559" t="9687" r="20559" b="8387"/>
          <a:stretch/>
        </p:blipFill>
        <p:spPr>
          <a:xfrm>
            <a:off x="4211640" y="3166920"/>
            <a:ext cx="2197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Полилиния 4"/>
          <p:cNvSpPr/>
          <p:nvPr/>
        </p:nvSpPr>
        <p:spPr>
          <a:xfrm>
            <a:off x="2882880" y="297000"/>
            <a:ext cx="3822840" cy="1287360"/>
          </a:xfrm>
          <a:custGeom>
            <a:avLst/>
            <a:gdLst/>
            <a:ahLst/>
            <a:rect l="l" t="t" r="r" b="b"/>
            <a:pathLst>
              <a:path w="3823080" h="1288869">
                <a:moveTo>
                  <a:pt x="896983" y="52252"/>
                </a:moveTo>
                <a:lnTo>
                  <a:pt x="896983" y="52252"/>
                </a:lnTo>
                <a:cubicBezTo>
                  <a:pt x="728001" y="115620"/>
                  <a:pt x="895117" y="50179"/>
                  <a:pt x="792480" y="95795"/>
                </a:cubicBezTo>
                <a:cubicBezTo>
                  <a:pt x="778195" y="102144"/>
                  <a:pt x="763574" y="107723"/>
                  <a:pt x="748937" y="113212"/>
                </a:cubicBezTo>
                <a:cubicBezTo>
                  <a:pt x="740342" y="116435"/>
                  <a:pt x="731022" y="117815"/>
                  <a:pt x="722812" y="121920"/>
                </a:cubicBezTo>
                <a:cubicBezTo>
                  <a:pt x="701879" y="132387"/>
                  <a:pt x="683696" y="148354"/>
                  <a:pt x="661852" y="156755"/>
                </a:cubicBezTo>
                <a:cubicBezTo>
                  <a:pt x="642877" y="164053"/>
                  <a:pt x="524646" y="173959"/>
                  <a:pt x="522514" y="174172"/>
                </a:cubicBezTo>
                <a:cubicBezTo>
                  <a:pt x="336286" y="230042"/>
                  <a:pt x="550167" y="173173"/>
                  <a:pt x="287383" y="209006"/>
                </a:cubicBezTo>
                <a:cubicBezTo>
                  <a:pt x="271894" y="211118"/>
                  <a:pt x="258531" y="221081"/>
                  <a:pt x="243840" y="226423"/>
                </a:cubicBezTo>
                <a:cubicBezTo>
                  <a:pt x="226586" y="232697"/>
                  <a:pt x="191589" y="243840"/>
                  <a:pt x="191589" y="243840"/>
                </a:cubicBezTo>
                <a:cubicBezTo>
                  <a:pt x="168746" y="266684"/>
                  <a:pt x="150145" y="284236"/>
                  <a:pt x="130629" y="313509"/>
                </a:cubicBezTo>
                <a:cubicBezTo>
                  <a:pt x="125537" y="321147"/>
                  <a:pt x="126195" y="331512"/>
                  <a:pt x="121920" y="339635"/>
                </a:cubicBezTo>
                <a:cubicBezTo>
                  <a:pt x="97101" y="386792"/>
                  <a:pt x="68362" y="431815"/>
                  <a:pt x="43543" y="478972"/>
                </a:cubicBezTo>
                <a:cubicBezTo>
                  <a:pt x="39268" y="487095"/>
                  <a:pt x="37472" y="496305"/>
                  <a:pt x="34834" y="505098"/>
                </a:cubicBezTo>
                <a:cubicBezTo>
                  <a:pt x="30852" y="518372"/>
                  <a:pt x="13071" y="579080"/>
                  <a:pt x="8709" y="600892"/>
                </a:cubicBezTo>
                <a:cubicBezTo>
                  <a:pt x="5246" y="618206"/>
                  <a:pt x="2903" y="635726"/>
                  <a:pt x="0" y="653143"/>
                </a:cubicBezTo>
                <a:cubicBezTo>
                  <a:pt x="2903" y="728617"/>
                  <a:pt x="937" y="804437"/>
                  <a:pt x="8709" y="879566"/>
                </a:cubicBezTo>
                <a:cubicBezTo>
                  <a:pt x="9786" y="889977"/>
                  <a:pt x="18346" y="898690"/>
                  <a:pt x="26126" y="905692"/>
                </a:cubicBezTo>
                <a:cubicBezTo>
                  <a:pt x="47703" y="925111"/>
                  <a:pt x="73754" y="939052"/>
                  <a:pt x="95794" y="957943"/>
                </a:cubicBezTo>
                <a:cubicBezTo>
                  <a:pt x="114496" y="973973"/>
                  <a:pt x="130629" y="992778"/>
                  <a:pt x="148046" y="1010195"/>
                </a:cubicBezTo>
                <a:cubicBezTo>
                  <a:pt x="159657" y="1021806"/>
                  <a:pt x="169743" y="1035176"/>
                  <a:pt x="182880" y="1045029"/>
                </a:cubicBezTo>
                <a:cubicBezTo>
                  <a:pt x="290292" y="1125590"/>
                  <a:pt x="109802" y="991758"/>
                  <a:pt x="287383" y="1114698"/>
                </a:cubicBezTo>
                <a:cubicBezTo>
                  <a:pt x="302665" y="1125278"/>
                  <a:pt x="314871" y="1140166"/>
                  <a:pt x="330926" y="1149532"/>
                </a:cubicBezTo>
                <a:cubicBezTo>
                  <a:pt x="350022" y="1160671"/>
                  <a:pt x="371252" y="1167722"/>
                  <a:pt x="391886" y="1175658"/>
                </a:cubicBezTo>
                <a:cubicBezTo>
                  <a:pt x="409021" y="1182249"/>
                  <a:pt x="428861" y="1182891"/>
                  <a:pt x="444137" y="1193075"/>
                </a:cubicBezTo>
                <a:cubicBezTo>
                  <a:pt x="452846" y="1198881"/>
                  <a:pt x="460901" y="1205811"/>
                  <a:pt x="470263" y="1210492"/>
                </a:cubicBezTo>
                <a:cubicBezTo>
                  <a:pt x="482752" y="1216736"/>
                  <a:pt x="520068" y="1225120"/>
                  <a:pt x="531223" y="1227909"/>
                </a:cubicBezTo>
                <a:cubicBezTo>
                  <a:pt x="539932" y="1233715"/>
                  <a:pt x="547988" y="1240645"/>
                  <a:pt x="557349" y="1245326"/>
                </a:cubicBezTo>
                <a:cubicBezTo>
                  <a:pt x="565559" y="1249431"/>
                  <a:pt x="574434" y="1252440"/>
                  <a:pt x="583474" y="1254035"/>
                </a:cubicBezTo>
                <a:cubicBezTo>
                  <a:pt x="623902" y="1261169"/>
                  <a:pt x="665139" y="1263401"/>
                  <a:pt x="705394" y="1271452"/>
                </a:cubicBezTo>
                <a:cubicBezTo>
                  <a:pt x="769065" y="1284185"/>
                  <a:pt x="734284" y="1278067"/>
                  <a:pt x="809897" y="1288869"/>
                </a:cubicBezTo>
                <a:cubicBezTo>
                  <a:pt x="1050834" y="1283063"/>
                  <a:pt x="1292028" y="1283988"/>
                  <a:pt x="1532709" y="1271452"/>
                </a:cubicBezTo>
                <a:cubicBezTo>
                  <a:pt x="1571385" y="1269438"/>
                  <a:pt x="1608348" y="1254719"/>
                  <a:pt x="1645920" y="1245326"/>
                </a:cubicBezTo>
                <a:cubicBezTo>
                  <a:pt x="1654826" y="1243100"/>
                  <a:pt x="1662959" y="1237916"/>
                  <a:pt x="1672046" y="1236618"/>
                </a:cubicBezTo>
                <a:cubicBezTo>
                  <a:pt x="1703787" y="1232084"/>
                  <a:pt x="1735997" y="1231655"/>
                  <a:pt x="1767840" y="1227909"/>
                </a:cubicBezTo>
                <a:cubicBezTo>
                  <a:pt x="1828886" y="1220727"/>
                  <a:pt x="1823049" y="1216078"/>
                  <a:pt x="1889760" y="1201783"/>
                </a:cubicBezTo>
                <a:cubicBezTo>
                  <a:pt x="1907026" y="1198083"/>
                  <a:pt x="1924595" y="1195978"/>
                  <a:pt x="1942012" y="1193075"/>
                </a:cubicBezTo>
                <a:cubicBezTo>
                  <a:pt x="1976846" y="1181463"/>
                  <a:pt x="2012422" y="1171877"/>
                  <a:pt x="2046514" y="1158240"/>
                </a:cubicBezTo>
                <a:cubicBezTo>
                  <a:pt x="2055952" y="1154465"/>
                  <a:pt x="2104155" y="1117021"/>
                  <a:pt x="2107474" y="1114698"/>
                </a:cubicBezTo>
                <a:cubicBezTo>
                  <a:pt x="2124623" y="1102694"/>
                  <a:pt x="2142692" y="1092030"/>
                  <a:pt x="2159726" y="1079863"/>
                </a:cubicBezTo>
                <a:cubicBezTo>
                  <a:pt x="2186288" y="1060890"/>
                  <a:pt x="2237534" y="1017221"/>
                  <a:pt x="2272937" y="1001486"/>
                </a:cubicBezTo>
                <a:cubicBezTo>
                  <a:pt x="2283874" y="996625"/>
                  <a:pt x="2296160" y="995681"/>
                  <a:pt x="2307772" y="992778"/>
                </a:cubicBezTo>
                <a:cubicBezTo>
                  <a:pt x="2319383" y="986972"/>
                  <a:pt x="2330451" y="979918"/>
                  <a:pt x="2342606" y="975360"/>
                </a:cubicBezTo>
                <a:cubicBezTo>
                  <a:pt x="2353813" y="971157"/>
                  <a:pt x="2366439" y="971367"/>
                  <a:pt x="2377440" y="966652"/>
                </a:cubicBezTo>
                <a:cubicBezTo>
                  <a:pt x="2387060" y="962529"/>
                  <a:pt x="2394857" y="955041"/>
                  <a:pt x="2403566" y="949235"/>
                </a:cubicBezTo>
                <a:cubicBezTo>
                  <a:pt x="2484846" y="952138"/>
                  <a:pt x="2566702" y="947855"/>
                  <a:pt x="2647406" y="957943"/>
                </a:cubicBezTo>
                <a:cubicBezTo>
                  <a:pt x="2661808" y="959743"/>
                  <a:pt x="2669703" y="976756"/>
                  <a:pt x="2682240" y="984069"/>
                </a:cubicBezTo>
                <a:cubicBezTo>
                  <a:pt x="2704667" y="997152"/>
                  <a:pt x="2728933" y="1006810"/>
                  <a:pt x="2751909" y="1018903"/>
                </a:cubicBezTo>
                <a:cubicBezTo>
                  <a:pt x="2784096" y="1035843"/>
                  <a:pt x="2815610" y="1054038"/>
                  <a:pt x="2847703" y="1071155"/>
                </a:cubicBezTo>
                <a:cubicBezTo>
                  <a:pt x="2859158" y="1077264"/>
                  <a:pt x="2869864" y="1085756"/>
                  <a:pt x="2882537" y="1088572"/>
                </a:cubicBezTo>
                <a:cubicBezTo>
                  <a:pt x="2989813" y="1112411"/>
                  <a:pt x="2934671" y="1100740"/>
                  <a:pt x="3048000" y="1123406"/>
                </a:cubicBezTo>
                <a:cubicBezTo>
                  <a:pt x="3092107" y="1121983"/>
                  <a:pt x="3331589" y="1126196"/>
                  <a:pt x="3422469" y="1097280"/>
                </a:cubicBezTo>
                <a:cubicBezTo>
                  <a:pt x="3453396" y="1087440"/>
                  <a:pt x="3481812" y="1070581"/>
                  <a:pt x="3509554" y="1053738"/>
                </a:cubicBezTo>
                <a:cubicBezTo>
                  <a:pt x="3638960" y="975171"/>
                  <a:pt x="3634750" y="975534"/>
                  <a:pt x="3718560" y="905692"/>
                </a:cubicBezTo>
                <a:cubicBezTo>
                  <a:pt x="3724366" y="894081"/>
                  <a:pt x="3731419" y="883013"/>
                  <a:pt x="3735977" y="870858"/>
                </a:cubicBezTo>
                <a:cubicBezTo>
                  <a:pt x="3748870" y="836477"/>
                  <a:pt x="3754391" y="799197"/>
                  <a:pt x="3770812" y="766355"/>
                </a:cubicBezTo>
                <a:lnTo>
                  <a:pt x="3796937" y="714103"/>
                </a:lnTo>
                <a:cubicBezTo>
                  <a:pt x="3799840" y="693783"/>
                  <a:pt x="3801030" y="673144"/>
                  <a:pt x="3805646" y="653143"/>
                </a:cubicBezTo>
                <a:cubicBezTo>
                  <a:pt x="3809774" y="635254"/>
                  <a:pt x="3823636" y="619242"/>
                  <a:pt x="3823063" y="600892"/>
                </a:cubicBezTo>
                <a:cubicBezTo>
                  <a:pt x="3820690" y="524954"/>
                  <a:pt x="3814201" y="448457"/>
                  <a:pt x="3796937" y="374469"/>
                </a:cubicBezTo>
                <a:cubicBezTo>
                  <a:pt x="3793206" y="358478"/>
                  <a:pt x="3773199" y="351740"/>
                  <a:pt x="3762103" y="339635"/>
                </a:cubicBezTo>
                <a:cubicBezTo>
                  <a:pt x="3741252" y="316888"/>
                  <a:pt x="3722963" y="291786"/>
                  <a:pt x="3701143" y="269966"/>
                </a:cubicBezTo>
                <a:cubicBezTo>
                  <a:pt x="3635817" y="204640"/>
                  <a:pt x="3529442" y="122745"/>
                  <a:pt x="3448594" y="95795"/>
                </a:cubicBezTo>
                <a:cubicBezTo>
                  <a:pt x="3422468" y="87086"/>
                  <a:pt x="3395920" y="79555"/>
                  <a:pt x="3370217" y="69669"/>
                </a:cubicBezTo>
                <a:cubicBezTo>
                  <a:pt x="3358100" y="65009"/>
                  <a:pt x="3348032" y="55171"/>
                  <a:pt x="3335383" y="52252"/>
                </a:cubicBezTo>
                <a:cubicBezTo>
                  <a:pt x="3309770" y="46341"/>
                  <a:pt x="3283132" y="46446"/>
                  <a:pt x="3257006" y="43543"/>
                </a:cubicBezTo>
                <a:cubicBezTo>
                  <a:pt x="3233783" y="34835"/>
                  <a:pt x="3211657" y="22282"/>
                  <a:pt x="3187337" y="17418"/>
                </a:cubicBezTo>
                <a:cubicBezTo>
                  <a:pt x="3153061" y="10563"/>
                  <a:pt x="3117741" y="10546"/>
                  <a:pt x="3082834" y="8709"/>
                </a:cubicBezTo>
                <a:cubicBezTo>
                  <a:pt x="3007409" y="4739"/>
                  <a:pt x="2931886" y="2903"/>
                  <a:pt x="2856412" y="0"/>
                </a:cubicBezTo>
                <a:lnTo>
                  <a:pt x="2638697" y="8709"/>
                </a:lnTo>
                <a:cubicBezTo>
                  <a:pt x="2603793" y="10596"/>
                  <a:pt x="2569054" y="14836"/>
                  <a:pt x="2534194" y="17418"/>
                </a:cubicBezTo>
                <a:lnTo>
                  <a:pt x="2403566" y="26126"/>
                </a:lnTo>
                <a:cubicBezTo>
                  <a:pt x="2093013" y="103764"/>
                  <a:pt x="2418554" y="26928"/>
                  <a:pt x="2151017" y="78378"/>
                </a:cubicBezTo>
                <a:cubicBezTo>
                  <a:pt x="2112985" y="85692"/>
                  <a:pt x="2075838" y="97189"/>
                  <a:pt x="2037806" y="104503"/>
                </a:cubicBezTo>
                <a:cubicBezTo>
                  <a:pt x="1942198" y="122889"/>
                  <a:pt x="1914898" y="122728"/>
                  <a:pt x="1820092" y="130629"/>
                </a:cubicBezTo>
                <a:cubicBezTo>
                  <a:pt x="1707832" y="154685"/>
                  <a:pt x="1668379" y="164687"/>
                  <a:pt x="1550126" y="182880"/>
                </a:cubicBezTo>
                <a:cubicBezTo>
                  <a:pt x="1524145" y="186877"/>
                  <a:pt x="1497771" y="187871"/>
                  <a:pt x="1471749" y="191589"/>
                </a:cubicBezTo>
                <a:cubicBezTo>
                  <a:pt x="1457096" y="193682"/>
                  <a:pt x="1442836" y="198047"/>
                  <a:pt x="1428206" y="200298"/>
                </a:cubicBezTo>
                <a:cubicBezTo>
                  <a:pt x="1408536" y="203324"/>
                  <a:pt x="1319990" y="212912"/>
                  <a:pt x="1297577" y="217715"/>
                </a:cubicBezTo>
                <a:cubicBezTo>
                  <a:pt x="1276913" y="222143"/>
                  <a:pt x="1256937" y="229326"/>
                  <a:pt x="1236617" y="235132"/>
                </a:cubicBezTo>
                <a:cubicBezTo>
                  <a:pt x="1161143" y="232229"/>
                  <a:pt x="1085349" y="233939"/>
                  <a:pt x="1010194" y="226423"/>
                </a:cubicBezTo>
                <a:cubicBezTo>
                  <a:pt x="997277" y="225131"/>
                  <a:pt x="986708" y="215311"/>
                  <a:pt x="975360" y="209006"/>
                </a:cubicBezTo>
                <a:cubicBezTo>
                  <a:pt x="943848" y="191499"/>
                  <a:pt x="932912" y="183610"/>
                  <a:pt x="905692" y="165463"/>
                </a:cubicBezTo>
                <a:cubicBezTo>
                  <a:pt x="902789" y="156755"/>
                  <a:pt x="901706" y="147209"/>
                  <a:pt x="896983" y="139338"/>
                </a:cubicBezTo>
                <a:cubicBezTo>
                  <a:pt x="892759" y="132297"/>
                  <a:pt x="881176" y="129971"/>
                  <a:pt x="879566" y="121920"/>
                </a:cubicBezTo>
                <a:cubicBezTo>
                  <a:pt x="875012" y="99148"/>
                  <a:pt x="894080" y="63863"/>
                  <a:pt x="896983" y="52252"/>
                </a:cubicBezTo>
                <a:close/>
              </a:path>
            </a:pathLst>
          </a:custGeom>
          <a:solidFill>
            <a:srgbClr val="92d050"/>
          </a:solidFill>
          <a:ln w="15840">
            <a:solidFill>
              <a:srgbClr val="2077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98480" y="28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СЛОЖЕНИЕ  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939600" y="2332080"/>
            <a:ext cx="85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1ЛАГАЕМОЕ +2 СЛАГАЕМОЕ = ЗНАЧ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СУММЫ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2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1395360"/>
            <a:ext cx="5699160" cy="1927440"/>
          </a:xfrm>
          <a:prstGeom prst="rect">
            <a:avLst/>
          </a:prstGeom>
          <a:ln w="0">
            <a:noFill/>
          </a:ln>
        </p:spPr>
      </p:pic>
      <p:pic>
        <p:nvPicPr>
          <p:cNvPr id="803" name="Рисунок 5" descr=""/>
          <p:cNvPicPr/>
          <p:nvPr/>
        </p:nvPicPr>
        <p:blipFill>
          <a:blip r:embed="rId2"/>
          <a:stretch/>
        </p:blipFill>
        <p:spPr>
          <a:xfrm>
            <a:off x="6324480" y="4906800"/>
            <a:ext cx="2568600" cy="1746360"/>
          </a:xfrm>
          <a:prstGeom prst="rect">
            <a:avLst/>
          </a:prstGeom>
          <a:ln w="0">
            <a:noFill/>
          </a:ln>
        </p:spPr>
      </p:pic>
      <p:pic>
        <p:nvPicPr>
          <p:cNvPr id="804" name="Прямоугольник 6" descr=""/>
          <p:cNvPicPr/>
          <p:nvPr/>
        </p:nvPicPr>
        <p:blipFill>
          <a:blip r:embed="rId3"/>
          <a:stretch/>
        </p:blipFill>
        <p:spPr>
          <a:xfrm>
            <a:off x="4979880" y="1341360"/>
            <a:ext cx="34513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Облако 3"/>
          <p:cNvSpPr/>
          <p:nvPr/>
        </p:nvSpPr>
        <p:spPr>
          <a:xfrm>
            <a:off x="826920" y="0"/>
            <a:ext cx="7345440" cy="11253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cfe6bc"/>
          </a:solidFill>
          <a:ln w="15840">
            <a:solidFill>
              <a:srgbClr val="2077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12360" y="-235080"/>
            <a:ext cx="77742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ТАБЛИЦА СЛОЖЕНИЯ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7" name="Рисунок 5" descr=""/>
          <p:cNvPicPr/>
          <p:nvPr/>
        </p:nvPicPr>
        <p:blipFill>
          <a:blip r:embed="rId1"/>
          <a:srcRect l="4258" t="11423" r="14796" b="36367"/>
          <a:stretch/>
        </p:blipFill>
        <p:spPr>
          <a:xfrm>
            <a:off x="4419720" y="1327320"/>
            <a:ext cx="4724280" cy="4189320"/>
          </a:xfrm>
          <a:prstGeom prst="rect">
            <a:avLst/>
          </a:prstGeom>
          <a:ln w="0">
            <a:noFill/>
          </a:ln>
        </p:spPr>
      </p:pic>
      <p:cxnSp>
        <p:nvCxnSpPr>
          <p:cNvPr id="808" name="Прямая со стрелкой 4"/>
          <p:cNvCxnSpPr/>
          <p:nvPr/>
        </p:nvCxnSpPr>
        <p:spPr>
          <a:xfrm>
            <a:off x="873000" y="1628280"/>
            <a:ext cx="136944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9" name="Прямоугольник 5"/>
          <p:cNvSpPr/>
          <p:nvPr/>
        </p:nvSpPr>
        <p:spPr>
          <a:xfrm>
            <a:off x="3444840" y="2362320"/>
            <a:ext cx="936720" cy="917280"/>
          </a:xfrm>
          <a:prstGeom prst="rect">
            <a:avLst/>
          </a:prstGeom>
          <a:solidFill>
            <a:srgbClr val="2fa3ee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Прямоугольник 6"/>
          <p:cNvSpPr/>
          <p:nvPr/>
        </p:nvSpPr>
        <p:spPr>
          <a:xfrm>
            <a:off x="344520" y="2367000"/>
            <a:ext cx="934920" cy="917640"/>
          </a:xfrm>
          <a:prstGeom prst="rect">
            <a:avLst/>
          </a:prstGeom>
          <a:solidFill>
            <a:srgbClr val="dabeed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Прямоугольник 7"/>
          <p:cNvSpPr/>
          <p:nvPr/>
        </p:nvSpPr>
        <p:spPr>
          <a:xfrm>
            <a:off x="1873080" y="2386080"/>
            <a:ext cx="936720" cy="917640"/>
          </a:xfrm>
          <a:prstGeom prst="rect">
            <a:avLst/>
          </a:prstGeom>
          <a:solidFill>
            <a:srgbClr val="ffff00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Прямоугольник 8"/>
          <p:cNvSpPr/>
          <p:nvPr/>
        </p:nvSpPr>
        <p:spPr>
          <a:xfrm>
            <a:off x="1297440" y="236232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Прямоугольник 9"/>
          <p:cNvSpPr/>
          <p:nvPr/>
        </p:nvSpPr>
        <p:spPr>
          <a:xfrm>
            <a:off x="2809440" y="235728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Полилиния 1"/>
          <p:cNvSpPr/>
          <p:nvPr/>
        </p:nvSpPr>
        <p:spPr>
          <a:xfrm>
            <a:off x="1768320" y="77760"/>
            <a:ext cx="4911840" cy="1149480"/>
          </a:xfrm>
          <a:custGeom>
            <a:avLst/>
            <a:gdLst/>
            <a:ahLst/>
            <a:rect l="l" t="t" r="r" b="b"/>
            <a:pathLst>
              <a:path w="4911634" h="1149532">
                <a:moveTo>
                  <a:pt x="740229" y="0"/>
                </a:moveTo>
                <a:lnTo>
                  <a:pt x="740229" y="0"/>
                </a:lnTo>
                <a:cubicBezTo>
                  <a:pt x="722812" y="17417"/>
                  <a:pt x="704455" y="33943"/>
                  <a:pt x="687977" y="52252"/>
                </a:cubicBezTo>
                <a:cubicBezTo>
                  <a:pt x="678267" y="63040"/>
                  <a:pt x="672699" y="77443"/>
                  <a:pt x="661851" y="87086"/>
                </a:cubicBezTo>
                <a:cubicBezTo>
                  <a:pt x="646206" y="100993"/>
                  <a:pt x="624402" y="107118"/>
                  <a:pt x="609600" y="121920"/>
                </a:cubicBezTo>
                <a:cubicBezTo>
                  <a:pt x="600891" y="130629"/>
                  <a:pt x="593721" y="141214"/>
                  <a:pt x="583474" y="148046"/>
                </a:cubicBezTo>
                <a:cubicBezTo>
                  <a:pt x="575980" y="153042"/>
                  <a:pt x="527156" y="164303"/>
                  <a:pt x="522514" y="165463"/>
                </a:cubicBezTo>
                <a:cubicBezTo>
                  <a:pt x="388106" y="255068"/>
                  <a:pt x="491187" y="199682"/>
                  <a:pt x="174171" y="209006"/>
                </a:cubicBezTo>
                <a:cubicBezTo>
                  <a:pt x="140669" y="220173"/>
                  <a:pt x="116375" y="225535"/>
                  <a:pt x="87086" y="243840"/>
                </a:cubicBezTo>
                <a:cubicBezTo>
                  <a:pt x="74778" y="251533"/>
                  <a:pt x="63863" y="261257"/>
                  <a:pt x="52251" y="269966"/>
                </a:cubicBezTo>
                <a:cubicBezTo>
                  <a:pt x="46445" y="278675"/>
                  <a:pt x="39515" y="286730"/>
                  <a:pt x="34834" y="296092"/>
                </a:cubicBezTo>
                <a:cubicBezTo>
                  <a:pt x="27519" y="310722"/>
                  <a:pt x="21601" y="343106"/>
                  <a:pt x="17417" y="357052"/>
                </a:cubicBezTo>
                <a:cubicBezTo>
                  <a:pt x="12142" y="374637"/>
                  <a:pt x="0" y="409303"/>
                  <a:pt x="0" y="409303"/>
                </a:cubicBezTo>
                <a:cubicBezTo>
                  <a:pt x="1375" y="428552"/>
                  <a:pt x="-2375" y="517765"/>
                  <a:pt x="17417" y="557349"/>
                </a:cubicBezTo>
                <a:cubicBezTo>
                  <a:pt x="22098" y="566710"/>
                  <a:pt x="29641" y="574387"/>
                  <a:pt x="34834" y="583474"/>
                </a:cubicBezTo>
                <a:cubicBezTo>
                  <a:pt x="41275" y="594746"/>
                  <a:pt x="47429" y="606255"/>
                  <a:pt x="52251" y="618309"/>
                </a:cubicBezTo>
                <a:cubicBezTo>
                  <a:pt x="59070" y="635355"/>
                  <a:pt x="69669" y="670560"/>
                  <a:pt x="69669" y="670560"/>
                </a:cubicBezTo>
                <a:cubicBezTo>
                  <a:pt x="58817" y="789921"/>
                  <a:pt x="49978" y="824657"/>
                  <a:pt x="78377" y="966652"/>
                </a:cubicBezTo>
                <a:cubicBezTo>
                  <a:pt x="80430" y="976915"/>
                  <a:pt x="95794" y="978263"/>
                  <a:pt x="104503" y="984069"/>
                </a:cubicBezTo>
                <a:cubicBezTo>
                  <a:pt x="110309" y="992777"/>
                  <a:pt x="113747" y="1003656"/>
                  <a:pt x="121920" y="1010194"/>
                </a:cubicBezTo>
                <a:cubicBezTo>
                  <a:pt x="129088" y="1015929"/>
                  <a:pt x="139835" y="1014798"/>
                  <a:pt x="148046" y="1018903"/>
                </a:cubicBezTo>
                <a:cubicBezTo>
                  <a:pt x="208186" y="1048974"/>
                  <a:pt x="136507" y="1026904"/>
                  <a:pt x="209006" y="1045029"/>
                </a:cubicBezTo>
                <a:cubicBezTo>
                  <a:pt x="217714" y="1050835"/>
                  <a:pt x="225331" y="1058771"/>
                  <a:pt x="235131" y="1062446"/>
                </a:cubicBezTo>
                <a:cubicBezTo>
                  <a:pt x="248990" y="1067643"/>
                  <a:pt x="264314" y="1067564"/>
                  <a:pt x="278674" y="1071154"/>
                </a:cubicBezTo>
                <a:cubicBezTo>
                  <a:pt x="287580" y="1073380"/>
                  <a:pt x="295973" y="1077341"/>
                  <a:pt x="304800" y="1079863"/>
                </a:cubicBezTo>
                <a:cubicBezTo>
                  <a:pt x="316308" y="1083151"/>
                  <a:pt x="328427" y="1084369"/>
                  <a:pt x="339634" y="1088572"/>
                </a:cubicBezTo>
                <a:cubicBezTo>
                  <a:pt x="420634" y="1118947"/>
                  <a:pt x="320355" y="1096971"/>
                  <a:pt x="426720" y="1114697"/>
                </a:cubicBezTo>
                <a:cubicBezTo>
                  <a:pt x="455749" y="1111794"/>
                  <a:pt x="486389" y="1115959"/>
                  <a:pt x="513806" y="1105989"/>
                </a:cubicBezTo>
                <a:cubicBezTo>
                  <a:pt x="522433" y="1102852"/>
                  <a:pt x="518409" y="1088074"/>
                  <a:pt x="522514" y="1079863"/>
                </a:cubicBezTo>
                <a:cubicBezTo>
                  <a:pt x="527195" y="1070501"/>
                  <a:pt x="532977" y="1061560"/>
                  <a:pt x="539931" y="1053737"/>
                </a:cubicBezTo>
                <a:cubicBezTo>
                  <a:pt x="556295" y="1035327"/>
                  <a:pt x="574766" y="1018903"/>
                  <a:pt x="592183" y="1001486"/>
                </a:cubicBezTo>
                <a:cubicBezTo>
                  <a:pt x="600892" y="992777"/>
                  <a:pt x="611477" y="985608"/>
                  <a:pt x="618309" y="975360"/>
                </a:cubicBezTo>
                <a:cubicBezTo>
                  <a:pt x="624115" y="966651"/>
                  <a:pt x="628325" y="956635"/>
                  <a:pt x="635726" y="949234"/>
                </a:cubicBezTo>
                <a:cubicBezTo>
                  <a:pt x="652608" y="932351"/>
                  <a:pt x="666728" y="930192"/>
                  <a:pt x="687977" y="923109"/>
                </a:cubicBezTo>
                <a:cubicBezTo>
                  <a:pt x="696686" y="917303"/>
                  <a:pt x="704742" y="910373"/>
                  <a:pt x="714103" y="905692"/>
                </a:cubicBezTo>
                <a:cubicBezTo>
                  <a:pt x="752961" y="886263"/>
                  <a:pt x="778586" y="900819"/>
                  <a:pt x="827314" y="905692"/>
                </a:cubicBezTo>
                <a:lnTo>
                  <a:pt x="905691" y="931817"/>
                </a:lnTo>
                <a:cubicBezTo>
                  <a:pt x="914400" y="934720"/>
                  <a:pt x="922911" y="938300"/>
                  <a:pt x="931817" y="940526"/>
                </a:cubicBezTo>
                <a:lnTo>
                  <a:pt x="966651" y="949234"/>
                </a:lnTo>
                <a:cubicBezTo>
                  <a:pt x="987283" y="969866"/>
                  <a:pt x="1006779" y="991639"/>
                  <a:pt x="1036320" y="1001486"/>
                </a:cubicBezTo>
                <a:lnTo>
                  <a:pt x="1088571" y="1018903"/>
                </a:lnTo>
                <a:cubicBezTo>
                  <a:pt x="1097280" y="1021806"/>
                  <a:pt x="1105695" y="1025812"/>
                  <a:pt x="1114697" y="1027612"/>
                </a:cubicBezTo>
                <a:lnTo>
                  <a:pt x="1158240" y="1036320"/>
                </a:lnTo>
                <a:cubicBezTo>
                  <a:pt x="1251131" y="1033417"/>
                  <a:pt x="1344106" y="1032497"/>
                  <a:pt x="1436914" y="1027612"/>
                </a:cubicBezTo>
                <a:cubicBezTo>
                  <a:pt x="1455948" y="1026610"/>
                  <a:pt x="1502554" y="1016628"/>
                  <a:pt x="1524000" y="1010194"/>
                </a:cubicBezTo>
                <a:cubicBezTo>
                  <a:pt x="1541585" y="1004918"/>
                  <a:pt x="1576251" y="992777"/>
                  <a:pt x="1576251" y="992777"/>
                </a:cubicBezTo>
                <a:cubicBezTo>
                  <a:pt x="1674948" y="995680"/>
                  <a:pt x="1773747" y="996157"/>
                  <a:pt x="1872343" y="1001486"/>
                </a:cubicBezTo>
                <a:cubicBezTo>
                  <a:pt x="1881509" y="1001981"/>
                  <a:pt x="1889289" y="1010194"/>
                  <a:pt x="1898469" y="1010194"/>
                </a:cubicBezTo>
                <a:cubicBezTo>
                  <a:pt x="1991406" y="1010194"/>
                  <a:pt x="2084252" y="1004389"/>
                  <a:pt x="2177143" y="1001486"/>
                </a:cubicBezTo>
                <a:lnTo>
                  <a:pt x="2229394" y="984069"/>
                </a:lnTo>
                <a:lnTo>
                  <a:pt x="2255520" y="975360"/>
                </a:lnTo>
                <a:cubicBezTo>
                  <a:pt x="2313577" y="978263"/>
                  <a:pt x="2371945" y="977406"/>
                  <a:pt x="2429691" y="984069"/>
                </a:cubicBezTo>
                <a:cubicBezTo>
                  <a:pt x="2457671" y="987298"/>
                  <a:pt x="2491392" y="1006211"/>
                  <a:pt x="2516777" y="1018903"/>
                </a:cubicBezTo>
                <a:cubicBezTo>
                  <a:pt x="2557417" y="1013097"/>
                  <a:pt x="2599313" y="1013070"/>
                  <a:pt x="2638697" y="1001486"/>
                </a:cubicBezTo>
                <a:cubicBezTo>
                  <a:pt x="2650512" y="998011"/>
                  <a:pt x="2653139" y="979255"/>
                  <a:pt x="2664823" y="975360"/>
                </a:cubicBezTo>
                <a:cubicBezTo>
                  <a:pt x="2689761" y="967048"/>
                  <a:pt x="2717074" y="969555"/>
                  <a:pt x="2743200" y="966652"/>
                </a:cubicBezTo>
                <a:cubicBezTo>
                  <a:pt x="2769326" y="960846"/>
                  <a:pt x="2795613" y="955725"/>
                  <a:pt x="2821577" y="949234"/>
                </a:cubicBezTo>
                <a:cubicBezTo>
                  <a:pt x="2842079" y="944108"/>
                  <a:pt x="2861632" y="934914"/>
                  <a:pt x="2882537" y="931817"/>
                </a:cubicBezTo>
                <a:cubicBezTo>
                  <a:pt x="2940254" y="923266"/>
                  <a:pt x="3056709" y="914400"/>
                  <a:pt x="3056709" y="914400"/>
                </a:cubicBezTo>
                <a:cubicBezTo>
                  <a:pt x="3143795" y="917303"/>
                  <a:pt x="3231395" y="913215"/>
                  <a:pt x="3317966" y="923109"/>
                </a:cubicBezTo>
                <a:cubicBezTo>
                  <a:pt x="3386007" y="930885"/>
                  <a:pt x="3347140" y="945689"/>
                  <a:pt x="3370217" y="975360"/>
                </a:cubicBezTo>
                <a:cubicBezTo>
                  <a:pt x="3385339" y="994803"/>
                  <a:pt x="3405052" y="1010195"/>
                  <a:pt x="3422469" y="1027612"/>
                </a:cubicBezTo>
                <a:cubicBezTo>
                  <a:pt x="3436983" y="1042126"/>
                  <a:pt x="3445764" y="1067779"/>
                  <a:pt x="3466011" y="1071154"/>
                </a:cubicBezTo>
                <a:cubicBezTo>
                  <a:pt x="3532863" y="1082296"/>
                  <a:pt x="3500948" y="1076400"/>
                  <a:pt x="3561806" y="1088572"/>
                </a:cubicBezTo>
                <a:cubicBezTo>
                  <a:pt x="3573417" y="1094378"/>
                  <a:pt x="3584485" y="1101431"/>
                  <a:pt x="3596640" y="1105989"/>
                </a:cubicBezTo>
                <a:cubicBezTo>
                  <a:pt x="3607847" y="1110191"/>
                  <a:pt x="3620769" y="1109345"/>
                  <a:pt x="3631474" y="1114697"/>
                </a:cubicBezTo>
                <a:cubicBezTo>
                  <a:pt x="3720298" y="1159108"/>
                  <a:pt x="3615604" y="1128146"/>
                  <a:pt x="3701143" y="1149532"/>
                </a:cubicBezTo>
                <a:lnTo>
                  <a:pt x="3979817" y="1132114"/>
                </a:lnTo>
                <a:cubicBezTo>
                  <a:pt x="3998238" y="1130660"/>
                  <a:pt x="4055352" y="1118749"/>
                  <a:pt x="4075611" y="1114697"/>
                </a:cubicBezTo>
                <a:cubicBezTo>
                  <a:pt x="4087223" y="1105989"/>
                  <a:pt x="4099523" y="1098130"/>
                  <a:pt x="4110446" y="1088572"/>
                </a:cubicBezTo>
                <a:cubicBezTo>
                  <a:pt x="4122804" y="1077759"/>
                  <a:pt x="4131355" y="1062440"/>
                  <a:pt x="4145280" y="1053737"/>
                </a:cubicBezTo>
                <a:cubicBezTo>
                  <a:pt x="4155429" y="1047394"/>
                  <a:pt x="4168503" y="1047932"/>
                  <a:pt x="4180114" y="1045029"/>
                </a:cubicBezTo>
                <a:cubicBezTo>
                  <a:pt x="4191726" y="1039223"/>
                  <a:pt x="4204976" y="1035923"/>
                  <a:pt x="4214949" y="1027612"/>
                </a:cubicBezTo>
                <a:cubicBezTo>
                  <a:pt x="4222990" y="1020912"/>
                  <a:pt x="4223279" y="1006679"/>
                  <a:pt x="4232366" y="1001486"/>
                </a:cubicBezTo>
                <a:cubicBezTo>
                  <a:pt x="4245217" y="994142"/>
                  <a:pt x="4261237" y="994733"/>
                  <a:pt x="4275909" y="992777"/>
                </a:cubicBezTo>
                <a:cubicBezTo>
                  <a:pt x="4341149" y="984078"/>
                  <a:pt x="4431519" y="979500"/>
                  <a:pt x="4493623" y="975360"/>
                </a:cubicBezTo>
                <a:cubicBezTo>
                  <a:pt x="4543728" y="962834"/>
                  <a:pt x="4539030" y="959714"/>
                  <a:pt x="4606834" y="975360"/>
                </a:cubicBezTo>
                <a:cubicBezTo>
                  <a:pt x="4619484" y="978279"/>
                  <a:pt x="4630057" y="986971"/>
                  <a:pt x="4641669" y="992777"/>
                </a:cubicBezTo>
                <a:cubicBezTo>
                  <a:pt x="4711337" y="984069"/>
                  <a:pt x="4781222" y="976941"/>
                  <a:pt x="4850674" y="966652"/>
                </a:cubicBezTo>
                <a:cubicBezTo>
                  <a:pt x="4859755" y="965307"/>
                  <a:pt x="4869632" y="963678"/>
                  <a:pt x="4876800" y="957943"/>
                </a:cubicBezTo>
                <a:cubicBezTo>
                  <a:pt x="4887057" y="949737"/>
                  <a:pt x="4907349" y="905554"/>
                  <a:pt x="4911634" y="896983"/>
                </a:cubicBezTo>
                <a:cubicBezTo>
                  <a:pt x="4902926" y="760549"/>
                  <a:pt x="4898848" y="623740"/>
                  <a:pt x="4885509" y="487680"/>
                </a:cubicBezTo>
                <a:cubicBezTo>
                  <a:pt x="4884242" y="474760"/>
                  <a:pt x="4872912" y="464899"/>
                  <a:pt x="4868091" y="452846"/>
                </a:cubicBezTo>
                <a:cubicBezTo>
                  <a:pt x="4852563" y="414028"/>
                  <a:pt x="4856568" y="393776"/>
                  <a:pt x="4824549" y="365760"/>
                </a:cubicBezTo>
                <a:cubicBezTo>
                  <a:pt x="4811811" y="354614"/>
                  <a:pt x="4795802" y="347854"/>
                  <a:pt x="4781006" y="339634"/>
                </a:cubicBezTo>
                <a:cubicBezTo>
                  <a:pt x="4758249" y="326991"/>
                  <a:pt x="4726845" y="312872"/>
                  <a:pt x="4702629" y="304800"/>
                </a:cubicBezTo>
                <a:cubicBezTo>
                  <a:pt x="4691274" y="301015"/>
                  <a:pt x="4679406" y="298995"/>
                  <a:pt x="4667794" y="296092"/>
                </a:cubicBezTo>
                <a:cubicBezTo>
                  <a:pt x="4656183" y="287383"/>
                  <a:pt x="4645562" y="277167"/>
                  <a:pt x="4632960" y="269966"/>
                </a:cubicBezTo>
                <a:cubicBezTo>
                  <a:pt x="4624990" y="265411"/>
                  <a:pt x="4614472" y="266349"/>
                  <a:pt x="4606834" y="261257"/>
                </a:cubicBezTo>
                <a:cubicBezTo>
                  <a:pt x="4596587" y="254426"/>
                  <a:pt x="4590730" y="242290"/>
                  <a:pt x="4580709" y="235132"/>
                </a:cubicBezTo>
                <a:cubicBezTo>
                  <a:pt x="4570145" y="227586"/>
                  <a:pt x="4557486" y="223520"/>
                  <a:pt x="4545874" y="217714"/>
                </a:cubicBezTo>
                <a:cubicBezTo>
                  <a:pt x="4483498" y="238508"/>
                  <a:pt x="4554854" y="208780"/>
                  <a:pt x="4502331" y="252549"/>
                </a:cubicBezTo>
                <a:cubicBezTo>
                  <a:pt x="4492358" y="260860"/>
                  <a:pt x="4478061" y="262420"/>
                  <a:pt x="4467497" y="269966"/>
                </a:cubicBezTo>
                <a:cubicBezTo>
                  <a:pt x="4451751" y="281213"/>
                  <a:pt x="4436508" y="308194"/>
                  <a:pt x="4415246" y="313509"/>
                </a:cubicBezTo>
                <a:cubicBezTo>
                  <a:pt x="4389744" y="319884"/>
                  <a:pt x="4362995" y="319314"/>
                  <a:pt x="4336869" y="322217"/>
                </a:cubicBezTo>
                <a:cubicBezTo>
                  <a:pt x="4328160" y="325120"/>
                  <a:pt x="4319923" y="330926"/>
                  <a:pt x="4310743" y="330926"/>
                </a:cubicBezTo>
                <a:cubicBezTo>
                  <a:pt x="4220708" y="330926"/>
                  <a:pt x="4130464" y="330131"/>
                  <a:pt x="4040777" y="322217"/>
                </a:cubicBezTo>
                <a:cubicBezTo>
                  <a:pt x="4030351" y="321297"/>
                  <a:pt x="4022598" y="311611"/>
                  <a:pt x="4014651" y="304800"/>
                </a:cubicBezTo>
                <a:cubicBezTo>
                  <a:pt x="3868993" y="179951"/>
                  <a:pt x="4054846" y="336286"/>
                  <a:pt x="3962400" y="243840"/>
                </a:cubicBezTo>
                <a:cubicBezTo>
                  <a:pt x="3954999" y="236439"/>
                  <a:pt x="3944315" y="233124"/>
                  <a:pt x="3936274" y="226423"/>
                </a:cubicBezTo>
                <a:cubicBezTo>
                  <a:pt x="3892785" y="190182"/>
                  <a:pt x="3929937" y="206893"/>
                  <a:pt x="3884023" y="191589"/>
                </a:cubicBezTo>
                <a:cubicBezTo>
                  <a:pt x="3852092" y="194492"/>
                  <a:pt x="3819970" y="195763"/>
                  <a:pt x="3788229" y="200297"/>
                </a:cubicBezTo>
                <a:cubicBezTo>
                  <a:pt x="3757586" y="204675"/>
                  <a:pt x="3763570" y="212626"/>
                  <a:pt x="3735977" y="226423"/>
                </a:cubicBezTo>
                <a:cubicBezTo>
                  <a:pt x="3663872" y="262475"/>
                  <a:pt x="3758590" y="202639"/>
                  <a:pt x="3683726" y="252549"/>
                </a:cubicBezTo>
                <a:cubicBezTo>
                  <a:pt x="3655766" y="249054"/>
                  <a:pt x="3609359" y="246090"/>
                  <a:pt x="3579223" y="235132"/>
                </a:cubicBezTo>
                <a:cubicBezTo>
                  <a:pt x="3558446" y="227577"/>
                  <a:pt x="3538583" y="217715"/>
                  <a:pt x="3518263" y="209006"/>
                </a:cubicBezTo>
                <a:cubicBezTo>
                  <a:pt x="3483513" y="174256"/>
                  <a:pt x="3475200" y="158903"/>
                  <a:pt x="3431177" y="139337"/>
                </a:cubicBezTo>
                <a:cubicBezTo>
                  <a:pt x="3420240" y="134476"/>
                  <a:pt x="3407954" y="133532"/>
                  <a:pt x="3396343" y="130629"/>
                </a:cubicBezTo>
                <a:cubicBezTo>
                  <a:pt x="3387634" y="124823"/>
                  <a:pt x="3379781" y="117463"/>
                  <a:pt x="3370217" y="113212"/>
                </a:cubicBezTo>
                <a:cubicBezTo>
                  <a:pt x="3353440" y="105755"/>
                  <a:pt x="3317966" y="95794"/>
                  <a:pt x="3317966" y="95794"/>
                </a:cubicBezTo>
                <a:cubicBezTo>
                  <a:pt x="3245394" y="107406"/>
                  <a:pt x="3169974" y="107388"/>
                  <a:pt x="3100251" y="130629"/>
                </a:cubicBezTo>
                <a:cubicBezTo>
                  <a:pt x="3031249" y="153630"/>
                  <a:pt x="3066109" y="145028"/>
                  <a:pt x="2995749" y="156754"/>
                </a:cubicBezTo>
                <a:cubicBezTo>
                  <a:pt x="2978332" y="162560"/>
                  <a:pt x="2961400" y="170103"/>
                  <a:pt x="2943497" y="174172"/>
                </a:cubicBezTo>
                <a:cubicBezTo>
                  <a:pt x="2897417" y="184645"/>
                  <a:pt x="2804160" y="200297"/>
                  <a:pt x="2804160" y="200297"/>
                </a:cubicBezTo>
                <a:cubicBezTo>
                  <a:pt x="2795451" y="206103"/>
                  <a:pt x="2786075" y="211013"/>
                  <a:pt x="2778034" y="217714"/>
                </a:cubicBezTo>
                <a:cubicBezTo>
                  <a:pt x="2768573" y="225598"/>
                  <a:pt x="2762156" y="237008"/>
                  <a:pt x="2751909" y="243840"/>
                </a:cubicBezTo>
                <a:cubicBezTo>
                  <a:pt x="2744271" y="248932"/>
                  <a:pt x="2734221" y="248933"/>
                  <a:pt x="2725783" y="252549"/>
                </a:cubicBezTo>
                <a:cubicBezTo>
                  <a:pt x="2713851" y="257663"/>
                  <a:pt x="2702881" y="264852"/>
                  <a:pt x="2690949" y="269966"/>
                </a:cubicBezTo>
                <a:cubicBezTo>
                  <a:pt x="2652744" y="286339"/>
                  <a:pt x="2624386" y="282718"/>
                  <a:pt x="2577737" y="287383"/>
                </a:cubicBezTo>
                <a:cubicBezTo>
                  <a:pt x="2458720" y="284480"/>
                  <a:pt x="2339401" y="287634"/>
                  <a:pt x="2220686" y="278674"/>
                </a:cubicBezTo>
                <a:cubicBezTo>
                  <a:pt x="2184881" y="275972"/>
                  <a:pt x="2151017" y="261258"/>
                  <a:pt x="2116183" y="252549"/>
                </a:cubicBezTo>
                <a:cubicBezTo>
                  <a:pt x="2088749" y="245690"/>
                  <a:pt x="2080198" y="244498"/>
                  <a:pt x="2055223" y="235132"/>
                </a:cubicBezTo>
                <a:cubicBezTo>
                  <a:pt x="2025748" y="224079"/>
                  <a:pt x="2013245" y="216918"/>
                  <a:pt x="1985554" y="209006"/>
                </a:cubicBezTo>
                <a:cubicBezTo>
                  <a:pt x="1974046" y="205718"/>
                  <a:pt x="1962228" y="203585"/>
                  <a:pt x="1950720" y="200297"/>
                </a:cubicBezTo>
                <a:cubicBezTo>
                  <a:pt x="1941894" y="197775"/>
                  <a:pt x="1933420" y="194111"/>
                  <a:pt x="1924594" y="191589"/>
                </a:cubicBezTo>
                <a:cubicBezTo>
                  <a:pt x="1913086" y="188301"/>
                  <a:pt x="1901307" y="186029"/>
                  <a:pt x="1889760" y="182880"/>
                </a:cubicBezTo>
                <a:cubicBezTo>
                  <a:pt x="1869372" y="177319"/>
                  <a:pt x="1849646" y="168937"/>
                  <a:pt x="1828800" y="165463"/>
                </a:cubicBezTo>
                <a:cubicBezTo>
                  <a:pt x="1797173" y="160192"/>
                  <a:pt x="1764893" y="160110"/>
                  <a:pt x="1733006" y="156754"/>
                </a:cubicBezTo>
                <a:cubicBezTo>
                  <a:pt x="1714980" y="154857"/>
                  <a:pt x="1623348" y="143150"/>
                  <a:pt x="1602377" y="139337"/>
                </a:cubicBezTo>
                <a:cubicBezTo>
                  <a:pt x="1590601" y="137196"/>
                  <a:pt x="1579154" y="133532"/>
                  <a:pt x="1567543" y="130629"/>
                </a:cubicBezTo>
                <a:cubicBezTo>
                  <a:pt x="1486301" y="136432"/>
                  <a:pt x="1466392" y="117675"/>
                  <a:pt x="1419497" y="156754"/>
                </a:cubicBezTo>
                <a:cubicBezTo>
                  <a:pt x="1410036" y="164638"/>
                  <a:pt x="1403093" y="175319"/>
                  <a:pt x="1393371" y="182880"/>
                </a:cubicBezTo>
                <a:cubicBezTo>
                  <a:pt x="1376848" y="195731"/>
                  <a:pt x="1341120" y="217714"/>
                  <a:pt x="1341120" y="217714"/>
                </a:cubicBezTo>
                <a:cubicBezTo>
                  <a:pt x="1335314" y="226423"/>
                  <a:pt x="1332412" y="238034"/>
                  <a:pt x="1323703" y="243840"/>
                </a:cubicBezTo>
                <a:cubicBezTo>
                  <a:pt x="1315040" y="249615"/>
                  <a:pt x="1236792" y="261228"/>
                  <a:pt x="1236617" y="261257"/>
                </a:cubicBezTo>
                <a:cubicBezTo>
                  <a:pt x="1149323" y="296174"/>
                  <a:pt x="1158277" y="299582"/>
                  <a:pt x="1010194" y="269966"/>
                </a:cubicBezTo>
                <a:cubicBezTo>
                  <a:pt x="994092" y="266746"/>
                  <a:pt x="987828" y="245819"/>
                  <a:pt x="975360" y="235132"/>
                </a:cubicBezTo>
                <a:cubicBezTo>
                  <a:pt x="967413" y="228320"/>
                  <a:pt x="957943" y="223520"/>
                  <a:pt x="949234" y="217714"/>
                </a:cubicBezTo>
                <a:cubicBezTo>
                  <a:pt x="943428" y="209006"/>
                  <a:pt x="937010" y="200676"/>
                  <a:pt x="931817" y="191589"/>
                </a:cubicBezTo>
                <a:cubicBezTo>
                  <a:pt x="925376" y="180317"/>
                  <a:pt x="921946" y="167318"/>
                  <a:pt x="914400" y="156754"/>
                </a:cubicBezTo>
                <a:cubicBezTo>
                  <a:pt x="907242" y="146732"/>
                  <a:pt x="895835" y="140350"/>
                  <a:pt x="888274" y="130629"/>
                </a:cubicBezTo>
                <a:cubicBezTo>
                  <a:pt x="875422" y="114106"/>
                  <a:pt x="870857" y="89988"/>
                  <a:pt x="853440" y="78377"/>
                </a:cubicBezTo>
                <a:cubicBezTo>
                  <a:pt x="836023" y="66766"/>
                  <a:pt x="821047" y="50163"/>
                  <a:pt x="801189" y="43543"/>
                </a:cubicBezTo>
                <a:cubicBezTo>
                  <a:pt x="768905" y="32781"/>
                  <a:pt x="750389" y="7257"/>
                  <a:pt x="740229" y="0"/>
                </a:cubicBezTo>
                <a:close/>
              </a:path>
            </a:pathLst>
          </a:custGeom>
          <a:solidFill>
            <a:srgbClr val="ffc000"/>
          </a:solidFill>
          <a:ln w="15840">
            <a:solidFill>
              <a:srgbClr val="2077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4"/>
          <p:cNvSpPr/>
          <p:nvPr/>
        </p:nvSpPr>
        <p:spPr>
          <a:xfrm>
            <a:off x="3526560" y="868320"/>
            <a:ext cx="17352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0" spc="-1" strike="noStrike">
                <a:solidFill>
                  <a:srgbClr val="4bcaad"/>
                </a:solidFill>
                <a:latin typeface="Arial"/>
              </a:rPr>
              <a:t>10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6"/>
          <p:cNvSpPr/>
          <p:nvPr/>
        </p:nvSpPr>
        <p:spPr>
          <a:xfrm flipV="1">
            <a:off x="3228840" y="2502000"/>
            <a:ext cx="719280" cy="576000"/>
          </a:xfrm>
          <a:prstGeom prst="line">
            <a:avLst/>
          </a:prstGeom>
          <a:ln w="57240">
            <a:solidFill>
              <a:srgbClr val="4bca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7"/>
          <p:cNvSpPr/>
          <p:nvPr/>
        </p:nvSpPr>
        <p:spPr>
          <a:xfrm>
            <a:off x="5027760" y="2502000"/>
            <a:ext cx="720720" cy="576000"/>
          </a:xfrm>
          <a:prstGeom prst="line">
            <a:avLst/>
          </a:prstGeom>
          <a:ln w="57240">
            <a:solidFill>
              <a:srgbClr val="4bca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24"/>
          <p:cNvSpPr/>
          <p:nvPr/>
        </p:nvSpPr>
        <p:spPr>
          <a:xfrm>
            <a:off x="2411280" y="260280"/>
            <a:ext cx="70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 чис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Рисунок 26" descr=""/>
          <p:cNvPicPr/>
          <p:nvPr/>
        </p:nvPicPr>
        <p:blipFill>
          <a:blip r:embed="rId1"/>
          <a:stretch/>
        </p:blipFill>
        <p:spPr>
          <a:xfrm>
            <a:off x="6324480" y="4906800"/>
            <a:ext cx="2568600" cy="174636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10"/>
          <p:cNvSpPr/>
          <p:nvPr/>
        </p:nvSpPr>
        <p:spPr>
          <a:xfrm>
            <a:off x="5443560" y="3078000"/>
            <a:ext cx="8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7:14:38Z</dcterms:created>
  <dc:creator>User</dc:creator>
  <dc:description/>
  <dc:language>en-US</dc:language>
  <cp:lastModifiedBy>Учитель</cp:lastModifiedBy>
  <dcterms:modified xsi:type="dcterms:W3CDTF">2016-02-05T05:45:41Z</dcterms:modified>
  <cp:revision>33</cp:revision>
  <dc:subject/>
  <dc:title>Слайд 1</dc:title>
</cp:coreProperties>
</file>