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034D-4B85-4D11-80A9-9944CF749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DDF1-2A1E-4085-84B3-8EC64727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FBFCA0-C431-4A1C-87B5-2AD1DB64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BFD091-F17A-4B36-915D-94FB5B19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933B11-21FC-457F-A8AF-4F8E4DBE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579692-04C4-4EAD-90FF-F5CFDE54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A53C15-534E-4E47-AE41-83E2C56B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C74270-8547-4FCA-A0F4-D883E0E1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71CA01-4C3F-4DC8-B292-C07C43F4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F599BD-D2FA-449B-AFB0-9AAE34C95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75A591-DA77-4A3B-8826-410DE274B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21F066-0BB3-48F7-A437-DF55470FE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230C-3AC7-45BB-8958-C3B3C4552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A4B0B6-87DC-4387-9074-D64A5F0B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F1E3AA-A441-473A-973B-970A39BD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32ECBF-58D7-4800-8459-E91041A3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1C36B2-0927-4CB5-A1FF-A66C286B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7914B7-EECC-4BD5-8AE7-A962DA64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4CDE56-0C09-4E1D-9FFC-04EED328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FB3EF9-BB41-40EF-B57C-3D0FDF19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17F107-500A-485C-86B7-A4653A35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6E4745-B06B-4934-BB38-1FD9ED11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6C0CBA-5A9F-4ACD-89FE-A008F530C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524D-6746-4651-BE71-ABF17FC74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49DD10-E0DB-4011-B34C-DFAAD651F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06AD3-3EAB-4B8E-8CAC-F8AC51387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35E81-E9D5-4580-8D7B-6671FD39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03687-5B13-471D-A7C9-209D8E3C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3B596-1C6F-4727-9D80-DC627D82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22723-219C-4B05-B1A1-06432287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F0A873-6290-41B3-A99A-317DE9B3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29167-E8BC-4D9D-8FB9-01740513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E60864-4F91-45C1-8A68-BADC6A3A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1C4F38-F337-4F9A-8066-48BB5CC0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08664-AC8B-443E-BACF-BACFB1678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8C4BEA-1E3F-4150-A7A8-816968D0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FA0E5-CBF0-4982-98AA-1FAFB9F2E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28A91-D345-4765-9D1C-600BA414B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CE0609-38EC-43A6-8A8A-80C87DEFB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FDA0DF-6199-4549-A544-7DAB10FB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2BF8F2-AB61-4387-B86A-1E1ACA0D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531A56-BF92-437B-9608-482D6EA1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87B0C4-5124-4F16-BB0B-8D6CAA91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E3C41A-45FC-4023-A535-A71C96A0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1D4AE6-D48F-456D-8C61-1D027E79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05D5-A71B-4348-81ED-07C7075B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FD8549-8180-401F-9877-A858DBC7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1F1E01-D2C1-417A-9280-E84873B0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F3C192-D27C-4E07-A14F-C87FFEB5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D4EB2E-A7F3-4FE3-838C-FB82E0B99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8B6DE0-73A8-4C16-A2E2-DE857EDA0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A9E959-0B6F-484D-BF74-732B04B26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CC9680-7BCB-4B7B-9C1C-54494B36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4161C6-FD3E-4F5B-8D07-2BB67E93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900DF1-94FE-4CF1-BC3B-5888EFF0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D1E7C5-C977-4384-BDE6-98B9E38F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D4A9F-FC36-47CD-95C9-B5A0AD75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9F0138-6EFE-478F-9174-109CDCF0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DA0C06-3F22-4984-A78A-4B106183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A261CB-73CB-40CD-B4A3-1CFE863F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8A9FB4-98E7-4B75-BBB6-297372BE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45C33B-2219-4830-AA8E-839164FB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F6BFFD-D1FF-49BA-B700-83BDA8032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1726F2-D380-4645-B2BD-5B60BFA63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E79603-E74E-498D-B970-3CE9641B6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72FE52-8AC7-43D4-8361-42EC76DB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ED9A8D-C038-4B42-82C5-8FCD3E2F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9509-B827-4AD0-A479-93D4079F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CC1ECF-0D30-4460-9E3A-B7A25724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AEBBF5-F9EF-4804-AC89-35F62D38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64D0A7-5FCD-45BE-A6E2-70AE05C3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8A6F70-2783-441D-B18C-573BC964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4FDDCF-ECCF-4F74-B3E8-3ED4758B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81D4B2-E5E9-45EE-8FEA-685FABCC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A1F22C-7268-4F5E-90B1-98FA3C8C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132ABC-B9B2-4FDD-970C-572F46059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9C71A0-5B78-4F9D-A6B4-1FF65780B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C889B3-9367-47E0-A2AD-56CB295CF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FE2B0-5959-43E5-96F9-80FFAEB8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5A1F72-99EF-4E8E-925C-0F8D718A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56BD81-0FA5-40D3-B58B-53B7E03C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84FF1B-BB71-4DF9-85FE-9812F753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6D6433-7338-4601-8BFC-D60376B4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B95DC2-1A5A-417B-8879-8389AE7B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443887-238E-480F-8EB3-4B932AAB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7E1005-16E4-44C9-85F8-A6C2D255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CB6B98-058A-4534-B43D-8B1A3BAD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D76E6E-2885-4ECD-A19A-4557376E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ACB49F-6892-4590-8AFC-AC6FE4D36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2677-81A2-465F-925C-A4371A4D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0DF44F-B6A6-464D-8562-D58E850DE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434BE8-F18C-49D7-A58C-F14C6D99D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3A0E66-89B7-4690-8D78-065D3E02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5FB438-215E-4F2B-8070-5FD02B0F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A1E277-2A5F-47C8-B564-50589B9A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E03FE6-7339-4CA8-B954-ECA94DBE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D41385-1813-4F3B-8849-DE07B3CA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E1C155-8EB1-4776-B781-46ADFACD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89E934-89E5-4299-BBA3-75449CE7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814BC1-61ED-4E25-AE29-51C76994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BDCB-5162-4F89-8B7B-D0EF820F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507962-7558-4FAF-A1C7-0B13C5CD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6C5962-5D5C-4A9C-BCF4-2891CAC95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7E5CC2-632A-44F9-BD00-874656E4D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F6768D-8113-4057-9CE8-B6297415F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D30958-F760-46F3-9F10-03061776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9348C2-B354-451D-92CE-D11BB943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F0D90D-9677-4124-B61D-4F92A111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FE1A70-B70C-4132-9077-6ACF013F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9EAC6D-36CA-44CD-A1A0-945F4CA8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BFC2AE-0AEC-42E2-9C76-28F04F6D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53BD-264A-4B22-A0D0-B92BACFE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0BF9-0978-4A0D-BE1E-3C0603AE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F9BD35-7C3A-4F8E-96E5-BC156F7A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B5FCB3-C05C-4106-86C8-CF19DC87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F12BF2-3814-4A71-AB23-6C1FBB41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EDCEDA-B1E1-40D2-B8AD-0A4F386D1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CECACD-D850-4D28-B0AA-83CEDBBED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EE3BCF-0AD8-4560-9D49-FA33DD9A4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DEC588-8A77-4AC5-934F-FC0F519E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F94E8E-C2CD-4164-86BB-72D1E22A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F864F1-595F-4307-B403-EB656B0B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6D9079-07B3-4821-A4CB-ADFABB01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B320B-7692-413A-B56C-58FD15E9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04973A-EC1F-470F-84B8-5F473F84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D7E31B-0F21-47A0-A94C-BF0A5580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222CA0-D6FD-46EA-8FE5-E222C3A7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0B484C-673A-4278-ABE7-A6817101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DA26C5-A2C1-4B17-B13D-25AFEBDF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292FD2-B31E-4C74-B1C6-B0B10C8EA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6C44E7-5387-403A-9E20-A009A5C73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AA24-96EE-42DE-BF60-DEFDB982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2827-CA95-4EFE-8F8F-26E1806DB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34B1F-2EF1-45DF-AEDC-FFDF4D65E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9517E-9DAF-4B8D-8D12-0E1A1C316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F549A-DFA5-4BDB-8F22-ABF4E061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0AA3D-333C-49C8-9837-63EAC702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4ED0D-2E31-4FAF-BE7D-027210CE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204C5-A76D-4E1C-BBA0-CE758DCB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2E85-26B7-44D6-99F0-4A5228AB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A9DB9-EDCB-4BB8-8C01-AFF04722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6EF06-D224-44AD-96CC-6C32E697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CD28D-4056-430F-9DE9-50C39F44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65B8F-8BFD-4672-A67A-67023205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FE213-C628-4F6A-B431-5099067C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0C037-BB8D-48C5-B919-0E02AA455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2FB3F-6F57-4180-A944-AA3014722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56B4D-BCDC-41F6-8C2A-F958F5963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037C3-4EE9-4EDF-9593-09785F59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9852A-A869-4E48-979A-C2A97606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3EDC-8DDD-4E1A-97DE-1A8CEDEA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1A6DF-662D-4B22-9527-43C4DCD6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5BF07-9211-46A0-B69C-3EFEC927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0C948-E72D-49C4-B825-518EFBA1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D3158-FAA6-43B1-A6E9-7A5F30E9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19040-2DC2-45C5-9FCC-91C816FD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086A6-7AA8-40BB-96C4-470FD558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1A22F-938E-4631-A31D-CDBE1960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258CF-EF0B-4E66-9B28-F37401171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3880C-36D2-488D-AEA7-8DA0A61C4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4C3DE-4FE9-4C2C-A208-1FF377AAF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D294-5291-4CCB-8B72-6971A94D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1A93B-BFDA-4B75-AE0F-44C1C806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D771A-F917-4A97-BFA1-A10BE414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3B3AC-B8EB-4FE4-8DC6-3A598D81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217C8-BAB1-4A57-8ACA-1318368E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51FB6-A538-4267-A58F-A89C2C8D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74581-6331-47AC-A8BB-B33EC2FF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D934B-22B6-4210-8EAB-473AA181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3D38E-1234-4133-A541-2573E9FD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82CC8-7492-4896-BE9C-9C43C2FA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8683F-B067-41CD-8310-582A226A2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1F7F-45F4-4DA7-8B2B-698B0783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3C4FE-F6DC-4F73-90BA-7FA571A9F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38CB6-FD86-46A9-9D93-C695F1F2D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B496A-8081-41CE-864A-75D7856F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DDFAE-9ECA-4876-A176-FA3FCAC2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7A222-C7E8-4B75-B0B9-787DCFE5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31D99-EAC9-4818-8F67-BB90DE05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25A0C-45CB-4165-A2E9-CDB7F89D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84504-8022-4541-B836-2B79FB46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E1880-103D-4EB3-8490-B754F3DB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17206-02F8-4159-96FF-3EC5E408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F76A-3C0D-4A1C-873F-1853BA5F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EACD9-B6EC-411F-BAC6-79C57E8B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FF0F5-0280-41D3-A608-1DB06796C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E6288-08D3-483E-B066-1D29A52D3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CD546-1582-4B45-B03C-B38B048C9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3240F-A571-40F3-A2ED-A50C562C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3910D-60FD-4FFD-8AF8-366DDA12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AA7B8-147B-4EB8-A485-CD8A512F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258E8-DB75-4E96-B540-836FFC6C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61170-524C-4DAC-B8FB-2D6C7A10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BAC33-3DC2-475C-AF7C-A545C124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3976-9ED6-4E8F-B1A4-02B75E2B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44F8F-FE85-4721-8C25-F0B5EE16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E13CF-5E28-4B6F-A241-8E931B82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7D5A5-575D-4944-81F1-0BBF4151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B4108-F3D5-4977-9136-EE182BAC3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B11FC-85F2-45B0-B080-9E34C86C5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F77DD-C4CB-4F0C-AFEE-84BD78F38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07168-DAC3-4C23-B3A1-844D89BB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B1FB0-8B21-4BFA-B2AE-3B166E36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349E8-3595-4213-9A17-DE13A5B9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68F27-75AE-4019-90F2-EEE194CA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64A6-0FF4-4D1A-B85B-1C26C857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575DA-2B77-4B9F-9AED-C4194858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9EE37-6AD6-4BF6-9D92-3FC3C302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394F7-3E2B-4498-8C1E-55E7644A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C10EE-99E9-4076-91B0-F0E330CF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3CD2D-07B4-4BDF-A773-EDD55DEE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6D9FC-0F6A-494A-A98A-5E3F2FABE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5C342-0FA9-40D0-B65F-D8272ACAD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610F02-2EE5-4E8D-B81A-A91717782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B59642-1968-4628-B9E3-698165FE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9DF825-71E5-4958-9A58-4804EFBD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9CCB-55C9-46E2-A5BE-620B28F91CE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9699-EBC1-4BFE-87CB-92F2B71333B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1B35-1F2F-49C1-B1C7-71454B12272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15FE-A99F-45AA-AB15-8064E6A4B21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2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8"/>
          <p:cNvSpPr/>
          <p:nvPr/>
        </p:nvSpPr>
        <p:spPr>
          <a:xfrm>
            <a:off x="738360" y="887400"/>
            <a:ext cx="545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9"/>
          <p:cNvSpPr/>
          <p:nvPr/>
        </p:nvSpPr>
        <p:spPr>
          <a:xfrm>
            <a:off x="7850160" y="3119400"/>
            <a:ext cx="5540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FE25-B264-4D49-8C02-51CC7A94BD7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B83E-AD42-4FAE-8B8E-FEA09E32F70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3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9F7C-375D-426A-A962-737315083C1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FC1C-F032-4F4A-8565-61DECADE797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2B76-EC4E-4E4A-B26D-1681E8AC22C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9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2F0A-4FF4-4ACC-A7A4-E9340343FBF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Droplets-SD-Title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4D35-96D0-4459-8E30-11FDB16382A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ED47-432C-48FA-B642-07518D1EB9D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EF53-0CE7-43B6-9EC1-C53D7EC2AFE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ECA1-CF40-4558-9B4C-68303BF6BCD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5DD4-51D2-4AA7-8C39-7DA2EDB1775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4FBA-1084-4232-82F3-048A967E9DF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B056-FF69-4F59-82CE-2F2778990B2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402E-487D-4FDF-8023-A125A2FA095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Picture 4" descr="24c7bf66729f"/>
          <p:cNvPicPr/>
          <p:nvPr/>
        </p:nvPicPr>
        <p:blipFill>
          <a:blip r:embed="rId2"/>
          <a:stretch/>
        </p:blipFill>
        <p:spPr>
          <a:xfrm>
            <a:off x="6443640" y="476280"/>
            <a:ext cx="2255760" cy="2255760"/>
          </a:xfrm>
          <a:prstGeom prst="rect">
            <a:avLst/>
          </a:prstGeom>
          <a:ln w="0">
            <a:noFill/>
          </a:ln>
        </p:spPr>
      </p:pic>
      <p:pic>
        <p:nvPicPr>
          <p:cNvPr id="776" name="WordArt 8" descr=""/>
          <p:cNvPicPr/>
          <p:nvPr/>
        </p:nvPicPr>
        <p:blipFill>
          <a:blip r:embed="rId3"/>
          <a:stretch/>
        </p:blipFill>
        <p:spPr>
          <a:xfrm>
            <a:off x="1046160" y="2341440"/>
            <a:ext cx="6478560" cy="26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4"/>
          <p:cNvSpPr/>
          <p:nvPr/>
        </p:nvSpPr>
        <p:spPr>
          <a:xfrm>
            <a:off x="3564720" y="-243000"/>
            <a:ext cx="17352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0" spc="-1" strike="noStrike">
                <a:solidFill>
                  <a:srgbClr val="4bcaad"/>
                </a:solidFill>
                <a:latin typeface="Arial"/>
              </a:rPr>
              <a:t>10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Line 6"/>
          <p:cNvSpPr/>
          <p:nvPr/>
        </p:nvSpPr>
        <p:spPr>
          <a:xfrm flipV="1">
            <a:off x="3780000" y="1125000"/>
            <a:ext cx="718920" cy="576360"/>
          </a:xfrm>
          <a:prstGeom prst="line">
            <a:avLst/>
          </a:prstGeom>
          <a:ln w="57240">
            <a:solidFill>
              <a:srgbClr val="4bca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7"/>
          <p:cNvSpPr/>
          <p:nvPr/>
        </p:nvSpPr>
        <p:spPr>
          <a:xfrm>
            <a:off x="4500720" y="1125360"/>
            <a:ext cx="720720" cy="576360"/>
          </a:xfrm>
          <a:prstGeom prst="line">
            <a:avLst/>
          </a:prstGeom>
          <a:ln w="57240">
            <a:solidFill>
              <a:srgbClr val="4bca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9"/>
          <p:cNvSpPr/>
          <p:nvPr/>
        </p:nvSpPr>
        <p:spPr>
          <a:xfrm>
            <a:off x="3060720" y="1341360"/>
            <a:ext cx="816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10"/>
          <p:cNvSpPr/>
          <p:nvPr/>
        </p:nvSpPr>
        <p:spPr>
          <a:xfrm>
            <a:off x="4937040" y="1413000"/>
            <a:ext cx="816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11"/>
          <p:cNvSpPr/>
          <p:nvPr/>
        </p:nvSpPr>
        <p:spPr>
          <a:xfrm>
            <a:off x="2989080" y="5013360"/>
            <a:ext cx="816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12"/>
          <p:cNvSpPr/>
          <p:nvPr/>
        </p:nvSpPr>
        <p:spPr>
          <a:xfrm>
            <a:off x="5078160" y="2276640"/>
            <a:ext cx="816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13"/>
          <p:cNvSpPr/>
          <p:nvPr/>
        </p:nvSpPr>
        <p:spPr>
          <a:xfrm>
            <a:off x="3060720" y="2276640"/>
            <a:ext cx="816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14"/>
          <p:cNvSpPr/>
          <p:nvPr/>
        </p:nvSpPr>
        <p:spPr>
          <a:xfrm>
            <a:off x="3063960" y="3213000"/>
            <a:ext cx="816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15"/>
          <p:cNvSpPr/>
          <p:nvPr/>
        </p:nvSpPr>
        <p:spPr>
          <a:xfrm>
            <a:off x="5149800" y="3141720"/>
            <a:ext cx="816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16"/>
          <p:cNvSpPr/>
          <p:nvPr/>
        </p:nvSpPr>
        <p:spPr>
          <a:xfrm>
            <a:off x="5149800" y="4076640"/>
            <a:ext cx="816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17"/>
          <p:cNvSpPr/>
          <p:nvPr/>
        </p:nvSpPr>
        <p:spPr>
          <a:xfrm>
            <a:off x="2989080" y="4076640"/>
            <a:ext cx="816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18"/>
          <p:cNvSpPr/>
          <p:nvPr/>
        </p:nvSpPr>
        <p:spPr>
          <a:xfrm>
            <a:off x="5149800" y="5013360"/>
            <a:ext cx="816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Рисунок 15" descr=""/>
          <p:cNvPicPr/>
          <p:nvPr/>
        </p:nvPicPr>
        <p:blipFill>
          <a:blip r:embed="rId1"/>
          <a:stretch/>
        </p:blipFill>
        <p:spPr>
          <a:xfrm>
            <a:off x="6324480" y="4906800"/>
            <a:ext cx="256860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5" name=""/>
          <p:cNvGraphicFramePr/>
          <p:nvPr/>
        </p:nvGraphicFramePr>
        <p:xfrm>
          <a:off x="539640" y="1868400"/>
          <a:ext cx="2808360" cy="1096920"/>
        </p:xfrm>
        <a:graphic>
          <a:graphicData uri="http://schemas.openxmlformats.org/drawingml/2006/table">
            <a:tbl>
              <a:tblPr/>
              <a:tblGrid>
                <a:gridCol w="792360"/>
                <a:gridCol w="201600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М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-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6" name=""/>
          <p:cNvGraphicFramePr/>
          <p:nvPr/>
        </p:nvGraphicFramePr>
        <p:xfrm>
          <a:off x="509760" y="5194440"/>
          <a:ext cx="2808000" cy="1096920"/>
        </p:xfrm>
        <a:graphic>
          <a:graphicData uri="http://schemas.openxmlformats.org/drawingml/2006/table">
            <a:tbl>
              <a:tblPr/>
              <a:tblGrid>
                <a:gridCol w="792000"/>
                <a:gridCol w="201600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О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1-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7" name=""/>
          <p:cNvGraphicFramePr/>
          <p:nvPr/>
        </p:nvGraphicFramePr>
        <p:xfrm>
          <a:off x="5176800" y="3456000"/>
          <a:ext cx="2792520" cy="1096920"/>
        </p:xfrm>
        <a:graphic>
          <a:graphicData uri="http://schemas.openxmlformats.org/drawingml/2006/table">
            <a:tbl>
              <a:tblPr/>
              <a:tblGrid>
                <a:gridCol w="792360"/>
                <a:gridCol w="200016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2-9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8" name=""/>
          <p:cNvGraphicFramePr/>
          <p:nvPr/>
        </p:nvGraphicFramePr>
        <p:xfrm>
          <a:off x="5148360" y="1917720"/>
          <a:ext cx="2808360" cy="1098360"/>
        </p:xfrm>
        <a:graphic>
          <a:graphicData uri="http://schemas.openxmlformats.org/drawingml/2006/table">
            <a:tbl>
              <a:tblPr/>
              <a:tblGrid>
                <a:gridCol w="792000"/>
                <a:gridCol w="201636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Д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+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9" name=""/>
          <p:cNvGraphicFramePr/>
          <p:nvPr/>
        </p:nvGraphicFramePr>
        <p:xfrm>
          <a:off x="5187960" y="5181480"/>
          <a:ext cx="2808360" cy="1096920"/>
        </p:xfrm>
        <a:graphic>
          <a:graphicData uri="http://schemas.openxmlformats.org/drawingml/2006/table">
            <a:tbl>
              <a:tblPr/>
              <a:tblGrid>
                <a:gridCol w="792000"/>
                <a:gridCol w="201636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Л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+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0" name=""/>
          <p:cNvGraphicFramePr/>
          <p:nvPr/>
        </p:nvGraphicFramePr>
        <p:xfrm>
          <a:off x="517680" y="3456000"/>
          <a:ext cx="2808000" cy="1096920"/>
        </p:xfrm>
        <a:graphic>
          <a:graphicData uri="http://schemas.openxmlformats.org/drawingml/2006/table">
            <a:tbl>
              <a:tblPr/>
              <a:tblGrid>
                <a:gridCol w="792000"/>
                <a:gridCol w="201600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Ц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+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1" name=""/>
          <p:cNvGraphicFramePr/>
          <p:nvPr/>
        </p:nvGraphicFramePr>
        <p:xfrm>
          <a:off x="1523880" y="146160"/>
          <a:ext cx="6096240" cy="155412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560"/>
                <a:gridCol w="869760"/>
                <a:gridCol w="871560"/>
                <a:gridCol w="870120"/>
                <a:gridCol w="871560"/>
              </a:tblGrid>
              <a:tr h="91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9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2" name=""/>
          <p:cNvGraphicFramePr/>
          <p:nvPr/>
        </p:nvGraphicFramePr>
        <p:xfrm>
          <a:off x="539640" y="1868400"/>
          <a:ext cx="2808360" cy="1096920"/>
        </p:xfrm>
        <a:graphic>
          <a:graphicData uri="http://schemas.openxmlformats.org/drawingml/2006/table">
            <a:tbl>
              <a:tblPr/>
              <a:tblGrid>
                <a:gridCol w="792360"/>
                <a:gridCol w="201600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М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-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3" name=""/>
          <p:cNvGraphicFramePr/>
          <p:nvPr/>
        </p:nvGraphicFramePr>
        <p:xfrm>
          <a:off x="509760" y="5194440"/>
          <a:ext cx="2808000" cy="1096920"/>
        </p:xfrm>
        <a:graphic>
          <a:graphicData uri="http://schemas.openxmlformats.org/drawingml/2006/table">
            <a:tbl>
              <a:tblPr/>
              <a:tblGrid>
                <a:gridCol w="792000"/>
                <a:gridCol w="201600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О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1-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4" name=""/>
          <p:cNvGraphicFramePr/>
          <p:nvPr/>
        </p:nvGraphicFramePr>
        <p:xfrm>
          <a:off x="5176800" y="3456000"/>
          <a:ext cx="2792520" cy="1096920"/>
        </p:xfrm>
        <a:graphic>
          <a:graphicData uri="http://schemas.openxmlformats.org/drawingml/2006/table">
            <a:tbl>
              <a:tblPr/>
              <a:tblGrid>
                <a:gridCol w="792360"/>
                <a:gridCol w="200016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2-9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5" name=""/>
          <p:cNvGraphicFramePr/>
          <p:nvPr/>
        </p:nvGraphicFramePr>
        <p:xfrm>
          <a:off x="5148360" y="1917720"/>
          <a:ext cx="2808360" cy="1098360"/>
        </p:xfrm>
        <a:graphic>
          <a:graphicData uri="http://schemas.openxmlformats.org/drawingml/2006/table">
            <a:tbl>
              <a:tblPr/>
              <a:tblGrid>
                <a:gridCol w="792000"/>
                <a:gridCol w="201636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Д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+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6" name=""/>
          <p:cNvGraphicFramePr/>
          <p:nvPr/>
        </p:nvGraphicFramePr>
        <p:xfrm>
          <a:off x="5187960" y="5181480"/>
          <a:ext cx="2808360" cy="1096920"/>
        </p:xfrm>
        <a:graphic>
          <a:graphicData uri="http://schemas.openxmlformats.org/drawingml/2006/table">
            <a:tbl>
              <a:tblPr/>
              <a:tblGrid>
                <a:gridCol w="792000"/>
                <a:gridCol w="201636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Л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+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7" name=""/>
          <p:cNvGraphicFramePr/>
          <p:nvPr/>
        </p:nvGraphicFramePr>
        <p:xfrm>
          <a:off x="517680" y="3456000"/>
          <a:ext cx="2808000" cy="1096920"/>
        </p:xfrm>
        <a:graphic>
          <a:graphicData uri="http://schemas.openxmlformats.org/drawingml/2006/table">
            <a:tbl>
              <a:tblPr/>
              <a:tblGrid>
                <a:gridCol w="792000"/>
                <a:gridCol w="201600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Ц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+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8" name=""/>
          <p:cNvGraphicFramePr/>
          <p:nvPr/>
        </p:nvGraphicFramePr>
        <p:xfrm>
          <a:off x="1523880" y="146160"/>
          <a:ext cx="6096240" cy="164628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560"/>
                <a:gridCol w="869760"/>
                <a:gridCol w="871560"/>
                <a:gridCol w="870120"/>
                <a:gridCol w="871560"/>
              </a:tblGrid>
              <a:tr h="823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9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w Cen MT"/>
                        </a:rPr>
                        <a:t>М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w Cen MT"/>
                        </a:rPr>
                        <a:t>О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w Cen MT"/>
                        </a:rPr>
                        <a:t>Л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w Cen MT"/>
                        </a:rPr>
                        <a:t>О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w Cen MT"/>
                        </a:rPr>
                        <a:t>Д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w Cen MT"/>
                        </a:rPr>
                        <a:t>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w Cen MT"/>
                        </a:rPr>
                        <a:t>Ц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79" name="Рисунок 3" descr=""/>
          <p:cNvPicPr/>
          <p:nvPr/>
        </p:nvPicPr>
        <p:blipFill>
          <a:blip r:embed="rId1"/>
          <a:srcRect l="4262" t="2519" r="14797" b="11550"/>
          <a:stretch/>
        </p:blipFill>
        <p:spPr>
          <a:xfrm>
            <a:off x="2484360" y="189000"/>
            <a:ext cx="4464000" cy="65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11280" y="1080"/>
            <a:ext cx="7773840" cy="159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НАШ   ГИД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81" name="Picture 2" descr="1-points-a-relier-132[1]"/>
          <p:cNvPicPr/>
          <p:nvPr/>
        </p:nvPicPr>
        <p:blipFill>
          <a:blip r:embed="rId1"/>
          <a:srcRect l="1853" t="3970" r="1853" b="4760"/>
          <a:stretch/>
        </p:blipFill>
        <p:spPr>
          <a:xfrm>
            <a:off x="2843280" y="1341360"/>
            <a:ext cx="37447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11280" y="1080"/>
            <a:ext cx="7773840" cy="159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НАШ   ГИД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83" name="Picture 2" descr="1-points-a-relier-132[1]"/>
          <p:cNvPicPr/>
          <p:nvPr/>
        </p:nvPicPr>
        <p:blipFill>
          <a:blip r:embed="rId1"/>
          <a:srcRect l="1853" t="3970" r="1853" b="4760"/>
          <a:stretch/>
        </p:blipFill>
        <p:spPr>
          <a:xfrm>
            <a:off x="2843280" y="1341360"/>
            <a:ext cx="3744720" cy="4967280"/>
          </a:xfrm>
          <a:prstGeom prst="rect">
            <a:avLst/>
          </a:prstGeom>
          <a:ln w="0">
            <a:noFill/>
          </a:ln>
        </p:spPr>
      </p:pic>
      <p:sp>
        <p:nvSpPr>
          <p:cNvPr id="784" name="Полилиния 9"/>
          <p:cNvSpPr/>
          <p:nvPr/>
        </p:nvSpPr>
        <p:spPr>
          <a:xfrm>
            <a:off x="3056040" y="2722680"/>
            <a:ext cx="3387600" cy="3389040"/>
          </a:xfrm>
          <a:custGeom>
            <a:avLst/>
            <a:gdLst/>
            <a:ahLst/>
            <a:rect l="l" t="t" r="r" b="b"/>
            <a:pathLst>
              <a:path w="3386944" h="3390471">
                <a:moveTo>
                  <a:pt x="2255824" y="2398599"/>
                </a:moveTo>
                <a:cubicBezTo>
                  <a:pt x="2203572" y="2500199"/>
                  <a:pt x="2678189" y="2402953"/>
                  <a:pt x="2830589" y="2311513"/>
                </a:cubicBezTo>
                <a:cubicBezTo>
                  <a:pt x="2982989" y="2220073"/>
                  <a:pt x="3078784" y="1829639"/>
                  <a:pt x="3170224" y="1849959"/>
                </a:cubicBezTo>
                <a:cubicBezTo>
                  <a:pt x="3261664" y="1870279"/>
                  <a:pt x="3424223" y="2196850"/>
                  <a:pt x="3379229" y="2433433"/>
                </a:cubicBezTo>
                <a:cubicBezTo>
                  <a:pt x="3334235" y="2670016"/>
                  <a:pt x="3250052" y="3121410"/>
                  <a:pt x="2900258" y="3269456"/>
                </a:cubicBezTo>
                <a:cubicBezTo>
                  <a:pt x="2550464" y="3417502"/>
                  <a:pt x="1637515" y="3423308"/>
                  <a:pt x="1280464" y="3321708"/>
                </a:cubicBezTo>
                <a:cubicBezTo>
                  <a:pt x="923412" y="3220108"/>
                  <a:pt x="861001" y="2863056"/>
                  <a:pt x="757949" y="2659856"/>
                </a:cubicBezTo>
                <a:cubicBezTo>
                  <a:pt x="654897" y="2456656"/>
                  <a:pt x="788429" y="2266519"/>
                  <a:pt x="662155" y="2102508"/>
                </a:cubicBezTo>
                <a:cubicBezTo>
                  <a:pt x="535881" y="1938497"/>
                  <a:pt x="13367" y="1768679"/>
                  <a:pt x="304" y="1675788"/>
                </a:cubicBezTo>
                <a:cubicBezTo>
                  <a:pt x="-12759" y="1582897"/>
                  <a:pt x="397995" y="1643856"/>
                  <a:pt x="583778" y="1545159"/>
                </a:cubicBezTo>
                <a:cubicBezTo>
                  <a:pt x="769561" y="1446462"/>
                  <a:pt x="1040978" y="1016839"/>
                  <a:pt x="1115001" y="1083605"/>
                </a:cubicBezTo>
                <a:cubicBezTo>
                  <a:pt x="1189024" y="1150371"/>
                  <a:pt x="845035" y="1896405"/>
                  <a:pt x="1027915" y="1945753"/>
                </a:cubicBezTo>
                <a:cubicBezTo>
                  <a:pt x="1210795" y="1995101"/>
                  <a:pt x="2036658" y="1624987"/>
                  <a:pt x="2212281" y="1379696"/>
                </a:cubicBezTo>
                <a:cubicBezTo>
                  <a:pt x="2387904" y="1134405"/>
                  <a:pt x="2149869" y="662691"/>
                  <a:pt x="2081652" y="474005"/>
                </a:cubicBezTo>
                <a:cubicBezTo>
                  <a:pt x="2013435" y="285319"/>
                  <a:pt x="1698475" y="325959"/>
                  <a:pt x="1802978" y="247582"/>
                </a:cubicBezTo>
                <a:cubicBezTo>
                  <a:pt x="1907481" y="169205"/>
                  <a:pt x="2598361" y="-29641"/>
                  <a:pt x="2708669" y="3742"/>
                </a:cubicBezTo>
                <a:cubicBezTo>
                  <a:pt x="2818977" y="37125"/>
                  <a:pt x="2483698" y="231616"/>
                  <a:pt x="2464829" y="447879"/>
                </a:cubicBezTo>
                <a:cubicBezTo>
                  <a:pt x="2445961" y="664142"/>
                  <a:pt x="2518532" y="1131502"/>
                  <a:pt x="2595458" y="1301319"/>
                </a:cubicBezTo>
                <a:cubicBezTo>
                  <a:pt x="2672384" y="1471136"/>
                  <a:pt x="2834944" y="1400016"/>
                  <a:pt x="2926384" y="1466782"/>
                </a:cubicBezTo>
                <a:cubicBezTo>
                  <a:pt x="3017824" y="1533548"/>
                  <a:pt x="3257309" y="1545159"/>
                  <a:pt x="3144098" y="1701913"/>
                </a:cubicBezTo>
                <a:cubicBezTo>
                  <a:pt x="3030887" y="1858667"/>
                  <a:pt x="2308076" y="2296999"/>
                  <a:pt x="2255824" y="2398599"/>
                </a:cubicBezTo>
                <a:close/>
              </a:path>
            </a:pathLst>
          </a:custGeom>
          <a:noFill/>
          <a:ln w="381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Полилиния 3"/>
          <p:cNvGrpSpPr/>
          <p:nvPr/>
        </p:nvGrpSpPr>
        <p:grpSpPr>
          <a:xfrm>
            <a:off x="2335320" y="291960"/>
            <a:ext cx="5271840" cy="1347840"/>
            <a:chOff x="2335320" y="291960"/>
            <a:chExt cx="5271840" cy="1347840"/>
          </a:xfrm>
        </p:grpSpPr>
        <p:pic>
          <p:nvPicPr>
            <p:cNvPr id="786" name="Полилиния 3" descr=""/>
            <p:cNvPicPr/>
            <p:nvPr/>
          </p:nvPicPr>
          <p:blipFill>
            <a:blip r:embed="rId1"/>
            <a:stretch/>
          </p:blipFill>
          <p:spPr>
            <a:xfrm>
              <a:off x="2335320" y="291960"/>
              <a:ext cx="527184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7" name=""/>
            <p:cNvSpPr/>
            <p:nvPr/>
          </p:nvSpPr>
          <p:spPr>
            <a:xfrm>
              <a:off x="2340000" y="297000"/>
              <a:ext cx="5256360" cy="13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8" name="Рисунок 4" descr=""/>
          <p:cNvPicPr/>
          <p:nvPr/>
        </p:nvPicPr>
        <p:blipFill>
          <a:blip r:embed="rId2"/>
          <a:stretch/>
        </p:blipFill>
        <p:spPr>
          <a:xfrm>
            <a:off x="6607080" y="5364000"/>
            <a:ext cx="2521080" cy="1390680"/>
          </a:xfrm>
          <a:prstGeom prst="rect">
            <a:avLst/>
          </a:prstGeom>
          <a:ln w="0">
            <a:noFill/>
          </a:ln>
        </p:spPr>
      </p:pic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26560" y="296640"/>
            <a:ext cx="7774200" cy="15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ГЕОМЕТРИЧЕСКИЙ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0" name="Трапеция 4"/>
          <p:cNvSpPr/>
          <p:nvPr/>
        </p:nvSpPr>
        <p:spPr>
          <a:xfrm rot="10800000">
            <a:off x="1618920" y="4059360"/>
            <a:ext cx="4608360" cy="1304640"/>
          </a:xfrm>
          <a:custGeom>
            <a:avLst/>
            <a:gdLst/>
            <a:ahLst/>
            <a:rect l="l" t="t" r="r" b="b"/>
            <a:pathLst>
              <a:path w="4608513" h="1304925">
                <a:moveTo>
                  <a:pt x="0" y="1304925"/>
                </a:moveTo>
                <a:lnTo>
                  <a:pt x="631153" y="0"/>
                </a:lnTo>
                <a:lnTo>
                  <a:pt x="3977360" y="0"/>
                </a:lnTo>
                <a:lnTo>
                  <a:pt x="4608513" y="1304925"/>
                </a:lnTo>
                <a:lnTo>
                  <a:pt x="0" y="1304925"/>
                </a:lnTo>
                <a:close/>
              </a:path>
            </a:pathLst>
          </a:custGeom>
          <a:solidFill>
            <a:srgbClr val="ffff00"/>
          </a:solidFill>
          <a:ln w="15840">
            <a:solidFill>
              <a:srgbClr val="2077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Прямоугольный треугольник 8"/>
          <p:cNvSpPr/>
          <p:nvPr/>
        </p:nvSpPr>
        <p:spPr>
          <a:xfrm>
            <a:off x="3708360" y="1844640"/>
            <a:ext cx="1440000" cy="2232000"/>
          </a:xfrm>
          <a:prstGeom prst="rtTriangle">
            <a:avLst/>
          </a:prstGeom>
          <a:solidFill>
            <a:srgbClr val="2fa3ee"/>
          </a:solidFill>
          <a:ln w="15840">
            <a:solidFill>
              <a:srgbClr val="2077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Прямоугольник 9"/>
          <p:cNvSpPr/>
          <p:nvPr/>
        </p:nvSpPr>
        <p:spPr>
          <a:xfrm>
            <a:off x="2916360" y="1844640"/>
            <a:ext cx="792000" cy="792360"/>
          </a:xfrm>
          <a:prstGeom prst="rect">
            <a:avLst/>
          </a:prstGeom>
          <a:solidFill>
            <a:srgbClr val="ff0000"/>
          </a:solidFill>
          <a:ln w="15840">
            <a:solidFill>
              <a:srgbClr val="2077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Полилиния 6"/>
          <p:cNvSpPr/>
          <p:nvPr/>
        </p:nvSpPr>
        <p:spPr>
          <a:xfrm>
            <a:off x="2090880" y="523800"/>
            <a:ext cx="4938480" cy="2341800"/>
          </a:xfrm>
          <a:custGeom>
            <a:avLst/>
            <a:gdLst/>
            <a:ahLst/>
            <a:rect l="l" t="t" r="r" b="b"/>
            <a:pathLst>
              <a:path w="4938906" h="2340997">
                <a:moveTo>
                  <a:pt x="2211977" y="15808"/>
                </a:moveTo>
                <a:lnTo>
                  <a:pt x="2211977" y="15808"/>
                </a:lnTo>
                <a:lnTo>
                  <a:pt x="1428206" y="7100"/>
                </a:lnTo>
                <a:cubicBezTo>
                  <a:pt x="1305397" y="7100"/>
                  <a:pt x="1187383" y="-20534"/>
                  <a:pt x="1079863" y="33226"/>
                </a:cubicBezTo>
                <a:cubicBezTo>
                  <a:pt x="1064724" y="40796"/>
                  <a:pt x="1050404" y="49962"/>
                  <a:pt x="1036320" y="59351"/>
                </a:cubicBezTo>
                <a:cubicBezTo>
                  <a:pt x="1024243" y="67402"/>
                  <a:pt x="1013097" y="76768"/>
                  <a:pt x="1001486" y="85477"/>
                </a:cubicBezTo>
                <a:cubicBezTo>
                  <a:pt x="966652" y="152243"/>
                  <a:pt x="930661" y="218418"/>
                  <a:pt x="896983" y="285774"/>
                </a:cubicBezTo>
                <a:cubicBezTo>
                  <a:pt x="889545" y="300650"/>
                  <a:pt x="883909" y="332466"/>
                  <a:pt x="879566" y="346734"/>
                </a:cubicBezTo>
                <a:cubicBezTo>
                  <a:pt x="862725" y="402067"/>
                  <a:pt x="836822" y="455145"/>
                  <a:pt x="827314" y="512197"/>
                </a:cubicBezTo>
                <a:cubicBezTo>
                  <a:pt x="817097" y="573503"/>
                  <a:pt x="824190" y="547697"/>
                  <a:pt x="809897" y="590574"/>
                </a:cubicBezTo>
                <a:cubicBezTo>
                  <a:pt x="804091" y="637020"/>
                  <a:pt x="799423" y="683622"/>
                  <a:pt x="792480" y="729911"/>
                </a:cubicBezTo>
                <a:cubicBezTo>
                  <a:pt x="790705" y="741748"/>
                  <a:pt x="785823" y="752954"/>
                  <a:pt x="783772" y="764746"/>
                </a:cubicBezTo>
                <a:cubicBezTo>
                  <a:pt x="774205" y="819758"/>
                  <a:pt x="767213" y="875196"/>
                  <a:pt x="757646" y="930208"/>
                </a:cubicBezTo>
                <a:cubicBezTo>
                  <a:pt x="755595" y="942000"/>
                  <a:pt x="754875" y="954651"/>
                  <a:pt x="748937" y="965043"/>
                </a:cubicBezTo>
                <a:cubicBezTo>
                  <a:pt x="742827" y="975736"/>
                  <a:pt x="733059" y="984337"/>
                  <a:pt x="722812" y="991168"/>
                </a:cubicBezTo>
                <a:cubicBezTo>
                  <a:pt x="706362" y="1002135"/>
                  <a:pt x="640596" y="1008045"/>
                  <a:pt x="635726" y="1008586"/>
                </a:cubicBezTo>
                <a:cubicBezTo>
                  <a:pt x="603859" y="1012127"/>
                  <a:pt x="571784" y="1013619"/>
                  <a:pt x="539932" y="1017294"/>
                </a:cubicBezTo>
                <a:cubicBezTo>
                  <a:pt x="496293" y="1022329"/>
                  <a:pt x="452745" y="1028195"/>
                  <a:pt x="409303" y="1034711"/>
                </a:cubicBezTo>
                <a:cubicBezTo>
                  <a:pt x="394665" y="1036907"/>
                  <a:pt x="380413" y="1041327"/>
                  <a:pt x="365760" y="1043420"/>
                </a:cubicBezTo>
                <a:cubicBezTo>
                  <a:pt x="299106" y="1052942"/>
                  <a:pt x="232067" y="1059679"/>
                  <a:pt x="165463" y="1069546"/>
                </a:cubicBezTo>
                <a:cubicBezTo>
                  <a:pt x="153624" y="1071300"/>
                  <a:pt x="142291" y="1075563"/>
                  <a:pt x="130629" y="1078254"/>
                </a:cubicBezTo>
                <a:lnTo>
                  <a:pt x="52252" y="1095671"/>
                </a:lnTo>
                <a:cubicBezTo>
                  <a:pt x="39498" y="1108425"/>
                  <a:pt x="24009" y="1121635"/>
                  <a:pt x="17417" y="1139214"/>
                </a:cubicBezTo>
                <a:cubicBezTo>
                  <a:pt x="12220" y="1153073"/>
                  <a:pt x="11920" y="1168308"/>
                  <a:pt x="8709" y="1182757"/>
                </a:cubicBezTo>
                <a:cubicBezTo>
                  <a:pt x="6113" y="1194441"/>
                  <a:pt x="2903" y="1205980"/>
                  <a:pt x="0" y="1217591"/>
                </a:cubicBezTo>
                <a:cubicBezTo>
                  <a:pt x="2903" y="1322094"/>
                  <a:pt x="-756" y="1426986"/>
                  <a:pt x="8709" y="1531100"/>
                </a:cubicBezTo>
                <a:cubicBezTo>
                  <a:pt x="11749" y="1564545"/>
                  <a:pt x="63252" y="1656459"/>
                  <a:pt x="78377" y="1679146"/>
                </a:cubicBezTo>
                <a:cubicBezTo>
                  <a:pt x="85209" y="1689393"/>
                  <a:pt x="96488" y="1695920"/>
                  <a:pt x="104503" y="1705271"/>
                </a:cubicBezTo>
                <a:cubicBezTo>
                  <a:pt x="142464" y="1749559"/>
                  <a:pt x="112857" y="1734182"/>
                  <a:pt x="156754" y="1748814"/>
                </a:cubicBezTo>
                <a:cubicBezTo>
                  <a:pt x="200297" y="1786551"/>
                  <a:pt x="240995" y="1827846"/>
                  <a:pt x="287383" y="1862026"/>
                </a:cubicBezTo>
                <a:cubicBezTo>
                  <a:pt x="297018" y="1869126"/>
                  <a:pt x="311216" y="1866019"/>
                  <a:pt x="322217" y="1870734"/>
                </a:cubicBezTo>
                <a:cubicBezTo>
                  <a:pt x="331837" y="1874857"/>
                  <a:pt x="338097" y="1886016"/>
                  <a:pt x="348343" y="1888151"/>
                </a:cubicBezTo>
                <a:cubicBezTo>
                  <a:pt x="408628" y="1900710"/>
                  <a:pt x="470263" y="1905568"/>
                  <a:pt x="531223" y="1914277"/>
                </a:cubicBezTo>
                <a:cubicBezTo>
                  <a:pt x="539932" y="1917180"/>
                  <a:pt x="548911" y="1919370"/>
                  <a:pt x="557349" y="1922986"/>
                </a:cubicBezTo>
                <a:cubicBezTo>
                  <a:pt x="569281" y="1928100"/>
                  <a:pt x="579435" y="1937951"/>
                  <a:pt x="592183" y="1940403"/>
                </a:cubicBezTo>
                <a:cubicBezTo>
                  <a:pt x="655477" y="1952575"/>
                  <a:pt x="720271" y="1955484"/>
                  <a:pt x="783772" y="1966528"/>
                </a:cubicBezTo>
                <a:cubicBezTo>
                  <a:pt x="853884" y="1978721"/>
                  <a:pt x="923307" y="1994633"/>
                  <a:pt x="992777" y="2010071"/>
                </a:cubicBezTo>
                <a:cubicBezTo>
                  <a:pt x="1142207" y="2043278"/>
                  <a:pt x="864036" y="1989548"/>
                  <a:pt x="1053737" y="2027488"/>
                </a:cubicBezTo>
                <a:lnTo>
                  <a:pt x="1236617" y="2062323"/>
                </a:lnTo>
                <a:cubicBezTo>
                  <a:pt x="1454331" y="2059420"/>
                  <a:pt x="1672168" y="2061479"/>
                  <a:pt x="1889760" y="2053614"/>
                </a:cubicBezTo>
                <a:cubicBezTo>
                  <a:pt x="1947299" y="2051534"/>
                  <a:pt x="1997152" y="2015436"/>
                  <a:pt x="2046514" y="1992654"/>
                </a:cubicBezTo>
                <a:cubicBezTo>
                  <a:pt x="2054849" y="1988807"/>
                  <a:pt x="2063931" y="1986849"/>
                  <a:pt x="2072640" y="1983946"/>
                </a:cubicBezTo>
                <a:cubicBezTo>
                  <a:pt x="2081349" y="1975237"/>
                  <a:pt x="2087750" y="1963328"/>
                  <a:pt x="2098766" y="1957820"/>
                </a:cubicBezTo>
                <a:cubicBezTo>
                  <a:pt x="2128432" y="1942987"/>
                  <a:pt x="2183868" y="1928509"/>
                  <a:pt x="2220686" y="1922986"/>
                </a:cubicBezTo>
                <a:cubicBezTo>
                  <a:pt x="2264128" y="1916470"/>
                  <a:pt x="2307771" y="1911374"/>
                  <a:pt x="2351314" y="1905568"/>
                </a:cubicBezTo>
                <a:cubicBezTo>
                  <a:pt x="2781334" y="1914169"/>
                  <a:pt x="2666754" y="1883219"/>
                  <a:pt x="2943497" y="1949111"/>
                </a:cubicBezTo>
                <a:cubicBezTo>
                  <a:pt x="2952427" y="1951237"/>
                  <a:pt x="2960914" y="1954917"/>
                  <a:pt x="2969623" y="1957820"/>
                </a:cubicBezTo>
                <a:cubicBezTo>
                  <a:pt x="2987040" y="1978140"/>
                  <a:pt x="3009456" y="1995073"/>
                  <a:pt x="3021874" y="2018780"/>
                </a:cubicBezTo>
                <a:cubicBezTo>
                  <a:pt x="3041898" y="2057007"/>
                  <a:pt x="3040969" y="2105139"/>
                  <a:pt x="3065417" y="2140700"/>
                </a:cubicBezTo>
                <a:cubicBezTo>
                  <a:pt x="3097349" y="2187146"/>
                  <a:pt x="3121358" y="2240181"/>
                  <a:pt x="3161212" y="2280037"/>
                </a:cubicBezTo>
                <a:cubicBezTo>
                  <a:pt x="3169920" y="2288746"/>
                  <a:pt x="3177090" y="2299332"/>
                  <a:pt x="3187337" y="2306163"/>
                </a:cubicBezTo>
                <a:cubicBezTo>
                  <a:pt x="3203540" y="2316965"/>
                  <a:pt x="3221509" y="2325056"/>
                  <a:pt x="3239589" y="2332288"/>
                </a:cubicBezTo>
                <a:cubicBezTo>
                  <a:pt x="3250702" y="2336733"/>
                  <a:pt x="3262812" y="2338094"/>
                  <a:pt x="3274423" y="2340997"/>
                </a:cubicBezTo>
                <a:lnTo>
                  <a:pt x="3535680" y="2332288"/>
                </a:lnTo>
                <a:cubicBezTo>
                  <a:pt x="3628150" y="2317129"/>
                  <a:pt x="3713761" y="2272288"/>
                  <a:pt x="3805646" y="2253911"/>
                </a:cubicBezTo>
                <a:cubicBezTo>
                  <a:pt x="3949622" y="2225116"/>
                  <a:pt x="4102075" y="2213968"/>
                  <a:pt x="4249783" y="2201660"/>
                </a:cubicBezTo>
                <a:lnTo>
                  <a:pt x="4519749" y="2140700"/>
                </a:lnTo>
                <a:cubicBezTo>
                  <a:pt x="4534198" y="2137489"/>
                  <a:pt x="4550672" y="2139726"/>
                  <a:pt x="4563292" y="2131991"/>
                </a:cubicBezTo>
                <a:cubicBezTo>
                  <a:pt x="4641557" y="2084022"/>
                  <a:pt x="4716277" y="2030315"/>
                  <a:pt x="4789714" y="1975237"/>
                </a:cubicBezTo>
                <a:cubicBezTo>
                  <a:pt x="4894088" y="1896957"/>
                  <a:pt x="4789426" y="1940500"/>
                  <a:pt x="4894217" y="1905568"/>
                </a:cubicBezTo>
                <a:cubicBezTo>
                  <a:pt x="4902926" y="1882345"/>
                  <a:pt x="4914328" y="1859961"/>
                  <a:pt x="4920343" y="1835900"/>
                </a:cubicBezTo>
                <a:cubicBezTo>
                  <a:pt x="4929998" y="1797281"/>
                  <a:pt x="4937189" y="1636031"/>
                  <a:pt x="4937760" y="1626894"/>
                </a:cubicBezTo>
                <a:cubicBezTo>
                  <a:pt x="4933023" y="1451616"/>
                  <a:pt x="4954083" y="1370846"/>
                  <a:pt x="4911634" y="1235008"/>
                </a:cubicBezTo>
                <a:cubicBezTo>
                  <a:pt x="4878634" y="1129408"/>
                  <a:pt x="4888554" y="1180047"/>
                  <a:pt x="4807132" y="1069546"/>
                </a:cubicBezTo>
                <a:cubicBezTo>
                  <a:pt x="4790887" y="1047499"/>
                  <a:pt x="4781411" y="1020670"/>
                  <a:pt x="4763589" y="999877"/>
                </a:cubicBezTo>
                <a:cubicBezTo>
                  <a:pt x="4746172" y="979557"/>
                  <a:pt x="4721005" y="967083"/>
                  <a:pt x="4702629" y="947626"/>
                </a:cubicBezTo>
                <a:cubicBezTo>
                  <a:pt x="4671495" y="914660"/>
                  <a:pt x="4656100" y="863402"/>
                  <a:pt x="4615543" y="843123"/>
                </a:cubicBezTo>
                <a:cubicBezTo>
                  <a:pt x="4592320" y="831511"/>
                  <a:pt x="4568301" y="821371"/>
                  <a:pt x="4545874" y="808288"/>
                </a:cubicBezTo>
                <a:cubicBezTo>
                  <a:pt x="4533337" y="800975"/>
                  <a:pt x="4523728" y="789212"/>
                  <a:pt x="4511040" y="782163"/>
                </a:cubicBezTo>
                <a:cubicBezTo>
                  <a:pt x="4383234" y="711161"/>
                  <a:pt x="4563922" y="829478"/>
                  <a:pt x="4415246" y="738620"/>
                </a:cubicBezTo>
                <a:cubicBezTo>
                  <a:pt x="4280680" y="656385"/>
                  <a:pt x="4355378" y="683828"/>
                  <a:pt x="4284617" y="660243"/>
                </a:cubicBezTo>
                <a:cubicBezTo>
                  <a:pt x="4275909" y="654437"/>
                  <a:pt x="4267579" y="648019"/>
                  <a:pt x="4258492" y="642826"/>
                </a:cubicBezTo>
                <a:cubicBezTo>
                  <a:pt x="4247220" y="636385"/>
                  <a:pt x="4233427" y="633957"/>
                  <a:pt x="4223657" y="625408"/>
                </a:cubicBezTo>
                <a:cubicBezTo>
                  <a:pt x="4209669" y="613168"/>
                  <a:pt x="4203495" y="593277"/>
                  <a:pt x="4188823" y="581866"/>
                </a:cubicBezTo>
                <a:cubicBezTo>
                  <a:pt x="4176483" y="572269"/>
                  <a:pt x="4159262" y="571439"/>
                  <a:pt x="4145280" y="564448"/>
                </a:cubicBezTo>
                <a:cubicBezTo>
                  <a:pt x="4135919" y="559767"/>
                  <a:pt x="4129083" y="550341"/>
                  <a:pt x="4119154" y="547031"/>
                </a:cubicBezTo>
                <a:cubicBezTo>
                  <a:pt x="4093764" y="538568"/>
                  <a:pt x="4067299" y="533198"/>
                  <a:pt x="4040777" y="529614"/>
                </a:cubicBezTo>
                <a:cubicBezTo>
                  <a:pt x="3727152" y="487232"/>
                  <a:pt x="3677522" y="501429"/>
                  <a:pt x="3291840" y="494780"/>
                </a:cubicBezTo>
                <a:cubicBezTo>
                  <a:pt x="3271520" y="491877"/>
                  <a:pt x="3250499" y="492107"/>
                  <a:pt x="3230880" y="486071"/>
                </a:cubicBezTo>
                <a:cubicBezTo>
                  <a:pt x="3217966" y="482098"/>
                  <a:pt x="3147973" y="444130"/>
                  <a:pt x="3135086" y="433820"/>
                </a:cubicBezTo>
                <a:cubicBezTo>
                  <a:pt x="3119058" y="420997"/>
                  <a:pt x="3106057" y="404791"/>
                  <a:pt x="3091543" y="390277"/>
                </a:cubicBezTo>
                <a:cubicBezTo>
                  <a:pt x="3055599" y="264474"/>
                  <a:pt x="3103527" y="394862"/>
                  <a:pt x="3013166" y="268357"/>
                </a:cubicBezTo>
                <a:cubicBezTo>
                  <a:pt x="2990373" y="236446"/>
                  <a:pt x="2934884" y="151700"/>
                  <a:pt x="2899954" y="137728"/>
                </a:cubicBezTo>
                <a:cubicBezTo>
                  <a:pt x="2885440" y="131922"/>
                  <a:pt x="2870077" y="127903"/>
                  <a:pt x="2856412" y="120311"/>
                </a:cubicBezTo>
                <a:cubicBezTo>
                  <a:pt x="2843724" y="113262"/>
                  <a:pt x="2835246" y="99068"/>
                  <a:pt x="2821577" y="94186"/>
                </a:cubicBezTo>
                <a:cubicBezTo>
                  <a:pt x="2793698" y="84229"/>
                  <a:pt x="2763520" y="82574"/>
                  <a:pt x="2734492" y="76768"/>
                </a:cubicBezTo>
                <a:cubicBezTo>
                  <a:pt x="2697803" y="61045"/>
                  <a:pt x="2660334" y="42990"/>
                  <a:pt x="2621280" y="33226"/>
                </a:cubicBezTo>
                <a:cubicBezTo>
                  <a:pt x="2604150" y="28943"/>
                  <a:pt x="2586343" y="27980"/>
                  <a:pt x="2569029" y="24517"/>
                </a:cubicBezTo>
                <a:cubicBezTo>
                  <a:pt x="2541693" y="19050"/>
                  <a:pt x="2532968" y="15399"/>
                  <a:pt x="2508069" y="7100"/>
                </a:cubicBezTo>
                <a:cubicBezTo>
                  <a:pt x="2426789" y="10003"/>
                  <a:pt x="2345392" y="10572"/>
                  <a:pt x="2264229" y="15808"/>
                </a:cubicBezTo>
                <a:cubicBezTo>
                  <a:pt x="2255068" y="16399"/>
                  <a:pt x="2238103" y="24517"/>
                  <a:pt x="2211977" y="15808"/>
                </a:cubicBezTo>
                <a:close/>
              </a:path>
            </a:pathLst>
          </a:custGeom>
          <a:gradFill rotWithShape="0">
            <a:gsLst>
              <a:gs pos="0">
                <a:srgbClr val="d1f2ba"/>
              </a:gs>
              <a:gs pos="100000">
                <a:srgbClr val="f0fae9"/>
              </a:gs>
            </a:gsLst>
            <a:lin ang="0"/>
          </a:gradFill>
          <a:ln w="15840">
            <a:solidFill>
              <a:srgbClr val="2077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7240" y="80964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ЦИФРОВОЙ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95" name="Объект 3" descr=""/>
          <p:cNvPicPr/>
          <p:nvPr/>
        </p:nvPicPr>
        <p:blipFill>
          <a:blip r:embed="rId1"/>
          <a:srcRect l="0" t="8787" r="0" b="0"/>
          <a:stretch/>
        </p:blipFill>
        <p:spPr>
          <a:xfrm>
            <a:off x="324000" y="3117960"/>
            <a:ext cx="2327040" cy="2265120"/>
          </a:xfrm>
          <a:prstGeom prst="rect">
            <a:avLst/>
          </a:prstGeom>
          <a:ln w="0">
            <a:noFill/>
          </a:ln>
        </p:spPr>
      </p:pic>
      <p:pic>
        <p:nvPicPr>
          <p:cNvPr id="796" name="Рисунок 3" descr=""/>
          <p:cNvPicPr/>
          <p:nvPr/>
        </p:nvPicPr>
        <p:blipFill>
          <a:blip r:embed="rId2"/>
          <a:stretch/>
        </p:blipFill>
        <p:spPr>
          <a:xfrm>
            <a:off x="6732720" y="5433840"/>
            <a:ext cx="2395440" cy="1320840"/>
          </a:xfrm>
          <a:prstGeom prst="rect">
            <a:avLst/>
          </a:prstGeom>
          <a:ln w="0">
            <a:noFill/>
          </a:ln>
        </p:spPr>
      </p:pic>
      <p:pic>
        <p:nvPicPr>
          <p:cNvPr id="797" name="Объект 3" descr=""/>
          <p:cNvPicPr/>
          <p:nvPr/>
        </p:nvPicPr>
        <p:blipFill>
          <a:blip r:embed="rId3"/>
          <a:srcRect l="0" t="8787" r="0" b="0"/>
          <a:stretch/>
        </p:blipFill>
        <p:spPr>
          <a:xfrm>
            <a:off x="6311880" y="3166920"/>
            <a:ext cx="2327400" cy="2264040"/>
          </a:xfrm>
          <a:prstGeom prst="rect">
            <a:avLst/>
          </a:prstGeom>
          <a:ln w="0">
            <a:noFill/>
          </a:ln>
        </p:spPr>
      </p:pic>
      <p:pic>
        <p:nvPicPr>
          <p:cNvPr id="798" name="Рисунок 4" descr=""/>
          <p:cNvPicPr/>
          <p:nvPr/>
        </p:nvPicPr>
        <p:blipFill>
          <a:blip r:embed="rId4"/>
          <a:srcRect l="20559" t="9687" r="20559" b="8387"/>
          <a:stretch/>
        </p:blipFill>
        <p:spPr>
          <a:xfrm>
            <a:off x="4211640" y="3166920"/>
            <a:ext cx="21970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Полилиния 4"/>
          <p:cNvSpPr/>
          <p:nvPr/>
        </p:nvSpPr>
        <p:spPr>
          <a:xfrm>
            <a:off x="2882880" y="297000"/>
            <a:ext cx="3822840" cy="1287360"/>
          </a:xfrm>
          <a:custGeom>
            <a:avLst/>
            <a:gdLst/>
            <a:ahLst/>
            <a:rect l="l" t="t" r="r" b="b"/>
            <a:pathLst>
              <a:path w="3823080" h="1288869">
                <a:moveTo>
                  <a:pt x="896983" y="52252"/>
                </a:moveTo>
                <a:lnTo>
                  <a:pt x="896983" y="52252"/>
                </a:lnTo>
                <a:cubicBezTo>
                  <a:pt x="728001" y="115620"/>
                  <a:pt x="895117" y="50179"/>
                  <a:pt x="792480" y="95795"/>
                </a:cubicBezTo>
                <a:cubicBezTo>
                  <a:pt x="778195" y="102144"/>
                  <a:pt x="763574" y="107723"/>
                  <a:pt x="748937" y="113212"/>
                </a:cubicBezTo>
                <a:cubicBezTo>
                  <a:pt x="740342" y="116435"/>
                  <a:pt x="731022" y="117815"/>
                  <a:pt x="722812" y="121920"/>
                </a:cubicBezTo>
                <a:cubicBezTo>
                  <a:pt x="701879" y="132387"/>
                  <a:pt x="683696" y="148354"/>
                  <a:pt x="661852" y="156755"/>
                </a:cubicBezTo>
                <a:cubicBezTo>
                  <a:pt x="642877" y="164053"/>
                  <a:pt x="524646" y="173959"/>
                  <a:pt x="522514" y="174172"/>
                </a:cubicBezTo>
                <a:cubicBezTo>
                  <a:pt x="336286" y="230042"/>
                  <a:pt x="550167" y="173173"/>
                  <a:pt x="287383" y="209006"/>
                </a:cubicBezTo>
                <a:cubicBezTo>
                  <a:pt x="271894" y="211118"/>
                  <a:pt x="258531" y="221081"/>
                  <a:pt x="243840" y="226423"/>
                </a:cubicBezTo>
                <a:cubicBezTo>
                  <a:pt x="226586" y="232697"/>
                  <a:pt x="191589" y="243840"/>
                  <a:pt x="191589" y="243840"/>
                </a:cubicBezTo>
                <a:cubicBezTo>
                  <a:pt x="168746" y="266684"/>
                  <a:pt x="150145" y="284236"/>
                  <a:pt x="130629" y="313509"/>
                </a:cubicBezTo>
                <a:cubicBezTo>
                  <a:pt x="125537" y="321147"/>
                  <a:pt x="126195" y="331512"/>
                  <a:pt x="121920" y="339635"/>
                </a:cubicBezTo>
                <a:cubicBezTo>
                  <a:pt x="97101" y="386792"/>
                  <a:pt x="68362" y="431815"/>
                  <a:pt x="43543" y="478972"/>
                </a:cubicBezTo>
                <a:cubicBezTo>
                  <a:pt x="39268" y="487095"/>
                  <a:pt x="37472" y="496305"/>
                  <a:pt x="34834" y="505098"/>
                </a:cubicBezTo>
                <a:cubicBezTo>
                  <a:pt x="30852" y="518372"/>
                  <a:pt x="13071" y="579080"/>
                  <a:pt x="8709" y="600892"/>
                </a:cubicBezTo>
                <a:cubicBezTo>
                  <a:pt x="5246" y="618206"/>
                  <a:pt x="2903" y="635726"/>
                  <a:pt x="0" y="653143"/>
                </a:cubicBezTo>
                <a:cubicBezTo>
                  <a:pt x="2903" y="728617"/>
                  <a:pt x="937" y="804437"/>
                  <a:pt x="8709" y="879566"/>
                </a:cubicBezTo>
                <a:cubicBezTo>
                  <a:pt x="9786" y="889977"/>
                  <a:pt x="18346" y="898690"/>
                  <a:pt x="26126" y="905692"/>
                </a:cubicBezTo>
                <a:cubicBezTo>
                  <a:pt x="47703" y="925111"/>
                  <a:pt x="73754" y="939052"/>
                  <a:pt x="95794" y="957943"/>
                </a:cubicBezTo>
                <a:cubicBezTo>
                  <a:pt x="114496" y="973973"/>
                  <a:pt x="130629" y="992778"/>
                  <a:pt x="148046" y="1010195"/>
                </a:cubicBezTo>
                <a:cubicBezTo>
                  <a:pt x="159657" y="1021806"/>
                  <a:pt x="169743" y="1035176"/>
                  <a:pt x="182880" y="1045029"/>
                </a:cubicBezTo>
                <a:cubicBezTo>
                  <a:pt x="290292" y="1125590"/>
                  <a:pt x="109802" y="991758"/>
                  <a:pt x="287383" y="1114698"/>
                </a:cubicBezTo>
                <a:cubicBezTo>
                  <a:pt x="302665" y="1125278"/>
                  <a:pt x="314871" y="1140166"/>
                  <a:pt x="330926" y="1149532"/>
                </a:cubicBezTo>
                <a:cubicBezTo>
                  <a:pt x="350022" y="1160671"/>
                  <a:pt x="371252" y="1167722"/>
                  <a:pt x="391886" y="1175658"/>
                </a:cubicBezTo>
                <a:cubicBezTo>
                  <a:pt x="409021" y="1182249"/>
                  <a:pt x="428861" y="1182891"/>
                  <a:pt x="444137" y="1193075"/>
                </a:cubicBezTo>
                <a:cubicBezTo>
                  <a:pt x="452846" y="1198881"/>
                  <a:pt x="460901" y="1205811"/>
                  <a:pt x="470263" y="1210492"/>
                </a:cubicBezTo>
                <a:cubicBezTo>
                  <a:pt x="482752" y="1216736"/>
                  <a:pt x="520068" y="1225120"/>
                  <a:pt x="531223" y="1227909"/>
                </a:cubicBezTo>
                <a:cubicBezTo>
                  <a:pt x="539932" y="1233715"/>
                  <a:pt x="547988" y="1240645"/>
                  <a:pt x="557349" y="1245326"/>
                </a:cubicBezTo>
                <a:cubicBezTo>
                  <a:pt x="565559" y="1249431"/>
                  <a:pt x="574434" y="1252440"/>
                  <a:pt x="583474" y="1254035"/>
                </a:cubicBezTo>
                <a:cubicBezTo>
                  <a:pt x="623902" y="1261169"/>
                  <a:pt x="665139" y="1263401"/>
                  <a:pt x="705394" y="1271452"/>
                </a:cubicBezTo>
                <a:cubicBezTo>
                  <a:pt x="769065" y="1284185"/>
                  <a:pt x="734284" y="1278067"/>
                  <a:pt x="809897" y="1288869"/>
                </a:cubicBezTo>
                <a:cubicBezTo>
                  <a:pt x="1050834" y="1283063"/>
                  <a:pt x="1292028" y="1283988"/>
                  <a:pt x="1532709" y="1271452"/>
                </a:cubicBezTo>
                <a:cubicBezTo>
                  <a:pt x="1571385" y="1269438"/>
                  <a:pt x="1608348" y="1254719"/>
                  <a:pt x="1645920" y="1245326"/>
                </a:cubicBezTo>
                <a:cubicBezTo>
                  <a:pt x="1654826" y="1243100"/>
                  <a:pt x="1662959" y="1237916"/>
                  <a:pt x="1672046" y="1236618"/>
                </a:cubicBezTo>
                <a:cubicBezTo>
                  <a:pt x="1703787" y="1232084"/>
                  <a:pt x="1735997" y="1231655"/>
                  <a:pt x="1767840" y="1227909"/>
                </a:cubicBezTo>
                <a:cubicBezTo>
                  <a:pt x="1828886" y="1220727"/>
                  <a:pt x="1823049" y="1216078"/>
                  <a:pt x="1889760" y="1201783"/>
                </a:cubicBezTo>
                <a:cubicBezTo>
                  <a:pt x="1907026" y="1198083"/>
                  <a:pt x="1924595" y="1195978"/>
                  <a:pt x="1942012" y="1193075"/>
                </a:cubicBezTo>
                <a:cubicBezTo>
                  <a:pt x="1976846" y="1181463"/>
                  <a:pt x="2012422" y="1171877"/>
                  <a:pt x="2046514" y="1158240"/>
                </a:cubicBezTo>
                <a:cubicBezTo>
                  <a:pt x="2055952" y="1154465"/>
                  <a:pt x="2104155" y="1117021"/>
                  <a:pt x="2107474" y="1114698"/>
                </a:cubicBezTo>
                <a:cubicBezTo>
                  <a:pt x="2124623" y="1102694"/>
                  <a:pt x="2142692" y="1092030"/>
                  <a:pt x="2159726" y="1079863"/>
                </a:cubicBezTo>
                <a:cubicBezTo>
                  <a:pt x="2186288" y="1060890"/>
                  <a:pt x="2237534" y="1017221"/>
                  <a:pt x="2272937" y="1001486"/>
                </a:cubicBezTo>
                <a:cubicBezTo>
                  <a:pt x="2283874" y="996625"/>
                  <a:pt x="2296160" y="995681"/>
                  <a:pt x="2307772" y="992778"/>
                </a:cubicBezTo>
                <a:cubicBezTo>
                  <a:pt x="2319383" y="986972"/>
                  <a:pt x="2330451" y="979918"/>
                  <a:pt x="2342606" y="975360"/>
                </a:cubicBezTo>
                <a:cubicBezTo>
                  <a:pt x="2353813" y="971157"/>
                  <a:pt x="2366439" y="971367"/>
                  <a:pt x="2377440" y="966652"/>
                </a:cubicBezTo>
                <a:cubicBezTo>
                  <a:pt x="2387060" y="962529"/>
                  <a:pt x="2394857" y="955041"/>
                  <a:pt x="2403566" y="949235"/>
                </a:cubicBezTo>
                <a:cubicBezTo>
                  <a:pt x="2484846" y="952138"/>
                  <a:pt x="2566702" y="947855"/>
                  <a:pt x="2647406" y="957943"/>
                </a:cubicBezTo>
                <a:cubicBezTo>
                  <a:pt x="2661808" y="959743"/>
                  <a:pt x="2669703" y="976756"/>
                  <a:pt x="2682240" y="984069"/>
                </a:cubicBezTo>
                <a:cubicBezTo>
                  <a:pt x="2704667" y="997152"/>
                  <a:pt x="2728933" y="1006810"/>
                  <a:pt x="2751909" y="1018903"/>
                </a:cubicBezTo>
                <a:cubicBezTo>
                  <a:pt x="2784096" y="1035843"/>
                  <a:pt x="2815610" y="1054038"/>
                  <a:pt x="2847703" y="1071155"/>
                </a:cubicBezTo>
                <a:cubicBezTo>
                  <a:pt x="2859158" y="1077264"/>
                  <a:pt x="2869864" y="1085756"/>
                  <a:pt x="2882537" y="1088572"/>
                </a:cubicBezTo>
                <a:cubicBezTo>
                  <a:pt x="2989813" y="1112411"/>
                  <a:pt x="2934671" y="1100740"/>
                  <a:pt x="3048000" y="1123406"/>
                </a:cubicBezTo>
                <a:cubicBezTo>
                  <a:pt x="3092107" y="1121983"/>
                  <a:pt x="3331589" y="1126196"/>
                  <a:pt x="3422469" y="1097280"/>
                </a:cubicBezTo>
                <a:cubicBezTo>
                  <a:pt x="3453396" y="1087440"/>
                  <a:pt x="3481812" y="1070581"/>
                  <a:pt x="3509554" y="1053738"/>
                </a:cubicBezTo>
                <a:cubicBezTo>
                  <a:pt x="3638960" y="975171"/>
                  <a:pt x="3634750" y="975534"/>
                  <a:pt x="3718560" y="905692"/>
                </a:cubicBezTo>
                <a:cubicBezTo>
                  <a:pt x="3724366" y="894081"/>
                  <a:pt x="3731419" y="883013"/>
                  <a:pt x="3735977" y="870858"/>
                </a:cubicBezTo>
                <a:cubicBezTo>
                  <a:pt x="3748870" y="836477"/>
                  <a:pt x="3754391" y="799197"/>
                  <a:pt x="3770812" y="766355"/>
                </a:cubicBezTo>
                <a:lnTo>
                  <a:pt x="3796937" y="714103"/>
                </a:lnTo>
                <a:cubicBezTo>
                  <a:pt x="3799840" y="693783"/>
                  <a:pt x="3801030" y="673144"/>
                  <a:pt x="3805646" y="653143"/>
                </a:cubicBezTo>
                <a:cubicBezTo>
                  <a:pt x="3809774" y="635254"/>
                  <a:pt x="3823636" y="619242"/>
                  <a:pt x="3823063" y="600892"/>
                </a:cubicBezTo>
                <a:cubicBezTo>
                  <a:pt x="3820690" y="524954"/>
                  <a:pt x="3814201" y="448457"/>
                  <a:pt x="3796937" y="374469"/>
                </a:cubicBezTo>
                <a:cubicBezTo>
                  <a:pt x="3793206" y="358478"/>
                  <a:pt x="3773199" y="351740"/>
                  <a:pt x="3762103" y="339635"/>
                </a:cubicBezTo>
                <a:cubicBezTo>
                  <a:pt x="3741252" y="316888"/>
                  <a:pt x="3722963" y="291786"/>
                  <a:pt x="3701143" y="269966"/>
                </a:cubicBezTo>
                <a:cubicBezTo>
                  <a:pt x="3635817" y="204640"/>
                  <a:pt x="3529442" y="122745"/>
                  <a:pt x="3448594" y="95795"/>
                </a:cubicBezTo>
                <a:cubicBezTo>
                  <a:pt x="3422468" y="87086"/>
                  <a:pt x="3395920" y="79555"/>
                  <a:pt x="3370217" y="69669"/>
                </a:cubicBezTo>
                <a:cubicBezTo>
                  <a:pt x="3358100" y="65009"/>
                  <a:pt x="3348032" y="55171"/>
                  <a:pt x="3335383" y="52252"/>
                </a:cubicBezTo>
                <a:cubicBezTo>
                  <a:pt x="3309770" y="46341"/>
                  <a:pt x="3283132" y="46446"/>
                  <a:pt x="3257006" y="43543"/>
                </a:cubicBezTo>
                <a:cubicBezTo>
                  <a:pt x="3233783" y="34835"/>
                  <a:pt x="3211657" y="22282"/>
                  <a:pt x="3187337" y="17418"/>
                </a:cubicBezTo>
                <a:cubicBezTo>
                  <a:pt x="3153061" y="10563"/>
                  <a:pt x="3117741" y="10546"/>
                  <a:pt x="3082834" y="8709"/>
                </a:cubicBezTo>
                <a:cubicBezTo>
                  <a:pt x="3007409" y="4739"/>
                  <a:pt x="2931886" y="2903"/>
                  <a:pt x="2856412" y="0"/>
                </a:cubicBezTo>
                <a:lnTo>
                  <a:pt x="2638697" y="8709"/>
                </a:lnTo>
                <a:cubicBezTo>
                  <a:pt x="2603793" y="10596"/>
                  <a:pt x="2569054" y="14836"/>
                  <a:pt x="2534194" y="17418"/>
                </a:cubicBezTo>
                <a:lnTo>
                  <a:pt x="2403566" y="26126"/>
                </a:lnTo>
                <a:cubicBezTo>
                  <a:pt x="2093013" y="103764"/>
                  <a:pt x="2418554" y="26928"/>
                  <a:pt x="2151017" y="78378"/>
                </a:cubicBezTo>
                <a:cubicBezTo>
                  <a:pt x="2112985" y="85692"/>
                  <a:pt x="2075838" y="97189"/>
                  <a:pt x="2037806" y="104503"/>
                </a:cubicBezTo>
                <a:cubicBezTo>
                  <a:pt x="1942198" y="122889"/>
                  <a:pt x="1914898" y="122728"/>
                  <a:pt x="1820092" y="130629"/>
                </a:cubicBezTo>
                <a:cubicBezTo>
                  <a:pt x="1707832" y="154685"/>
                  <a:pt x="1668379" y="164687"/>
                  <a:pt x="1550126" y="182880"/>
                </a:cubicBezTo>
                <a:cubicBezTo>
                  <a:pt x="1524145" y="186877"/>
                  <a:pt x="1497771" y="187871"/>
                  <a:pt x="1471749" y="191589"/>
                </a:cubicBezTo>
                <a:cubicBezTo>
                  <a:pt x="1457096" y="193682"/>
                  <a:pt x="1442836" y="198047"/>
                  <a:pt x="1428206" y="200298"/>
                </a:cubicBezTo>
                <a:cubicBezTo>
                  <a:pt x="1408536" y="203324"/>
                  <a:pt x="1319990" y="212912"/>
                  <a:pt x="1297577" y="217715"/>
                </a:cubicBezTo>
                <a:cubicBezTo>
                  <a:pt x="1276913" y="222143"/>
                  <a:pt x="1256937" y="229326"/>
                  <a:pt x="1236617" y="235132"/>
                </a:cubicBezTo>
                <a:cubicBezTo>
                  <a:pt x="1161143" y="232229"/>
                  <a:pt x="1085349" y="233939"/>
                  <a:pt x="1010194" y="226423"/>
                </a:cubicBezTo>
                <a:cubicBezTo>
                  <a:pt x="997277" y="225131"/>
                  <a:pt x="986708" y="215311"/>
                  <a:pt x="975360" y="209006"/>
                </a:cubicBezTo>
                <a:cubicBezTo>
                  <a:pt x="943848" y="191499"/>
                  <a:pt x="932912" y="183610"/>
                  <a:pt x="905692" y="165463"/>
                </a:cubicBezTo>
                <a:cubicBezTo>
                  <a:pt x="902789" y="156755"/>
                  <a:pt x="901706" y="147209"/>
                  <a:pt x="896983" y="139338"/>
                </a:cubicBezTo>
                <a:cubicBezTo>
                  <a:pt x="892759" y="132297"/>
                  <a:pt x="881176" y="129971"/>
                  <a:pt x="879566" y="121920"/>
                </a:cubicBezTo>
                <a:cubicBezTo>
                  <a:pt x="875012" y="99148"/>
                  <a:pt x="894080" y="63863"/>
                  <a:pt x="896983" y="52252"/>
                </a:cubicBezTo>
                <a:close/>
              </a:path>
            </a:pathLst>
          </a:custGeom>
          <a:solidFill>
            <a:srgbClr val="92d050"/>
          </a:solidFill>
          <a:ln w="15840">
            <a:solidFill>
              <a:srgbClr val="2077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798480" y="28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СЛОЖЕНИЕ  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939600" y="2332080"/>
            <a:ext cx="858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1ЛАГАЕМОЕ +2 СЛАГАЕМОЕ = ЗНАЧЕНИ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СУММЫ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02" name="Прямоугольник 3" descr=""/>
          <p:cNvPicPr/>
          <p:nvPr/>
        </p:nvPicPr>
        <p:blipFill>
          <a:blip r:embed="rId1"/>
          <a:stretch/>
        </p:blipFill>
        <p:spPr>
          <a:xfrm>
            <a:off x="536400" y="1395360"/>
            <a:ext cx="5699160" cy="1927440"/>
          </a:xfrm>
          <a:prstGeom prst="rect">
            <a:avLst/>
          </a:prstGeom>
          <a:ln w="0">
            <a:noFill/>
          </a:ln>
        </p:spPr>
      </p:pic>
      <p:pic>
        <p:nvPicPr>
          <p:cNvPr id="803" name="Рисунок 5" descr=""/>
          <p:cNvPicPr/>
          <p:nvPr/>
        </p:nvPicPr>
        <p:blipFill>
          <a:blip r:embed="rId2"/>
          <a:stretch/>
        </p:blipFill>
        <p:spPr>
          <a:xfrm>
            <a:off x="6324480" y="4906800"/>
            <a:ext cx="2568600" cy="1746360"/>
          </a:xfrm>
          <a:prstGeom prst="rect">
            <a:avLst/>
          </a:prstGeom>
          <a:ln w="0">
            <a:noFill/>
          </a:ln>
        </p:spPr>
      </p:pic>
      <p:pic>
        <p:nvPicPr>
          <p:cNvPr id="804" name="Прямоугольник 6" descr=""/>
          <p:cNvPicPr/>
          <p:nvPr/>
        </p:nvPicPr>
        <p:blipFill>
          <a:blip r:embed="rId3"/>
          <a:stretch/>
        </p:blipFill>
        <p:spPr>
          <a:xfrm>
            <a:off x="4979880" y="1341360"/>
            <a:ext cx="345132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Облако 3"/>
          <p:cNvSpPr/>
          <p:nvPr/>
        </p:nvSpPr>
        <p:spPr>
          <a:xfrm>
            <a:off x="826920" y="0"/>
            <a:ext cx="7345440" cy="112536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cfe6bc"/>
          </a:solidFill>
          <a:ln w="15840">
            <a:solidFill>
              <a:srgbClr val="2077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12360" y="-235080"/>
            <a:ext cx="77742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ТАБЛИЦА СЛОЖЕНИЯ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07" name="Рисунок 5" descr=""/>
          <p:cNvPicPr/>
          <p:nvPr/>
        </p:nvPicPr>
        <p:blipFill>
          <a:blip r:embed="rId1"/>
          <a:srcRect l="4258" t="11423" r="14796" b="36367"/>
          <a:stretch/>
        </p:blipFill>
        <p:spPr>
          <a:xfrm>
            <a:off x="4419720" y="1327320"/>
            <a:ext cx="4724280" cy="4189320"/>
          </a:xfrm>
          <a:prstGeom prst="rect">
            <a:avLst/>
          </a:prstGeom>
          <a:ln w="0">
            <a:noFill/>
          </a:ln>
        </p:spPr>
      </p:pic>
      <p:cxnSp>
        <p:nvCxnSpPr>
          <p:cNvPr id="808" name="Прямая со стрелкой 4"/>
          <p:cNvCxnSpPr/>
          <p:nvPr/>
        </p:nvCxnSpPr>
        <p:spPr>
          <a:xfrm>
            <a:off x="873000" y="1628280"/>
            <a:ext cx="136944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9" name="Прямоугольник 5"/>
          <p:cNvSpPr/>
          <p:nvPr/>
        </p:nvSpPr>
        <p:spPr>
          <a:xfrm>
            <a:off x="3444840" y="2362320"/>
            <a:ext cx="936720" cy="917280"/>
          </a:xfrm>
          <a:prstGeom prst="rect">
            <a:avLst/>
          </a:prstGeom>
          <a:solidFill>
            <a:srgbClr val="2fa3ee"/>
          </a:solidFill>
          <a:ln w="15840">
            <a:solidFill>
              <a:srgbClr val="2077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Прямоугольник 6"/>
          <p:cNvSpPr/>
          <p:nvPr/>
        </p:nvSpPr>
        <p:spPr>
          <a:xfrm>
            <a:off x="344520" y="2367000"/>
            <a:ext cx="934920" cy="917640"/>
          </a:xfrm>
          <a:prstGeom prst="rect">
            <a:avLst/>
          </a:prstGeom>
          <a:solidFill>
            <a:srgbClr val="dabeed"/>
          </a:solidFill>
          <a:ln w="15840">
            <a:solidFill>
              <a:srgbClr val="2077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Прямоугольник 7"/>
          <p:cNvSpPr/>
          <p:nvPr/>
        </p:nvSpPr>
        <p:spPr>
          <a:xfrm>
            <a:off x="1873080" y="2386080"/>
            <a:ext cx="936720" cy="917640"/>
          </a:xfrm>
          <a:prstGeom prst="rect">
            <a:avLst/>
          </a:prstGeom>
          <a:solidFill>
            <a:srgbClr val="ffff00"/>
          </a:solidFill>
          <a:ln w="15840">
            <a:solidFill>
              <a:srgbClr val="2077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Прямоугольник 8"/>
          <p:cNvSpPr/>
          <p:nvPr/>
        </p:nvSpPr>
        <p:spPr>
          <a:xfrm>
            <a:off x="1297440" y="2362320"/>
            <a:ext cx="5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Прямоугольник 9"/>
          <p:cNvSpPr/>
          <p:nvPr/>
        </p:nvSpPr>
        <p:spPr>
          <a:xfrm>
            <a:off x="2809440" y="2357280"/>
            <a:ext cx="5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Полилиния 1"/>
          <p:cNvSpPr/>
          <p:nvPr/>
        </p:nvSpPr>
        <p:spPr>
          <a:xfrm>
            <a:off x="1768320" y="77760"/>
            <a:ext cx="4911840" cy="1149480"/>
          </a:xfrm>
          <a:custGeom>
            <a:avLst/>
            <a:gdLst/>
            <a:ahLst/>
            <a:rect l="l" t="t" r="r" b="b"/>
            <a:pathLst>
              <a:path w="4911634" h="1149532">
                <a:moveTo>
                  <a:pt x="740229" y="0"/>
                </a:moveTo>
                <a:lnTo>
                  <a:pt x="740229" y="0"/>
                </a:lnTo>
                <a:cubicBezTo>
                  <a:pt x="722812" y="17417"/>
                  <a:pt x="704455" y="33943"/>
                  <a:pt x="687977" y="52252"/>
                </a:cubicBezTo>
                <a:cubicBezTo>
                  <a:pt x="678267" y="63040"/>
                  <a:pt x="672699" y="77443"/>
                  <a:pt x="661851" y="87086"/>
                </a:cubicBezTo>
                <a:cubicBezTo>
                  <a:pt x="646206" y="100993"/>
                  <a:pt x="624402" y="107118"/>
                  <a:pt x="609600" y="121920"/>
                </a:cubicBezTo>
                <a:cubicBezTo>
                  <a:pt x="600891" y="130629"/>
                  <a:pt x="593721" y="141214"/>
                  <a:pt x="583474" y="148046"/>
                </a:cubicBezTo>
                <a:cubicBezTo>
                  <a:pt x="575980" y="153042"/>
                  <a:pt x="527156" y="164303"/>
                  <a:pt x="522514" y="165463"/>
                </a:cubicBezTo>
                <a:cubicBezTo>
                  <a:pt x="388106" y="255068"/>
                  <a:pt x="491187" y="199682"/>
                  <a:pt x="174171" y="209006"/>
                </a:cubicBezTo>
                <a:cubicBezTo>
                  <a:pt x="140669" y="220173"/>
                  <a:pt x="116375" y="225535"/>
                  <a:pt x="87086" y="243840"/>
                </a:cubicBezTo>
                <a:cubicBezTo>
                  <a:pt x="74778" y="251533"/>
                  <a:pt x="63863" y="261257"/>
                  <a:pt x="52251" y="269966"/>
                </a:cubicBezTo>
                <a:cubicBezTo>
                  <a:pt x="46445" y="278675"/>
                  <a:pt x="39515" y="286730"/>
                  <a:pt x="34834" y="296092"/>
                </a:cubicBezTo>
                <a:cubicBezTo>
                  <a:pt x="27519" y="310722"/>
                  <a:pt x="21601" y="343106"/>
                  <a:pt x="17417" y="357052"/>
                </a:cubicBezTo>
                <a:cubicBezTo>
                  <a:pt x="12142" y="374637"/>
                  <a:pt x="0" y="409303"/>
                  <a:pt x="0" y="409303"/>
                </a:cubicBezTo>
                <a:cubicBezTo>
                  <a:pt x="1375" y="428552"/>
                  <a:pt x="-2375" y="517765"/>
                  <a:pt x="17417" y="557349"/>
                </a:cubicBezTo>
                <a:cubicBezTo>
                  <a:pt x="22098" y="566710"/>
                  <a:pt x="29641" y="574387"/>
                  <a:pt x="34834" y="583474"/>
                </a:cubicBezTo>
                <a:cubicBezTo>
                  <a:pt x="41275" y="594746"/>
                  <a:pt x="47429" y="606255"/>
                  <a:pt x="52251" y="618309"/>
                </a:cubicBezTo>
                <a:cubicBezTo>
                  <a:pt x="59070" y="635355"/>
                  <a:pt x="69669" y="670560"/>
                  <a:pt x="69669" y="670560"/>
                </a:cubicBezTo>
                <a:cubicBezTo>
                  <a:pt x="58817" y="789921"/>
                  <a:pt x="49978" y="824657"/>
                  <a:pt x="78377" y="966652"/>
                </a:cubicBezTo>
                <a:cubicBezTo>
                  <a:pt x="80430" y="976915"/>
                  <a:pt x="95794" y="978263"/>
                  <a:pt x="104503" y="984069"/>
                </a:cubicBezTo>
                <a:cubicBezTo>
                  <a:pt x="110309" y="992777"/>
                  <a:pt x="113747" y="1003656"/>
                  <a:pt x="121920" y="1010194"/>
                </a:cubicBezTo>
                <a:cubicBezTo>
                  <a:pt x="129088" y="1015929"/>
                  <a:pt x="139835" y="1014798"/>
                  <a:pt x="148046" y="1018903"/>
                </a:cubicBezTo>
                <a:cubicBezTo>
                  <a:pt x="208186" y="1048974"/>
                  <a:pt x="136507" y="1026904"/>
                  <a:pt x="209006" y="1045029"/>
                </a:cubicBezTo>
                <a:cubicBezTo>
                  <a:pt x="217714" y="1050835"/>
                  <a:pt x="225331" y="1058771"/>
                  <a:pt x="235131" y="1062446"/>
                </a:cubicBezTo>
                <a:cubicBezTo>
                  <a:pt x="248990" y="1067643"/>
                  <a:pt x="264314" y="1067564"/>
                  <a:pt x="278674" y="1071154"/>
                </a:cubicBezTo>
                <a:cubicBezTo>
                  <a:pt x="287580" y="1073380"/>
                  <a:pt x="295973" y="1077341"/>
                  <a:pt x="304800" y="1079863"/>
                </a:cubicBezTo>
                <a:cubicBezTo>
                  <a:pt x="316308" y="1083151"/>
                  <a:pt x="328427" y="1084369"/>
                  <a:pt x="339634" y="1088572"/>
                </a:cubicBezTo>
                <a:cubicBezTo>
                  <a:pt x="420634" y="1118947"/>
                  <a:pt x="320355" y="1096971"/>
                  <a:pt x="426720" y="1114697"/>
                </a:cubicBezTo>
                <a:cubicBezTo>
                  <a:pt x="455749" y="1111794"/>
                  <a:pt x="486389" y="1115959"/>
                  <a:pt x="513806" y="1105989"/>
                </a:cubicBezTo>
                <a:cubicBezTo>
                  <a:pt x="522433" y="1102852"/>
                  <a:pt x="518409" y="1088074"/>
                  <a:pt x="522514" y="1079863"/>
                </a:cubicBezTo>
                <a:cubicBezTo>
                  <a:pt x="527195" y="1070501"/>
                  <a:pt x="532977" y="1061560"/>
                  <a:pt x="539931" y="1053737"/>
                </a:cubicBezTo>
                <a:cubicBezTo>
                  <a:pt x="556295" y="1035327"/>
                  <a:pt x="574766" y="1018903"/>
                  <a:pt x="592183" y="1001486"/>
                </a:cubicBezTo>
                <a:cubicBezTo>
                  <a:pt x="600892" y="992777"/>
                  <a:pt x="611477" y="985608"/>
                  <a:pt x="618309" y="975360"/>
                </a:cubicBezTo>
                <a:cubicBezTo>
                  <a:pt x="624115" y="966651"/>
                  <a:pt x="628325" y="956635"/>
                  <a:pt x="635726" y="949234"/>
                </a:cubicBezTo>
                <a:cubicBezTo>
                  <a:pt x="652608" y="932351"/>
                  <a:pt x="666728" y="930192"/>
                  <a:pt x="687977" y="923109"/>
                </a:cubicBezTo>
                <a:cubicBezTo>
                  <a:pt x="696686" y="917303"/>
                  <a:pt x="704742" y="910373"/>
                  <a:pt x="714103" y="905692"/>
                </a:cubicBezTo>
                <a:cubicBezTo>
                  <a:pt x="752961" y="886263"/>
                  <a:pt x="778586" y="900819"/>
                  <a:pt x="827314" y="905692"/>
                </a:cubicBezTo>
                <a:lnTo>
                  <a:pt x="905691" y="931817"/>
                </a:lnTo>
                <a:cubicBezTo>
                  <a:pt x="914400" y="934720"/>
                  <a:pt x="922911" y="938300"/>
                  <a:pt x="931817" y="940526"/>
                </a:cubicBezTo>
                <a:lnTo>
                  <a:pt x="966651" y="949234"/>
                </a:lnTo>
                <a:cubicBezTo>
                  <a:pt x="987283" y="969866"/>
                  <a:pt x="1006779" y="991639"/>
                  <a:pt x="1036320" y="1001486"/>
                </a:cubicBezTo>
                <a:lnTo>
                  <a:pt x="1088571" y="1018903"/>
                </a:lnTo>
                <a:cubicBezTo>
                  <a:pt x="1097280" y="1021806"/>
                  <a:pt x="1105695" y="1025812"/>
                  <a:pt x="1114697" y="1027612"/>
                </a:cubicBezTo>
                <a:lnTo>
                  <a:pt x="1158240" y="1036320"/>
                </a:lnTo>
                <a:cubicBezTo>
                  <a:pt x="1251131" y="1033417"/>
                  <a:pt x="1344106" y="1032497"/>
                  <a:pt x="1436914" y="1027612"/>
                </a:cubicBezTo>
                <a:cubicBezTo>
                  <a:pt x="1455948" y="1026610"/>
                  <a:pt x="1502554" y="1016628"/>
                  <a:pt x="1524000" y="1010194"/>
                </a:cubicBezTo>
                <a:cubicBezTo>
                  <a:pt x="1541585" y="1004918"/>
                  <a:pt x="1576251" y="992777"/>
                  <a:pt x="1576251" y="992777"/>
                </a:cubicBezTo>
                <a:cubicBezTo>
                  <a:pt x="1674948" y="995680"/>
                  <a:pt x="1773747" y="996157"/>
                  <a:pt x="1872343" y="1001486"/>
                </a:cubicBezTo>
                <a:cubicBezTo>
                  <a:pt x="1881509" y="1001981"/>
                  <a:pt x="1889289" y="1010194"/>
                  <a:pt x="1898469" y="1010194"/>
                </a:cubicBezTo>
                <a:cubicBezTo>
                  <a:pt x="1991406" y="1010194"/>
                  <a:pt x="2084252" y="1004389"/>
                  <a:pt x="2177143" y="1001486"/>
                </a:cubicBezTo>
                <a:lnTo>
                  <a:pt x="2229394" y="984069"/>
                </a:lnTo>
                <a:lnTo>
                  <a:pt x="2255520" y="975360"/>
                </a:lnTo>
                <a:cubicBezTo>
                  <a:pt x="2313577" y="978263"/>
                  <a:pt x="2371945" y="977406"/>
                  <a:pt x="2429691" y="984069"/>
                </a:cubicBezTo>
                <a:cubicBezTo>
                  <a:pt x="2457671" y="987298"/>
                  <a:pt x="2491392" y="1006211"/>
                  <a:pt x="2516777" y="1018903"/>
                </a:cubicBezTo>
                <a:cubicBezTo>
                  <a:pt x="2557417" y="1013097"/>
                  <a:pt x="2599313" y="1013070"/>
                  <a:pt x="2638697" y="1001486"/>
                </a:cubicBezTo>
                <a:cubicBezTo>
                  <a:pt x="2650512" y="998011"/>
                  <a:pt x="2653139" y="979255"/>
                  <a:pt x="2664823" y="975360"/>
                </a:cubicBezTo>
                <a:cubicBezTo>
                  <a:pt x="2689761" y="967048"/>
                  <a:pt x="2717074" y="969555"/>
                  <a:pt x="2743200" y="966652"/>
                </a:cubicBezTo>
                <a:cubicBezTo>
                  <a:pt x="2769326" y="960846"/>
                  <a:pt x="2795613" y="955725"/>
                  <a:pt x="2821577" y="949234"/>
                </a:cubicBezTo>
                <a:cubicBezTo>
                  <a:pt x="2842079" y="944108"/>
                  <a:pt x="2861632" y="934914"/>
                  <a:pt x="2882537" y="931817"/>
                </a:cubicBezTo>
                <a:cubicBezTo>
                  <a:pt x="2940254" y="923266"/>
                  <a:pt x="3056709" y="914400"/>
                  <a:pt x="3056709" y="914400"/>
                </a:cubicBezTo>
                <a:cubicBezTo>
                  <a:pt x="3143795" y="917303"/>
                  <a:pt x="3231395" y="913215"/>
                  <a:pt x="3317966" y="923109"/>
                </a:cubicBezTo>
                <a:cubicBezTo>
                  <a:pt x="3386007" y="930885"/>
                  <a:pt x="3347140" y="945689"/>
                  <a:pt x="3370217" y="975360"/>
                </a:cubicBezTo>
                <a:cubicBezTo>
                  <a:pt x="3385339" y="994803"/>
                  <a:pt x="3405052" y="1010195"/>
                  <a:pt x="3422469" y="1027612"/>
                </a:cubicBezTo>
                <a:cubicBezTo>
                  <a:pt x="3436983" y="1042126"/>
                  <a:pt x="3445764" y="1067779"/>
                  <a:pt x="3466011" y="1071154"/>
                </a:cubicBezTo>
                <a:cubicBezTo>
                  <a:pt x="3532863" y="1082296"/>
                  <a:pt x="3500948" y="1076400"/>
                  <a:pt x="3561806" y="1088572"/>
                </a:cubicBezTo>
                <a:cubicBezTo>
                  <a:pt x="3573417" y="1094378"/>
                  <a:pt x="3584485" y="1101431"/>
                  <a:pt x="3596640" y="1105989"/>
                </a:cubicBezTo>
                <a:cubicBezTo>
                  <a:pt x="3607847" y="1110191"/>
                  <a:pt x="3620769" y="1109345"/>
                  <a:pt x="3631474" y="1114697"/>
                </a:cubicBezTo>
                <a:cubicBezTo>
                  <a:pt x="3720298" y="1159108"/>
                  <a:pt x="3615604" y="1128146"/>
                  <a:pt x="3701143" y="1149532"/>
                </a:cubicBezTo>
                <a:lnTo>
                  <a:pt x="3979817" y="1132114"/>
                </a:lnTo>
                <a:cubicBezTo>
                  <a:pt x="3998238" y="1130660"/>
                  <a:pt x="4055352" y="1118749"/>
                  <a:pt x="4075611" y="1114697"/>
                </a:cubicBezTo>
                <a:cubicBezTo>
                  <a:pt x="4087223" y="1105989"/>
                  <a:pt x="4099523" y="1098130"/>
                  <a:pt x="4110446" y="1088572"/>
                </a:cubicBezTo>
                <a:cubicBezTo>
                  <a:pt x="4122804" y="1077759"/>
                  <a:pt x="4131355" y="1062440"/>
                  <a:pt x="4145280" y="1053737"/>
                </a:cubicBezTo>
                <a:cubicBezTo>
                  <a:pt x="4155429" y="1047394"/>
                  <a:pt x="4168503" y="1047932"/>
                  <a:pt x="4180114" y="1045029"/>
                </a:cubicBezTo>
                <a:cubicBezTo>
                  <a:pt x="4191726" y="1039223"/>
                  <a:pt x="4204976" y="1035923"/>
                  <a:pt x="4214949" y="1027612"/>
                </a:cubicBezTo>
                <a:cubicBezTo>
                  <a:pt x="4222990" y="1020912"/>
                  <a:pt x="4223279" y="1006679"/>
                  <a:pt x="4232366" y="1001486"/>
                </a:cubicBezTo>
                <a:cubicBezTo>
                  <a:pt x="4245217" y="994142"/>
                  <a:pt x="4261237" y="994733"/>
                  <a:pt x="4275909" y="992777"/>
                </a:cubicBezTo>
                <a:cubicBezTo>
                  <a:pt x="4341149" y="984078"/>
                  <a:pt x="4431519" y="979500"/>
                  <a:pt x="4493623" y="975360"/>
                </a:cubicBezTo>
                <a:cubicBezTo>
                  <a:pt x="4543728" y="962834"/>
                  <a:pt x="4539030" y="959714"/>
                  <a:pt x="4606834" y="975360"/>
                </a:cubicBezTo>
                <a:cubicBezTo>
                  <a:pt x="4619484" y="978279"/>
                  <a:pt x="4630057" y="986971"/>
                  <a:pt x="4641669" y="992777"/>
                </a:cubicBezTo>
                <a:cubicBezTo>
                  <a:pt x="4711337" y="984069"/>
                  <a:pt x="4781222" y="976941"/>
                  <a:pt x="4850674" y="966652"/>
                </a:cubicBezTo>
                <a:cubicBezTo>
                  <a:pt x="4859755" y="965307"/>
                  <a:pt x="4869632" y="963678"/>
                  <a:pt x="4876800" y="957943"/>
                </a:cubicBezTo>
                <a:cubicBezTo>
                  <a:pt x="4887057" y="949737"/>
                  <a:pt x="4907349" y="905554"/>
                  <a:pt x="4911634" y="896983"/>
                </a:cubicBezTo>
                <a:cubicBezTo>
                  <a:pt x="4902926" y="760549"/>
                  <a:pt x="4898848" y="623740"/>
                  <a:pt x="4885509" y="487680"/>
                </a:cubicBezTo>
                <a:cubicBezTo>
                  <a:pt x="4884242" y="474760"/>
                  <a:pt x="4872912" y="464899"/>
                  <a:pt x="4868091" y="452846"/>
                </a:cubicBezTo>
                <a:cubicBezTo>
                  <a:pt x="4852563" y="414028"/>
                  <a:pt x="4856568" y="393776"/>
                  <a:pt x="4824549" y="365760"/>
                </a:cubicBezTo>
                <a:cubicBezTo>
                  <a:pt x="4811811" y="354614"/>
                  <a:pt x="4795802" y="347854"/>
                  <a:pt x="4781006" y="339634"/>
                </a:cubicBezTo>
                <a:cubicBezTo>
                  <a:pt x="4758249" y="326991"/>
                  <a:pt x="4726845" y="312872"/>
                  <a:pt x="4702629" y="304800"/>
                </a:cubicBezTo>
                <a:cubicBezTo>
                  <a:pt x="4691274" y="301015"/>
                  <a:pt x="4679406" y="298995"/>
                  <a:pt x="4667794" y="296092"/>
                </a:cubicBezTo>
                <a:cubicBezTo>
                  <a:pt x="4656183" y="287383"/>
                  <a:pt x="4645562" y="277167"/>
                  <a:pt x="4632960" y="269966"/>
                </a:cubicBezTo>
                <a:cubicBezTo>
                  <a:pt x="4624990" y="265411"/>
                  <a:pt x="4614472" y="266349"/>
                  <a:pt x="4606834" y="261257"/>
                </a:cubicBezTo>
                <a:cubicBezTo>
                  <a:pt x="4596587" y="254426"/>
                  <a:pt x="4590730" y="242290"/>
                  <a:pt x="4580709" y="235132"/>
                </a:cubicBezTo>
                <a:cubicBezTo>
                  <a:pt x="4570145" y="227586"/>
                  <a:pt x="4557486" y="223520"/>
                  <a:pt x="4545874" y="217714"/>
                </a:cubicBezTo>
                <a:cubicBezTo>
                  <a:pt x="4483498" y="238508"/>
                  <a:pt x="4554854" y="208780"/>
                  <a:pt x="4502331" y="252549"/>
                </a:cubicBezTo>
                <a:cubicBezTo>
                  <a:pt x="4492358" y="260860"/>
                  <a:pt x="4478061" y="262420"/>
                  <a:pt x="4467497" y="269966"/>
                </a:cubicBezTo>
                <a:cubicBezTo>
                  <a:pt x="4451751" y="281213"/>
                  <a:pt x="4436508" y="308194"/>
                  <a:pt x="4415246" y="313509"/>
                </a:cubicBezTo>
                <a:cubicBezTo>
                  <a:pt x="4389744" y="319884"/>
                  <a:pt x="4362995" y="319314"/>
                  <a:pt x="4336869" y="322217"/>
                </a:cubicBezTo>
                <a:cubicBezTo>
                  <a:pt x="4328160" y="325120"/>
                  <a:pt x="4319923" y="330926"/>
                  <a:pt x="4310743" y="330926"/>
                </a:cubicBezTo>
                <a:cubicBezTo>
                  <a:pt x="4220708" y="330926"/>
                  <a:pt x="4130464" y="330131"/>
                  <a:pt x="4040777" y="322217"/>
                </a:cubicBezTo>
                <a:cubicBezTo>
                  <a:pt x="4030351" y="321297"/>
                  <a:pt x="4022598" y="311611"/>
                  <a:pt x="4014651" y="304800"/>
                </a:cubicBezTo>
                <a:cubicBezTo>
                  <a:pt x="3868993" y="179951"/>
                  <a:pt x="4054846" y="336286"/>
                  <a:pt x="3962400" y="243840"/>
                </a:cubicBezTo>
                <a:cubicBezTo>
                  <a:pt x="3954999" y="236439"/>
                  <a:pt x="3944315" y="233124"/>
                  <a:pt x="3936274" y="226423"/>
                </a:cubicBezTo>
                <a:cubicBezTo>
                  <a:pt x="3892785" y="190182"/>
                  <a:pt x="3929937" y="206893"/>
                  <a:pt x="3884023" y="191589"/>
                </a:cubicBezTo>
                <a:cubicBezTo>
                  <a:pt x="3852092" y="194492"/>
                  <a:pt x="3819970" y="195763"/>
                  <a:pt x="3788229" y="200297"/>
                </a:cubicBezTo>
                <a:cubicBezTo>
                  <a:pt x="3757586" y="204675"/>
                  <a:pt x="3763570" y="212626"/>
                  <a:pt x="3735977" y="226423"/>
                </a:cubicBezTo>
                <a:cubicBezTo>
                  <a:pt x="3663872" y="262475"/>
                  <a:pt x="3758590" y="202639"/>
                  <a:pt x="3683726" y="252549"/>
                </a:cubicBezTo>
                <a:cubicBezTo>
                  <a:pt x="3655766" y="249054"/>
                  <a:pt x="3609359" y="246090"/>
                  <a:pt x="3579223" y="235132"/>
                </a:cubicBezTo>
                <a:cubicBezTo>
                  <a:pt x="3558446" y="227577"/>
                  <a:pt x="3538583" y="217715"/>
                  <a:pt x="3518263" y="209006"/>
                </a:cubicBezTo>
                <a:cubicBezTo>
                  <a:pt x="3483513" y="174256"/>
                  <a:pt x="3475200" y="158903"/>
                  <a:pt x="3431177" y="139337"/>
                </a:cubicBezTo>
                <a:cubicBezTo>
                  <a:pt x="3420240" y="134476"/>
                  <a:pt x="3407954" y="133532"/>
                  <a:pt x="3396343" y="130629"/>
                </a:cubicBezTo>
                <a:cubicBezTo>
                  <a:pt x="3387634" y="124823"/>
                  <a:pt x="3379781" y="117463"/>
                  <a:pt x="3370217" y="113212"/>
                </a:cubicBezTo>
                <a:cubicBezTo>
                  <a:pt x="3353440" y="105755"/>
                  <a:pt x="3317966" y="95794"/>
                  <a:pt x="3317966" y="95794"/>
                </a:cubicBezTo>
                <a:cubicBezTo>
                  <a:pt x="3245394" y="107406"/>
                  <a:pt x="3169974" y="107388"/>
                  <a:pt x="3100251" y="130629"/>
                </a:cubicBezTo>
                <a:cubicBezTo>
                  <a:pt x="3031249" y="153630"/>
                  <a:pt x="3066109" y="145028"/>
                  <a:pt x="2995749" y="156754"/>
                </a:cubicBezTo>
                <a:cubicBezTo>
                  <a:pt x="2978332" y="162560"/>
                  <a:pt x="2961400" y="170103"/>
                  <a:pt x="2943497" y="174172"/>
                </a:cubicBezTo>
                <a:cubicBezTo>
                  <a:pt x="2897417" y="184645"/>
                  <a:pt x="2804160" y="200297"/>
                  <a:pt x="2804160" y="200297"/>
                </a:cubicBezTo>
                <a:cubicBezTo>
                  <a:pt x="2795451" y="206103"/>
                  <a:pt x="2786075" y="211013"/>
                  <a:pt x="2778034" y="217714"/>
                </a:cubicBezTo>
                <a:cubicBezTo>
                  <a:pt x="2768573" y="225598"/>
                  <a:pt x="2762156" y="237008"/>
                  <a:pt x="2751909" y="243840"/>
                </a:cubicBezTo>
                <a:cubicBezTo>
                  <a:pt x="2744271" y="248932"/>
                  <a:pt x="2734221" y="248933"/>
                  <a:pt x="2725783" y="252549"/>
                </a:cubicBezTo>
                <a:cubicBezTo>
                  <a:pt x="2713851" y="257663"/>
                  <a:pt x="2702881" y="264852"/>
                  <a:pt x="2690949" y="269966"/>
                </a:cubicBezTo>
                <a:cubicBezTo>
                  <a:pt x="2652744" y="286339"/>
                  <a:pt x="2624386" y="282718"/>
                  <a:pt x="2577737" y="287383"/>
                </a:cubicBezTo>
                <a:cubicBezTo>
                  <a:pt x="2458720" y="284480"/>
                  <a:pt x="2339401" y="287634"/>
                  <a:pt x="2220686" y="278674"/>
                </a:cubicBezTo>
                <a:cubicBezTo>
                  <a:pt x="2184881" y="275972"/>
                  <a:pt x="2151017" y="261258"/>
                  <a:pt x="2116183" y="252549"/>
                </a:cubicBezTo>
                <a:cubicBezTo>
                  <a:pt x="2088749" y="245690"/>
                  <a:pt x="2080198" y="244498"/>
                  <a:pt x="2055223" y="235132"/>
                </a:cubicBezTo>
                <a:cubicBezTo>
                  <a:pt x="2025748" y="224079"/>
                  <a:pt x="2013245" y="216918"/>
                  <a:pt x="1985554" y="209006"/>
                </a:cubicBezTo>
                <a:cubicBezTo>
                  <a:pt x="1974046" y="205718"/>
                  <a:pt x="1962228" y="203585"/>
                  <a:pt x="1950720" y="200297"/>
                </a:cubicBezTo>
                <a:cubicBezTo>
                  <a:pt x="1941894" y="197775"/>
                  <a:pt x="1933420" y="194111"/>
                  <a:pt x="1924594" y="191589"/>
                </a:cubicBezTo>
                <a:cubicBezTo>
                  <a:pt x="1913086" y="188301"/>
                  <a:pt x="1901307" y="186029"/>
                  <a:pt x="1889760" y="182880"/>
                </a:cubicBezTo>
                <a:cubicBezTo>
                  <a:pt x="1869372" y="177319"/>
                  <a:pt x="1849646" y="168937"/>
                  <a:pt x="1828800" y="165463"/>
                </a:cubicBezTo>
                <a:cubicBezTo>
                  <a:pt x="1797173" y="160192"/>
                  <a:pt x="1764893" y="160110"/>
                  <a:pt x="1733006" y="156754"/>
                </a:cubicBezTo>
                <a:cubicBezTo>
                  <a:pt x="1714980" y="154857"/>
                  <a:pt x="1623348" y="143150"/>
                  <a:pt x="1602377" y="139337"/>
                </a:cubicBezTo>
                <a:cubicBezTo>
                  <a:pt x="1590601" y="137196"/>
                  <a:pt x="1579154" y="133532"/>
                  <a:pt x="1567543" y="130629"/>
                </a:cubicBezTo>
                <a:cubicBezTo>
                  <a:pt x="1486301" y="136432"/>
                  <a:pt x="1466392" y="117675"/>
                  <a:pt x="1419497" y="156754"/>
                </a:cubicBezTo>
                <a:cubicBezTo>
                  <a:pt x="1410036" y="164638"/>
                  <a:pt x="1403093" y="175319"/>
                  <a:pt x="1393371" y="182880"/>
                </a:cubicBezTo>
                <a:cubicBezTo>
                  <a:pt x="1376848" y="195731"/>
                  <a:pt x="1341120" y="217714"/>
                  <a:pt x="1341120" y="217714"/>
                </a:cubicBezTo>
                <a:cubicBezTo>
                  <a:pt x="1335314" y="226423"/>
                  <a:pt x="1332412" y="238034"/>
                  <a:pt x="1323703" y="243840"/>
                </a:cubicBezTo>
                <a:cubicBezTo>
                  <a:pt x="1315040" y="249615"/>
                  <a:pt x="1236792" y="261228"/>
                  <a:pt x="1236617" y="261257"/>
                </a:cubicBezTo>
                <a:cubicBezTo>
                  <a:pt x="1149323" y="296174"/>
                  <a:pt x="1158277" y="299582"/>
                  <a:pt x="1010194" y="269966"/>
                </a:cubicBezTo>
                <a:cubicBezTo>
                  <a:pt x="994092" y="266746"/>
                  <a:pt x="987828" y="245819"/>
                  <a:pt x="975360" y="235132"/>
                </a:cubicBezTo>
                <a:cubicBezTo>
                  <a:pt x="967413" y="228320"/>
                  <a:pt x="957943" y="223520"/>
                  <a:pt x="949234" y="217714"/>
                </a:cubicBezTo>
                <a:cubicBezTo>
                  <a:pt x="943428" y="209006"/>
                  <a:pt x="937010" y="200676"/>
                  <a:pt x="931817" y="191589"/>
                </a:cubicBezTo>
                <a:cubicBezTo>
                  <a:pt x="925376" y="180317"/>
                  <a:pt x="921946" y="167318"/>
                  <a:pt x="914400" y="156754"/>
                </a:cubicBezTo>
                <a:cubicBezTo>
                  <a:pt x="907242" y="146732"/>
                  <a:pt x="895835" y="140350"/>
                  <a:pt x="888274" y="130629"/>
                </a:cubicBezTo>
                <a:cubicBezTo>
                  <a:pt x="875422" y="114106"/>
                  <a:pt x="870857" y="89988"/>
                  <a:pt x="853440" y="78377"/>
                </a:cubicBezTo>
                <a:cubicBezTo>
                  <a:pt x="836023" y="66766"/>
                  <a:pt x="821047" y="50163"/>
                  <a:pt x="801189" y="43543"/>
                </a:cubicBezTo>
                <a:cubicBezTo>
                  <a:pt x="768905" y="32781"/>
                  <a:pt x="750389" y="7257"/>
                  <a:pt x="740229" y="0"/>
                </a:cubicBezTo>
                <a:close/>
              </a:path>
            </a:pathLst>
          </a:custGeom>
          <a:solidFill>
            <a:srgbClr val="ffc000"/>
          </a:solidFill>
          <a:ln w="15840">
            <a:solidFill>
              <a:srgbClr val="2077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4"/>
          <p:cNvSpPr/>
          <p:nvPr/>
        </p:nvSpPr>
        <p:spPr>
          <a:xfrm>
            <a:off x="3526560" y="868320"/>
            <a:ext cx="17352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0" spc="-1" strike="noStrike">
                <a:solidFill>
                  <a:srgbClr val="4bcaad"/>
                </a:solidFill>
                <a:latin typeface="Arial"/>
              </a:rPr>
              <a:t>10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6"/>
          <p:cNvSpPr/>
          <p:nvPr/>
        </p:nvSpPr>
        <p:spPr>
          <a:xfrm flipV="1">
            <a:off x="3228840" y="2502000"/>
            <a:ext cx="719280" cy="576000"/>
          </a:xfrm>
          <a:prstGeom prst="line">
            <a:avLst/>
          </a:prstGeom>
          <a:ln w="57240">
            <a:solidFill>
              <a:srgbClr val="4bca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7"/>
          <p:cNvSpPr/>
          <p:nvPr/>
        </p:nvSpPr>
        <p:spPr>
          <a:xfrm>
            <a:off x="5027760" y="2502000"/>
            <a:ext cx="720720" cy="576000"/>
          </a:xfrm>
          <a:prstGeom prst="line">
            <a:avLst/>
          </a:prstGeom>
          <a:ln w="57240">
            <a:solidFill>
              <a:srgbClr val="4bca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24"/>
          <p:cNvSpPr/>
          <p:nvPr/>
        </p:nvSpPr>
        <p:spPr>
          <a:xfrm>
            <a:off x="2411280" y="260280"/>
            <a:ext cx="70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став чис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Рисунок 26" descr=""/>
          <p:cNvPicPr/>
          <p:nvPr/>
        </p:nvPicPr>
        <p:blipFill>
          <a:blip r:embed="rId1"/>
          <a:stretch/>
        </p:blipFill>
        <p:spPr>
          <a:xfrm>
            <a:off x="6324480" y="4906800"/>
            <a:ext cx="2568600" cy="1746360"/>
          </a:xfrm>
          <a:prstGeom prst="rect">
            <a:avLst/>
          </a:prstGeom>
          <a:ln w="0">
            <a:noFill/>
          </a:ln>
        </p:spPr>
      </p:pic>
      <p:sp>
        <p:nvSpPr>
          <p:cNvPr id="820" name="Rectangle 10"/>
          <p:cNvSpPr/>
          <p:nvPr/>
        </p:nvSpPr>
        <p:spPr>
          <a:xfrm>
            <a:off x="5443560" y="3078000"/>
            <a:ext cx="816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17:14:38Z</dcterms:created>
  <dc:creator>User</dc:creator>
  <dc:description/>
  <dc:language>en-US</dc:language>
  <cp:lastModifiedBy>Учитель</cp:lastModifiedBy>
  <dcterms:modified xsi:type="dcterms:W3CDTF">2016-02-05T05:45:41Z</dcterms:modified>
  <cp:revision>33</cp:revision>
  <dc:subject/>
  <dc:title>Слайд 1</dc:title>
</cp:coreProperties>
</file>