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6BD-0060-4297-B4F1-7B98FFC8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2B0-A11D-4A0B-BF56-12BE960A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1C7-A958-4175-A6F2-B8423816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6E6-4246-4C1D-8A34-AEC6C615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6FB-B0DE-4B19-BD91-40681E57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8FA-9AD5-4BAF-87D8-C0311475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EBB-4549-4362-9E16-5865E31F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F93-DA2B-4FCF-8CC0-FEB62913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138-57D9-4235-834B-BA1F789F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3D7-B54B-4B56-94CA-A3B4554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05F-A0B0-4D91-82B1-6874FF55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FAB-569E-4205-B809-577C5705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99"/>
            </a:gs>
            <a:gs pos="100000">
              <a:srgbClr val="ff66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7640-BBAE-4659-AD6E-B2E8CCBCB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395280" y="549360"/>
            <a:ext cx="8209080" cy="33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36f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Oval 4"/>
          <p:cNvGrpSpPr/>
          <p:nvPr/>
        </p:nvGrpSpPr>
        <p:grpSpPr>
          <a:xfrm>
            <a:off x="13636800" y="2700360"/>
            <a:ext cx="304560" cy="231840"/>
            <a:chOff x="13636800" y="2700360"/>
            <a:chExt cx="304560" cy="231840"/>
          </a:xfrm>
        </p:grpSpPr>
        <p:pic>
          <p:nvPicPr>
            <p:cNvPr id="43" name="Oval 4" descr=""/>
            <p:cNvPicPr/>
            <p:nvPr/>
          </p:nvPicPr>
          <p:blipFill>
            <a:blip r:embed="rId1"/>
            <a:stretch/>
          </p:blipFill>
          <p:spPr>
            <a:xfrm>
              <a:off x="13636800" y="2700360"/>
              <a:ext cx="3045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 rot="10800000">
              <a:off x="13687560" y="2739960"/>
              <a:ext cx="20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560" y="119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Теория и практика становления дошкольного образования в Миякинском райо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Без имени-5"/>
          <p:cNvPicPr/>
          <p:nvPr/>
        </p:nvPicPr>
        <p:blipFill>
          <a:blip r:embed="rId2"/>
          <a:stretch/>
        </p:blipFill>
        <p:spPr>
          <a:xfrm>
            <a:off x="2627280" y="3645000"/>
            <a:ext cx="4173480" cy="282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179280" y="50760"/>
            <a:ext cx="5316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личество дошкольных образовательных учре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Диаграмма 4"/>
          <p:cNvGraphicFramePr/>
          <p:nvPr/>
        </p:nvGraphicFramePr>
        <p:xfrm>
          <a:off x="250920" y="620640"/>
          <a:ext cx="4427280" cy="29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44272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6"/>
          <p:cNvSpPr/>
          <p:nvPr/>
        </p:nvSpPr>
        <p:spPr>
          <a:xfrm>
            <a:off x="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851280" y="3141720"/>
            <a:ext cx="5292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личество детей охваченных дошкольны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Диаграмма 6"/>
          <p:cNvGraphicFramePr/>
          <p:nvPr/>
        </p:nvGraphicFramePr>
        <p:xfrm>
          <a:off x="3924360" y="3716280"/>
          <a:ext cx="5219640" cy="314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Диаграмма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716280"/>
                    <a:ext cx="52196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9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4"/>
          <p:cNvSpPr/>
          <p:nvPr/>
        </p:nvSpPr>
        <p:spPr>
          <a:xfrm>
            <a:off x="1763640" y="260280"/>
            <a:ext cx="5545080" cy="1224000"/>
          </a:xfrm>
          <a:prstGeom prst="ellipse">
            <a:avLst/>
          </a:prstGeom>
          <a:gradFill rotWithShape="0">
            <a:gsLst>
              <a:gs pos="0">
                <a:srgbClr val="5e36f0"/>
              </a:gs>
              <a:gs pos="50000">
                <a:srgbClr val="ffffff"/>
              </a:gs>
              <a:gs pos="100000">
                <a:srgbClr val="5e36f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астоящее время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территории муниципального района Миякинский район программы дошкольного  образования реализуют 35 муниципальных дошкольных образовательных бюджетных учреждений, из них 3 образовательных учреждения для детей дошкольного и младшего школьного возраста (начальные школы - детский сад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SC_8679"/>
          <p:cNvPicPr/>
          <p:nvPr/>
        </p:nvPicPr>
        <p:blipFill>
          <a:blip r:embed="rId1"/>
          <a:stretch/>
        </p:blipFill>
        <p:spPr>
          <a:xfrm>
            <a:off x="0" y="0"/>
            <a:ext cx="3708360" cy="246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DSC_8675"/>
          <p:cNvPicPr/>
          <p:nvPr/>
        </p:nvPicPr>
        <p:blipFill>
          <a:blip r:embed="rId2"/>
          <a:stretch/>
        </p:blipFill>
        <p:spPr>
          <a:xfrm>
            <a:off x="5614920" y="4511520"/>
            <a:ext cx="3529080" cy="2346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Родниковка"/>
          <p:cNvPicPr/>
          <p:nvPr/>
        </p:nvPicPr>
        <p:blipFill>
          <a:blip r:embed="rId3"/>
          <a:stretch/>
        </p:blipFill>
        <p:spPr>
          <a:xfrm>
            <a:off x="468360" y="1916280"/>
            <a:ext cx="3635280" cy="240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У Карамалы"/>
          <p:cNvPicPr/>
          <p:nvPr/>
        </p:nvPicPr>
        <p:blipFill>
          <a:blip r:embed="rId4"/>
          <a:stretch/>
        </p:blipFill>
        <p:spPr>
          <a:xfrm>
            <a:off x="900000" y="3645000"/>
            <a:ext cx="4140360" cy="275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Миякитамак"/>
          <p:cNvPicPr/>
          <p:nvPr/>
        </p:nvPicPr>
        <p:blipFill>
          <a:blip r:embed="rId5"/>
          <a:stretch/>
        </p:blipFill>
        <p:spPr>
          <a:xfrm>
            <a:off x="4157640" y="15840"/>
            <a:ext cx="3995640" cy="265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Аняс"/>
          <p:cNvPicPr/>
          <p:nvPr/>
        </p:nvPicPr>
        <p:blipFill>
          <a:blip r:embed="rId6"/>
          <a:stretch/>
        </p:blipFill>
        <p:spPr>
          <a:xfrm>
            <a:off x="4788000" y="1989000"/>
            <a:ext cx="4066920" cy="2706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4"/>
          <p:cNvSpPr/>
          <p:nvPr/>
        </p:nvSpPr>
        <p:spPr>
          <a:xfrm>
            <a:off x="826920" y="260280"/>
            <a:ext cx="7490160" cy="1297080"/>
          </a:xfrm>
          <a:prstGeom prst="ellipse">
            <a:avLst/>
          </a:prstGeom>
          <a:gradFill rotWithShape="0">
            <a:gsLst>
              <a:gs pos="0">
                <a:srgbClr val="5e36f0"/>
              </a:gs>
              <a:gs pos="50000">
                <a:srgbClr val="ffffff"/>
              </a:gs>
              <a:gs pos="100000">
                <a:srgbClr val="5e36f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2009 учебном год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спешно прошли государственную аккредитацию 33 дошкольных образовательных учреждения. Дошкольные образовательные бюджетные учреждения на территории муниципального района посещают 1046 ребенка. Охват дошкольным образованием составляет 58%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Без имени-17"/>
          <p:cNvPicPr/>
          <p:nvPr/>
        </p:nvPicPr>
        <p:blipFill>
          <a:blip r:embed="rId1"/>
          <a:stretch/>
        </p:blipFill>
        <p:spPr>
          <a:xfrm>
            <a:off x="0" y="0"/>
            <a:ext cx="4859280" cy="340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Без имени-1"/>
          <p:cNvPicPr/>
          <p:nvPr/>
        </p:nvPicPr>
        <p:blipFill>
          <a:blip r:embed="rId2"/>
          <a:stretch/>
        </p:blipFill>
        <p:spPr>
          <a:xfrm>
            <a:off x="4967280" y="260280"/>
            <a:ext cx="4176720" cy="2938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Без имени-1"/>
          <p:cNvPicPr/>
          <p:nvPr/>
        </p:nvPicPr>
        <p:blipFill>
          <a:blip r:embed="rId3"/>
          <a:stretch/>
        </p:blipFill>
        <p:spPr>
          <a:xfrm>
            <a:off x="179280" y="3500280"/>
            <a:ext cx="4067280" cy="275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DSC00265"/>
          <p:cNvPicPr/>
          <p:nvPr/>
        </p:nvPicPr>
        <p:blipFill>
          <a:blip r:embed="rId4"/>
          <a:stretch/>
        </p:blipFill>
        <p:spPr>
          <a:xfrm>
            <a:off x="4356000" y="3429000"/>
            <a:ext cx="47880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5"/>
          <p:cNvSpPr/>
          <p:nvPr/>
        </p:nvSpPr>
        <p:spPr>
          <a:xfrm>
            <a:off x="468360" y="260280"/>
            <a:ext cx="8459640" cy="792360"/>
          </a:xfrm>
          <a:prstGeom prst="ellipse">
            <a:avLst/>
          </a:prstGeom>
          <a:gradFill rotWithShape="0">
            <a:gsLst>
              <a:gs pos="0">
                <a:srgbClr val="5e36f0"/>
              </a:gs>
              <a:gs pos="50000">
                <a:srgbClr val="ffffff"/>
              </a:gs>
              <a:gs pos="100000">
                <a:srgbClr val="5e36f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етодическое обесп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 1999 года работали по программ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.А.Васильевой «Программа воспитания и обучения дошкольников»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анное время образовательный процесс ДОУ Миякинского района выстроен на основе грамотного сочетания базисной программы «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грамма воспитания и обучения детей дошкольного возраста» под редакцией М.А.Васильевой, В.Гербовой, Т.Комаровой, комплексной программы «Радуга» Т.Доронов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 использова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гиональ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ря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арциальных 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ОУ № 4 с. Киргиз-Мияки реализуется технологи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«Детский сад-дом радости» Н.М.Крыловой, В.Т.Иванов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униципальном бюджетном учреждении «Отдел образования администрации муниципального района Миякинский район Республики Башкортостан» разработана и принят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грамма «Развитие дошкольного образования на территории муниципального района Миякинский район на 2009-2013 годы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P1030176"/>
          <p:cNvPicPr/>
          <p:nvPr/>
        </p:nvPicPr>
        <p:blipFill>
          <a:blip r:embed="rId1"/>
          <a:stretch/>
        </p:blipFill>
        <p:spPr>
          <a:xfrm>
            <a:off x="0" y="0"/>
            <a:ext cx="4446720" cy="501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P1030177"/>
          <p:cNvPicPr/>
          <p:nvPr/>
        </p:nvPicPr>
        <p:blipFill>
          <a:blip r:embed="rId2"/>
          <a:stretch/>
        </p:blipFill>
        <p:spPr>
          <a:xfrm>
            <a:off x="4692600" y="549360"/>
            <a:ext cx="426888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Без имени-8"/>
          <p:cNvPicPr/>
          <p:nvPr/>
        </p:nvPicPr>
        <p:blipFill>
          <a:blip r:embed="rId1"/>
          <a:stretch/>
        </p:blipFill>
        <p:spPr>
          <a:xfrm>
            <a:off x="0" y="0"/>
            <a:ext cx="5029200" cy="3562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Без имени-10"/>
          <p:cNvPicPr/>
          <p:nvPr/>
        </p:nvPicPr>
        <p:blipFill>
          <a:blip r:embed="rId2"/>
          <a:stretch/>
        </p:blipFill>
        <p:spPr>
          <a:xfrm>
            <a:off x="4105440" y="2828880"/>
            <a:ext cx="50385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Без имени-1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74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Без имени-11"/>
          <p:cNvPicPr/>
          <p:nvPr/>
        </p:nvPicPr>
        <p:blipFill>
          <a:blip r:embed="rId2"/>
          <a:stretch/>
        </p:blipFill>
        <p:spPr>
          <a:xfrm>
            <a:off x="0" y="3486240"/>
            <a:ext cx="5057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95280" y="692280"/>
            <a:ext cx="820908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«Теория и практика становления дошкольного образования в Миякинском район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ить особенности становления дошкольного образования в Миякинском рай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Становление дошкольного образования в Миякинском рай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собенности становления дошкольного образования в рай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68360" y="0"/>
            <a:ext cx="8351640" cy="1844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36f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Гипотеза: </a:t>
            </a:r>
            <a:r>
              <a:rPr b="0" lang="ru-RU" sz="2500" spc="-1" strike="noStrike">
                <a:solidFill>
                  <a:srgbClr val="000000"/>
                </a:solidFill>
                <a:latin typeface="Albertus Extra Bold"/>
              </a:rPr>
              <a:t>становление и развитие системы дошкольного образования будет развиваться при условии если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4716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проанализировано развитие и становление системы дошко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обобщен опыт предыдущих поколений, который будет использоваться при поиске новых путей развития системы дошкольного образов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Без имени-6"/>
          <p:cNvPicPr/>
          <p:nvPr/>
        </p:nvPicPr>
        <p:blipFill>
          <a:blip r:embed="rId1"/>
          <a:stretch/>
        </p:blipFill>
        <p:spPr>
          <a:xfrm>
            <a:off x="4932360" y="2801880"/>
            <a:ext cx="421164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611280" y="189000"/>
            <a:ext cx="806436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36f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8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Изучение архивных документов по данному вопр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Определение наиболее эффективных путей, средств сохранения сетей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Провести сравнительный анализ развития дошкольного образования  в Миякинском рай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Изучение психолого-перагогической и методической литературы по становлению сетей дошкольного образования в рай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 Изучение нормативно-правовых документов регламентирующих деятельность дошкольных образовательных учре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ез имени-8"/>
          <p:cNvPicPr/>
          <p:nvPr/>
        </p:nvPicPr>
        <p:blipFill>
          <a:blip r:embed="rId1"/>
          <a:stretch/>
        </p:blipFill>
        <p:spPr>
          <a:xfrm>
            <a:off x="0" y="0"/>
            <a:ext cx="5029200" cy="356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Без имени-10"/>
          <p:cNvPicPr/>
          <p:nvPr/>
        </p:nvPicPr>
        <p:blipFill>
          <a:blip r:embed="rId2"/>
          <a:stretch/>
        </p:blipFill>
        <p:spPr>
          <a:xfrm>
            <a:off x="4105440" y="2828880"/>
            <a:ext cx="5038560" cy="402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611280" y="0"/>
            <a:ext cx="806436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36f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еликие педагоги дошкольного образ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К.Д. Ушинский,  А.С.Симанович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Е.Н.Водовозова, Л.К.Шлегер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Е.И.Тихеева, Е.А.Флерина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Е.А.Аркин, А.П.Усова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Н.К.Крупская.</a:t>
            </a:r>
            <a:r>
              <a:rPr b="1" lang="ru-RU" sz="45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становление ДО в Башкортостан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6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фе действовали частные площадки (учреждения, организующие прием в летний период) для детей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7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фимском губернском отделе народного образования был открыт дошкольный отдел, преобразованный в 1920 году в отдел дошкольного воспитания с подотделами (дошкольных учреждений и научно-методическ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первом Башкирском съезде деятелей народного просвещения 25 декабря 1919 г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рассматривался вопрос о создании дошкольных учреж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вые государственные площадки были открыты в парках и сада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фы: в саду им. И.С.Якутова на 1200 мест, в парке Свободы на 700 ме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еспублике работало около 400 детских садов, в том числе 89 башкирских, 125 татарских, 162 рус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фе было открыто Бюро ассоциации дошкольных работников, в 1930 году проведена первая Башкирская конференция дошкольных работников. В 1932 году в Уфе при институте педагоги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организована программно-методическая дошкольная сек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Без имени-3"/>
          <p:cNvPicPr/>
          <p:nvPr/>
        </p:nvPicPr>
        <p:blipFill>
          <a:blip r:embed="rId1"/>
          <a:stretch/>
        </p:blipFill>
        <p:spPr>
          <a:xfrm>
            <a:off x="611280" y="1413000"/>
            <a:ext cx="3371760" cy="456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Без имени-4"/>
          <p:cNvPicPr/>
          <p:nvPr/>
        </p:nvPicPr>
        <p:blipFill>
          <a:blip r:embed="rId2"/>
          <a:stretch/>
        </p:blipFill>
        <p:spPr>
          <a:xfrm>
            <a:off x="4356000" y="260280"/>
            <a:ext cx="4500720" cy="283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Без имени-2"/>
          <p:cNvPicPr/>
          <p:nvPr/>
        </p:nvPicPr>
        <p:blipFill>
          <a:blip r:embed="rId3"/>
          <a:stretch/>
        </p:blipFill>
        <p:spPr>
          <a:xfrm>
            <a:off x="4284720" y="3213000"/>
            <a:ext cx="4668840" cy="3430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ы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949-1990 гг., за этот период было открыто 26 детских садов, развивающихся на идеологической осно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 1990 года до наших дней, характерен более активным ростом детских садов  (за это время увеличилось количество учреждений до 35) демократической направленности, и появлением в районе разных типов дошкольных образовательных учр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324000" y="260280"/>
            <a:ext cx="8351640" cy="1224000"/>
          </a:xfrm>
          <a:prstGeom prst="ellipse">
            <a:avLst/>
          </a:prstGeom>
          <a:gradFill rotWithShape="0">
            <a:gsLst>
              <a:gs pos="0">
                <a:srgbClr val="5e36f0"/>
              </a:gs>
              <a:gs pos="50000">
                <a:srgbClr val="ffffff"/>
              </a:gs>
              <a:gs pos="100000">
                <a:srgbClr val="5e36f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ановление ДО в Миякинском рай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68360" y="3068640"/>
            <a:ext cx="2519280" cy="36036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468360" y="1700280"/>
            <a:ext cx="2519280" cy="36036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9:51:01Z</dcterms:created>
  <dc:creator>USER</dc:creator>
  <dc:description/>
  <dc:language>en-US</dc:language>
  <cp:lastModifiedBy>Admin</cp:lastModifiedBy>
  <dcterms:modified xsi:type="dcterms:W3CDTF">2023-01-23T12:04:48Z</dcterms:modified>
  <cp:revision>12</cp:revision>
  <dc:subject/>
  <dc:title>Высшее образование  в Греций</dc:title>
</cp:coreProperties>
</file>