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212-CC5A-4FF5-9203-C5AEAC21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0DD-8F34-461C-8719-C8693B08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BB1-3A77-40CE-A3EE-23E10BD8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380-1FAB-4A4F-97C6-6F6F4717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0252-6FAA-4D88-BE88-89D27B84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1839-8071-4E3D-B608-848088F5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8424-601A-46F0-8C49-0555A195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E0D9-9624-49F8-A22F-5007A9D8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8F7E-EC72-4C08-B266-DD433C4A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C262-1EA9-4FAC-AC62-D8783925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D58D-D7A2-4627-860E-EA290635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F58-E891-451C-BF76-674F7499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4EB6-F4A1-492B-8586-16A1B008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CC1E-0698-4433-85D4-534B6563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B709-78F0-44D8-981D-7402C803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F2FD-2678-47E6-82EC-35023F4A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EC32-CAD5-4449-A837-AEA0B2D4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7A70-0731-46AF-B2BE-1A2B04C9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8CAB-DFFB-4A49-9CD9-CDD6D1C8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A668-17C4-4A18-82E5-D70DD74F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6CAA-7BD4-485D-9518-7FF506C5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9EE5-C259-4D66-A079-FC4CE858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959-16AB-499B-886B-6D45BD39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13C94-156C-4E2A-8B22-334BE7CA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7DD0-EE65-4713-807C-B2D1D22C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2D8A-63B7-457E-8687-AD2BB491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E632-2CF4-4E2D-9194-98E8560E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11430-0E41-477D-90CD-FE0D12B0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2DFB-FB00-4BFF-9B4F-708571CD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7DDEC-9CC8-45AE-B351-1F9718CC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D520-CF76-4326-9C7B-BE571AE4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C332-C349-4B57-BB16-5AF788C0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D571-15DA-4D0B-805E-3F1AFF4B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0B7-255C-4066-AF0A-E1489FEB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452DB-ADFD-413C-B377-AB25B066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51676-8D7E-483C-8235-69059F32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730D-507A-4808-85ED-7ADDB6EC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405E4-BA6D-4A99-9233-B3078C2F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2BA4-878A-48CE-BCC5-F79B07B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C92F6-83F0-4284-A744-2580C495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64B32-E262-4582-B0B5-6317F9EB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6935-1469-4C59-AE30-9A17500F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92FC8-02C8-41B4-B6E7-978F942C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6A3-1BBE-4190-8883-5532EAAC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66E-6BB4-485C-A9A1-3E327746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66A-C83B-4593-92F9-31E74A2A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502-DFCC-4E23-94CF-94B65F07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197-CC6D-4E5A-A221-2BC2873D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4A70-07F8-4E56-A492-EC814CB6AD6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13D0-9B9A-4E32-8A1F-C5A2615FC39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AB32-046B-4C0C-B2D7-B07F2D65EE9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17C5-D566-4787-BCCA-3A09D1E182A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685800" y="228600"/>
            <a:ext cx="777240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КУ «Комитет по образованию Администрации г.Улан-Удэ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униципальное автономное дошкольное образовательное учреж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детский сад №64 «Колокольчик» комбинированного вида г.Улан-Уд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670013, г.Улан-Удэ, ул. Ключевская, 18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елефон: 43-73-41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: 64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dou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Центр развивающей предметно-пространственной среды ДОУ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Уголок природы и эксперимен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d6440"/>
                </a:solidFill>
                <a:latin typeface="Monotype Corsiva"/>
              </a:rPr>
              <a:t>Выполнила: 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d6440"/>
                </a:solidFill>
                <a:latin typeface="Monotype Corsiva"/>
              </a:rPr>
              <a:t>Цыбикжапова Е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d6440"/>
                </a:solidFill>
                <a:latin typeface="Monotype Corsiva"/>
              </a:rPr>
              <a:t>Улан-Уд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d6440"/>
                </a:solidFill>
                <a:latin typeface="Monotype Corsiva"/>
              </a:rPr>
              <a:t>202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181840" cy="29145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" descr=""/>
          <p:cNvPicPr/>
          <p:nvPr/>
        </p:nvPicPr>
        <p:blipFill>
          <a:blip r:embed="rId2"/>
          <a:stretch/>
        </p:blipFill>
        <p:spPr>
          <a:xfrm>
            <a:off x="3733920" y="3657600"/>
            <a:ext cx="5148000" cy="28954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380880" y="4191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знавательное значение несут </a:t>
            </a: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энциклопедии и 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35720" cy="31132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5554440" cy="31240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 flipH="1">
            <a:off x="228600" y="44197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акеты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ерег Бай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200400" cy="56894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2"/>
          <a:stretch/>
        </p:blipFill>
        <p:spPr>
          <a:xfrm>
            <a:off x="3629160" y="228600"/>
            <a:ext cx="5257800" cy="29574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3886200" y="40384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накомство с природой через </a:t>
            </a: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альбомы,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торые изготовили родители группы вместе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334120" cy="30002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" descr=""/>
          <p:cNvPicPr/>
          <p:nvPr/>
        </p:nvPicPr>
        <p:blipFill>
          <a:blip r:embed="rId2"/>
          <a:stretch/>
        </p:blipFill>
        <p:spPr>
          <a:xfrm>
            <a:off x="5791320" y="990720"/>
            <a:ext cx="3200400" cy="5689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1219320" y="457200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атериал для экспери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554800" cy="31244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" descr=""/>
          <p:cNvPicPr/>
          <p:nvPr/>
        </p:nvPicPr>
        <p:blipFill>
          <a:blip r:embed="rId2"/>
          <a:stretch/>
        </p:blipFill>
        <p:spPr>
          <a:xfrm>
            <a:off x="3429000" y="3581280"/>
            <a:ext cx="5554800" cy="31244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228600" y="44956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дин из любимых занятий- слушать шум моря с помощью раку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181840" cy="29145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" descr=""/>
          <p:cNvPicPr/>
          <p:nvPr/>
        </p:nvPicPr>
        <p:blipFill>
          <a:blip r:embed="rId2"/>
          <a:stretch/>
        </p:blipFill>
        <p:spPr>
          <a:xfrm>
            <a:off x="5562720" y="533520"/>
            <a:ext cx="3386160" cy="60195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152280" y="414504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уголке имеется </a:t>
            </a: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коллекция листьев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. Дети рассматривают их, используют в аппликации, сравнивают по форме,цвету и запах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1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329360" cy="24354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"/>
          <p:cNvPicPr/>
          <p:nvPr/>
        </p:nvPicPr>
        <p:blipFill>
          <a:blip r:embed="rId2"/>
          <a:stretch/>
        </p:blipFill>
        <p:spPr>
          <a:xfrm>
            <a:off x="4670280" y="214200"/>
            <a:ext cx="4408560" cy="24796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3" descr=""/>
          <p:cNvPicPr/>
          <p:nvPr/>
        </p:nvPicPr>
        <p:blipFill>
          <a:blip r:embed="rId3"/>
          <a:stretch/>
        </p:blipFill>
        <p:spPr>
          <a:xfrm>
            <a:off x="131760" y="3581280"/>
            <a:ext cx="4059360" cy="28972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"/>
          <p:cNvPicPr/>
          <p:nvPr/>
        </p:nvPicPr>
        <p:blipFill>
          <a:blip r:embed="rId4"/>
          <a:stretch/>
        </p:blipFill>
        <p:spPr>
          <a:xfrm>
            <a:off x="5029200" y="3581280"/>
            <a:ext cx="38624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538360" cy="45133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2"/>
          <a:stretch/>
        </p:blipFill>
        <p:spPr>
          <a:xfrm>
            <a:off x="3352680" y="201600"/>
            <a:ext cx="5554800" cy="31240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3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50292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533520" y="9144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голок природы в детском саду нужен не только как оформление детского сада, но и является необходимой составляющей педагогического процесса в дошкольном учре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1" descr=""/>
          <p:cNvPicPr/>
          <p:nvPr/>
        </p:nvPicPr>
        <p:blipFill>
          <a:blip r:embed="rId1"/>
          <a:stretch/>
        </p:blipFill>
        <p:spPr>
          <a:xfrm>
            <a:off x="1981080" y="1709640"/>
            <a:ext cx="2805120" cy="49863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" descr=""/>
          <p:cNvPicPr/>
          <p:nvPr/>
        </p:nvPicPr>
        <p:blipFill>
          <a:blip r:embed="rId2"/>
          <a:stretch/>
        </p:blipFill>
        <p:spPr>
          <a:xfrm>
            <a:off x="5729400" y="1709640"/>
            <a:ext cx="28051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304920" y="304920"/>
            <a:ext cx="716256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Визитная карточка цент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Narrow"/>
              </a:rPr>
              <a:t>Название центра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: Уголок природы и эксперимент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Narrow"/>
              </a:rPr>
              <a:t>Автор: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Цыбикжапова Елена Бато-Мунхо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Narrow"/>
              </a:rPr>
              <a:t>Возрастная группа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: подготовите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Narrow"/>
              </a:rPr>
              <a:t>Наполняемость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)  Макеты «Лес», «Байкал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2)  Цве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3)  Познавательный мир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Энциклопе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ни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льбо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артинки Времена года, Овощи, Фрукты,  природные явления, живот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лекция семя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лекция ракуш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лекция листь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лекция кам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4)  Календарь прир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5)    Наборное пано «Времена го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6)    Настенный макет «Дерево» для оформления времен года с набором листьев разных цветов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Narrow"/>
              </a:rPr>
              <a:t>ЛАБОРАТОРНЫЙ МАТЕРИАЛ ДЛЯ ЭКСПЕРИМЕН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Narrow"/>
              </a:rPr>
              <a:t>(ПРОСТЕЙШИЕ ПРИБОРЫ И ПРИСПОСОБ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•    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знообразные доступные прибо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•    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зные луп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•    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икроскоп игр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 •  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ластиковые труб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•  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533520" y="533520"/>
            <a:ext cx="6432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Требования при организации в Д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уголков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голок природы должен быть ярким и красоч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теллажи, полки обязательно закрепле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лендарь природы в каждой возрастной 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допустимы ядовитые растения, они должны быть безопасны для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цветы располагаются на уровне глаз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борудование для ухода за растениями (палочки для рыхления, губки, тряпочки) располагается в контейнерах с закрывающими крыш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родный материал должен размещается в контейнерах в достаточном количе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•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борудование для опытов, исследований должно быть безопас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457200" y="304920"/>
            <a:ext cx="6858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Значение уголка природы в Д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Познавательное развити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: расширяются знания детей о природе, возникает интерес к ее познанию, стремление узнать новое, развивается любознательность, логическое мышление, внимание, наблюда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Эколого – эстетическое значени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: формируется видение красоты природы, развивается творческое воображение. Воспитательное значение: формируются нравственные качества и эмоционально-позитивное отношение к природе (бережное отношение, забота о живых существах, уважение к труду, чувства патриотизма, любовь к природ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Практическое значени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: приобретение трудовых навыков по уходу за обитателями уголка природы и таких качеств, как трудолюбие, ответственность за порученное дело, инициа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Оздоровительное значени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: растения оздоравливают микроклимат помещения, увлажняют воздух, очищают и обогащают его кислородом, лечебные растения используются в лечебных цел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 flipH="1">
            <a:off x="533520" y="990720"/>
            <a:ext cx="6781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В уголке природы в каждой группе необходимо иметь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натуральные овощи и фрукты, либо их муляж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наборы картинок с изображением животных, птиц, насекомых и проче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альбомы «Времена года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книжки с иллюстрациями, на которых изображены животн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рисунки детей о природе и поделки из природ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материал для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оборудование для экспери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для изготовления поделок необходим природный и бросовый матери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для детей подготовительной группы будет интересна работа с лупой, микроскопом, ве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дидактические игры природного содерж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557520" cy="63244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4343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борное пано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Времена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562360" cy="31291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5562720" cy="31291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3"/>
          <p:cNvSpPr/>
          <p:nvPr/>
        </p:nvSpPr>
        <p:spPr>
          <a:xfrm>
            <a:off x="304920" y="3581280"/>
            <a:ext cx="2819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 каждой возрастной группе обязательно должен быть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календарь природы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, где дети после наблюдений на прогулке заполняют календарь наблюдений. Заполнение календаря природы - дело повседневной жизни. Воспитатель с детьми регулярно фиксирует погоду и состояние жив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105160" cy="28717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214800" cy="57150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304920" y="388620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голок природы необходим не только для наблюдений. Ещѐ он способствует формированию </a:t>
            </a:r>
            <a:r>
              <a:rPr b="1" lang="ru-RU" sz="1600" spc="-1" strike="noStrike">
                <a:solidFill>
                  <a:srgbClr val="0000ff"/>
                </a:solidFill>
                <a:latin typeface="Arial Narrow"/>
              </a:rPr>
              <a:t>трудовых навыков.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же с младшей группы детей привлекают к выполнению отдельных трудовых поруч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162560" cy="40291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957240" y="4495680"/>
            <a:ext cx="719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 знакомстве с различными странами воспитатель совместно с детьми изготавливает </a:t>
            </a: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лэпбук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Narrow"/>
              </a:rPr>
              <a:t>Лэпбук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это картонная папка, в которой собран материал на определенную тему, которую мы хотим проработать. Учебный материал интересно оформлен в различного рода мини-книжечках, кармашках, окошечках, книжках-гармошках, коробках с подарками и т.п. Также лэпбук обязательно включает в себя различные творческие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_PC</dc:creator>
  <dc:description/>
  <dc:language>en-US</dc:language>
  <cp:lastModifiedBy>Колокольчик</cp:lastModifiedBy>
  <dcterms:modified xsi:type="dcterms:W3CDTF">2023-01-23T05:33:1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