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AB8-AB70-4EC8-850A-534F6F2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4F4-F03D-477D-9314-74C0A751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992-8061-494A-9223-B0D8FFA0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F45-ABA1-4F7F-8306-AE659664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32B6-C33D-443B-ADA3-225BD1C3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807-233E-460B-8957-7DECF34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FF29-FE10-4430-9FA9-79D423DF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1EF6-8D0F-4473-8BF7-3EB8B72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B07-91DD-450A-AE4E-D429C59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4CD-CC50-473F-93D7-4004A31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8CF-F64E-4973-994C-AA8AD98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FDA-33E9-463B-8628-F3EAC0E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77F7-0413-4854-AD00-DB1DF56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01C2-0637-4347-9BBA-AC06ACC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441C-0911-4788-A13B-704B8A03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6B2-6D79-4C54-B7AE-29A3A511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00E2-0571-4CFB-AB31-D17CBAC2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9B07-D727-445F-89BC-7AC4CA04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865A-4CDA-47B7-81B2-5128818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D3AA-1421-4811-834C-AF5FAB6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BF3E-3C1A-47AB-B4CD-680B75AF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1CA1-1DA0-4FC6-BC60-6486B19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B27-4B13-45F5-B467-1D8558AA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25D0-9143-4561-8289-56C7636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C54E-EE4E-4502-9AD9-25B873C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D377-F91C-4ED2-B32E-C5982BA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E4DA-1AA2-4A91-B9B9-5C334015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FD6F-3D61-456F-8FEB-FAD7B05A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7331-3DB0-4594-98E5-7CFC09BC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FABE-2902-4D0A-9AE9-BA9B391C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1283-2A51-4A2F-BADA-561BB826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9A03-E0F8-4908-A518-31E64BE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21A3-897A-4F69-8149-0C47928E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CB9-B186-4EFA-A458-F0BC824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3324-34D5-4A29-BE2C-477B9F7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380A-83C2-4914-929B-D0BE966D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4D82-9BDB-4EE6-BA8A-5165540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08EF-1E33-483A-9D2B-AB1339B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7245-38A5-41E8-84FB-D6BC77CC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10DE-EC3C-4FEC-9E0D-02E385F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D2C1-C7D8-4C67-9041-D2DC10E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0026-861F-4C5C-99A0-679B6984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CE60-6091-4C68-A4A1-56778E94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122-45F9-4D87-B167-CD4EA577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42C-0915-4C7B-974A-CE55511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363-380F-4F54-B8B2-641977A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5DC-6969-497B-910D-D067E38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4D2-A102-49DD-AAF1-DFA79E6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C51-2948-41C7-AE47-F1B61A1E120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83E6-2469-4186-8269-56B50CAD292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9480-0424-4D7E-B23F-56E574254AB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C31A-2FDD-49D4-94A7-DB18CB8E24C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685800" y="228600"/>
            <a:ext cx="777240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КУ «Комитет по образованию Администрации г.Улан-Удэ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етский сад №64 «Колокольчик» комбинированного вида г.Улан-Уд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670013, г.Улан-Удэ, ул. Ключевская, 18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елефон: 43-73-41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: 64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dou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Центр развивающей предметно-пространственной среды ДО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Уголок природы 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d6440"/>
                </a:solidFill>
                <a:latin typeface="Monotype Corsiva"/>
              </a:rPr>
              <a:t>Выполнила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d6440"/>
                </a:solidFill>
                <a:latin typeface="Monotype Corsiva"/>
              </a:rPr>
              <a:t>Цыбикжапова Е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d6440"/>
                </a:solidFill>
                <a:latin typeface="Monotype Corsiva"/>
              </a:rPr>
              <a:t>Улан-Уд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d6440"/>
                </a:solidFill>
                <a:latin typeface="Monotype Corsiva"/>
              </a:rPr>
              <a:t>202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5148000" cy="2895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80880" y="4191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знавательное значение несут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энциклопедии и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5720" cy="31132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554440" cy="3124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 flipH="1">
            <a:off x="228600" y="4419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акеты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ерег Бай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00400" cy="56894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3629160" y="22860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3886200" y="40384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накомство с природой через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альбомы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ые изготовили родители группы вмест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334120" cy="30002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200400" cy="5689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1219320" y="45720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териал для экспери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54800" cy="31244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5554800" cy="3124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228600" y="44956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дин из любимых занятий- слушать шум моря с помощью рак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"/>
          <p:cNvPicPr/>
          <p:nvPr/>
        </p:nvPicPr>
        <p:blipFill>
          <a:blip r:embed="rId2"/>
          <a:stretch/>
        </p:blipFill>
        <p:spPr>
          <a:xfrm>
            <a:off x="5562720" y="533520"/>
            <a:ext cx="3386160" cy="6019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152280" y="414504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уголке имеется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коллекция листьев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Дети рассматривают их, используют в аппликации, сравнивают по форме,цвету и запах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329360" cy="2435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4670280" y="214200"/>
            <a:ext cx="4408560" cy="2479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3"/>
          <a:stretch/>
        </p:blipFill>
        <p:spPr>
          <a:xfrm>
            <a:off x="131760" y="3581280"/>
            <a:ext cx="4059360" cy="2897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4"/>
          <a:stretch/>
        </p:blipFill>
        <p:spPr>
          <a:xfrm>
            <a:off x="5029200" y="3581280"/>
            <a:ext cx="38624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538360" cy="4513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3352680" y="201600"/>
            <a:ext cx="5554800" cy="31240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50292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533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голок природы в детском саду нужен не только как оформление детского сада, но и является необходимой составляющей педагогического процесса в дошко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1" descr=""/>
          <p:cNvPicPr/>
          <p:nvPr/>
        </p:nvPicPr>
        <p:blipFill>
          <a:blip r:embed="rId1"/>
          <a:stretch/>
        </p:blipFill>
        <p:spPr>
          <a:xfrm>
            <a:off x="1981080" y="1709640"/>
            <a:ext cx="2805120" cy="49863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"/>
          <p:cNvPicPr/>
          <p:nvPr/>
        </p:nvPicPr>
        <p:blipFill>
          <a:blip r:embed="rId2"/>
          <a:stretch/>
        </p:blipFill>
        <p:spPr>
          <a:xfrm>
            <a:off x="5729400" y="1709640"/>
            <a:ext cx="2805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304920" y="304920"/>
            <a:ext cx="71625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Визитная карточка цент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Название центр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: Уголок природы и эксперимент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Автор: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Цыбикжапова Елена Бато-Мунхо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Возрастная групп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: подготов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Наполняемость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)  Макеты «Лес», «Байка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2)  Цв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)  Познавательный мир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нциклопе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льбо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артинки Времена года, Овощи, Фрукты,  природные явления, живот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семя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раку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листь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кам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)  Календарь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5)    Наборное пано «Времена г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6)    Настенный макет «Дерево» для оформления времен года с набором листьев разных цветов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ЛАБОРАТОРНЫЙ МАТЕРИАЛ ДЛЯ ЭКСПЕРИМЕН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(ПРОСТЕЙШИЕ ПРИБОРЫ И ПРИСПОСОБ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нообразные доступные прибо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ные лу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икроскоп игр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 •  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ластиковые труб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533520" y="533520"/>
            <a:ext cx="6432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Требования при организации 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уголков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голок природы должен быть ярким и красоч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еллажи, полки обязательно закрепле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лендарь природы в каждой возрастной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допустимы ядовитые растения, они должны быть безопасны дл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веты располагаются на уровне глаз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орудование для ухода за растениями (палочки для рыхления, губки, тряпочки) располагается в контейнерах с закрывающими крыш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родный материал должен размещается в контейнерах в достаточном количе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орудование для опытов, исследований должно быть безоп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457200" y="304920"/>
            <a:ext cx="6858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Значение уголка природы в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Познавательное развит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расширяются знания детей о природе, возникает интерес к ее познанию, стремление узнать новое, развивается любознательность, логическое мышление, внимание, наблюд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Эколого – эстетическ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формируется видение красоты природы, развивается творческое воображение. Воспитательное значение: формируются нравственные качества и эмоционально-позитивное отношение к природе (бережное отношение, забота о живых существах, уважение к труду, чувства патриотизма, любовь к природ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Практическ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приобретение трудовых навыков по уходу за обитателями уголка природы и таких качеств, как трудолюбие, ответственность за порученное дело, инициа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Оздоровительн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растения оздоравливают микроклимат помещения, увлажняют воздух, очищают и обогащают его кислородом, лечебные растения используются в лечебных цел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 flipH="1">
            <a:off x="533520" y="990720"/>
            <a:ext cx="6781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В уголке природы в каждой группе необходимо иметь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натуральные овощи и фрукты, либо их муля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наборы картинок с изображением животных, птиц, насекомых и проч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альбомы «Времена года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книжки с иллюстрациями, на которых изображены живот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рисунки детей о природе и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материал для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оборудование дл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ля изготовления поделок необходим природный и бросовый матери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ля детей подготовительной группы будет интересна работа с лупой, микроскопом, в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идактические игры природного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557520" cy="63244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4343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орное пано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Времена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562360" cy="31291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562720" cy="31291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304920" y="3581280"/>
            <a:ext cx="2819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каждой возрастной группе обязательно должен быть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календарь природы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, где дети после наблюдений на прогулке заполняют календарь наблюдений. Заполнение календаря природы - дело повседневной жизни. Воспитатель с детьми регулярно фиксирует погоду и состояние жив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2871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21480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304920" y="388620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голок природы необходим не только для наблюдений. Ещѐ он способствует формированию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трудовых навыков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же с младшей группы детей привлекают к выполнению отдельных трудовых пору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40291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957240" y="4495680"/>
            <a:ext cx="719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знакомстве с различными странами воспитатель совместно с детьми изготавливает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лэпбук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Лэпбу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это картонная папка, в которой собран материал на определенную тему, которую мы хотим проработать. Учебный материал интересно оформлен в различного рода мини-книжечках, кармашках, окошечках, книжках-гармошках, коробках с подарками и т.п. Также лэпбук обязательно включает в себя различные творческие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_PC</dc:creator>
  <dc:description/>
  <dc:language>en-US</dc:language>
  <cp:lastModifiedBy>Колокольчик</cp:lastModifiedBy>
  <dcterms:modified xsi:type="dcterms:W3CDTF">2023-01-23T05:33:1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