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901C-F140-46E2-8979-86EFDDB9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3BE3-C84E-49E8-B94D-7114CAA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F8C5-3BF1-4D0E-AD61-93010FC7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1528-8E49-4FB9-B401-F852C66A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3E30D-CD48-42FE-802C-8A6E22C3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9E48-10D1-4763-AE9C-D9FB99F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B5C7D-C433-40CD-8A4C-0E34B7BB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A7234-E268-4C46-9E7C-908AC71A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861B-15E5-4400-AA6D-AB8FE47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8DF3-8DF8-474A-8C6D-A6B76D6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0D94-100F-4B35-A88B-CBFBD19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BD4A-0066-44EE-B9D2-4B81D90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8C80E-1E45-4B9C-89AF-3DEEABB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A507-0860-4599-92E4-66EC37D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82B55-BFA0-4DEA-89AF-4E688E7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407B-9B2D-4152-A58C-D26212F1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5AE16-73F6-408C-81DA-AA038887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D21C-1F69-41F7-B742-3FA5ABD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051B-360B-4529-AA09-6789045E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EA80-B20E-4031-BABA-6A6E561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5133-3B95-4A63-9C3B-8847BBB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AF37-4A27-4070-BDD5-2420769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905C-3938-41E6-AC97-3107600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5AD7-C83A-44A2-B6CD-854F9A5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3123720" y="625104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2542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052F-133C-4AD7-AE94-06B6CAE8E5DE}" type="slidenum"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1051-B514-442A-A3CE-A613C168B7B7}" type="slidenum"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dt" idx="6"/>
          </p:nvPr>
        </p:nvSpPr>
        <p:spPr>
          <a:xfrm>
            <a:off x="457200" y="625104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ambridgeesol.org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s://penfriends.cambridgeesol.org/language/ru/index.php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s://penfriends.cambridgeesol.org/language/ru/myschool.php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s://penfriends.cambridgeesol.org/language/ru/findmatches.php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s://penfriends.cambridgeesol.org/language/ru/cardupload.php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samssevetin.estranky.cz/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неурочная деятельность учащихся по ФГОС в основной школе</a:t>
            </a:r>
            <a:endParaRPr b="0" lang="en-US" sz="5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69134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инципы организации внеурочной деятельност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ет возрастных особенностей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очетание индивидуальной и коллективной форм работы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вязь теории с практикой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доступность и наглядность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ключени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активную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изненную позицию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780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оспитательные результаты и эффекты: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результат внеурочн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эффект внеурочн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влияние  того или иного духовно-нравственного приобретения  на весь процесс развития личности ребенк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неурочная деятельность может осуществляться через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ебный план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ишкольную систему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разовательные программы учреждений дополнительного образования дете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ганизацию деятельности ГПД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сное руководство (экскурсии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Формы организации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неурочной деятельности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Кружок –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форма добровольного объединения детей, оптимальная форма организации внеурочной деятельности в школе.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Функции: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расширение, углубление, компенсация предметных знаний;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приобщения детей к разнообразным социокультурным видам деятельности;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расширения коммуникативного опыта;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организации детского досуга и отдыха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(кружок: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«Увлекательный английский»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00280"/>
            <a:ext cx="9144000" cy="3024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627280" y="4941720"/>
            <a:ext cx="373392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lcome to Cambridge English Penfriends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5120" y="1844640"/>
            <a:ext cx="3044880" cy="4608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00560" y="274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220500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08560" y="3749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3500280"/>
            <a:ext cx="1008000" cy="1074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51480" y="497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4797360"/>
            <a:ext cx="1008000" cy="1074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9440" y="2349360"/>
            <a:ext cx="24498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Create or Updat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chool profile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5455080" y="37893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DejaVu Sans"/>
              </a:rPr>
              <a:t>Find a Partner School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414400" y="50482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DejaVu Sans"/>
              </a:rPr>
              <a:t>Upload Cards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00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4522680" cy="358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417920" y="3313080"/>
            <a:ext cx="472608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Secondary school № 5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children at this school are busy designing their cards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will upload them for you to see so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ary school № 5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ge range of students: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1-12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ktyabr`skiy sttl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umber of students taking part: 15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ary school № 5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situated in Oktyabr`skiy settlement not far from Krasnodar,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capital of Krasnodar region, in the south of Russia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ur school is not very big. It has 576 students, 25 classes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9 teachers.Our students learn one foreign language-English from the second grade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 want to have pen-friends from other country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162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635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ur  Penfriends partner school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Š a MŠ Ševětín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ge range of students: 11-1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Ševětí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mber of students taking part: 2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zech Republic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bsite: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www.zsamssevetin.estranky.c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"ZŠ a MŠ Ševětín" is a primary school for children aged 6 to 15. It is a small school situated in the south of the Czech Republic. Children taking part in this project are from 12 to 15. All are looking forward to find new friend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me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mazing animals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437360" cy="332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56240" y="3492360"/>
            <a:ext cx="4487760" cy="336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750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8900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Письму Минобрнауки РФ от 12.05.11 № 03-296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 организации внеурочной деятельности при введен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едерального государственного образовательного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ндарта общего образован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» основная образовательна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грамма основного общего образования реализуетс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разовательным учреждением, в том числе и через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внеурочную деятельность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такое внеурочная деятельность?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то образовательная деятельность, осуществляемая в формах, отличных от классно-урочных, и направленная на достижение планируемых результатов освоения основной образовательной программы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5364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неурочная деятельность -неотъемлемая часть образовательного процесса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гласно Федеральному базисному учебному плану для общеобразовательных учреждений Российской Федерации организация занятий по направлениям внеурочной деятельности является неотъемлемой частью образовательного процесса в школе. Общеобразовательное учреждени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самостоятельно выбирае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формы, средства и методы организации внеурочной деятельности в соответствии со своим уставом и с Законом Российской Федерации «Об образован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адачи внеурочной деятельност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еспечить благоприятную адаптацию ребенка в школе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оптимизировать учебную нагрузку обучающихся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улучшить условия для развития ребенка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есть возрастны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 индивидуальны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обенност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Внеурочная деятельность вводится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в целях обеспечения индивидуальных потребностей обучающихс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6337440" cy="35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Внеурочная деятельность  организуется по направлениям развития личности :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портивно-оздоровите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уховно-нравствен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циа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еинтеллектуа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екультур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211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Формы внеурочной деятельности школьников:</a:t>
            </a:r>
            <a:r>
              <a:rPr b="0" lang="en-US" sz="4500" spc="-1" strike="noStrike">
                <a:solidFill>
                  <a:srgbClr val="444255"/>
                </a:solidFill>
                <a:latin typeface="Garamond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экскурси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кружк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секци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студии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театры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мастерские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конференции, диспуты, круглые столы, школьные научные общества, олимпиады, соревнования, поисковые и научные исследования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49194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иды внеурочной деятельности: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блемно-ценностное обще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осугово-развлекательная деятельность (досуговое общение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удожественное твор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циальное творчество (социально значимая проектная деятельность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удовая (производственная)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ортивно-оздоров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5:00:43Z</dcterms:created>
  <dc:creator>Наталья В</dc:creator>
  <dc:description/>
  <dc:language>en-US</dc:language>
  <cp:lastModifiedBy>Наталья В</cp:lastModifiedBy>
  <dcterms:modified xsi:type="dcterms:W3CDTF">2013-01-09T15:59:29Z</dcterms:modified>
  <cp:revision>6</cp:revision>
  <dc:subject/>
  <dc:title>Внеурочная деятельность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