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24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57B1-296D-41B3-B07D-E5A9FF0C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B24F-579F-4B7B-ACEF-6F7DC04F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EFE0-2903-4390-B0A1-2A45630C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5E11-ECD9-432C-BD7D-1557AD12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2C2C5-2AA2-467B-B700-3E1F3468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21863-E135-4AE8-8FAA-6C989D8F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58347-1648-422C-8C47-D7E018FD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1472F-3769-458B-9D7D-B1BE4E0D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4FAC0-E048-4CB8-8BF0-F51A3ADD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0B202-D632-4CE7-BD9C-B04266FE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27A4E-202A-4B4E-9C40-BFE36F01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B390-F8F9-4B97-88DB-3F943F40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07EC7-175A-4BBE-BEC2-6BEEA9B9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B87B3-8F83-42CF-8903-8A9EC26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F55CA-22A4-48D8-BE68-D236825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95B32-3126-49B2-B7DC-5BBCB2D2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8544F-3E35-417F-9669-67DCF2E7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52B1-D10E-4928-A21F-9BC3FD1D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92324-8E86-4494-ACE6-4C83576F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D523-31A7-4FD1-A9F4-8DB13D2E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CBDE-FAE1-448F-8A0B-88BDF683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6141-4A44-41B3-A3D2-8E920114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62E7-0C21-428C-8883-062B43BB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8A76-AC14-4E92-ABE5-9663D2E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1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2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3123720" y="625104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6552720" y="62542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3794-A148-4A92-ACC6-51E8801ED38D}" type="slidenum">
              <a:rPr b="0" lang="en-US" sz="12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dt" idx="3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39480" indent="-3394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5079-F166-4143-9B9B-81C7F17D8C0D}" type="slidenum">
              <a:rPr b="0" lang="en-US" sz="12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dt" idx="6"/>
          </p:nvPr>
        </p:nvSpPr>
        <p:spPr>
          <a:xfrm>
            <a:off x="457200" y="625104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ambridgeesol.org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s://penfriends.cambridgeesol.org/language/ru/index.php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hyperlink" Target="https://penfriends.cambridgeesol.org/language/ru/myschool.php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s://penfriends.cambridgeesol.org/language/ru/findmatches.php" TargetMode="External"/><Relationship Id="rId5" Type="http://schemas.openxmlformats.org/officeDocument/2006/relationships/image" Target="../media/image14.png"/><Relationship Id="rId6" Type="http://schemas.openxmlformats.org/officeDocument/2006/relationships/hyperlink" Target="https://penfriends.cambridgeesol.org/language/ru/cardupload.php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zsamssevetin.estranky.cz/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Внеурочная деятельность учащихся по ФГОС в основной школе</a:t>
            </a:r>
            <a:endParaRPr b="0" lang="en-US" sz="5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691344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Принципы организации внеурочной деятельност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ет возрастных особенностей;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сочетание индивидуальной и коллективной форм работы;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связь теории с практикой;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доступность и наглядность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ключение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активную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жизненную позицию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37800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Воспитательные результаты и эффекты:</a:t>
            </a:r>
            <a:endParaRPr b="0" lang="en-US" sz="3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ный результат внеурочной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ный эффект внеурочной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влияние  того или иного духовно-нравственного приобретения  на весь процесс развития личности ребенк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неурочная деятельность может осуществляться через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ебный план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ишкольную систему дополнительного образовани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разовательные программы учреждений дополнительного образования детей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ганизацию деятельности ГПД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лассное руководство (экскурсии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Формы организации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внеурочной деятельности</a:t>
            </a:r>
            <a:endParaRPr b="0" lang="en-US" sz="3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Кружок –</a:t>
            </a: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 форма добровольного объединения детей, оптимальная форма организации внеурочной деятельности в школе.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Функции: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расширение, углубление, компенсация предметных знаний;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приобщения детей к разнообразным социокультурным видам деятельности;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расширения коммуникативного опыта;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организации детского досуга и отдыха.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(кружок: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«Увлекательный английский»</a:t>
            </a: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00280"/>
            <a:ext cx="9144000" cy="3024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627280" y="4941720"/>
            <a:ext cx="3733920" cy="4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lcome to Cambridge English Penfriends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DejaVu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5120" y="1844640"/>
            <a:ext cx="3044880" cy="4608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00560" y="274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220500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408560" y="3749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3500280"/>
            <a:ext cx="1008000" cy="1074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51480" y="4973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4797360"/>
            <a:ext cx="1008000" cy="1074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09440" y="2349360"/>
            <a:ext cx="244980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Create or Updat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school profile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"/>
          <p:cNvSpPr/>
          <p:nvPr/>
        </p:nvSpPr>
        <p:spPr>
          <a:xfrm>
            <a:off x="5455080" y="378936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DejaVu Sans"/>
              </a:rPr>
              <a:t>Find a Partner School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5414400" y="504828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DejaVu Sans"/>
              </a:rPr>
              <a:t>Upload Cards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00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4522680" cy="3581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417920" y="3313080"/>
            <a:ext cx="472608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Secondary school № 5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e children at this school are busy designing their cards an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will upload them for you to see so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condary school № 5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ge range of students: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1-12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ktyabr`skiy sttl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umber of students taking part: 15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condary school № 5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situated in Oktyabr`skiy settlement not far from Krasnodar,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capital of Krasnodar region, in the south of Russia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ur school is not very big. It has 576 students, 25 classes,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9 teachers.Our students learn one foreign language-English from the second grade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e want to have pen-friends from other country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1628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36352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ur  Penfriends partner school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Š a MŠ Ševětín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ge range of students: 11-14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Ševětí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umber of students taking part: 2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zech Republic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bsite: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www.zsamssevetin.estranky.cz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"ZŠ a MŠ Ševětín" is a primary school for children aged 6 to 15. It is a small school situated in the south of the Czech Republic. Children taking part in this project are from 12 to 15. All are looking forward to find new friend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me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: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mazing animals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4437360" cy="332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56240" y="3492360"/>
            <a:ext cx="4487760" cy="3365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7750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8900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гласно Письму Минобрнауки РФ от 12.05.11 № 03-296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 организации внеурочной деятельности при введени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едерального государственного образовательного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андарта общего образовани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» основная образовательна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грамма основного общего образования реализуетс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разовательным учреждением, в том числе и через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внеурочную деятельность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3374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Что такое внеурочная деятельность?</a:t>
            </a: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то образовательная деятельность, осуществляемая в формах, отличных от классно-урочных, и направленная на достижение планируемых результатов освоения основной образовательной программы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5364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Внеурочная деятельность -неотъемлемая часть образовательного процесса</a:t>
            </a:r>
            <a:endParaRPr b="0" lang="en-US" sz="38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гласно Федеральному базисному учебному плану для общеобразовательных учреждений Российской Федерации организация занятий по направлениям внеурочной деятельности является неотъемлемой частью образовательного процесса в школе. Общеобразовательное учреждени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самостоятельно выбирает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формы, средства и методы организации внеурочной деятельности в соответствии со своим уставом и с Законом Российской Федерации «Об образовании»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Задачи внеурочной деятельност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810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беспечить благоприятную адаптацию ребенка в школе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оптимизировать учебную нагрузку обучающихся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улучшить условия для развития ребенка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честь возрастны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 индивидуальные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собенности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4968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0"/>
            <a:ext cx="8229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Внеурочная деятельность вводится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 algn="ctr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в целях обеспечения индивидуальных потребностей обучающихс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11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6337440" cy="35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Внеурочная деятельность  организуется по направлениям развития личности :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портивно-оздоровительно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Духовно-нравственно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оциально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бщеинтеллектуально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бщекультурное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421164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Garamond"/>
              </a:rPr>
              <a:t>Формы внеурочной деятельности школьников:</a:t>
            </a:r>
            <a:r>
              <a:rPr b="0" lang="en-US" sz="4500" spc="-1" strike="noStrike">
                <a:solidFill>
                  <a:srgbClr val="444255"/>
                </a:solidFill>
                <a:latin typeface="Garamond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экскурсии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кружки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секции 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студии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театры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мастерские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37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конференции, диспуты, круглые столы, школьные научные общества, олимпиады, соревнования, поисковые и научные исследования.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49194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Виды внеурочной деятельности:</a:t>
            </a:r>
            <a:endParaRPr b="0" lang="en-US" sz="40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гровая деятель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зна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блемно-ценностное общени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осугово-развлекательная деятельность (досуговое общение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удожественное творчество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циальное творчество (социально значимая проектная деятельность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рудовая (производственная) деятель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портивно-оздорови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5:00:43Z</dcterms:created>
  <dc:creator>Наталья В</dc:creator>
  <dc:description/>
  <dc:language>en-US</dc:language>
  <cp:lastModifiedBy>Наталья В</cp:lastModifiedBy>
  <dcterms:modified xsi:type="dcterms:W3CDTF">2013-01-09T15:59:29Z</dcterms:modified>
  <cp:revision>6</cp:revision>
  <dc:subject/>
  <dc:title>Внеурочная деятельность школь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