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25.gif" ContentType="image/gif"/>
  <Override PartName="/ppt/media/image12.jpeg" ContentType="image/jpeg"/>
  <Override PartName="/ppt/media/image7.jpeg" ContentType="image/jpeg"/>
  <Override PartName="/ppt/media/image20.png" ContentType="image/png"/>
  <Override PartName="/ppt/media/image5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4.gif" ContentType="image/gif"/>
  <Override PartName="/ppt/media/image22.jpeg" ContentType="image/jpeg"/>
  <Override PartName="/ppt/media/chimes.wav" ContentType="audio/x-wav"/>
  <Override PartName="/ppt/media/image16.jpeg" ContentType="image/jpeg"/>
  <Override PartName="/ppt/media/image26.gif" ContentType="image/gif"/>
  <Override PartName="/ppt/media/image15.jpeg" ContentType="image/jpeg"/>
  <Override PartName="/ppt/media/image27.png" ContentType="image/png"/>
  <Override PartName="/ppt/media/image24.gif" ContentType="image/gif"/>
  <Override PartName="/ppt/media/image21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13.jpeg" ContentType="image/jpeg"/>
  <Override PartName="/ppt/media/image1.png" ContentType="image/png"/>
  <Override PartName="/ppt/media/image3.png" ContentType="image/png"/>
  <Override PartName="/ppt/media/image23.gif" ContentType="image/gif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349F7-B137-4D68-B7EE-6A8B3B34AE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2AEAD-30B7-4B99-A21C-E69CBE8D925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843AEE-04DD-48D7-9B5C-3990B2E3F16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A105CB-B2DD-4F12-8693-9FAD29EC5D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3A94-85AA-4A92-BEE9-788ABCF6C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D00C-33DC-4A32-8C7C-9840EF471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6336-5E5B-4EE9-B296-96512A1ED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042A-4029-4A24-BF2C-0BF4C8E15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F89EA-919D-4C4C-9FE5-7A60CDA8E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C1194-4C8C-4184-AB3D-01B3236F5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97560-F259-43EB-A098-92052E261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FAA6D-6F5B-48BE-ABBE-079F34FA9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F5AB9-59E4-4C6B-9390-A8945E0E1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EC475-3E6B-4AD6-9574-D35324B30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928B0-DFE6-4EA4-9354-2CCDF06A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41E4-7E0E-4626-8F8B-A63F68868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D0642-CA9F-4C6C-816F-B11AAF87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F32EE-145E-48E6-9597-ED2ADD19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3D68C-AB3C-4313-80A7-182726A1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2A249-D49A-4300-9BD6-6A7A1092A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9A6AB-C792-44B3-847A-680676E4A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A158-9CBD-48AA-B3BB-2FE40E4BD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84DC-8448-473F-8963-49180461C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6EB4-AF4D-4A38-901E-E84793D2E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1148-B98A-400E-84D9-97FEAC290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B217-F69E-4897-93C6-9493602C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188E-2E70-49CF-8EE7-C73544DA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B59A-0473-4892-B8B8-41E15836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D2A99-B0D0-42C4-B855-7E963334B7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4CAE9-4804-4178-ADCA-F7E8B022AF9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3880" y="2514600"/>
            <a:ext cx="7935840" cy="110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Юный пешеход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3880" y="4589280"/>
            <a:ext cx="788688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дготовила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отинова Н.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zoom dir="in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2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4"/>
          <p:cNvSpPr/>
          <p:nvPr/>
        </p:nvSpPr>
        <p:spPr>
          <a:xfrm>
            <a:off x="539640" y="33336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е перебегай проезжую часть перед близко идущим транспорт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6" descr="pdd-dlya-detej-5"/>
          <p:cNvPicPr/>
          <p:nvPr/>
        </p:nvPicPr>
        <p:blipFill>
          <a:blip r:embed="rId1"/>
          <a:srcRect l="0" t="16837" r="0" b="12624"/>
          <a:stretch/>
        </p:blipFill>
        <p:spPr>
          <a:xfrm>
            <a:off x="1981080" y="2286000"/>
            <a:ext cx="5334120" cy="35812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in"/>
    <p:sndAc>
      <p:stSnd>
        <p:snd r:embed="rId2" name="chimes.wav"/>
      </p:stSnd>
    </p:sndAc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9" dur="2000" fill="hold"/>
                                        <p:tgtEl>
                                          <p:spTgt spid="1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5"/>
          <p:cNvSpPr/>
          <p:nvPr/>
        </p:nvSpPr>
        <p:spPr>
          <a:xfrm>
            <a:off x="395280" y="33336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жидая транспорт, стойте только на посадочных площадках или обочин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8" descr="131740"/>
          <p:cNvPicPr/>
          <p:nvPr/>
        </p:nvPicPr>
        <p:blipFill>
          <a:blip r:embed="rId1"/>
          <a:stretch/>
        </p:blipFill>
        <p:spPr>
          <a:xfrm>
            <a:off x="1905120" y="2362320"/>
            <a:ext cx="5333760" cy="35049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in"/>
    <p:sndAc>
      <p:stSnd>
        <p:snd r:embed="rId2" name="chimes.wav"/>
      </p:stSnd>
    </p:sndAc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1" dur="2000" fill="hold"/>
                                        <p:tgtEl>
                                          <p:spTgt spid="1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4"/>
          <p:cNvSpPr/>
          <p:nvPr/>
        </p:nvSpPr>
        <p:spPr>
          <a:xfrm>
            <a:off x="324000" y="33336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е обходи стоящий автомобиль - это опасно. Подожди пока он отъедет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7" descr="1(4)"/>
          <p:cNvPicPr/>
          <p:nvPr/>
        </p:nvPicPr>
        <p:blipFill>
          <a:blip r:embed="rId1"/>
          <a:stretch/>
        </p:blipFill>
        <p:spPr>
          <a:xfrm>
            <a:off x="1828800" y="2590920"/>
            <a:ext cx="5562720" cy="32763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in"/>
    <p:sndAc>
      <p:stSnd>
        <p:snd r:embed="rId2" name="chimes.wav"/>
      </p:stSnd>
    </p:sndAc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3" dur="2000" fill="hold"/>
                                        <p:tgtEl>
                                          <p:spTgt spid="2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4"/>
          <p:cNvSpPr/>
          <p:nvPr/>
        </p:nvSpPr>
        <p:spPr>
          <a:xfrm>
            <a:off x="533520" y="38088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е играйте на проезжей части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Picture 4" descr="0008-017-Kakie-pravila-narushili-deti"/>
          <p:cNvPicPr/>
          <p:nvPr/>
        </p:nvPicPr>
        <p:blipFill>
          <a:blip r:embed="rId1"/>
          <a:stretch/>
        </p:blipFill>
        <p:spPr>
          <a:xfrm>
            <a:off x="1676520" y="1981080"/>
            <a:ext cx="5790960" cy="38498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in"/>
    <p:sndAc>
      <p:stSnd>
        <p:snd r:embed="rId2" name="chimes.wav"/>
      </p:stSnd>
    </p:sndAc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5" dur="2000" fill="hold"/>
                                        <p:tgtEl>
                                          <p:spTgt spid="2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Запомни 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6" descr="1352392584_21"/>
          <p:cNvPicPr/>
          <p:nvPr/>
        </p:nvPicPr>
        <p:blipFill>
          <a:blip r:embed="rId1"/>
          <a:srcRect l="0" t="0" r="0" b="5708"/>
          <a:stretch/>
        </p:blipFill>
        <p:spPr>
          <a:xfrm>
            <a:off x="2286000" y="1371600"/>
            <a:ext cx="4468680" cy="53341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1352392584_21"/>
          <p:cNvPicPr/>
          <p:nvPr/>
        </p:nvPicPr>
        <p:blipFill>
          <a:blip r:embed="rId2"/>
          <a:srcRect l="0" t="0" r="0" b="5708"/>
          <a:stretch/>
        </p:blipFill>
        <p:spPr>
          <a:xfrm>
            <a:off x="2286000" y="1295280"/>
            <a:ext cx="4468680" cy="53341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in"/>
    <p:sndAc>
      <p:stSnd>
        <p:snd r:embed="rId3" name="chimes.wav"/>
      </p:stSnd>
    </p:sndAc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61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Это светофоры – он регулирует движение транспорта и пешеходов на дорог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Рисунок 8" descr=""/>
          <p:cNvPicPr/>
          <p:nvPr/>
        </p:nvPicPr>
        <p:blipFill>
          <a:blip r:embed="rId1"/>
          <a:stretch/>
        </p:blipFill>
        <p:spPr>
          <a:xfrm>
            <a:off x="914400" y="1049400"/>
            <a:ext cx="7605720" cy="54864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in"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495680"/>
            <a:ext cx="8183520" cy="169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У светофора окошечка два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ри переходе на них посмотр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Рисунок 6" descr=""/>
          <p:cNvPicPr/>
          <p:nvPr/>
        </p:nvPicPr>
        <p:blipFill>
          <a:blip r:embed="rId1"/>
          <a:stretch/>
        </p:blipFill>
        <p:spPr>
          <a:xfrm>
            <a:off x="2666880" y="457200"/>
            <a:ext cx="4091040" cy="42354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in"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гда горит красный сигнал светофора, надо остановить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Рисунок 2" descr=""/>
          <p:cNvPicPr/>
          <p:nvPr/>
        </p:nvPicPr>
        <p:blipFill>
          <a:blip r:embed="rId1"/>
          <a:stretch/>
        </p:blipFill>
        <p:spPr>
          <a:xfrm>
            <a:off x="2286000" y="1828800"/>
            <a:ext cx="4876920" cy="42991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in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а зеленый сигнал светофора можно переходить дорог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Рисунок 2" descr=""/>
          <p:cNvPicPr/>
          <p:nvPr/>
        </p:nvPicPr>
        <p:blipFill>
          <a:blip r:embed="rId1"/>
          <a:stretch/>
        </p:blipFill>
        <p:spPr>
          <a:xfrm>
            <a:off x="2293920" y="1752480"/>
            <a:ext cx="4556160" cy="45579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in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MSSN393.wav" descr=""/>
          <p:cNvPicPr/>
          <p:nvPr/>
        </p:nvPicPr>
        <p:blipFill>
          <a:blip r:embed="rId1"/>
          <a:stretch/>
        </p:blipFill>
        <p:spPr>
          <a:xfrm>
            <a:off x="8610480" y="2286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19"/>
          <p:cNvSpPr/>
          <p:nvPr/>
        </p:nvSpPr>
        <p:spPr>
          <a:xfrm>
            <a:off x="228600" y="1447920"/>
            <a:ext cx="403236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На улице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Ты не один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ядом с тобою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ного машин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6" descr="65161"/>
          <p:cNvPicPr/>
          <p:nvPr/>
        </p:nvPicPr>
        <p:blipFill>
          <a:blip r:embed="rId2"/>
          <a:stretch/>
        </p:blipFill>
        <p:spPr>
          <a:xfrm>
            <a:off x="4267080" y="304920"/>
            <a:ext cx="4664160" cy="62481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in"/>
    <p:sndAc>
      <p:stSnd>
        <p:snd r:embed="rId3" name="chimes.wav"/>
      </p:stSnd>
    </p:sndAc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1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2"/>
          <p:cNvSpPr/>
          <p:nvPr/>
        </p:nvSpPr>
        <p:spPr>
          <a:xfrm>
            <a:off x="228600" y="4800600"/>
            <a:ext cx="8705880" cy="914400"/>
          </a:xfrm>
          <a:custGeom>
            <a:avLst/>
            <a:gdLst>
              <a:gd name="textAreaLeft" fmla="*/ 0 w 8705880"/>
              <a:gd name="textAreaRight" fmla="*/ 8706240 w 87058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5484" h="576">
                <a:moveTo>
                  <a:pt x="5484" y="501"/>
                </a:moveTo>
                <a:lnTo>
                  <a:pt x="5277" y="280"/>
                </a:lnTo>
                <a:lnTo>
                  <a:pt x="5146" y="247"/>
                </a:lnTo>
                <a:lnTo>
                  <a:pt x="5000" y="209"/>
                </a:lnTo>
                <a:lnTo>
                  <a:pt x="4837" y="170"/>
                </a:lnTo>
                <a:lnTo>
                  <a:pt x="4664" y="128"/>
                </a:lnTo>
                <a:lnTo>
                  <a:pt x="4484" y="89"/>
                </a:lnTo>
                <a:lnTo>
                  <a:pt x="4295" y="55"/>
                </a:lnTo>
                <a:lnTo>
                  <a:pt x="4105" y="28"/>
                </a:lnTo>
                <a:lnTo>
                  <a:pt x="3914" y="8"/>
                </a:lnTo>
                <a:lnTo>
                  <a:pt x="3731" y="0"/>
                </a:lnTo>
                <a:lnTo>
                  <a:pt x="3549" y="8"/>
                </a:lnTo>
                <a:lnTo>
                  <a:pt x="3376" y="28"/>
                </a:lnTo>
                <a:lnTo>
                  <a:pt x="3214" y="69"/>
                </a:lnTo>
                <a:lnTo>
                  <a:pt x="3070" y="128"/>
                </a:lnTo>
                <a:lnTo>
                  <a:pt x="2938" y="211"/>
                </a:lnTo>
                <a:lnTo>
                  <a:pt x="2829" y="322"/>
                </a:lnTo>
                <a:lnTo>
                  <a:pt x="2743" y="460"/>
                </a:lnTo>
                <a:lnTo>
                  <a:pt x="2665" y="322"/>
                </a:lnTo>
                <a:lnTo>
                  <a:pt x="2558" y="217"/>
                </a:lnTo>
                <a:lnTo>
                  <a:pt x="2430" y="132"/>
                </a:lnTo>
                <a:lnTo>
                  <a:pt x="2287" y="73"/>
                </a:lnTo>
                <a:lnTo>
                  <a:pt x="2127" y="36"/>
                </a:lnTo>
                <a:lnTo>
                  <a:pt x="1954" y="12"/>
                </a:lnTo>
                <a:lnTo>
                  <a:pt x="1770" y="8"/>
                </a:lnTo>
                <a:lnTo>
                  <a:pt x="1583" y="12"/>
                </a:lnTo>
                <a:lnTo>
                  <a:pt x="1390" y="34"/>
                </a:lnTo>
                <a:lnTo>
                  <a:pt x="1203" y="59"/>
                </a:lnTo>
                <a:lnTo>
                  <a:pt x="1010" y="93"/>
                </a:lnTo>
                <a:lnTo>
                  <a:pt x="828" y="132"/>
                </a:lnTo>
                <a:lnTo>
                  <a:pt x="651" y="170"/>
                </a:lnTo>
                <a:lnTo>
                  <a:pt x="488" y="211"/>
                </a:lnTo>
                <a:lnTo>
                  <a:pt x="339" y="247"/>
                </a:lnTo>
                <a:lnTo>
                  <a:pt x="208" y="280"/>
                </a:lnTo>
                <a:lnTo>
                  <a:pt x="0" y="501"/>
                </a:lnTo>
                <a:lnTo>
                  <a:pt x="26" y="501"/>
                </a:lnTo>
                <a:lnTo>
                  <a:pt x="102" y="499"/>
                </a:lnTo>
                <a:lnTo>
                  <a:pt x="217" y="497"/>
                </a:lnTo>
                <a:lnTo>
                  <a:pt x="364" y="491"/>
                </a:lnTo>
                <a:lnTo>
                  <a:pt x="544" y="487"/>
                </a:lnTo>
                <a:lnTo>
                  <a:pt x="742" y="482"/>
                </a:lnTo>
                <a:lnTo>
                  <a:pt x="955" y="478"/>
                </a:lnTo>
                <a:lnTo>
                  <a:pt x="1173" y="470"/>
                </a:lnTo>
                <a:lnTo>
                  <a:pt x="1394" y="464"/>
                </a:lnTo>
                <a:lnTo>
                  <a:pt x="1608" y="460"/>
                </a:lnTo>
                <a:lnTo>
                  <a:pt x="1812" y="450"/>
                </a:lnTo>
                <a:lnTo>
                  <a:pt x="1994" y="446"/>
                </a:lnTo>
                <a:lnTo>
                  <a:pt x="2147" y="440"/>
                </a:lnTo>
                <a:lnTo>
                  <a:pt x="2270" y="436"/>
                </a:lnTo>
                <a:lnTo>
                  <a:pt x="2356" y="432"/>
                </a:lnTo>
                <a:lnTo>
                  <a:pt x="2392" y="428"/>
                </a:lnTo>
                <a:lnTo>
                  <a:pt x="2428" y="430"/>
                </a:lnTo>
                <a:lnTo>
                  <a:pt x="2456" y="448"/>
                </a:lnTo>
                <a:lnTo>
                  <a:pt x="2461" y="468"/>
                </a:lnTo>
                <a:lnTo>
                  <a:pt x="2441" y="478"/>
                </a:lnTo>
                <a:lnTo>
                  <a:pt x="2412" y="491"/>
                </a:lnTo>
                <a:lnTo>
                  <a:pt x="2401" y="525"/>
                </a:lnTo>
                <a:lnTo>
                  <a:pt x="2410" y="560"/>
                </a:lnTo>
                <a:lnTo>
                  <a:pt x="2441" y="576"/>
                </a:lnTo>
                <a:lnTo>
                  <a:pt x="2743" y="576"/>
                </a:lnTo>
                <a:lnTo>
                  <a:pt x="3045" y="576"/>
                </a:lnTo>
                <a:lnTo>
                  <a:pt x="3078" y="560"/>
                </a:lnTo>
                <a:lnTo>
                  <a:pt x="3085" y="525"/>
                </a:lnTo>
                <a:lnTo>
                  <a:pt x="3072" y="491"/>
                </a:lnTo>
                <a:lnTo>
                  <a:pt x="3045" y="478"/>
                </a:lnTo>
                <a:lnTo>
                  <a:pt x="3023" y="468"/>
                </a:lnTo>
                <a:lnTo>
                  <a:pt x="3029" y="448"/>
                </a:lnTo>
                <a:lnTo>
                  <a:pt x="3056" y="430"/>
                </a:lnTo>
                <a:lnTo>
                  <a:pt x="3094" y="428"/>
                </a:lnTo>
                <a:lnTo>
                  <a:pt x="3132" y="432"/>
                </a:lnTo>
                <a:lnTo>
                  <a:pt x="3214" y="436"/>
                </a:lnTo>
                <a:lnTo>
                  <a:pt x="3336" y="440"/>
                </a:lnTo>
                <a:lnTo>
                  <a:pt x="3492" y="446"/>
                </a:lnTo>
                <a:lnTo>
                  <a:pt x="3678" y="450"/>
                </a:lnTo>
                <a:lnTo>
                  <a:pt x="3878" y="460"/>
                </a:lnTo>
                <a:lnTo>
                  <a:pt x="4089" y="464"/>
                </a:lnTo>
                <a:lnTo>
                  <a:pt x="4313" y="470"/>
                </a:lnTo>
                <a:lnTo>
                  <a:pt x="4533" y="478"/>
                </a:lnTo>
                <a:lnTo>
                  <a:pt x="4746" y="482"/>
                </a:lnTo>
                <a:lnTo>
                  <a:pt x="4944" y="487"/>
                </a:lnTo>
                <a:lnTo>
                  <a:pt x="5120" y="491"/>
                </a:lnTo>
                <a:lnTo>
                  <a:pt x="5269" y="497"/>
                </a:lnTo>
                <a:lnTo>
                  <a:pt x="5384" y="499"/>
                </a:lnTo>
                <a:lnTo>
                  <a:pt x="5459" y="501"/>
                </a:lnTo>
                <a:lnTo>
                  <a:pt x="5484" y="501"/>
                </a:lnTo>
                <a:close/>
              </a:path>
            </a:pathLst>
          </a:custGeom>
          <a:solidFill>
            <a:srgbClr val="ffff99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AutoShape 3"/>
          <p:cNvSpPr/>
          <p:nvPr/>
        </p:nvSpPr>
        <p:spPr>
          <a:xfrm>
            <a:off x="4572000" y="838080"/>
            <a:ext cx="4022640" cy="4745160"/>
          </a:xfrm>
          <a:custGeom>
            <a:avLst/>
            <a:gdLst>
              <a:gd name="textAreaLeft" fmla="*/ 0 w 4022640"/>
              <a:gd name="textAreaRight" fmla="*/ 4023000 w 4022640"/>
              <a:gd name="textAreaTop" fmla="*/ 0 h 4745160"/>
              <a:gd name="textAreaBottom" fmla="*/ 4745520 h 4745160"/>
            </a:gdLst>
            <a:ahLst/>
            <a:rect l="textAreaLeft" t="textAreaTop" r="textAreaRight" b="textAreaBottom"/>
            <a:pathLst>
              <a:path w="2534" h="2989">
                <a:moveTo>
                  <a:pt x="0" y="280"/>
                </a:moveTo>
                <a:lnTo>
                  <a:pt x="0" y="2989"/>
                </a:lnTo>
                <a:lnTo>
                  <a:pt x="86" y="2851"/>
                </a:lnTo>
                <a:lnTo>
                  <a:pt x="195" y="2740"/>
                </a:lnTo>
                <a:lnTo>
                  <a:pt x="327" y="2657"/>
                </a:lnTo>
                <a:lnTo>
                  <a:pt x="471" y="2598"/>
                </a:lnTo>
                <a:lnTo>
                  <a:pt x="633" y="2557"/>
                </a:lnTo>
                <a:lnTo>
                  <a:pt x="806" y="2537"/>
                </a:lnTo>
                <a:lnTo>
                  <a:pt x="988" y="2529"/>
                </a:lnTo>
                <a:lnTo>
                  <a:pt x="1171" y="2537"/>
                </a:lnTo>
                <a:lnTo>
                  <a:pt x="1362" y="2557"/>
                </a:lnTo>
                <a:lnTo>
                  <a:pt x="1552" y="2584"/>
                </a:lnTo>
                <a:lnTo>
                  <a:pt x="1741" y="2618"/>
                </a:lnTo>
                <a:lnTo>
                  <a:pt x="1921" y="2657"/>
                </a:lnTo>
                <a:lnTo>
                  <a:pt x="2094" y="2699"/>
                </a:lnTo>
                <a:lnTo>
                  <a:pt x="2257" y="2738"/>
                </a:lnTo>
                <a:lnTo>
                  <a:pt x="2403" y="2776"/>
                </a:lnTo>
                <a:lnTo>
                  <a:pt x="2534" y="2809"/>
                </a:lnTo>
                <a:lnTo>
                  <a:pt x="1426" y="132"/>
                </a:lnTo>
                <a:lnTo>
                  <a:pt x="1337" y="110"/>
                </a:lnTo>
                <a:lnTo>
                  <a:pt x="1244" y="88"/>
                </a:lnTo>
                <a:lnTo>
                  <a:pt x="1153" y="67"/>
                </a:lnTo>
                <a:lnTo>
                  <a:pt x="1060" y="49"/>
                </a:lnTo>
                <a:lnTo>
                  <a:pt x="966" y="27"/>
                </a:lnTo>
                <a:lnTo>
                  <a:pt x="873" y="15"/>
                </a:lnTo>
                <a:lnTo>
                  <a:pt x="779" y="4"/>
                </a:lnTo>
                <a:lnTo>
                  <a:pt x="688" y="0"/>
                </a:lnTo>
                <a:lnTo>
                  <a:pt x="597" y="2"/>
                </a:lnTo>
                <a:lnTo>
                  <a:pt x="506" y="12"/>
                </a:lnTo>
                <a:lnTo>
                  <a:pt x="417" y="27"/>
                </a:lnTo>
                <a:lnTo>
                  <a:pt x="329" y="59"/>
                </a:lnTo>
                <a:lnTo>
                  <a:pt x="242" y="94"/>
                </a:lnTo>
                <a:lnTo>
                  <a:pt x="160" y="142"/>
                </a:lnTo>
                <a:lnTo>
                  <a:pt x="76" y="203"/>
                </a:lnTo>
                <a:lnTo>
                  <a:pt x="0" y="280"/>
                </a:lnTo>
              </a:path>
            </a:pathLst>
          </a:custGeom>
          <a:solidFill>
            <a:srgbClr val="ffff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AutoShape 4"/>
          <p:cNvSpPr/>
          <p:nvPr/>
        </p:nvSpPr>
        <p:spPr>
          <a:xfrm>
            <a:off x="533520" y="838080"/>
            <a:ext cx="4024080" cy="4875480"/>
          </a:xfrm>
          <a:custGeom>
            <a:avLst/>
            <a:gdLst>
              <a:gd name="textAreaLeft" fmla="*/ 0 w 4024080"/>
              <a:gd name="textAreaRight" fmla="*/ 4024440 w 4024080"/>
              <a:gd name="textAreaTop" fmla="*/ 0 h 4875480"/>
              <a:gd name="textAreaBottom" fmla="*/ 4875840 h 4875480"/>
            </a:gdLst>
            <a:ahLst/>
            <a:rect l="textAreaLeft" t="textAreaTop" r="textAreaRight" b="textAreaBottom"/>
            <a:pathLst>
              <a:path w="2535" h="2989">
                <a:moveTo>
                  <a:pt x="2535" y="280"/>
                </a:moveTo>
                <a:lnTo>
                  <a:pt x="2453" y="203"/>
                </a:lnTo>
                <a:lnTo>
                  <a:pt x="2371" y="142"/>
                </a:lnTo>
                <a:lnTo>
                  <a:pt x="2288" y="96"/>
                </a:lnTo>
                <a:lnTo>
                  <a:pt x="2202" y="59"/>
                </a:lnTo>
                <a:lnTo>
                  <a:pt x="2115" y="27"/>
                </a:lnTo>
                <a:lnTo>
                  <a:pt x="2028" y="12"/>
                </a:lnTo>
                <a:lnTo>
                  <a:pt x="1937" y="2"/>
                </a:lnTo>
                <a:lnTo>
                  <a:pt x="1846" y="0"/>
                </a:lnTo>
                <a:lnTo>
                  <a:pt x="1753" y="4"/>
                </a:lnTo>
                <a:lnTo>
                  <a:pt x="1662" y="15"/>
                </a:lnTo>
                <a:lnTo>
                  <a:pt x="1569" y="29"/>
                </a:lnTo>
                <a:lnTo>
                  <a:pt x="1477" y="49"/>
                </a:lnTo>
                <a:lnTo>
                  <a:pt x="1384" y="67"/>
                </a:lnTo>
                <a:lnTo>
                  <a:pt x="1291" y="88"/>
                </a:lnTo>
                <a:lnTo>
                  <a:pt x="1202" y="114"/>
                </a:lnTo>
                <a:lnTo>
                  <a:pt x="1111" y="134"/>
                </a:lnTo>
                <a:lnTo>
                  <a:pt x="0" y="2809"/>
                </a:lnTo>
                <a:lnTo>
                  <a:pt x="131" y="2776"/>
                </a:lnTo>
                <a:lnTo>
                  <a:pt x="280" y="2740"/>
                </a:lnTo>
                <a:lnTo>
                  <a:pt x="443" y="2699"/>
                </a:lnTo>
                <a:lnTo>
                  <a:pt x="620" y="2661"/>
                </a:lnTo>
                <a:lnTo>
                  <a:pt x="802" y="2622"/>
                </a:lnTo>
                <a:lnTo>
                  <a:pt x="995" y="2588"/>
                </a:lnTo>
                <a:lnTo>
                  <a:pt x="1182" y="2563"/>
                </a:lnTo>
                <a:lnTo>
                  <a:pt x="1375" y="2541"/>
                </a:lnTo>
                <a:lnTo>
                  <a:pt x="1562" y="2537"/>
                </a:lnTo>
                <a:lnTo>
                  <a:pt x="1746" y="2541"/>
                </a:lnTo>
                <a:lnTo>
                  <a:pt x="1919" y="2565"/>
                </a:lnTo>
                <a:lnTo>
                  <a:pt x="2079" y="2602"/>
                </a:lnTo>
                <a:lnTo>
                  <a:pt x="2222" y="2661"/>
                </a:lnTo>
                <a:lnTo>
                  <a:pt x="2350" y="2746"/>
                </a:lnTo>
                <a:lnTo>
                  <a:pt x="2457" y="2851"/>
                </a:lnTo>
                <a:lnTo>
                  <a:pt x="2535" y="2989"/>
                </a:lnTo>
                <a:lnTo>
                  <a:pt x="2535" y="280"/>
                </a:lnTo>
              </a:path>
            </a:pathLst>
          </a:custGeom>
          <a:solidFill>
            <a:srgbClr val="ffff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5"/>
          <p:cNvSpPr/>
          <p:nvPr/>
        </p:nvSpPr>
        <p:spPr>
          <a:xfrm>
            <a:off x="6858000" y="1066680"/>
            <a:ext cx="2087640" cy="4600800"/>
          </a:xfrm>
          <a:custGeom>
            <a:avLst/>
            <a:gdLst>
              <a:gd name="textAreaLeft" fmla="*/ 0 w 2087640"/>
              <a:gd name="textAreaRight" fmla="*/ 2088000 w 2087640"/>
              <a:gd name="textAreaTop" fmla="*/ 0 h 4600800"/>
              <a:gd name="textAreaBottom" fmla="*/ 4601160 h 4600800"/>
            </a:gdLst>
            <a:ahLst/>
            <a:rect l="textAreaLeft" t="textAreaTop" r="textAreaRight" b="textAreaBottom"/>
            <a:pathLst>
              <a:path w="1315" h="2898">
                <a:moveTo>
                  <a:pt x="0" y="0"/>
                </a:moveTo>
                <a:lnTo>
                  <a:pt x="1108" y="2677"/>
                </a:lnTo>
                <a:lnTo>
                  <a:pt x="1315" y="2898"/>
                </a:lnTo>
                <a:lnTo>
                  <a:pt x="115" y="132"/>
                </a:lnTo>
                <a:lnTo>
                  <a:pt x="85" y="132"/>
                </a:lnTo>
                <a:lnTo>
                  <a:pt x="0" y="0"/>
                </a:lnTo>
                <a:close/>
              </a:path>
            </a:pathLst>
          </a:custGeom>
          <a:solidFill>
            <a:srgbClr val="ffffe1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utoShape 6"/>
          <p:cNvSpPr/>
          <p:nvPr/>
        </p:nvSpPr>
        <p:spPr>
          <a:xfrm>
            <a:off x="254160" y="1042920"/>
            <a:ext cx="2093760" cy="4597560"/>
          </a:xfrm>
          <a:custGeom>
            <a:avLst/>
            <a:gdLst>
              <a:gd name="textAreaLeft" fmla="*/ 0 w 2093760"/>
              <a:gd name="textAreaRight" fmla="*/ 2094120 w 2093760"/>
              <a:gd name="textAreaTop" fmla="*/ 0 h 4597560"/>
              <a:gd name="textAreaBottom" fmla="*/ 4597920 h 4597560"/>
            </a:gdLst>
            <a:ahLst/>
            <a:rect l="textAreaLeft" t="textAreaTop" r="textAreaRight" b="textAreaBottom"/>
            <a:pathLst>
              <a:path w="1319" h="2896">
                <a:moveTo>
                  <a:pt x="0" y="2896"/>
                </a:moveTo>
                <a:lnTo>
                  <a:pt x="208" y="2675"/>
                </a:lnTo>
                <a:lnTo>
                  <a:pt x="1319" y="0"/>
                </a:lnTo>
                <a:lnTo>
                  <a:pt x="1232" y="130"/>
                </a:lnTo>
                <a:lnTo>
                  <a:pt x="1204" y="130"/>
                </a:lnTo>
                <a:lnTo>
                  <a:pt x="0" y="2896"/>
                </a:lnTo>
                <a:close/>
              </a:path>
            </a:pathLst>
          </a:custGeom>
          <a:solidFill>
            <a:srgbClr val="ffffe1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7"/>
          <p:cNvSpPr/>
          <p:nvPr/>
        </p:nvSpPr>
        <p:spPr>
          <a:xfrm>
            <a:off x="225360" y="795240"/>
            <a:ext cx="8763120" cy="4996080"/>
          </a:xfrm>
          <a:custGeom>
            <a:avLst/>
            <a:gdLst>
              <a:gd name="textAreaLeft" fmla="*/ 0 w 8763120"/>
              <a:gd name="textAreaRight" fmla="*/ 8763480 w 8763120"/>
              <a:gd name="textAreaTop" fmla="*/ 0 h 4996080"/>
              <a:gd name="textAreaBottom" fmla="*/ 4996440 h 4996080"/>
            </a:gdLst>
            <a:ahLst/>
            <a:rect l="textAreaLeft" t="textAreaTop" r="textAreaRight" b="textAreaBottom"/>
            <a:pathLst>
              <a:path w="5520" h="3147">
                <a:moveTo>
                  <a:pt x="2761" y="326"/>
                </a:moveTo>
                <a:lnTo>
                  <a:pt x="2770" y="318"/>
                </a:lnTo>
                <a:lnTo>
                  <a:pt x="2848" y="241"/>
                </a:lnTo>
                <a:lnTo>
                  <a:pt x="2932" y="183"/>
                </a:lnTo>
                <a:lnTo>
                  <a:pt x="3010" y="136"/>
                </a:lnTo>
                <a:lnTo>
                  <a:pt x="3098" y="99"/>
                </a:lnTo>
                <a:lnTo>
                  <a:pt x="3179" y="71"/>
                </a:lnTo>
                <a:lnTo>
                  <a:pt x="3267" y="51"/>
                </a:lnTo>
                <a:lnTo>
                  <a:pt x="3358" y="45"/>
                </a:lnTo>
                <a:lnTo>
                  <a:pt x="3449" y="41"/>
                </a:lnTo>
                <a:lnTo>
                  <a:pt x="3540" y="49"/>
                </a:lnTo>
                <a:lnTo>
                  <a:pt x="3632" y="59"/>
                </a:lnTo>
                <a:lnTo>
                  <a:pt x="3725" y="71"/>
                </a:lnTo>
                <a:lnTo>
                  <a:pt x="3818" y="89"/>
                </a:lnTo>
                <a:lnTo>
                  <a:pt x="3909" y="109"/>
                </a:lnTo>
                <a:lnTo>
                  <a:pt x="4001" y="130"/>
                </a:lnTo>
                <a:lnTo>
                  <a:pt x="4094" y="154"/>
                </a:lnTo>
                <a:lnTo>
                  <a:pt x="4180" y="172"/>
                </a:lnTo>
                <a:lnTo>
                  <a:pt x="4256" y="296"/>
                </a:lnTo>
                <a:lnTo>
                  <a:pt x="4272" y="306"/>
                </a:lnTo>
                <a:lnTo>
                  <a:pt x="4293" y="306"/>
                </a:lnTo>
                <a:lnTo>
                  <a:pt x="5473" y="3033"/>
                </a:lnTo>
                <a:lnTo>
                  <a:pt x="5402" y="3031"/>
                </a:lnTo>
                <a:lnTo>
                  <a:pt x="5287" y="3029"/>
                </a:lnTo>
                <a:lnTo>
                  <a:pt x="5138" y="3023"/>
                </a:lnTo>
                <a:lnTo>
                  <a:pt x="4962" y="3019"/>
                </a:lnTo>
                <a:lnTo>
                  <a:pt x="4764" y="3015"/>
                </a:lnTo>
                <a:lnTo>
                  <a:pt x="4551" y="3007"/>
                </a:lnTo>
                <a:lnTo>
                  <a:pt x="4331" y="3001"/>
                </a:lnTo>
                <a:lnTo>
                  <a:pt x="4107" y="2995"/>
                </a:lnTo>
                <a:lnTo>
                  <a:pt x="3896" y="2987"/>
                </a:lnTo>
                <a:lnTo>
                  <a:pt x="3696" y="2981"/>
                </a:lnTo>
                <a:lnTo>
                  <a:pt x="3510" y="2975"/>
                </a:lnTo>
                <a:lnTo>
                  <a:pt x="3354" y="2969"/>
                </a:lnTo>
                <a:lnTo>
                  <a:pt x="3232" y="2964"/>
                </a:lnTo>
                <a:lnTo>
                  <a:pt x="3150" y="2960"/>
                </a:lnTo>
                <a:lnTo>
                  <a:pt x="3116" y="2958"/>
                </a:lnTo>
                <a:lnTo>
                  <a:pt x="3070" y="2960"/>
                </a:lnTo>
                <a:lnTo>
                  <a:pt x="3034" y="2983"/>
                </a:lnTo>
                <a:lnTo>
                  <a:pt x="3025" y="3031"/>
                </a:lnTo>
                <a:lnTo>
                  <a:pt x="3063" y="3048"/>
                </a:lnTo>
                <a:lnTo>
                  <a:pt x="3079" y="3058"/>
                </a:lnTo>
                <a:lnTo>
                  <a:pt x="3085" y="3076"/>
                </a:lnTo>
                <a:lnTo>
                  <a:pt x="3081" y="3098"/>
                </a:lnTo>
                <a:lnTo>
                  <a:pt x="3063" y="3106"/>
                </a:lnTo>
                <a:lnTo>
                  <a:pt x="2761" y="3106"/>
                </a:lnTo>
                <a:lnTo>
                  <a:pt x="2459" y="3106"/>
                </a:lnTo>
                <a:lnTo>
                  <a:pt x="2441" y="3098"/>
                </a:lnTo>
                <a:lnTo>
                  <a:pt x="2441" y="3076"/>
                </a:lnTo>
                <a:lnTo>
                  <a:pt x="2445" y="3058"/>
                </a:lnTo>
                <a:lnTo>
                  <a:pt x="2459" y="3048"/>
                </a:lnTo>
                <a:lnTo>
                  <a:pt x="2499" y="3031"/>
                </a:lnTo>
                <a:lnTo>
                  <a:pt x="2490" y="2983"/>
                </a:lnTo>
                <a:lnTo>
                  <a:pt x="2452" y="2960"/>
                </a:lnTo>
                <a:lnTo>
                  <a:pt x="2405" y="2958"/>
                </a:lnTo>
                <a:lnTo>
                  <a:pt x="2374" y="2960"/>
                </a:lnTo>
                <a:lnTo>
                  <a:pt x="2288" y="2964"/>
                </a:lnTo>
                <a:lnTo>
                  <a:pt x="2165" y="2969"/>
                </a:lnTo>
                <a:lnTo>
                  <a:pt x="2012" y="2975"/>
                </a:lnTo>
                <a:lnTo>
                  <a:pt x="1830" y="2981"/>
                </a:lnTo>
                <a:lnTo>
                  <a:pt x="1626" y="2987"/>
                </a:lnTo>
                <a:lnTo>
                  <a:pt x="1412" y="2995"/>
                </a:lnTo>
                <a:lnTo>
                  <a:pt x="1191" y="3001"/>
                </a:lnTo>
                <a:lnTo>
                  <a:pt x="973" y="3007"/>
                </a:lnTo>
                <a:lnTo>
                  <a:pt x="760" y="3015"/>
                </a:lnTo>
                <a:lnTo>
                  <a:pt x="562" y="3019"/>
                </a:lnTo>
                <a:lnTo>
                  <a:pt x="382" y="3023"/>
                </a:lnTo>
                <a:lnTo>
                  <a:pt x="235" y="3029"/>
                </a:lnTo>
                <a:lnTo>
                  <a:pt x="120" y="3031"/>
                </a:lnTo>
                <a:lnTo>
                  <a:pt x="47" y="3033"/>
                </a:lnTo>
                <a:lnTo>
                  <a:pt x="1231" y="306"/>
                </a:lnTo>
                <a:lnTo>
                  <a:pt x="1250" y="306"/>
                </a:lnTo>
                <a:lnTo>
                  <a:pt x="1268" y="296"/>
                </a:lnTo>
                <a:lnTo>
                  <a:pt x="1348" y="172"/>
                </a:lnTo>
                <a:lnTo>
                  <a:pt x="1432" y="154"/>
                </a:lnTo>
                <a:lnTo>
                  <a:pt x="1521" y="132"/>
                </a:lnTo>
                <a:lnTo>
                  <a:pt x="1615" y="110"/>
                </a:lnTo>
                <a:lnTo>
                  <a:pt x="1706" y="89"/>
                </a:lnTo>
                <a:lnTo>
                  <a:pt x="1797" y="71"/>
                </a:lnTo>
                <a:lnTo>
                  <a:pt x="1892" y="61"/>
                </a:lnTo>
                <a:lnTo>
                  <a:pt x="1979" y="49"/>
                </a:lnTo>
                <a:lnTo>
                  <a:pt x="2072" y="45"/>
                </a:lnTo>
                <a:lnTo>
                  <a:pt x="2163" y="45"/>
                </a:lnTo>
                <a:lnTo>
                  <a:pt x="2252" y="53"/>
                </a:lnTo>
                <a:lnTo>
                  <a:pt x="2339" y="71"/>
                </a:lnTo>
                <a:lnTo>
                  <a:pt x="2423" y="99"/>
                </a:lnTo>
                <a:lnTo>
                  <a:pt x="2508" y="136"/>
                </a:lnTo>
                <a:lnTo>
                  <a:pt x="2590" y="183"/>
                </a:lnTo>
                <a:lnTo>
                  <a:pt x="2667" y="241"/>
                </a:lnTo>
                <a:lnTo>
                  <a:pt x="2748" y="316"/>
                </a:lnTo>
                <a:lnTo>
                  <a:pt x="2761" y="328"/>
                </a:lnTo>
                <a:lnTo>
                  <a:pt x="2759" y="326"/>
                </a:lnTo>
                <a:lnTo>
                  <a:pt x="2759" y="274"/>
                </a:lnTo>
                <a:lnTo>
                  <a:pt x="2692" y="211"/>
                </a:lnTo>
                <a:lnTo>
                  <a:pt x="2612" y="146"/>
                </a:lnTo>
                <a:lnTo>
                  <a:pt x="2525" y="97"/>
                </a:lnTo>
                <a:lnTo>
                  <a:pt x="2437" y="59"/>
                </a:lnTo>
                <a:lnTo>
                  <a:pt x="2346" y="32"/>
                </a:lnTo>
                <a:lnTo>
                  <a:pt x="2255" y="14"/>
                </a:lnTo>
                <a:lnTo>
                  <a:pt x="2163" y="4"/>
                </a:lnTo>
                <a:lnTo>
                  <a:pt x="2072" y="2"/>
                </a:lnTo>
                <a:lnTo>
                  <a:pt x="1979" y="6"/>
                </a:lnTo>
                <a:lnTo>
                  <a:pt x="1886" y="18"/>
                </a:lnTo>
                <a:lnTo>
                  <a:pt x="1793" y="32"/>
                </a:lnTo>
                <a:lnTo>
                  <a:pt x="1699" y="49"/>
                </a:lnTo>
                <a:lnTo>
                  <a:pt x="1606" y="71"/>
                </a:lnTo>
                <a:lnTo>
                  <a:pt x="1515" y="91"/>
                </a:lnTo>
                <a:lnTo>
                  <a:pt x="1424" y="116"/>
                </a:lnTo>
                <a:lnTo>
                  <a:pt x="1333" y="136"/>
                </a:lnTo>
                <a:lnTo>
                  <a:pt x="1321" y="146"/>
                </a:lnTo>
                <a:lnTo>
                  <a:pt x="1242" y="266"/>
                </a:lnTo>
                <a:lnTo>
                  <a:pt x="1222" y="264"/>
                </a:lnTo>
                <a:lnTo>
                  <a:pt x="1206" y="276"/>
                </a:lnTo>
                <a:lnTo>
                  <a:pt x="0" y="3046"/>
                </a:lnTo>
                <a:lnTo>
                  <a:pt x="18" y="3076"/>
                </a:lnTo>
                <a:lnTo>
                  <a:pt x="44" y="3074"/>
                </a:lnTo>
                <a:lnTo>
                  <a:pt x="120" y="3070"/>
                </a:lnTo>
                <a:lnTo>
                  <a:pt x="235" y="3068"/>
                </a:lnTo>
                <a:lnTo>
                  <a:pt x="382" y="3064"/>
                </a:lnTo>
                <a:lnTo>
                  <a:pt x="562" y="3058"/>
                </a:lnTo>
                <a:lnTo>
                  <a:pt x="760" y="3056"/>
                </a:lnTo>
                <a:lnTo>
                  <a:pt x="973" y="3048"/>
                </a:lnTo>
                <a:lnTo>
                  <a:pt x="1191" y="3042"/>
                </a:lnTo>
                <a:lnTo>
                  <a:pt x="1412" y="3037"/>
                </a:lnTo>
                <a:lnTo>
                  <a:pt x="1626" y="3031"/>
                </a:lnTo>
                <a:lnTo>
                  <a:pt x="1830" y="3023"/>
                </a:lnTo>
                <a:lnTo>
                  <a:pt x="2012" y="3019"/>
                </a:lnTo>
                <a:lnTo>
                  <a:pt x="2165" y="3011"/>
                </a:lnTo>
                <a:lnTo>
                  <a:pt x="2288" y="3007"/>
                </a:lnTo>
                <a:lnTo>
                  <a:pt x="2374" y="3003"/>
                </a:lnTo>
                <a:lnTo>
                  <a:pt x="2412" y="2999"/>
                </a:lnTo>
                <a:lnTo>
                  <a:pt x="2445" y="3001"/>
                </a:lnTo>
                <a:lnTo>
                  <a:pt x="2459" y="3007"/>
                </a:lnTo>
                <a:lnTo>
                  <a:pt x="2417" y="3031"/>
                </a:lnTo>
                <a:lnTo>
                  <a:pt x="2399" y="3076"/>
                </a:lnTo>
                <a:lnTo>
                  <a:pt x="2414" y="3127"/>
                </a:lnTo>
                <a:lnTo>
                  <a:pt x="2459" y="3147"/>
                </a:lnTo>
                <a:lnTo>
                  <a:pt x="2761" y="3147"/>
                </a:lnTo>
                <a:lnTo>
                  <a:pt x="3063" y="3147"/>
                </a:lnTo>
                <a:lnTo>
                  <a:pt x="3110" y="3127"/>
                </a:lnTo>
                <a:lnTo>
                  <a:pt x="3125" y="3076"/>
                </a:lnTo>
                <a:lnTo>
                  <a:pt x="3107" y="3031"/>
                </a:lnTo>
                <a:lnTo>
                  <a:pt x="3063" y="3007"/>
                </a:lnTo>
                <a:lnTo>
                  <a:pt x="3076" y="3001"/>
                </a:lnTo>
                <a:lnTo>
                  <a:pt x="3110" y="2999"/>
                </a:lnTo>
                <a:lnTo>
                  <a:pt x="3148" y="3003"/>
                </a:lnTo>
                <a:lnTo>
                  <a:pt x="3232" y="3007"/>
                </a:lnTo>
                <a:lnTo>
                  <a:pt x="3354" y="3011"/>
                </a:lnTo>
                <a:lnTo>
                  <a:pt x="3510" y="3019"/>
                </a:lnTo>
                <a:lnTo>
                  <a:pt x="3696" y="3023"/>
                </a:lnTo>
                <a:lnTo>
                  <a:pt x="3896" y="3031"/>
                </a:lnTo>
                <a:lnTo>
                  <a:pt x="4107" y="3037"/>
                </a:lnTo>
                <a:lnTo>
                  <a:pt x="4331" y="3042"/>
                </a:lnTo>
                <a:lnTo>
                  <a:pt x="4551" y="3048"/>
                </a:lnTo>
                <a:lnTo>
                  <a:pt x="4764" y="3056"/>
                </a:lnTo>
                <a:lnTo>
                  <a:pt x="4962" y="3058"/>
                </a:lnTo>
                <a:lnTo>
                  <a:pt x="5138" y="3064"/>
                </a:lnTo>
                <a:lnTo>
                  <a:pt x="5287" y="3068"/>
                </a:lnTo>
                <a:lnTo>
                  <a:pt x="5402" y="3070"/>
                </a:lnTo>
                <a:lnTo>
                  <a:pt x="5477" y="3074"/>
                </a:lnTo>
                <a:lnTo>
                  <a:pt x="5502" y="3076"/>
                </a:lnTo>
                <a:lnTo>
                  <a:pt x="5520" y="3046"/>
                </a:lnTo>
                <a:lnTo>
                  <a:pt x="4322" y="276"/>
                </a:lnTo>
                <a:lnTo>
                  <a:pt x="4302" y="264"/>
                </a:lnTo>
                <a:lnTo>
                  <a:pt x="4283" y="264"/>
                </a:lnTo>
                <a:lnTo>
                  <a:pt x="4200" y="142"/>
                </a:lnTo>
                <a:lnTo>
                  <a:pt x="4192" y="136"/>
                </a:lnTo>
                <a:lnTo>
                  <a:pt x="4102" y="112"/>
                </a:lnTo>
                <a:lnTo>
                  <a:pt x="4009" y="89"/>
                </a:lnTo>
                <a:lnTo>
                  <a:pt x="3918" y="71"/>
                </a:lnTo>
                <a:lnTo>
                  <a:pt x="3823" y="49"/>
                </a:lnTo>
                <a:lnTo>
                  <a:pt x="3729" y="30"/>
                </a:lnTo>
                <a:lnTo>
                  <a:pt x="3636" y="18"/>
                </a:lnTo>
                <a:lnTo>
                  <a:pt x="3540" y="6"/>
                </a:lnTo>
                <a:lnTo>
                  <a:pt x="3449" y="0"/>
                </a:lnTo>
                <a:lnTo>
                  <a:pt x="3358" y="2"/>
                </a:lnTo>
                <a:lnTo>
                  <a:pt x="3263" y="12"/>
                </a:lnTo>
                <a:lnTo>
                  <a:pt x="3176" y="30"/>
                </a:lnTo>
                <a:lnTo>
                  <a:pt x="3083" y="59"/>
                </a:lnTo>
                <a:lnTo>
                  <a:pt x="2994" y="95"/>
                </a:lnTo>
                <a:lnTo>
                  <a:pt x="2910" y="146"/>
                </a:lnTo>
                <a:lnTo>
                  <a:pt x="2825" y="211"/>
                </a:lnTo>
                <a:lnTo>
                  <a:pt x="2759" y="274"/>
                </a:lnTo>
                <a:lnTo>
                  <a:pt x="2761" y="326"/>
                </a:lnTo>
                <a:close/>
              </a:path>
            </a:pathLst>
          </a:custGeom>
          <a:solidFill>
            <a:srgbClr val="ff0000"/>
          </a:solidFill>
          <a:ln w="3240">
            <a:solidFill>
              <a:srgbClr val="8001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8"/>
          <p:cNvSpPr/>
          <p:nvPr/>
        </p:nvSpPr>
        <p:spPr>
          <a:xfrm>
            <a:off x="228600" y="762120"/>
            <a:ext cx="8763120" cy="4995720"/>
          </a:xfrm>
          <a:custGeom>
            <a:avLst/>
            <a:gdLst>
              <a:gd name="textAreaLeft" fmla="*/ 0 w 8763120"/>
              <a:gd name="textAreaRight" fmla="*/ 8763480 w 8763120"/>
              <a:gd name="textAreaTop" fmla="*/ 0 h 4995720"/>
              <a:gd name="textAreaBottom" fmla="*/ 4996080 h 4995720"/>
            </a:gdLst>
            <a:ahLst/>
            <a:rect l="textAreaLeft" t="textAreaTop" r="textAreaRight" b="textAreaBottom"/>
            <a:pathLst>
              <a:path w="5520" h="3147">
                <a:moveTo>
                  <a:pt x="2761" y="326"/>
                </a:moveTo>
                <a:lnTo>
                  <a:pt x="2770" y="318"/>
                </a:lnTo>
                <a:lnTo>
                  <a:pt x="2848" y="241"/>
                </a:lnTo>
                <a:lnTo>
                  <a:pt x="2932" y="183"/>
                </a:lnTo>
                <a:lnTo>
                  <a:pt x="3010" y="136"/>
                </a:lnTo>
                <a:lnTo>
                  <a:pt x="3098" y="99"/>
                </a:lnTo>
                <a:lnTo>
                  <a:pt x="3179" y="71"/>
                </a:lnTo>
                <a:lnTo>
                  <a:pt x="3267" y="51"/>
                </a:lnTo>
                <a:lnTo>
                  <a:pt x="3358" y="45"/>
                </a:lnTo>
                <a:lnTo>
                  <a:pt x="3449" y="41"/>
                </a:lnTo>
                <a:lnTo>
                  <a:pt x="3540" y="49"/>
                </a:lnTo>
                <a:lnTo>
                  <a:pt x="3632" y="59"/>
                </a:lnTo>
                <a:lnTo>
                  <a:pt x="3725" y="71"/>
                </a:lnTo>
                <a:lnTo>
                  <a:pt x="3818" y="89"/>
                </a:lnTo>
                <a:lnTo>
                  <a:pt x="3909" y="109"/>
                </a:lnTo>
                <a:lnTo>
                  <a:pt x="4001" y="130"/>
                </a:lnTo>
                <a:lnTo>
                  <a:pt x="4094" y="154"/>
                </a:lnTo>
                <a:lnTo>
                  <a:pt x="4180" y="172"/>
                </a:lnTo>
                <a:lnTo>
                  <a:pt x="4256" y="296"/>
                </a:lnTo>
                <a:lnTo>
                  <a:pt x="4272" y="306"/>
                </a:lnTo>
                <a:lnTo>
                  <a:pt x="4293" y="306"/>
                </a:lnTo>
                <a:lnTo>
                  <a:pt x="5473" y="3033"/>
                </a:lnTo>
                <a:lnTo>
                  <a:pt x="5402" y="3031"/>
                </a:lnTo>
                <a:lnTo>
                  <a:pt x="5287" y="3029"/>
                </a:lnTo>
                <a:lnTo>
                  <a:pt x="5138" y="3023"/>
                </a:lnTo>
                <a:lnTo>
                  <a:pt x="4962" y="3019"/>
                </a:lnTo>
                <a:lnTo>
                  <a:pt x="4764" y="3015"/>
                </a:lnTo>
                <a:lnTo>
                  <a:pt x="4551" y="3007"/>
                </a:lnTo>
                <a:lnTo>
                  <a:pt x="4331" y="3001"/>
                </a:lnTo>
                <a:lnTo>
                  <a:pt x="4107" y="2995"/>
                </a:lnTo>
                <a:lnTo>
                  <a:pt x="3896" y="2987"/>
                </a:lnTo>
                <a:lnTo>
                  <a:pt x="3696" y="2981"/>
                </a:lnTo>
                <a:lnTo>
                  <a:pt x="3510" y="2975"/>
                </a:lnTo>
                <a:lnTo>
                  <a:pt x="3354" y="2969"/>
                </a:lnTo>
                <a:lnTo>
                  <a:pt x="3232" y="2964"/>
                </a:lnTo>
                <a:lnTo>
                  <a:pt x="3150" y="2960"/>
                </a:lnTo>
                <a:lnTo>
                  <a:pt x="3116" y="2958"/>
                </a:lnTo>
                <a:lnTo>
                  <a:pt x="3070" y="2960"/>
                </a:lnTo>
                <a:lnTo>
                  <a:pt x="3034" y="2983"/>
                </a:lnTo>
                <a:lnTo>
                  <a:pt x="3025" y="3031"/>
                </a:lnTo>
                <a:lnTo>
                  <a:pt x="3063" y="3048"/>
                </a:lnTo>
                <a:lnTo>
                  <a:pt x="3079" y="3058"/>
                </a:lnTo>
                <a:lnTo>
                  <a:pt x="3085" y="3076"/>
                </a:lnTo>
                <a:lnTo>
                  <a:pt x="3081" y="3098"/>
                </a:lnTo>
                <a:lnTo>
                  <a:pt x="3063" y="3106"/>
                </a:lnTo>
                <a:lnTo>
                  <a:pt x="2761" y="3106"/>
                </a:lnTo>
                <a:lnTo>
                  <a:pt x="2459" y="3106"/>
                </a:lnTo>
                <a:lnTo>
                  <a:pt x="2441" y="3098"/>
                </a:lnTo>
                <a:lnTo>
                  <a:pt x="2441" y="3076"/>
                </a:lnTo>
                <a:lnTo>
                  <a:pt x="2445" y="3058"/>
                </a:lnTo>
                <a:lnTo>
                  <a:pt x="2459" y="3048"/>
                </a:lnTo>
                <a:lnTo>
                  <a:pt x="2499" y="3031"/>
                </a:lnTo>
                <a:lnTo>
                  <a:pt x="2490" y="2983"/>
                </a:lnTo>
                <a:lnTo>
                  <a:pt x="2452" y="2960"/>
                </a:lnTo>
                <a:lnTo>
                  <a:pt x="2405" y="2958"/>
                </a:lnTo>
                <a:lnTo>
                  <a:pt x="2374" y="2960"/>
                </a:lnTo>
                <a:lnTo>
                  <a:pt x="2288" y="2964"/>
                </a:lnTo>
                <a:lnTo>
                  <a:pt x="2165" y="2969"/>
                </a:lnTo>
                <a:lnTo>
                  <a:pt x="2012" y="2975"/>
                </a:lnTo>
                <a:lnTo>
                  <a:pt x="1830" y="2981"/>
                </a:lnTo>
                <a:lnTo>
                  <a:pt x="1626" y="2987"/>
                </a:lnTo>
                <a:lnTo>
                  <a:pt x="1412" y="2995"/>
                </a:lnTo>
                <a:lnTo>
                  <a:pt x="1191" y="3001"/>
                </a:lnTo>
                <a:lnTo>
                  <a:pt x="973" y="3007"/>
                </a:lnTo>
                <a:lnTo>
                  <a:pt x="760" y="3015"/>
                </a:lnTo>
                <a:lnTo>
                  <a:pt x="562" y="3019"/>
                </a:lnTo>
                <a:lnTo>
                  <a:pt x="382" y="3023"/>
                </a:lnTo>
                <a:lnTo>
                  <a:pt x="235" y="3029"/>
                </a:lnTo>
                <a:lnTo>
                  <a:pt x="120" y="3031"/>
                </a:lnTo>
                <a:lnTo>
                  <a:pt x="47" y="3033"/>
                </a:lnTo>
                <a:lnTo>
                  <a:pt x="1231" y="306"/>
                </a:lnTo>
                <a:lnTo>
                  <a:pt x="1250" y="306"/>
                </a:lnTo>
                <a:lnTo>
                  <a:pt x="1268" y="296"/>
                </a:lnTo>
                <a:lnTo>
                  <a:pt x="1348" y="172"/>
                </a:lnTo>
                <a:lnTo>
                  <a:pt x="1432" y="154"/>
                </a:lnTo>
                <a:lnTo>
                  <a:pt x="1521" y="132"/>
                </a:lnTo>
                <a:lnTo>
                  <a:pt x="1615" y="110"/>
                </a:lnTo>
                <a:lnTo>
                  <a:pt x="1706" y="89"/>
                </a:lnTo>
                <a:lnTo>
                  <a:pt x="1797" y="71"/>
                </a:lnTo>
                <a:lnTo>
                  <a:pt x="1892" y="61"/>
                </a:lnTo>
                <a:lnTo>
                  <a:pt x="1979" y="49"/>
                </a:lnTo>
                <a:lnTo>
                  <a:pt x="2072" y="45"/>
                </a:lnTo>
                <a:lnTo>
                  <a:pt x="2163" y="45"/>
                </a:lnTo>
                <a:lnTo>
                  <a:pt x="2252" y="53"/>
                </a:lnTo>
                <a:lnTo>
                  <a:pt x="2339" y="71"/>
                </a:lnTo>
                <a:lnTo>
                  <a:pt x="2423" y="99"/>
                </a:lnTo>
                <a:lnTo>
                  <a:pt x="2508" y="136"/>
                </a:lnTo>
                <a:lnTo>
                  <a:pt x="2590" y="183"/>
                </a:lnTo>
                <a:lnTo>
                  <a:pt x="2667" y="241"/>
                </a:lnTo>
                <a:lnTo>
                  <a:pt x="2748" y="316"/>
                </a:lnTo>
                <a:lnTo>
                  <a:pt x="2761" y="328"/>
                </a:lnTo>
                <a:lnTo>
                  <a:pt x="2759" y="326"/>
                </a:lnTo>
                <a:lnTo>
                  <a:pt x="2759" y="274"/>
                </a:lnTo>
                <a:lnTo>
                  <a:pt x="2692" y="211"/>
                </a:lnTo>
                <a:lnTo>
                  <a:pt x="2612" y="146"/>
                </a:lnTo>
                <a:lnTo>
                  <a:pt x="2525" y="97"/>
                </a:lnTo>
                <a:lnTo>
                  <a:pt x="2437" y="59"/>
                </a:lnTo>
                <a:lnTo>
                  <a:pt x="2346" y="32"/>
                </a:lnTo>
                <a:lnTo>
                  <a:pt x="2255" y="14"/>
                </a:lnTo>
                <a:lnTo>
                  <a:pt x="2163" y="4"/>
                </a:lnTo>
                <a:lnTo>
                  <a:pt x="2072" y="2"/>
                </a:lnTo>
                <a:lnTo>
                  <a:pt x="1979" y="6"/>
                </a:lnTo>
                <a:lnTo>
                  <a:pt x="1886" y="18"/>
                </a:lnTo>
                <a:lnTo>
                  <a:pt x="1793" y="32"/>
                </a:lnTo>
                <a:lnTo>
                  <a:pt x="1699" y="49"/>
                </a:lnTo>
                <a:lnTo>
                  <a:pt x="1606" y="71"/>
                </a:lnTo>
                <a:lnTo>
                  <a:pt x="1515" y="91"/>
                </a:lnTo>
                <a:lnTo>
                  <a:pt x="1424" y="116"/>
                </a:lnTo>
                <a:lnTo>
                  <a:pt x="1333" y="136"/>
                </a:lnTo>
                <a:lnTo>
                  <a:pt x="1321" y="146"/>
                </a:lnTo>
                <a:lnTo>
                  <a:pt x="1242" y="266"/>
                </a:lnTo>
                <a:lnTo>
                  <a:pt x="1222" y="264"/>
                </a:lnTo>
                <a:lnTo>
                  <a:pt x="1206" y="276"/>
                </a:lnTo>
                <a:lnTo>
                  <a:pt x="0" y="3046"/>
                </a:lnTo>
                <a:lnTo>
                  <a:pt x="18" y="3076"/>
                </a:lnTo>
                <a:lnTo>
                  <a:pt x="44" y="3074"/>
                </a:lnTo>
                <a:lnTo>
                  <a:pt x="120" y="3070"/>
                </a:lnTo>
                <a:lnTo>
                  <a:pt x="235" y="3068"/>
                </a:lnTo>
                <a:lnTo>
                  <a:pt x="382" y="3064"/>
                </a:lnTo>
                <a:lnTo>
                  <a:pt x="562" y="3058"/>
                </a:lnTo>
                <a:lnTo>
                  <a:pt x="760" y="3056"/>
                </a:lnTo>
                <a:lnTo>
                  <a:pt x="973" y="3048"/>
                </a:lnTo>
                <a:lnTo>
                  <a:pt x="1191" y="3042"/>
                </a:lnTo>
                <a:lnTo>
                  <a:pt x="1412" y="3037"/>
                </a:lnTo>
                <a:lnTo>
                  <a:pt x="1626" y="3031"/>
                </a:lnTo>
                <a:lnTo>
                  <a:pt x="1830" y="3023"/>
                </a:lnTo>
                <a:lnTo>
                  <a:pt x="2012" y="3019"/>
                </a:lnTo>
                <a:lnTo>
                  <a:pt x="2165" y="3011"/>
                </a:lnTo>
                <a:lnTo>
                  <a:pt x="2288" y="3007"/>
                </a:lnTo>
                <a:lnTo>
                  <a:pt x="2374" y="3003"/>
                </a:lnTo>
                <a:lnTo>
                  <a:pt x="2412" y="2999"/>
                </a:lnTo>
                <a:lnTo>
                  <a:pt x="2445" y="3001"/>
                </a:lnTo>
                <a:lnTo>
                  <a:pt x="2459" y="3007"/>
                </a:lnTo>
                <a:lnTo>
                  <a:pt x="2417" y="3031"/>
                </a:lnTo>
                <a:lnTo>
                  <a:pt x="2399" y="3076"/>
                </a:lnTo>
                <a:lnTo>
                  <a:pt x="2414" y="3127"/>
                </a:lnTo>
                <a:lnTo>
                  <a:pt x="2459" y="3147"/>
                </a:lnTo>
                <a:lnTo>
                  <a:pt x="2761" y="3147"/>
                </a:lnTo>
                <a:lnTo>
                  <a:pt x="3063" y="3147"/>
                </a:lnTo>
                <a:lnTo>
                  <a:pt x="3110" y="3127"/>
                </a:lnTo>
                <a:lnTo>
                  <a:pt x="3125" y="3076"/>
                </a:lnTo>
                <a:lnTo>
                  <a:pt x="3107" y="3031"/>
                </a:lnTo>
                <a:lnTo>
                  <a:pt x="3063" y="3007"/>
                </a:lnTo>
                <a:lnTo>
                  <a:pt x="3076" y="3001"/>
                </a:lnTo>
                <a:lnTo>
                  <a:pt x="3110" y="2999"/>
                </a:lnTo>
                <a:lnTo>
                  <a:pt x="3148" y="3003"/>
                </a:lnTo>
                <a:lnTo>
                  <a:pt x="3232" y="3007"/>
                </a:lnTo>
                <a:lnTo>
                  <a:pt x="3354" y="3011"/>
                </a:lnTo>
                <a:lnTo>
                  <a:pt x="3510" y="3019"/>
                </a:lnTo>
                <a:lnTo>
                  <a:pt x="3696" y="3023"/>
                </a:lnTo>
                <a:lnTo>
                  <a:pt x="3896" y="3031"/>
                </a:lnTo>
                <a:lnTo>
                  <a:pt x="4107" y="3037"/>
                </a:lnTo>
                <a:lnTo>
                  <a:pt x="4331" y="3042"/>
                </a:lnTo>
                <a:lnTo>
                  <a:pt x="4551" y="3048"/>
                </a:lnTo>
                <a:lnTo>
                  <a:pt x="4764" y="3056"/>
                </a:lnTo>
                <a:lnTo>
                  <a:pt x="4962" y="3058"/>
                </a:lnTo>
                <a:lnTo>
                  <a:pt x="5138" y="3064"/>
                </a:lnTo>
                <a:lnTo>
                  <a:pt x="5287" y="3068"/>
                </a:lnTo>
                <a:lnTo>
                  <a:pt x="5402" y="3070"/>
                </a:lnTo>
                <a:lnTo>
                  <a:pt x="5477" y="3074"/>
                </a:lnTo>
                <a:lnTo>
                  <a:pt x="5502" y="3076"/>
                </a:lnTo>
                <a:lnTo>
                  <a:pt x="5520" y="3046"/>
                </a:lnTo>
                <a:lnTo>
                  <a:pt x="4322" y="276"/>
                </a:lnTo>
                <a:lnTo>
                  <a:pt x="4302" y="264"/>
                </a:lnTo>
                <a:lnTo>
                  <a:pt x="4283" y="264"/>
                </a:lnTo>
                <a:lnTo>
                  <a:pt x="4200" y="142"/>
                </a:lnTo>
                <a:lnTo>
                  <a:pt x="4192" y="136"/>
                </a:lnTo>
                <a:lnTo>
                  <a:pt x="4102" y="112"/>
                </a:lnTo>
                <a:lnTo>
                  <a:pt x="4009" y="89"/>
                </a:lnTo>
                <a:lnTo>
                  <a:pt x="3918" y="71"/>
                </a:lnTo>
                <a:lnTo>
                  <a:pt x="3823" y="49"/>
                </a:lnTo>
                <a:lnTo>
                  <a:pt x="3729" y="30"/>
                </a:lnTo>
                <a:lnTo>
                  <a:pt x="3636" y="18"/>
                </a:lnTo>
                <a:lnTo>
                  <a:pt x="3540" y="6"/>
                </a:lnTo>
                <a:lnTo>
                  <a:pt x="3449" y="0"/>
                </a:lnTo>
                <a:lnTo>
                  <a:pt x="3358" y="2"/>
                </a:lnTo>
                <a:lnTo>
                  <a:pt x="3263" y="12"/>
                </a:lnTo>
                <a:lnTo>
                  <a:pt x="3176" y="30"/>
                </a:lnTo>
                <a:lnTo>
                  <a:pt x="3083" y="59"/>
                </a:lnTo>
                <a:lnTo>
                  <a:pt x="2994" y="95"/>
                </a:lnTo>
                <a:lnTo>
                  <a:pt x="2910" y="146"/>
                </a:lnTo>
                <a:lnTo>
                  <a:pt x="2825" y="211"/>
                </a:lnTo>
                <a:lnTo>
                  <a:pt x="2759" y="274"/>
                </a:lnTo>
                <a:lnTo>
                  <a:pt x="2761" y="326"/>
                </a:lnTo>
                <a:close/>
              </a:path>
            </a:pathLst>
          </a:custGeom>
          <a:solidFill>
            <a:srgbClr val="ff0000"/>
          </a:solidFill>
          <a:ln w="3240">
            <a:solidFill>
              <a:srgbClr val="8001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9" descr=""/>
          <p:cNvPicPr/>
          <p:nvPr/>
        </p:nvPicPr>
        <p:blipFill>
          <a:blip r:embed="rId1"/>
          <a:stretch/>
        </p:blipFill>
        <p:spPr>
          <a:xfrm>
            <a:off x="6659640" y="4365720"/>
            <a:ext cx="1747800" cy="213336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76160" y="2133720"/>
            <a:ext cx="601956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Times New Roman"/>
              </a:rPr>
              <a:t>Детям знать положено</a:t>
            </a:r>
            <a:br>
              <a:rPr sz="3600"/>
            </a:br>
            <a:r>
              <a:rPr b="1" lang="ru-RU" sz="3600" spc="-1" strike="noStrike">
                <a:solidFill>
                  <a:srgbClr val="00ff00"/>
                </a:solidFill>
                <a:latin typeface="Times New Roman"/>
              </a:rPr>
              <a:t>Правила дорожные</a:t>
            </a:r>
            <a:br>
              <a:rPr sz="3600"/>
            </a:br>
            <a:r>
              <a:rPr b="1" lang="ru-RU" sz="3600" spc="-1" strike="noStrike">
                <a:solidFill>
                  <a:srgbClr val="00ff00"/>
                </a:solidFill>
                <a:latin typeface="Times New Roman"/>
              </a:rPr>
              <a:t>Ты, дружок, доверься им:</a:t>
            </a:r>
            <a:br>
              <a:rPr sz="3600"/>
            </a:br>
            <a:r>
              <a:rPr b="1" lang="ru-RU" sz="3600" spc="-1" strike="noStrike">
                <a:solidFill>
                  <a:srgbClr val="00ff00"/>
                </a:solidFill>
                <a:latin typeface="Times New Roman"/>
              </a:rPr>
              <a:t>Будешь цел и невредим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zoom dir="in"/>
    <p:sndAc>
      <p:stSnd>
        <p:snd r:embed="rId2" name="chimes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2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5409720"/>
            <a:ext cx="818352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Быть серьезным на дороге,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Знать порядок  должен ты,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На проезжей части строго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Игры все запрещены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5" descr="5"/>
          <p:cNvPicPr/>
          <p:nvPr/>
        </p:nvPicPr>
        <p:blipFill>
          <a:blip r:embed="rId1"/>
          <a:stretch/>
        </p:blipFill>
        <p:spPr>
          <a:xfrm>
            <a:off x="1676520" y="228600"/>
            <a:ext cx="6019560" cy="40831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in"/>
    <p:sndAc>
      <p:stSnd>
        <p:snd r:embed="rId2" name="chimes.wav"/>
      </p:stSnd>
    </p:sndAc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5075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а проезжей части дороги нельзя :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4" descr="LUCY1"/>
          <p:cNvPicPr/>
          <p:nvPr/>
        </p:nvPicPr>
        <p:blipFill>
          <a:blip r:embed="rId1"/>
          <a:stretch/>
        </p:blipFill>
        <p:spPr>
          <a:xfrm>
            <a:off x="4648320" y="3809880"/>
            <a:ext cx="2474640" cy="27432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baby52"/>
          <p:cNvPicPr/>
          <p:nvPr/>
        </p:nvPicPr>
        <p:blipFill>
          <a:blip r:embed="rId2"/>
          <a:stretch/>
        </p:blipFill>
        <p:spPr>
          <a:xfrm>
            <a:off x="0" y="3809880"/>
            <a:ext cx="2325600" cy="27432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9" descr="j0283651"/>
          <p:cNvPicPr/>
          <p:nvPr/>
        </p:nvPicPr>
        <p:blipFill>
          <a:blip r:embed="rId3"/>
          <a:stretch/>
        </p:blipFill>
        <p:spPr>
          <a:xfrm>
            <a:off x="7238880" y="3962520"/>
            <a:ext cx="1905120" cy="24382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1" descr="j0283653"/>
          <p:cNvPicPr/>
          <p:nvPr/>
        </p:nvPicPr>
        <p:blipFill>
          <a:blip r:embed="rId4"/>
          <a:stretch/>
        </p:blipFill>
        <p:spPr>
          <a:xfrm>
            <a:off x="2286000" y="4038480"/>
            <a:ext cx="2666880" cy="236232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18"/>
          <p:cNvSpPr/>
          <p:nvPr/>
        </p:nvSpPr>
        <p:spPr>
          <a:xfrm>
            <a:off x="304920" y="1600200"/>
            <a:ext cx="75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.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ататься на велосипедах и самокат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304920" y="2209680"/>
            <a:ext cx="48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.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грать в иг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22"/>
          <p:cNvSpPr/>
          <p:nvPr/>
        </p:nvSpPr>
        <p:spPr>
          <a:xfrm>
            <a:off x="304920" y="2819520"/>
            <a:ext cx="63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3. Перебегать через дорог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zoom dir="in"/>
    <p:sndAc>
      <p:stSnd>
        <p:snd r:embed="rId5" name="chimes.wav"/>
      </p:stSnd>
    </p:sndAc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" dur="1000" autoRev="1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87" dur="1000" autoRev="1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8" dur="1000" autoRev="1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сциплина на улицах, дорогах и в транспорте  - залог безопасности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9" descr="1226568_html_77c192fb"/>
          <p:cNvPicPr/>
          <p:nvPr/>
        </p:nvPicPr>
        <p:blipFill>
          <a:blip r:embed="rId1"/>
          <a:srcRect l="8266" t="8401" r="8266" b="15752"/>
          <a:stretch/>
        </p:blipFill>
        <p:spPr>
          <a:xfrm>
            <a:off x="1600200" y="1295280"/>
            <a:ext cx="5867280" cy="43657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in"/>
    <p:sndAc>
      <p:stSnd>
        <p:snd r:embed="rId2" name="chimes.wav"/>
      </p:stSnd>
    </p:sndAc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216" dur="2000" fill="hold"/>
                                        <p:tgtEl>
                                          <p:spTgt spid="2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пасибо за внимание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6" descr="1352392584_21"/>
          <p:cNvPicPr/>
          <p:nvPr/>
        </p:nvPicPr>
        <p:blipFill>
          <a:blip r:embed="rId1"/>
          <a:srcRect l="0" t="0" r="0" b="5708"/>
          <a:stretch/>
        </p:blipFill>
        <p:spPr>
          <a:xfrm>
            <a:off x="2666880" y="1371600"/>
            <a:ext cx="4469040" cy="53341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in"/>
    <p:sndAc>
      <p:stSnd>
        <p:snd r:embed="rId2" name="chimes.wav"/>
      </p:stSnd>
    </p:sndAc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22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Надо знать 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6" descr="1352392584_21"/>
          <p:cNvPicPr/>
          <p:nvPr/>
        </p:nvPicPr>
        <p:blipFill>
          <a:blip r:embed="rId1"/>
          <a:srcRect l="0" t="0" r="0" b="5708"/>
          <a:stretch/>
        </p:blipFill>
        <p:spPr>
          <a:xfrm>
            <a:off x="2286000" y="1371600"/>
            <a:ext cx="4468680" cy="53341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1352392584_21"/>
          <p:cNvPicPr/>
          <p:nvPr/>
        </p:nvPicPr>
        <p:blipFill>
          <a:blip r:embed="rId2"/>
          <a:srcRect l="0" t="0" r="0" b="5708"/>
          <a:stretch/>
        </p:blipFill>
        <p:spPr>
          <a:xfrm>
            <a:off x="2286000" y="1371600"/>
            <a:ext cx="4468680" cy="53341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1352392584_21"/>
          <p:cNvPicPr/>
          <p:nvPr/>
        </p:nvPicPr>
        <p:blipFill>
          <a:blip r:embed="rId3"/>
          <a:srcRect l="0" t="0" r="0" b="5708"/>
          <a:stretch/>
        </p:blipFill>
        <p:spPr>
          <a:xfrm>
            <a:off x="2286000" y="1371600"/>
            <a:ext cx="4468680" cy="53341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in"/>
    <p:sndAc>
      <p:stSnd>
        <p:snd r:embed="rId4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5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4"/>
          <p:cNvSpPr/>
          <p:nvPr/>
        </p:nvSpPr>
        <p:spPr>
          <a:xfrm>
            <a:off x="179280" y="11592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Ходи по тротуару, придерживаясь правой стороны.</a:t>
            </a: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4" descr="03labnf8u1359912564"/>
          <p:cNvPicPr/>
          <p:nvPr/>
        </p:nvPicPr>
        <p:blipFill>
          <a:blip r:embed="rId1"/>
          <a:srcRect l="0" t="4989" r="0" b="0"/>
          <a:stretch/>
        </p:blipFill>
        <p:spPr>
          <a:xfrm>
            <a:off x="1905120" y="2209680"/>
            <a:ext cx="5410080" cy="35784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in"/>
    <p:sndAc>
      <p:stSnd>
        <p:snd r:embed="rId2" name="chimes.wav"/>
      </p:stSnd>
    </p:sndAc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" dur="2000" fill="hold"/>
                                        <p:tgtEl>
                                          <p:spTgt spid="1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4"/>
          <p:cNvSpPr/>
          <p:nvPr/>
        </p:nvSpPr>
        <p:spPr>
          <a:xfrm>
            <a:off x="0" y="333360"/>
            <a:ext cx="87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реходи улицу только по пешеходному переходу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6" descr="1352365477_pravida-dorozhnogo-dvizheniya"/>
          <p:cNvPicPr/>
          <p:nvPr/>
        </p:nvPicPr>
        <p:blipFill>
          <a:blip r:embed="rId1"/>
          <a:stretch/>
        </p:blipFill>
        <p:spPr>
          <a:xfrm>
            <a:off x="2057400" y="2286000"/>
            <a:ext cx="5181480" cy="35812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in"/>
    <p:sndAc>
      <p:stSnd>
        <p:snd r:embed="rId2" name="chimes.wav"/>
      </p:stSnd>
    </p:sndAc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" dur="2000" fill="hold"/>
                                        <p:tgtEl>
                                          <p:spTgt spid="1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0" y="26028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реходя дорогу остановись, посмотри, нет ли близко автомобиля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4" descr="208-3-pravila-dorozhnogo-dvizheniya-detyam-kartinki"/>
          <p:cNvPicPr/>
          <p:nvPr/>
        </p:nvPicPr>
        <p:blipFill>
          <a:blip r:embed="rId1"/>
          <a:stretch/>
        </p:blipFill>
        <p:spPr>
          <a:xfrm>
            <a:off x="1752480" y="2209680"/>
            <a:ext cx="5639040" cy="35877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in"/>
    <p:sndAc>
      <p:stSnd>
        <p:snd r:embed="rId2" name="chimes.wav"/>
      </p:stSnd>
    </p:sndAc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" dur="2000" fill="hold"/>
                                        <p:tgtEl>
                                          <p:spTgt spid="1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еходя улицу с двухсторонним движением по пешеходному переходу, посмотрите налево и направо, убедитесь, что поблизости нет автомобиля или приближающиеся транспортные средства остановились, только тогда переходите дорог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8" descr="img"/>
          <p:cNvPicPr/>
          <p:nvPr/>
        </p:nvPicPr>
        <p:blipFill>
          <a:blip r:embed="rId1"/>
          <a:stretch/>
        </p:blipFill>
        <p:spPr>
          <a:xfrm>
            <a:off x="1828800" y="2362320"/>
            <a:ext cx="5486400" cy="35049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in"/>
    <p:sndAc>
      <p:stSnd>
        <p:snd r:embed="rId2" name="chimes.wav"/>
      </p:stSnd>
    </p:sndAc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" dur="2000" fill="hold"/>
                                        <p:tgtEl>
                                          <p:spTgt spid="1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4"/>
          <p:cNvSpPr/>
          <p:nvPr/>
        </p:nvSpPr>
        <p:spPr>
          <a:xfrm>
            <a:off x="228600" y="228600"/>
            <a:ext cx="78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реходи улицу только на зеленый сигна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5" descr="skazki-0043"/>
          <p:cNvPicPr/>
          <p:nvPr/>
        </p:nvPicPr>
        <p:blipFill>
          <a:blip r:embed="rId1"/>
          <a:stretch/>
        </p:blipFill>
        <p:spPr>
          <a:xfrm>
            <a:off x="1752480" y="2133720"/>
            <a:ext cx="5715000" cy="35812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in"/>
    <p:sndAc>
      <p:stSnd>
        <p:snd r:embed="rId2" name="chimes.wav"/>
      </p:stSnd>
    </p:sndAc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5" dur="2000" fill="hold"/>
                                        <p:tgtEl>
                                          <p:spTgt spid="1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4"/>
          <p:cNvSpPr/>
          <p:nvPr/>
        </p:nvSpPr>
        <p:spPr>
          <a:xfrm>
            <a:off x="250920" y="333360"/>
            <a:ext cx="85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ьзуйтесь подземным, надземным и наземным переход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5" descr="dou_5"/>
          <p:cNvPicPr/>
          <p:nvPr/>
        </p:nvPicPr>
        <p:blipFill>
          <a:blip r:embed="rId1"/>
          <a:stretch/>
        </p:blipFill>
        <p:spPr>
          <a:xfrm>
            <a:off x="1752480" y="2362320"/>
            <a:ext cx="5715000" cy="35049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in"/>
    <p:sndAc>
      <p:stSnd>
        <p:snd r:embed="rId2" name="chimes.wav"/>
      </p:stSnd>
    </p:sndAc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7" dur="2000" fill="hold"/>
                                        <p:tgtEl>
                                          <p:spTgt spid="1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8T19:33:51Z</dcterms:created>
  <dc:creator>елена</dc:creator>
  <dc:description/>
  <dc:language>en-US</dc:language>
  <cp:lastModifiedBy>HP</cp:lastModifiedBy>
  <dcterms:modified xsi:type="dcterms:W3CDTF">2023-01-23T11:12:33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