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chimes.wav" ContentType="audio/x-wav"/>
  <Override PartName="/ppt/media/image16.jpeg" ContentType="image/jpeg"/>
  <Override PartName="/ppt/media/image26.gif" ContentType="image/gif"/>
  <Override PartName="/ppt/media/image15.jpeg" ContentType="image/jpeg"/>
  <Override PartName="/ppt/media/image27.png" ContentType="image/png"/>
  <Override PartName="/ppt/media/image24.gif" ContentType="image/gif"/>
  <Override PartName="/ppt/media/image21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.png" ContentType="image/png"/>
  <Override PartName="/ppt/media/image3.png" ContentType="image/png"/>
  <Override PartName="/ppt/media/image23.gif" ContentType="image/gi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25D-BD38-4E75-B530-48C550020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3573-194E-4655-9072-DF984520BA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88FE0-9212-4782-B91F-205E4A73B7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EEAAB-4A97-44E8-8DEB-94A9DBF73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BBA-5E49-48CC-90FD-E4D019D6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CDF-62AF-43C4-9A6D-A811A86E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181-9FBF-4F68-AA1D-BC55DA70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19A-DDB3-41F6-AB20-4EA237E8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C3D-E56E-48E3-80DA-A3D98119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796E-9EED-4855-B52C-FB460F8A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A1D9-90D0-4715-8845-197470E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CA45-C318-4785-B8E9-FD29EDF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6806-2C9D-44D7-A849-260BF172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8A10-EAD0-495A-AC4C-124EADC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9391-0107-4442-B1A5-DD1CF4CE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C96-B1F4-4B6A-AB74-4A5A1497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CCEF-A289-481F-B6E4-0165DAA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5CF0-25D9-42BF-9A18-4A9F317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E09-E14C-463C-99F9-3523D48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73C2-6C56-4FE5-BF54-3DC7CA1A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A615-31C8-4BA8-8B26-AADF0959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5E9-3BCB-41D5-8F66-EACE6D2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AD5-DD42-4A07-8A78-CF0BB50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CDA-0858-454C-A2C2-5F9722C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0A1-6538-40BD-866E-E94E4C58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D82-116B-4486-9F94-521D563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FCC-10E7-4761-8334-8D117D3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D97-677C-40E1-988A-1BABA72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96C6-6BBC-4FFD-93A9-66CE4FD47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9D7-6553-47D1-933D-821486D7EF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3880" y="2514600"/>
            <a:ext cx="79358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Юный пешехо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готови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инова Н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перебегай проезжую часть перед близко идущим транспор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6" descr="pdd-dlya-detej-5"/>
          <p:cNvPicPr/>
          <p:nvPr/>
        </p:nvPicPr>
        <p:blipFill>
          <a:blip r:embed="rId1"/>
          <a:srcRect l="0" t="16837" r="0" b="12624"/>
          <a:stretch/>
        </p:blipFill>
        <p:spPr>
          <a:xfrm>
            <a:off x="1981080" y="228600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жидая транспорт, стойте только на посадочных площадках или обочи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131740"/>
          <p:cNvPicPr/>
          <p:nvPr/>
        </p:nvPicPr>
        <p:blipFill>
          <a:blip r:embed="rId1"/>
          <a:stretch/>
        </p:blipFill>
        <p:spPr>
          <a:xfrm>
            <a:off x="1905120" y="2362320"/>
            <a:ext cx="533376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7" descr="1(4)"/>
          <p:cNvPicPr/>
          <p:nvPr/>
        </p:nvPicPr>
        <p:blipFill>
          <a:blip r:embed="rId1"/>
          <a:stretch/>
        </p:blipFill>
        <p:spPr>
          <a:xfrm>
            <a:off x="1828800" y="2590920"/>
            <a:ext cx="556272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533520" y="3808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0008-017-Kakie-pravila-narushili-deti"/>
          <p:cNvPicPr/>
          <p:nvPr/>
        </p:nvPicPr>
        <p:blipFill>
          <a:blip r:embed="rId1"/>
          <a:stretch/>
        </p:blipFill>
        <p:spPr>
          <a:xfrm>
            <a:off x="1676520" y="1981080"/>
            <a:ext cx="5790960" cy="3849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омни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6" descr="1352392584_21"/>
          <p:cNvPicPr/>
          <p:nvPr/>
        </p:nvPicPr>
        <p:blipFill>
          <a:blip r:embed="rId1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1352392584_21"/>
          <p:cNvPicPr/>
          <p:nvPr/>
        </p:nvPicPr>
        <p:blipFill>
          <a:blip r:embed="rId2"/>
          <a:srcRect l="0" t="0" r="0" b="5708"/>
          <a:stretch/>
        </p:blipFill>
        <p:spPr>
          <a:xfrm>
            <a:off x="2286000" y="1295280"/>
            <a:ext cx="446868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3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светофоры – он регулирует движение транспорта и пешеходов на д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Рисунок 8" descr=""/>
          <p:cNvPicPr/>
          <p:nvPr/>
        </p:nvPicPr>
        <p:blipFill>
          <a:blip r:embed="rId1"/>
          <a:stretch/>
        </p:blipFill>
        <p:spPr>
          <a:xfrm>
            <a:off x="914400" y="1049400"/>
            <a:ext cx="760572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495680"/>
            <a:ext cx="8183520" cy="16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 светофора окошечка д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 переходе на них посмотр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Рисунок 6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091040" cy="423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горит красный сигнал светофора, надо останов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76920" cy="4299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зеленый сигнал светофора можно переходить дор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1"/>
          <a:stretch/>
        </p:blipFill>
        <p:spPr>
          <a:xfrm>
            <a:off x="2293920" y="1752480"/>
            <a:ext cx="4556160" cy="4557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SSN393.wav" descr=""/>
          <p:cNvPicPr/>
          <p:nvPr/>
        </p:nvPicPr>
        <p:blipFill>
          <a:blip r:embed="rId1"/>
          <a:stretch/>
        </p:blipFill>
        <p:spPr>
          <a:xfrm>
            <a:off x="8610480" y="2286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9"/>
          <p:cNvSpPr/>
          <p:nvPr/>
        </p:nvSpPr>
        <p:spPr>
          <a:xfrm>
            <a:off x="228600" y="1447920"/>
            <a:ext cx="40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 улиц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ы не один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ядом с тобо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ного маш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65161"/>
          <p:cNvPicPr/>
          <p:nvPr/>
        </p:nvPicPr>
        <p:blipFill>
          <a:blip r:embed="rId2"/>
          <a:stretch/>
        </p:blipFill>
        <p:spPr>
          <a:xfrm>
            <a:off x="4267080" y="304920"/>
            <a:ext cx="4664160" cy="624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3" name="chimes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228600" y="480060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457200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3520" y="838080"/>
            <a:ext cx="4024080" cy="4875480"/>
          </a:xfrm>
          <a:custGeom>
            <a:avLst/>
            <a:gdLst>
              <a:gd name="textAreaLeft" fmla="*/ 0 w 4024080"/>
              <a:gd name="textAreaRight" fmla="*/ 4024440 w 4024080"/>
              <a:gd name="textAreaTop" fmla="*/ 0 h 4875480"/>
              <a:gd name="textAreaBottom" fmla="*/ 4875840 h 48754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858000" y="1066680"/>
            <a:ext cx="2087640" cy="4600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133720"/>
            <a:ext cx="60195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Детям знать положено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Правила дорожные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Ты, дружок, доверься им:</a:t>
            </a:r>
            <a:br>
              <a:rPr sz="3600"/>
            </a:b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Будешь цел и невреди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1835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ыть серьезным на дороге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нать порядок  должен ты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проезжей части стро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гры все запрещены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5"/>
          <p:cNvPicPr/>
          <p:nvPr/>
        </p:nvPicPr>
        <p:blipFill>
          <a:blip r:embed="rId1"/>
          <a:stretch/>
        </p:blipFill>
        <p:spPr>
          <a:xfrm>
            <a:off x="1676520" y="228600"/>
            <a:ext cx="6019560" cy="4083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проезжей части дороги нельзя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LUCY1"/>
          <p:cNvPicPr/>
          <p:nvPr/>
        </p:nvPicPr>
        <p:blipFill>
          <a:blip r:embed="rId1"/>
          <a:stretch/>
        </p:blipFill>
        <p:spPr>
          <a:xfrm>
            <a:off x="4648320" y="3809880"/>
            <a:ext cx="2474640" cy="274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baby52"/>
          <p:cNvPicPr/>
          <p:nvPr/>
        </p:nvPicPr>
        <p:blipFill>
          <a:blip r:embed="rId2"/>
          <a:stretch/>
        </p:blipFill>
        <p:spPr>
          <a:xfrm>
            <a:off x="0" y="3809880"/>
            <a:ext cx="2325600" cy="2743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j0283651"/>
          <p:cNvPicPr/>
          <p:nvPr/>
        </p:nvPicPr>
        <p:blipFill>
          <a:blip r:embed="rId3"/>
          <a:stretch/>
        </p:blipFill>
        <p:spPr>
          <a:xfrm>
            <a:off x="7238880" y="3962520"/>
            <a:ext cx="1905120" cy="2438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j0283653"/>
          <p:cNvPicPr/>
          <p:nvPr/>
        </p:nvPicPr>
        <p:blipFill>
          <a:blip r:embed="rId4"/>
          <a:stretch/>
        </p:blipFill>
        <p:spPr>
          <a:xfrm>
            <a:off x="2286000" y="4038480"/>
            <a:ext cx="2666880" cy="23623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8"/>
          <p:cNvSpPr/>
          <p:nvPr/>
        </p:nvSpPr>
        <p:spPr>
          <a:xfrm>
            <a:off x="304920" y="16002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таться на велосипедах и самока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04920" y="22096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грать в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04920" y="281952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еребегать через доро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5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0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7" dur="10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8" dur="1000" autoRev="1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сциплина на улицах, дорогах и в транспорте  - залог безопасности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9" descr="1226568_html_77c192fb"/>
          <p:cNvPicPr/>
          <p:nvPr/>
        </p:nvPicPr>
        <p:blipFill>
          <a:blip r:embed="rId1"/>
          <a:srcRect l="8266" t="8401" r="8266" b="15752"/>
          <a:stretch/>
        </p:blipFill>
        <p:spPr>
          <a:xfrm>
            <a:off x="1600200" y="1295280"/>
            <a:ext cx="5867280" cy="4365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1352392584_21"/>
          <p:cNvPicPr/>
          <p:nvPr/>
        </p:nvPicPr>
        <p:blipFill>
          <a:blip r:embed="rId1"/>
          <a:srcRect l="0" t="0" r="0" b="5708"/>
          <a:stretch/>
        </p:blipFill>
        <p:spPr>
          <a:xfrm>
            <a:off x="2666880" y="1371600"/>
            <a:ext cx="446904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до знать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1352392584_21"/>
          <p:cNvPicPr/>
          <p:nvPr/>
        </p:nvPicPr>
        <p:blipFill>
          <a:blip r:embed="rId1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1352392584_21"/>
          <p:cNvPicPr/>
          <p:nvPr/>
        </p:nvPicPr>
        <p:blipFill>
          <a:blip r:embed="rId2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1352392584_21"/>
          <p:cNvPicPr/>
          <p:nvPr/>
        </p:nvPicPr>
        <p:blipFill>
          <a:blip r:embed="rId3"/>
          <a:srcRect l="0" t="0" r="0" b="5708"/>
          <a:stretch/>
        </p:blipFill>
        <p:spPr>
          <a:xfrm>
            <a:off x="2286000" y="1371600"/>
            <a:ext cx="446868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4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79280" y="1159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оди по тротуару, придерживаясь правой стороны.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03labnf8u1359912564"/>
          <p:cNvPicPr/>
          <p:nvPr/>
        </p:nvPicPr>
        <p:blipFill>
          <a:blip r:embed="rId1"/>
          <a:srcRect l="0" t="4989" r="0" b="0"/>
          <a:stretch/>
        </p:blipFill>
        <p:spPr>
          <a:xfrm>
            <a:off x="1905120" y="2209680"/>
            <a:ext cx="5410080" cy="3578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0" y="333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ходи улицу только по пешеходному перехо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1352365477_pravida-dorozhnogo-dvizheniya"/>
          <p:cNvPicPr/>
          <p:nvPr/>
        </p:nvPicPr>
        <p:blipFill>
          <a:blip r:embed="rId1"/>
          <a:stretch/>
        </p:blipFill>
        <p:spPr>
          <a:xfrm>
            <a:off x="2057400" y="2286000"/>
            <a:ext cx="518148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208-3-pravila-dorozhnogo-dvizheniya-detyam-kartinki"/>
          <p:cNvPicPr/>
          <p:nvPr/>
        </p:nvPicPr>
        <p:blipFill>
          <a:blip r:embed="rId1"/>
          <a:stretch/>
        </p:blipFill>
        <p:spPr>
          <a:xfrm>
            <a:off x="1752480" y="2209680"/>
            <a:ext cx="5639040" cy="3587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ходя улицу с двух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, только тогда переходите дор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img"/>
          <p:cNvPicPr/>
          <p:nvPr/>
        </p:nvPicPr>
        <p:blipFill>
          <a:blip r:embed="rId1"/>
          <a:stretch/>
        </p:blipFill>
        <p:spPr>
          <a:xfrm>
            <a:off x="1828800" y="2362320"/>
            <a:ext cx="548640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28600" y="2286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ходи улицу только на зеленый сигн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skazki-0043"/>
          <p:cNvPicPr/>
          <p:nvPr/>
        </p:nvPicPr>
        <p:blipFill>
          <a:blip r:embed="rId1"/>
          <a:stretch/>
        </p:blipFill>
        <p:spPr>
          <a:xfrm>
            <a:off x="1752480" y="213372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ьзуйтесь подземным, надземным и наземным переход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dou_5"/>
          <p:cNvPicPr/>
          <p:nvPr/>
        </p:nvPicPr>
        <p:blipFill>
          <a:blip r:embed="rId1"/>
          <a:stretch/>
        </p:blipFill>
        <p:spPr>
          <a:xfrm>
            <a:off x="1752480" y="2362320"/>
            <a:ext cx="571500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9:33:51Z</dcterms:created>
  <dc:creator>елена</dc:creator>
  <dc:description/>
  <dc:language>en-US</dc:language>
  <cp:lastModifiedBy>HP</cp:lastModifiedBy>
  <dcterms:modified xsi:type="dcterms:W3CDTF">2023-01-23T11:12:33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