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E39-23A7-4532-B17C-B2509809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3CA-A720-4786-9CD0-8EEBD343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D0A-D1D9-4C6E-BA64-A75E72B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5E9-8AD2-4BD9-8E77-FE7CA4E4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4B6E-E12F-4AB1-AFCC-2A420FE1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1360-E45F-4179-9A55-C42FF929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18E2-E496-4536-BA86-9928E0BE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9648-2303-461C-B945-82DD2AC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D88D-71E5-4D07-A2D0-3475D8A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9BF6-2666-4A0C-BC97-E8BB7903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B27-14AB-4D5D-81FB-31C0D33A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88F-BECB-4026-8E9B-E64AA3EC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BA3E-B70E-435F-B19C-5231455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CF9-4938-42E6-91A4-A92F7EA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697B-ACFD-4204-B5FA-386898A2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53CA-C28B-48A5-9C56-F5E56D67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626A-1EA6-418E-B312-40730E66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D2C-D881-4E3A-9ED7-A19C9FF9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CBB-0970-404F-9F93-A8E0B476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071-307B-44EB-89B4-80D892D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67B-12E9-4B5C-B0EA-1D4E4279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FB6-2764-4394-A6D1-43298E0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24B-256A-49B5-B32D-9639C1A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2E7-F098-4B7C-B31E-6D50025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E966-F133-4350-9CF6-A637DDFFA8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894A-338C-480F-8DD9-A1A481C732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: Изображение предметного мира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втраки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итер Клас.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Завтрак с ветчиной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3"/>
          <p:cNvPicPr/>
          <p:nvPr/>
        </p:nvPicPr>
        <p:blipFill>
          <a:blip r:embed="rId1"/>
          <a:stretch/>
        </p:blipFill>
        <p:spPr>
          <a:xfrm>
            <a:off x="1116000" y="1557360"/>
            <a:ext cx="712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Десерты»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. И. Машков. </a:t>
            </a:r>
            <a:br>
              <a:rPr sz="40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иноград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, лимон и рак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6" descr="4"/>
          <p:cNvPicPr/>
          <p:nvPr/>
        </p:nvPicPr>
        <p:blipFill>
          <a:blip r:embed="rId1"/>
          <a:stretch/>
        </p:blipFill>
        <p:spPr>
          <a:xfrm>
            <a:off x="1116000" y="1916280"/>
            <a:ext cx="7056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также изображения живой и уснувшей рыбы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брахам Ван Бейерен. </a:t>
            </a:r>
            <a:br>
              <a:rPr sz="3200"/>
            </a:b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Рыбы в корзин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5"/>
          <p:cNvPicPr/>
          <p:nvPr/>
        </p:nvPicPr>
        <p:blipFill>
          <a:blip r:embed="rId1"/>
          <a:stretch/>
        </p:blipFill>
        <p:spPr>
          <a:xfrm>
            <a:off x="2843280" y="1916280"/>
            <a:ext cx="51847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знообразие птиц.</a:t>
            </a:r>
            <a:br>
              <a:rPr sz="44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Мелхиор Де Хондекутер. «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тицы в парк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6" descr="6"/>
          <p:cNvPicPr/>
          <p:nvPr/>
        </p:nvPicPr>
        <p:blipFill>
          <a:blip r:embed="rId1"/>
          <a:stretch/>
        </p:blipFill>
        <p:spPr>
          <a:xfrm>
            <a:off x="1258920" y="1773360"/>
            <a:ext cx="7058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веты.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Ян Давидс Де Хем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Цветы в ваз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8"/>
          <p:cNvPicPr/>
          <p:nvPr/>
        </p:nvPicPr>
        <p:blipFill>
          <a:blip r:embed="rId1"/>
          <a:stretch/>
        </p:blipFill>
        <p:spPr>
          <a:xfrm>
            <a:off x="2268360" y="1700280"/>
            <a:ext cx="4391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м красочном полотне соединились черты разных жанров: натюрморт, портре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алентин Александрович Серов. </a:t>
            </a:r>
            <a:br>
              <a:rPr sz="24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Девочка с персикам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ь"/>
          <p:cNvPicPr/>
          <p:nvPr/>
        </p:nvPicPr>
        <p:blipFill>
          <a:blip r:embed="rId1"/>
          <a:stretch/>
        </p:blipFill>
        <p:spPr>
          <a:xfrm>
            <a:off x="2268360" y="1557360"/>
            <a:ext cx="4465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орокин Георгий Иванович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(родился и живет в г.Тюмени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юльпаны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9" descr="Сорок"/>
          <p:cNvPicPr/>
          <p:nvPr/>
        </p:nvPicPr>
        <p:blipFill>
          <a:blip r:embed="rId1"/>
          <a:stretch/>
        </p:blipFill>
        <p:spPr>
          <a:xfrm>
            <a:off x="179280" y="1989000"/>
            <a:ext cx="2737080" cy="273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Сорока"/>
          <p:cNvPicPr/>
          <p:nvPr/>
        </p:nvPicPr>
        <p:blipFill>
          <a:blip r:embed="rId2"/>
          <a:stretch/>
        </p:blipFill>
        <p:spPr>
          <a:xfrm>
            <a:off x="3419640" y="1916280"/>
            <a:ext cx="518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авлов Александр Николаевич. (Тюменский художник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Астры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м"/>
          <p:cNvPicPr/>
          <p:nvPr/>
        </p:nvPicPr>
        <p:blipFill>
          <a:blip r:embed="rId1"/>
          <a:stretch/>
        </p:blipFill>
        <p:spPr>
          <a:xfrm>
            <a:off x="250920" y="1773360"/>
            <a:ext cx="2771640" cy="3036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Астры"/>
          <p:cNvPicPr/>
          <p:nvPr/>
        </p:nvPicPr>
        <p:blipFill>
          <a:blip r:embed="rId2"/>
          <a:stretch/>
        </p:blipFill>
        <p:spPr>
          <a:xfrm>
            <a:off x="3203640" y="2006640"/>
            <a:ext cx="5616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Композиционное ре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Набор предметов не может быть случайным, их должно что-то объединять, роднить, в них должна быть заложена определённая идея, те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9" descr="я"/>
          <p:cNvPicPr/>
          <p:nvPr/>
        </p:nvPicPr>
        <p:blipFill>
          <a:blip r:embed="rId1"/>
          <a:stretch/>
        </p:blipFill>
        <p:spPr>
          <a:xfrm>
            <a:off x="4427640" y="1484280"/>
            <a:ext cx="410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932000" y="1268280"/>
            <a:ext cx="341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становка. Если рассматривать предметы слишком далеко друг от друга, в композиции может произойти пустота, если слишком сблизить – натюрморт может получиться тяжелым, громоздк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1" descr="с"/>
          <p:cNvPicPr/>
          <p:nvPr/>
        </p:nvPicPr>
        <p:blipFill>
          <a:blip r:embed="rId2"/>
          <a:stretch/>
        </p:blipFill>
        <p:spPr>
          <a:xfrm>
            <a:off x="468360" y="333360"/>
            <a:ext cx="4103640" cy="280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с2"/>
          <p:cNvPicPr/>
          <p:nvPr/>
        </p:nvPicPr>
        <p:blipFill>
          <a:blip r:embed="rId3"/>
          <a:stretch/>
        </p:blipFill>
        <p:spPr>
          <a:xfrm>
            <a:off x="539640" y="335772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вена"/>
          <p:cNvPicPr/>
          <p:nvPr/>
        </p:nvPicPr>
        <p:blipFill>
          <a:blip r:embed="rId1"/>
          <a:stretch/>
        </p:blipFill>
        <p:spPr>
          <a:xfrm>
            <a:off x="0" y="0"/>
            <a:ext cx="932508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834920" y="5589360"/>
            <a:ext cx="705636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Для создания равновесия в композиции рекомендуется использовать чередование светлых и темных предметов; тяжелых и более изящных по форме; вертикальных и горизонтальных по своим основным пропорция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7" descr="м"/>
          <p:cNvPicPr/>
          <p:nvPr/>
        </p:nvPicPr>
        <p:blipFill>
          <a:blip r:embed="rId2"/>
          <a:stretch/>
        </p:blipFill>
        <p:spPr>
          <a:xfrm>
            <a:off x="2843280" y="115920"/>
            <a:ext cx="4075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66ff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7696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тюрморт должен иметь композиционный центр – предмет либо самый крупный, либо самый яркий, либо наиболее выразительн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10" descr="и"/>
          <p:cNvPicPr/>
          <p:nvPr/>
        </p:nvPicPr>
        <p:blipFill>
          <a:blip r:embed="rId1"/>
          <a:stretch/>
        </p:blipFill>
        <p:spPr>
          <a:xfrm>
            <a:off x="2268360" y="1341360"/>
            <a:ext cx="547236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272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войство нашего зрения тоже необходимо учитывать. Посмотрите, как изменилось впечатление от рисунка, когда мы увидели его зеркальное изображ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7" descr="ч"/>
          <p:cNvPicPr/>
          <p:nvPr/>
        </p:nvPicPr>
        <p:blipFill>
          <a:blip r:embed="rId1"/>
          <a:stretch/>
        </p:blipFill>
        <p:spPr>
          <a:xfrm>
            <a:off x="468360" y="1989000"/>
            <a:ext cx="845172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24360" y="3500280"/>
            <a:ext cx="3305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В постановке натюрморта предметы должны быть сгруппированы так, чтобы чувствовалось слаженность, уравновешенность, чтобы уже ничего не хотелось  убрать, передвинуть или добави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т"/>
          <p:cNvPicPr/>
          <p:nvPr/>
        </p:nvPicPr>
        <p:blipFill>
          <a:blip r:embed="rId1"/>
          <a:stretch/>
        </p:blipFill>
        <p:spPr>
          <a:xfrm>
            <a:off x="179280" y="333360"/>
            <a:ext cx="5256360" cy="62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675640" cy="57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Comic Sans MS"/>
              </a:rPr>
              <a:t>Домашнее задание: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ПОДОБРАТЬ ИЛЛЮСТРИРОВАННЫЙ МАТЕРИАЛ ПО ТЕМЕ: «НАТЮРМОРТ»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Тема: </a:t>
            </a:r>
            <a:r>
              <a:rPr b="0" lang="ru-RU" sz="4400" spc="-1" strike="noStrike">
                <a:solidFill>
                  <a:srgbClr val="006e00"/>
                </a:solidFill>
                <a:latin typeface="Comic Sans MS"/>
              </a:rPr>
              <a:t>Изображение предметного мира – натюрморт.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268000" y="4076280"/>
            <a:ext cx="62485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Требуется умение бегло и удачно компоновать. Тот, кто смел в композици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икогда не будет затруднен сложным построен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Фрейд Анге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47"/>
            </a:gs>
            <a:gs pos="50000">
              <a:srgbClr val="ff9999"/>
            </a:gs>
            <a:gs pos="100000">
              <a:srgbClr val="7647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dff"/>
                </a:solidFill>
                <a:latin typeface="Comic Sans MS"/>
              </a:rPr>
              <a:t>Натюрмор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(от франц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 morte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– буквально «мёртвая натура») – один из жанров изобразительного искусства, посвященный воспроизведению предметов обихода, снеди (овощей, фруктов и т.д.), цветов и прочего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6910200" cy="622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Задача художника в области натюрморта состоит не только в передаче вещей самих по себе, но и в том, чтобы выразить отношение к ним человека данной эпохи, а через них и к окружающему миру вообщ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48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mic Sans MS"/>
              </a:rPr>
              <a:t>В собрании Государственного Эрмитажа хранятся картины с изображением натюрмортов, среди них многочисленные произведения голландских мастеров, относящихся к жанру натюрморта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По – голландски «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tilleven</a:t>
            </a: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», что означает тихая жизнь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2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640" y="1412640"/>
            <a:ext cx="687096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Comic Sans MS"/>
              </a:rPr>
              <a:t>Родина современного натюрморта – Голландия.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Comic Sans MS"/>
              </a:rPr>
              <a:t>Для голландской живописи в целом характерна узкая специализация мастеров внутри жан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веты и фрукты, включающие, как правило, и всевозможных насекомых.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Балтазар Ван Дер Аст.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Натюрморт с фруктами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1"/>
          <p:cNvPicPr/>
          <p:nvPr/>
        </p:nvPicPr>
        <p:blipFill>
          <a:blip r:embed="rId1"/>
          <a:stretch/>
        </p:blipFill>
        <p:spPr>
          <a:xfrm>
            <a:off x="1187280" y="1962000"/>
            <a:ext cx="7129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730548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хотничьи трофеи - прежде всего битая птица и дич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ердинанд Бол.</a:t>
            </a:r>
            <a:br>
              <a:rPr sz="3200"/>
            </a:b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Битая дичь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6" descr="2"/>
          <p:cNvPicPr/>
          <p:nvPr/>
        </p:nvPicPr>
        <p:blipFill>
          <a:blip r:embed="rId1"/>
          <a:stretch/>
        </p:blipFill>
        <p:spPr>
          <a:xfrm>
            <a:off x="2484360" y="1557360"/>
            <a:ext cx="4680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32:32Z</dcterms:created>
  <dc:creator>Рыков</dc:creator>
  <dc:description/>
  <dc:language>en-US</dc:language>
  <cp:lastModifiedBy>User</cp:lastModifiedBy>
  <dcterms:modified xsi:type="dcterms:W3CDTF">2013-06-21T10:32:49Z</dcterms:modified>
  <cp:revision>39</cp:revision>
  <dc:subject/>
  <dc:title>Тема: Изображение предметного мира -</dc:title>
</cp:coreProperties>
</file>