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1E1-3797-43D7-8909-56250CCA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11A-5C47-47EF-AE09-A7F8911E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96C-BEE8-4CAF-BA61-2D1ABA9F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9FB5-AF4A-40FC-BC4C-5166BC76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ECC7-99C3-4A94-BAA9-EB112004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9E1D-0824-42D4-9D72-B8BFB801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5B63-834F-446E-ADAA-0F075484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FCC9-0EFF-44DE-9B0F-C185A74A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CEED-C5F1-47C0-9D03-BCD85CA8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D95A-AA2B-486B-BD12-A34FB947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CBF0-1459-450D-8D90-F9931E48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0BF-7BA0-4F72-94A6-FE16A9F9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DE75-2339-4513-8684-D9406440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9A7B-3C76-4167-94D6-CD75D9BA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7C97-220D-4336-9F99-BC82980D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48D8-03B7-47B1-AEA0-3EFAFBBE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FDEB-DAFD-49DE-9F8C-34BD64DD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5F4-54E0-4688-AD07-A6F1CA40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BA2-11B8-47F9-8EBB-5B78E43B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A89-569A-4A08-96E8-8A68E8C2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D90-6C8D-4443-A974-152F2D93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27C-18D9-4B2F-985C-472CAF68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9F3-3C61-4CFF-A2D5-01F23FD4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4CD-51B5-494D-801E-DBEB632D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0590-6226-4D13-84B4-E98AA0030D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6D6F-A61B-4576-B486-9621AFEF9A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: Изображение предметного мира 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втраки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Питер Клас.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«Завтрак с ветчиной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6" descr="3"/>
          <p:cNvPicPr/>
          <p:nvPr/>
        </p:nvPicPr>
        <p:blipFill>
          <a:blip r:embed="rId1"/>
          <a:stretch/>
        </p:blipFill>
        <p:spPr>
          <a:xfrm>
            <a:off x="1116000" y="1557360"/>
            <a:ext cx="7128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«Десерты»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И. И. Машков. </a:t>
            </a:r>
            <a:br>
              <a:rPr sz="4000"/>
            </a:b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иноград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, лимон и рак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6" descr="4"/>
          <p:cNvPicPr/>
          <p:nvPr/>
        </p:nvPicPr>
        <p:blipFill>
          <a:blip r:embed="rId1"/>
          <a:stretch/>
        </p:blipFill>
        <p:spPr>
          <a:xfrm>
            <a:off x="1116000" y="1916280"/>
            <a:ext cx="70563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также изображения живой и уснувшей рыбы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брахам Ван Бейерен. </a:t>
            </a:r>
            <a:br>
              <a:rPr sz="3200"/>
            </a:b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«Рыбы в корзине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6" descr="5"/>
          <p:cNvPicPr/>
          <p:nvPr/>
        </p:nvPicPr>
        <p:blipFill>
          <a:blip r:embed="rId1"/>
          <a:stretch/>
        </p:blipFill>
        <p:spPr>
          <a:xfrm>
            <a:off x="2843280" y="1916280"/>
            <a:ext cx="518472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знообразие птиц.</a:t>
            </a:r>
            <a:br>
              <a:rPr sz="44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Мелхиор Де Хондекутер. «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Птицы в парке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6" descr="6"/>
          <p:cNvPicPr/>
          <p:nvPr/>
        </p:nvPicPr>
        <p:blipFill>
          <a:blip r:embed="rId1"/>
          <a:stretch/>
        </p:blipFill>
        <p:spPr>
          <a:xfrm>
            <a:off x="1258920" y="1773360"/>
            <a:ext cx="7058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веты.</a:t>
            </a:r>
            <a:br>
              <a:rPr sz="4400"/>
            </a:b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Ян Давидс Де Хем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«Цветы в вазе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6" descr="8"/>
          <p:cNvPicPr/>
          <p:nvPr/>
        </p:nvPicPr>
        <p:blipFill>
          <a:blip r:embed="rId1"/>
          <a:stretch/>
        </p:blipFill>
        <p:spPr>
          <a:xfrm>
            <a:off x="2268360" y="1700280"/>
            <a:ext cx="43912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этом красочном полотне соединились черты разных жанров: натюрморт, портрет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алентин Александрович Серов. </a:t>
            </a:r>
            <a:br>
              <a:rPr sz="2400"/>
            </a:b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«Девочка с персиками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8" descr="ь"/>
          <p:cNvPicPr/>
          <p:nvPr/>
        </p:nvPicPr>
        <p:blipFill>
          <a:blip r:embed="rId1"/>
          <a:stretch/>
        </p:blipFill>
        <p:spPr>
          <a:xfrm>
            <a:off x="2268360" y="1557360"/>
            <a:ext cx="4465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орокин Георгий Иванович.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(родился и живет в г.Тюмени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юльпаны»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9" descr="Сорок"/>
          <p:cNvPicPr/>
          <p:nvPr/>
        </p:nvPicPr>
        <p:blipFill>
          <a:blip r:embed="rId1"/>
          <a:stretch/>
        </p:blipFill>
        <p:spPr>
          <a:xfrm>
            <a:off x="179280" y="1989000"/>
            <a:ext cx="2737080" cy="2737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Сорока"/>
          <p:cNvPicPr/>
          <p:nvPr/>
        </p:nvPicPr>
        <p:blipFill>
          <a:blip r:embed="rId2"/>
          <a:stretch/>
        </p:blipFill>
        <p:spPr>
          <a:xfrm>
            <a:off x="3419640" y="1916280"/>
            <a:ext cx="5184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авлов Александр Николаевич. (Тюменский художник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Астры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7" descr="м"/>
          <p:cNvPicPr/>
          <p:nvPr/>
        </p:nvPicPr>
        <p:blipFill>
          <a:blip r:embed="rId1"/>
          <a:stretch/>
        </p:blipFill>
        <p:spPr>
          <a:xfrm>
            <a:off x="250920" y="1773360"/>
            <a:ext cx="2771640" cy="3036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Астры"/>
          <p:cNvPicPr/>
          <p:nvPr/>
        </p:nvPicPr>
        <p:blipFill>
          <a:blip r:embed="rId2"/>
          <a:stretch/>
        </p:blipFill>
        <p:spPr>
          <a:xfrm>
            <a:off x="3203640" y="2006640"/>
            <a:ext cx="5616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Композиционное реш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Набор предметов не может быть случайным, их должно что-то объединять, роднить, в них должна быть заложена определённая идея, те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9" descr="я"/>
          <p:cNvPicPr/>
          <p:nvPr/>
        </p:nvPicPr>
        <p:blipFill>
          <a:blip r:embed="rId1"/>
          <a:stretch/>
        </p:blipFill>
        <p:spPr>
          <a:xfrm>
            <a:off x="4427640" y="1484280"/>
            <a:ext cx="4105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932000" y="1268280"/>
            <a:ext cx="341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Постановка. Если рассматривать предметы слишком далеко друг от друга, в композиции может произойти пустота, если слишком сблизить – натюрморт может получиться тяжелым, громоздки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11" descr="с"/>
          <p:cNvPicPr/>
          <p:nvPr/>
        </p:nvPicPr>
        <p:blipFill>
          <a:blip r:embed="rId2"/>
          <a:stretch/>
        </p:blipFill>
        <p:spPr>
          <a:xfrm>
            <a:off x="468360" y="333360"/>
            <a:ext cx="4103640" cy="2808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с2"/>
          <p:cNvPicPr/>
          <p:nvPr/>
        </p:nvPicPr>
        <p:blipFill>
          <a:blip r:embed="rId3"/>
          <a:stretch/>
        </p:blipFill>
        <p:spPr>
          <a:xfrm>
            <a:off x="539640" y="335772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вена"/>
          <p:cNvPicPr/>
          <p:nvPr/>
        </p:nvPicPr>
        <p:blipFill>
          <a:blip r:embed="rId1"/>
          <a:stretch/>
        </p:blipFill>
        <p:spPr>
          <a:xfrm>
            <a:off x="0" y="0"/>
            <a:ext cx="932508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834920" y="5589360"/>
            <a:ext cx="7056360" cy="10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Для создания равновесия в композиции рекомендуется использовать чередование светлых и темных предметов; тяжелых и более изящных по форме; вертикальных и горизонтальных по своим основным пропорция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7" descr="м"/>
          <p:cNvPicPr/>
          <p:nvPr/>
        </p:nvPicPr>
        <p:blipFill>
          <a:blip r:embed="rId2"/>
          <a:stretch/>
        </p:blipFill>
        <p:spPr>
          <a:xfrm>
            <a:off x="2843280" y="115920"/>
            <a:ext cx="4075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66ff33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8920" y="115560"/>
            <a:ext cx="7696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атюрморт должен иметь композиционный центр – предмет либо самый крупный, либо самый яркий, либо наиболее выразительны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10" descr="и"/>
          <p:cNvPicPr/>
          <p:nvPr/>
        </p:nvPicPr>
        <p:blipFill>
          <a:blip r:embed="rId1"/>
          <a:stretch/>
        </p:blipFill>
        <p:spPr>
          <a:xfrm>
            <a:off x="2268360" y="1341360"/>
            <a:ext cx="5472360" cy="525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7272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войство нашего зрения тоже необходимо учитывать. Посмотрите, как изменилось впечатление от рисунка, когда мы увидели его зеркальное изображ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7" descr="ч"/>
          <p:cNvPicPr/>
          <p:nvPr/>
        </p:nvPicPr>
        <p:blipFill>
          <a:blip r:embed="rId1"/>
          <a:stretch/>
        </p:blipFill>
        <p:spPr>
          <a:xfrm>
            <a:off x="468360" y="1989000"/>
            <a:ext cx="8451720" cy="46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724360" y="3500280"/>
            <a:ext cx="33055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Comic Sans MS"/>
              </a:rPr>
              <a:t>В постановке натюрморта предметы должны быть сгруппированы так, чтобы чувствовалось слаженность, уравновешенность, чтобы уже ничего не хотелось  убрать, передвинуть или добави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7" descr="т"/>
          <p:cNvPicPr/>
          <p:nvPr/>
        </p:nvPicPr>
        <p:blipFill>
          <a:blip r:embed="rId1"/>
          <a:stretch/>
        </p:blipFill>
        <p:spPr>
          <a:xfrm>
            <a:off x="179280" y="333360"/>
            <a:ext cx="5256360" cy="626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675640" cy="57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Comic Sans MS"/>
              </a:rPr>
              <a:t>Домашнее задание: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ПОДОБРАТЬ ИЛЛЮСТРИРОВАННЫЙ МАТЕРИАЛ ПО ТЕМЕ: «НАТЮРМОРТ»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Тема: </a:t>
            </a:r>
            <a:r>
              <a:rPr b="0" lang="ru-RU" sz="4400" spc="-1" strike="noStrike">
                <a:solidFill>
                  <a:srgbClr val="006e00"/>
                </a:solidFill>
                <a:latin typeface="Comic Sans MS"/>
              </a:rPr>
              <a:t>Изображение предметного мира – натюрморт.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2268000" y="4076280"/>
            <a:ext cx="62485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Требуется умение бегло и удачно компоновать. Тот, кто смел в композици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никогда не будет затруднен сложным построени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          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Фрейд Анге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4747"/>
            </a:gs>
            <a:gs pos="50000">
              <a:srgbClr val="ff9999"/>
            </a:gs>
            <a:gs pos="100000">
              <a:srgbClr val="76474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703dff"/>
                </a:solidFill>
                <a:latin typeface="Comic Sans MS"/>
              </a:rPr>
              <a:t>Натюрморт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(от франц.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ature morte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– буквально «мёртвая натура») – один из жанров изобразительного искусства, посвященный воспроизведению предметов обихода, снеди (овощей, фруктов и т.д.), цветов и прочего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6910200" cy="622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Задача художника в области натюрморта состоит не только в передаче вещей самих по себе, но и в том, чтобы выразить отношение к ним человека данной эпохи, а через них и к окружающему миру вообщ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489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mic Sans MS"/>
              </a:rPr>
              <a:t>В собрании Государственного Эрмитажа хранятся картины с изображением натюрмортов, среди них многочисленные произведения голландских мастеров, относящихся к жанру натюрморта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Comic Sans MS"/>
              </a:rPr>
              <a:t>По – голландски «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Stilleven</a:t>
            </a:r>
            <a:r>
              <a:rPr b="0" lang="ru-RU" sz="3200" spc="-1" strike="noStrike">
                <a:solidFill>
                  <a:srgbClr val="ff0066"/>
                </a:solidFill>
                <a:latin typeface="Comic Sans MS"/>
              </a:rPr>
              <a:t>», что означает тихая жизнь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2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7640" y="1412640"/>
            <a:ext cx="6870960" cy="45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Comic Sans MS"/>
              </a:rPr>
              <a:t>Родина современного натюрморта – Голландия.</a:t>
            </a:r>
            <a:br>
              <a:rPr sz="4400"/>
            </a:br>
            <a:r>
              <a:rPr b="0" lang="ru-RU" sz="4400" spc="-1" strike="noStrike">
                <a:solidFill>
                  <a:srgbClr val="3333ff"/>
                </a:solidFill>
                <a:latin typeface="Comic Sans MS"/>
              </a:rPr>
              <a:t>Для голландской живописи в целом характерна узкая специализация мастеров внутри жанр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68706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веты и фрукты, включающие, как правило, и всевозможных насекомых.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Балтазар Ван Дер Аст.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Натюрморт с фруктами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7" descr="1"/>
          <p:cNvPicPr/>
          <p:nvPr/>
        </p:nvPicPr>
        <p:blipFill>
          <a:blip r:embed="rId1"/>
          <a:stretch/>
        </p:blipFill>
        <p:spPr>
          <a:xfrm>
            <a:off x="1187280" y="1962000"/>
            <a:ext cx="71298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7305480" cy="126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хотничьи трофеи - прежде всего битая птица и дич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Фердинанд Бол.</a:t>
            </a:r>
            <a:br>
              <a:rPr sz="3200"/>
            </a:b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«Битая дичь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6" descr="2"/>
          <p:cNvPicPr/>
          <p:nvPr/>
        </p:nvPicPr>
        <p:blipFill>
          <a:blip r:embed="rId1"/>
          <a:stretch/>
        </p:blipFill>
        <p:spPr>
          <a:xfrm>
            <a:off x="2484360" y="1557360"/>
            <a:ext cx="4680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3:32:32Z</dcterms:created>
  <dc:creator>Рыков</dc:creator>
  <dc:description/>
  <dc:language>en-US</dc:language>
  <cp:lastModifiedBy>User</cp:lastModifiedBy>
  <dcterms:modified xsi:type="dcterms:W3CDTF">2013-06-21T10:32:49Z</dcterms:modified>
  <cp:revision>39</cp:revision>
  <dc:subject/>
  <dc:title>Тема: Изображение предметного мира -</dc:title>
</cp:coreProperties>
</file>