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D60-4B84-492D-AC7C-E0C8B433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3ED-BB49-4FF2-B8FB-4FFB037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5E2-678B-46E3-ABE6-816A249C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3CA-30F7-486B-85E8-EE30346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B52E-8419-465A-BED0-CE97B634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7010-5453-4374-9151-C54FA26F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394-3F52-47C5-98C5-38B1F55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B3E-7CD7-484B-A992-D4FED4C4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6BC-280C-4D44-BC9B-BBC2555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2077-7CDD-4E9C-8F3D-B574116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011-DD2F-4A1B-9CE0-A4E83DE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3C3-9182-4EE6-A13C-0AF5B31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3310-B24F-4448-948F-012C15E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145-A73F-4CA2-AECC-834C287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40B-6D8E-4BAC-90E5-60CDBA9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B52F-6C73-449D-AEF2-150F362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D7C-AB81-4B22-A74A-3BCD2E5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44A-D7E6-4F73-8F22-103A4ED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67C-B9D5-4531-ADB2-72AA67C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5D1-99A9-4812-8C63-51F1BBC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1D8-FF06-414E-855E-98B8565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222-4F99-481A-A4B4-879A1EE0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1AD-CBC7-4ACB-8B20-11259E1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D99-947D-4053-A580-D8D108F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E3F-730A-432B-948B-CE7CD415B8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EE2-F247-4AAB-8FB9-8577A5FC1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349000"/>
            <a:ext cx="6400800" cy="30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Impact"/>
              </a:rPr>
              <a:t>Изобразительное искусство в семье пластических искусст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97964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рок изобразительного искусства в 6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Дизай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художественное проектирование и конструирование эстетических свойств окружающего нас предметного ми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Рисунок10"/>
          <p:cNvPicPr/>
          <p:nvPr/>
        </p:nvPicPr>
        <p:blipFill>
          <a:blip r:embed="rId1"/>
          <a:stretch/>
        </p:blipFill>
        <p:spPr>
          <a:xfrm>
            <a:off x="2124000" y="1916280"/>
            <a:ext cx="401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0920" y="333000"/>
            <a:ext cx="4206960" cy="2303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то такой живописец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Человек, умеющий быстро писать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Писатель, пишущий живые, веселые рассказы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Человек, рисующий краскам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Живо и быстро рисующий человек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10160" y="333000"/>
            <a:ext cx="4354560" cy="230364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Название какого инструмента графического искусства переводится как «черный камень»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рандаш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астел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анги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уш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0" y="2707920"/>
            <a:ext cx="4392720" cy="1873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200"/>
                </a:solidFill>
                <a:latin typeface="Comic Sans MS"/>
              </a:rPr>
              <a:t>Какой из видов искусств не является изобразительным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Скульпту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Музы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Живопис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200"/>
                </a:solidFill>
                <a:latin typeface="Comic Sans MS"/>
              </a:rPr>
              <a:t>графи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2781360"/>
            <a:ext cx="4176720" cy="18000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ем художник пише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рандаш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истью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гле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лк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4000" y="4869000"/>
            <a:ext cx="410364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 еще называют скульптор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ека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аят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екат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онча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572000" y="4653000"/>
            <a:ext cx="4392720" cy="167796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Сколько мишек на картине Шишкина «Утро в сосновом лесу?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Четыр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р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Ше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50560" y="333360"/>
            <a:ext cx="4105080" cy="196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ое масло используют при изготовлении масленых красок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ливоч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Машин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Растительн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интетическо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2421000"/>
            <a:ext cx="4176720" cy="180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Какая из достопримечательностей находится в Итали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Стоунхендж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Колизе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Тадж – Маха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Пирамида Хеоп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4365720"/>
            <a:ext cx="4176720" cy="2039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ижегородская область – родина какого промысл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Гжел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Дымков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Хохлом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Жостовск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3280" y="333360"/>
            <a:ext cx="4321440" cy="1968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Где находится остров Кижи со знаменитым комплексом деревянных сооружени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На Ладожском озе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В устье Северной Двин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Онежском озе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Белом мор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643280" y="2565360"/>
            <a:ext cx="4321440" cy="2073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Какое скульптурное изображение никогда не опускается ниже пояс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Тор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Бюс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тату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Барельеф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716360" y="4653000"/>
            <a:ext cx="4248360" cy="207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omic Sans MS"/>
              </a:rPr>
              <a:t>Какой древнегреческий скульптор является создателем «Дискобола»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Лисипп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Поликл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Фиди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Миро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828720"/>
          </a:xfrm>
          <a:prstGeom prst="rect">
            <a:avLst/>
          </a:prstGeom>
          <a:solidFill>
            <a:srgbClr val="ffe91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1.Графика                                 2. Скульптура </a:t>
            </a:r>
            <a:br>
              <a:rPr sz="2000"/>
            </a:br>
            <a:r>
              <a:rPr b="1" lang="ru-RU" sz="2000" spc="-1" strike="noStrike">
                <a:solidFill>
                  <a:srgbClr val="800080"/>
                </a:solidFill>
                <a:latin typeface="Comic Sans MS"/>
              </a:rPr>
              <a:t> 3. Декоративное искусство              4.Архитекту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50920" y="1196640"/>
            <a:ext cx="4206960" cy="2384280"/>
          </a:xfrm>
          <a:prstGeom prst="rect">
            <a:avLst/>
          </a:prstGeom>
          <a:solidFill>
            <a:srgbClr val="9dd78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10160" y="1196640"/>
            <a:ext cx="4354560" cy="238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920" y="3733560"/>
            <a:ext cx="4206960" cy="2935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10160" y="3733560"/>
            <a:ext cx="4354560" cy="2935080"/>
          </a:xfrm>
          <a:prstGeom prst="rect">
            <a:avLst/>
          </a:prstGeom>
          <a:solidFill>
            <a:srgbClr val="9dd78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57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233440" cy="215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Рисунок1"/>
          <p:cNvPicPr/>
          <p:nvPr/>
        </p:nvPicPr>
        <p:blipFill>
          <a:blip r:embed="rId2"/>
          <a:stretch/>
        </p:blipFill>
        <p:spPr>
          <a:xfrm>
            <a:off x="5364000" y="1413000"/>
            <a:ext cx="2921040" cy="2280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Рисунок11"/>
          <p:cNvPicPr/>
          <p:nvPr/>
        </p:nvPicPr>
        <p:blipFill>
          <a:blip r:embed="rId3"/>
          <a:stretch/>
        </p:blipFill>
        <p:spPr>
          <a:xfrm>
            <a:off x="1258920" y="4005360"/>
            <a:ext cx="178128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Рисунок13"/>
          <p:cNvPicPr/>
          <p:nvPr/>
        </p:nvPicPr>
        <p:blipFill>
          <a:blip r:embed="rId4"/>
          <a:stretch/>
        </p:blipFill>
        <p:spPr>
          <a:xfrm>
            <a:off x="5867280" y="4076640"/>
            <a:ext cx="1791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Organization Chart 2"/>
          <p:cNvGrpSpPr/>
          <p:nvPr/>
        </p:nvGrpSpPr>
        <p:grpSpPr>
          <a:xfrm>
            <a:off x="179280" y="1478520"/>
            <a:ext cx="8824680" cy="3156840"/>
            <a:chOff x="179280" y="1478520"/>
            <a:chExt cx="8824680" cy="3156840"/>
          </a:xfrm>
        </p:grpSpPr>
        <p:cxnSp>
          <p:nvCxnSpPr>
            <p:cNvPr id="154" name="_s1028"/>
            <p:cNvCxnSpPr>
              <a:stCxn id="155" idx="1"/>
              <a:endCxn id="156" idx="2"/>
            </p:cNvCxnSpPr>
            <p:nvPr/>
          </p:nvCxnSpPr>
          <p:spPr>
            <a:xfrm rot="10800000">
              <a:off x="6883920" y="2660760"/>
              <a:ext cx="1983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29"/>
            <p:cNvCxnSpPr>
              <a:stCxn id="158" idx="1"/>
              <a:endCxn id="156" idx="2"/>
            </p:cNvCxnSpPr>
            <p:nvPr/>
          </p:nvCxnSpPr>
          <p:spPr>
            <a:xfrm rot="10800000">
              <a:off x="6883920" y="2660760"/>
              <a:ext cx="198360" cy="42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0"/>
            <p:cNvCxnSpPr>
              <a:stCxn id="160" idx="0"/>
              <a:endCxn id="161" idx="2"/>
            </p:cNvCxnSpPr>
            <p:nvPr/>
          </p:nvCxnSpPr>
          <p:spPr>
            <a:xfrm flipV="1">
              <a:off x="4592520" y="2660760"/>
              <a:ext cx="1800" cy="21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1031"/>
            <p:cNvCxnSpPr>
              <a:stCxn id="163" idx="3"/>
              <a:endCxn id="164" idx="2"/>
            </p:cNvCxnSpPr>
            <p:nvPr/>
          </p:nvCxnSpPr>
          <p:spPr>
            <a:xfrm flipV="1">
              <a:off x="2100240" y="2661120"/>
              <a:ext cx="199800" cy="17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2"/>
            <p:cNvCxnSpPr>
              <a:stCxn id="166" idx="3"/>
              <a:endCxn id="164" idx="2"/>
            </p:cNvCxnSpPr>
            <p:nvPr/>
          </p:nvCxnSpPr>
          <p:spPr>
            <a:xfrm flipV="1">
              <a:off x="2100240" y="2661120"/>
              <a:ext cx="19980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3"/>
            <p:cNvCxnSpPr>
              <a:stCxn id="168" idx="3"/>
              <a:endCxn id="164" idx="2"/>
            </p:cNvCxnSpPr>
            <p:nvPr/>
          </p:nvCxnSpPr>
          <p:spPr>
            <a:xfrm flipV="1">
              <a:off x="2100240" y="2660760"/>
              <a:ext cx="199800" cy="42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4"/>
            <p:cNvCxnSpPr>
              <a:stCxn id="156" idx="0"/>
              <a:endCxn id="170" idx="2"/>
            </p:cNvCxnSpPr>
            <p:nvPr/>
          </p:nvCxnSpPr>
          <p:spPr>
            <a:xfrm flipV="1" rot="16200000">
              <a:off x="5631120" y="982800"/>
              <a:ext cx="214920" cy="2292480"/>
            </a:xfrm>
            <a:prstGeom prst="bentConnector3">
              <a:avLst>
                <a:gd name="adj1" fmla="val 494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35"/>
            <p:cNvCxnSpPr>
              <a:stCxn id="161" idx="0"/>
              <a:endCxn id="170" idx="2"/>
            </p:cNvCxnSpPr>
            <p:nvPr/>
          </p:nvCxnSpPr>
          <p:spPr>
            <a:xfrm flipV="1">
              <a:off x="4592520" y="2021760"/>
              <a:ext cx="1800" cy="21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6"/>
            <p:cNvCxnSpPr>
              <a:stCxn id="164" idx="0"/>
              <a:endCxn id="170" idx="2"/>
            </p:cNvCxnSpPr>
            <p:nvPr/>
          </p:nvCxnSpPr>
          <p:spPr>
            <a:xfrm flipH="1" flipV="1" rot="5400000">
              <a:off x="3338640" y="982440"/>
              <a:ext cx="214920" cy="2293560"/>
            </a:xfrm>
            <a:prstGeom prst="bentConnector3">
              <a:avLst>
                <a:gd name="adj1" fmla="val 494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7"/>
            <p:cNvSpPr/>
            <p:nvPr/>
          </p:nvSpPr>
          <p:spPr>
            <a:xfrm>
              <a:off x="2352960" y="1478520"/>
              <a:ext cx="4476960" cy="5436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dff"/>
                  </a:solidFill>
                  <a:latin typeface="Comic Sans MS"/>
                </a:rPr>
                <a:t>Пластические искусств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125352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образительны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1039"/>
            <p:cNvSpPr/>
            <p:nvPr/>
          </p:nvSpPr>
          <p:spPr>
            <a:xfrm>
              <a:off x="354564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структив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_s1040"/>
            <p:cNvSpPr/>
            <p:nvPr/>
          </p:nvSpPr>
          <p:spPr>
            <a:xfrm>
              <a:off x="5837760" y="2237040"/>
              <a:ext cx="2093040" cy="42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коративны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41"/>
            <p:cNvSpPr/>
            <p:nvPr/>
          </p:nvSpPr>
          <p:spPr>
            <a:xfrm>
              <a:off x="17928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график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42"/>
            <p:cNvSpPr/>
            <p:nvPr/>
          </p:nvSpPr>
          <p:spPr>
            <a:xfrm>
              <a:off x="179280" y="3542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живопись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43"/>
            <p:cNvSpPr/>
            <p:nvPr/>
          </p:nvSpPr>
          <p:spPr>
            <a:xfrm>
              <a:off x="179280" y="4208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скульптур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1044"/>
            <p:cNvSpPr/>
            <p:nvPr/>
          </p:nvSpPr>
          <p:spPr>
            <a:xfrm>
              <a:off x="363168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архитектур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7082640" y="2876040"/>
              <a:ext cx="1921320" cy="427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родные промыслы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_s1046"/>
            <p:cNvSpPr/>
            <p:nvPr/>
          </p:nvSpPr>
          <p:spPr>
            <a:xfrm>
              <a:off x="7082640" y="3542040"/>
              <a:ext cx="1921320" cy="4273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дизайн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694512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раф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ид изобразительного искусства, включающий рисунок и печатные художественные изображения (гравюра, литография и др.), основанные на искусстве рису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3525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ыполняется с помощью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андаш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гл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и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ьных приспособлений и маш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Рисунок1"/>
          <p:cNvPicPr/>
          <p:nvPr/>
        </p:nvPicPr>
        <p:blipFill>
          <a:blip r:embed="rId1"/>
          <a:stretch/>
        </p:blipFill>
        <p:spPr>
          <a:xfrm>
            <a:off x="4140360" y="2781360"/>
            <a:ext cx="425736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изведения графи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наброски, зарисов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гравю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нижные иллюстр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этикет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газетные и журнальные карикату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плака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шрифты для кни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фиш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Рисунок2"/>
          <p:cNvPicPr/>
          <p:nvPr/>
        </p:nvPicPr>
        <p:blipFill>
          <a:blip r:embed="rId1"/>
          <a:stretch/>
        </p:blipFill>
        <p:spPr>
          <a:xfrm>
            <a:off x="4788000" y="1844640"/>
            <a:ext cx="290520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Живопись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ид изобразительного искусства, произведения которого создаются с помощью красок, наносимых на какую–либо поверх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636640"/>
            <a:ext cx="37720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Крас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варель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уашев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мпер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лен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6" descr="Рисунок3"/>
          <p:cNvPicPr/>
          <p:nvPr/>
        </p:nvPicPr>
        <p:blipFill>
          <a:blip r:embed="rId1"/>
          <a:stretch/>
        </p:blipFill>
        <p:spPr>
          <a:xfrm>
            <a:off x="2916360" y="1989000"/>
            <a:ext cx="5819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кульпту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ид изобразительного искусства, произведения которого имеют объемную, трехмерную форму и выполняются из твердых или пластических материа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179280" y="2382840"/>
            <a:ext cx="3771720" cy="2092320"/>
            <a:chOff x="179280" y="2382840"/>
            <a:chExt cx="3771720" cy="2092320"/>
          </a:xfrm>
        </p:grpSpPr>
        <p:cxnSp>
          <p:nvCxnSpPr>
            <p:cNvPr id="184" name="_s2052"/>
            <p:cNvCxnSpPr>
              <a:stCxn id="185" idx="1"/>
              <a:endCxn id="186" idx="2"/>
            </p:cNvCxnSpPr>
            <p:nvPr/>
          </p:nvCxnSpPr>
          <p:spPr>
            <a:xfrm rot="10800000">
              <a:off x="2565000" y="3788640"/>
              <a:ext cx="12672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2053"/>
            <p:cNvCxnSpPr>
              <a:stCxn id="188" idx="3"/>
              <a:endCxn id="186" idx="2"/>
            </p:cNvCxnSpPr>
            <p:nvPr/>
          </p:nvCxnSpPr>
          <p:spPr>
            <a:xfrm flipV="1">
              <a:off x="2109240" y="3789000"/>
              <a:ext cx="456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2054"/>
            <p:cNvCxnSpPr>
              <a:stCxn id="186" idx="0"/>
              <a:endCxn id="190" idx="2"/>
            </p:cNvCxnSpPr>
            <p:nvPr/>
          </p:nvCxnSpPr>
          <p:spPr>
            <a:xfrm flipV="1" rot="16200000">
              <a:off x="2201040" y="2916360"/>
              <a:ext cx="229320" cy="50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2055"/>
            <p:cNvCxnSpPr>
              <a:stCxn id="192" idx="0"/>
              <a:endCxn id="190" idx="2"/>
            </p:cNvCxnSpPr>
            <p:nvPr/>
          </p:nvCxnSpPr>
          <p:spPr>
            <a:xfrm flipH="1" flipV="1" rot="5400000">
              <a:off x="1343520" y="2558880"/>
              <a:ext cx="229320" cy="1215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2056"/>
            <p:cNvSpPr/>
            <p:nvPr/>
          </p:nvSpPr>
          <p:spPr>
            <a:xfrm>
              <a:off x="694800" y="2382840"/>
              <a:ext cx="2740320" cy="669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703dff"/>
                  </a:solidFill>
                  <a:latin typeface="Comic Sans MS"/>
                </a:rPr>
                <a:t>Скульптура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_s2057"/>
            <p:cNvSpPr/>
            <p:nvPr/>
          </p:nvSpPr>
          <p:spPr>
            <a:xfrm>
              <a:off x="179280" y="3281400"/>
              <a:ext cx="1341720" cy="507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круглая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1894320" y="3281400"/>
              <a:ext cx="1341720" cy="5079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рельеф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_s2059"/>
            <p:cNvSpPr/>
            <p:nvPr/>
          </p:nvSpPr>
          <p:spPr>
            <a:xfrm>
              <a:off x="850680" y="4017960"/>
              <a:ext cx="1258560" cy="457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горельеф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2060"/>
            <p:cNvSpPr/>
            <p:nvPr/>
          </p:nvSpPr>
          <p:spPr>
            <a:xfrm>
              <a:off x="2692440" y="4017960"/>
              <a:ext cx="1258560" cy="457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барельеф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3" name="Picture 16" descr="Рисунок4"/>
          <p:cNvPicPr/>
          <p:nvPr/>
        </p:nvPicPr>
        <p:blipFill>
          <a:blip r:embed="rId1"/>
          <a:stretch/>
        </p:blipFill>
        <p:spPr>
          <a:xfrm>
            <a:off x="4500720" y="1800360"/>
            <a:ext cx="3781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Organization Chart 7"/>
          <p:cNvGrpSpPr/>
          <p:nvPr/>
        </p:nvGrpSpPr>
        <p:grpSpPr>
          <a:xfrm>
            <a:off x="250920" y="625320"/>
            <a:ext cx="7992720" cy="1217880"/>
            <a:chOff x="250920" y="625320"/>
            <a:chExt cx="7992720" cy="1217880"/>
          </a:xfrm>
        </p:grpSpPr>
        <p:cxnSp>
          <p:nvCxnSpPr>
            <p:cNvPr id="195" name="_s307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532120" y="-64440"/>
              <a:ext cx="228960" cy="279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3077"/>
            <p:cNvCxnSpPr>
              <a:stCxn id="199" idx="0"/>
              <a:endCxn id="197" idx="2"/>
            </p:cNvCxnSpPr>
            <p:nvPr/>
          </p:nvCxnSpPr>
          <p:spPr>
            <a:xfrm flipV="1">
              <a:off x="4247640" y="1220400"/>
              <a:ext cx="180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3078"/>
            <p:cNvCxnSpPr>
              <a:stCxn id="201" idx="0"/>
              <a:endCxn id="197" idx="2"/>
            </p:cNvCxnSpPr>
            <p:nvPr/>
          </p:nvCxnSpPr>
          <p:spPr>
            <a:xfrm flipH="1" flipV="1" rot="5400000">
              <a:off x="2733840" y="-64800"/>
              <a:ext cx="228960" cy="2799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3079"/>
            <p:cNvSpPr/>
            <p:nvPr/>
          </p:nvSpPr>
          <p:spPr>
            <a:xfrm>
              <a:off x="3047400" y="625320"/>
              <a:ext cx="2398680" cy="595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03dff"/>
                  </a:solidFill>
                  <a:latin typeface="Comic Sans MS"/>
                </a:rPr>
                <a:t>скульптура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_s3080"/>
            <p:cNvSpPr/>
            <p:nvPr/>
          </p:nvSpPr>
          <p:spPr>
            <a:xfrm>
              <a:off x="250920" y="1449360"/>
              <a:ext cx="239760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Станков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_s3081"/>
            <p:cNvSpPr/>
            <p:nvPr/>
          </p:nvSpPr>
          <p:spPr>
            <a:xfrm>
              <a:off x="3048480" y="1449360"/>
              <a:ext cx="239760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Монументаль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3082"/>
            <p:cNvSpPr/>
            <p:nvPr/>
          </p:nvSpPr>
          <p:spPr>
            <a:xfrm>
              <a:off x="5846400" y="1449360"/>
              <a:ext cx="2397240" cy="3938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екоративна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6" descr="Рисунок5"/>
          <p:cNvPicPr/>
          <p:nvPr/>
        </p:nvPicPr>
        <p:blipFill>
          <a:blip r:embed="rId1"/>
          <a:stretch/>
        </p:blipFill>
        <p:spPr>
          <a:xfrm>
            <a:off x="250920" y="1989000"/>
            <a:ext cx="2684520" cy="435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Рисунок6"/>
          <p:cNvPicPr/>
          <p:nvPr/>
        </p:nvPicPr>
        <p:blipFill>
          <a:blip r:embed="rId2"/>
          <a:stretch/>
        </p:blipFill>
        <p:spPr>
          <a:xfrm>
            <a:off x="3132000" y="2060640"/>
            <a:ext cx="2506680" cy="424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Рисунок7"/>
          <p:cNvPicPr/>
          <p:nvPr/>
        </p:nvPicPr>
        <p:blipFill>
          <a:blip r:embed="rId3"/>
          <a:stretch/>
        </p:blipFill>
        <p:spPr>
          <a:xfrm>
            <a:off x="6093000" y="2133720"/>
            <a:ext cx="2020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Organization Chart 7"/>
          <p:cNvGrpSpPr/>
          <p:nvPr/>
        </p:nvGrpSpPr>
        <p:grpSpPr>
          <a:xfrm>
            <a:off x="684360" y="644040"/>
            <a:ext cx="7630920" cy="2061360"/>
            <a:chOff x="684360" y="644040"/>
            <a:chExt cx="7630920" cy="2061360"/>
          </a:xfrm>
        </p:grpSpPr>
        <p:cxnSp>
          <p:nvCxnSpPr>
            <p:cNvPr id="207" name="_s4100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684040" y="322200"/>
              <a:ext cx="227520" cy="259884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_s4101"/>
            <p:cNvCxnSpPr>
              <a:stCxn id="211" idx="0"/>
              <a:endCxn id="209" idx="2"/>
            </p:cNvCxnSpPr>
            <p:nvPr/>
          </p:nvCxnSpPr>
          <p:spPr>
            <a:xfrm flipV="1" rot="16200000">
              <a:off x="4385880" y="1620360"/>
              <a:ext cx="227520" cy="21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4102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3086640" y="322920"/>
              <a:ext cx="227520" cy="25974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9" name="_s4103"/>
            <p:cNvSpPr/>
            <p:nvPr/>
          </p:nvSpPr>
          <p:spPr>
            <a:xfrm>
              <a:off x="783000" y="644040"/>
              <a:ext cx="7432560" cy="863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Архитектура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– искусство создавать зд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и сооружения по законам красоты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_s4104"/>
            <p:cNvSpPr/>
            <p:nvPr/>
          </p:nvSpPr>
          <p:spPr>
            <a:xfrm>
              <a:off x="68436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рхитектур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бъемных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сооружени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_s4105"/>
            <p:cNvSpPr/>
            <p:nvPr/>
          </p:nvSpPr>
          <p:spPr>
            <a:xfrm>
              <a:off x="328212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Ландшафт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рхитектур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_s4106"/>
            <p:cNvSpPr/>
            <p:nvPr/>
          </p:nvSpPr>
          <p:spPr>
            <a:xfrm>
              <a:off x="5880240" y="1735200"/>
              <a:ext cx="2435040" cy="970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Градостроительств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4" name="Picture 13" descr="Рисунок8"/>
          <p:cNvPicPr/>
          <p:nvPr/>
        </p:nvPicPr>
        <p:blipFill>
          <a:blip r:embed="rId1"/>
          <a:stretch/>
        </p:blipFill>
        <p:spPr>
          <a:xfrm>
            <a:off x="2916360" y="3213000"/>
            <a:ext cx="366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Декоративно – прикладное искусств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создание художественных изделий, которые человек использует в быту, отличающихся декоративной образност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37720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осу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Меб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Ков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Ювелирные издел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6" descr="Рисунок9"/>
          <p:cNvPicPr/>
          <p:nvPr/>
        </p:nvPicPr>
        <p:blipFill>
          <a:blip r:embed="rId1"/>
          <a:stretch/>
        </p:blipFill>
        <p:spPr>
          <a:xfrm>
            <a:off x="3995640" y="2060640"/>
            <a:ext cx="3886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43:07Z</dcterms:created>
  <dc:creator>Пользователь</dc:creator>
  <dc:description/>
  <dc:language>en-US</dc:language>
  <cp:lastModifiedBy>User</cp:lastModifiedBy>
  <dcterms:modified xsi:type="dcterms:W3CDTF">2013-06-21T08:22:16Z</dcterms:modified>
  <cp:revision>37</cp:revision>
  <dc:subject/>
  <dc:title>Изобразительное искусство в семье пластических искусств</dc:title>
</cp:coreProperties>
</file>