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8E8-0204-45B9-B931-9BBC58D7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71F-4918-4A89-A24A-AAC7A1AD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35D-E413-4FB1-B62D-8EB76499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579-7E10-4410-B00A-AFE359CA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6A10-4F7B-4BD9-882C-6D428ED7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1C76-8CF6-4A95-8216-EC160BF8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BD49-A904-4B7F-B214-87600756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DD60-6BA5-4157-8E4B-A152DA66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3F0A-52AE-46B6-B769-45FE1BC1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FADB-D5A6-4775-9483-72FECF0F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C8B0-303F-4D9D-BC62-F1E0F770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2F2-D23C-48E4-AFD6-28041EC7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1D8E-07B1-4C12-A01F-0EC79A21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544C-509B-4D8F-8599-88CBBACA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1036-8EF4-4DB0-B35A-625627C8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ACE7-9AFB-4E69-8B9D-FAAC21CF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8E94-2F31-4CFD-BD9F-B8C63235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F3E-E9D7-46DF-9604-B85366F0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900-D13C-4539-8435-1C328427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C2B-BB95-41B0-A46C-43E09558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196-174F-48BD-A850-0BFB5694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B52-6C81-4FFC-8CB3-056BC24F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830-4484-49A3-9185-4F7E9C93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0DE-270A-469B-910B-84BD9D47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31CE-D80A-4B4E-98EA-8AAC102784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ECDF-279A-40AB-BE43-8946883D2D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349000"/>
            <a:ext cx="6400800" cy="3024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Impact"/>
              </a:rPr>
              <a:t>Изобразительное искусство в семье пластических искусст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97964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рок изобразительного искусства в 6 класс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Дизайн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художественное проектирование и конструирование эстетических свойств окружающего нас предметного ми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5" descr="Рисунок10"/>
          <p:cNvPicPr/>
          <p:nvPr/>
        </p:nvPicPr>
        <p:blipFill>
          <a:blip r:embed="rId1"/>
          <a:stretch/>
        </p:blipFill>
        <p:spPr>
          <a:xfrm>
            <a:off x="2124000" y="1916280"/>
            <a:ext cx="401472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50920" y="333000"/>
            <a:ext cx="4206960" cy="23036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Кто такой живописец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Человек, умеющий быстро писать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Писатель, пишущий живые, веселые рассказы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Человек, рисующий красками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Живо и быстро рисующий человек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10160" y="333000"/>
            <a:ext cx="4354560" cy="230364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Название какого инструмента графического искусства переводится как «черный камень»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Карандаш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Пастел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Сангин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Туш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0" y="2707920"/>
            <a:ext cx="4392720" cy="1873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200"/>
                </a:solidFill>
                <a:latin typeface="Comic Sans MS"/>
              </a:rPr>
              <a:t>Какой из видов искусств не является изобразительным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200"/>
                </a:solidFill>
                <a:latin typeface="Comic Sans MS"/>
              </a:rPr>
              <a:t>Скульптур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200"/>
                </a:solidFill>
                <a:latin typeface="Comic Sans MS"/>
              </a:rPr>
              <a:t>Музык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200"/>
                </a:solidFill>
                <a:latin typeface="Comic Sans MS"/>
              </a:rPr>
              <a:t>Живопис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200"/>
                </a:solidFill>
                <a:latin typeface="Comic Sans MS"/>
              </a:rPr>
              <a:t>график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0920" y="2781360"/>
            <a:ext cx="4176720" cy="180000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Чем художник пишет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рандашо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истью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гле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лко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40"/>
          <p:cNvSpPr/>
          <p:nvPr/>
        </p:nvSpPr>
        <p:spPr>
          <a:xfrm>
            <a:off x="324000" y="4869000"/>
            <a:ext cx="4103640" cy="1434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Как еще называют скульптора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Секач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аятел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Секато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Гонча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41"/>
          <p:cNvSpPr/>
          <p:nvPr/>
        </p:nvSpPr>
        <p:spPr>
          <a:xfrm>
            <a:off x="4572000" y="4653000"/>
            <a:ext cx="4392720" cy="167796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Сколько мишек на картине Шишкина «Утро в сосновом лесу?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Четыр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р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Шес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50560" y="333360"/>
            <a:ext cx="4105080" cy="1968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Какое масло используют при изготовлении масленых красок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Сливочно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Машинно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Растительно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Синтетическо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2421000"/>
            <a:ext cx="4176720" cy="1800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omic Sans MS"/>
              </a:rPr>
              <a:t>Какая из достопримечательностей находится в Италии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Стоунхендж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Колизе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Тадж – Маха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Пирамида Хеопс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0920" y="4365720"/>
            <a:ext cx="4176720" cy="2039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Нижегородская область – родина какого промысла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Гжел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Дымков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Хохлом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Жостовска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3280" y="333360"/>
            <a:ext cx="4321440" cy="1968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omic Sans MS"/>
              </a:rPr>
              <a:t>Где находится остров Кижи со знаменитым комплексом деревянных сооружений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На Ладожском озер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В устье Северной Двины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Онежском озер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Белом мор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4643280" y="2565360"/>
            <a:ext cx="4321440" cy="20732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Какое скульптурное изображение никогда не опускается ниже пояса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Торс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Бюс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Стату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Барельеф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4716360" y="4653000"/>
            <a:ext cx="4248360" cy="2073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omic Sans MS"/>
              </a:rPr>
              <a:t>Какой древнегреческий скульптор является создателем «Дискобола»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Лисипп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Поликл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Фиди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Мирон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642160" cy="828720"/>
          </a:xfrm>
          <a:prstGeom prst="rect">
            <a:avLst/>
          </a:prstGeom>
          <a:solidFill>
            <a:srgbClr val="ffe91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1.Графика                                 2. Скульптура </a:t>
            </a:r>
            <a:br>
              <a:rPr sz="2000"/>
            </a:b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 3. Декоративное искусство              4.Архитектур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50920" y="1196640"/>
            <a:ext cx="4206960" cy="2384280"/>
          </a:xfrm>
          <a:prstGeom prst="rect">
            <a:avLst/>
          </a:prstGeom>
          <a:solidFill>
            <a:srgbClr val="9dd78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10160" y="1196640"/>
            <a:ext cx="4354560" cy="2384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920" y="3733560"/>
            <a:ext cx="4206960" cy="2935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10160" y="3733560"/>
            <a:ext cx="4354560" cy="2935080"/>
          </a:xfrm>
          <a:prstGeom prst="rect">
            <a:avLst/>
          </a:prstGeom>
          <a:solidFill>
            <a:srgbClr val="9dd78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57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2233440" cy="2159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2" descr="Рисунок1"/>
          <p:cNvPicPr/>
          <p:nvPr/>
        </p:nvPicPr>
        <p:blipFill>
          <a:blip r:embed="rId2"/>
          <a:stretch/>
        </p:blipFill>
        <p:spPr>
          <a:xfrm>
            <a:off x="5364000" y="1413000"/>
            <a:ext cx="2921040" cy="2280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Рисунок11"/>
          <p:cNvPicPr/>
          <p:nvPr/>
        </p:nvPicPr>
        <p:blipFill>
          <a:blip r:embed="rId3"/>
          <a:stretch/>
        </p:blipFill>
        <p:spPr>
          <a:xfrm>
            <a:off x="1258920" y="4005360"/>
            <a:ext cx="1781280" cy="1981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4" descr="Рисунок13"/>
          <p:cNvPicPr/>
          <p:nvPr/>
        </p:nvPicPr>
        <p:blipFill>
          <a:blip r:embed="rId4"/>
          <a:stretch/>
        </p:blipFill>
        <p:spPr>
          <a:xfrm>
            <a:off x="5867280" y="4076640"/>
            <a:ext cx="1791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Organization Chart 2"/>
          <p:cNvGrpSpPr/>
          <p:nvPr/>
        </p:nvGrpSpPr>
        <p:grpSpPr>
          <a:xfrm>
            <a:off x="179280" y="1478520"/>
            <a:ext cx="8824680" cy="3156840"/>
            <a:chOff x="179280" y="1478520"/>
            <a:chExt cx="8824680" cy="3156840"/>
          </a:xfrm>
        </p:grpSpPr>
        <p:cxnSp>
          <p:nvCxnSpPr>
            <p:cNvPr id="154" name="_s1028"/>
            <p:cNvCxnSpPr>
              <a:stCxn id="155" idx="1"/>
              <a:endCxn id="156" idx="2"/>
            </p:cNvCxnSpPr>
            <p:nvPr/>
          </p:nvCxnSpPr>
          <p:spPr>
            <a:xfrm rot="10800000">
              <a:off x="6883920" y="2660760"/>
              <a:ext cx="198360" cy="1095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029"/>
            <p:cNvCxnSpPr>
              <a:stCxn id="158" idx="1"/>
              <a:endCxn id="156" idx="2"/>
            </p:cNvCxnSpPr>
            <p:nvPr/>
          </p:nvCxnSpPr>
          <p:spPr>
            <a:xfrm rot="10800000">
              <a:off x="6883920" y="2660760"/>
              <a:ext cx="198360" cy="429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30"/>
            <p:cNvCxnSpPr>
              <a:stCxn id="160" idx="0"/>
              <a:endCxn id="161" idx="2"/>
            </p:cNvCxnSpPr>
            <p:nvPr/>
          </p:nvCxnSpPr>
          <p:spPr>
            <a:xfrm flipV="1">
              <a:off x="4592520" y="2660760"/>
              <a:ext cx="1800" cy="21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1031"/>
            <p:cNvCxnSpPr>
              <a:stCxn id="163" idx="3"/>
              <a:endCxn id="164" idx="2"/>
            </p:cNvCxnSpPr>
            <p:nvPr/>
          </p:nvCxnSpPr>
          <p:spPr>
            <a:xfrm flipV="1">
              <a:off x="2100240" y="2661120"/>
              <a:ext cx="199800" cy="1761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32"/>
            <p:cNvCxnSpPr>
              <a:stCxn id="166" idx="3"/>
              <a:endCxn id="164" idx="2"/>
            </p:cNvCxnSpPr>
            <p:nvPr/>
          </p:nvCxnSpPr>
          <p:spPr>
            <a:xfrm flipV="1">
              <a:off x="2100240" y="2661120"/>
              <a:ext cx="199800" cy="1095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3"/>
            <p:cNvCxnSpPr>
              <a:stCxn id="168" idx="3"/>
              <a:endCxn id="164" idx="2"/>
            </p:cNvCxnSpPr>
            <p:nvPr/>
          </p:nvCxnSpPr>
          <p:spPr>
            <a:xfrm flipV="1">
              <a:off x="2100240" y="2660760"/>
              <a:ext cx="199800" cy="429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34"/>
            <p:cNvCxnSpPr>
              <a:stCxn id="156" idx="0"/>
              <a:endCxn id="170" idx="2"/>
            </p:cNvCxnSpPr>
            <p:nvPr/>
          </p:nvCxnSpPr>
          <p:spPr>
            <a:xfrm flipV="1" rot="16200000">
              <a:off x="5631120" y="982800"/>
              <a:ext cx="214920" cy="2292480"/>
            </a:xfrm>
            <a:prstGeom prst="bentConnector3">
              <a:avLst>
                <a:gd name="adj1" fmla="val 494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035"/>
            <p:cNvCxnSpPr>
              <a:stCxn id="161" idx="0"/>
              <a:endCxn id="170" idx="2"/>
            </p:cNvCxnSpPr>
            <p:nvPr/>
          </p:nvCxnSpPr>
          <p:spPr>
            <a:xfrm flipV="1">
              <a:off x="4592520" y="2021760"/>
              <a:ext cx="1800" cy="21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36"/>
            <p:cNvCxnSpPr>
              <a:stCxn id="164" idx="0"/>
              <a:endCxn id="170" idx="2"/>
            </p:cNvCxnSpPr>
            <p:nvPr/>
          </p:nvCxnSpPr>
          <p:spPr>
            <a:xfrm flipH="1" flipV="1" rot="5400000">
              <a:off x="3338640" y="982440"/>
              <a:ext cx="214920" cy="2293560"/>
            </a:xfrm>
            <a:prstGeom prst="bentConnector3">
              <a:avLst>
                <a:gd name="adj1" fmla="val 494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0" name="_s1037"/>
            <p:cNvSpPr/>
            <p:nvPr/>
          </p:nvSpPr>
          <p:spPr>
            <a:xfrm>
              <a:off x="2352960" y="1478520"/>
              <a:ext cx="4476960" cy="5436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03dff"/>
                  </a:solidFill>
                  <a:latin typeface="Comic Sans MS"/>
                </a:rPr>
                <a:t>Пластические искусства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_s1038"/>
            <p:cNvSpPr/>
            <p:nvPr/>
          </p:nvSpPr>
          <p:spPr>
            <a:xfrm>
              <a:off x="1253520" y="2237040"/>
              <a:ext cx="2093040" cy="42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зобразительны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_s1039"/>
            <p:cNvSpPr/>
            <p:nvPr/>
          </p:nvSpPr>
          <p:spPr>
            <a:xfrm>
              <a:off x="3545640" y="2237040"/>
              <a:ext cx="2093040" cy="42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Конструктивные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_s1040"/>
            <p:cNvSpPr/>
            <p:nvPr/>
          </p:nvSpPr>
          <p:spPr>
            <a:xfrm>
              <a:off x="5837760" y="2237040"/>
              <a:ext cx="2093040" cy="42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коративны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41"/>
            <p:cNvSpPr/>
            <p:nvPr/>
          </p:nvSpPr>
          <p:spPr>
            <a:xfrm>
              <a:off x="179280" y="2876040"/>
              <a:ext cx="1921320" cy="427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графика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42"/>
            <p:cNvSpPr/>
            <p:nvPr/>
          </p:nvSpPr>
          <p:spPr>
            <a:xfrm>
              <a:off x="179280" y="3542040"/>
              <a:ext cx="1921320" cy="4273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живопись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43"/>
            <p:cNvSpPr/>
            <p:nvPr/>
          </p:nvSpPr>
          <p:spPr>
            <a:xfrm>
              <a:off x="179280" y="4208040"/>
              <a:ext cx="1921320" cy="4273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скульптура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_s1044"/>
            <p:cNvSpPr/>
            <p:nvPr/>
          </p:nvSpPr>
          <p:spPr>
            <a:xfrm>
              <a:off x="3631680" y="2876040"/>
              <a:ext cx="1921320" cy="427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архитектура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_s1045"/>
            <p:cNvSpPr/>
            <p:nvPr/>
          </p:nvSpPr>
          <p:spPr>
            <a:xfrm>
              <a:off x="7082640" y="2876040"/>
              <a:ext cx="1921320" cy="427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народные промыслы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_s1046"/>
            <p:cNvSpPr/>
            <p:nvPr/>
          </p:nvSpPr>
          <p:spPr>
            <a:xfrm>
              <a:off x="7082640" y="3542040"/>
              <a:ext cx="1921320" cy="4273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дизайн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51920"/>
            <a:ext cx="6945120" cy="21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Графи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вид изобразительного искусства, включающий рисунок и печатные художественные изображения (гравюра, литография и др.), основанные на искусстве рисун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3525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Выполняется с помощью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рандаш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гл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и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ециальных приспособлений и маши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Рисунок1"/>
          <p:cNvPicPr/>
          <p:nvPr/>
        </p:nvPicPr>
        <p:blipFill>
          <a:blip r:embed="rId1"/>
          <a:stretch/>
        </p:blipFill>
        <p:spPr>
          <a:xfrm>
            <a:off x="4140360" y="2781360"/>
            <a:ext cx="4257360" cy="33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изведения графи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рисун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наброски, зарисов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гравюр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книжные иллюстрац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этикет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газетные и журнальные карикатур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плакат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шрифты для книг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афиш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6" descr="Рисунок2"/>
          <p:cNvPicPr/>
          <p:nvPr/>
        </p:nvPicPr>
        <p:blipFill>
          <a:blip r:embed="rId1"/>
          <a:stretch/>
        </p:blipFill>
        <p:spPr>
          <a:xfrm>
            <a:off x="4788000" y="1844640"/>
            <a:ext cx="2905200" cy="40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Живопись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вид изобразительного искусства, произведения которого создаются с помощью красок, наносимых на какую–либо поверх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2636640"/>
            <a:ext cx="377208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Краск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-164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кварельны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-164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уашевы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-164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емперны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-164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слены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-164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6" descr="Рисунок3"/>
          <p:cNvPicPr/>
          <p:nvPr/>
        </p:nvPicPr>
        <p:blipFill>
          <a:blip r:embed="rId1"/>
          <a:stretch/>
        </p:blipFill>
        <p:spPr>
          <a:xfrm>
            <a:off x="2916360" y="1989000"/>
            <a:ext cx="58197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Скульптур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вид изобразительного искусства, произведения которого имеют объемную, трехмерную форму и выполняются из твердых или пластических материал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3" name="Organization Chart 34"/>
          <p:cNvGrpSpPr/>
          <p:nvPr/>
        </p:nvGrpSpPr>
        <p:grpSpPr>
          <a:xfrm>
            <a:off x="179280" y="2382840"/>
            <a:ext cx="3771720" cy="2092320"/>
            <a:chOff x="179280" y="2382840"/>
            <a:chExt cx="3771720" cy="2092320"/>
          </a:xfrm>
        </p:grpSpPr>
        <p:cxnSp>
          <p:nvCxnSpPr>
            <p:cNvPr id="184" name="_s2052"/>
            <p:cNvCxnSpPr>
              <a:stCxn id="185" idx="1"/>
              <a:endCxn id="186" idx="2"/>
            </p:cNvCxnSpPr>
            <p:nvPr/>
          </p:nvCxnSpPr>
          <p:spPr>
            <a:xfrm rot="10800000">
              <a:off x="2565000" y="3788640"/>
              <a:ext cx="12672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2053"/>
            <p:cNvCxnSpPr>
              <a:stCxn id="188" idx="3"/>
              <a:endCxn id="186" idx="2"/>
            </p:cNvCxnSpPr>
            <p:nvPr/>
          </p:nvCxnSpPr>
          <p:spPr>
            <a:xfrm flipV="1">
              <a:off x="2109240" y="3789000"/>
              <a:ext cx="45684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2054"/>
            <p:cNvCxnSpPr>
              <a:stCxn id="186" idx="0"/>
              <a:endCxn id="190" idx="2"/>
            </p:cNvCxnSpPr>
            <p:nvPr/>
          </p:nvCxnSpPr>
          <p:spPr>
            <a:xfrm flipV="1" rot="16200000">
              <a:off x="2201040" y="2916360"/>
              <a:ext cx="229320" cy="500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2055"/>
            <p:cNvCxnSpPr>
              <a:stCxn id="192" idx="0"/>
              <a:endCxn id="190" idx="2"/>
            </p:cNvCxnSpPr>
            <p:nvPr/>
          </p:nvCxnSpPr>
          <p:spPr>
            <a:xfrm flipH="1" flipV="1" rot="5400000">
              <a:off x="1343520" y="2558880"/>
              <a:ext cx="229320" cy="1215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0" name="_s2056"/>
            <p:cNvSpPr/>
            <p:nvPr/>
          </p:nvSpPr>
          <p:spPr>
            <a:xfrm>
              <a:off x="694800" y="2382840"/>
              <a:ext cx="2740320" cy="6699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703dff"/>
                  </a:solidFill>
                  <a:latin typeface="Comic Sans MS"/>
                </a:rPr>
                <a:t>Скульптура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_s2057"/>
            <p:cNvSpPr/>
            <p:nvPr/>
          </p:nvSpPr>
          <p:spPr>
            <a:xfrm>
              <a:off x="179280" y="3281400"/>
              <a:ext cx="1341720" cy="5079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круглая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_s2058"/>
            <p:cNvSpPr/>
            <p:nvPr/>
          </p:nvSpPr>
          <p:spPr>
            <a:xfrm>
              <a:off x="1894320" y="3281400"/>
              <a:ext cx="1341720" cy="5079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рельеф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_s2059"/>
            <p:cNvSpPr/>
            <p:nvPr/>
          </p:nvSpPr>
          <p:spPr>
            <a:xfrm>
              <a:off x="850680" y="4017960"/>
              <a:ext cx="1258560" cy="457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горельеф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_s2060"/>
            <p:cNvSpPr/>
            <p:nvPr/>
          </p:nvSpPr>
          <p:spPr>
            <a:xfrm>
              <a:off x="2692440" y="4017960"/>
              <a:ext cx="1258560" cy="457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барельеф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93" name="Picture 16" descr="Рисунок4"/>
          <p:cNvPicPr/>
          <p:nvPr/>
        </p:nvPicPr>
        <p:blipFill>
          <a:blip r:embed="rId1"/>
          <a:stretch/>
        </p:blipFill>
        <p:spPr>
          <a:xfrm>
            <a:off x="4500720" y="1800360"/>
            <a:ext cx="378144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Organization Chart 7"/>
          <p:cNvGrpSpPr/>
          <p:nvPr/>
        </p:nvGrpSpPr>
        <p:grpSpPr>
          <a:xfrm>
            <a:off x="250920" y="625320"/>
            <a:ext cx="7992720" cy="1217880"/>
            <a:chOff x="250920" y="625320"/>
            <a:chExt cx="7992720" cy="1217880"/>
          </a:xfrm>
        </p:grpSpPr>
        <p:cxnSp>
          <p:nvCxnSpPr>
            <p:cNvPr id="195" name="_s3076"/>
            <p:cNvCxnSpPr>
              <a:stCxn id="196" idx="0"/>
              <a:endCxn id="197" idx="2"/>
            </p:cNvCxnSpPr>
            <p:nvPr/>
          </p:nvCxnSpPr>
          <p:spPr>
            <a:xfrm flipV="1" rot="16200000">
              <a:off x="5532120" y="-64440"/>
              <a:ext cx="228960" cy="27982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3077"/>
            <p:cNvCxnSpPr>
              <a:stCxn id="199" idx="0"/>
              <a:endCxn id="197" idx="2"/>
            </p:cNvCxnSpPr>
            <p:nvPr/>
          </p:nvCxnSpPr>
          <p:spPr>
            <a:xfrm flipV="1">
              <a:off x="4247640" y="1220400"/>
              <a:ext cx="180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3078"/>
            <p:cNvCxnSpPr>
              <a:stCxn id="201" idx="0"/>
              <a:endCxn id="197" idx="2"/>
            </p:cNvCxnSpPr>
            <p:nvPr/>
          </p:nvCxnSpPr>
          <p:spPr>
            <a:xfrm flipH="1" flipV="1" rot="5400000">
              <a:off x="2733840" y="-64800"/>
              <a:ext cx="228960" cy="27993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3079"/>
            <p:cNvSpPr/>
            <p:nvPr/>
          </p:nvSpPr>
          <p:spPr>
            <a:xfrm>
              <a:off x="3047400" y="625320"/>
              <a:ext cx="2398680" cy="595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03dff"/>
                  </a:solidFill>
                  <a:latin typeface="Comic Sans MS"/>
                </a:rPr>
                <a:t>скульптура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_s3080"/>
            <p:cNvSpPr/>
            <p:nvPr/>
          </p:nvSpPr>
          <p:spPr>
            <a:xfrm>
              <a:off x="250920" y="1449360"/>
              <a:ext cx="2397600" cy="3938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Станкова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_s3081"/>
            <p:cNvSpPr/>
            <p:nvPr/>
          </p:nvSpPr>
          <p:spPr>
            <a:xfrm>
              <a:off x="3048480" y="1449360"/>
              <a:ext cx="2397600" cy="3938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Монументальна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_s3082"/>
            <p:cNvSpPr/>
            <p:nvPr/>
          </p:nvSpPr>
          <p:spPr>
            <a:xfrm>
              <a:off x="5846400" y="1449360"/>
              <a:ext cx="2397240" cy="3938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Декоративна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16" descr="Рисунок5"/>
          <p:cNvPicPr/>
          <p:nvPr/>
        </p:nvPicPr>
        <p:blipFill>
          <a:blip r:embed="rId1"/>
          <a:stretch/>
        </p:blipFill>
        <p:spPr>
          <a:xfrm>
            <a:off x="250920" y="1989000"/>
            <a:ext cx="2684520" cy="4351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7" descr="Рисунок6"/>
          <p:cNvPicPr/>
          <p:nvPr/>
        </p:nvPicPr>
        <p:blipFill>
          <a:blip r:embed="rId2"/>
          <a:stretch/>
        </p:blipFill>
        <p:spPr>
          <a:xfrm>
            <a:off x="3132000" y="2060640"/>
            <a:ext cx="2506680" cy="424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8" descr="Рисунок7"/>
          <p:cNvPicPr/>
          <p:nvPr/>
        </p:nvPicPr>
        <p:blipFill>
          <a:blip r:embed="rId3"/>
          <a:stretch/>
        </p:blipFill>
        <p:spPr>
          <a:xfrm>
            <a:off x="6093000" y="2133720"/>
            <a:ext cx="20206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Organization Chart 7"/>
          <p:cNvGrpSpPr/>
          <p:nvPr/>
        </p:nvGrpSpPr>
        <p:grpSpPr>
          <a:xfrm>
            <a:off x="684360" y="644040"/>
            <a:ext cx="7630920" cy="2061360"/>
            <a:chOff x="684360" y="644040"/>
            <a:chExt cx="7630920" cy="2061360"/>
          </a:xfrm>
        </p:grpSpPr>
        <p:cxnSp>
          <p:nvCxnSpPr>
            <p:cNvPr id="207" name="_s4100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5684040" y="322200"/>
              <a:ext cx="227520" cy="259884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0" name="_s4101"/>
            <p:cNvCxnSpPr>
              <a:stCxn id="211" idx="0"/>
              <a:endCxn id="209" idx="2"/>
            </p:cNvCxnSpPr>
            <p:nvPr/>
          </p:nvCxnSpPr>
          <p:spPr>
            <a:xfrm flipV="1" rot="16200000">
              <a:off x="4385880" y="1620360"/>
              <a:ext cx="227520" cy="216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4102"/>
            <p:cNvCxnSpPr>
              <a:stCxn id="213" idx="0"/>
              <a:endCxn id="209" idx="2"/>
            </p:cNvCxnSpPr>
            <p:nvPr/>
          </p:nvCxnSpPr>
          <p:spPr>
            <a:xfrm flipH="1" flipV="1" rot="5400000">
              <a:off x="3086640" y="322920"/>
              <a:ext cx="227520" cy="259740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9" name="_s4103"/>
            <p:cNvSpPr/>
            <p:nvPr/>
          </p:nvSpPr>
          <p:spPr>
            <a:xfrm>
              <a:off x="783000" y="644040"/>
              <a:ext cx="7432560" cy="863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Архитектура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– искусство создавать здания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и сооружения по законам красоты.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_s4104"/>
            <p:cNvSpPr/>
            <p:nvPr/>
          </p:nvSpPr>
          <p:spPr>
            <a:xfrm>
              <a:off x="684360" y="1735200"/>
              <a:ext cx="2435040" cy="970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Архитектура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объемных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сооружений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_s4105"/>
            <p:cNvSpPr/>
            <p:nvPr/>
          </p:nvSpPr>
          <p:spPr>
            <a:xfrm>
              <a:off x="3282120" y="1735200"/>
              <a:ext cx="2435040" cy="970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Ландшафтн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архитектур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_s4106"/>
            <p:cNvSpPr/>
            <p:nvPr/>
          </p:nvSpPr>
          <p:spPr>
            <a:xfrm>
              <a:off x="5880240" y="1735200"/>
              <a:ext cx="2435040" cy="970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Градостроительство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4" name="Picture 13" descr="Рисунок8"/>
          <p:cNvPicPr/>
          <p:nvPr/>
        </p:nvPicPr>
        <p:blipFill>
          <a:blip r:embed="rId1"/>
          <a:stretch/>
        </p:blipFill>
        <p:spPr>
          <a:xfrm>
            <a:off x="2916360" y="3213000"/>
            <a:ext cx="3666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9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Декоративно – прикладное искусство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создание художественных изделий, которые человек использует в быту, отличающихся декоративной образность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636640"/>
            <a:ext cx="37720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Посуд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Мебел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Ковр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Ювелирные издел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Игруш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6" descr="Рисунок9"/>
          <p:cNvPicPr/>
          <p:nvPr/>
        </p:nvPicPr>
        <p:blipFill>
          <a:blip r:embed="rId1"/>
          <a:stretch/>
        </p:blipFill>
        <p:spPr>
          <a:xfrm>
            <a:off x="3995640" y="2060640"/>
            <a:ext cx="38862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6:43:07Z</dcterms:created>
  <dc:creator>Пользователь</dc:creator>
  <dc:description/>
  <dc:language>en-US</dc:language>
  <cp:lastModifiedBy>User</cp:lastModifiedBy>
  <dcterms:modified xsi:type="dcterms:W3CDTF">2013-06-21T08:22:16Z</dcterms:modified>
  <cp:revision>37</cp:revision>
  <dc:subject/>
  <dc:title>Изобразительное искусство в семье пластических искусств</dc:title>
</cp:coreProperties>
</file>