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AAB-1463-42CA-893E-965E0A4D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B71-081F-486D-894C-180FCAC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CFA5B-3117-4813-A840-E3F8538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47B46-8A7E-4531-8A9B-C82ACCB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D4D56-2E29-4CA2-9231-C27F99F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1252-CECF-45F9-895A-C54B3A1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A1A3C-A33E-40F2-8B5C-8956E6A8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C401B-DDCF-4916-BB83-CD611ED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F77E-4379-409B-8FB7-4880512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65D98-144B-4670-85A8-86ECDC4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63F0E-3511-4414-8273-A8FF45FC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9FC16-E362-473F-A23D-18526349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1A1-7BD1-4982-9799-1BF3A822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89DBB-9A91-4563-B61C-3C088734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8F2C4-8C12-489C-9C72-7606BB3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2CD56-3802-4EED-B76D-5D0B899C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F4EE3-5D97-4D30-BA18-883306C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56E94-4CD6-40F1-843A-4710087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CB5A6-D812-44D8-BCA8-063F637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2F095-FC1D-4E47-BAAD-382B11C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0A6DD-F255-4C9B-9E42-2D82E6C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52AD-708E-4E36-A55D-6732FD37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108AD-B959-478C-AF67-F92C708D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B88-BC25-422A-97F2-668FE31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95BAA-879D-4A47-98F5-AF16144D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602A-9CFD-4928-BA69-10B047B4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B715-8104-46A4-B923-9331B0E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BCBAB-8F35-4F80-A078-15DC4CE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136BC-9FCE-42C9-BB5A-75B1C4C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1998C-FE23-4B78-AB74-BBDFC5D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88AFB-6162-433C-9B27-EE1A71F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498B3-1657-4311-91B5-FCAC5AF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FA05D-9747-4E7A-B100-94B60BB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32C5E-3E5E-4281-94DD-28FA4AB7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EA9CC-5EAF-493D-B926-26A909EF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B1181-045E-4313-84A2-6F43915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2755-87B5-45D1-A838-A84F42DC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8B5DF-3F7E-456E-87E7-A28B9211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0F79A-2961-4584-96B9-B20826CB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FD6C5-1439-43B0-9743-A788F765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470F8-6203-46CB-A45E-42AC921E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5E287-4517-4BEC-80DE-A7DD1A0B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8930E-3BF2-4544-B533-E225B61F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9B400-C3C6-4084-ACC6-7AC396D8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602D1-BE4C-49F2-BC9C-C64F297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3460A-F706-47DB-AE1F-49B61A1D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34878-5E55-4C44-9E4E-DA0DAA8E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C5046-5A9F-41EE-A1D3-BFC6974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56D77-8B69-4ECD-86EF-B0B467F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102E-1F43-49FA-9A0B-6F4E48DB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1DA7E-586F-4326-BAA0-09F74ACD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2C50-EC18-4B8E-B329-150F37D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4116-1B26-4388-9A23-F447A30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3A908-2F9E-46B4-B837-DE38FD8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058F-13E2-43A4-BD1E-E8DBBAF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F874-DC2F-4E12-B7B6-C06D3E8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171-34EE-45A9-B4D2-E2CF412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857D7-45DB-4770-89D3-0E5F8C6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07341-7F70-4EC8-ADA0-7EB2C85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457E9-5FAA-40EA-B70C-A95BCBD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DDD3-9D3A-4ED9-BA29-A5DB823B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1372-D0D0-4201-8752-C7245499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587F-6D84-48C0-902E-5F7C4CF8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99BD-A4C4-4537-93D8-2AD7677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07CD-DD29-4CAC-A4A9-9106212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B368-977D-4257-B98F-6DEDD75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8946-73D9-440A-A6BF-078FD122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C5A-1189-4AAE-B9AF-B1069E4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660D-7BE2-49FE-9260-C4B1BC02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2FDD-60C9-46CA-AB97-9C49547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C075-8641-45D2-A8E7-C0ACD1E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AB5F-21DD-4716-96B9-CC0A2EA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6DDE-FAA8-4A78-8681-B5B6CB7B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6086-71D4-4918-9F56-E4CF3755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2FAE-4AF5-4E8A-8024-61FF0C7A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CE2E0-905D-43C3-BF94-80A84FDF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B35D-5747-48A2-B54F-01C27BB5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CFCE-F130-43FC-92D6-141A8437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BAA-4630-4585-A15E-8B71594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371A-A8FB-4687-B973-9C17EA9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3557-7CD7-42EC-9D3C-F74DE16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C60E-0029-4780-9324-56F66B5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6D37-BC9C-409A-9EBA-C6A452B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C911-9839-4070-9E7B-F3FC473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D9B0-5F38-428D-8725-04E61DF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6E13-1E3C-40B4-AD0D-C8FF7952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73D6D-B357-426F-8E3C-DB7CD6AD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1C7D-66A9-4943-A47E-2863C7C1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6DC6-6E08-4E0D-AC00-1CEC39F6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FA9-51B9-4021-BE9E-5AB1447E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4C31-69F8-439C-AF41-8A204D62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02A5-95E1-43E1-92EB-967AC90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35C22-D375-4AEA-9A70-15441032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1D49-E8E8-413A-A89A-1D6B575C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8844-B56B-4CB8-BBE9-2E6ED838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E5CE-F32A-42A9-93D6-F34DED5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74D80-4354-4B4E-97E4-DC8EFF7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B741-603F-4D53-88D1-5D218F8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89FD-60EA-4194-9DF4-14F06E6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4E3F-921F-47F8-8DF5-59209547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963-0C1B-4A21-9E2D-CC24E26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A8082-8685-4EA9-B965-337744DA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3856C-54EE-4C46-91F1-7F2CF0ED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80AB-C2DA-445A-97DF-CBF22267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D17D-A058-47D0-BA3F-55870CA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A164-8842-4B2F-9DB2-10FF82CF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86E4-FEE8-4863-B837-2156505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9EF0-1ECF-4B10-A3A8-DCB91BA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4CED-1341-40E5-ACE8-4BDBB106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F498-2341-484A-AE7A-826E258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E2AE-E16D-4AB0-9112-B1530A3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EE8-D58F-4540-8069-0ED2E22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D21D-6CB9-4BF4-8D54-37CD0AF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E74E-6E17-48E0-90BB-58522F0B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D1F1-FCDB-4B96-ABA9-029A753A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4CF3-089A-4211-9746-A75D0260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0478-70E2-49F7-B288-9BAE351D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630D-EE7B-40CA-A705-5C450E4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6E556-C7F1-4FD7-8A60-1D4CA55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1A48-6B0A-4A3F-A692-FD186779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84B4-E53F-4A6D-865F-7481565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5AA91-FAB4-438C-84FF-5586B15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910-8F44-48CB-A3F9-99BDE41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6E878-35C5-4603-B5E6-320984A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C1C43-79CA-4BA0-AC75-13D9524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7D1CB-E3DC-4B6D-B381-699CEA66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2E6C-1976-4E6B-AE65-34AB0941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FBE4-76AA-4DAA-9C93-7499605F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5CF79-1524-4B63-AE70-0BC72100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FD84-5DA1-4B38-9DA3-A78AC9F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337E-9653-41ED-B4CB-F5150C0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B272-89C5-404E-8DA8-9EAB6AE6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ABB10-55F4-4C82-A2E9-499432A0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5E9-6F3A-462F-8EF3-96C8298A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CC5CB-FE24-4D14-9233-CABD74E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F841-D49B-4C6C-982E-F813D0B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98FC-3EB8-4C01-BC16-442656C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C2DE8-BBAE-4F1F-9F9D-C1AD26E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306C-5B0C-4BB0-9BD8-85C8DB8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47FF8-35F0-4445-804C-E39EF6E3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BDD9-E4F1-4322-995D-9DCFC9D1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4498-90E5-43DF-82B7-9EA2BD7A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41E30-4828-445B-8183-30C056E0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394DE-C157-48BC-A77F-DDA932D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975-2690-43D3-904D-55833552751B}" type="slidenum">
              <a:rPr b="0" lang="en-US" sz="12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D25-BEF8-411E-B458-F86BE6CE3DF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3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3DC-9342-46BB-AFE1-6DBB19825103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83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9C58-F681-46C0-8963-47388B9B17B4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7BE-20DF-4195-B235-D0EC433A79D5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8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6A1F-6223-46A8-8EB5-D360C52534A5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ounded Rectangle 7"/>
          <p:cNvGrpSpPr/>
          <p:nvPr/>
        </p:nvGrpSpPr>
        <p:grpSpPr>
          <a:xfrm>
            <a:off x="609480" y="457200"/>
            <a:ext cx="7918560" cy="6029280"/>
            <a:chOff x="609480" y="457200"/>
            <a:chExt cx="7918560" cy="6029280"/>
          </a:xfrm>
        </p:grpSpPr>
        <p:pic>
          <p:nvPicPr>
            <p:cNvPr id="13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18560" cy="60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BAA-AE94-48CF-A414-254CEEC70351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17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C99-E9C2-4780-B4DC-ED69C061E08F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2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20E6-FAE9-4343-9DE6-E05C3F9282B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26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AB4-1DE2-4C11-8BFF-3735BEE669DB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09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74B3-CE32-4935-821A-9C39EDC835F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Rounded Rectangle 8"/>
          <p:cNvGrpSpPr/>
          <p:nvPr/>
        </p:nvGrpSpPr>
        <p:grpSpPr>
          <a:xfrm>
            <a:off x="262080" y="195120"/>
            <a:ext cx="8613720" cy="6559560"/>
            <a:chOff x="262080" y="195120"/>
            <a:chExt cx="8613720" cy="6559560"/>
          </a:xfrm>
        </p:grpSpPr>
        <p:pic>
          <p:nvPicPr>
            <p:cNvPr id="353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372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7DE-57FA-46FC-B803-0EBA47D7C61A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2160" y="341460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0a57"/>
                </a:solidFill>
                <a:latin typeface="Bookman Old Style"/>
                <a:ea typeface="Times New Roman"/>
              </a:rPr>
              <a:t>Возможности освещения в портрете</a:t>
            </a:r>
            <a:endParaRPr b="1" lang="en-US" sz="48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22160" y="113328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1e2051"/>
              </a:solidFill>
              <a:latin typeface="Verdana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042920" y="523224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6.3.2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aleksey_ribnikov_-_vals_tot_samiy_miunhgauzen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3"/>
          <p:cNvGrpSpPr/>
          <p:nvPr/>
        </p:nvGrpSpPr>
        <p:grpSpPr>
          <a:xfrm>
            <a:off x="1042920" y="331920"/>
            <a:ext cx="6634080" cy="2698560"/>
            <a:chOff x="1042920" y="331920"/>
            <a:chExt cx="6634080" cy="2698560"/>
          </a:xfrm>
        </p:grpSpPr>
        <p:pic>
          <p:nvPicPr>
            <p:cNvPr id="531" name="Picture 9" descr="Серов ПортерВерочки Мамонтовой"/>
            <p:cNvPicPr/>
            <p:nvPr/>
          </p:nvPicPr>
          <p:blipFill>
            <a:blip r:embed="rId2"/>
            <a:stretch/>
          </p:blipFill>
          <p:spPr>
            <a:xfrm>
              <a:off x="5257800" y="333360"/>
              <a:ext cx="2419200" cy="26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0" descr="Серов Дочь импр Алдра !!!"/>
            <p:cNvPicPr/>
            <p:nvPr/>
          </p:nvPicPr>
          <p:blipFill>
            <a:blip r:embed="rId3"/>
            <a:stretch/>
          </p:blipFill>
          <p:spPr>
            <a:xfrm>
              <a:off x="3130560" y="331920"/>
              <a:ext cx="21110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1" descr="478px-Pukirev_ner_brak"/>
            <p:cNvPicPr/>
            <p:nvPr/>
          </p:nvPicPr>
          <p:blipFill>
            <a:blip r:embed="rId4"/>
            <a:stretch/>
          </p:blipFill>
          <p:spPr>
            <a:xfrm>
              <a:off x="1076040" y="333360"/>
              <a:ext cx="212112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12" descr=""/>
            <p:cNvPicPr/>
            <p:nvPr/>
          </p:nvPicPr>
          <p:blipFill>
            <a:blip r:embed="rId5"/>
            <a:srcRect l="98527" t="0" r="0" b="0"/>
            <a:stretch/>
          </p:blipFill>
          <p:spPr>
            <a:xfrm>
              <a:off x="1042920" y="333360"/>
              <a:ext cx="46080" cy="267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 -4.81481E-006 L 0 -4.81481E-006 E">
                                      <p:cBhvr>
                                        <p:cTn id="1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a854710345cf"/>
          <p:cNvPicPr/>
          <p:nvPr/>
        </p:nvPicPr>
        <p:blipFill>
          <a:blip r:embed="rId1"/>
          <a:stretch/>
        </p:blipFill>
        <p:spPr>
          <a:xfrm>
            <a:off x="2241720" y="189000"/>
            <a:ext cx="4491000" cy="58323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6"/>
          <p:cNvSpPr/>
          <p:nvPr/>
        </p:nvSpPr>
        <p:spPr>
          <a:xfrm>
            <a:off x="2124000" y="609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Возвращение блудного сы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92120" y="15984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Picture 5" descr="Мурильо"/>
          <p:cNvPicPr/>
          <p:nvPr/>
        </p:nvPicPr>
        <p:blipFill>
          <a:blip r:embed="rId1"/>
          <a:stretch/>
        </p:blipFill>
        <p:spPr>
          <a:xfrm>
            <a:off x="2195640" y="115920"/>
            <a:ext cx="6705360" cy="6095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Лионелло"/>
          <p:cNvPicPr/>
          <p:nvPr/>
        </p:nvPicPr>
        <p:blipFill>
          <a:blip r:embed="rId2"/>
          <a:stretch/>
        </p:blipFill>
        <p:spPr>
          <a:xfrm>
            <a:off x="-757080" y="476280"/>
            <a:ext cx="3333600" cy="43243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108000" y="49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ионелл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2340000" y="630864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рильи. Возвращение блудного сы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6538680" cy="56545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"/>
          <p:cNvPicPr/>
          <p:nvPr/>
        </p:nvPicPr>
        <p:blipFill>
          <a:blip r:embed="rId2"/>
          <a:stretch/>
        </p:blipFill>
        <p:spPr>
          <a:xfrm>
            <a:off x="0" y="260280"/>
            <a:ext cx="3708360" cy="3176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0" y="189000"/>
            <a:ext cx="3708360" cy="3197160"/>
          </a:xfrm>
          <a:prstGeom prst="rect">
            <a:avLst/>
          </a:prstGeom>
          <a:ln w="0">
            <a:noFill/>
          </a:ln>
        </p:spPr>
      </p:pic>
      <p:pic>
        <p:nvPicPr>
          <p:cNvPr id="570" name="aleksey_ribnikov_-_vals_tot_samiy_miunhgauzen.mp3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1b73"/>
                </a:solidFill>
                <a:latin typeface="Bodoni MT"/>
                <a:ea typeface="Times New Roman"/>
              </a:rPr>
              <a:t>К следующему уроку:</a:t>
            </a:r>
            <a:endParaRPr b="1" lang="en-US" sz="32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499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римеры сатирических                                        образов чело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3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565280" cy="19382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24000" y="4724280"/>
            <a:ext cx="26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.Пикасс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ртрет идаль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580000" y="6165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.Бидструп. Бумеранг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1871640" cy="140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7" name="Text Box 9"/>
          <p:cNvSpPr/>
          <p:nvPr/>
        </p:nvSpPr>
        <p:spPr>
          <a:xfrm>
            <a:off x="2556000" y="357336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.Тулуз-Лотрек. Автопортре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1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181320" cy="4581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79" name="Picture 12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83852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ивописное решение характера освещения – важнейшее средство выразительности при создании художественного об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37" name="Picture 6" descr="Серов Дочь импр Алдра !!!"/>
          <p:cNvPicPr/>
          <p:nvPr/>
        </p:nvPicPr>
        <p:blipFill>
          <a:blip r:embed="rId1"/>
          <a:stretch/>
        </p:blipFill>
        <p:spPr>
          <a:xfrm>
            <a:off x="682560" y="1600200"/>
            <a:ext cx="3587760" cy="45259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4067280" y="6165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Портрет дочери Александ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084720" y="1413000"/>
            <a:ext cx="237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свет находится перед моделью и светит прямо в лицо, то форма головы уплощается , выделяются только глаза и губы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608472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 спокойны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748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478px-Pukirev_ner_brak"/>
          <p:cNvPicPr/>
          <p:nvPr/>
        </p:nvPicPr>
        <p:blipFill>
          <a:blip r:embed="rId1"/>
          <a:stretch/>
        </p:blipFill>
        <p:spPr>
          <a:xfrm>
            <a:off x="611280" y="404640"/>
            <a:ext cx="4244760" cy="5329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611280" y="5877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.Пукирёв. Неравный бра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19640" y="549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ой свет выявляет форму, её объём и глубину пространства – образ модели предстаёт наиболее полно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292720" y="242100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источник света находится сзади модели, мы видим её силуэт, а лицо погружается в тень. Все черты и формы при этом смягчаются и приобретают таинственность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47" name="Picture 6" descr="Серов ПортерВерочки Мамонтовой"/>
          <p:cNvPicPr/>
          <p:nvPr/>
        </p:nvPicPr>
        <p:blipFill>
          <a:blip r:embed="rId1"/>
          <a:stretch/>
        </p:blipFill>
        <p:spPr>
          <a:xfrm>
            <a:off x="457200" y="1611360"/>
            <a:ext cx="4038480" cy="45036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3780000" y="609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Серов. Портрет Верочки Мамонтово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aleksey_ribnikov_-_vals_tot_samiy_miunhgauzen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pic>
        <p:nvPicPr>
          <p:cNvPr id="551" name="Picture 6" descr="Суриков портр дочери"/>
          <p:cNvPicPr/>
          <p:nvPr/>
        </p:nvPicPr>
        <p:blipFill>
          <a:blip r:embed="rId1"/>
          <a:stretch/>
        </p:blipFill>
        <p:spPr>
          <a:xfrm>
            <a:off x="1893960" y="404640"/>
            <a:ext cx="4429080" cy="57214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1763640" y="6165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.И.Суриков. Портрет дочер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300" spc="-1" strike="noStrike">
              <a:solidFill>
                <a:srgbClr val="171b73"/>
              </a:solidFill>
              <a:latin typeface="Bodoni MT"/>
              <a:ea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476360" y="1573200"/>
            <a:ext cx="621828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Рембр Христос в Эммаусе"/>
          <p:cNvPicPr/>
          <p:nvPr/>
        </p:nvPicPr>
        <p:blipFill>
          <a:blip r:embed="rId1"/>
          <a:stretch/>
        </p:blipFill>
        <p:spPr>
          <a:xfrm>
            <a:off x="1314360" y="304920"/>
            <a:ext cx="6513480" cy="58212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1332000" y="6165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мбрандт. Христос в Эммаусе. 162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Караваджо Ужин в Эмммаусе"/>
          <p:cNvPicPr/>
          <p:nvPr/>
        </p:nvPicPr>
        <p:blipFill>
          <a:blip r:embed="rId1"/>
          <a:stretch/>
        </p:blipFill>
        <p:spPr>
          <a:xfrm>
            <a:off x="900000" y="620640"/>
            <a:ext cx="7437600" cy="50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900000" y="5734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аваджо. Ужин в Эммаус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7:24:40Z</dcterms:created>
  <dc:creator>Алекс</dc:creator>
  <dc:description/>
  <dc:language>en-US</dc:language>
  <cp:lastModifiedBy>Olga</cp:lastModifiedBy>
  <dcterms:modified xsi:type="dcterms:W3CDTF">2015-03-09T05:38:45Z</dcterms:modified>
  <cp:revision>25</cp:revision>
  <dc:subject/>
  <dc:title>Слайд 1</dc:title>
</cp:coreProperties>
</file>