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5BD-3538-4E0A-97DF-12241B8A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552D-161E-4A67-9100-D16E2610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8C8E8-B673-4431-BE61-A1573786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29BA2-3246-4B94-A6E1-374D2CA3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CF117-F67C-45C7-8EE5-9C537F7B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69946-7CD7-446D-8A7B-A75476B4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9502C-5F75-417B-9CDF-4DFF09B2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CFD16-C4DA-4A89-8D9A-BF8AF857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FCA04-0EFC-4FDA-9C2C-D49DF0A4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FB919-4787-4709-B957-89718D56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A643F-C282-4952-B6A3-B8B747D3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1489D-4B7A-486C-8968-8237FAAC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7F2-CA88-4146-8BCB-C198B6FA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CED0A-E9D9-414E-912B-7B43AE92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80A64-D2E8-4222-9A65-20E1544D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DDD94-ACFD-464C-8630-1491B725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ADD6A-8F17-4E30-BFB5-B37F72A7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9063D-55EC-4336-BAD8-8872C647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839FC-9CAC-4787-8B7C-0FAC0699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CCCA9-9BD1-4A10-BF8E-1BC65645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5675F-93CC-4C2D-A545-8A27F286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88FC4-CD6E-4CDE-9F4B-DC68C509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294E5-64B3-48BC-94CB-BFD39CC9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2CA-4E4E-457F-BE95-289F8665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9F321-C7A9-4045-A7D2-203567B4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B5463-5641-4940-AD11-D8330E23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9216D-7182-4042-814C-0413F4FF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20AB0-DB27-4906-92B2-03EBB852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B65B5-F720-4D60-AFC9-14D8B007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E6D40-B8B2-449A-A0A4-9A0693E2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84C43-73B6-43D7-A1F9-0CE5EEE8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E4542-CD85-4F5C-982C-A9288781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28923-420D-44DF-9164-026D4CAC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A4B5E-5988-460B-9962-0B9AFD11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6DDA4-1979-4ABD-BCB0-24EDD906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A2991-24F1-4B4F-89EC-CF117AF9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D3882-C83C-42A2-B7FA-978AC2F7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B7C60-212C-48F1-9169-09E21660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BF181-CA7E-4123-96E1-073F383E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0A7F0-6B59-46EB-81AE-0D73B4CC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1BF92-3093-42BD-BDA9-90E100DB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2C608-A1C9-4CBE-909F-31020E31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78C41-CA9F-4F61-B67E-15102088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30E35-8620-4E23-BCBD-D0EAF674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2B081-1DF9-41DF-AA5A-B464E531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E6A0B-8EED-4396-99D3-C5380524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51C22-E741-4910-BE57-945E9E21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5E471-579D-49C9-8C09-9983741C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F028E-E902-4A75-9B44-3C20674D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A4AE1-94E5-4E8B-9115-EF9704F9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22532-66DA-470F-A416-138A39EC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216E2-4BA6-4B3C-9A39-65BEE43E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C9167-7D31-4E57-963B-D3283EB9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D9492-6CFC-4FBE-B930-B44F205C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040B0-610C-45E1-8B20-AF687946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14C08-1397-45B7-93BA-83118D9B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11A-7B92-4133-94E0-FF8411DD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65EF2-C021-44D0-9808-D6F247C8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38753-30D4-4044-8BDD-0E8D6D20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92180-C143-4837-A046-1319D62C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AC7C4-ACC0-42EB-AC59-07FE052A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FCF46-E44B-4A9B-ABAF-58A35868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EBDD5-E886-4A8B-BA61-C6596D7F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64F8F-E96A-4EA2-A885-72653ACB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6EFE6-521B-478B-AD93-11EC6A4B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5B2CD-4648-4669-8D87-4F75C477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181FB-559F-4731-A5A0-27EC9A00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F8B-9BFC-4E15-9FA7-D91D9B5D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AE350-029A-41AA-9D99-E2F4991F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E6DBD-C829-4EF4-8194-917C351C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98588-990F-4E3A-BEBA-DA86D4C7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2531A-332C-4F0A-B286-877B6D26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2D30C-D192-46FC-941C-08285403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D8C92-F40C-47BE-A778-29AC4A7C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7DC98-16E0-41C4-BE56-ECBAAA7E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12579-2DE6-4A49-B591-B242360C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1869F-D705-4506-9F4A-A2E4A3AD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2DEF7-8043-4CF2-8920-E19F1744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DDE5-1920-4792-98A6-3B3B18F4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11DC0-536D-44B3-B027-A38B5B98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AF65F-56DE-4011-B744-6F376B3D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28F69-4EEA-48A9-95FC-494ACFB7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EAA56-C8E7-417C-9BC5-EE5879BA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79E27-5A43-4944-B19C-F666042A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412FD-A470-44AE-BCC3-68CCA184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08344-3B19-464F-A185-574F2885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BB9E1-60F1-4D97-BFFB-EDEE8E22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72A1B-A6C8-4671-9764-364F11ED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D0975-1951-45CF-AB1F-C5CC7FC9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448E-3273-4BAD-BF7F-0F2405A7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8E37E-49E3-47DA-B862-7CE83BC3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26B77-C50F-40A4-8791-0612DD2E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758BA-22B8-48A5-8B6E-1C873F72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82299-05E7-469A-A6D5-963B646F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616EB-31CC-4B27-BD8F-908193EF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2C416-4FB2-4BCE-9C63-37E7F3E5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F61EE-2523-4AD1-9950-A6048FC7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C9D05-15E1-42C6-A25F-2C71211B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FC2B2-5EDB-4DDC-8F51-4E8FF6A6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12B10-B1CC-4BED-89E5-853BDF03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5DC-6AAD-427A-A829-6EBF57A4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FF130-8A9F-42A4-9B61-235C7E35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2967A-DB3B-42CA-B78A-11717186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1FF45-18D6-43F8-9B27-CAC02658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D370D-80B6-49D8-947D-0364C8B7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9FC15-AD20-4C54-8EA4-9BFE5DB9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E257C-2A6E-48AF-8591-9A4E13AB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EB6A7-BB01-4AB8-A11A-3579AFAA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19F93-B738-4913-B8A6-7426BCC8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01189-0C9C-4E01-9B85-D3D0915E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B1A33-E8FE-4A3A-8238-B020F231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BF8-A38F-4199-98BB-C0ADAE67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A516F-733E-4308-B5CB-027962C2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26E7F-16A2-48EA-BA21-B6AF1371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53A6E-BFD4-493C-B495-18B69A08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3DAF4-7DA1-4223-AFDC-18004893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91B8C-99F8-4B58-A309-FB293382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E6039-A046-4409-A766-2AAC9C19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E3D4B-E3C2-48D9-A033-026D1DE9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BA6E2-00F8-44F2-B382-7E08BF4E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EE4C7-2218-4C97-994F-5873B66F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E9EA2-11D9-40D4-8E6E-4FA2B641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666E-2BF7-4C73-95E5-93B3FAC8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68EAF-F262-4FC9-8362-FA718AD0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24A16-BA1D-4A5B-AA75-C129B82D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5C0B4-AFD6-457D-9B64-CC8C52C0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63120-4200-45CB-ADA1-106D2009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2BC58-88A7-46F3-941F-249B412F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B9247-67B4-4ABE-BBE8-ED990360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FE878-9879-430E-AEED-CEDD35C0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704BD-ECE3-4E7D-9C08-A9B53B21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237D7-095A-4D35-889A-84C24033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9E0F3-DAF5-46F4-B7D5-2A96340C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450-7760-42D5-AC0C-98BBB2CE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90C1D-6DE6-4563-8213-D3DC7788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C4C6C-47CD-43B4-A291-9CDB2633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E40F5-E397-4314-AA44-370029C4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B8162-73B3-42E3-95BF-7D44A621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B44C2-F6F5-4BF6-9299-55A20806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0AC5A-D8A6-4AA7-A117-3077574D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5E5BB-E41B-4FB8-A4EC-4574BA4B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08025-7973-4059-A4BB-BAB8A3FD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91E79-88F1-44AB-8A09-039F570C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B26BD-E02F-4BB2-889B-DC5CC0DD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3A08-3F96-496C-929E-F31F8E2BA6D5}" type="slidenum">
              <a:rPr b="0" lang="en-US" sz="12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ounded Rectangle 7"/>
          <p:cNvSpPr/>
          <p:nvPr/>
        </p:nvSpPr>
        <p:spPr>
          <a:xfrm>
            <a:off x="4740120" y="795240"/>
            <a:ext cx="3961080" cy="5294520"/>
          </a:xfrm>
          <a:custGeom>
            <a:avLst/>
            <a:gdLst>
              <a:gd name="textAreaLeft" fmla="*/ 41040 w 3961080"/>
              <a:gd name="textAreaRight" fmla="*/ 3920040 w 3961080"/>
              <a:gd name="textAreaTop" fmla="*/ 41040 h 5294520"/>
              <a:gd name="textAreaBottom" fmla="*/ 5253480 h 5294520"/>
            </a:gdLst>
            <a:ahLst/>
            <a:rect l="textAreaLeft" t="textAreaTop" r="textAreaRight" b="textAreaBottom"/>
            <a:pathLst>
              <a:path w="21600" h="28871">
                <a:moveTo>
                  <a:pt x="765" y="0"/>
                </a:moveTo>
                <a:arcTo wR="765" hR="765" stAng="16200000" swAng="-5400000"/>
                <a:lnTo>
                  <a:pt x="0" y="28106"/>
                </a:lnTo>
                <a:arcTo wR="765" hR="765" stAng="10800000" swAng="-5400000"/>
                <a:lnTo>
                  <a:pt x="20835" y="28871"/>
                </a:lnTo>
                <a:arcTo wR="765" hR="765" stAng="5400000" swAng="-5400000"/>
                <a:lnTo>
                  <a:pt x="21600" y="765"/>
                </a:lnTo>
                <a:arcTo wR="765" hR="765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3CC3-22CA-44EF-BBE8-BA9774669E58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439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90C9-668F-490D-B443-BEC9343B412C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483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F106-84F0-4C40-8003-49482C0A7A27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4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FC12-DDF2-4028-97C5-FF542C10BC3C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89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3CB7-E495-441A-9AF1-BB1B610B8CC9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62"/>
            </a:gs>
            <a:gs pos="100000">
              <a:srgbClr val="ecd8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Rounded Rectangle 7"/>
          <p:cNvGrpSpPr/>
          <p:nvPr/>
        </p:nvGrpSpPr>
        <p:grpSpPr>
          <a:xfrm>
            <a:off x="609480" y="457200"/>
            <a:ext cx="7918560" cy="6029280"/>
            <a:chOff x="609480" y="457200"/>
            <a:chExt cx="7918560" cy="6029280"/>
          </a:xfrm>
        </p:grpSpPr>
        <p:pic>
          <p:nvPicPr>
            <p:cNvPr id="133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609480" y="457200"/>
              <a:ext cx="7918560" cy="60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3"/>
            <p:cNvSpPr/>
            <p:nvPr/>
          </p:nvSpPr>
          <p:spPr>
            <a:xfrm>
              <a:off x="728640" y="530280"/>
              <a:ext cx="768672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621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5959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485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93DF-E4A9-4977-BDEF-AB54FC4EA333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17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2C1F-C92B-4CA7-9628-D415EA91C42A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22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8024-DEE2-4C9B-9ED4-0FAA6E23C552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26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E054-557E-4E59-A940-FA8F4F19B91D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309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A1D5-3F11-49F4-A95D-4616A8678BA7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353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7345-7338-4A1C-89CE-70228FCF390D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22160" y="3414600"/>
            <a:ext cx="777240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e0a57"/>
                </a:solidFill>
                <a:latin typeface="Bookman Old Style"/>
                <a:ea typeface="Times New Roman"/>
              </a:rPr>
              <a:t>Возможности освещения в портрете</a:t>
            </a:r>
            <a:endParaRPr b="1" lang="en-US" sz="48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22160" y="1133280"/>
            <a:ext cx="77724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1e2051"/>
              </a:solidFill>
              <a:latin typeface="Verdana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1042920" y="5232240"/>
            <a:ext cx="712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6.3.23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aleksey_ribnikov_-_vals_tot_samiy_miunhgauzen.mp3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530" name="Group 13"/>
          <p:cNvGrpSpPr/>
          <p:nvPr/>
        </p:nvGrpSpPr>
        <p:grpSpPr>
          <a:xfrm>
            <a:off x="1042920" y="331920"/>
            <a:ext cx="6634080" cy="2698560"/>
            <a:chOff x="1042920" y="331920"/>
            <a:chExt cx="6634080" cy="2698560"/>
          </a:xfrm>
        </p:grpSpPr>
        <p:pic>
          <p:nvPicPr>
            <p:cNvPr id="531" name="Picture 9" descr="Серов ПортерВерочки Мамонтовой"/>
            <p:cNvPicPr/>
            <p:nvPr/>
          </p:nvPicPr>
          <p:blipFill>
            <a:blip r:embed="rId2"/>
            <a:stretch/>
          </p:blipFill>
          <p:spPr>
            <a:xfrm>
              <a:off x="5257800" y="333360"/>
              <a:ext cx="2419200" cy="26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10" descr="Серов Дочь импр Алдра !!!"/>
            <p:cNvPicPr/>
            <p:nvPr/>
          </p:nvPicPr>
          <p:blipFill>
            <a:blip r:embed="rId3"/>
            <a:stretch/>
          </p:blipFill>
          <p:spPr>
            <a:xfrm>
              <a:off x="3130560" y="331920"/>
              <a:ext cx="2111040" cy="26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11" descr="478px-Pukirev_ner_brak"/>
            <p:cNvPicPr/>
            <p:nvPr/>
          </p:nvPicPr>
          <p:blipFill>
            <a:blip r:embed="rId4"/>
            <a:stretch/>
          </p:blipFill>
          <p:spPr>
            <a:xfrm>
              <a:off x="1076040" y="333360"/>
              <a:ext cx="2121120" cy="266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12" descr=""/>
            <p:cNvPicPr/>
            <p:nvPr/>
          </p:nvPicPr>
          <p:blipFill>
            <a:blip r:embed="rId5"/>
            <a:srcRect l="98527" t="0" r="0" b="0"/>
            <a:stretch/>
          </p:blipFill>
          <p:spPr>
            <a:xfrm>
              <a:off x="1042920" y="333360"/>
              <a:ext cx="46080" cy="2678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 -4.81481E-006 L 0 -4.81481E-006 E">
                                      <p:cBhvr>
                                        <p:cTn id="18" dur="5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5" descr="a854710345cf"/>
          <p:cNvPicPr/>
          <p:nvPr/>
        </p:nvPicPr>
        <p:blipFill>
          <a:blip r:embed="rId1"/>
          <a:stretch/>
        </p:blipFill>
        <p:spPr>
          <a:xfrm>
            <a:off x="2241720" y="189000"/>
            <a:ext cx="4491000" cy="583236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6"/>
          <p:cNvSpPr/>
          <p:nvPr/>
        </p:nvSpPr>
        <p:spPr>
          <a:xfrm>
            <a:off x="2124000" y="6093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мбрандт. Возвращение блудного сын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492120" y="15984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3" name="Picture 5" descr="Мурильо"/>
          <p:cNvPicPr/>
          <p:nvPr/>
        </p:nvPicPr>
        <p:blipFill>
          <a:blip r:embed="rId1"/>
          <a:stretch/>
        </p:blipFill>
        <p:spPr>
          <a:xfrm>
            <a:off x="2195640" y="115920"/>
            <a:ext cx="6705360" cy="60958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Лионелло"/>
          <p:cNvPicPr/>
          <p:nvPr/>
        </p:nvPicPr>
        <p:blipFill>
          <a:blip r:embed="rId2"/>
          <a:stretch/>
        </p:blipFill>
        <p:spPr>
          <a:xfrm>
            <a:off x="-757080" y="476280"/>
            <a:ext cx="3333600" cy="43243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7"/>
          <p:cNvSpPr/>
          <p:nvPr/>
        </p:nvSpPr>
        <p:spPr>
          <a:xfrm>
            <a:off x="108000" y="4941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ионелло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2340000" y="630864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урильи. Возвращение блудного сын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6538680" cy="56545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8" descr=""/>
          <p:cNvPicPr/>
          <p:nvPr/>
        </p:nvPicPr>
        <p:blipFill>
          <a:blip r:embed="rId2"/>
          <a:stretch/>
        </p:blipFill>
        <p:spPr>
          <a:xfrm>
            <a:off x="0" y="260280"/>
            <a:ext cx="3708360" cy="3176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"/>
          <p:cNvPicPr/>
          <p:nvPr/>
        </p:nvPicPr>
        <p:blipFill>
          <a:blip r:embed="rId3"/>
          <a:stretch/>
        </p:blipFill>
        <p:spPr>
          <a:xfrm>
            <a:off x="0" y="189000"/>
            <a:ext cx="3708360" cy="3197160"/>
          </a:xfrm>
          <a:prstGeom prst="rect">
            <a:avLst/>
          </a:prstGeom>
          <a:ln w="0">
            <a:noFill/>
          </a:ln>
        </p:spPr>
      </p:pic>
      <p:pic>
        <p:nvPicPr>
          <p:cNvPr id="570" name="aleksey_ribnikov_-_vals_tot_samiy_miunhgauzen.mp3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1b73"/>
                </a:solidFill>
                <a:latin typeface="Bodoni MT"/>
                <a:ea typeface="Times New Roman"/>
              </a:rPr>
              <a:t>К следующему уроку:</a:t>
            </a:r>
            <a:endParaRPr b="1" lang="en-US" sz="32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spcBef>
                <a:spcPts val="499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римеры сатирических                                        образов челове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3" name="Picture 4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1565280" cy="193824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5"/>
          <p:cNvSpPr/>
          <p:nvPr/>
        </p:nvSpPr>
        <p:spPr>
          <a:xfrm>
            <a:off x="324000" y="4724280"/>
            <a:ext cx="266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.Пикасс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ртрет идальг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5580000" y="616572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Х.Бидструп. Бумеранг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8" descr=""/>
          <p:cNvPicPr/>
          <p:nvPr/>
        </p:nvPicPr>
        <p:blipFill>
          <a:blip r:embed="rId2"/>
          <a:stretch/>
        </p:blipFill>
        <p:spPr>
          <a:xfrm>
            <a:off x="2916360" y="1989000"/>
            <a:ext cx="1871640" cy="140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77" name="Text Box 9"/>
          <p:cNvSpPr/>
          <p:nvPr/>
        </p:nvSpPr>
        <p:spPr>
          <a:xfrm>
            <a:off x="2556000" y="357336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.Тулуз-Лотрек. Автопортрет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11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3181320" cy="4581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79" name="Picture 12" descr=""/>
          <p:cNvPicPr/>
          <p:nvPr/>
        </p:nvPicPr>
        <p:blipFill>
          <a:blip r:embed="rId4"/>
          <a:stretch/>
        </p:blipFill>
        <p:spPr>
          <a:xfrm>
            <a:off x="2987640" y="4292640"/>
            <a:ext cx="1838520" cy="1666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Живописное решение характера освещения – важнейшее средство выразительности при создании художественного обра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300" spc="-1" strike="noStrike">
              <a:solidFill>
                <a:srgbClr val="171b73"/>
              </a:solidFill>
              <a:latin typeface="Bodoni MT"/>
              <a:ea typeface="Times New Roman"/>
            </a:endParaRPr>
          </a:p>
        </p:txBody>
      </p:sp>
      <p:pic>
        <p:nvPicPr>
          <p:cNvPr id="537" name="Picture 6" descr="Серов Дочь импр Алдра !!!"/>
          <p:cNvPicPr/>
          <p:nvPr/>
        </p:nvPicPr>
        <p:blipFill>
          <a:blip r:embed="rId1"/>
          <a:stretch/>
        </p:blipFill>
        <p:spPr>
          <a:xfrm>
            <a:off x="682560" y="1600200"/>
            <a:ext cx="3587760" cy="452592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7"/>
          <p:cNvSpPr/>
          <p:nvPr/>
        </p:nvSpPr>
        <p:spPr>
          <a:xfrm>
            <a:off x="4067280" y="6165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.Серов. Портрет дочери Александр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6084720" y="1413000"/>
            <a:ext cx="2374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свет находится перед моделью и светит прямо в лицо, то форма головы уплощается , выделяются только глаза и губы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6084720" y="42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з спокойны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aleksey_ribnikov_-_vals_tot_samiy_miunhgauzen.mp3" descr=""/>
          <p:cNvPicPr/>
          <p:nvPr/>
        </p:nvPicPr>
        <p:blipFill>
          <a:blip r:embed="rId2"/>
          <a:stretch/>
        </p:blipFill>
        <p:spPr>
          <a:xfrm>
            <a:off x="87487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6" descr="478px-Pukirev_ner_brak"/>
          <p:cNvPicPr/>
          <p:nvPr/>
        </p:nvPicPr>
        <p:blipFill>
          <a:blip r:embed="rId1"/>
          <a:stretch/>
        </p:blipFill>
        <p:spPr>
          <a:xfrm>
            <a:off x="611280" y="404640"/>
            <a:ext cx="4244760" cy="532944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611280" y="5877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.Пукирёв. Неравный брак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5219640" y="549360"/>
            <a:ext cx="33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ковой свет выявляет форму, её объём и глубину пространства – образ модели предстаёт наиболее полно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5292720" y="2421000"/>
            <a:ext cx="33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гда источник света находится сзади модели, мы видим её силуэт, а лицо погружается в тень. Все черты и формы при этом смягчаются и приобретают таинственность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300" spc="-1" strike="noStrike">
              <a:solidFill>
                <a:srgbClr val="171b73"/>
              </a:solidFill>
              <a:latin typeface="Bodoni MT"/>
              <a:ea typeface="Times New Roman"/>
            </a:endParaRPr>
          </a:p>
        </p:txBody>
      </p:sp>
      <p:pic>
        <p:nvPicPr>
          <p:cNvPr id="547" name="Picture 6" descr="Серов ПортерВерочки Мамонтовой"/>
          <p:cNvPicPr/>
          <p:nvPr/>
        </p:nvPicPr>
        <p:blipFill>
          <a:blip r:embed="rId1"/>
          <a:stretch/>
        </p:blipFill>
        <p:spPr>
          <a:xfrm>
            <a:off x="457200" y="1611360"/>
            <a:ext cx="4038480" cy="45036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3780000" y="609300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.Серов. Портрет Верочки Мамонтово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aleksey_ribnikov_-_vals_tot_samiy_miunhgauzen.mp3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300" spc="-1" strike="noStrike">
              <a:solidFill>
                <a:srgbClr val="171b73"/>
              </a:solidFill>
              <a:latin typeface="Bodoni MT"/>
              <a:ea typeface="Times New Roman"/>
            </a:endParaRPr>
          </a:p>
        </p:txBody>
      </p:sp>
      <p:pic>
        <p:nvPicPr>
          <p:cNvPr id="551" name="Picture 6" descr="Суриков портр дочери"/>
          <p:cNvPicPr/>
          <p:nvPr/>
        </p:nvPicPr>
        <p:blipFill>
          <a:blip r:embed="rId1"/>
          <a:stretch/>
        </p:blipFill>
        <p:spPr>
          <a:xfrm>
            <a:off x="1893960" y="404640"/>
            <a:ext cx="4429080" cy="572148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7"/>
          <p:cNvSpPr/>
          <p:nvPr/>
        </p:nvSpPr>
        <p:spPr>
          <a:xfrm>
            <a:off x="1763640" y="616572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.И.Суриков. Портрет дочер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300" spc="-1" strike="noStrike">
              <a:solidFill>
                <a:srgbClr val="171b73"/>
              </a:solidFill>
              <a:latin typeface="Bodoni MT"/>
              <a:ea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5" name="Picture 4" descr=""/>
          <p:cNvPicPr/>
          <p:nvPr/>
        </p:nvPicPr>
        <p:blipFill>
          <a:blip r:embed="rId1"/>
          <a:stretch/>
        </p:blipFill>
        <p:spPr>
          <a:xfrm>
            <a:off x="1476360" y="1573200"/>
            <a:ext cx="6218280" cy="4238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5" descr="Рембр Христос в Эммаусе"/>
          <p:cNvPicPr/>
          <p:nvPr/>
        </p:nvPicPr>
        <p:blipFill>
          <a:blip r:embed="rId1"/>
          <a:stretch/>
        </p:blipFill>
        <p:spPr>
          <a:xfrm>
            <a:off x="1314360" y="304920"/>
            <a:ext cx="6513480" cy="58212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6"/>
          <p:cNvSpPr/>
          <p:nvPr/>
        </p:nvSpPr>
        <p:spPr>
          <a:xfrm>
            <a:off x="1332000" y="616572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мбрандт. Христос в Эммаусе. 1628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5" descr="Караваджо Ужин в Эмммаусе"/>
          <p:cNvPicPr/>
          <p:nvPr/>
        </p:nvPicPr>
        <p:blipFill>
          <a:blip r:embed="rId1"/>
          <a:stretch/>
        </p:blipFill>
        <p:spPr>
          <a:xfrm>
            <a:off x="900000" y="620640"/>
            <a:ext cx="7437600" cy="50580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6"/>
          <p:cNvSpPr/>
          <p:nvPr/>
        </p:nvSpPr>
        <p:spPr>
          <a:xfrm>
            <a:off x="900000" y="573408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раваджо. Ужин в Эммаус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7:24:40Z</dcterms:created>
  <dc:creator>Алекс</dc:creator>
  <dc:description/>
  <dc:language>en-US</dc:language>
  <cp:lastModifiedBy>Olga</cp:lastModifiedBy>
  <dcterms:modified xsi:type="dcterms:W3CDTF">2015-03-09T05:38:45Z</dcterms:modified>
  <cp:revision>25</cp:revision>
  <dc:subject/>
  <dc:title>Слайд 1</dc:title>
</cp:coreProperties>
</file>