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44.jpeg" ContentType="image/jpeg"/>
  <Override PartName="/ppt/media/image3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5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42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12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25.jpeg" ContentType="image/jpeg"/>
  <Override PartName="/ppt/media/image32.png" ContentType="image/png"/>
  <Override PartName="/ppt/media/image5.jpeg" ContentType="image/jpeg"/>
  <Override PartName="/ppt/media/image36.jpeg" ContentType="image/jpeg"/>
  <Override PartName="/ppt/media/image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4D0-62A3-4773-89BE-449C1AE6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BA2-30B4-4B10-826C-01C2DC9C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E9AC-4BF8-42D3-BA0E-2B8A2AD6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282-3E7C-400B-9128-79648F56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B892-03D6-46F7-9D20-1D6EAD4F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30CF-3E19-4788-B65A-9F2E9D25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B8E5-40D8-412D-B7E9-78E6C9BE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D760-1C77-4D7C-AF5A-76D551D0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E2DC-507E-4203-8A03-33F1790A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2492-3F30-4C4E-AD22-A6724360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D978-5853-41B7-9560-390478C2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276-5E6D-4ABD-9096-9884FE20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AC3D-0515-49C4-806F-ACAC9F5D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22B2-3E4B-4B84-8D69-DD3F1D77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A893-9BC8-484F-A2A2-C2E45EFE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98FF-0FAB-461C-8A3B-D0C98A20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BC41-D9E7-4EE2-B267-48E60044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8B45F-64B4-46D6-AB80-CED0A7D1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7A2FF-1420-4474-A2E7-9E7FFECF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1BC7B-91D7-448B-AEF2-235AA938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2B6A4-4610-440F-99A8-74CB0239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514AD-6C90-4F0E-9381-8793FACB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FA1-3E1F-4875-A2A0-7C0D672A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EDFF1-752E-4805-B274-A0D183D0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61B45-647D-4F60-B0FB-68FFFC2B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EDE31-77F4-4A17-83BF-9F33FC75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E2245-9818-4DAB-8CC4-86A0A90A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002CF-2B33-41B3-81A8-2661686D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48792A-3A6F-480A-A7EE-97C0BBA2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419BC-0880-41FD-9465-535A30B1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B5982-3CCC-491F-8E7A-6766FDBF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47515-A3A2-443C-9FB0-B4DB3F74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613F2-7C1D-4BDC-9F35-4B1BA8C3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F475-2972-487F-84B2-8E421984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DFD63-93FB-40A9-BD38-286780F0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9A94D-3796-451F-8046-1CA1DBED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47E74-2FE8-4CDB-BA8C-C3587DF9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90D19-A2AD-4DBD-B008-C8734865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00CC3-A67C-4DBC-948E-20DF7007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86DE3-632C-4FB4-BE98-F015B5E4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09CE8-6A32-482B-8FAB-3A4FDF38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F73D6-9F82-4B67-A03B-4573A03F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3A69E-27AA-41FC-8C66-0F0D21F8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BE2D-2CC8-47C7-8D21-A7279C17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71E-743E-4CA3-87EE-D0B9A3DD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58F4-C934-40FB-9285-2044739E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F7E-7F45-4541-A2AD-4516E8EA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02F4-6174-45C3-A8A2-5D9DAEA5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D775-E3E6-4262-BC95-2B09A4F8412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E68C-0E5C-4EBD-82BE-D14A0C827CE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6686-9A41-42B0-A5E7-CD11AB454F9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1F20-F283-49E6-B7AA-F03652F4164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135720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  <a:ea typeface="BM spiral Cap Cyr"/>
              </a:rPr>
              <a:t>«Деньги. Денежные знаки»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428720" y="3789360"/>
            <a:ext cx="442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дготовительная групп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спитатель: Алабугина Оксана Валерие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676440" y="341280"/>
            <a:ext cx="7785000" cy="89712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755640" y="1285560"/>
            <a:ext cx="6959520" cy="13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Бумажные купюры выпускаются разного достоинства, на них изображены достопримечательности нашей страны и известные личности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2" name="Picture 12" descr="https://upload.wikimedia.org/wikipedia/commons/thumb/7/70/Banknote_10_rubles_%281997%29_front.jpg/1920px-Banknote_10_rubles_%281997%29_front.jpg"/>
          <p:cNvPicPr/>
          <p:nvPr/>
        </p:nvPicPr>
        <p:blipFill>
          <a:blip r:embed="rId2"/>
          <a:stretch/>
        </p:blipFill>
        <p:spPr>
          <a:xfrm>
            <a:off x="1187280" y="2924280"/>
            <a:ext cx="3097440" cy="13366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https://upload.wikimedia.org/wikipedia/commons/9/91/Banknote_50_rubles_%281997%29_front.jpg"/>
          <p:cNvPicPr/>
          <p:nvPr/>
        </p:nvPicPr>
        <p:blipFill>
          <a:blip r:embed="rId3"/>
          <a:stretch/>
        </p:blipFill>
        <p:spPr>
          <a:xfrm>
            <a:off x="1187280" y="4429080"/>
            <a:ext cx="3097440" cy="1362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6" descr="https://upload.wikimedia.org/wikipedia/commons/b/bc/Banknote_100_rubles_%281997%29_front.jpg"/>
          <p:cNvPicPr/>
          <p:nvPr/>
        </p:nvPicPr>
        <p:blipFill>
          <a:blip r:embed="rId4"/>
          <a:stretch/>
        </p:blipFill>
        <p:spPr>
          <a:xfrm>
            <a:off x="4932360" y="2940120"/>
            <a:ext cx="3033720" cy="1334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8" descr="https://upload.wikimedia.org/wikipedia/commons/thumb/8/8c/Banknote_500_rubles_%281997%29_front.jpg/1920px-Banknote_500_rubles_%281997%29_front.jpg"/>
          <p:cNvPicPr/>
          <p:nvPr/>
        </p:nvPicPr>
        <p:blipFill>
          <a:blip r:embed="rId5"/>
          <a:stretch/>
        </p:blipFill>
        <p:spPr>
          <a:xfrm>
            <a:off x="4932360" y="4481640"/>
            <a:ext cx="29084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676440" y="341280"/>
            <a:ext cx="7785000" cy="8971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84360" y="1214280"/>
            <a:ext cx="7245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28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На бумажных знаках РФ изображены: 10 руб. – мост через Енисей в Красноярске; на 50 руб.- скульптура Ростральной колонны в Петербурге; на 100 руб. – Большой театр в Москве; на 500 руб. – памятник Петру 1 в Архангельске; на 1000 руб. – памятник Ярославу Мудрому в Ярославле; на 5000 руб. – памятник Муравьеву-Амурскому в Хабаровске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8" name="Picture 8" descr="https://upload.wikimedia.org/wikipedia/commons/thumb/d/d9/Banknote_1000_rubles_%281997%29_front.jpg/1920px-Banknote_1000_rubles_%281997%29_front.jpg"/>
          <p:cNvPicPr/>
          <p:nvPr/>
        </p:nvPicPr>
        <p:blipFill>
          <a:blip r:embed="rId2"/>
          <a:stretch/>
        </p:blipFill>
        <p:spPr>
          <a:xfrm>
            <a:off x="1258920" y="3916440"/>
            <a:ext cx="2881440" cy="1251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https://upload.wikimedia.org/wikipedia/commons/thumb/e/e3/Banknote_5000_rubles_%281997%29_front.jpg/1920px-Banknote_5000_rubles_%281997%29_front.jpg"/>
          <p:cNvPicPr/>
          <p:nvPr/>
        </p:nvPicPr>
        <p:blipFill>
          <a:blip r:embed="rId3"/>
          <a:stretch/>
        </p:blipFill>
        <p:spPr>
          <a:xfrm>
            <a:off x="4859280" y="3916440"/>
            <a:ext cx="28814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676440" y="817560"/>
            <a:ext cx="7785000" cy="1389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Цивилизации и культура &quot; uaisp.ru - Фото катастроф, Фен Шуй, Вселенная, Тусовка знаменитостей, Цивилизации и культура, Философия"/>
          <p:cNvPicPr/>
          <p:nvPr/>
        </p:nvPicPr>
        <p:blipFill>
          <a:blip r:embed="rId2"/>
          <a:stretch/>
        </p:blipFill>
        <p:spPr>
          <a:xfrm>
            <a:off x="839880" y="2363760"/>
            <a:ext cx="2354040" cy="1596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Коммунисты предложили снизить цены на хлеб и электроэнергию - Политика - NewsUkraine"/>
          <p:cNvPicPr/>
          <p:nvPr/>
        </p:nvPicPr>
        <p:blipFill>
          <a:blip r:embed="rId3"/>
          <a:stretch/>
        </p:blipFill>
        <p:spPr>
          <a:xfrm>
            <a:off x="3492360" y="2381400"/>
            <a:ext cx="2028960" cy="1596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Фотобанк ClipArtBank.ru,продажа лицензионных фотографий в России Русский фотосток,фотоклипарт российский.Купить лицензионные фот"/>
          <p:cNvPicPr/>
          <p:nvPr/>
        </p:nvPicPr>
        <p:blipFill>
          <a:blip r:embed="rId4"/>
          <a:stretch/>
        </p:blipFill>
        <p:spPr>
          <a:xfrm>
            <a:off x="5796000" y="2346480"/>
            <a:ext cx="2446200" cy="1631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Лента записей из дневника блогера Пингвинутый на всю голову. Страница 97 :: BlogRider.ru"/>
          <p:cNvPicPr/>
          <p:nvPr/>
        </p:nvPicPr>
        <p:blipFill>
          <a:blip r:embed="rId5"/>
          <a:stretch/>
        </p:blipFill>
        <p:spPr>
          <a:xfrm>
            <a:off x="1835280" y="410688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Новости &quot; Страница 38 &quot; TechCUBE - Свежие новости мира высоких технологий"/>
          <p:cNvPicPr/>
          <p:nvPr/>
        </p:nvPicPr>
        <p:blipFill>
          <a:blip r:embed="rId6"/>
          <a:stretch/>
        </p:blipFill>
        <p:spPr>
          <a:xfrm>
            <a:off x="4748040" y="4081320"/>
            <a:ext cx="25927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676440" y="890640"/>
            <a:ext cx="7785000" cy="13888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7561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Можно обменяться или купить за деньги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4" name="Picture 2" descr="дети обмениваются игрушками &quot; Мамин Интерес"/>
          <p:cNvPicPr/>
          <p:nvPr/>
        </p:nvPicPr>
        <p:blipFill>
          <a:blip r:embed="rId2"/>
          <a:stretch/>
        </p:blipFill>
        <p:spPr>
          <a:xfrm>
            <a:off x="571680" y="3000240"/>
            <a:ext cx="3827160" cy="2687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Как купить автомобиль и &quot;не сесть в галошу&quot; Автосервис Механика г.Киров"/>
          <p:cNvPicPr/>
          <p:nvPr/>
        </p:nvPicPr>
        <p:blipFill>
          <a:blip r:embed="rId3"/>
          <a:stretch/>
        </p:blipFill>
        <p:spPr>
          <a:xfrm>
            <a:off x="4286160" y="2755800"/>
            <a:ext cx="374184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676440" y="901800"/>
            <a:ext cx="7785000" cy="13906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55640" y="42876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Деньги – это то, что используют люди для покупки нужных вещей и предметов. Это то, что они получают за свой труд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2" descr="CHEB.net: Работникам культуры в Чувашии в этом году поднимут зарплату за счет объединения организаций и сокращения сотрудников -"/>
          <p:cNvPicPr/>
          <p:nvPr/>
        </p:nvPicPr>
        <p:blipFill>
          <a:blip r:embed="rId2"/>
          <a:stretch/>
        </p:blipFill>
        <p:spPr>
          <a:xfrm>
            <a:off x="1428840" y="3357720"/>
            <a:ext cx="6381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573120" y="828720"/>
            <a:ext cx="7997760" cy="9698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57120" y="2133720"/>
            <a:ext cx="7786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2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Много лет назад бумажных и металлических денег не было. Для получения нужных товаров люди обменивались на то, что ценилось. Вместо денег использовали: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1" name="Picture 2" descr="Самогон рисовый Supersadovod - о саде и огороде просто и интересно"/>
          <p:cNvPicPr/>
          <p:nvPr/>
        </p:nvPicPr>
        <p:blipFill>
          <a:blip r:embed="rId2"/>
          <a:stretch/>
        </p:blipFill>
        <p:spPr>
          <a:xfrm>
            <a:off x="876240" y="3141720"/>
            <a:ext cx="2090880" cy="1338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Павлодар Электронный город"/>
          <p:cNvPicPr/>
          <p:nvPr/>
        </p:nvPicPr>
        <p:blipFill>
          <a:blip r:embed="rId3"/>
          <a:stretch/>
        </p:blipFill>
        <p:spPr>
          <a:xfrm>
            <a:off x="6084720" y="3084480"/>
            <a:ext cx="2028960" cy="1352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чему в морской ракушке слышно как шумят волны?"/>
          <p:cNvPicPr/>
          <p:nvPr/>
        </p:nvPicPr>
        <p:blipFill>
          <a:blip r:embed="rId4"/>
          <a:stretch/>
        </p:blipFill>
        <p:spPr>
          <a:xfrm>
            <a:off x="3606840" y="309564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Обучение стилиста. Клуб, как стать стилистом."/>
          <p:cNvPicPr/>
          <p:nvPr/>
        </p:nvPicPr>
        <p:blipFill>
          <a:blip r:embed="rId5"/>
          <a:stretch/>
        </p:blipFill>
        <p:spPr>
          <a:xfrm>
            <a:off x="1925640" y="4668840"/>
            <a:ext cx="1616040" cy="1292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Что подарить девушке на 8 марта - 16 Ноября 2013 - Блог - Интересно в Жизне"/>
          <p:cNvPicPr/>
          <p:nvPr/>
        </p:nvPicPr>
        <p:blipFill>
          <a:blip r:embed="rId6"/>
          <a:stretch/>
        </p:blipFill>
        <p:spPr>
          <a:xfrm>
            <a:off x="3949560" y="4613400"/>
            <a:ext cx="1114560" cy="1404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Грецкий орех - Flavour Art - Электронные сигареты и жидкости в Иваново"/>
          <p:cNvPicPr/>
          <p:nvPr/>
        </p:nvPicPr>
        <p:blipFill>
          <a:blip r:embed="rId7"/>
          <a:stretch/>
        </p:blipFill>
        <p:spPr>
          <a:xfrm>
            <a:off x="5514840" y="4668840"/>
            <a:ext cx="171792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676440" y="133200"/>
            <a:ext cx="7785000" cy="11052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4000" y="1000080"/>
            <a:ext cx="7459560" cy="19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Сначала на Руси использовали заграничные монеты, а потом стали чеканить свои – гривны. Гривну можно было разрубить на несколько частей и получить монеты меньшего достоинства. От слова «рубить» и появилось современное название РУБЛЬ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9" name="Picture 2" descr="Дирхемы Орды.Ханы разные.(до 15.07.12 в 22:00) - Форум Нумизмат.ru - все о нумизматике, монетах и нумизматах"/>
          <p:cNvPicPr/>
          <p:nvPr/>
        </p:nvPicPr>
        <p:blipFill>
          <a:blip r:embed="rId2"/>
          <a:stretch/>
        </p:blipFill>
        <p:spPr>
          <a:xfrm>
            <a:off x="1042920" y="3127320"/>
            <a:ext cx="2678040" cy="2631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codexmartialis.com * View topic - Medieval Polish Government"/>
          <p:cNvPicPr/>
          <p:nvPr/>
        </p:nvPicPr>
        <p:blipFill>
          <a:blip r:embed="rId3"/>
          <a:stretch/>
        </p:blipFill>
        <p:spPr>
          <a:xfrm>
            <a:off x="3851280" y="2982960"/>
            <a:ext cx="2405160" cy="1460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Коллекции и коллекционеры Лев и солнце"/>
          <p:cNvPicPr/>
          <p:nvPr/>
        </p:nvPicPr>
        <p:blipFill>
          <a:blip r:embed="rId4"/>
          <a:stretch/>
        </p:blipFill>
        <p:spPr>
          <a:xfrm>
            <a:off x="5724360" y="4443480"/>
            <a:ext cx="2484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828720"/>
            <a:ext cx="7785000" cy="8967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Но долгое время основной являлась единицей расчета оставалась копейка – маленькая серебряная монета с изображением всадника с копьем. Отсюда и ее название – КОПЕЙК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Picture 2" descr="Форум для : 478 лет назад в денежном обращении появилась копейка."/>
          <p:cNvPicPr/>
          <p:nvPr/>
        </p:nvPicPr>
        <p:blipFill>
          <a:blip r:embed="rId2"/>
          <a:stretch/>
        </p:blipFill>
        <p:spPr>
          <a:xfrm>
            <a:off x="900000" y="3417840"/>
            <a:ext cx="3527640" cy="2567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LanZone"/>
          <p:cNvPicPr/>
          <p:nvPr/>
        </p:nvPicPr>
        <p:blipFill>
          <a:blip r:embed="rId3"/>
          <a:stretch/>
        </p:blipFill>
        <p:spPr>
          <a:xfrm>
            <a:off x="4670280" y="3354480"/>
            <a:ext cx="349884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828720"/>
            <a:ext cx="7785000" cy="8967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06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Бумажные банкноты появились значительно позже и понемногу начали вытеснять своих металлических собратьев, так как были дешевле по производству и удобнее в обороте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8" name="Picture 2" descr="5 рублей, 1890, копия, типографское качество / Аукцион 240 /…"/>
          <p:cNvPicPr/>
          <p:nvPr/>
        </p:nvPicPr>
        <p:blipFill>
          <a:blip r:embed="rId2"/>
          <a:stretch/>
        </p:blipFill>
        <p:spPr>
          <a:xfrm>
            <a:off x="971640" y="2924280"/>
            <a:ext cx="3371760" cy="2070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10 рублей, 1918 / Аукцион 136 / БУМАЖНЫЕ ДЕНЬГИ (БОНЫ) * Россия 1917 - 1991 / Код 19573 - Нумизматический аукцион. Покупка, прод"/>
          <p:cNvPicPr/>
          <p:nvPr/>
        </p:nvPicPr>
        <p:blipFill>
          <a:blip r:embed="rId3"/>
          <a:stretch/>
        </p:blipFill>
        <p:spPr>
          <a:xfrm>
            <a:off x="4890960" y="3716280"/>
            <a:ext cx="32194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676440" y="285840"/>
            <a:ext cx="7785000" cy="7999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84360" y="928440"/>
            <a:ext cx="731664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В современной России люди пользуются как металлическими, так и бумажными деньгами. А называются они, как и много лет назад – КОПЕЙКА и РУБЛЬ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2" name="Picture 6" descr="Ижевчане могут заработать до 100 тысяч рублей на 50-копеечных монетах &quot; Новости Ижевска и Удмуртии, новости России и мира - на с"/>
          <p:cNvPicPr/>
          <p:nvPr/>
        </p:nvPicPr>
        <p:blipFill>
          <a:blip r:embed="rId2"/>
          <a:stretch/>
        </p:blipFill>
        <p:spPr>
          <a:xfrm>
            <a:off x="4427640" y="2938320"/>
            <a:ext cx="1625400" cy="1629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2 рубля"/>
          <p:cNvPicPr/>
          <p:nvPr/>
        </p:nvPicPr>
        <p:blipFill>
          <a:blip r:embed="rId3"/>
          <a:stretch/>
        </p:blipFill>
        <p:spPr>
          <a:xfrm>
            <a:off x="2771640" y="292572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Фото - ИЩУ МОНЕТЫ 10 рублевые - Dirgo"/>
          <p:cNvPicPr/>
          <p:nvPr/>
        </p:nvPicPr>
        <p:blipFill>
          <a:blip r:embed="rId4"/>
          <a:stretch/>
        </p:blipFill>
        <p:spPr>
          <a:xfrm>
            <a:off x="6372360" y="2965320"/>
            <a:ext cx="1576080" cy="1576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4" descr="1 рубль - это особая монета. Он не так прост, и не так дешев…"/>
          <p:cNvPicPr/>
          <p:nvPr/>
        </p:nvPicPr>
        <p:blipFill>
          <a:blip r:embed="rId5"/>
          <a:stretch/>
        </p:blipFill>
        <p:spPr>
          <a:xfrm>
            <a:off x="1244520" y="29653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6" descr="Экспертиза наличных денежных средств, определение платежеспо…"/>
          <p:cNvPicPr/>
          <p:nvPr/>
        </p:nvPicPr>
        <p:blipFill>
          <a:blip r:embed="rId6"/>
          <a:stretch/>
        </p:blipFill>
        <p:spPr>
          <a:xfrm>
            <a:off x="1449360" y="4843440"/>
            <a:ext cx="784080" cy="784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8" descr="Факты о России : Факты с фильтрацией по метке монеты"/>
          <p:cNvPicPr/>
          <p:nvPr/>
        </p:nvPicPr>
        <p:blipFill>
          <a:blip r:embed="rId7"/>
          <a:stretch/>
        </p:blipFill>
        <p:spPr>
          <a:xfrm>
            <a:off x="2905200" y="47480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0" descr="Продам 10 копеек 2003г - 10 000 руб. объявление в Иркутске"/>
          <p:cNvPicPr/>
          <p:nvPr/>
        </p:nvPicPr>
        <p:blipFill>
          <a:blip r:embed="rId8"/>
          <a:stretch/>
        </p:blipFill>
        <p:spPr>
          <a:xfrm>
            <a:off x="4643280" y="4759200"/>
            <a:ext cx="1195560" cy="1176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" descr="Ищу работу на ЗП не менее 200 р. в час - Страница 4 - Ищу - Автофорум Ростова-на-Дону"/>
          <p:cNvPicPr/>
          <p:nvPr/>
        </p:nvPicPr>
        <p:blipFill>
          <a:blip r:embed="rId9"/>
          <a:stretch/>
        </p:blipFill>
        <p:spPr>
          <a:xfrm>
            <a:off x="6372360" y="4532400"/>
            <a:ext cx="15303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13:14:53Z</dcterms:created>
  <dc:creator>123</dc:creator>
  <dc:description/>
  <dc:language>en-US</dc:language>
  <cp:lastModifiedBy>ДС №35</cp:lastModifiedBy>
  <dcterms:modified xsi:type="dcterms:W3CDTF">2023-01-24T02:36:13Z</dcterms:modified>
  <cp:revision>25</cp:revision>
  <dc:subject/>
  <dc:title>Слайд 1</dc:title>
</cp:coreProperties>
</file>