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44.jpeg" ContentType="image/jpeg"/>
  <Override PartName="/ppt/media/image3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5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42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12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25.jpeg" ContentType="image/jpeg"/>
  <Override PartName="/ppt/media/image32.png" ContentType="image/png"/>
  <Override PartName="/ppt/media/image5.jpeg" ContentType="image/jpeg"/>
  <Override PartName="/ppt/media/image36.jpeg" ContentType="image/jpeg"/>
  <Override PartName="/ppt/media/image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174F-6C3C-4436-B005-0517FEAA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CB2E-1AB6-4F83-9DAC-236489BA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A1E7-D493-4263-826B-40400A08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94EB-6E97-446F-8B1F-361BA9A8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59C0-D942-41EE-914D-72B8D080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4904-231D-461F-AAAE-A4CD384F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172B-FF0E-451A-8E10-43D9B31E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D539-4F3D-4C08-8667-9FD7D459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AB32-B754-47DD-A085-FDAA6EE2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4D24-4082-4060-9A5F-91F3AA68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C240-5756-45E6-BBE4-E742D815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6F26-7DA6-45E2-BB90-D7527CB9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3F7E-DA8C-4708-8294-296A47B9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7C1F-4076-4945-9B53-BC148073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97EB-7281-4F2B-8CC4-17CDCD5E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B109-860B-49CA-9F45-4F71A977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7246-F17A-47A9-B350-EABD0DC7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2DC5B-0965-4531-99B8-AB095A7F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C0EF0-6BBB-41D5-BEB6-4DFCD096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BEF33-3C29-41A1-B57F-1B2557EF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96DE2-805A-46E5-B244-C11552B9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C9C058-BC6A-471C-8CBF-EDD53570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4ED-4768-47AF-815F-1640DFAC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DD047-37EE-4199-ADC2-85CA92BE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BCCF3-D30E-45CA-9B6A-5F33E03A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A2374-6F5F-46CA-A2FE-F5E31D3F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6A5A0-628A-462F-ACED-D6EE641F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2F3F5-02E1-473C-8830-6981B233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2894BB-00F2-4789-9829-8EAFECCB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1571A-BD23-468D-9733-166C0974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728BB-1960-48F6-8791-69D3A828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26B12-7693-4DA8-926D-539AB9EA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E7045-6841-46BB-AD37-24D66C5E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5374-76B0-4178-8080-529F0E7D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9A585-E620-4173-BFDF-F21DCA84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60183-90DA-46A6-A704-00F4B151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95E4C-38D3-4656-BC43-9881D0A0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83038-B173-422F-BAD2-C88501D2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CCA40-36FD-4101-999A-241A7F81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58DF2-290E-4B45-9847-2D56779A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53827-B470-4EAE-A26D-ECFAFA08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F70F9-CFC7-41BB-A82A-B4E81054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A1A39-9AE0-4686-BCC1-8470D1B1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ADBA-AFD4-49B3-BA2F-C2888A73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50CD-2A30-4207-969E-18538A74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BBBE-E7C2-4666-A865-363721A7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C8F7-D86C-4AA8-9AEC-F9449DA1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ACF-CD52-4127-ABC3-2FA9B2E3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4562-CC2E-4B7A-ABD0-277583ACB19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DA93-BC68-4166-9DF1-41F996E7B8C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EBA7-E4D7-4726-A629-39B24DDACC7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6320-2B74-4049-8196-3F502EF4E9A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135720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  <a:ea typeface="BM spiral Cap Cyr"/>
              </a:rPr>
              <a:t>«Деньги. Денежные знаки»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428720" y="3789360"/>
            <a:ext cx="442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дготовительная групп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спитатель: Алабугина Оксана Валерие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676440" y="341280"/>
            <a:ext cx="7785000" cy="89712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755640" y="1285560"/>
            <a:ext cx="6959520" cy="13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Бумажные купюры выпускаются разного достоинства, на них изображены достопримечательности нашей страны и известные личности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2" name="Picture 12" descr="https://upload.wikimedia.org/wikipedia/commons/thumb/7/70/Banknote_10_rubles_%281997%29_front.jpg/1920px-Banknote_10_rubles_%281997%29_front.jpg"/>
          <p:cNvPicPr/>
          <p:nvPr/>
        </p:nvPicPr>
        <p:blipFill>
          <a:blip r:embed="rId2"/>
          <a:stretch/>
        </p:blipFill>
        <p:spPr>
          <a:xfrm>
            <a:off x="1187280" y="2924280"/>
            <a:ext cx="3097440" cy="13366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https://upload.wikimedia.org/wikipedia/commons/9/91/Banknote_50_rubles_%281997%29_front.jpg"/>
          <p:cNvPicPr/>
          <p:nvPr/>
        </p:nvPicPr>
        <p:blipFill>
          <a:blip r:embed="rId3"/>
          <a:stretch/>
        </p:blipFill>
        <p:spPr>
          <a:xfrm>
            <a:off x="1187280" y="4429080"/>
            <a:ext cx="3097440" cy="1362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6" descr="https://upload.wikimedia.org/wikipedia/commons/b/bc/Banknote_100_rubles_%281997%29_front.jpg"/>
          <p:cNvPicPr/>
          <p:nvPr/>
        </p:nvPicPr>
        <p:blipFill>
          <a:blip r:embed="rId4"/>
          <a:stretch/>
        </p:blipFill>
        <p:spPr>
          <a:xfrm>
            <a:off x="4932360" y="2940120"/>
            <a:ext cx="3033720" cy="1334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8" descr="https://upload.wikimedia.org/wikipedia/commons/thumb/8/8c/Banknote_500_rubles_%281997%29_front.jpg/1920px-Banknote_500_rubles_%281997%29_front.jpg"/>
          <p:cNvPicPr/>
          <p:nvPr/>
        </p:nvPicPr>
        <p:blipFill>
          <a:blip r:embed="rId5"/>
          <a:stretch/>
        </p:blipFill>
        <p:spPr>
          <a:xfrm>
            <a:off x="4932360" y="4481640"/>
            <a:ext cx="29084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676440" y="341280"/>
            <a:ext cx="7785000" cy="8971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84360" y="1214280"/>
            <a:ext cx="7245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28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На бумажных знаках РФ изображены: 10 руб. – мост через Енисей в Красноярске; на 50 руб.- скульптура Ростральной колонны в Петербурге; на 100 руб. – Большой театр в Москве; на 500 руб. – памятник Петру 1 в Архангельске; на 1000 руб. – памятник Ярославу Мудрому в Ярославле; на 5000 руб. – памятник Муравьеву-Амурскому в Хабаровске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8" name="Picture 8" descr="https://upload.wikimedia.org/wikipedia/commons/thumb/d/d9/Banknote_1000_rubles_%281997%29_front.jpg/1920px-Banknote_1000_rubles_%281997%29_front.jpg"/>
          <p:cNvPicPr/>
          <p:nvPr/>
        </p:nvPicPr>
        <p:blipFill>
          <a:blip r:embed="rId2"/>
          <a:stretch/>
        </p:blipFill>
        <p:spPr>
          <a:xfrm>
            <a:off x="1258920" y="3916440"/>
            <a:ext cx="2881440" cy="1251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https://upload.wikimedia.org/wikipedia/commons/thumb/e/e3/Banknote_5000_rubles_%281997%29_front.jpg/1920px-Banknote_5000_rubles_%281997%29_front.jpg"/>
          <p:cNvPicPr/>
          <p:nvPr/>
        </p:nvPicPr>
        <p:blipFill>
          <a:blip r:embed="rId3"/>
          <a:stretch/>
        </p:blipFill>
        <p:spPr>
          <a:xfrm>
            <a:off x="4859280" y="3916440"/>
            <a:ext cx="28814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676440" y="817560"/>
            <a:ext cx="7785000" cy="1389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Цивилизации и культура &quot; uaisp.ru - Фото катастроф, Фен Шуй, Вселенная, Тусовка знаменитостей, Цивилизации и культура, Философия"/>
          <p:cNvPicPr/>
          <p:nvPr/>
        </p:nvPicPr>
        <p:blipFill>
          <a:blip r:embed="rId2"/>
          <a:stretch/>
        </p:blipFill>
        <p:spPr>
          <a:xfrm>
            <a:off x="839880" y="2363760"/>
            <a:ext cx="2354040" cy="1596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Коммунисты предложили снизить цены на хлеб и электроэнергию - Политика - NewsUkraine"/>
          <p:cNvPicPr/>
          <p:nvPr/>
        </p:nvPicPr>
        <p:blipFill>
          <a:blip r:embed="rId3"/>
          <a:stretch/>
        </p:blipFill>
        <p:spPr>
          <a:xfrm>
            <a:off x="3492360" y="2381400"/>
            <a:ext cx="2028960" cy="1596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Фотобанк ClipArtBank.ru,продажа лицензионных фотографий в России Русский фотосток,фотоклипарт российский.Купить лицензионные фот"/>
          <p:cNvPicPr/>
          <p:nvPr/>
        </p:nvPicPr>
        <p:blipFill>
          <a:blip r:embed="rId4"/>
          <a:stretch/>
        </p:blipFill>
        <p:spPr>
          <a:xfrm>
            <a:off x="5796000" y="2346480"/>
            <a:ext cx="2446200" cy="1631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Лента записей из дневника блогера Пингвинутый на всю голову. Страница 97 :: BlogRider.ru"/>
          <p:cNvPicPr/>
          <p:nvPr/>
        </p:nvPicPr>
        <p:blipFill>
          <a:blip r:embed="rId5"/>
          <a:stretch/>
        </p:blipFill>
        <p:spPr>
          <a:xfrm>
            <a:off x="1835280" y="410688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Новости &quot; Страница 38 &quot; TechCUBE - Свежие новости мира высоких технологий"/>
          <p:cNvPicPr/>
          <p:nvPr/>
        </p:nvPicPr>
        <p:blipFill>
          <a:blip r:embed="rId6"/>
          <a:stretch/>
        </p:blipFill>
        <p:spPr>
          <a:xfrm>
            <a:off x="4748040" y="4081320"/>
            <a:ext cx="25927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676440" y="890640"/>
            <a:ext cx="7785000" cy="13888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7561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Можно обменяться или купить за деньги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4" name="Picture 2" descr="дети обмениваются игрушками &quot; Мамин Интерес"/>
          <p:cNvPicPr/>
          <p:nvPr/>
        </p:nvPicPr>
        <p:blipFill>
          <a:blip r:embed="rId2"/>
          <a:stretch/>
        </p:blipFill>
        <p:spPr>
          <a:xfrm>
            <a:off x="571680" y="3000240"/>
            <a:ext cx="3827160" cy="2687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Как купить автомобиль и &quot;не сесть в галошу&quot; Автосервис Механика г.Киров"/>
          <p:cNvPicPr/>
          <p:nvPr/>
        </p:nvPicPr>
        <p:blipFill>
          <a:blip r:embed="rId3"/>
          <a:stretch/>
        </p:blipFill>
        <p:spPr>
          <a:xfrm>
            <a:off x="4286160" y="2755800"/>
            <a:ext cx="374184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676440" y="901800"/>
            <a:ext cx="7785000" cy="13906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55640" y="42876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Деньги – это то, что используют люди для покупки нужных вещей и предметов. Это то, что они получают за свой труд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2" descr="CHEB.net: Работникам культуры в Чувашии в этом году поднимут зарплату за счет объединения организаций и сокращения сотрудников -"/>
          <p:cNvPicPr/>
          <p:nvPr/>
        </p:nvPicPr>
        <p:blipFill>
          <a:blip r:embed="rId2"/>
          <a:stretch/>
        </p:blipFill>
        <p:spPr>
          <a:xfrm>
            <a:off x="1428840" y="3357720"/>
            <a:ext cx="6381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573120" y="828720"/>
            <a:ext cx="7997760" cy="9698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57120" y="2133720"/>
            <a:ext cx="7786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2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Много лет назад бумажных и металлических денег не было. Для получения нужных товаров люди обменивались на то, что ценилось. Вместо денег использовали: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1" name="Picture 2" descr="Самогон рисовый Supersadovod - о саде и огороде просто и интересно"/>
          <p:cNvPicPr/>
          <p:nvPr/>
        </p:nvPicPr>
        <p:blipFill>
          <a:blip r:embed="rId2"/>
          <a:stretch/>
        </p:blipFill>
        <p:spPr>
          <a:xfrm>
            <a:off x="876240" y="3141720"/>
            <a:ext cx="2090880" cy="1338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Павлодар Электронный город"/>
          <p:cNvPicPr/>
          <p:nvPr/>
        </p:nvPicPr>
        <p:blipFill>
          <a:blip r:embed="rId3"/>
          <a:stretch/>
        </p:blipFill>
        <p:spPr>
          <a:xfrm>
            <a:off x="6084720" y="3084480"/>
            <a:ext cx="2028960" cy="1352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чему в морской ракушке слышно как шумят волны?"/>
          <p:cNvPicPr/>
          <p:nvPr/>
        </p:nvPicPr>
        <p:blipFill>
          <a:blip r:embed="rId4"/>
          <a:stretch/>
        </p:blipFill>
        <p:spPr>
          <a:xfrm>
            <a:off x="3606840" y="309564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Обучение стилиста. Клуб, как стать стилистом."/>
          <p:cNvPicPr/>
          <p:nvPr/>
        </p:nvPicPr>
        <p:blipFill>
          <a:blip r:embed="rId5"/>
          <a:stretch/>
        </p:blipFill>
        <p:spPr>
          <a:xfrm>
            <a:off x="1925640" y="4668840"/>
            <a:ext cx="1616040" cy="1292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Что подарить девушке на 8 марта - 16 Ноября 2013 - Блог - Интересно в Жизне"/>
          <p:cNvPicPr/>
          <p:nvPr/>
        </p:nvPicPr>
        <p:blipFill>
          <a:blip r:embed="rId6"/>
          <a:stretch/>
        </p:blipFill>
        <p:spPr>
          <a:xfrm>
            <a:off x="3949560" y="4613400"/>
            <a:ext cx="1114560" cy="1404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Грецкий орех - Flavour Art - Электронные сигареты и жидкости в Иваново"/>
          <p:cNvPicPr/>
          <p:nvPr/>
        </p:nvPicPr>
        <p:blipFill>
          <a:blip r:embed="rId7"/>
          <a:stretch/>
        </p:blipFill>
        <p:spPr>
          <a:xfrm>
            <a:off x="5514840" y="4668840"/>
            <a:ext cx="171792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676440" y="133200"/>
            <a:ext cx="7785000" cy="11052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4000" y="1000080"/>
            <a:ext cx="7459560" cy="19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Сначала на Руси использовали заграничные монеты, а потом стали чеканить свои – гривны. Гривну можно было разрубить на несколько частей и получить монеты меньшего достоинства. От слова «рубить» и появилось современное название РУБЛЬ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9" name="Picture 2" descr="Дирхемы Орды.Ханы разные.(до 15.07.12 в 22:00) - Форум Нумизмат.ru - все о нумизматике, монетах и нумизматах"/>
          <p:cNvPicPr/>
          <p:nvPr/>
        </p:nvPicPr>
        <p:blipFill>
          <a:blip r:embed="rId2"/>
          <a:stretch/>
        </p:blipFill>
        <p:spPr>
          <a:xfrm>
            <a:off x="1042920" y="3127320"/>
            <a:ext cx="2678040" cy="2631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codexmartialis.com * View topic - Medieval Polish Government"/>
          <p:cNvPicPr/>
          <p:nvPr/>
        </p:nvPicPr>
        <p:blipFill>
          <a:blip r:embed="rId3"/>
          <a:stretch/>
        </p:blipFill>
        <p:spPr>
          <a:xfrm>
            <a:off x="3851280" y="2982960"/>
            <a:ext cx="2405160" cy="1460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Коллекции и коллекционеры Лев и солнце"/>
          <p:cNvPicPr/>
          <p:nvPr/>
        </p:nvPicPr>
        <p:blipFill>
          <a:blip r:embed="rId4"/>
          <a:stretch/>
        </p:blipFill>
        <p:spPr>
          <a:xfrm>
            <a:off x="5724360" y="4443480"/>
            <a:ext cx="2484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828720"/>
            <a:ext cx="7785000" cy="8967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Но долгое время основной являлась единицей расчета оставалась копейка – маленькая серебряная монета с изображением всадника с копьем. Отсюда и ее название – КОПЕЙК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Picture 2" descr="Форум для : 478 лет назад в денежном обращении появилась копейка."/>
          <p:cNvPicPr/>
          <p:nvPr/>
        </p:nvPicPr>
        <p:blipFill>
          <a:blip r:embed="rId2"/>
          <a:stretch/>
        </p:blipFill>
        <p:spPr>
          <a:xfrm>
            <a:off x="900000" y="3417840"/>
            <a:ext cx="3527640" cy="2567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LanZone"/>
          <p:cNvPicPr/>
          <p:nvPr/>
        </p:nvPicPr>
        <p:blipFill>
          <a:blip r:embed="rId3"/>
          <a:stretch/>
        </p:blipFill>
        <p:spPr>
          <a:xfrm>
            <a:off x="4670280" y="3354480"/>
            <a:ext cx="349884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828720"/>
            <a:ext cx="7785000" cy="8967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06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Бумажные банкноты появились значительно позже и понемногу начали вытеснять своих металлических собратьев, так как были дешевле по производству и удобнее в обороте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8" name="Picture 2" descr="5 рублей, 1890, копия, типографское качество / Аукцион 240 /…"/>
          <p:cNvPicPr/>
          <p:nvPr/>
        </p:nvPicPr>
        <p:blipFill>
          <a:blip r:embed="rId2"/>
          <a:stretch/>
        </p:blipFill>
        <p:spPr>
          <a:xfrm>
            <a:off x="971640" y="2924280"/>
            <a:ext cx="3371760" cy="2070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10 рублей, 1918 / Аукцион 136 / БУМАЖНЫЕ ДЕНЬГИ (БОНЫ) * Россия 1917 - 1991 / Код 19573 - Нумизматический аукцион. Покупка, прод"/>
          <p:cNvPicPr/>
          <p:nvPr/>
        </p:nvPicPr>
        <p:blipFill>
          <a:blip r:embed="rId3"/>
          <a:stretch/>
        </p:blipFill>
        <p:spPr>
          <a:xfrm>
            <a:off x="4890960" y="3716280"/>
            <a:ext cx="32194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676440" y="285840"/>
            <a:ext cx="7785000" cy="7999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84360" y="928440"/>
            <a:ext cx="731664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В современной России люди пользуются как металлическими, так и бумажными деньгами. А называются они, как и много лет назад – КОПЕЙКА и РУБЛЬ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2" name="Picture 6" descr="Ижевчане могут заработать до 100 тысяч рублей на 50-копеечных монетах &quot; Новости Ижевска и Удмуртии, новости России и мира - на с"/>
          <p:cNvPicPr/>
          <p:nvPr/>
        </p:nvPicPr>
        <p:blipFill>
          <a:blip r:embed="rId2"/>
          <a:stretch/>
        </p:blipFill>
        <p:spPr>
          <a:xfrm>
            <a:off x="4427640" y="2938320"/>
            <a:ext cx="1625400" cy="1629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2 рубля"/>
          <p:cNvPicPr/>
          <p:nvPr/>
        </p:nvPicPr>
        <p:blipFill>
          <a:blip r:embed="rId3"/>
          <a:stretch/>
        </p:blipFill>
        <p:spPr>
          <a:xfrm>
            <a:off x="2771640" y="292572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Фото - ИЩУ МОНЕТЫ 10 рублевые - Dirgo"/>
          <p:cNvPicPr/>
          <p:nvPr/>
        </p:nvPicPr>
        <p:blipFill>
          <a:blip r:embed="rId4"/>
          <a:stretch/>
        </p:blipFill>
        <p:spPr>
          <a:xfrm>
            <a:off x="6372360" y="2965320"/>
            <a:ext cx="1576080" cy="1576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4" descr="1 рубль - это особая монета. Он не так прост, и не так дешев…"/>
          <p:cNvPicPr/>
          <p:nvPr/>
        </p:nvPicPr>
        <p:blipFill>
          <a:blip r:embed="rId5"/>
          <a:stretch/>
        </p:blipFill>
        <p:spPr>
          <a:xfrm>
            <a:off x="1244520" y="29653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6" descr="Экспертиза наличных денежных средств, определение платежеспо…"/>
          <p:cNvPicPr/>
          <p:nvPr/>
        </p:nvPicPr>
        <p:blipFill>
          <a:blip r:embed="rId6"/>
          <a:stretch/>
        </p:blipFill>
        <p:spPr>
          <a:xfrm>
            <a:off x="1449360" y="4843440"/>
            <a:ext cx="784080" cy="784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8" descr="Факты о России : Факты с фильтрацией по метке монеты"/>
          <p:cNvPicPr/>
          <p:nvPr/>
        </p:nvPicPr>
        <p:blipFill>
          <a:blip r:embed="rId7"/>
          <a:stretch/>
        </p:blipFill>
        <p:spPr>
          <a:xfrm>
            <a:off x="2905200" y="47480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0" descr="Продам 10 копеек 2003г - 10 000 руб. объявление в Иркутске"/>
          <p:cNvPicPr/>
          <p:nvPr/>
        </p:nvPicPr>
        <p:blipFill>
          <a:blip r:embed="rId8"/>
          <a:stretch/>
        </p:blipFill>
        <p:spPr>
          <a:xfrm>
            <a:off x="4643280" y="4759200"/>
            <a:ext cx="1195560" cy="1176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" descr="Ищу работу на ЗП не менее 200 р. в час - Страница 4 - Ищу - Автофорум Ростова-на-Дону"/>
          <p:cNvPicPr/>
          <p:nvPr/>
        </p:nvPicPr>
        <p:blipFill>
          <a:blip r:embed="rId9"/>
          <a:stretch/>
        </p:blipFill>
        <p:spPr>
          <a:xfrm>
            <a:off x="6372360" y="4532400"/>
            <a:ext cx="15303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13:14:53Z</dcterms:created>
  <dc:creator>123</dc:creator>
  <dc:description/>
  <dc:language>en-US</dc:language>
  <cp:lastModifiedBy>ДС №35</cp:lastModifiedBy>
  <dcterms:modified xsi:type="dcterms:W3CDTF">2023-01-24T02:36:13Z</dcterms:modified>
  <cp:revision>25</cp:revision>
  <dc:subject/>
  <dc:title>Слайд 1</dc:title>
</cp:coreProperties>
</file>