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9CD4-10CE-468C-8D8E-73CA29F4D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FF65-DDBC-429F-86D6-E2597116A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D0B2-3B80-48E3-85A0-ABEB5F0C7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33F8-981C-4255-9F55-3C0F19580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EF090-6F7B-4A66-80C1-B195BAB91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EEA97-A625-4201-B258-5607BEA30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C3DCF-43DF-451C-A7A3-69C918568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A6C2A-AC66-4490-B5BA-CE71F70D5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C8F0D-5FFC-46CE-9C29-941E1F5A1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27138-D99F-47D3-83BF-CFA4E5E4C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48611-69AC-47D0-82F4-2FEC63B2D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5C40-EC87-4126-BDDB-B6A4DA007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C1295-8A63-49AC-BA08-8942AB0CB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800FA-3CC0-47BE-A18C-3F0D57858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63985-B5E8-4C74-A309-FA0A08EEF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16080-00EA-4201-BD67-BA225B299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82B4A-A595-4F6B-9246-1536339FF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F111-C002-4D99-8014-F4A1B9C02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C48F-B692-40FB-A46A-7B012095D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BAE3-3718-4B20-B7FB-5BA032B03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CE23-8EF5-4136-B631-6885EC155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81F2-C7C8-412C-8659-F0C3BA5C2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8B11-0151-48C0-B17E-11940B2D6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E401-312B-4081-9229-2209FA1AA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prstGeom prst="pie">
              <a:avLst/>
            </a:pr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prstGeom prst="pie">
              <a:avLst/>
            </a:pr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400" cy="3117960"/>
              <a:chOff x="-1080" y="2601000"/>
              <a:chExt cx="268740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840" y="4054320"/>
                <a:ext cx="1833480" cy="1664640"/>
                <a:chOff x="852840" y="4054320"/>
                <a:chExt cx="1833480" cy="166464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5040" y="3942720"/>
                  <a:ext cx="475560" cy="122112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36040" y="4975200"/>
                  <a:ext cx="109800" cy="50112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424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prstGeom prst="pie">
              <a:avLst/>
            </a:pr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B6439-36A0-4BD0-8E54-3455980CC29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0760" cy="6858000"/>
            <a:chOff x="-20160" y="0"/>
            <a:chExt cx="905076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9720" y="60120"/>
              <a:ext cx="3620880" cy="6132240"/>
              <a:chOff x="5409720" y="60120"/>
              <a:chExt cx="3620880" cy="613224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5600"/>
                <a:ext cx="2115000" cy="2357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2120" y="1958400"/>
                <a:ext cx="905760" cy="843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5240" y="2589840"/>
                <a:ext cx="439560" cy="395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0760" y="671760"/>
                <a:ext cx="388800" cy="5515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4640" y="2644920"/>
                <a:ext cx="163080" cy="331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0240" y="1241640"/>
                <a:ext cx="190080" cy="142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40360" y="2930400"/>
                <a:ext cx="523440" cy="326844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400" y="2000160"/>
              <a:ext cx="1997640" cy="24321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0800" cy="7286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4160" y="4532400"/>
              <a:ext cx="561600" cy="7365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200" y="4728960"/>
              <a:ext cx="137880" cy="4348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8560" y="5195880"/>
              <a:ext cx="1758240" cy="16621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8640" y="1033560"/>
              <a:ext cx="1015200" cy="1261800"/>
              <a:chOff x="4148640" y="1033560"/>
              <a:chExt cx="1015200" cy="126180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2640" y="1071360"/>
                <a:ext cx="285840" cy="3783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7600" y="1604520"/>
                <a:ext cx="488880" cy="31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8680" y="1962000"/>
                <a:ext cx="511200" cy="1598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9480" y="295200"/>
              <a:ext cx="892800" cy="825840"/>
              <a:chOff x="5649480" y="295200"/>
              <a:chExt cx="892800" cy="82584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61080" y="790200"/>
                <a:ext cx="179280" cy="3618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10320" y="469800"/>
                <a:ext cx="305280" cy="300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52840" y="394920"/>
                <a:ext cx="319320" cy="153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9840" y="5259960"/>
              <a:ext cx="1059480" cy="830880"/>
              <a:chOff x="969840" y="5259960"/>
              <a:chExt cx="1059480" cy="83088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12520" y="5524920"/>
                <a:ext cx="250920" cy="299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95560" y="5736240"/>
                <a:ext cx="429480" cy="2487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61560" y="5384160"/>
                <a:ext cx="448920" cy="1278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480" y="443520"/>
              <a:ext cx="1689840" cy="1146600"/>
              <a:chOff x="375480" y="443520"/>
              <a:chExt cx="168984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5000" y="1062000"/>
                <a:ext cx="355320" cy="530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2040" y="587160"/>
                <a:ext cx="60840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280" y="1100520"/>
                <a:ext cx="636120" cy="2239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84320" y="3712320"/>
              <a:ext cx="1155600" cy="1607760"/>
              <a:chOff x="7384320" y="3712320"/>
              <a:chExt cx="115560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39040" y="475596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889760" y="4455360"/>
                <a:ext cx="60804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82320" y="3781080"/>
                <a:ext cx="635760" cy="22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1400" y="3240"/>
              <a:ext cx="1367640" cy="1406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3960" y="160560"/>
              <a:ext cx="1080360" cy="9414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8360" y="1361160"/>
              <a:ext cx="523440" cy="441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28720" y="1282320"/>
              <a:ext cx="195120" cy="3704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3760" y="0"/>
              <a:ext cx="196560" cy="1922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080" y="1963800"/>
              <a:ext cx="623520" cy="36514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6880" cy="2095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14B12-75E6-4D3F-A581-A5B7A30BFDD8}" type="slidenum">
              <a:rPr b="0" lang="ru-RU" sz="1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417960" y="2997000"/>
            <a:ext cx="8349120" cy="8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5440" rIns="539640" tIns="46800" bIns="2286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Путешествие в прошлое книги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3" name="Picture 4" descr=""/>
          <p:cNvPicPr/>
          <p:nvPr/>
        </p:nvPicPr>
        <p:blipFill>
          <a:blip r:embed="rId1"/>
          <a:stretch/>
        </p:blipFill>
        <p:spPr>
          <a:xfrm>
            <a:off x="684360" y="0"/>
            <a:ext cx="7667640" cy="686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Книга 2"/>
          <p:cNvPicPr/>
          <p:nvPr/>
        </p:nvPicPr>
        <p:blipFill>
          <a:blip r:embed="rId1"/>
          <a:stretch/>
        </p:blipFill>
        <p:spPr>
          <a:xfrm>
            <a:off x="4610160" y="1143000"/>
            <a:ext cx="4533840" cy="57150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3" descr="Книга"/>
          <p:cNvPicPr/>
          <p:nvPr/>
        </p:nvPicPr>
        <p:blipFill>
          <a:blip r:embed="rId2"/>
          <a:stretch/>
        </p:blipFill>
        <p:spPr>
          <a:xfrm>
            <a:off x="0" y="0"/>
            <a:ext cx="4616280" cy="61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3" descr="станок"/>
          <p:cNvPicPr/>
          <p:nvPr/>
        </p:nvPicPr>
        <p:blipFill>
          <a:blip r:embed="rId1"/>
          <a:stretch/>
        </p:blipFill>
        <p:spPr>
          <a:xfrm>
            <a:off x="0" y="0"/>
            <a:ext cx="4535640" cy="68580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4" descr="Первопечатник"/>
          <p:cNvPicPr/>
          <p:nvPr/>
        </p:nvPicPr>
        <p:blipFill>
          <a:blip r:embed="rId2"/>
          <a:stretch/>
        </p:blipFill>
        <p:spPr>
          <a:xfrm>
            <a:off x="4629240" y="333360"/>
            <a:ext cx="451476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9" name="Picture 4" descr="Elektrobiblioteka-bumajnaya-kniga-soedinena-s-kompyterom"/>
          <p:cNvPicPr/>
          <p:nvPr/>
        </p:nvPicPr>
        <p:blipFill>
          <a:blip r:embed="rId1"/>
          <a:stretch/>
        </p:blipFill>
        <p:spPr>
          <a:xfrm>
            <a:off x="1476360" y="0"/>
            <a:ext cx="6191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2" descr="-----3~1"/>
          <p:cNvPicPr/>
          <p:nvPr/>
        </p:nvPicPr>
        <p:blipFill>
          <a:blip r:embed="rId1"/>
          <a:stretch/>
        </p:blipFill>
        <p:spPr>
          <a:xfrm>
            <a:off x="0" y="0"/>
            <a:ext cx="9144000" cy="680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8028000" cy="56991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6" descr="Безымянный"/>
          <p:cNvPicPr/>
          <p:nvPr/>
        </p:nvPicPr>
        <p:blipFill>
          <a:blip r:embed="rId2"/>
          <a:stretch/>
        </p:blipFill>
        <p:spPr>
          <a:xfrm>
            <a:off x="7308720" y="2492280"/>
            <a:ext cx="1835280" cy="43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1" name="Picture 13" descr="slov4"/>
          <p:cNvPicPr/>
          <p:nvPr/>
        </p:nvPicPr>
        <p:blipFill>
          <a:blip r:embed="rId1"/>
          <a:stretch/>
        </p:blipFill>
        <p:spPr>
          <a:xfrm>
            <a:off x="900000" y="0"/>
            <a:ext cx="7417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3" name="Picture 4" descr=""/>
          <p:cNvPicPr/>
          <p:nvPr/>
        </p:nvPicPr>
        <p:blipFill>
          <a:blip r:embed="rId1"/>
          <a:stretch/>
        </p:blipFill>
        <p:spPr>
          <a:xfrm>
            <a:off x="2432160" y="404640"/>
            <a:ext cx="382752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5" descr="E:\ЛИСТ пальмы!!!!!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4" descr=""/>
          <p:cNvPicPr/>
          <p:nvPr/>
        </p:nvPicPr>
        <p:blipFill>
          <a:blip r:embed="rId1"/>
          <a:stretch/>
        </p:blipFill>
        <p:spPr>
          <a:xfrm>
            <a:off x="4932360" y="0"/>
            <a:ext cx="4211640" cy="68580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4" descr=""/>
          <p:cNvPicPr/>
          <p:nvPr/>
        </p:nvPicPr>
        <p:blipFill>
          <a:blip r:embed="rId2"/>
          <a:stretch/>
        </p:blipFill>
        <p:spPr>
          <a:xfrm>
            <a:off x="500040" y="285840"/>
            <a:ext cx="4143240" cy="63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5940360" cy="46353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3" descr="пергамент"/>
          <p:cNvPicPr/>
          <p:nvPr/>
        </p:nvPicPr>
        <p:blipFill>
          <a:blip r:embed="rId2"/>
          <a:stretch/>
        </p:blipFill>
        <p:spPr>
          <a:xfrm>
            <a:off x="5467320" y="2905200"/>
            <a:ext cx="3676680" cy="39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Говорят, Цай не настоящий! Образовательный портал &quot;Азбука.kz&quot;"/>
          <p:cNvPicPr/>
          <p:nvPr/>
        </p:nvPicPr>
        <p:blipFill>
          <a:blip r:embed="rId1"/>
          <a:stretch/>
        </p:blipFill>
        <p:spPr>
          <a:xfrm>
            <a:off x="468360" y="189000"/>
            <a:ext cx="5398920" cy="299556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16 фактов о бумаге"/>
          <p:cNvPicPr/>
          <p:nvPr/>
        </p:nvPicPr>
        <p:blipFill>
          <a:blip r:embed="rId2"/>
          <a:stretch/>
        </p:blipFill>
        <p:spPr>
          <a:xfrm>
            <a:off x="3851280" y="3252960"/>
            <a:ext cx="4870440" cy="32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14T03:54:44Z</dcterms:created>
  <dc:creator>Наталья Владимировна</dc:creator>
  <dc:description/>
  <dc:language>en-US</dc:language>
  <cp:lastModifiedBy>йцукенг</cp:lastModifiedBy>
  <dcterms:modified xsi:type="dcterms:W3CDTF">2015-01-18T13:09:13Z</dcterms:modified>
  <cp:revision>13</cp:revision>
  <dc:subject/>
  <dc:title>Слайд 1</dc:title>
</cp:coreProperties>
</file>