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C6A-839A-45F0-A5F5-401B59FD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692-587B-45FB-BE23-99DF9A56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956-BA7F-4D18-810D-0255E932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FD8-4442-4BED-9848-4BA1E106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172D-915B-4F50-AD3C-84174CB0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8E1B-5400-433D-80C6-456CC71A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6610-6DD2-47EB-BBA9-C0B6DBCC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6B47-DA3A-4261-A084-FBE25E87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D810-E7DF-4BC6-B896-D1B70635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39E0-5841-4FF8-B90F-80F75B55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0A94-7BFB-4548-A0D2-D7A99DA4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575-E315-4EFD-AA0F-A9787375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B42B-9DCC-4B1A-BF28-8AE3FBA9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C40D-EFE6-415C-A0CD-970DE7C2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D207-1D9F-4091-885B-EC12CA64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5D6B-70A3-4999-B543-4FF8400D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7F86-B148-4F3E-8C6C-DAD55FA8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DED2-3FF2-4671-AAF9-47586FFB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C2F-47DA-47DD-9015-13ECEF06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6F2-B2A0-4FE1-8DB0-F12EB5EB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458-9656-459B-93A2-C5C8AE05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52B-785C-441D-95E2-EC690981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F34-7F05-4B3C-882C-6BB92978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135-7509-43BC-B231-FEEA91F3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07E7-6CA6-4DBC-ABE5-3BE7CA75E6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60120"/>
              <a:ext cx="3620880" cy="6132240"/>
              <a:chOff x="5409720" y="60120"/>
              <a:chExt cx="362088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8400"/>
                <a:ext cx="90576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24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64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3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764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080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560" y="5195880"/>
              <a:ext cx="175824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480" y="295200"/>
              <a:ext cx="892800" cy="825840"/>
              <a:chOff x="564948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108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032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840" y="5259960"/>
              <a:ext cx="1059480" cy="830880"/>
              <a:chOff x="96984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52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56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56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43520"/>
              <a:ext cx="1689840" cy="1146600"/>
              <a:chOff x="375480" y="443520"/>
              <a:chExt cx="16898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5000" y="1062000"/>
                <a:ext cx="355320" cy="53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040" y="5871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1005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4320" y="3712320"/>
              <a:ext cx="1155600" cy="1607760"/>
              <a:chOff x="73843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90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7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23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400" y="3240"/>
              <a:ext cx="136764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376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5E0A-8793-4556-8B12-FBA7D86C7A95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7960" y="2997000"/>
            <a:ext cx="834912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5440" rIns="539640" tIns="46800" bIns="228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утешествие в прошлое книги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766764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Книга 2"/>
          <p:cNvPicPr/>
          <p:nvPr/>
        </p:nvPicPr>
        <p:blipFill>
          <a:blip r:embed="rId1"/>
          <a:stretch/>
        </p:blipFill>
        <p:spPr>
          <a:xfrm>
            <a:off x="4610160" y="1143000"/>
            <a:ext cx="4533840" cy="571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Книга"/>
          <p:cNvPicPr/>
          <p:nvPr/>
        </p:nvPicPr>
        <p:blipFill>
          <a:blip r:embed="rId2"/>
          <a:stretch/>
        </p:blipFill>
        <p:spPr>
          <a:xfrm>
            <a:off x="0" y="0"/>
            <a:ext cx="46162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станок"/>
          <p:cNvPicPr/>
          <p:nvPr/>
        </p:nvPicPr>
        <p:blipFill>
          <a:blip r:embed="rId1"/>
          <a:stretch/>
        </p:blipFill>
        <p:spPr>
          <a:xfrm>
            <a:off x="0" y="0"/>
            <a:ext cx="453564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Первопечатник"/>
          <p:cNvPicPr/>
          <p:nvPr/>
        </p:nvPicPr>
        <p:blipFill>
          <a:blip r:embed="rId2"/>
          <a:stretch/>
        </p:blipFill>
        <p:spPr>
          <a:xfrm>
            <a:off x="4629240" y="333360"/>
            <a:ext cx="4514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Picture 4" descr="Elektrobiblioteka-bumajnaya-kniga-soedinena-s-kompyterom"/>
          <p:cNvPicPr/>
          <p:nvPr/>
        </p:nvPicPr>
        <p:blipFill>
          <a:blip r:embed="rId1"/>
          <a:stretch/>
        </p:blipFill>
        <p:spPr>
          <a:xfrm>
            <a:off x="1476360" y="0"/>
            <a:ext cx="61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-----3~1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028000" cy="569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Безымянный"/>
          <p:cNvPicPr/>
          <p:nvPr/>
        </p:nvPicPr>
        <p:blipFill>
          <a:blip r:embed="rId2"/>
          <a:stretch/>
        </p:blipFill>
        <p:spPr>
          <a:xfrm>
            <a:off x="7308720" y="2492280"/>
            <a:ext cx="18352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13" descr="slov4"/>
          <p:cNvPicPr/>
          <p:nvPr/>
        </p:nvPicPr>
        <p:blipFill>
          <a:blip r:embed="rId1"/>
          <a:stretch/>
        </p:blipFill>
        <p:spPr>
          <a:xfrm>
            <a:off x="900000" y="0"/>
            <a:ext cx="74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2432160" y="404640"/>
            <a:ext cx="38275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E:\ЛИСТ пальмы!!!!!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41432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4635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пергамент"/>
          <p:cNvPicPr/>
          <p:nvPr/>
        </p:nvPicPr>
        <p:blipFill>
          <a:blip r:embed="rId2"/>
          <a:stretch/>
        </p:blipFill>
        <p:spPr>
          <a:xfrm>
            <a:off x="5467320" y="2905200"/>
            <a:ext cx="36766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Говорят, Цай не настоящий! Образовательный портал &quot;Азбука.kz&quot;"/>
          <p:cNvPicPr/>
          <p:nvPr/>
        </p:nvPicPr>
        <p:blipFill>
          <a:blip r:embed="rId1"/>
          <a:stretch/>
        </p:blipFill>
        <p:spPr>
          <a:xfrm>
            <a:off x="468360" y="189000"/>
            <a:ext cx="5398920" cy="2995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16 фактов о бумаге"/>
          <p:cNvPicPr/>
          <p:nvPr/>
        </p:nvPicPr>
        <p:blipFill>
          <a:blip r:embed="rId2"/>
          <a:stretch/>
        </p:blipFill>
        <p:spPr>
          <a:xfrm>
            <a:off x="3851280" y="3252960"/>
            <a:ext cx="487044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03:54:44Z</dcterms:created>
  <dc:creator>Наталья Владимировна</dc:creator>
  <dc:description/>
  <dc:language>en-US</dc:language>
  <cp:lastModifiedBy>йцукенг</cp:lastModifiedBy>
  <dcterms:modified xsi:type="dcterms:W3CDTF">2015-01-18T13:09:13Z</dcterms:modified>
  <cp:revision>13</cp:revision>
  <dc:subject/>
  <dc:title>Слайд 1</dc:title>
</cp:coreProperties>
</file>