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410C-968D-406E-B881-7B6829991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B13B-74A0-4471-B8CA-81CC1AC6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B390F-3F59-46C9-953B-BE83F42A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E9E99-DE7D-4649-BA69-CBAC6C5A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2866C-71EC-490A-B769-AB59985F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38DE9-15DA-4B02-83F8-9F57CB6B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65FB2-BB7E-4939-8BA1-28E9958E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9719E-5793-468D-AF24-880DAB38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C721A-ADE1-4AAB-9024-7B643FBB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2C30F-A63E-47FC-9C67-9807D412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1D673-1341-4AF2-BD8E-8C7D19682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FEF34-97DE-495A-999D-9B9C8F9B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FAB4-2591-401A-AAAB-DC1517D16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F3965-C9EE-4FD5-B1D2-BB39B9A1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FCA1C-59B2-4C58-BFBD-29403CCA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D75E2-E44F-48AE-AB83-A5AF0881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FD5AA-0DC9-4861-BD1C-AB6D9F6F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3C330-EE94-420C-9193-4548EC81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078260-1FC5-403B-8B92-46C0FB41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E6B7AC-52F3-49D8-8BBE-6E7C3A44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6F420-1DE1-4CD2-B95D-411F27E1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DB9BF-043F-4947-A95D-06DCF212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2945BE-0ED4-4C11-B611-54CD7982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8176-0CDD-4AB8-954D-004B08AC2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A555B-3A86-48C5-8A6E-6B74F0FB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23CB9-7BA4-4CC6-B725-C51C43695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BA38E-D6C8-4667-A64F-F71C368D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672D2-2DAC-4B9C-9434-432FFDD7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B8DBE-9BFA-4DD0-B2AB-818179E0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706CE-24B7-4EF9-9A0A-2FE4F0DC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A56F9-D7A8-4E44-8F6A-BDED72F9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228B9-4A22-4C3F-BC7D-026F9190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EF2B5-FE37-44FF-BBF0-5A3C30C6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55DD3-D064-4993-9A69-9EAD49D5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8ED7-74CE-4DCA-9ACD-CDE1491B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51762-4817-481F-9C1F-A4002261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14C5F-5831-4558-809E-82847F84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A51DD-2002-432A-84DE-B5F535CB4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2A603A-B4A0-4A77-83A7-5D277E99B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0FC2A-98C3-4193-89C8-7F7959C8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A14CBB-D9EB-426E-AC0D-C287EFB2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8E5E3A-9F6D-403A-8CE0-40DC4840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3C5CA3-FF69-4789-BF13-FE9B57B9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B42A1-009E-4573-BA7E-812CEC56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ED78C-13B7-4E8C-AAB0-F9C7D7E6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002F-38CE-4D73-AED6-DEBEBAD4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C33FEE-CBBE-426F-9EEE-C52D1EAD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C2F637-475D-4BFC-BA9A-76CDB26D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DDBFB-2F4D-41D7-AA34-68E3EC54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4DCC71-BD44-411C-BC63-C0D39ABAB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A9F20D-1B0C-4825-B6C9-CCDF6E4C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59DBF5-743B-41C2-A76A-C128F074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13D699-1216-410D-AB06-DE4D00D4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9FAD59-736F-4D91-BAF4-8B6947C7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A6845D-73ED-4F7F-92EF-D05C6913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9FDB02-AB7A-4ACE-B418-23E52FF5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61F8-542A-4B18-9C62-B76650E9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937E90-E41E-4A10-95C7-100DBCD9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10A2A7-7C12-4AC7-ADBD-81AA6983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984171-3082-46EB-9CBB-D5883640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11D561-F0E1-47A7-8DBF-CF244B76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FC0A2D-C1C3-43B8-8271-7869EBB4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29D268-89C5-4399-B972-9F1D2FAD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4E22D7-8905-432C-80C2-52928092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310328-8A9F-4A66-BC0D-A4CFD3B42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F0E205-ACD9-4688-8347-EC645190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1F4793-1A55-487B-B588-E28B3BA1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2050-CF07-472C-A7F8-15187D90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09B15E-5DDD-43A2-AFD4-0FE209C7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260B7A-F8ED-4162-B36A-9B466D15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778CDB-A7F4-45D9-9FEE-1FB0AEB0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E77D36-6069-49F5-8011-146C7338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E90DEA-94EE-41B4-84A4-F7A5CE7C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BD3942-477F-49AD-96C4-7FD3D4B0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7E1682-C65B-4B5D-8E81-D7D8F31C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15D0A9-E9B7-4FCE-BFD1-791A5BFE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3CA4DF-E170-4EAA-B07F-02B6968F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75F2D4-7CD2-4303-9D93-7D0A4B69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937E-5B28-4AAF-A220-E2BAA747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89C27A-7840-40D8-980D-159A0C6B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0B829F-1485-403E-85F5-F9C26D7B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693588-5D87-4E2A-9919-33975465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E0BA8B-D8A0-4758-A883-FC71B8F7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B08929-309F-4533-AD95-2A0E3106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6C83A0-97EC-4CFB-8997-91A5B776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D29777-152F-477B-9B63-BC103073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2D8A52-24FC-4C09-AA86-07ECBF37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76DD9B-F10C-4C91-BC63-96953053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7B0F43-BC38-4E21-956F-B082A618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4144-A214-4560-BF69-C237FA46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44024A-F73A-4576-A695-A33558C6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6B5E2A-BF95-402C-A86A-724419E23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F0DF80-99C3-4741-81C6-A72BCEFB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A76295-1871-4D20-AA38-A88A74B2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10F051-BD73-4E66-86C4-CC63A611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33E72A-0ECC-4DDA-B008-995AAE48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D2C532-726A-4979-97E6-2C159808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11B425-B6CE-4CDB-A3E6-03C5D61D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14D46C-CF08-4067-B802-692B5AF6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99060A-D753-451D-9504-99D3EDF1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A78B-3B6D-4B20-8F71-D20741E4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356B25-4D23-4250-BDA3-C6161310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7B753F-75BA-416C-A6B7-77089168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273DBF-DA16-4605-BD9F-02E577724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62BEB0-7F2B-4CC9-9355-7784F3D22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06D543-72ED-405D-9373-57C8A7FA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5451D1-7C8B-4DA5-8CCC-D3EC6E43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7663D6-A0A7-40FE-B872-69AD8506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C24801-DFFB-4196-872F-18481E20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72B115-7D0C-44D9-9164-4D101C94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8C299C-872A-46E5-BCCF-CB6D3813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3281-7238-49F2-B0A1-FF73B63E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A8C9-4A05-4F26-9160-36355619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BC3D97-DEE0-40FB-BF47-CFD85731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83E435-9DFB-44B4-95D3-811DE3AC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82B4D1-1297-4D17-BE11-4DFB0B5C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F31896-9122-428C-ADD8-E767F962F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B8A4AD-B97F-498F-B61F-728826DD3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7349-C756-4B25-B931-143CF71B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85B6-59E5-473C-8B9A-7D2CC181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03D6-DAC4-4D29-A83A-BE49CD98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1865-4589-4F33-98A3-27865587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2EA35-E11C-4E8F-80A0-593A5BA4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79C6B-FD41-45B1-982C-3F7186D9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9C086-77E7-4E91-9030-32DF24F4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CDEB3-DBE1-4D51-A325-77A55717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80A93-413A-47ED-817B-EA083DC9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01CF-4519-43EE-A6A3-1ADC63FC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065DA-8307-498B-9212-F9B8F137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21ACC-BCE7-422C-A011-4ED798CE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3965D-0155-474F-93F5-AC7C7DEB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A8FDE-F526-4491-A44F-CD46FB88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49C08-5990-4914-AB6D-390D5A30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5DC7A-818E-425A-A1A2-37B9A91C8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B11A6-D184-4233-9053-107DAA26B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468FE-0632-4FF8-8D94-FD12C1B1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E5F41-DC09-4047-AE01-1730F57E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5AA7D-8E05-4EC9-8870-3EE22FDC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B189-9575-4D5F-A500-C82F9D1F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83A22-51BD-4E23-AF38-7FDC1EC7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5CD46-CCED-4A6B-828A-0B638F9E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C5DA5-9654-4803-82FF-F5D32981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0E6E4-536B-4544-935D-262440C8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F2D02-8C7D-4D39-9C2B-445F603A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A3353-3151-4388-A947-89E699BE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2E92E-2B2E-49A9-8F14-0AF937E0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AAC6A-8EAA-4739-9B5C-C9E7F2D9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D9210-DF70-43FA-8CC3-F6C9FFB1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F6D90-AB94-4023-9969-277357EA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2CF5-EFB4-4AA6-88A3-3E53AE9E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C37FA-E6AE-4908-9CAA-91E29D94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B71D5-602C-4676-AB48-3B1D1112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600CD-8472-4069-93B8-C6C3E3E2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3283D-3810-4D8B-A6FD-2FE7ED5D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14175-65DF-4E20-825D-427B6855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E070E-3874-4CFB-9E75-65E17BF2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AE574-316F-4DA7-A4DE-E2A33BF9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10DF5-9DE7-4D9A-8676-D5BE5468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F8DFF-2960-4328-B248-F16B22D5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C0B9F-012B-4D2E-BB5D-031D71D6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6170-B2D1-4512-A811-66A7E08D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A23B8-E078-43C5-A6E5-FB3C49866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A91D8-9265-4669-ABCE-426C1F49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08F00-FB40-440E-8FFA-80D9BD2C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393BE-D77E-4293-BDDE-2C70F16C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4EB68-6BB8-408B-8A83-ACCC4D66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132B0-194E-41AA-987F-DD07AA9E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FAA6C-DC15-4EE6-8AE1-8D9E0DA3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C787D-507C-4503-B3D0-F132B886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47969-3AE3-4A53-9E52-4619C6C4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27C60-CED0-4714-8015-6A8C17B0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E0EE-744F-4E21-9C4B-00B92D4C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94F15-B899-40B7-9056-08419C9C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866E7-9573-4BEB-8B1E-9410DB0F3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F8E42-ABEA-4847-9FDD-1648E261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7D98E-F807-422D-928F-3AA3DF13A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BB6C3-DC04-4151-88CB-7EBF1AD6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4C239-8CC4-4D9B-9772-A06BA6FF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5A4AA-374E-44DB-BA9C-7CE7293F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06115-3EDB-4016-9645-6BBE5736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02A46-A9B0-40EA-9E18-A6D8C28D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0F551-2322-4BD0-96B2-5D0C18C7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F82C-AD39-4A95-904F-C738DFDD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57D7C-2CE4-452F-91C3-4290893A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C9EF3-79D0-430F-B865-8C855C2E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C01E0-B022-440F-AEE7-7ACD9DCC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1D2F5-5B39-437E-B53E-DF76AC66E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9B000-29C5-4597-AE34-0C8092AF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925DE-42FB-414F-9EE5-98FDBB38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28F2E-52A6-4175-B01E-3F82F223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F79DC-FB89-4348-87F7-5F444564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C74B1-0BE1-4940-98A8-FC6B6B71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8D0AA-874F-49C9-BFE1-F1DA49EF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C4ED-2C52-4EB0-841E-CFB98C09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E63D9-9F78-406C-A5F2-886A6941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45BA8-5217-4A74-AC33-6811765F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B0BF6-B4CE-495D-9C89-FA4BB12C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C5265-DEB7-497A-8276-B7EA953C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7156A-5F59-48AD-9FC0-9B9AFFE8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5E4DA-F837-4CD4-BE75-2205FAB90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85DF0-63BB-4253-97DD-C9907B5C2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B9D7A-2C3C-40B2-B7F1-DB0DD42F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01BF4-2493-468E-B7A0-8AF46EF7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D7DF6-87B7-46F0-9969-6261332D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20407E-F901-4222-9FC2-56B585872B7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541608-3710-402F-A1A3-C17BE844AE3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A357E8-3F2C-488D-A236-F2113C78246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7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8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4BAFAF-A285-4A97-A852-447860BDB33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FBA57B-CF6C-4FAB-8426-0CF11A69B32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7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8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55E65E-CF74-406A-946C-1A09AEDF130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72EAAF-E67F-4043-9E06-01E4626103D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08F6AD-7884-4184-B8D2-F2AA8B1F737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238AB7-67C6-45EF-BDE8-308976051A0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FBDBC4-92F4-465E-ADF4-176F55DF791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2882FC-7FB0-4CDE-A7D6-F633BB285C3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699ECD-3B2F-4ED2-B6D6-60ABB907455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780044-600C-4A73-BC13-3180E0BDBD1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2C58FC-5B2A-4691-986A-DE597D84B6F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FF409A-F0C8-443B-B948-23D0D4153A3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C4D662-CA5D-4E50-AA0A-74D365C65D1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65AD2B-684C-4C34-A88C-35D3013F388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696080" cy="28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400" spc="-1" strike="noStrike">
                <a:solidFill>
                  <a:srgbClr val="262626"/>
                </a:solidFill>
                <a:latin typeface="Georgia"/>
              </a:rPr>
              <a:t>Мелодией одной звучат печаль и радость</a:t>
            </a:r>
            <a:br>
              <a:rPr sz="4400"/>
            </a:b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урок музыки в 6 классе по программе </a:t>
            </a:r>
            <a:br>
              <a:rPr sz="2400"/>
            </a:b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В.В. Алеева</a:t>
            </a:r>
            <a:r>
              <a:rPr b="0" lang="ru-RU" sz="4400" spc="-1" strike="noStrike">
                <a:solidFill>
                  <a:srgbClr val="262626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7704360" cy="25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262626"/>
                </a:solidFill>
                <a:latin typeface="Century Gothic"/>
              </a:rPr>
              <a:t>«Вечный солнечный свет в музыке – имя тебе Моцарт»</a:t>
            </a:r>
            <a:br>
              <a:rPr sz="4000"/>
            </a:br>
            <a:r>
              <a:rPr b="0" lang="ru-RU" sz="4000" spc="-1" strike="noStrike">
                <a:solidFill>
                  <a:srgbClr val="262626"/>
                </a:solidFill>
                <a:latin typeface="Century Gothic"/>
              </a:rPr>
              <a:t>                               </a:t>
            </a:r>
            <a:r>
              <a:rPr b="0" i="1" lang="ru-RU" sz="2800" spc="-1" strike="noStrike">
                <a:solidFill>
                  <a:srgbClr val="262626"/>
                </a:solidFill>
                <a:latin typeface="Century Gothic"/>
              </a:rPr>
              <a:t>А.Рубинштейн</a:t>
            </a:r>
            <a:br>
              <a:rPr sz="2800"/>
            </a:b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26" name="Picture 3" descr=""/>
          <p:cNvPicPr/>
          <p:nvPr/>
        </p:nvPicPr>
        <p:blipFill>
          <a:blip r:embed="rId1"/>
          <a:srcRect l="0" t="0" r="6073" b="1505"/>
          <a:stretch/>
        </p:blipFill>
        <p:spPr>
          <a:xfrm>
            <a:off x="2597040" y="2043000"/>
            <a:ext cx="2668680" cy="38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"/>
          <p:cNvSpPr txBox="1"/>
          <p:nvPr/>
        </p:nvSpPr>
        <p:spPr>
          <a:xfrm>
            <a:off x="1447560" y="0"/>
            <a:ext cx="7086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Любимая школа»  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Школа смотрит добрыми глазами,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сияет взгляд от чистоты,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полняет небо голосами,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крашает красками холсты.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 самого начала объяснила нам,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то душа дороже серебра,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ша школа самая любимая -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лыбель искусства и добра.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пев: Ты даришь звуки,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ы даришь краски,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оживают детские сказки.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 классики до рок-н-рола: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сё дарит любимая школа.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 классики до рок-н-рола: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сё дарит любимая школа.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Высоки и помыслы, и чувства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бегут твои ученики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храм благословенного искусства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ыстрой стайкой наперегонки.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то дверь, открытая для каждого,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, покуда вертится земля,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амое заветное и важное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крывают нам учителя.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пев: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По огромным просторам России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летаются выпускники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несут широко и красиво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ет небесный во все уголки.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 души пожелать тебе хочется,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тобы ныне и через века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бивалось в сердцах твоё творчество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еребристой водой родника.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пев.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Настроение нашего класса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394920" y="1988640"/>
            <a:ext cx="87138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До –  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хотелось поскорее уйти с урок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Ре –  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было очень трудно,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            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некоторые моменты были непонятны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Ми – 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поразила траурная музык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Фа – 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не успели устать,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            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все время что-то узнавали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Соль – 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было интересно, а что же дальше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Ля – 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мне понравилось на уроке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Си –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 все было полезно и интересно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115640" y="2133360"/>
            <a:ext cx="6985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262626"/>
                </a:solidFill>
                <a:latin typeface="Georgia"/>
              </a:rPr>
              <a:t>Спасибо за урок!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2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178" name="Group 3"/>
          <p:cNvGrpSpPr/>
          <p:nvPr/>
        </p:nvGrpSpPr>
        <p:grpSpPr>
          <a:xfrm>
            <a:off x="684360" y="1628640"/>
            <a:ext cx="8208720" cy="5079960"/>
            <a:chOff x="684360" y="1628640"/>
            <a:chExt cx="8208720" cy="5079960"/>
          </a:xfrm>
        </p:grpSpPr>
        <p:sp>
          <p:nvSpPr>
            <p:cNvPr id="1179" name="AutoShape 4"/>
            <p:cNvSpPr/>
            <p:nvPr/>
          </p:nvSpPr>
          <p:spPr>
            <a:xfrm>
              <a:off x="684360" y="1628640"/>
              <a:ext cx="8208720" cy="50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0" name="Rectangle 5"/>
            <p:cNvSpPr/>
            <p:nvPr/>
          </p:nvSpPr>
          <p:spPr>
            <a:xfrm>
              <a:off x="1730880" y="5498640"/>
              <a:ext cx="1141560" cy="9673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entury Gothic"/>
                  <a:ea typeface="Times New Roman"/>
                </a:rPr>
                <a:t>ре</a:t>
              </a:r>
              <a:endParaRPr b="0" lang="en-US" sz="4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1" name="Rectangle 6"/>
            <p:cNvSpPr/>
            <p:nvPr/>
          </p:nvSpPr>
          <p:spPr>
            <a:xfrm>
              <a:off x="2872440" y="5014800"/>
              <a:ext cx="1141920" cy="1451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ми</a:t>
              </a:r>
              <a:endParaRPr b="0" lang="en-US" sz="4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2" name="Rectangle 7"/>
            <p:cNvSpPr/>
            <p:nvPr/>
          </p:nvSpPr>
          <p:spPr>
            <a:xfrm>
              <a:off x="4014720" y="4773600"/>
              <a:ext cx="1237320" cy="1692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фа</a:t>
              </a:r>
              <a:endParaRPr b="0" lang="en-US" sz="4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3" name="Rectangle 8"/>
            <p:cNvSpPr/>
            <p:nvPr/>
          </p:nvSpPr>
          <p:spPr>
            <a:xfrm>
              <a:off x="5156640" y="4530960"/>
              <a:ext cx="1425600" cy="19346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43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соль</a:t>
              </a:r>
              <a:endParaRPr b="0" lang="en-US" sz="43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4" name="Rectangle 9"/>
            <p:cNvSpPr/>
            <p:nvPr/>
          </p:nvSpPr>
          <p:spPr>
            <a:xfrm>
              <a:off x="6488280" y="4289760"/>
              <a:ext cx="1236240" cy="21762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ля</a:t>
              </a:r>
              <a:endParaRPr b="0" lang="en-US" sz="4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5" name="Rectangle 10"/>
            <p:cNvSpPr/>
            <p:nvPr/>
          </p:nvSpPr>
          <p:spPr>
            <a:xfrm>
              <a:off x="7724880" y="4047480"/>
              <a:ext cx="1141560" cy="24184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си</a:t>
              </a:r>
              <a:endParaRPr b="0" lang="en-US" sz="4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6" name="Rectangle 11"/>
            <p:cNvSpPr/>
            <p:nvPr/>
          </p:nvSpPr>
          <p:spPr>
            <a:xfrm>
              <a:off x="684360" y="5740920"/>
              <a:ext cx="1046520" cy="724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4500" spc="-1" strike="noStrike">
                  <a:solidFill>
                    <a:srgbClr val="ffffff"/>
                  </a:solidFill>
                  <a:latin typeface="Century Gothic"/>
                  <a:ea typeface="Times New Roman"/>
                </a:rPr>
                <a:t>до</a:t>
              </a:r>
              <a:endParaRPr b="0" lang="en-US" sz="45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87" name="Group 12"/>
          <p:cNvGrpSpPr/>
          <p:nvPr/>
        </p:nvGrpSpPr>
        <p:grpSpPr>
          <a:xfrm>
            <a:off x="-6229440" y="-1143000"/>
            <a:ext cx="15373440" cy="5761080"/>
            <a:chOff x="-6229440" y="-1143000"/>
            <a:chExt cx="15373440" cy="5761080"/>
          </a:xfrm>
        </p:grpSpPr>
        <p:sp>
          <p:nvSpPr>
            <p:cNvPr id="1188" name="AutoShape 13"/>
            <p:cNvSpPr/>
            <p:nvPr/>
          </p:nvSpPr>
          <p:spPr>
            <a:xfrm>
              <a:off x="-6229440" y="-1143000"/>
              <a:ext cx="15373440" cy="57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9" name="Oval 14"/>
            <p:cNvSpPr/>
            <p:nvPr/>
          </p:nvSpPr>
          <p:spPr>
            <a:xfrm>
              <a:off x="1208520" y="4215600"/>
              <a:ext cx="547200" cy="40212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0" name="Line 15"/>
            <p:cNvSpPr/>
            <p:nvPr/>
          </p:nvSpPr>
          <p:spPr>
            <a:xfrm>
              <a:off x="-340920" y="4014360"/>
              <a:ext cx="9484920" cy="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1" name="Line 16"/>
            <p:cNvSpPr/>
            <p:nvPr/>
          </p:nvSpPr>
          <p:spPr>
            <a:xfrm>
              <a:off x="-340920" y="3612240"/>
              <a:ext cx="9484920" cy="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2" name="Line 17"/>
            <p:cNvSpPr/>
            <p:nvPr/>
          </p:nvSpPr>
          <p:spPr>
            <a:xfrm>
              <a:off x="-340920" y="3209760"/>
              <a:ext cx="9484920" cy="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3" name="Line 18"/>
            <p:cNvSpPr/>
            <p:nvPr/>
          </p:nvSpPr>
          <p:spPr>
            <a:xfrm>
              <a:off x="-340920" y="2807640"/>
              <a:ext cx="9484920" cy="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4" name="Line 19"/>
            <p:cNvSpPr/>
            <p:nvPr/>
          </p:nvSpPr>
          <p:spPr>
            <a:xfrm>
              <a:off x="-340920" y="2405520"/>
              <a:ext cx="9484920" cy="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5" name="Line 20"/>
            <p:cNvSpPr/>
            <p:nvPr/>
          </p:nvSpPr>
          <p:spPr>
            <a:xfrm flipV="1">
              <a:off x="935280" y="4416120"/>
              <a:ext cx="1003320" cy="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6" name="Oval 21"/>
            <p:cNvSpPr/>
            <p:nvPr/>
          </p:nvSpPr>
          <p:spPr>
            <a:xfrm>
              <a:off x="2303280" y="4014360"/>
              <a:ext cx="548280" cy="40212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7" name="Oval 22"/>
            <p:cNvSpPr/>
            <p:nvPr/>
          </p:nvSpPr>
          <p:spPr>
            <a:xfrm>
              <a:off x="3488760" y="3813840"/>
              <a:ext cx="548280" cy="40176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8" name="Oval 23"/>
            <p:cNvSpPr/>
            <p:nvPr/>
          </p:nvSpPr>
          <p:spPr>
            <a:xfrm>
              <a:off x="4583520" y="3612240"/>
              <a:ext cx="548280" cy="40176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9" name="Oval 24"/>
            <p:cNvSpPr/>
            <p:nvPr/>
          </p:nvSpPr>
          <p:spPr>
            <a:xfrm>
              <a:off x="5769000" y="3411360"/>
              <a:ext cx="548280" cy="40212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0" name="Oval 25"/>
            <p:cNvSpPr/>
            <p:nvPr/>
          </p:nvSpPr>
          <p:spPr>
            <a:xfrm>
              <a:off x="6954480" y="3209760"/>
              <a:ext cx="548280" cy="40212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1" name="Oval 26"/>
            <p:cNvSpPr/>
            <p:nvPr/>
          </p:nvSpPr>
          <p:spPr>
            <a:xfrm>
              <a:off x="8140680" y="3009240"/>
              <a:ext cx="548280" cy="40212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02" name="AutoShape 27"/>
          <p:cNvSpPr/>
          <p:nvPr/>
        </p:nvSpPr>
        <p:spPr>
          <a:xfrm>
            <a:off x="4211640" y="981000"/>
            <a:ext cx="417672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3" name="Rectangle 28"/>
          <p:cNvSpPr/>
          <p:nvPr/>
        </p:nvSpPr>
        <p:spPr>
          <a:xfrm>
            <a:off x="2828880" y="-3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4" name="Rectangle 29"/>
          <p:cNvSpPr/>
          <p:nvPr/>
        </p:nvSpPr>
        <p:spPr>
          <a:xfrm>
            <a:off x="3564000" y="438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042920" y="206028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262626"/>
                </a:solidFill>
                <a:latin typeface="Georgia"/>
              </a:rPr>
              <a:t>Мелодией одной звучат печаль и радость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6399360" y="3311640"/>
            <a:ext cx="2744640" cy="60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А. Блок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799920" y="274320"/>
            <a:ext cx="7886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    </a:t>
            </a: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Мелодия -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1186920" y="1989000"/>
            <a:ext cx="683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это музыкальная мысль, выраженная одноголосно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благозвучная последовательность звуков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переводе с греческого языка означает «пение, песня»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7704360" cy="25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262626"/>
                </a:solidFill>
                <a:latin typeface="Century Gothic"/>
              </a:rPr>
              <a:t>«Вечный солнечный свет в музыке – имя тебе Моцарт»</a:t>
            </a:r>
            <a:br>
              <a:rPr sz="4000"/>
            </a:br>
            <a:r>
              <a:rPr b="0" lang="ru-RU" sz="4000" spc="-1" strike="noStrike">
                <a:solidFill>
                  <a:srgbClr val="262626"/>
                </a:solidFill>
                <a:latin typeface="Century Gothic"/>
              </a:rPr>
              <a:t>                               </a:t>
            </a:r>
            <a:r>
              <a:rPr b="0" i="1" lang="ru-RU" sz="2800" spc="-1" strike="noStrike">
                <a:solidFill>
                  <a:srgbClr val="262626"/>
                </a:solidFill>
                <a:latin typeface="Century Gothic"/>
              </a:rPr>
              <a:t>А.Рубинштейн</a:t>
            </a:r>
            <a:br>
              <a:rPr sz="2800"/>
            </a:b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10" name="Picture 3" descr=""/>
          <p:cNvPicPr/>
          <p:nvPr/>
        </p:nvPicPr>
        <p:blipFill>
          <a:blip r:embed="rId1"/>
          <a:srcRect l="0" t="0" r="6073" b="1505"/>
          <a:stretch/>
        </p:blipFill>
        <p:spPr>
          <a:xfrm>
            <a:off x="2597040" y="2043000"/>
            <a:ext cx="2668680" cy="38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"/>
          <p:cNvSpPr txBox="1"/>
          <p:nvPr/>
        </p:nvSpPr>
        <p:spPr>
          <a:xfrm>
            <a:off x="685800" y="533520"/>
            <a:ext cx="784872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        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Серенада — песня, исполненная для возлюбленной, в вечернее или ночное время и часто под её окном. Певец обычно сам аккомпанировал себе на лютне, мандолине или гитар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12" name="Рисунок 4" descr=""/>
          <p:cNvPicPr/>
          <p:nvPr/>
        </p:nvPicPr>
        <p:blipFill>
          <a:blip r:embed="rId1"/>
          <a:stretch/>
        </p:blipFill>
        <p:spPr>
          <a:xfrm>
            <a:off x="2008080" y="2187720"/>
            <a:ext cx="520380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3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2388960" cy="3162240"/>
          </a:xfrm>
          <a:prstGeom prst="rect">
            <a:avLst/>
          </a:prstGeom>
          <a:ln w="41400">
            <a:solidFill>
              <a:srgbClr val="766f54"/>
            </a:solidFill>
            <a:miter/>
          </a:ln>
        </p:spPr>
      </p:pic>
      <p:pic>
        <p:nvPicPr>
          <p:cNvPr id="1214" name="Picture 3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3960720" cy="2878200"/>
          </a:xfrm>
          <a:prstGeom prst="rect">
            <a:avLst/>
          </a:prstGeom>
          <a:ln w="41400">
            <a:solidFill>
              <a:srgbClr val="766f54"/>
            </a:solidFill>
            <a:miter/>
          </a:ln>
        </p:spPr>
      </p:pic>
      <p:pic>
        <p:nvPicPr>
          <p:cNvPr id="1215" name="Picture 4" descr=""/>
          <p:cNvPicPr/>
          <p:nvPr/>
        </p:nvPicPr>
        <p:blipFill>
          <a:blip r:embed="rId3"/>
          <a:stretch/>
        </p:blipFill>
        <p:spPr>
          <a:xfrm>
            <a:off x="5435640" y="333360"/>
            <a:ext cx="3348000" cy="3024360"/>
          </a:xfrm>
          <a:prstGeom prst="rect">
            <a:avLst/>
          </a:prstGeom>
          <a:ln w="41400">
            <a:solidFill>
              <a:srgbClr val="766f54"/>
            </a:solidFill>
            <a:miter/>
          </a:ln>
        </p:spPr>
      </p:pic>
      <p:pic>
        <p:nvPicPr>
          <p:cNvPr id="1216" name="Picture 5" descr=""/>
          <p:cNvPicPr/>
          <p:nvPr/>
        </p:nvPicPr>
        <p:blipFill>
          <a:blip r:embed="rId4"/>
          <a:srcRect l="0" t="0" r="59" b="155"/>
          <a:stretch/>
        </p:blipFill>
        <p:spPr>
          <a:xfrm>
            <a:off x="5292720" y="4292640"/>
            <a:ext cx="3454560" cy="2184480"/>
          </a:xfrm>
          <a:prstGeom prst="rect">
            <a:avLst/>
          </a:prstGeom>
          <a:ln w="41400">
            <a:solidFill>
              <a:srgbClr val="766f54"/>
            </a:solidFill>
            <a:miter/>
          </a:ln>
        </p:spPr>
      </p:pic>
      <p:pic>
        <p:nvPicPr>
          <p:cNvPr id="1217" name="Picture 6" descr=""/>
          <p:cNvPicPr/>
          <p:nvPr/>
        </p:nvPicPr>
        <p:blipFill>
          <a:blip r:embed="rId5"/>
          <a:stretch/>
        </p:blipFill>
        <p:spPr>
          <a:xfrm>
            <a:off x="3132000" y="907920"/>
            <a:ext cx="2714760" cy="3527640"/>
          </a:xfrm>
          <a:prstGeom prst="rect">
            <a:avLst/>
          </a:prstGeom>
          <a:ln w="41400">
            <a:solidFill>
              <a:srgbClr val="766f5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18960" y="1218960"/>
            <a:ext cx="394164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262626"/>
                </a:solidFill>
                <a:latin typeface="Century Gothic"/>
              </a:rPr>
              <a:t>Lacrimosa - 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ubTitle"/>
          </p:nvPr>
        </p:nvSpPr>
        <p:spPr>
          <a:xfrm>
            <a:off x="1116000" y="2565000"/>
            <a:ext cx="6400800" cy="30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200" spc="-1" strike="noStrike">
                <a:solidFill>
                  <a:srgbClr val="595959"/>
                </a:solidFill>
                <a:latin typeface="Century Gothic"/>
              </a:rPr>
              <a:t>(в переводе с латинского)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595959"/>
                </a:solidFill>
                <a:latin typeface="Century Gothic"/>
              </a:rPr>
              <a:t> </a:t>
            </a:r>
            <a:r>
              <a:rPr b="0" lang="ru-RU" sz="4000" spc="-1" strike="noStrike">
                <a:solidFill>
                  <a:srgbClr val="595959"/>
                </a:solidFill>
                <a:latin typeface="Century Gothic"/>
              </a:rPr>
              <a:t>трогающая до слёз;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595959"/>
                </a:solidFill>
                <a:latin typeface="Century Gothic"/>
              </a:rPr>
              <a:t> </a:t>
            </a:r>
            <a:r>
              <a:rPr b="0" lang="ru-RU" sz="4000" spc="-1" strike="noStrike">
                <a:solidFill>
                  <a:srgbClr val="595959"/>
                </a:solidFill>
                <a:latin typeface="Century Gothic"/>
              </a:rPr>
              <a:t>«полная слёз»;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595959"/>
                </a:solidFill>
                <a:latin typeface="Century Gothic"/>
              </a:rPr>
              <a:t> </a:t>
            </a:r>
            <a:r>
              <a:rPr b="0" lang="ru-RU" sz="4000" spc="-1" strike="noStrike">
                <a:solidFill>
                  <a:srgbClr val="595959"/>
                </a:solidFill>
                <a:latin typeface="Century Gothic"/>
              </a:rPr>
              <a:t>скорбная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0" name="Picture 2" descr=""/>
          <p:cNvPicPr/>
          <p:nvPr/>
        </p:nvPicPr>
        <p:blipFill>
          <a:blip r:embed="rId1"/>
          <a:srcRect l="0" t="0" r="0" b="49"/>
          <a:stretch/>
        </p:blipFill>
        <p:spPr>
          <a:xfrm>
            <a:off x="4643280" y="476280"/>
            <a:ext cx="4210200" cy="5545080"/>
          </a:xfrm>
          <a:prstGeom prst="rect">
            <a:avLst/>
          </a:prstGeom>
          <a:ln w="0">
            <a:noFill/>
          </a:ln>
        </p:spPr>
      </p:pic>
      <p:pic>
        <p:nvPicPr>
          <p:cNvPr id="1221" name="Picture 3" descr=""/>
          <p:cNvPicPr/>
          <p:nvPr/>
        </p:nvPicPr>
        <p:blipFill>
          <a:blip r:embed="rId2"/>
          <a:srcRect l="10346" t="7789" r="11648" b="26257"/>
          <a:stretch/>
        </p:blipFill>
        <p:spPr>
          <a:xfrm>
            <a:off x="0" y="476280"/>
            <a:ext cx="4464000" cy="5256360"/>
          </a:xfrm>
          <a:prstGeom prst="rect">
            <a:avLst/>
          </a:prstGeom>
          <a:ln w="0">
            <a:noFill/>
          </a:ln>
        </p:spPr>
      </p:pic>
      <p:sp>
        <p:nvSpPr>
          <p:cNvPr id="1222" name="Rectangle 4"/>
          <p:cNvSpPr/>
          <p:nvPr/>
        </p:nvSpPr>
        <p:spPr>
          <a:xfrm>
            <a:off x="0" y="4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99280" bIns="-6120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3" name="Rectangle 5"/>
          <p:cNvSpPr/>
          <p:nvPr/>
        </p:nvSpPr>
        <p:spPr>
          <a:xfrm>
            <a:off x="1800" y="43560"/>
            <a:ext cx="18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4" name="Rectangle 6"/>
          <p:cNvSpPr/>
          <p:nvPr/>
        </p:nvSpPr>
        <p:spPr>
          <a:xfrm>
            <a:off x="1800" y="626364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3-01-24T14:42:5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6050000000000010243100207f6000400038000</vt:lpwstr>
  </property>
  <property fmtid="{D5CDD505-2E9C-101B-9397-08002B2CF9AE}" pid="3" name="Version">
    <vt:r8>1</vt:r8>
  </property>
</Properties>
</file>