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  <p:sldId id="266" r:id="rId29"/>
    <p:sldId id="267" r:id="rId30"/>
    <p:sldId id="268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slide" Target="slides/slide11.xml"/><Relationship Id="rId30" Type="http://schemas.openxmlformats.org/officeDocument/2006/relationships/slide" Target="slides/slide12.xml"/><Relationship Id="rId31" Type="http://schemas.openxmlformats.org/officeDocument/2006/relationships/slide" Target="slides/slide13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9E736-BA83-4778-9CBA-E2A82DDB4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89FA8-8FB9-4BEF-9848-18714E3DB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D8FCF1-AFF8-4D54-84CA-42F94917F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1BC33D-1D90-4D32-AA00-E21F61EED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2CD085-572E-4A78-A2B7-27E7DA7F9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D97447-C6B4-48E6-99FF-D9FFC9FDC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9390F2-DE73-4941-ACD5-ED3E77A15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A20DFC-4F84-4C38-8498-0927AFEF7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385AEB-1992-4421-9487-0612F50A2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5AC1A9-E2A7-4CE5-9C9D-7B5BD9B5B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8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9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0E587A-ACEB-4EC0-A034-2608D5E7E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B9480B-E306-406B-A842-EBA408534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49DB1-BA24-4A19-8701-64F7A2B8A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230BAA-45AB-4737-B896-DF1571EE3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97999B-80A1-4A7E-A1A1-52F6E23C6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3D8B08-FF21-4860-8625-3D8D90886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199A5F-C68C-4E51-B799-B684E8FD8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713FFD-1F98-4D5C-8BE2-08F86D751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86F946-7789-4024-90FB-8ACF57998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5678BC-0B25-4AF1-9EDE-154C84C35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34B0CD-8C30-481F-9CAE-B6E620D1B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A89118-F26B-48E6-9252-CAEB1E9B7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9B0C1B-DC3D-4569-966E-5F3707FFD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FDDB0-9961-4A6F-AA0B-C649F7C0F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A1EE9C-8624-43FF-87C9-9DDECE59E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8EB127-9BB4-459B-A27F-24F59D73E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23A9C3-AA66-4405-BC9F-DC16E9999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464A68-333E-4E9C-80BF-8B8FBC183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F8148A-6DB5-49BD-B9BC-E3B9143A0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09D534-F42A-44C2-8EE5-DDED82761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3EE60E-5182-40DA-BCFA-D289B1643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A3EAF9-3DB0-453D-8AF0-8E3180AB6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D18025-1C3A-4012-91D8-0012E9ABD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8CC8AA-7BC6-48E7-BFBC-93966998D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F2C97-D3D5-44C5-AC96-FA12626D9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5AA954-BA7F-48D4-B457-F216F7FCB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8ED96E-1528-4B01-84D1-EB693F07D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087646-56FB-466D-9B09-937001EFB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262822-497D-46E8-A247-15E398CC7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9DB95C-53AC-46FC-9E48-CE596AB92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DD1B3D-60E5-4DFE-89DC-EA73B81F9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FA8F78-5B12-4C9A-80F7-11E499CA7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8E8116-CA2C-4321-AC71-53E8F19A2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C9793C-EAFB-4A2B-AE2E-3424F7853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81259A-6C75-45C2-82BB-D2AD796C1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8024B-5786-43A9-993C-B57BAD24E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A52FDF-D70C-45AC-91DE-B736D3D5B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E8F90F-81A4-4DE7-94FD-C40C7B5CA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CC9BBA-36BB-4043-B4E1-9033FA25A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A212BC-44B7-4155-A7AF-E4B002BBD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CE90CA-ABF6-4D9D-A218-C87E6D460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88EF641-F37F-42CB-864A-30B67C38C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B1A5173-8455-4443-B51E-58562E4EF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C605815-1408-47A9-A21C-77A997BCA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56D5D14-BA3D-4DD6-8BD4-07F50A070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0367C0C-7649-47AF-9889-F02CD3014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4C718-6305-4FB3-B2A0-BEEC99E18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5B3DB54-ECAB-4FE3-8EE3-82E11C1E3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A50B9F0-D4FE-4AA8-9873-71F8DE9FE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A3B25B2-0C66-4343-B3FF-1059A4BF4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3CCBE0A-2C09-44DB-915A-A343292AC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EE18443-9897-4F7B-ADA8-A1E68C5E9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9C568CA-9639-45E3-A0CF-0B159BFDE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0E64E82-617A-4560-B638-F5E87EB21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EA5E554-FE8E-4CF9-9497-0334E8915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758BB7D-991B-47EB-A140-29803B059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737E296-8A71-4E12-84CA-3C866FF70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2E22D-15B8-47A9-94AA-2EEA4532B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9467A69-E545-4FB8-BA7F-2A099AF6F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B51C858-10F4-4B28-9883-421E96A11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E96B610-26EB-4658-8DB7-F03C47E4A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0D8B2F6-DAC1-459F-9D39-BB732D70D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69E9EC4-1FA0-4798-AB21-100A131C5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C9475BA-C57E-460A-9EDC-59A8A610F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A4D77A0-813D-42D8-B097-FB0F8694F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D92A689-4DDF-4C1E-9D6A-12D4BF4AC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486DA8B-F3D4-4DC2-BFDE-49B53699E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AFD79D4-5EF3-4117-A9FD-69822B07D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6D327-FC46-4177-92F0-CE3195D32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10B8A1D-C0D8-408C-8F60-AD7AA0347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AA1E9B5-7F62-4F16-853F-BE6785EB3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33DC1E4-5A4F-4726-9F04-40793786C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06DAA20-8611-4889-9360-67ACD1DDC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DFE10F6-3F17-422E-B7A7-C921C8023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B423E74-5A2F-494F-B546-6F60BE381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21C3843-6425-41A2-A1E0-DA1E8C4BE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E9E1E5E-383E-4E9F-98FC-AD2E75F45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7B61851-6687-4A74-97B0-70F3C8AF3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3628DEB-4AF8-4CAD-B262-686E4A3CB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9E232-3415-4AAF-9167-B94B62CAB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AD240CF-8750-4D04-8E49-2429BE90D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B3F69C2-D6AF-4461-BF22-7967E1260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3E30E73-DA55-4132-9ED7-1CA7BBDB7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E0676BB-797F-44FC-B272-FE3F6B35C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8FE52F6-61E8-43D4-A9F0-6FB59D565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3B654F5-615B-4C2E-8B51-61B0C49DF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53977B3-B09F-4736-B640-A0CCA7A9C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8C3956B-337B-4F86-A403-F6C4B622E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B86B4EA-D737-4864-B48F-DD46AF88A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FD9CA0D-36EB-4A13-A080-981E4F3B2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5F30E-9CFF-4426-8D24-DDD659176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E8E0026-20B8-443A-9DFF-712D78BF9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F12B6AF-FE6A-43B4-B05F-A23C3FF49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43C3331-1012-4D31-A69E-6E2133813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327E2FB-EA32-4BBD-8ABE-9ABE2741E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B17424D-DF63-4A27-A02C-652F29922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498939A-0B83-4CC7-9CB6-6D04CA469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5CDCFFA-EA9B-4BB6-8590-8F2BB0ECD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41F4A67-6266-4C6F-ABD1-1CFCC98F1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4B0B7DC-7A98-4948-949E-E7A687DCC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7D0B43C-0AEF-42AD-B238-943687BBA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85236-92AF-4DC7-856B-C7C2E883C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05823-738B-4E6F-BB95-4ABECB8D4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C739603-C950-47E3-8F88-D3AA5E665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9456A71-0014-41DB-BB0A-5DB0647E2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EF95B4E-9044-4113-8714-A2FEBE53C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8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458030E-8641-47C5-866F-43F99C702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3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4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5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DF84337-CFD4-4E01-AD41-179B3A1AD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36BF2-5374-41F1-8F43-910151350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23382-314C-4502-9259-3C9ABB50B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CBA92-92C9-4755-AEDD-3C3FAE3ED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3D9D6-E364-4B6D-A93D-C620BAFE0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CB882A-E832-4E34-A591-D1C9A4774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9442AE-CB5D-4561-8942-49581865C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6B4FE2-A4C4-43B2-B507-4F8488149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A5297B-71A8-43FB-9A80-C7D00C536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A67B39-68AB-4B40-9FAD-015E5E291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D668D-0C91-4A5A-9EC4-A655D73BC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B24C65-1CC9-4381-9A38-669FA106E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681BEC-E09D-4D31-A26D-166891E79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D14467-B86D-4D19-A268-930C97F27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CBA4DB-E40F-46A0-B369-50ECBE596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D48259-F4BE-43F6-8D57-177882A01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76FC9D-86C7-4AF8-8F8C-A505FB644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35BE09-E58A-460C-AD61-6A74868CB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13B3F5-9322-422D-B60E-138764A03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E212DE-A8ED-47C0-BE17-AA21E6122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2F774F-78C4-4480-98DE-96FFF2D99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D958C-2110-4A4D-BD9A-2FDAF0591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B6978B-B50E-4C90-9118-2CCB83F42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4E4DDF-236F-4F4B-94DE-6BA476F19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0E8BF0-B42E-4CAF-8ABA-3CD80B7B1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F47478-5D31-483A-94BE-962F73DB2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B4B325-911D-4945-9225-50C6994BA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718C42-FC3D-492A-AAE4-B553E647D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D931A9-9301-4D74-A0A9-A550D2840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D3B4DB-B34A-4464-B4C8-FDD4E6C98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FA61FE-9BA1-4F43-8052-BBDD7D04B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E9412D-F93B-4DD1-A309-25B4D4276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54574-0AEC-4D2C-8441-13B422F18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BBC8B9-3BBF-46AD-B57F-C85DA5E5C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95B4B7-BED2-46C2-BE38-6B15A3E84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785875-0C6E-4F74-B1ED-502938D55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1CB851-E918-4514-8602-18EDC8860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35A574-BCBF-4E95-9B40-D3B8022A0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FE9868-526D-4465-A4C4-0141ED9DE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D8D7D2-F8FC-41D9-B698-C9B37007A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716589-95A6-4656-821D-1B6AC8521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545FC8-C97C-4B2D-A4B2-6203F79A7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46D2CC-5798-4E14-813A-22EEE4953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1E1D0-4B0C-432C-8079-301AA7A9A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38A7B4-4C2E-4926-A555-8AD42093B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590531-C4FE-4518-98B9-2710E124C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3265C1-06D9-4EE8-A7BA-54535AA3B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DF35BE-DCAA-4707-9A22-023AB04CA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73694B-AD23-4F1D-93CA-EBF3BA4F6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131B6F-B35B-44E6-A452-E0A214A8E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7A9C8F-4A6B-4DB3-91B6-12A756877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56945E-C706-41E0-8CF6-159C46C24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D4B8E9-30D2-4E7C-A99B-894057C36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1F0445-E74C-4DFB-B992-C8B2469F4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51D94-FF95-4407-B0C2-264E1992C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3F92C8-6C6B-4192-AC38-F66A3BA52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9135A0-4F49-44A0-9032-A5D8D744C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BF0B44-C255-4467-9FBC-029C91E90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6C99BD-F056-45A6-A9F0-47523E966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92BE4D-3D1A-4A24-B540-B3C862476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D742FD-2250-4A92-84D0-AEF9CDED7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5EC4EA-DB79-416A-B14E-D5BEF367C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465F8D-D5F5-47A3-B2A6-1D47FBD83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8FB017-A50C-482B-B16E-6617FACB1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4DA1EF-DD21-4E4A-A8F7-DEF1F131A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6EC31-F270-4A20-970B-71DC32A60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DCEFEE-E33D-419B-B206-44DAED625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4A0D33-1923-426A-B398-0CCA501B4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296EC4-19DA-4D14-A061-727039315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36A14B-1D59-4450-8251-B65B06962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78C1E1-F596-42D5-ACD0-0952E9C3C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0E3A04-A01C-4271-98D4-13D95D80B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44B0AA-D377-4B3F-8CD9-673A0ED03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0FDEB4-2696-40FA-9584-3AB404EE0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80E910-22C9-4AD9-A300-073425538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EB51B5-BB39-438C-AB37-6CFDF0936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B9409-0535-4F27-A8F1-8FE315728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2C3BFB-BFEF-4FA3-BAF6-F1CF557EC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ECE0B8-E103-494B-8D31-1B212FEF1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E76DE3-3958-4CE3-9417-B6BE03D20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2E003E-DEC6-463A-856E-28058578E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70BFFD-A5F0-42E1-A88D-C6D468519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A46197-1CAB-4ED7-80F8-0943671EE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9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0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A0B48B-157D-43B0-8079-165061FB6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B6C709-F397-47FB-81FD-B8FFBA204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C1902B-F39F-479C-8646-B1818FF9E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3F583A-43B9-4C2B-8FE9-DE7F64EC2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3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4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7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5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6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5E58956-A185-4BB7-8F90-9C94F248F964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0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21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2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3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4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5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6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7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8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9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0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1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2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633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634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5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6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7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8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9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0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1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2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3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4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5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646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7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28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29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30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9276DF8-0637-40FE-8AFF-3DFB24931BC0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9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70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70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71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6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 type="dt" idx="31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 type="ftr" idx="32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 type="sldNum" idx="33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D6E1053-FCFA-455D-8094-E06F18D51D30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75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77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77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78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5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6" name="TextBox 7"/>
          <p:cNvSpPr/>
          <p:nvPr/>
        </p:nvSpPr>
        <p:spPr>
          <a:xfrm>
            <a:off x="1808280" y="6476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7" name="TextBox 8"/>
          <p:cNvSpPr/>
          <p:nvPr/>
        </p:nvSpPr>
        <p:spPr>
          <a:xfrm>
            <a:off x="8169120" y="2905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 type="dt" idx="34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 type="ftr" idx="35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2" name="PlaceHolder 5"/>
          <p:cNvSpPr>
            <a:spLocks noGrp="1"/>
          </p:cNvSpPr>
          <p:nvPr>
            <p:ph type="sldNum" idx="36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04C59B-6A24-4060-9ED3-C5CEA22367DD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83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84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84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85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6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 type="dt" idx="37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 type="ftr" idx="38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61" name="PlaceHolder 5"/>
          <p:cNvSpPr>
            <a:spLocks noGrp="1"/>
          </p:cNvSpPr>
          <p:nvPr>
            <p:ph type="sldNum" idx="39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E316F0-3EF2-4151-A19F-5AA001C01CFE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89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91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91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92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5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6" name="TextBox 7"/>
          <p:cNvSpPr/>
          <p:nvPr/>
        </p:nvSpPr>
        <p:spPr>
          <a:xfrm>
            <a:off x="1808280" y="6476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7" name="TextBox 8"/>
          <p:cNvSpPr/>
          <p:nvPr/>
        </p:nvSpPr>
        <p:spPr>
          <a:xfrm>
            <a:off x="8169120" y="2905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 type="dt" idx="40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 type="ftr" idx="41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32" name="PlaceHolder 5"/>
          <p:cNvSpPr>
            <a:spLocks noGrp="1"/>
          </p:cNvSpPr>
          <p:nvPr>
            <p:ph type="sldNum" idx="42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F118840-1F97-4416-A317-0BD8935B172C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97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98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98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99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96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 type="dt" idx="43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 type="ftr" idx="44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01" name="PlaceHolder 5"/>
          <p:cNvSpPr>
            <a:spLocks noGrp="1"/>
          </p:cNvSpPr>
          <p:nvPr>
            <p:ph type="sldNum" idx="45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7955E35-3326-4EB6-8FD6-ECE6B2470BF5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03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05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05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06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65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 type="dt" idx="46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 type="ftr" idx="47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 type="sldNum" idx="48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797293E-16EE-4255-8D7C-29D28082BC38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7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108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09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0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1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2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3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4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5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6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7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8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9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120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121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2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3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4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5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6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7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8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9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0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1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2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133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4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 type="dt" idx="49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8" name="PlaceHolder 4"/>
          <p:cNvSpPr>
            <a:spLocks noGrp="1"/>
          </p:cNvSpPr>
          <p:nvPr>
            <p:ph type="ftr" idx="50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9" name="PlaceHolder 5"/>
          <p:cNvSpPr>
            <a:spLocks noGrp="1"/>
          </p:cNvSpPr>
          <p:nvPr>
            <p:ph type="sldNum" idx="51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E9364C-DD1F-41A9-83F9-C1E791273C2B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8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8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9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5" name="Freeform 8"/>
          <p:cNvSpPr/>
          <p:nvPr/>
        </p:nvSpPr>
        <p:spPr>
          <a:xfrm>
            <a:off x="-31680" y="4321080"/>
            <a:ext cx="1395360" cy="781200"/>
          </a:xfrm>
          <a:custGeom>
            <a:avLst/>
            <a:gdLst/>
            <a:ahLst/>
            <a:rect l="l" t="t" r="r" b="b"/>
            <a:pathLst>
              <a:path w="8042" h="10000">
                <a:moveTo>
                  <a:pt x="5799" y="10000"/>
                </a:moveTo>
                <a:cubicBezTo>
                  <a:pt x="5880" y="10000"/>
                  <a:pt x="5934" y="9940"/>
                  <a:pt x="5961" y="9880"/>
                </a:cubicBezTo>
                <a:cubicBezTo>
                  <a:pt x="5961" y="9820"/>
                  <a:pt x="5988" y="9820"/>
                  <a:pt x="5988" y="9820"/>
                </a:cubicBezTo>
                <a:lnTo>
                  <a:pt x="8042" y="5260"/>
                </a:lnTo>
                <a:cubicBezTo>
                  <a:pt x="8096" y="5140"/>
                  <a:pt x="8096" y="4901"/>
                  <a:pt x="8042" y="4721"/>
                </a:cubicBezTo>
                <a:lnTo>
                  <a:pt x="5988" y="221"/>
                </a:lnTo>
                <a:cubicBezTo>
                  <a:pt x="5988" y="160"/>
                  <a:pt x="5961" y="160"/>
                  <a:pt x="5961" y="160"/>
                </a:cubicBezTo>
                <a:cubicBezTo>
                  <a:pt x="5934" y="101"/>
                  <a:pt x="5880" y="41"/>
                  <a:pt x="5799" y="41"/>
                </a:cubicBezTo>
                <a:lnTo>
                  <a:pt x="18" y="0"/>
                </a:lnTo>
                <a:cubicBezTo>
                  <a:pt x="12" y="3330"/>
                  <a:pt x="6" y="6661"/>
                  <a:pt x="0" y="9991"/>
                </a:cubicBezTo>
                <a:lnTo>
                  <a:pt x="5799" y="10000"/>
                </a:ln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4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5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6"/>
          </p:nvPr>
        </p:nvSpPr>
        <p:spPr>
          <a:xfrm>
            <a:off x="423360" y="4529160"/>
            <a:ext cx="584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5E80690-8D5A-4AE6-AAC3-562C31F5EF08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38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39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0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1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2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3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4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5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6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7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8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9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50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51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2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3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4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5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6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7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8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9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0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1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2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63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4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7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8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9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24F1ED-14FC-468F-9BBB-46B37441B89B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207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8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9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0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1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2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3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4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5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6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7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8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219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220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1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2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3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4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5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6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7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8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9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0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1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32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3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dt" idx="10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ftr" idx="11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sldNum" idx="12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1616A41-0A21-43FC-BE75-5038442D7904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5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276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7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8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9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0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1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2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3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4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5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6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7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288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289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0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1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2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3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4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5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6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7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8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9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00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01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2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13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14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15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9FABC3-59D8-4D8D-9C9F-5CE5064F1B18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4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345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6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7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8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9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0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1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2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3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4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5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6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357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358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9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0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1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2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3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4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5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6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7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8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9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70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1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16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17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18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D1D619A-C47C-4525-BF6B-B6380DDDC609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3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414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5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6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7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8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9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0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1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2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3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4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5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426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427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8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9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0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1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2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3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4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5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6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7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8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439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0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dt" idx="19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ftr" idx="20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sldNum" idx="21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1E2A6E1-EC2B-4190-AA90-607C7DF46846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2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483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4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5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6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7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8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9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0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1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2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3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4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495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496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7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8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9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0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1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2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3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4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5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6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7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508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9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 type="dt" idx="22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 type="ftr" idx="23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 type="sldNum" idx="24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E5A014B-6137-4D4F-B9D8-5259F653385E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1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552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3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4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5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6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7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8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9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0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1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2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3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564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565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6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7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8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9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0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1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2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3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4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5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6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577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8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 type="dt" idx="25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 type="ftr" idx="26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 type="sldNum" idx="27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DF3934-F4D2-485A-B8B3-BEF77D11E6D5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762120" y="762120"/>
            <a:ext cx="7696080" cy="283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4400" spc="-1" strike="noStrike">
                <a:solidFill>
                  <a:srgbClr val="262626"/>
                </a:solidFill>
                <a:latin typeface="Georgia"/>
              </a:rPr>
              <a:t>Мелодией одной звучат печаль и радость</a:t>
            </a:r>
            <a:br>
              <a:rPr sz="4400"/>
            </a:br>
            <a:r>
              <a:rPr b="0" lang="ru-RU" sz="2400" spc="-1" strike="noStrike">
                <a:solidFill>
                  <a:srgbClr val="262626"/>
                </a:solidFill>
                <a:latin typeface="Century Gothic"/>
              </a:rPr>
              <a:t>урок музыки в 6 классе по программе </a:t>
            </a:r>
            <a:br>
              <a:rPr sz="2400"/>
            </a:br>
            <a:r>
              <a:rPr b="0" lang="ru-RU" sz="2400" spc="-1" strike="noStrike">
                <a:solidFill>
                  <a:srgbClr val="262626"/>
                </a:solidFill>
                <a:latin typeface="Century Gothic"/>
              </a:rPr>
              <a:t>В.В. Алеева</a:t>
            </a:r>
            <a:r>
              <a:rPr b="0" lang="ru-RU" sz="4400" spc="-1" strike="noStrike">
                <a:solidFill>
                  <a:srgbClr val="262626"/>
                </a:solidFill>
                <a:latin typeface="Century Gothic"/>
              </a:rPr>
              <a:t> </a:t>
            </a:r>
            <a:endParaRPr b="0" lang="en-US" sz="4400" spc="-1" strike="noStrike">
              <a:solidFill>
                <a:srgbClr val="26262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1186920" y="260280"/>
            <a:ext cx="7704360" cy="25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000" spc="-1" strike="noStrike">
                <a:solidFill>
                  <a:srgbClr val="262626"/>
                </a:solidFill>
                <a:latin typeface="Century Gothic"/>
              </a:rPr>
              <a:t>«Вечный солнечный свет в музыке – имя тебе Моцарт»</a:t>
            </a:r>
            <a:br>
              <a:rPr sz="4000"/>
            </a:br>
            <a:r>
              <a:rPr b="0" lang="ru-RU" sz="4000" spc="-1" strike="noStrike">
                <a:solidFill>
                  <a:srgbClr val="262626"/>
                </a:solidFill>
                <a:latin typeface="Century Gothic"/>
              </a:rPr>
              <a:t>                               </a:t>
            </a:r>
            <a:r>
              <a:rPr b="0" i="1" lang="ru-RU" sz="2800" spc="-1" strike="noStrike">
                <a:solidFill>
                  <a:srgbClr val="262626"/>
                </a:solidFill>
                <a:latin typeface="Century Gothic"/>
              </a:rPr>
              <a:t>А.Рубинштейн</a:t>
            </a:r>
            <a:br>
              <a:rPr sz="2800"/>
            </a:br>
            <a:endParaRPr b="0" lang="en-US" sz="2800" spc="-1" strike="noStrike">
              <a:solidFill>
                <a:srgbClr val="262626"/>
              </a:solidFill>
              <a:latin typeface="Century Gothic"/>
            </a:endParaRPr>
          </a:p>
        </p:txBody>
      </p:sp>
      <p:pic>
        <p:nvPicPr>
          <p:cNvPr id="1226" name="Picture 3" descr=""/>
          <p:cNvPicPr/>
          <p:nvPr/>
        </p:nvPicPr>
        <p:blipFill>
          <a:blip r:embed="rId1"/>
          <a:srcRect l="0" t="0" r="6073" b="1505"/>
          <a:stretch/>
        </p:blipFill>
        <p:spPr>
          <a:xfrm>
            <a:off x="2597040" y="2043000"/>
            <a:ext cx="2668680" cy="380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"/>
          <p:cNvSpPr txBox="1"/>
          <p:nvPr/>
        </p:nvSpPr>
        <p:spPr>
          <a:xfrm>
            <a:off x="1447560" y="0"/>
            <a:ext cx="70866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«Любимая школа»  </a:t>
            </a:r>
            <a:endParaRPr b="0" lang="en-US" sz="9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1.Школа смотрит добрыми глазами,</a:t>
            </a:r>
            <a:endParaRPr b="0" lang="en-US" sz="9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И сияет взгляд от чистоты,</a:t>
            </a:r>
            <a:endParaRPr b="0" lang="en-US" sz="9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Наполняет небо голосами,</a:t>
            </a:r>
            <a:endParaRPr b="0" lang="en-US" sz="9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Украшает красками холсты.</a:t>
            </a:r>
            <a:endParaRPr b="0" lang="en-US" sz="9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 самого начала объяснила нам,</a:t>
            </a:r>
            <a:endParaRPr b="0" lang="en-US" sz="9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Что душа дороже серебра,</a:t>
            </a:r>
            <a:endParaRPr b="0" lang="en-US" sz="9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Наша школа самая любимая -</a:t>
            </a:r>
            <a:endParaRPr b="0" lang="en-US" sz="9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Колыбель искусства и добра.</a:t>
            </a:r>
            <a:endParaRPr b="0" lang="en-US" sz="9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рипев: Ты даришь звуки,</a:t>
            </a:r>
            <a:endParaRPr b="0" lang="en-US" sz="9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Ты даришь краски,</a:t>
            </a:r>
            <a:endParaRPr b="0" lang="en-US" sz="9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И оживают детские сказки.</a:t>
            </a:r>
            <a:endParaRPr b="0" lang="en-US" sz="9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т классики до рок-н-рола:</a:t>
            </a:r>
            <a:endParaRPr b="0" lang="en-US" sz="9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сё дарит любимая школа.</a:t>
            </a:r>
            <a:endParaRPr b="0" lang="en-US" sz="9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т классики до рок-н-рола:</a:t>
            </a:r>
            <a:endParaRPr b="0" lang="en-US" sz="9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сё дарит любимая школа.</a:t>
            </a:r>
            <a:endParaRPr b="0" lang="en-US" sz="9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2.Высоки и помыслы, и чувства</a:t>
            </a:r>
            <a:endParaRPr b="0" lang="en-US" sz="9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И бегут твои ученики</a:t>
            </a:r>
            <a:endParaRPr b="0" lang="en-US" sz="9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 храм благословенного искусства</a:t>
            </a:r>
            <a:endParaRPr b="0" lang="en-US" sz="9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Быстрой стайкой наперегонки.</a:t>
            </a:r>
            <a:endParaRPr b="0" lang="en-US" sz="9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Это дверь, открытая для каждого,</a:t>
            </a:r>
            <a:endParaRPr b="0" lang="en-US" sz="9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И, покуда вертится земля,</a:t>
            </a:r>
            <a:endParaRPr b="0" lang="en-US" sz="9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амое заветное и важное</a:t>
            </a:r>
            <a:endParaRPr b="0" lang="en-US" sz="9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ткрывают нам учителя.</a:t>
            </a:r>
            <a:endParaRPr b="0" lang="en-US" sz="9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рипев:</a:t>
            </a:r>
            <a:endParaRPr b="0" lang="en-US" sz="9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3.По огромным просторам России</a:t>
            </a:r>
            <a:endParaRPr b="0" lang="en-US" sz="9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Разлетаются выпускники</a:t>
            </a:r>
            <a:endParaRPr b="0" lang="en-US" sz="9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И несут широко и красиво</a:t>
            </a:r>
            <a:endParaRPr b="0" lang="en-US" sz="9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вет небесный во все уголки.</a:t>
            </a:r>
            <a:endParaRPr b="0" lang="en-US" sz="9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т души пожелать тебе хочется,</a:t>
            </a:r>
            <a:endParaRPr b="0" lang="en-US" sz="9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Чтобы ныне и через века</a:t>
            </a:r>
            <a:endParaRPr b="0" lang="en-US" sz="9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робивалось в сердцах твоё творчество</a:t>
            </a:r>
            <a:endParaRPr b="0" lang="en-US" sz="9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еребристой водой родника.</a:t>
            </a:r>
            <a:endParaRPr b="0" lang="en-US" sz="9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рипев.</a:t>
            </a:r>
            <a:endParaRPr b="0" lang="en-US" sz="9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262626"/>
                </a:solidFill>
                <a:latin typeface="Century Gothic"/>
              </a:rPr>
              <a:t>Настроение нашего класса: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29" name=""/>
          <p:cNvSpPr txBox="1"/>
          <p:nvPr/>
        </p:nvSpPr>
        <p:spPr>
          <a:xfrm>
            <a:off x="394920" y="1988640"/>
            <a:ext cx="871380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Century Gothic"/>
              </a:rPr>
              <a:t>До –  </a:t>
            </a:r>
            <a:r>
              <a:rPr b="0" lang="ru-RU" sz="2800" spc="-1" strike="noStrike">
                <a:solidFill>
                  <a:srgbClr val="404040"/>
                </a:solidFill>
                <a:latin typeface="Century Gothic"/>
              </a:rPr>
              <a:t>хотелось поскорее уйти с урока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Century Gothic"/>
              </a:rPr>
              <a:t>Ре –  </a:t>
            </a:r>
            <a:r>
              <a:rPr b="0" lang="ru-RU" sz="2800" spc="-1" strike="noStrike">
                <a:solidFill>
                  <a:srgbClr val="404040"/>
                </a:solidFill>
                <a:latin typeface="Century Gothic"/>
              </a:rPr>
              <a:t>было очень трудно, 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Century Gothic"/>
              </a:rPr>
              <a:t>            </a:t>
            </a:r>
            <a:r>
              <a:rPr b="0" lang="ru-RU" sz="2800" spc="-1" strike="noStrike">
                <a:solidFill>
                  <a:srgbClr val="404040"/>
                </a:solidFill>
                <a:latin typeface="Century Gothic"/>
              </a:rPr>
              <a:t>некоторые моменты были непонятны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Century Gothic"/>
              </a:rPr>
              <a:t>Ми – </a:t>
            </a:r>
            <a:r>
              <a:rPr b="0" lang="ru-RU" sz="2800" spc="-1" strike="noStrike">
                <a:solidFill>
                  <a:srgbClr val="404040"/>
                </a:solidFill>
                <a:latin typeface="Century Gothic"/>
              </a:rPr>
              <a:t>поразила траурная музыка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Century Gothic"/>
              </a:rPr>
              <a:t>Фа – </a:t>
            </a:r>
            <a:r>
              <a:rPr b="0" lang="ru-RU" sz="2800" spc="-1" strike="noStrike">
                <a:solidFill>
                  <a:srgbClr val="404040"/>
                </a:solidFill>
                <a:latin typeface="Century Gothic"/>
              </a:rPr>
              <a:t>не успели устать, 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Century Gothic"/>
              </a:rPr>
              <a:t>            </a:t>
            </a:r>
            <a:r>
              <a:rPr b="0" lang="ru-RU" sz="2800" spc="-1" strike="noStrike">
                <a:solidFill>
                  <a:srgbClr val="404040"/>
                </a:solidFill>
                <a:latin typeface="Century Gothic"/>
              </a:rPr>
              <a:t>все время что-то узнавали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Century Gothic"/>
              </a:rPr>
              <a:t>Соль – </a:t>
            </a:r>
            <a:r>
              <a:rPr b="0" lang="ru-RU" sz="2800" spc="-1" strike="noStrike">
                <a:solidFill>
                  <a:srgbClr val="404040"/>
                </a:solidFill>
                <a:latin typeface="Century Gothic"/>
              </a:rPr>
              <a:t>было интересно, а что же дальше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Century Gothic"/>
              </a:rPr>
              <a:t>Ля – </a:t>
            </a:r>
            <a:r>
              <a:rPr b="0" lang="ru-RU" sz="2800" spc="-1" strike="noStrike">
                <a:solidFill>
                  <a:srgbClr val="404040"/>
                </a:solidFill>
                <a:latin typeface="Century Gothic"/>
              </a:rPr>
              <a:t>мне понравилось на уроке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Century Gothic"/>
              </a:rPr>
              <a:t>Си –</a:t>
            </a:r>
            <a:r>
              <a:rPr b="0" lang="ru-RU" sz="2800" spc="-1" strike="noStrike">
                <a:solidFill>
                  <a:srgbClr val="404040"/>
                </a:solidFill>
                <a:latin typeface="Century Gothic"/>
              </a:rPr>
              <a:t> все было полезно и интересно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1115640" y="2133360"/>
            <a:ext cx="698508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3600" spc="-1" strike="noStrike">
                <a:solidFill>
                  <a:srgbClr val="262626"/>
                </a:solidFill>
                <a:latin typeface="Georgia"/>
              </a:rPr>
              <a:t>Спасибо за урок!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Rectangle 2"/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1178" name="Group 3"/>
          <p:cNvGrpSpPr/>
          <p:nvPr/>
        </p:nvGrpSpPr>
        <p:grpSpPr>
          <a:xfrm>
            <a:off x="684360" y="1628640"/>
            <a:ext cx="8208720" cy="5079960"/>
            <a:chOff x="684360" y="1628640"/>
            <a:chExt cx="8208720" cy="5079960"/>
          </a:xfrm>
        </p:grpSpPr>
        <p:sp>
          <p:nvSpPr>
            <p:cNvPr id="1179" name="AutoShape 4"/>
            <p:cNvSpPr/>
            <p:nvPr/>
          </p:nvSpPr>
          <p:spPr>
            <a:xfrm>
              <a:off x="684360" y="1628640"/>
              <a:ext cx="8208720" cy="50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80" name="Rectangle 5"/>
            <p:cNvSpPr/>
            <p:nvPr/>
          </p:nvSpPr>
          <p:spPr>
            <a:xfrm>
              <a:off x="1730880" y="5498640"/>
              <a:ext cx="1141560" cy="96732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ru-RU" sz="4800" spc="-1" strike="noStrike">
                  <a:solidFill>
                    <a:srgbClr val="ffffff"/>
                  </a:solidFill>
                  <a:latin typeface="Century Gothic"/>
                  <a:ea typeface="Times New Roman"/>
                </a:rPr>
                <a:t>ре</a:t>
              </a:r>
              <a:endParaRPr b="0" lang="en-US" sz="4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81" name="Rectangle 6"/>
            <p:cNvSpPr/>
            <p:nvPr/>
          </p:nvSpPr>
          <p:spPr>
            <a:xfrm>
              <a:off x="2872440" y="5014800"/>
              <a:ext cx="1141920" cy="14511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ru-RU" sz="4800" spc="-1" strike="noStrike">
                  <a:solidFill>
                    <a:srgbClr val="000000"/>
                  </a:solidFill>
                  <a:latin typeface="Century Gothic"/>
                  <a:ea typeface="Times New Roman"/>
                </a:rPr>
                <a:t>ми</a:t>
              </a:r>
              <a:endParaRPr b="0" lang="en-US" sz="4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82" name="Rectangle 7"/>
            <p:cNvSpPr/>
            <p:nvPr/>
          </p:nvSpPr>
          <p:spPr>
            <a:xfrm>
              <a:off x="4014720" y="4773600"/>
              <a:ext cx="1237320" cy="169236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ru-RU" sz="4800" spc="-1" strike="noStrike">
                  <a:solidFill>
                    <a:srgbClr val="000000"/>
                  </a:solidFill>
                  <a:latin typeface="Century Gothic"/>
                  <a:ea typeface="Times New Roman"/>
                </a:rPr>
                <a:t>фа</a:t>
              </a:r>
              <a:endParaRPr b="0" lang="en-US" sz="4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83" name="Rectangle 8"/>
            <p:cNvSpPr/>
            <p:nvPr/>
          </p:nvSpPr>
          <p:spPr>
            <a:xfrm>
              <a:off x="5156640" y="4530960"/>
              <a:ext cx="1425600" cy="193464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ru-RU" sz="4300" spc="-1" strike="noStrike">
                  <a:solidFill>
                    <a:srgbClr val="000000"/>
                  </a:solidFill>
                  <a:latin typeface="Century Gothic"/>
                  <a:ea typeface="Times New Roman"/>
                </a:rPr>
                <a:t>соль</a:t>
              </a:r>
              <a:endParaRPr b="0" lang="en-US" sz="43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84" name="Rectangle 9"/>
            <p:cNvSpPr/>
            <p:nvPr/>
          </p:nvSpPr>
          <p:spPr>
            <a:xfrm>
              <a:off x="6488280" y="4289760"/>
              <a:ext cx="1236240" cy="217620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ru-RU" sz="4800" spc="-1" strike="noStrike">
                  <a:solidFill>
                    <a:srgbClr val="000000"/>
                  </a:solidFill>
                  <a:latin typeface="Century Gothic"/>
                  <a:ea typeface="Times New Roman"/>
                </a:rPr>
                <a:t>ля</a:t>
              </a:r>
              <a:endParaRPr b="0" lang="en-US" sz="4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85" name="Rectangle 10"/>
            <p:cNvSpPr/>
            <p:nvPr/>
          </p:nvSpPr>
          <p:spPr>
            <a:xfrm>
              <a:off x="7724880" y="4047480"/>
              <a:ext cx="1141560" cy="241848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ru-RU" sz="4800" spc="-1" strike="noStrike">
                  <a:solidFill>
                    <a:srgbClr val="000000"/>
                  </a:solidFill>
                  <a:latin typeface="Century Gothic"/>
                  <a:ea typeface="Times New Roman"/>
                </a:rPr>
                <a:t>си</a:t>
              </a:r>
              <a:endParaRPr b="0" lang="en-US" sz="4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86" name="Rectangle 11"/>
            <p:cNvSpPr/>
            <p:nvPr/>
          </p:nvSpPr>
          <p:spPr>
            <a:xfrm>
              <a:off x="684360" y="5740920"/>
              <a:ext cx="1046520" cy="7246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ru-RU" sz="4500" spc="-1" strike="noStrike">
                  <a:solidFill>
                    <a:srgbClr val="ffffff"/>
                  </a:solidFill>
                  <a:latin typeface="Century Gothic"/>
                  <a:ea typeface="Times New Roman"/>
                </a:rPr>
                <a:t>до</a:t>
              </a:r>
              <a:endParaRPr b="0" lang="en-US" sz="45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187" name="Group 12"/>
          <p:cNvGrpSpPr/>
          <p:nvPr/>
        </p:nvGrpSpPr>
        <p:grpSpPr>
          <a:xfrm>
            <a:off x="-6229440" y="-1143000"/>
            <a:ext cx="15373440" cy="5761080"/>
            <a:chOff x="-6229440" y="-1143000"/>
            <a:chExt cx="15373440" cy="5761080"/>
          </a:xfrm>
        </p:grpSpPr>
        <p:sp>
          <p:nvSpPr>
            <p:cNvPr id="1188" name="AutoShape 13"/>
            <p:cNvSpPr/>
            <p:nvPr/>
          </p:nvSpPr>
          <p:spPr>
            <a:xfrm>
              <a:off x="-6229440" y="-1143000"/>
              <a:ext cx="15373440" cy="57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89" name="Oval 14"/>
            <p:cNvSpPr/>
            <p:nvPr/>
          </p:nvSpPr>
          <p:spPr>
            <a:xfrm>
              <a:off x="1208520" y="4215600"/>
              <a:ext cx="547200" cy="402120"/>
            </a:xfrm>
            <a:prstGeom prst="ellipse">
              <a:avLst/>
            </a:prstGeom>
            <a:solidFill>
              <a:srgbClr val="0000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90" name="Line 15"/>
            <p:cNvSpPr/>
            <p:nvPr/>
          </p:nvSpPr>
          <p:spPr>
            <a:xfrm>
              <a:off x="-340920" y="4014360"/>
              <a:ext cx="9484920" cy="10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91" name="Line 16"/>
            <p:cNvSpPr/>
            <p:nvPr/>
          </p:nvSpPr>
          <p:spPr>
            <a:xfrm>
              <a:off x="-340920" y="3612240"/>
              <a:ext cx="9484920" cy="7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92" name="Line 17"/>
            <p:cNvSpPr/>
            <p:nvPr/>
          </p:nvSpPr>
          <p:spPr>
            <a:xfrm>
              <a:off x="-340920" y="3209760"/>
              <a:ext cx="9484920" cy="10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93" name="Line 18"/>
            <p:cNvSpPr/>
            <p:nvPr/>
          </p:nvSpPr>
          <p:spPr>
            <a:xfrm>
              <a:off x="-340920" y="2807640"/>
              <a:ext cx="9484920" cy="10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94" name="Line 19"/>
            <p:cNvSpPr/>
            <p:nvPr/>
          </p:nvSpPr>
          <p:spPr>
            <a:xfrm>
              <a:off x="-340920" y="2405520"/>
              <a:ext cx="9484920" cy="7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95" name="Line 20"/>
            <p:cNvSpPr/>
            <p:nvPr/>
          </p:nvSpPr>
          <p:spPr>
            <a:xfrm flipV="1">
              <a:off x="935280" y="4416120"/>
              <a:ext cx="1003320" cy="10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96" name="Oval 21"/>
            <p:cNvSpPr/>
            <p:nvPr/>
          </p:nvSpPr>
          <p:spPr>
            <a:xfrm>
              <a:off x="2303280" y="4014360"/>
              <a:ext cx="548280" cy="402120"/>
            </a:xfrm>
            <a:prstGeom prst="ellipse">
              <a:avLst/>
            </a:prstGeom>
            <a:solidFill>
              <a:srgbClr val="0000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97" name="Oval 22"/>
            <p:cNvSpPr/>
            <p:nvPr/>
          </p:nvSpPr>
          <p:spPr>
            <a:xfrm>
              <a:off x="3488760" y="3813840"/>
              <a:ext cx="548280" cy="401760"/>
            </a:xfrm>
            <a:prstGeom prst="ellipse">
              <a:avLst/>
            </a:prstGeom>
            <a:solidFill>
              <a:srgbClr val="0000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98" name="Oval 23"/>
            <p:cNvSpPr/>
            <p:nvPr/>
          </p:nvSpPr>
          <p:spPr>
            <a:xfrm>
              <a:off x="4583520" y="3612240"/>
              <a:ext cx="548280" cy="401760"/>
            </a:xfrm>
            <a:prstGeom prst="ellipse">
              <a:avLst/>
            </a:prstGeom>
            <a:solidFill>
              <a:srgbClr val="0000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99" name="Oval 24"/>
            <p:cNvSpPr/>
            <p:nvPr/>
          </p:nvSpPr>
          <p:spPr>
            <a:xfrm>
              <a:off x="5769000" y="3411360"/>
              <a:ext cx="548280" cy="402120"/>
            </a:xfrm>
            <a:prstGeom prst="ellipse">
              <a:avLst/>
            </a:prstGeom>
            <a:solidFill>
              <a:srgbClr val="0000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00" name="Oval 25"/>
            <p:cNvSpPr/>
            <p:nvPr/>
          </p:nvSpPr>
          <p:spPr>
            <a:xfrm>
              <a:off x="6954480" y="3209760"/>
              <a:ext cx="548280" cy="402120"/>
            </a:xfrm>
            <a:prstGeom prst="ellipse">
              <a:avLst/>
            </a:prstGeom>
            <a:solidFill>
              <a:srgbClr val="0000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01" name="Oval 26"/>
            <p:cNvSpPr/>
            <p:nvPr/>
          </p:nvSpPr>
          <p:spPr>
            <a:xfrm>
              <a:off x="8140680" y="3009240"/>
              <a:ext cx="548280" cy="402120"/>
            </a:xfrm>
            <a:prstGeom prst="ellipse">
              <a:avLst/>
            </a:prstGeom>
            <a:solidFill>
              <a:srgbClr val="0000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202" name="AutoShape 27"/>
          <p:cNvSpPr/>
          <p:nvPr/>
        </p:nvSpPr>
        <p:spPr>
          <a:xfrm>
            <a:off x="4211640" y="981000"/>
            <a:ext cx="4176720" cy="460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03" name="Rectangle 28"/>
          <p:cNvSpPr/>
          <p:nvPr/>
        </p:nvSpPr>
        <p:spPr>
          <a:xfrm>
            <a:off x="2828880" y="-34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04" name="Rectangle 29"/>
          <p:cNvSpPr/>
          <p:nvPr/>
        </p:nvSpPr>
        <p:spPr>
          <a:xfrm>
            <a:off x="3564000" y="4381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1042920" y="206028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3600" spc="-1" strike="noStrike">
                <a:solidFill>
                  <a:srgbClr val="262626"/>
                </a:solidFill>
                <a:latin typeface="Georgia"/>
              </a:rPr>
              <a:t>Мелодией одной звучат печаль и радость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06" name="PlaceHolder 2"/>
          <p:cNvSpPr>
            <a:spLocks noGrp="1"/>
          </p:cNvSpPr>
          <p:nvPr>
            <p:ph type="subTitle"/>
          </p:nvPr>
        </p:nvSpPr>
        <p:spPr>
          <a:xfrm>
            <a:off x="6399360" y="3311640"/>
            <a:ext cx="2744640" cy="60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>
                <a:solidFill>
                  <a:srgbClr val="404040"/>
                </a:solidFill>
                <a:latin typeface="Century Gothic"/>
              </a:rPr>
              <a:t>А. Блок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799920" y="274320"/>
            <a:ext cx="78865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262626"/>
                </a:solidFill>
                <a:latin typeface="Century Gothic"/>
              </a:rPr>
              <a:t>    </a:t>
            </a:r>
            <a:r>
              <a:rPr b="0" lang="ru-RU" sz="3600" spc="-1" strike="noStrike">
                <a:solidFill>
                  <a:srgbClr val="262626"/>
                </a:solidFill>
                <a:latin typeface="Century Gothic"/>
              </a:rPr>
              <a:t>Мелодия - 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08" name=""/>
          <p:cNvSpPr txBox="1"/>
          <p:nvPr/>
        </p:nvSpPr>
        <p:spPr>
          <a:xfrm>
            <a:off x="1186920" y="1989000"/>
            <a:ext cx="6836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это музыкальная мысль, выраженная одноголосно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благозвучная последовательность звуков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в переводе с греческого языка означает «пение, песня»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1186920" y="260280"/>
            <a:ext cx="7704360" cy="25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000" spc="-1" strike="noStrike">
                <a:solidFill>
                  <a:srgbClr val="262626"/>
                </a:solidFill>
                <a:latin typeface="Century Gothic"/>
              </a:rPr>
              <a:t>«Вечный солнечный свет в музыке – имя тебе Моцарт»</a:t>
            </a:r>
            <a:br>
              <a:rPr sz="4000"/>
            </a:br>
            <a:r>
              <a:rPr b="0" lang="ru-RU" sz="4000" spc="-1" strike="noStrike">
                <a:solidFill>
                  <a:srgbClr val="262626"/>
                </a:solidFill>
                <a:latin typeface="Century Gothic"/>
              </a:rPr>
              <a:t>                               </a:t>
            </a:r>
            <a:r>
              <a:rPr b="0" i="1" lang="ru-RU" sz="2800" spc="-1" strike="noStrike">
                <a:solidFill>
                  <a:srgbClr val="262626"/>
                </a:solidFill>
                <a:latin typeface="Century Gothic"/>
              </a:rPr>
              <a:t>А.Рубинштейн</a:t>
            </a:r>
            <a:br>
              <a:rPr sz="2800"/>
            </a:br>
            <a:endParaRPr b="0" lang="en-US" sz="2800" spc="-1" strike="noStrike">
              <a:solidFill>
                <a:srgbClr val="262626"/>
              </a:solidFill>
              <a:latin typeface="Century Gothic"/>
            </a:endParaRPr>
          </a:p>
        </p:txBody>
      </p:sp>
      <p:pic>
        <p:nvPicPr>
          <p:cNvPr id="1210" name="Picture 3" descr=""/>
          <p:cNvPicPr/>
          <p:nvPr/>
        </p:nvPicPr>
        <p:blipFill>
          <a:blip r:embed="rId1"/>
          <a:srcRect l="0" t="0" r="6073" b="1505"/>
          <a:stretch/>
        </p:blipFill>
        <p:spPr>
          <a:xfrm>
            <a:off x="2597040" y="2043000"/>
            <a:ext cx="2668680" cy="380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"/>
          <p:cNvSpPr txBox="1"/>
          <p:nvPr/>
        </p:nvSpPr>
        <p:spPr>
          <a:xfrm>
            <a:off x="685800" y="533520"/>
            <a:ext cx="7848720" cy="537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   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Century Gothic"/>
              </a:rPr>
              <a:t>         </a:t>
            </a:r>
            <a:r>
              <a:rPr b="1" lang="ru-RU" sz="1800" spc="-1" strike="noStrike">
                <a:solidFill>
                  <a:srgbClr val="404040"/>
                </a:solidFill>
                <a:latin typeface="Century Gothic"/>
              </a:rPr>
              <a:t>Серенада — песня, исполненная для возлюбленной, в вечернее или ночное время и часто под её окном. Певец обычно сам аккомпанировал себе на лютне, мандолине или гитаре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212" name="Рисунок 4" descr=""/>
          <p:cNvPicPr/>
          <p:nvPr/>
        </p:nvPicPr>
        <p:blipFill>
          <a:blip r:embed="rId1"/>
          <a:stretch/>
        </p:blipFill>
        <p:spPr>
          <a:xfrm>
            <a:off x="2008080" y="2187720"/>
            <a:ext cx="5203800" cy="41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3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2388960" cy="3162240"/>
          </a:xfrm>
          <a:prstGeom prst="rect">
            <a:avLst/>
          </a:prstGeom>
          <a:ln w="41400">
            <a:solidFill>
              <a:srgbClr val="766f54"/>
            </a:solidFill>
            <a:miter/>
          </a:ln>
        </p:spPr>
      </p:pic>
      <p:pic>
        <p:nvPicPr>
          <p:cNvPr id="1214" name="Picture 3" descr=""/>
          <p:cNvPicPr/>
          <p:nvPr/>
        </p:nvPicPr>
        <p:blipFill>
          <a:blip r:embed="rId2"/>
          <a:stretch/>
        </p:blipFill>
        <p:spPr>
          <a:xfrm>
            <a:off x="324000" y="3645000"/>
            <a:ext cx="3960720" cy="2878200"/>
          </a:xfrm>
          <a:prstGeom prst="rect">
            <a:avLst/>
          </a:prstGeom>
          <a:ln w="41400">
            <a:solidFill>
              <a:srgbClr val="766f54"/>
            </a:solidFill>
            <a:miter/>
          </a:ln>
        </p:spPr>
      </p:pic>
      <p:pic>
        <p:nvPicPr>
          <p:cNvPr id="1215" name="Picture 4" descr=""/>
          <p:cNvPicPr/>
          <p:nvPr/>
        </p:nvPicPr>
        <p:blipFill>
          <a:blip r:embed="rId3"/>
          <a:stretch/>
        </p:blipFill>
        <p:spPr>
          <a:xfrm>
            <a:off x="5435640" y="333360"/>
            <a:ext cx="3348000" cy="3024360"/>
          </a:xfrm>
          <a:prstGeom prst="rect">
            <a:avLst/>
          </a:prstGeom>
          <a:ln w="41400">
            <a:solidFill>
              <a:srgbClr val="766f54"/>
            </a:solidFill>
            <a:miter/>
          </a:ln>
        </p:spPr>
      </p:pic>
      <p:pic>
        <p:nvPicPr>
          <p:cNvPr id="1216" name="Picture 5" descr=""/>
          <p:cNvPicPr/>
          <p:nvPr/>
        </p:nvPicPr>
        <p:blipFill>
          <a:blip r:embed="rId4"/>
          <a:srcRect l="0" t="0" r="59" b="155"/>
          <a:stretch/>
        </p:blipFill>
        <p:spPr>
          <a:xfrm>
            <a:off x="5292720" y="4292640"/>
            <a:ext cx="3454560" cy="2184480"/>
          </a:xfrm>
          <a:prstGeom prst="rect">
            <a:avLst/>
          </a:prstGeom>
          <a:ln w="41400">
            <a:solidFill>
              <a:srgbClr val="766f54"/>
            </a:solidFill>
            <a:miter/>
          </a:ln>
        </p:spPr>
      </p:pic>
      <p:pic>
        <p:nvPicPr>
          <p:cNvPr id="1217" name="Picture 6" descr=""/>
          <p:cNvPicPr/>
          <p:nvPr/>
        </p:nvPicPr>
        <p:blipFill>
          <a:blip r:embed="rId5"/>
          <a:stretch/>
        </p:blipFill>
        <p:spPr>
          <a:xfrm>
            <a:off x="3132000" y="907920"/>
            <a:ext cx="2714760" cy="3527640"/>
          </a:xfrm>
          <a:prstGeom prst="rect">
            <a:avLst/>
          </a:prstGeom>
          <a:ln w="41400">
            <a:solidFill>
              <a:srgbClr val="766f54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1218960" y="1218960"/>
            <a:ext cx="394164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800" spc="-1" strike="noStrike">
                <a:solidFill>
                  <a:srgbClr val="262626"/>
                </a:solidFill>
                <a:latin typeface="Century Gothic"/>
              </a:rPr>
              <a:t>Lacrimosa - </a:t>
            </a:r>
            <a:endParaRPr b="0" lang="en-US" sz="4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 type="subTitle"/>
          </p:nvPr>
        </p:nvSpPr>
        <p:spPr>
          <a:xfrm>
            <a:off x="1116000" y="2565000"/>
            <a:ext cx="6400800" cy="307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3200" spc="-1" strike="noStrike">
                <a:solidFill>
                  <a:srgbClr val="595959"/>
                </a:solidFill>
                <a:latin typeface="Century Gothic"/>
              </a:rPr>
              <a:t>(в переводе с латинского)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595959"/>
                </a:solidFill>
                <a:latin typeface="Century Gothic"/>
              </a:rPr>
              <a:t> </a:t>
            </a:r>
            <a:r>
              <a:rPr b="0" lang="ru-RU" sz="4000" spc="-1" strike="noStrike">
                <a:solidFill>
                  <a:srgbClr val="595959"/>
                </a:solidFill>
                <a:latin typeface="Century Gothic"/>
              </a:rPr>
              <a:t>трогающая до слёз;</a:t>
            </a:r>
            <a:endParaRPr b="0" lang="en-US" sz="40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000" spc="-1" strike="noStrike">
                <a:solidFill>
                  <a:srgbClr val="595959"/>
                </a:solidFill>
                <a:latin typeface="Century Gothic"/>
              </a:rPr>
              <a:t> </a:t>
            </a:r>
            <a:r>
              <a:rPr b="0" lang="ru-RU" sz="4000" spc="-1" strike="noStrike">
                <a:solidFill>
                  <a:srgbClr val="595959"/>
                </a:solidFill>
                <a:latin typeface="Century Gothic"/>
              </a:rPr>
              <a:t>«полная слёз»;</a:t>
            </a:r>
            <a:endParaRPr b="0" lang="en-US" sz="40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000" spc="-1" strike="noStrike">
                <a:solidFill>
                  <a:srgbClr val="595959"/>
                </a:solidFill>
                <a:latin typeface="Century Gothic"/>
              </a:rPr>
              <a:t> </a:t>
            </a:r>
            <a:r>
              <a:rPr b="0" lang="ru-RU" sz="4000" spc="-1" strike="noStrike">
                <a:solidFill>
                  <a:srgbClr val="595959"/>
                </a:solidFill>
                <a:latin typeface="Century Gothic"/>
              </a:rPr>
              <a:t>скорбная</a:t>
            </a:r>
            <a:endParaRPr b="0" lang="en-US" sz="40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0" name="Picture 2" descr=""/>
          <p:cNvPicPr/>
          <p:nvPr/>
        </p:nvPicPr>
        <p:blipFill>
          <a:blip r:embed="rId1"/>
          <a:srcRect l="0" t="0" r="0" b="49"/>
          <a:stretch/>
        </p:blipFill>
        <p:spPr>
          <a:xfrm>
            <a:off x="4643280" y="476280"/>
            <a:ext cx="4210200" cy="5545080"/>
          </a:xfrm>
          <a:prstGeom prst="rect">
            <a:avLst/>
          </a:prstGeom>
          <a:ln w="0">
            <a:noFill/>
          </a:ln>
        </p:spPr>
      </p:pic>
      <p:pic>
        <p:nvPicPr>
          <p:cNvPr id="1221" name="Picture 3" descr=""/>
          <p:cNvPicPr/>
          <p:nvPr/>
        </p:nvPicPr>
        <p:blipFill>
          <a:blip r:embed="rId2"/>
          <a:srcRect l="10346" t="7789" r="11648" b="26257"/>
          <a:stretch/>
        </p:blipFill>
        <p:spPr>
          <a:xfrm>
            <a:off x="0" y="476280"/>
            <a:ext cx="4464000" cy="5256360"/>
          </a:xfrm>
          <a:prstGeom prst="rect">
            <a:avLst/>
          </a:prstGeom>
          <a:ln w="0">
            <a:noFill/>
          </a:ln>
        </p:spPr>
      </p:pic>
      <p:sp>
        <p:nvSpPr>
          <p:cNvPr id="1222" name="Rectangle 4"/>
          <p:cNvSpPr/>
          <p:nvPr/>
        </p:nvSpPr>
        <p:spPr>
          <a:xfrm>
            <a:off x="0" y="44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99280" bIns="-6120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23" name="Rectangle 5"/>
          <p:cNvSpPr/>
          <p:nvPr/>
        </p:nvSpPr>
        <p:spPr>
          <a:xfrm>
            <a:off x="1800" y="43560"/>
            <a:ext cx="180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24" name="Rectangle 6"/>
          <p:cNvSpPr/>
          <p:nvPr/>
        </p:nvSpPr>
        <p:spPr>
          <a:xfrm>
            <a:off x="1800" y="6263640"/>
            <a:ext cx="18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23-01-24T14:42:56Z</dcterms:modified>
  <cp:revision>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c6050000000000010243100207f6000400038000</vt:lpwstr>
  </property>
  <property fmtid="{D5CDD505-2E9C-101B-9397-08002B2CF9AE}" pid="3" name="Version">
    <vt:r8>1</vt:r8>
  </property>
</Properties>
</file>