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0440" y="90792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0440" y="90792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Мы помним\PomnimSlide.jpg"/>
          <p:cNvPicPr/>
          <p:nvPr/>
        </p:nvPicPr>
        <p:blipFill>
          <a:blip r:embed="rId2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K:\ProPowerPoint\Шаблоны\В работе\Мы помним\PomnimSlide.jpg"/>
          <p:cNvPicPr/>
          <p:nvPr/>
        </p:nvPicPr>
        <p:blipFill>
          <a:blip r:embed="rId2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K:\ProPowerPoint\Шаблоны\В работе\Мы помним\Pomnim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КАЗЁН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КТЯБРЬСКАЯ СРЕДНЯЯ ОБЩЕОБРАЗОВАТЕЛЬНАЯ ШКОЛА»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ЖЕНЩИНЫ В ВЕЛИКОЙ ОТЕЧЕСТВЕННОЙ ВОЙН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76372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Работу выполнила: Лысова 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Руководитель: учитель истории и обществознания Лобкова И.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чало войны. Патриотический поры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ушки готовы идти на фро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1"/>
          <a:stretch/>
        </p:blipFill>
        <p:spPr>
          <a:xfrm>
            <a:off x="247680" y="2637000"/>
            <a:ext cx="2523960" cy="3671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880000" cy="2016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2843280" y="2421000"/>
            <a:ext cx="279720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"/>
          <p:cNvPicPr/>
          <p:nvPr/>
        </p:nvPicPr>
        <p:blipFill>
          <a:blip r:embed="rId4"/>
          <a:stretch/>
        </p:blipFill>
        <p:spPr>
          <a:xfrm>
            <a:off x="3851280" y="4657680"/>
            <a:ext cx="41274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Dokutovich GI.jpg"/>
          <p:cNvPicPr/>
          <p:nvPr/>
        </p:nvPicPr>
        <p:blipFill>
          <a:blip r:embed="rId1"/>
          <a:stretch/>
        </p:blipFill>
        <p:spPr>
          <a:xfrm>
            <a:off x="1116000" y="1916280"/>
            <a:ext cx="1782720" cy="2376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42520" y="429264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тович Галина Ива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20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582800" cy="3441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708360" y="2305080"/>
            <a:ext cx="46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мейская подгот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вушки в военно-воздушных сил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90845_original"/>
          <p:cNvPicPr/>
          <p:nvPr/>
        </p:nvPicPr>
        <p:blipFill>
          <a:blip r:embed="rId1"/>
          <a:stretch/>
        </p:blipFill>
        <p:spPr>
          <a:xfrm>
            <a:off x="468360" y="2060640"/>
            <a:ext cx="5238720" cy="3724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050920" y="5734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чные ведьм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8" descr="Po2"/>
          <p:cNvPicPr/>
          <p:nvPr/>
        </p:nvPicPr>
        <p:blipFill>
          <a:blip r:embed="rId2"/>
          <a:stretch/>
        </p:blipFill>
        <p:spPr>
          <a:xfrm>
            <a:off x="6012000" y="3357720"/>
            <a:ext cx="2284200" cy="1090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6012000" y="2808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Кукуруз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нфирова Ольга Александ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рой Советского Союза (посмер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динственная девушка в Сибири, кто получил звание Героя Советского Союза (из 370 сибирских Героев Советского Союз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o"/>
          <p:cNvPicPr/>
          <p:nvPr/>
        </p:nvPicPr>
        <p:blipFill>
          <a:blip r:embed="rId1"/>
          <a:stretch/>
        </p:blipFill>
        <p:spPr>
          <a:xfrm>
            <a:off x="1258920" y="2637000"/>
            <a:ext cx="240012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10367"/>
          <p:cNvPicPr/>
          <p:nvPr/>
        </p:nvPicPr>
        <p:blipFill>
          <a:blip r:embed="rId2"/>
          <a:stretch/>
        </p:blipFill>
        <p:spPr>
          <a:xfrm>
            <a:off x="5148360" y="4365720"/>
            <a:ext cx="33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вушки-разведч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http://woman-space.ru/bitrix/components/custom/news.list.json/templates/.default/moro"/>
          <p:cNvPicPr/>
          <p:nvPr/>
        </p:nvPicPr>
        <p:blipFill>
          <a:blip r:embed="rId1"/>
          <a:stretch/>
        </p:blipFill>
        <p:spPr>
          <a:xfrm>
            <a:off x="6012000" y="1773360"/>
            <a:ext cx="2415960" cy="3555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292720" y="537372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на Афанасьевна Мороз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21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032000" cy="2616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84360" y="460836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вушка-разведч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нщины в танковых войск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ександра Митрофановна Ращупк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раждена Орденом Красной звезд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деном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24-07-2015___10-26-3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вушки в медицинских подразделения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6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914560" cy="431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bfe327bae5d24eafc2156ef80eab5d9e"/>
          <p:cNvPicPr/>
          <p:nvPr/>
        </p:nvPicPr>
        <p:blipFill>
          <a:blip r:embed="rId2"/>
          <a:stretch/>
        </p:blipFill>
        <p:spPr>
          <a:xfrm>
            <a:off x="3924360" y="2708280"/>
            <a:ext cx="47530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пнейшие оп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ди Смерть» - Герой Советского Союза Людмила Михайловна Павличен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я успешная женщина снайпер. 309 точных попаданий во вр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Pavlichenko LM.jpg"/>
          <p:cNvPicPr/>
          <p:nvPr/>
        </p:nvPicPr>
        <p:blipFill>
          <a:blip r:embed="rId1"/>
          <a:stretch/>
        </p:blipFill>
        <p:spPr>
          <a:xfrm>
            <a:off x="628560" y="1916280"/>
            <a:ext cx="35416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тельская 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ете ли Вы женщин участниц Великой Отечественной вой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класс в опросе участвовало 30 человек (27 человек – «да», 3 человека – «нет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класс в опросе участвовало 24 человека (20 человек – «да», 4 человека – «нет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класс в опросе участвовало 6 человек (6 человек – «д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 класс в опросе участвовало 8 человек (8 человек – «д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195640" y="4292640"/>
          <a:ext cx="4752720" cy="22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292640"/>
                    <a:ext cx="475272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думаете, где женщины принимали большее участие в тылу или на фрон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0% опрощенных ответили, что женщины приняли большее участие в ты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692360" y="3933720"/>
          <a:ext cx="5400720" cy="23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933720"/>
                    <a:ext cx="54007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K:\ProPowerPoint\Шаблоны\В работе\Мы помним\PomnimPrint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6740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125000"/>
            <a:ext cx="78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79280" y="1605960"/>
            <a:ext cx="77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До сих пор не совсем понимаю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Как же я, и худа, и мала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Сквозь пожары к победному Маю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В кирзачах стопудовых дошла…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Юлия Друн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0440" y="88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Вы относитесь к участию женщины в вой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класс в опросе участвовало 30 человек (14 человек – «положительно», 16 человек – «отрицательно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класс в опросе участвовало 24 человека (8 человек – «положительно», 16 человек – «отрицательно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класс в опросе участвовало 6 человек (6 человек – «положительно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 класс в опросе участвовало 8 человек (3 человека – «положительно», 5 человек – «отрицательно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908000" y="3645000"/>
          <a:ext cx="544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645000"/>
                    <a:ext cx="544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нщинам Великой Отечественной войны посвяща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дохнул спокойно мир освобожден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тала тихая свободная вес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талась русская земля – непобеждённ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олнив радостью сердц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тех дней  Победа – вечно с нам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украшают женщин орде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их улыбки распускаются цвета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много жизней отняла войн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труд и честь – медали золоты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украшает женщин седи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тя они сегодня – молодые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яют на груди Отечества наград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 под силу всех заслуг их перечес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этим женщинам нам поклониться над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 прогремит салют в их чес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катерина Шемяк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1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313000" cy="17845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3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5430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 вклада женщин в приближение Великой Побе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Женщины, участвовавшие в Великой Отечественной вой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еятельность женщин на фронт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ипотеза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Женщины, участвующие в войне приблизили Побед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 Собрать информацию о деятельности женщин на фронте, используя художественную и публицистическую литературу, интернет-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 Познакомиться с воспоминаниями женщин-фронтов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 Выяснить какие военные специальности освоили женщины на фрон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 Обработать полученную информацию из разных источников с целью получения знаний о военных званиях, воюющих женщин, о их наград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ыяснить психологическую обстановку, которую создавали женщины во время военных действ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истории эмансипации женщ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7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529080" cy="2597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39640" y="458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465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зарет имени цесаревича Алексея 19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22" descr=""/>
          <p:cNvPicPr/>
          <p:nvPr/>
        </p:nvPicPr>
        <p:blipFill>
          <a:blip r:embed="rId2"/>
          <a:stretch/>
        </p:blipFill>
        <p:spPr>
          <a:xfrm>
            <a:off x="5292720" y="2637000"/>
            <a:ext cx="2879640" cy="3744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292720" y="1916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стры милосерд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04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истории эмансипации женщ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каты времен ССС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http://ic.pics.livejournal.com/denisgershman/15255282/81457/81457_original.jpg"/>
          <p:cNvPicPr/>
          <p:nvPr/>
        </p:nvPicPr>
        <p:blipFill>
          <a:blip r:embed="rId1"/>
          <a:stretch/>
        </p:blipFill>
        <p:spPr>
          <a:xfrm>
            <a:off x="1187280" y="2421000"/>
            <a:ext cx="2621160" cy="3529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8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529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56:49Z</dcterms:created>
  <dc:creator>ProPowerPoint.Ru</dc:creator>
  <dc:description>http://propowerpoint.ru - Бесплатные шаблоны для презентаций. Полезные советы и уроки  PowerPoint .</dc:description>
  <dc:language>en-US</dc:language>
  <cp:lastModifiedBy>Nout</cp:lastModifiedBy>
  <dcterms:modified xsi:type="dcterms:W3CDTF">2023-01-24T06:46:05Z</dcterms:modified>
  <cp:revision>4</cp:revision>
  <dc:subject/>
  <dc:title>Шаблон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50000000000010243100207f8000400038000</vt:lpwstr>
  </property>
</Properties>
</file>