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89F-EB37-4AB1-B2E0-2C66D0B8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79F-EADA-4570-BE34-641E526F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F21-F54F-47BA-9A9B-A7450692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E85-0FB9-4F83-971F-120E9BC4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9153-851B-4356-9F42-EF3B7638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BF6D-A53F-45ED-ABA6-A2B603FD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659C-B03B-4469-8F1A-B0C4B5E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E08B-3A9A-4B8C-98CC-19200CE6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9DBC-5E86-44F7-8E12-B33121A4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CED9-769E-49F5-8924-A476C5A6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0B19-FE00-4C80-A2CD-687EE51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661-FEA8-4974-90E4-47B5CDD8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9108-95D5-41BB-90D3-557085E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8F68-FBFC-4EB2-8DBE-FE6D5DF5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9D7C-FB46-4AD3-ADCA-75C784A4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387B-468C-4B21-B97C-7904212B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C6A1-F639-4C52-A021-C48EB599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78552-3783-4EAF-852D-73ABDA99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4370-9F56-4563-8AC9-1084739B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5994-9A0F-4C55-B7CF-C3DD8788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C177-D2F3-49F2-A522-CE91671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B63E-752D-4E88-834B-72816356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640-BE54-4473-8D8B-91710B48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33DF-9B13-45D3-94A6-747E9629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BF50-8701-4E0E-84F8-E6F5DA41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E53F-C29C-4D53-A36D-35188C1B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7B1E-51E0-4FC6-9562-E56BA182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9118-307B-4EB0-A1CD-8CDEC2DE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FDE1-EE05-4FFD-BD7E-CAF23182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BE3CA-7297-4418-8865-19DCA197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0338-3C3A-490D-91D9-97B06B3B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A7792-1796-44E4-BE4F-E5E39F94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D6DC-C20B-473C-A342-8347B9EB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9E4-07D5-4540-93B9-32B0AE2B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2C43A-9304-4B1F-8998-3E58E4F6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6997-A0F7-441A-B237-A00C3A91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BF48-8F29-47A4-BBF3-2CB2D4C8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F55E-56F0-435C-A81E-52B4BD3F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D85C2-79D0-4BDA-B0F4-44352F19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B24D6-106E-40A4-8929-2A1D43E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948A3-0C6B-4B61-8AFA-74060EA4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F0FE9-176A-4825-8656-8792812F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50988-7296-4E28-9A80-996955C5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7A1DD-9972-4C4A-A40C-5442DCA6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457-2F9F-4D09-A823-34C0EDBF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5D630-1297-4AB5-951A-9E321902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978F7-9DAE-4884-890D-A1B78ACD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78AAE-3679-437E-B52E-41F6C25D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542B8-A612-401B-8FDE-F4E90968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E2E32-3E6B-4B08-A557-D526F9BA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514A6-8293-4110-95CF-1FD9DA90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C5ED-444F-4267-A8DE-A6DC868A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1CEE1-7E0E-44EF-B57A-D74C50B4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AD262-346B-4D99-87AB-DB583F25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69335-8F09-4A57-A7E1-6FB92701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D49-D4E0-4FF9-8719-2191AE9D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7D7A8-CD1B-49D0-9AB8-25CBCD54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C5C83-7D02-4734-8FE2-63AB5D47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BCB9B-B10F-46F7-B9F6-B39085A6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6C37-CC29-4DFF-8C0C-E81E5D75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8DF99-1851-4C0F-84AB-25862434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0EE95-D939-47A8-843F-5630551E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C9B75-E3F2-4FBB-8286-DFF16737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7CCC-F312-4ACA-B92B-BC781CA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F765F-74AC-42E8-B41F-B9540AB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EEC0B-B108-42F7-BCC7-BE925C39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E3A-D24D-4D56-B0B0-30207C8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C21B0-FAD7-4E84-B939-76B5C87F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D4E6D-5C60-486C-A5C8-2A8E7674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665D2-1E34-4866-ACAF-FDE0A3BE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3EA5-8F6A-442A-B0E8-15CAEA9D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16DFC-51B5-4B8B-8B45-1153B978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66F25-F896-414E-9128-17C83C26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33027-A4F2-4991-96BC-973B3A50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3E644-5D23-4BE5-95A7-D2ACA7AA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E874D-947B-437F-B03A-251047D2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93FEE-C1F4-41E2-BC6F-C602DC48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309-262A-485E-800C-0E725CC0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0F930-1E80-4C59-B477-690D70E6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44F18-9944-4F85-84B5-2C3438EA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E3AF2-E25C-4015-8611-4E8CB2EF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60E04-67D8-4099-A5FF-C16EC86D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F71CF-CDD3-4ACC-83EF-EB2BD45B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952-C11B-4871-8AE3-988385F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DF66-66B5-4D7B-8385-3DDE6E5A7F8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E8C8-A35C-4082-9AE1-0ED2E7C32F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8633-D2A9-4DC5-8BFF-0353D5F908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10E5-563D-44F8-91DC-E6C708F96D8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64C1-5A30-417E-B398-2D4E7A52BDB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FD29-6487-4401-BBC0-D298A7B98E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20B0-2021-47A3-93E1-7408333AB8D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1725480" y="38268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дошкольное образование учреждение комбинированного вида детский сад №54 п. Михайлов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1714680" y="22147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проек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регите природу»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5651640" y="53006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полнила: воспитатель  МКДОУ д/с 5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едотова.О.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Заголовок 1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акет «Лес»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2" name="Объект 4" descr="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гры с макетом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Объект 4" descr=""/>
          <p:cNvPicPr/>
          <p:nvPr/>
        </p:nvPicPr>
        <p:blipFill>
          <a:blip r:embed="rId1"/>
          <a:stretch/>
        </p:blipFill>
        <p:spPr>
          <a:xfrm>
            <a:off x="1305000" y="1197000"/>
            <a:ext cx="3771720" cy="28274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" descr=""/>
          <p:cNvPicPr/>
          <p:nvPr/>
        </p:nvPicPr>
        <p:blipFill>
          <a:blip r:embed="rId2"/>
          <a:stretch/>
        </p:blipFill>
        <p:spPr>
          <a:xfrm>
            <a:off x="3673440" y="2631960"/>
            <a:ext cx="529128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Экологический вестни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7" name="Объект 8" descr=""/>
          <p:cNvPicPr/>
          <p:nvPr/>
        </p:nvPicPr>
        <p:blipFill>
          <a:blip r:embed="rId1"/>
          <a:stretch/>
        </p:blipFill>
        <p:spPr>
          <a:xfrm>
            <a:off x="1042920" y="1447920"/>
            <a:ext cx="78915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      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В планах совместной работы с родителям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Участие в конкурса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Организация мастер-класс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Фотовыстав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езультат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981000"/>
            <a:ext cx="74995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нкурс «Творческий воспитатель2022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ублика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ой научно-практической конференции.Градиент+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Рисунок 6" descr=""/>
          <p:cNvPicPr/>
          <p:nvPr/>
        </p:nvPicPr>
        <p:blipFill>
          <a:blip r:embed="rId1"/>
          <a:stretch/>
        </p:blipFill>
        <p:spPr>
          <a:xfrm>
            <a:off x="3708360" y="2575080"/>
            <a:ext cx="2457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ль проекта: Формирование у детей и родителей чувства сопричастности ко всему живому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Объект 4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2723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 проект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хема 5" descr=""/>
          <p:cNvPicPr/>
          <p:nvPr/>
        </p:nvPicPr>
        <p:blipFill>
          <a:blip r:embed="rId1"/>
          <a:stretch/>
        </p:blipFill>
        <p:spPr>
          <a:xfrm>
            <a:off x="579600" y="1384200"/>
            <a:ext cx="79675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458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тодическая литератур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Объект 4" descr=""/>
          <p:cNvPicPr/>
          <p:nvPr/>
        </p:nvPicPr>
        <p:blipFill>
          <a:blip r:embed="rId1"/>
          <a:stretch/>
        </p:blipFill>
        <p:spPr>
          <a:xfrm>
            <a:off x="235080" y="907920"/>
            <a:ext cx="4248000" cy="354024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6" descr=""/>
          <p:cNvPicPr/>
          <p:nvPr/>
        </p:nvPicPr>
        <p:blipFill>
          <a:blip r:embed="rId2"/>
          <a:stretch/>
        </p:blipFill>
        <p:spPr>
          <a:xfrm>
            <a:off x="4597560" y="907920"/>
            <a:ext cx="4059000" cy="354024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3" descr=""/>
          <p:cNvPicPr/>
          <p:nvPr/>
        </p:nvPicPr>
        <p:blipFill>
          <a:blip r:embed="rId3"/>
          <a:stretch/>
        </p:blipFill>
        <p:spPr>
          <a:xfrm>
            <a:off x="235080" y="3789360"/>
            <a:ext cx="4248000" cy="295272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7" descr=""/>
          <p:cNvPicPr/>
          <p:nvPr/>
        </p:nvPicPr>
        <p:blipFill>
          <a:blip r:embed="rId4"/>
          <a:stretch/>
        </p:blipFill>
        <p:spPr>
          <a:xfrm>
            <a:off x="4651200" y="3672000"/>
            <a:ext cx="400536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уклет, консультации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Объект 4" descr=""/>
          <p:cNvPicPr/>
          <p:nvPr/>
        </p:nvPicPr>
        <p:blipFill>
          <a:blip r:embed="rId1"/>
          <a:stretch/>
        </p:blipFill>
        <p:spPr>
          <a:xfrm>
            <a:off x="190440" y="1260360"/>
            <a:ext cx="3600360" cy="47610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"/>
          <p:cNvPicPr/>
          <p:nvPr/>
        </p:nvPicPr>
        <p:blipFill>
          <a:blip r:embed="rId2"/>
          <a:stretch/>
        </p:blipFill>
        <p:spPr>
          <a:xfrm>
            <a:off x="3944880" y="1268280"/>
            <a:ext cx="500868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делки из бросового материала «Чудеса из ненужных вещей»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Объект 4" descr=""/>
          <p:cNvPicPr/>
          <p:nvPr/>
        </p:nvPicPr>
        <p:blipFill>
          <a:blip r:embed="rId1"/>
          <a:stretch/>
        </p:blipFill>
        <p:spPr>
          <a:xfrm>
            <a:off x="1063800" y="906480"/>
            <a:ext cx="4608360" cy="329868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6" descr=""/>
          <p:cNvPicPr/>
          <p:nvPr/>
        </p:nvPicPr>
        <p:blipFill>
          <a:blip r:embed="rId2"/>
          <a:stretch/>
        </p:blipFill>
        <p:spPr>
          <a:xfrm>
            <a:off x="4381560" y="1284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" descr=""/>
          <p:cNvPicPr/>
          <p:nvPr/>
        </p:nvPicPr>
        <p:blipFill>
          <a:blip r:embed="rId3"/>
          <a:stretch/>
        </p:blipFill>
        <p:spPr>
          <a:xfrm>
            <a:off x="160200" y="327816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7" descr=""/>
          <p:cNvPicPr/>
          <p:nvPr/>
        </p:nvPicPr>
        <p:blipFill>
          <a:blip r:embed="rId4"/>
          <a:stretch/>
        </p:blipFill>
        <p:spPr>
          <a:xfrm>
            <a:off x="5183280" y="3979800"/>
            <a:ext cx="34700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Объект 4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545000" cy="340992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6" descr=""/>
          <p:cNvPicPr/>
          <p:nvPr/>
        </p:nvPicPr>
        <p:blipFill>
          <a:blip r:embed="rId2"/>
          <a:stretch/>
        </p:blipFill>
        <p:spPr>
          <a:xfrm>
            <a:off x="3794040" y="1773360"/>
            <a:ext cx="5364360" cy="4022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"/>
          <p:cNvPicPr/>
          <p:nvPr/>
        </p:nvPicPr>
        <p:blipFill>
          <a:blip r:embed="rId3"/>
          <a:stretch/>
        </p:blipFill>
        <p:spPr>
          <a:xfrm>
            <a:off x="990720" y="2529000"/>
            <a:ext cx="3209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нига «Природа твой друг, береги её, помогай ей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Объект 4" descr=""/>
          <p:cNvPicPr/>
          <p:nvPr/>
        </p:nvPicPr>
        <p:blipFill>
          <a:blip r:embed="rId1"/>
          <a:stretch/>
        </p:blipFill>
        <p:spPr>
          <a:xfrm>
            <a:off x="539640" y="1814400"/>
            <a:ext cx="3364200" cy="480060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6" descr=""/>
          <p:cNvPicPr/>
          <p:nvPr/>
        </p:nvPicPr>
        <p:blipFill>
          <a:blip r:embed="rId2"/>
          <a:stretch/>
        </p:blipFill>
        <p:spPr>
          <a:xfrm>
            <a:off x="3556080" y="1427040"/>
            <a:ext cx="5573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одительское собрание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Объект 3" descr=""/>
          <p:cNvPicPr/>
          <p:nvPr/>
        </p:nvPicPr>
        <p:blipFill>
          <a:blip r:embed="rId1"/>
          <a:stretch/>
        </p:blipFill>
        <p:spPr>
          <a:xfrm>
            <a:off x="5724360" y="1217520"/>
            <a:ext cx="3051360" cy="516420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5" descr=""/>
          <p:cNvPicPr/>
          <p:nvPr/>
        </p:nvPicPr>
        <p:blipFill>
          <a:blip r:embed="rId2"/>
          <a:stretch/>
        </p:blipFill>
        <p:spPr>
          <a:xfrm>
            <a:off x="209520" y="547560"/>
            <a:ext cx="1855800" cy="386100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7" descr=""/>
          <p:cNvPicPr/>
          <p:nvPr/>
        </p:nvPicPr>
        <p:blipFill>
          <a:blip r:embed="rId3"/>
          <a:stretch/>
        </p:blipFill>
        <p:spPr>
          <a:xfrm>
            <a:off x="2260440" y="836640"/>
            <a:ext cx="3230640" cy="17683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4" descr=""/>
          <p:cNvPicPr/>
          <p:nvPr/>
        </p:nvPicPr>
        <p:blipFill>
          <a:blip r:embed="rId4"/>
          <a:stretch/>
        </p:blipFill>
        <p:spPr>
          <a:xfrm>
            <a:off x="1225440" y="2781360"/>
            <a:ext cx="3922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5T11:32:53Z</dcterms:created>
  <dc:creator>User</dc:creator>
  <dc:description/>
  <dc:language>en-US</dc:language>
  <cp:lastModifiedBy>федотов федя</cp:lastModifiedBy>
  <dcterms:modified xsi:type="dcterms:W3CDTF">2023-01-22T09:44:04Z</dcterms:modified>
  <cp:revision>63</cp:revision>
  <dc:subject/>
  <dc:title>Презентация PowerPoint</dc:title>
</cp:coreProperties>
</file>