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FD5-861D-47B9-BBC4-C34D5B62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CDB-3534-4CCE-9E24-1EF43A45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D34-EB84-45F8-AE95-9720D801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382-6922-4D86-856F-78BE5BE0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D409-4C92-4F8A-8A25-447F0E62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FB8F-760A-4ED5-8B23-B2836A87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60C1-7DE7-404B-9223-F16DD75E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B869-B906-4B05-86C6-F4E53A93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2F67-78C8-4534-91CA-5DD5EE5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5DB4-BEB5-409E-B950-2EEFB0F5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2F1B-0A8F-476D-AC55-B67A696F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E78-3D72-4B06-AAAA-D90FF3D0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E9B4-135E-48FC-B7E8-F09FCDF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6CA0-7D54-40FC-824E-6FEEF269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6F2D-5BB3-4736-8976-CA6B2929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210F-8007-4A1A-A7A7-93C5D4BE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4CAC-71AF-4A3D-96F9-6FCB20E7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00F6-32A2-4F03-ABFB-FC22B88A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95D0-FF7B-4476-9EF6-57A435F1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7940-756A-492A-914D-0B1D569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5057-5744-4AB8-A80C-0445D6BA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7E5E-B769-4C26-A406-E8238756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4B8-B1F8-4989-A06F-8AFA0A06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000F-0DC5-4308-B6C8-8C03C66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7709-AEBE-4EF7-8553-DA9781E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E33C-F964-44FD-8CA9-9D458A3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5F0CF-D4DE-4C66-8A3C-BFFBFEB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D388-62C8-4AB5-8B3F-218B108F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06D4-A3B8-4032-94F0-994A3E53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401A-B270-417C-B166-A4978167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A518-A410-4DED-8C9C-EB65EB5B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43D6A-33F1-4798-AF74-53756A35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4D919-95A8-45A7-BF81-90D7C371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F2C-0939-44EC-A359-EA8B64DC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3BB3-9D6F-4E26-87E1-F6C75C9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E481-34C9-469E-AC29-07D6194D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4317-8FEC-4D92-9597-1F386BC1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F0A1-463C-41A0-A41D-E87EBA37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A94FF-BFB7-44E5-BC83-960F7E90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0F2D-A5A9-4578-A8E2-26A82E1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0DCC-DE88-4BC2-A4AB-302FC65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C1D53-498F-4E1C-B654-017232BA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B95C-426A-48DA-8C39-8B4C5A40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CBA31-4F42-4380-8131-377E6816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7D0-0C28-41CF-A2DE-885C3D1D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9B8A5-8DAD-4165-BC5A-532F655D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A3FF6-BF07-41DB-A999-ACF49306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0F332-869F-4ACA-9471-3DD2D50D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FECEC-61B6-419F-81B5-8E6C940B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436C7-66EC-4E45-9D70-FC850FB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B76F-3913-48A8-8548-3AAE622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DF46C-A75B-493B-B689-36C91187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364A-D27A-4BBC-8A92-265C329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C1048-EBBB-45DE-8022-22EE9092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2EA7F-DC7A-46B4-9542-53637FC3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B58-F6A7-42AF-8108-24D45457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6EF41-0D7E-40E4-B465-A0C5E079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C9E03-67E5-4906-90D8-A7878E32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D424-1782-406B-9E65-3172B8C2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EC2CC-9F37-4BEA-AFB5-7EA8CEE8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37DA9-92D5-4233-8D7C-56BB8336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C58BA-E9FE-4508-B9A1-2CD4FB1A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2CB72-2060-4F7B-BF22-8A77383C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ACB9-9702-4CC7-947C-ADC7A08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A1EA7-9A24-4A53-8AEB-501C180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20F41-FD81-45F1-9E91-5765BF3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6FA-E091-4C48-A1D0-412F18D8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C86DE-6886-4481-9B59-3060A67F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A9A0A-A699-453F-8A96-9ADD0A52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22A43-F24B-42A5-AE54-530A933F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96EC4-A313-4AD0-8780-CCB084A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E6B4-B39C-4057-B8A9-2ED8F15F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34006-41AC-4547-8DF7-20FD059A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2FCA-EF6B-4AA1-803E-62AADAC4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08BFE-72A1-468B-9DC4-AD9F909B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DAF17-10FD-4137-BADB-937B67B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C0EB1-0CBD-4C10-AB61-517ABDA8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590-9584-4E08-AB50-B3C5CAA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C8A5D-6BF8-430B-A67B-5F6A02F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597D7-B409-4E21-9B83-834ADB8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B9016-A867-4A14-84CB-B680E8EA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D352A-7E46-4DA0-A18E-B59E5477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ADA2E-49E0-490C-B2B0-AC5A4E14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0A5-BAB2-4C81-9DEC-45B04D54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BB26-EE40-4302-8A07-763B9017B7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FF75-819A-441C-A0FC-754D66347E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1EC-8255-4CFB-BF5B-574CB3877B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F03C-0ABF-47F4-90E5-CC695FCE7F5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8901-9FC3-4FCF-AF52-E623699526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51D1-843D-4863-A009-CD72B2DEED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7364-236A-4739-B857-89C8D39CCD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1725480" y="38268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ние учреждение комбинированного вида детский сад №54 п. Михайлов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714680" y="22147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проек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егите природу»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5651640" y="53006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полнила: воспитатель  МКДОУ д/с 5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едотова.О.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Заголовок 1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кет «Лес»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Объект 4" descr="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гры с макетом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Объект 4" descr=""/>
          <p:cNvPicPr/>
          <p:nvPr/>
        </p:nvPicPr>
        <p:blipFill>
          <a:blip r:embed="rId1"/>
          <a:stretch/>
        </p:blipFill>
        <p:spPr>
          <a:xfrm>
            <a:off x="1305000" y="1197000"/>
            <a:ext cx="3771720" cy="28274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"/>
          <p:cNvPicPr/>
          <p:nvPr/>
        </p:nvPicPr>
        <p:blipFill>
          <a:blip r:embed="rId2"/>
          <a:stretch/>
        </p:blipFill>
        <p:spPr>
          <a:xfrm>
            <a:off x="3673440" y="2631960"/>
            <a:ext cx="529128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Экологический вестн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7" name="Объект 8" descr=""/>
          <p:cNvPicPr/>
          <p:nvPr/>
        </p:nvPicPr>
        <p:blipFill>
          <a:blip r:embed="rId1"/>
          <a:stretch/>
        </p:blipFill>
        <p:spPr>
          <a:xfrm>
            <a:off x="1042920" y="1447920"/>
            <a:ext cx="78915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В планах совместной работы с родителям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Участие в конкурса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Организация мастер-класс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Фотовыстав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езультат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981000"/>
            <a:ext cx="74995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курс «Творческий воспитатель2022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ублика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ой научно-практической конференции.Градиент+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Рисунок 6" descr=""/>
          <p:cNvPicPr/>
          <p:nvPr/>
        </p:nvPicPr>
        <p:blipFill>
          <a:blip r:embed="rId1"/>
          <a:stretch/>
        </p:blipFill>
        <p:spPr>
          <a:xfrm>
            <a:off x="3708360" y="2575080"/>
            <a:ext cx="2457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ь проекта: Формирование у детей и родителей чувства сопричастности ко всему живому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Объект 4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2723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хема 5" descr=""/>
          <p:cNvPicPr/>
          <p:nvPr/>
        </p:nvPicPr>
        <p:blipFill>
          <a:blip r:embed="rId1"/>
          <a:stretch/>
        </p:blipFill>
        <p:spPr>
          <a:xfrm>
            <a:off x="579600" y="1384200"/>
            <a:ext cx="79675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458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тодическая литератур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Объект 4" descr=""/>
          <p:cNvPicPr/>
          <p:nvPr/>
        </p:nvPicPr>
        <p:blipFill>
          <a:blip r:embed="rId1"/>
          <a:stretch/>
        </p:blipFill>
        <p:spPr>
          <a:xfrm>
            <a:off x="235080" y="907920"/>
            <a:ext cx="4248000" cy="35402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6" descr=""/>
          <p:cNvPicPr/>
          <p:nvPr/>
        </p:nvPicPr>
        <p:blipFill>
          <a:blip r:embed="rId2"/>
          <a:stretch/>
        </p:blipFill>
        <p:spPr>
          <a:xfrm>
            <a:off x="4597560" y="907920"/>
            <a:ext cx="4059000" cy="35402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3" descr=""/>
          <p:cNvPicPr/>
          <p:nvPr/>
        </p:nvPicPr>
        <p:blipFill>
          <a:blip r:embed="rId3"/>
          <a:stretch/>
        </p:blipFill>
        <p:spPr>
          <a:xfrm>
            <a:off x="235080" y="3789360"/>
            <a:ext cx="4248000" cy="29527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" descr=""/>
          <p:cNvPicPr/>
          <p:nvPr/>
        </p:nvPicPr>
        <p:blipFill>
          <a:blip r:embed="rId4"/>
          <a:stretch/>
        </p:blipFill>
        <p:spPr>
          <a:xfrm>
            <a:off x="4651200" y="3672000"/>
            <a:ext cx="400536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уклет, консультации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Объект 4" descr=""/>
          <p:cNvPicPr/>
          <p:nvPr/>
        </p:nvPicPr>
        <p:blipFill>
          <a:blip r:embed="rId1"/>
          <a:stretch/>
        </p:blipFill>
        <p:spPr>
          <a:xfrm>
            <a:off x="190440" y="1260360"/>
            <a:ext cx="3600360" cy="47610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"/>
          <p:cNvPicPr/>
          <p:nvPr/>
        </p:nvPicPr>
        <p:blipFill>
          <a:blip r:embed="rId2"/>
          <a:stretch/>
        </p:blipFill>
        <p:spPr>
          <a:xfrm>
            <a:off x="3944880" y="1268280"/>
            <a:ext cx="500868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делки из бросового материала «Чудеса из ненужных вещей»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Объект 4" descr=""/>
          <p:cNvPicPr/>
          <p:nvPr/>
        </p:nvPicPr>
        <p:blipFill>
          <a:blip r:embed="rId1"/>
          <a:stretch/>
        </p:blipFill>
        <p:spPr>
          <a:xfrm>
            <a:off x="1063800" y="906480"/>
            <a:ext cx="4608360" cy="32986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6" descr=""/>
          <p:cNvPicPr/>
          <p:nvPr/>
        </p:nvPicPr>
        <p:blipFill>
          <a:blip r:embed="rId2"/>
          <a:stretch/>
        </p:blipFill>
        <p:spPr>
          <a:xfrm>
            <a:off x="4381560" y="1284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" descr=""/>
          <p:cNvPicPr/>
          <p:nvPr/>
        </p:nvPicPr>
        <p:blipFill>
          <a:blip r:embed="rId3"/>
          <a:stretch/>
        </p:blipFill>
        <p:spPr>
          <a:xfrm>
            <a:off x="160200" y="327816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"/>
          <p:cNvPicPr/>
          <p:nvPr/>
        </p:nvPicPr>
        <p:blipFill>
          <a:blip r:embed="rId4"/>
          <a:stretch/>
        </p:blipFill>
        <p:spPr>
          <a:xfrm>
            <a:off x="5183280" y="3979800"/>
            <a:ext cx="34700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Объект 4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545000" cy="340992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6" descr=""/>
          <p:cNvPicPr/>
          <p:nvPr/>
        </p:nvPicPr>
        <p:blipFill>
          <a:blip r:embed="rId2"/>
          <a:stretch/>
        </p:blipFill>
        <p:spPr>
          <a:xfrm>
            <a:off x="3794040" y="1773360"/>
            <a:ext cx="5364360" cy="4022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"/>
          <p:cNvPicPr/>
          <p:nvPr/>
        </p:nvPicPr>
        <p:blipFill>
          <a:blip r:embed="rId3"/>
          <a:stretch/>
        </p:blipFill>
        <p:spPr>
          <a:xfrm>
            <a:off x="990720" y="2529000"/>
            <a:ext cx="3209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нига «Природа твой друг, береги её, помогай ей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Объект 4" descr=""/>
          <p:cNvPicPr/>
          <p:nvPr/>
        </p:nvPicPr>
        <p:blipFill>
          <a:blip r:embed="rId1"/>
          <a:stretch/>
        </p:blipFill>
        <p:spPr>
          <a:xfrm>
            <a:off x="539640" y="1814400"/>
            <a:ext cx="3364200" cy="480060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6" descr=""/>
          <p:cNvPicPr/>
          <p:nvPr/>
        </p:nvPicPr>
        <p:blipFill>
          <a:blip r:embed="rId2"/>
          <a:stretch/>
        </p:blipFill>
        <p:spPr>
          <a:xfrm>
            <a:off x="3556080" y="1427040"/>
            <a:ext cx="5573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одительское собрание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Объект 3" descr=""/>
          <p:cNvPicPr/>
          <p:nvPr/>
        </p:nvPicPr>
        <p:blipFill>
          <a:blip r:embed="rId1"/>
          <a:stretch/>
        </p:blipFill>
        <p:spPr>
          <a:xfrm>
            <a:off x="5724360" y="1217520"/>
            <a:ext cx="3051360" cy="51642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5" descr=""/>
          <p:cNvPicPr/>
          <p:nvPr/>
        </p:nvPicPr>
        <p:blipFill>
          <a:blip r:embed="rId2"/>
          <a:stretch/>
        </p:blipFill>
        <p:spPr>
          <a:xfrm>
            <a:off x="209520" y="547560"/>
            <a:ext cx="1855800" cy="38610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7" descr=""/>
          <p:cNvPicPr/>
          <p:nvPr/>
        </p:nvPicPr>
        <p:blipFill>
          <a:blip r:embed="rId3"/>
          <a:stretch/>
        </p:blipFill>
        <p:spPr>
          <a:xfrm>
            <a:off x="2260440" y="836640"/>
            <a:ext cx="3230640" cy="17683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4" descr=""/>
          <p:cNvPicPr/>
          <p:nvPr/>
        </p:nvPicPr>
        <p:blipFill>
          <a:blip r:embed="rId4"/>
          <a:stretch/>
        </p:blipFill>
        <p:spPr>
          <a:xfrm>
            <a:off x="1225440" y="2781360"/>
            <a:ext cx="3922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5T11:32:53Z</dcterms:created>
  <dc:creator>User</dc:creator>
  <dc:description/>
  <dc:language>en-US</dc:language>
  <cp:lastModifiedBy>федотов федя</cp:lastModifiedBy>
  <dcterms:modified xsi:type="dcterms:W3CDTF">2023-01-22T09:44:04Z</dcterms:modified>
  <cp:revision>63</cp:revision>
  <dc:subject/>
  <dc:title>Презентация PowerPoint</dc:title>
</cp:coreProperties>
</file>