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png" ContentType="image/png"/>
  <Override PartName="/ppt/media/image6.gif" ContentType="image/gif"/>
  <Override PartName="/ppt/media/image7.gif" ContentType="image/gi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ADB0-6749-424B-9099-F02A1D36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6CF2-C0F3-4831-939C-0D4E4AE0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20B-1BD5-412E-AF35-87620875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EEC2-20B6-4264-9097-F3C970AF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7BD8-1C36-4B1A-99C5-BEB20F32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BDF0-8447-43F3-8B66-68232CB7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6B90-8A97-4AA0-BD9A-3BF50A75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5D87-AF43-4D1F-A79F-F135ABE5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0210-F414-4497-B1A6-C30E9091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B1CB-D506-487A-95C2-151ADCD6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021E-7FF0-4473-89EA-8B983282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2099-E30D-4A3C-B4B0-C44B760E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F038-EF8E-40D7-A8D0-6856D1DBAD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189000"/>
            <a:ext cx="7867440" cy="47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заимоотношени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Отцов и Детей»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" y="2133720"/>
            <a:ext cx="3960720" cy="44845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дин из вариантов этого способ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и того не замечая, родители показывают сомнительный пример по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Всегда добивайся того, что хочешь, не считаясь с желаниями другог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ти быстро учатся дел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 же, они как бы возвращают взрослым данный ими ур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тогд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коса находит на камен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0720" y="2060640"/>
            <a:ext cx="4464000" cy="44845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Другой вариант этого способа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ягко, но настойчиво требовать от ребёнка выполнения своего желания. И если это постоянно, ребёнок усваивает другое правило: «Мои личные интересы не в счёт, всё равно придётся делать то, что хотят или требуют родители»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ти постоянно оказываются побеждённы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равило, они растут либо агрессивными, либо чрезмерно пассив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333360"/>
            <a:ext cx="8640720" cy="13737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Первый неконструктивный спосо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разрешения конфликтов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Настоять на своём!  «Выигрывает родите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2492280"/>
            <a:ext cx="8569080" cy="37515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их случаях дети растут эгоистами, не приученными к порядку, не умеющими себя организовать,  со своими завышенными требованиями к окружающим и неспособностью идти навстречу другим, они остаются в одиночеств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о встречают насмешки и даже отвержение, в такой семье у родителей накапливается глухое недовольство собственным ребёнком и своей судьб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тарости такие «вечно уступчивые» взрослые часто оказываются одинокими и заброше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89000"/>
            <a:ext cx="8064720" cy="18003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Второй неконструктивный способ  разрешения конфликтов: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Уступить, сохраняя ми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«Выигрывает только ребён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71640" y="404640"/>
            <a:ext cx="7272360" cy="6426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Arial"/>
              </a:rPr>
              <a:t>Конструктивный способ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2565360"/>
            <a:ext cx="7056720" cy="39333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Шаги разреш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Прояснение конфликтной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Сбор предложений (без крити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Оценка предложений и выбор  наиболее приемле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Детализация решения (уточнения различного род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Выполнение решения, провер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1268280"/>
            <a:ext cx="6408720" cy="9471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«Выигрывают обе сторон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и родитель и ребён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71640" y="404640"/>
            <a:ext cx="7272360" cy="5205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. Прояснения конфликтной ситуации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1268280"/>
            <a:ext cx="4608720" cy="436284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Сначала родитель выслушивает ребёнка. Уточняет, в чём состоит его проблема, а именно: что он хочет или не хочет, что ему нужно или важно. Что его затрудня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лает он это в стиле  активного слушания, то есть обязательно озвучивает желание, потребность или затруднение ребё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асто, едва взрослый начинает активно слушать ребёнка, острота назревающего конфликта спадает, и возникает готовность пойти навстречу друг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76720" y="2637000"/>
            <a:ext cx="3598920" cy="25333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После этого родитель говорит о своём желании или проблеме, используя форму «Я - сообщения». Ребёнку не менее важно узнать больше и точнее о вашем переживании, чем вам - о 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68360" y="404640"/>
            <a:ext cx="4319640" cy="5205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. Сбор предложени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989000"/>
            <a:ext cx="3527640" cy="1557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Этот способ начинается с вопрос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же нам быть:”, “Как поступить?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16360" y="1484280"/>
            <a:ext cx="3959280" cy="448308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Надо обязательно подождать, дать ребенку первому предложить решение, и только затем предлагать свои вариан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 одно предложение не отвергается, просто набираются в “корзинку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предложений много, их можно записать на бума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00000" y="404640"/>
            <a:ext cx="7417080" cy="9471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. Оценка предложений и выбор наиболее приемлем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1916280"/>
            <a:ext cx="3456000" cy="41173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 этом этап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оходит совместное обсуждение пред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ороны” к этому времени уже знают интересы друг друга, и предыдущие шаги помогают создать атмосферу взаимного ув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700280"/>
            <a:ext cx="4321080" cy="484884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Во-перв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каждый участник выслуш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о-втор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каждый вникает в положение друг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-треть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между “сторонами” не возникает ни раздражения, ни оби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-четверт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есть возможность осознать свои истинные жел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следне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прекрасный “урок”, как вместе решать “трудные”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7280" y="476280"/>
            <a:ext cx="6840720" cy="5205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. Детализация принятого ре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95640" y="1484280"/>
            <a:ext cx="5040360" cy="82548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ого решения мало, необходимо научить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16000" y="2997360"/>
            <a:ext cx="6985080" cy="5205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. Выполнение решения, провер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4292640"/>
            <a:ext cx="5761080" cy="1557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ребенок потерпит неудачу, лучше, если о неудачах скажет сам. Уточнить в чем,  по его мнени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ч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a50021"/>
                </a:solidFill>
                <a:latin typeface="Arial"/>
              </a:rPr>
              <a:t>Положительные моменты конструктивного способа разрешения конфликтов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каждый участник оказывается выслуш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каждый вникает в положение друго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между «сторонами» не возникает ни раздражения, ни обиды; напротив, сохраняется атмосфера дружеских отнош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ребятам предоставляется возможность осознать свои истинные  жела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дети получают прекрасный урок, как вместе решать «трудные» 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30200" y="266760"/>
            <a:ext cx="66265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99"/>
              </a:gs>
              <a:gs pos="50000">
                <a:srgbClr val="fefefe"/>
              </a:gs>
              <a:gs pos="100000">
                <a:srgbClr val="333399"/>
              </a:gs>
            </a:gsLst>
            <a:lin ang="5400000"/>
          </a:gradFill>
          <a:ln w="12600">
            <a:solidFill>
              <a:srgbClr val="9966ff"/>
            </a:solidFill>
            <a:miter/>
          </a:ln>
          <a:effectLst>
            <a:outerShdw dist="127008" dir="19383909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Отец – ответственная долж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1360" y="1122480"/>
            <a:ext cx="8734680" cy="14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99"/>
              </a:gs>
              <a:gs pos="50000">
                <a:srgbClr val="fefefe"/>
              </a:gs>
              <a:gs pos="100000">
                <a:srgbClr val="ff6699"/>
              </a:gs>
            </a:gsLst>
            <a:lin ang="5400000"/>
          </a:gradFill>
          <a:ln w="12600">
            <a:solidFill>
              <a:srgbClr val="9966ff"/>
            </a:solidFill>
            <a:miter/>
          </a:ln>
          <a:effectLst>
            <a:outerShdw dist="127008" dir="19383909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тать отцом совсем легко. Быть отцом, напротив, трудно. Современный ребенок хочет видеть в отце не только наставника, но и помощника во всех делах. Отец должен быть готов к общению с детьми, только тогда дети поверят его сло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85960" y="2932200"/>
            <a:ext cx="7375320" cy="7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12600">
            <a:solidFill>
              <a:srgbClr val="9966ff"/>
            </a:solidFill>
            <a:miter/>
          </a:ln>
          <a:effectLst>
            <a:outerShdw dist="127008" dir="19383909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то-то мудро замети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урные привычки отцов превращаются в пороки детей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7600" y="4213080"/>
            <a:ext cx="8758440" cy="14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9966ff"/>
            </a:solidFill>
            <a:miter/>
          </a:ln>
          <a:effectLst>
            <a:outerShdw dist="127008" dir="19383909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мните: рано или поздно Ваши дети последуют Вашему примеру, а не Вашим советам и нравоучениям. Лучшее, что отец может сделать для своих детей, это жить их проблемами, заботами, интересами и, конечно, любить и жалеть их м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6012000"/>
            <a:ext cx="739620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9966ff"/>
            </a:solidFill>
            <a:miter/>
          </a:ln>
          <a:effectLst>
            <a:outerShdw dist="127008" dir="19383909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дин отец значит больше, чем сто учителей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Результаты опроса </a:t>
            </a:r>
            <a:br>
              <a:rPr sz="4000"/>
            </a:b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учащихся школы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43588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«Незаконченные предлож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оличество класс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оличество опрошенных ученик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3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42920" y="189000"/>
            <a:ext cx="7201080" cy="5205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efefe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е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— образец настоящего мужч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2852640"/>
            <a:ext cx="8785440" cy="11912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efefe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ботясь о ребенке, оберегая его, родители вместе с тем передают ему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ное представление о жизни, чтобы тот смог адаптироваться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стве и со временем, когда покинет отчий дом, стать хорош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дителем уже своих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907920"/>
            <a:ext cx="8785440" cy="1739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отцов  есть своя, специфическая роль. И состоит она в том, чтобы быть мужчиной, мужем, родителем мужского пола, а это значит, что он несет ответственность за формирование у сыновей понятия о том, как относиться к жизни по-мужски, то есть думать, чувствовать и поступать, как это делает он сам. Первое и главное качество хорошего отца заключается в том, чтобы являть собой прекрасный образец муж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79280" y="4377960"/>
            <a:ext cx="8785440" cy="2288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fe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нно в общении с отцом мальчик учится быть мужчиной, приобрет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ично мужские черты характера, причем сделать это ему нетруд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аточно лишь подражать взрослому. Тем не менее, и девочка, когда в 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ет пробуждаться женственность, способна многому научиться у отца.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е складывается точное представление о том, что собой представл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жчина в домашней жизни, и она узнает, как мужчины относятся к женщин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ясь невольным свидетелем повседневных взаимоотношений мамы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п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1. Мой папа 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ый лучший, добрый, хороший, заботливый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юбит меня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лой, плохой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огий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ответили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00720" y="3141720"/>
            <a:ext cx="15130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2. Я хотел (а) бы что мой папа 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елял мне и семье больше внимания и времени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аще был дома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 всегда добрым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осил курить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л вместе с мамой и со мной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был таким строгим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ответили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093080" y="4581360"/>
            <a:ext cx="13683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3. Мой папа и я 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учшие друзья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одим вместе время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хороших отношениях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ужная, лучшая семья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ладим (не совместимы)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чти не видимся (редко разговариваем)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ответили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5867280" y="1268280"/>
            <a:ext cx="3097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4. Достаточно ли времени уделяет тебе папа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, достаточно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гда свободен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т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очень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, но хотелось бы больше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ответили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5. Мой папа обращается со мной как 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любимым сыном (дочкой)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рошо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с ребёнком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со взрослым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с другом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ответили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948360" y="3357720"/>
            <a:ext cx="9367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6. Я не люблю когда мой папа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гается, кричит, злится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ьёт, курит, матерится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 времени проводит за компьютером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разрешает многого 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о задерживается на работе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ставляет делать уроки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ня не понимает и не слышит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ответили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7. Если я был (а)  бы папой, то 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е времени уделял(а) детям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 (а) такой же как мой папа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 (а) бы хорошим и добрым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бил(а) бы своих детей и обеспечивал(а) свою семью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носился и воспитывал своего ребёнка хорошо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упал(а) подарки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(а) бы идеальным папой, лучше своего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курил(а), не пил(а) пиво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ответили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5084640"/>
            <a:ext cx="12240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8. По сравнению с большинством других семей, моя семья 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учшая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рошая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жная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рмальная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ая интересная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ычная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ответили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9" descr="63-8.jpg"/>
          <p:cNvPicPr/>
          <p:nvPr/>
        </p:nvPicPr>
        <p:blipFill>
          <a:blip r:embed="rId2"/>
          <a:stretch/>
        </p:blipFill>
        <p:spPr>
          <a:xfrm>
            <a:off x="6659640" y="1773360"/>
            <a:ext cx="17859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36200" y="683280"/>
            <a:ext cx="7671600" cy="516348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12600">
            <a:solidFill>
              <a:srgbClr val="9966ff"/>
            </a:solidFill>
            <a:miter/>
          </a:ln>
          <a:effectLst>
            <a:outerShdw dist="127008" dir="19383909" blurRad="0" rotWithShape="0">
              <a:srgbClr val="cc66ff"/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Дарите детя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свое внимани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это порой для ни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гораз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важнее любого подар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2060640"/>
            <a:ext cx="6840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95640" y="189000"/>
            <a:ext cx="4897440" cy="5205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efefe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дели поведения от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2349360"/>
            <a:ext cx="8785440" cy="23191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efefe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Творец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Часто такие папы совершенно не готовы к появлению младенц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ме, и только по мере взросления начинают включаться в его воспит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сожалению, это происходит иногда слишком поздно, когда ребенок у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ает, что папа не проявляет к нему интереса, и та нить, которая должна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единять после рождения, уже потеряна. Из-за этого часто возник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доверие ребенка к отцу и отсутствие привязанности. Так же эти отцы ча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ершенно не способны воспитывать дочерей, поскольку не знают, как с н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907920"/>
            <a:ext cx="8785440" cy="1221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Посторонний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акой тип поведения проявляется в готовности заботиться о малыше, но больше это касается игр и прогулок, а такие занятия, как смена подгузника или кормление, эти отцы считают прерогативой матери. Крайнее проявление - оставляет все заботы на мате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79280" y="5023080"/>
            <a:ext cx="8785440" cy="14961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fe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Ревнивец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тцы-ревнивцы могут соперничать с детьми за вним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ри - жены. В таких случаях часто возникают конфликты, посколь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нщина находится меж двух огней, и сердце ее с ребенком, но и мужа тер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хочется. Поэтому решить эту проблему может только она, уделяя вним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им в равном колич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95640" y="189000"/>
            <a:ext cx="4897440" cy="5205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efefe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дели поведения от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781360"/>
            <a:ext cx="8713800" cy="14961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efefe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Хранитель гнезда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Это самый идеальный вариант папы. Такие муж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чтают о детях, они делают их целью своей жизни, активно участвуют в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ании и развитии. Это отличный пример для сына, но с дочкой он мож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ыграть плохую шутку - привыкнув к такой модели семейных отношений, 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ет всю жизнь искать подобного муж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981000"/>
            <a:ext cx="8713800" cy="1496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Начальник или Руководитель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Авторитарный тип отца - он часто подавляет любую инициативу ребенка, не позволяя ему самому делать выбор в той или иной ситуации. Попытки оградить таким способом ребенка от ошибок приводят к прямо противоположному результату - дети становятся неспособны что-либо делать без помощи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50920" y="4876560"/>
            <a:ext cx="8713800" cy="12218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fe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Наставник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Такие отцы всегда готовы объяснить причину, обсуд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блему, посоветовать. Это один из самых оптимальных ст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аимоотношений, поскольку предполагает непосредственное участие в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55640" y="1700280"/>
            <a:ext cx="7704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или отношений в семь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189000"/>
            <a:ext cx="8424720" cy="5814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а основных стиля отношений в сем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1052640"/>
            <a:ext cx="4680000" cy="55825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вторитарный сти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ношений к детям в семье основан на жестком соблюдении интересов родителей, беспрекословной власти старших, подчинении их воле. Авторитаризм в воспитании игнорирует права и свободы личности, индивидуальные особенности ребенка, проявление инициативы "снизу", подавляет самостоятельность человека. Такой способ воспитания вызывает детский страх и подавляет инициативу, порождает протест и конфронтацию в семье, приучает к показному поведению, приводит к падению авторитета родителей в глазах де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1052640"/>
            <a:ext cx="3961080" cy="55825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вободный сти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ношений к детям ориентирован на потребности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цесс воспитания характеризуе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большей дозволенностью по отношению к спонтанным желаниям ребен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более свободным выражением любви и привязанности к детям со стороны родител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увеличением роли психологических методов воздействия и уменьшением или полным устранением физических наказа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рани или угро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астота возникновения и характер поведения детей в конфликте с родителями связаны с существующим в семье типом родительского отнош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ипы отношений, основанные на утверждении силы и лишении ребенка любви, чаще провоцирует детско - родительские конфликты, чем отношения, построенные на уважении и доверии к ребен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63640" y="189000"/>
            <a:ext cx="5616720" cy="9471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чины конфлик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дителей и 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1557360"/>
            <a:ext cx="4248360" cy="44845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одростки в конфлик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зис переходного возра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стремление к самостоятельности и самоопредел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требование большей автономии во всем - от одежды до помещ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ривычка к конфликту, воспитанная поведением взрослых в семь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бравирование подростка своими правами перед сверстниками и авторитетными для него люд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1700280"/>
            <a:ext cx="4105080" cy="44845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efefe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Родители в конфлик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желание признавать, что ребенок стал взросл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боязнь выпустить ребенка из гнезда, неверие в его си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роецирование поведения ребенка на себя в его возрас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борьба за собственную власть и авторитет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тсутствие понимания между взрослыми в воспитании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еподтверждение родительских ожи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39640" y="1557360"/>
            <a:ext cx="791064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особы разрешения конфликтов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4:35:54Z</dcterms:created>
  <dc:creator>Customer</dc:creator>
  <dc:description/>
  <dc:language>en-US</dc:language>
  <cp:lastModifiedBy>Психолог</cp:lastModifiedBy>
  <dcterms:modified xsi:type="dcterms:W3CDTF">2011-02-26T06:39:12Z</dcterms:modified>
  <cp:revision>20</cp:revision>
  <dc:subject/>
  <dc:title>Слайд 1</dc:title>
</cp:coreProperties>
</file>