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gif" ContentType="image/gif"/>
  <Override PartName="/ppt/media/image4.gif" ContentType="image/gif"/>
  <Override PartName="/ppt/media/image5.png" ContentType="image/png"/>
  <Override PartName="/ppt/media/image6.gif" ContentType="image/gif"/>
  <Override PartName="/ppt/media/image7.gif" ContentType="image/gif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AC53-E5FD-45B5-B3CE-A36073DB1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E6F8-CC48-44AD-9DE9-9807B9704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F026-5898-4C79-AE57-2436A8A85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B820-082F-4271-9A9E-AB86C4EE5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0135-470A-4970-BC1D-4D7973E96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24BE-A43C-47D5-BE25-9E765C54D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3C43-5069-4073-87BD-83ADCB5F5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C39E-76A2-4A69-B9BF-48F6B05FB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FDBA-E857-4BF1-B893-70926FF72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33DC-64E2-4069-B155-787474405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36F7-8103-46FF-9531-009F5409F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E44C-824D-43AC-857F-8E27CC63E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64EA6-1ABA-44C1-9CA6-141945353AF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11280" y="189000"/>
            <a:ext cx="7867440" cy="47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заимоотношения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66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«Отцов и Детей»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66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24000" y="2133720"/>
            <a:ext cx="3960720" cy="4484520"/>
          </a:xfrm>
          <a:prstGeom prst="rect">
            <a:avLst/>
          </a:prstGeom>
          <a:gradFill rotWithShape="0">
            <a:gsLst>
              <a:gs pos="0">
                <a:srgbClr val="66ff66"/>
              </a:gs>
              <a:gs pos="50000">
                <a:srgbClr val="fefefe"/>
              </a:gs>
              <a:gs pos="100000">
                <a:srgbClr val="66ff66"/>
              </a:gs>
            </a:gsLst>
            <a:lin ang="5400000"/>
          </a:gradFill>
          <a:ln w="9360">
            <a:solidFill>
              <a:srgbClr val="66669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Один из вариантов этого способ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ами того не замечая, родители показывают сомнительный пример поведени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«Всегда добивайся того, что хочешь, не считаясь с желаниями другого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ети быстро учатся дела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о же, они как бы возвращают взрослым данный ими урок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 тогда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«коса находит на камень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500720" y="2060640"/>
            <a:ext cx="4464000" cy="4484520"/>
          </a:xfrm>
          <a:prstGeom prst="rect">
            <a:avLst/>
          </a:prstGeom>
          <a:gradFill rotWithShape="0">
            <a:gsLst>
              <a:gs pos="0">
                <a:srgbClr val="66ff66"/>
              </a:gs>
              <a:gs pos="50000">
                <a:srgbClr val="fefefe"/>
              </a:gs>
              <a:gs pos="100000">
                <a:srgbClr val="66ff66"/>
              </a:gs>
            </a:gsLst>
            <a:lin ang="5400000"/>
          </a:gradFill>
          <a:ln w="9360">
            <a:solidFill>
              <a:srgbClr val="66669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Другой вариант этого способа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ягко, но настойчиво требовать от ребёнка выполнения своего желания. И если это постоянно, ребёнок усваивает другое правило: «Мои личные интересы не в счёт, всё равно придётся делать то, что хотят или требуют родители»;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ети постоянно оказываются побеждённы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ак правило, они растут либо агрессивными, либо чрезмерно пассивны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24000" y="333360"/>
            <a:ext cx="8640720" cy="1373760"/>
          </a:xfrm>
          <a:prstGeom prst="rect">
            <a:avLst/>
          </a:prstGeom>
          <a:gradFill rotWithShape="0">
            <a:gsLst>
              <a:gs pos="0">
                <a:srgbClr val="66ff66"/>
              </a:gs>
              <a:gs pos="50000">
                <a:srgbClr val="fefefe"/>
              </a:gs>
              <a:gs pos="100000">
                <a:srgbClr val="66ff66"/>
              </a:gs>
            </a:gsLst>
            <a:lin ang="5400000"/>
          </a:gradFill>
          <a:ln w="9360">
            <a:solidFill>
              <a:srgbClr val="66669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Первый неконструктивный способ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разрешения конфликтов: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Настоять на своём!  «Выигрывает родитель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24000" y="2492280"/>
            <a:ext cx="8569080" cy="3751560"/>
          </a:xfrm>
          <a:prstGeom prst="rect">
            <a:avLst/>
          </a:prstGeom>
          <a:gradFill rotWithShape="0">
            <a:gsLst>
              <a:gs pos="0">
                <a:srgbClr val="66ff66"/>
              </a:gs>
              <a:gs pos="50000">
                <a:srgbClr val="fefefe"/>
              </a:gs>
              <a:gs pos="100000">
                <a:srgbClr val="66ff66"/>
              </a:gs>
            </a:gsLst>
            <a:lin ang="5400000"/>
          </a:gradFill>
          <a:ln w="9360">
            <a:solidFill>
              <a:srgbClr val="66669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этих случаях дети растут эгоистами, не приученными к порядку, не умеющими себя организовать,  со своими завышенными требованиями к окружающим и неспособностью идти навстречу другим, они остаются в одиночестве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асто встречают насмешки и даже отвержение, в такой семье у родителей накапливается глухое недовольство собственным ребёнком и своей судьбо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старости такие «вечно уступчивые» взрослые часто оказываются одинокими и заброшенны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39640" y="189000"/>
            <a:ext cx="8064720" cy="1800360"/>
          </a:xfrm>
          <a:prstGeom prst="rect">
            <a:avLst/>
          </a:prstGeom>
          <a:gradFill rotWithShape="0">
            <a:gsLst>
              <a:gs pos="0">
                <a:srgbClr val="66ff66"/>
              </a:gs>
              <a:gs pos="50000">
                <a:srgbClr val="fefefe"/>
              </a:gs>
              <a:gs pos="100000">
                <a:srgbClr val="66ff66"/>
              </a:gs>
            </a:gsLst>
            <a:lin ang="5400000"/>
          </a:gradFill>
          <a:ln w="9360">
            <a:solidFill>
              <a:srgbClr val="66669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Второй неконструктивный способ  разрешения конфликтов: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Уступить, сохраняя мир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«Выигрывает только ребёнок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971640" y="404640"/>
            <a:ext cx="7272360" cy="642600"/>
          </a:xfrm>
          <a:prstGeom prst="rect">
            <a:avLst/>
          </a:prstGeom>
          <a:gradFill rotWithShape="0">
            <a:gsLst>
              <a:gs pos="0">
                <a:srgbClr val="66ff66"/>
              </a:gs>
              <a:gs pos="50000">
                <a:srgbClr val="fefefe"/>
              </a:gs>
              <a:gs pos="100000">
                <a:srgbClr val="66ff66"/>
              </a:gs>
            </a:gsLst>
            <a:lin ang="5400000"/>
          </a:gradFill>
          <a:ln w="9360">
            <a:solidFill>
              <a:srgbClr val="66669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a50021"/>
                </a:solidFill>
                <a:latin typeface="Arial"/>
              </a:rPr>
              <a:t>Конструктивный способ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187280" y="2565360"/>
            <a:ext cx="7056720" cy="3933360"/>
          </a:xfrm>
          <a:prstGeom prst="rect">
            <a:avLst/>
          </a:prstGeom>
          <a:gradFill rotWithShape="0">
            <a:gsLst>
              <a:gs pos="0">
                <a:srgbClr val="66ff66"/>
              </a:gs>
              <a:gs pos="50000">
                <a:srgbClr val="fefefe"/>
              </a:gs>
              <a:gs pos="100000">
                <a:srgbClr val="66ff66"/>
              </a:gs>
            </a:gsLst>
            <a:lin ang="5400000"/>
          </a:gradFill>
          <a:ln w="9360">
            <a:solidFill>
              <a:srgbClr val="66669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Шаги разреше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Прояснение конфликтной ситу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Сбор предложений (без критики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Оценка предложений и выбор  наиболее приемлемо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Детализация решения (уточнения различного рода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Выполнение решения, провер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619280" y="1268280"/>
            <a:ext cx="6408720" cy="947160"/>
          </a:xfrm>
          <a:prstGeom prst="rect">
            <a:avLst/>
          </a:prstGeom>
          <a:gradFill rotWithShape="0">
            <a:gsLst>
              <a:gs pos="0">
                <a:srgbClr val="66ff66"/>
              </a:gs>
              <a:gs pos="50000">
                <a:srgbClr val="fefefe"/>
              </a:gs>
              <a:gs pos="100000">
                <a:srgbClr val="66ff66"/>
              </a:gs>
            </a:gsLst>
            <a:lin ang="5400000"/>
          </a:gradFill>
          <a:ln w="9360">
            <a:solidFill>
              <a:srgbClr val="66669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a50021"/>
                </a:solidFill>
                <a:latin typeface="Arial"/>
              </a:rPr>
              <a:t>«Выигрывают обе стороны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a50021"/>
                </a:solidFill>
                <a:latin typeface="Arial"/>
              </a:rPr>
              <a:t>и родитель и ребёнок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71640" y="404640"/>
            <a:ext cx="7272360" cy="520560"/>
          </a:xfrm>
          <a:prstGeom prst="rect">
            <a:avLst/>
          </a:prstGeom>
          <a:gradFill rotWithShape="0">
            <a:gsLst>
              <a:gs pos="0">
                <a:srgbClr val="66ff66"/>
              </a:gs>
              <a:gs pos="50000">
                <a:srgbClr val="fefefe"/>
              </a:gs>
              <a:gs pos="100000">
                <a:srgbClr val="66ff66"/>
              </a:gs>
            </a:gsLst>
            <a:lin ang="5400000"/>
          </a:gradFill>
          <a:ln w="9360">
            <a:solidFill>
              <a:srgbClr val="66669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1. Прояснения конфликтной ситуации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79280" y="1268280"/>
            <a:ext cx="4608720" cy="4362840"/>
          </a:xfrm>
          <a:prstGeom prst="rect">
            <a:avLst/>
          </a:prstGeom>
          <a:gradFill rotWithShape="0">
            <a:gsLst>
              <a:gs pos="0">
                <a:srgbClr val="66ff66"/>
              </a:gs>
              <a:gs pos="50000">
                <a:srgbClr val="fefefe"/>
              </a:gs>
              <a:gs pos="100000">
                <a:srgbClr val="66ff66"/>
              </a:gs>
            </a:gsLst>
            <a:lin ang="5400000"/>
          </a:gradFill>
          <a:ln w="9360">
            <a:solidFill>
              <a:srgbClr val="66669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Сначала родитель выслушивает ребёнка. Уточняет, в чём состоит его проблема, а именно: что он хочет или не хочет, что ему нужно или важно. Что его затрудняе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елает он это в стиле  активного слушания, то есть обязательно озвучивает желание, потребность или затруднение ребён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Часто, едва взрослый начинает активно слушать ребёнка, острота назревающего конфликта спадает, и возникает готовность пойти навстречу друг друг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076720" y="2637000"/>
            <a:ext cx="3598920" cy="2533320"/>
          </a:xfrm>
          <a:prstGeom prst="rect">
            <a:avLst/>
          </a:prstGeom>
          <a:gradFill rotWithShape="0">
            <a:gsLst>
              <a:gs pos="0">
                <a:srgbClr val="66ff66"/>
              </a:gs>
              <a:gs pos="50000">
                <a:srgbClr val="fefefe"/>
              </a:gs>
              <a:gs pos="100000">
                <a:srgbClr val="66ff66"/>
              </a:gs>
            </a:gsLst>
            <a:lin ang="5400000"/>
          </a:gradFill>
          <a:ln w="9360">
            <a:solidFill>
              <a:srgbClr val="66669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После этого родитель говорит о своём желании или проблеме, используя форму «Я - сообщения». Ребёнку не менее важно узнать больше и точнее о вашем переживании, чем вам - о ег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68360" y="404640"/>
            <a:ext cx="4319640" cy="520560"/>
          </a:xfrm>
          <a:prstGeom prst="rect">
            <a:avLst/>
          </a:prstGeom>
          <a:gradFill rotWithShape="0">
            <a:gsLst>
              <a:gs pos="0">
                <a:srgbClr val="66ff66"/>
              </a:gs>
              <a:gs pos="50000">
                <a:srgbClr val="fefefe"/>
              </a:gs>
              <a:gs pos="100000">
                <a:srgbClr val="66ff66"/>
              </a:gs>
            </a:gsLst>
            <a:lin ang="5400000"/>
          </a:gradFill>
          <a:ln w="9360">
            <a:solidFill>
              <a:srgbClr val="66669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2. Сбор предложений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39640" y="1989000"/>
            <a:ext cx="3527640" cy="1557000"/>
          </a:xfrm>
          <a:prstGeom prst="rect">
            <a:avLst/>
          </a:prstGeom>
          <a:gradFill rotWithShape="0">
            <a:gsLst>
              <a:gs pos="0">
                <a:srgbClr val="66ff66"/>
              </a:gs>
              <a:gs pos="50000">
                <a:srgbClr val="fefefe"/>
              </a:gs>
              <a:gs pos="100000">
                <a:srgbClr val="66ff66"/>
              </a:gs>
            </a:gsLst>
            <a:lin ang="5400000"/>
          </a:gradFill>
          <a:ln w="9360">
            <a:solidFill>
              <a:srgbClr val="66669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Этот способ начинается с вопрос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к же нам быть:”, “Как поступить?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716360" y="1484280"/>
            <a:ext cx="3959280" cy="4483080"/>
          </a:xfrm>
          <a:prstGeom prst="rect">
            <a:avLst/>
          </a:prstGeom>
          <a:gradFill rotWithShape="0">
            <a:gsLst>
              <a:gs pos="0">
                <a:srgbClr val="66ff66"/>
              </a:gs>
              <a:gs pos="50000">
                <a:srgbClr val="fefefe"/>
              </a:gs>
              <a:gs pos="100000">
                <a:srgbClr val="66ff66"/>
              </a:gs>
            </a:gsLst>
            <a:lin ang="5400000"/>
          </a:gradFill>
          <a:ln w="9360">
            <a:solidFill>
              <a:srgbClr val="66669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Надо обязательно подождать, дать ребенку первому предложить решение, и только затем предлагать свои вариант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и одно предложение не отвергается, просто набираются в “корзинку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сли предложений много, их можно записать на бумаг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900000" y="404640"/>
            <a:ext cx="7417080" cy="947160"/>
          </a:xfrm>
          <a:prstGeom prst="rect">
            <a:avLst/>
          </a:prstGeom>
          <a:gradFill rotWithShape="0">
            <a:gsLst>
              <a:gs pos="0">
                <a:srgbClr val="66ff66"/>
              </a:gs>
              <a:gs pos="50000">
                <a:srgbClr val="fefefe"/>
              </a:gs>
              <a:gs pos="100000">
                <a:srgbClr val="66ff66"/>
              </a:gs>
            </a:gsLst>
            <a:lin ang="5400000"/>
          </a:gradFill>
          <a:ln w="9360">
            <a:solidFill>
              <a:srgbClr val="66669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3. Оценка предложений и выбор наиболее приемлем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11280" y="1916280"/>
            <a:ext cx="3456000" cy="4117320"/>
          </a:xfrm>
          <a:prstGeom prst="rect">
            <a:avLst/>
          </a:prstGeom>
          <a:gradFill rotWithShape="0">
            <a:gsLst>
              <a:gs pos="0">
                <a:srgbClr val="66ff66"/>
              </a:gs>
              <a:gs pos="50000">
                <a:srgbClr val="fefefe"/>
              </a:gs>
              <a:gs pos="100000">
                <a:srgbClr val="66ff66"/>
              </a:gs>
            </a:gsLst>
            <a:lin ang="5400000"/>
          </a:gradFill>
          <a:ln w="9360">
            <a:solidFill>
              <a:srgbClr val="66669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На этом этап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проходит совместное обсуждение предложен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тороны” к этому времени уже знают интересы друг друга, и предыдущие шаги помогают создать атмосферу взаимного уваж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72000" y="1700280"/>
            <a:ext cx="4321080" cy="4848840"/>
          </a:xfrm>
          <a:prstGeom prst="rect">
            <a:avLst/>
          </a:prstGeom>
          <a:gradFill rotWithShape="0">
            <a:gsLst>
              <a:gs pos="0">
                <a:srgbClr val="66ff66"/>
              </a:gs>
              <a:gs pos="50000">
                <a:srgbClr val="fefefe"/>
              </a:gs>
              <a:gs pos="100000">
                <a:srgbClr val="66ff66"/>
              </a:gs>
            </a:gsLst>
            <a:lin ang="5400000"/>
          </a:gradFill>
          <a:ln w="9360">
            <a:solidFill>
              <a:srgbClr val="66669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2. Во-первы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каждый участник выслуша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Во-вторы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каждый вникает в положение другог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В-третьи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между “сторонами” не возникает ни раздражения, ни оби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В-четверты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есть возможность осознать свои истинные жел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Последне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прекрасный “урок”, как вместе решать “трудные” вопрос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187280" y="476280"/>
            <a:ext cx="6840720" cy="520560"/>
          </a:xfrm>
          <a:prstGeom prst="rect">
            <a:avLst/>
          </a:prstGeom>
          <a:gradFill rotWithShape="0">
            <a:gsLst>
              <a:gs pos="0">
                <a:srgbClr val="66ff66"/>
              </a:gs>
              <a:gs pos="50000">
                <a:srgbClr val="fefefe"/>
              </a:gs>
              <a:gs pos="100000">
                <a:srgbClr val="66ff66"/>
              </a:gs>
            </a:gsLst>
            <a:lin ang="5400000"/>
          </a:gradFill>
          <a:ln w="9360">
            <a:solidFill>
              <a:srgbClr val="66669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4. Детализация принятого реш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195640" y="1484280"/>
            <a:ext cx="5040360" cy="825480"/>
          </a:xfrm>
          <a:prstGeom prst="rect">
            <a:avLst/>
          </a:prstGeom>
          <a:gradFill rotWithShape="0">
            <a:gsLst>
              <a:gs pos="0">
                <a:srgbClr val="66ff66"/>
              </a:gs>
              <a:gs pos="50000">
                <a:srgbClr val="fefefe"/>
              </a:gs>
              <a:gs pos="100000">
                <a:srgbClr val="66ff66"/>
              </a:gs>
            </a:gsLst>
            <a:lin ang="5400000"/>
          </a:gradFill>
          <a:ln w="9360">
            <a:solidFill>
              <a:srgbClr val="66669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дного решения мало, необходимо научить ребен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116000" y="2997360"/>
            <a:ext cx="6985080" cy="520560"/>
          </a:xfrm>
          <a:prstGeom prst="rect">
            <a:avLst/>
          </a:prstGeom>
          <a:gradFill rotWithShape="0">
            <a:gsLst>
              <a:gs pos="0">
                <a:srgbClr val="66ff66"/>
              </a:gs>
              <a:gs pos="50000">
                <a:srgbClr val="fefefe"/>
              </a:gs>
              <a:gs pos="100000">
                <a:srgbClr val="66ff66"/>
              </a:gs>
            </a:gsLst>
            <a:lin ang="5400000"/>
          </a:gradFill>
          <a:ln w="9360">
            <a:solidFill>
              <a:srgbClr val="66669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5. Выполнение решения, провер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835280" y="4292640"/>
            <a:ext cx="5761080" cy="1557000"/>
          </a:xfrm>
          <a:prstGeom prst="rect">
            <a:avLst/>
          </a:prstGeom>
          <a:gradFill rotWithShape="0">
            <a:gsLst>
              <a:gs pos="0">
                <a:srgbClr val="66ff66"/>
              </a:gs>
              <a:gs pos="50000">
                <a:srgbClr val="fefefe"/>
              </a:gs>
              <a:gs pos="100000">
                <a:srgbClr val="66ff66"/>
              </a:gs>
            </a:gsLst>
            <a:lin ang="5400000"/>
          </a:gradFill>
          <a:ln w="9360">
            <a:solidFill>
              <a:srgbClr val="66669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сли ребенок потерпит неудачу, лучше, если о неудачах скажет сам. Уточнить в чем,  по его мнению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чи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500"/>
                            </p:stCondLst>
                            <p:childTnLst>
                              <p:par>
                                <p:cTn id="17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8642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en-US" sz="3600" spc="-1" strike="noStrike">
                <a:solidFill>
                  <a:srgbClr val="a50021"/>
                </a:solidFill>
                <a:latin typeface="Arial"/>
              </a:rPr>
              <a:t>Положительные моменты конструктивного способа разрешения конфликтов: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каждый участник оказывается выслушан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каждый вникает в положение другого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между «сторонами» не возникает ни раздражения, ни обиды; напротив, сохраняется атмосфера дружеских отношен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ребятам предоставляется возможность осознать свои истинные  желания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дети получают прекрасный урок, как вместе решать «трудные»  вопрос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330200" y="266760"/>
            <a:ext cx="6626520" cy="57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99"/>
              </a:gs>
              <a:gs pos="50000">
                <a:srgbClr val="fefefe"/>
              </a:gs>
              <a:gs pos="100000">
                <a:srgbClr val="333399"/>
              </a:gs>
            </a:gsLst>
            <a:lin ang="5400000"/>
          </a:gradFill>
          <a:ln w="12600">
            <a:solidFill>
              <a:srgbClr val="9966ff"/>
            </a:solidFill>
            <a:miter/>
          </a:ln>
          <a:effectLst>
            <a:outerShdw dist="127008" dir="19383909" blurRad="0" rotWithShape="0">
              <a:srgbClr val="cc66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«Отец – ответственная должность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1360" y="1122480"/>
            <a:ext cx="8734680" cy="1455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99"/>
              </a:gs>
              <a:gs pos="50000">
                <a:srgbClr val="fefefe"/>
              </a:gs>
              <a:gs pos="100000">
                <a:srgbClr val="ff6699"/>
              </a:gs>
            </a:gsLst>
            <a:lin ang="5400000"/>
          </a:gradFill>
          <a:ln w="12600">
            <a:solidFill>
              <a:srgbClr val="9966ff"/>
            </a:solidFill>
            <a:miter/>
          </a:ln>
          <a:effectLst>
            <a:outerShdw dist="127008" dir="19383909" blurRad="0" rotWithShape="0">
              <a:srgbClr val="cc66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Стать отцом совсем легко. Быть отцом, напротив, трудно. Современный ребенок хочет видеть в отце не только наставника, но и помощника во всех делах. Отец должен быть готов к общению с детьми, только тогда дети поверят его слов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85960" y="2932200"/>
            <a:ext cx="7375320" cy="779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ff66"/>
              </a:gs>
              <a:gs pos="50000">
                <a:srgbClr val="fefefe"/>
              </a:gs>
              <a:gs pos="100000">
                <a:srgbClr val="66ff66"/>
              </a:gs>
            </a:gsLst>
            <a:lin ang="5400000"/>
          </a:gradFill>
          <a:ln w="12600">
            <a:solidFill>
              <a:srgbClr val="9966ff"/>
            </a:solidFill>
            <a:miter/>
          </a:ln>
          <a:effectLst>
            <a:outerShdw dist="127008" dir="19383909" blurRad="0" rotWithShape="0">
              <a:srgbClr val="cc66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Кто-то мудро заметил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дурные привычки отцов превращаются в пороки детей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47600" y="4213080"/>
            <a:ext cx="8758440" cy="1455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50000">
                <a:srgbClr val="fefefe"/>
              </a:gs>
              <a:gs pos="100000">
                <a:srgbClr val="ffff00"/>
              </a:gs>
            </a:gsLst>
            <a:lin ang="5400000"/>
          </a:gradFill>
          <a:ln w="12600">
            <a:solidFill>
              <a:srgbClr val="9966ff"/>
            </a:solidFill>
            <a:miter/>
          </a:ln>
          <a:effectLst>
            <a:outerShdw dist="127008" dir="19383909" blurRad="0" rotWithShape="0">
              <a:srgbClr val="cc66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Помните: рано или поздно Ваши дети последуют Вашему примеру, а не Вашим советам и нравоучениям. Лучшее, что отец может сделать для своих детей, это жить их проблемами, заботами, интересами и, конечно, любить и жалеть их ма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900000" y="6012000"/>
            <a:ext cx="7396200" cy="509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0000"/>
              </a:gs>
              <a:gs pos="50000">
                <a:srgbClr val="fefefe"/>
              </a:gs>
              <a:gs pos="100000">
                <a:srgbClr val="ff0000"/>
              </a:gs>
            </a:gsLst>
            <a:lin ang="5400000"/>
          </a:gradFill>
          <a:ln w="12600">
            <a:solidFill>
              <a:srgbClr val="9966ff"/>
            </a:solidFill>
            <a:miter/>
          </a:ln>
          <a:effectLst>
            <a:outerShdw dist="127008" dir="19383909" blurRad="0" rotWithShape="0">
              <a:srgbClr val="cc66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Один отец значит больше, чем сто учителей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en-US" sz="4000" spc="-1" strike="noStrike">
                <a:solidFill>
                  <a:srgbClr val="000066"/>
                </a:solidFill>
                <a:latin typeface="Arial"/>
              </a:rPr>
              <a:t>Результаты опроса </a:t>
            </a:r>
            <a:br>
              <a:rPr sz="4000"/>
            </a:br>
            <a:r>
              <a:rPr b="1" i="1" lang="en-US" sz="4000" spc="-1" strike="noStrike">
                <a:solidFill>
                  <a:srgbClr val="000066"/>
                </a:solidFill>
                <a:latin typeface="Arial"/>
              </a:rPr>
              <a:t>учащихся школы.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50560" y="2492280"/>
            <a:ext cx="843588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Метод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«Незаконченные предложени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Количество классо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Количество опрошенных ученико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3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042920" y="189000"/>
            <a:ext cx="7201080" cy="52056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50000">
                <a:srgbClr val="fefefe"/>
              </a:gs>
              <a:gs pos="100000">
                <a:srgbClr val="0066ff"/>
              </a:gs>
            </a:gsLst>
            <a:lin ang="5400000"/>
          </a:gra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те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— образец настоящего мужчи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2852640"/>
            <a:ext cx="8785440" cy="1191240"/>
          </a:xfrm>
          <a:prstGeom prst="rect">
            <a:avLst/>
          </a:prstGeom>
          <a:gradFill rotWithShape="0">
            <a:gsLst>
              <a:gs pos="0">
                <a:srgbClr val="ff99ff"/>
              </a:gs>
              <a:gs pos="50000">
                <a:srgbClr val="fefefe"/>
              </a:gs>
              <a:gs pos="100000">
                <a:srgbClr val="ff99ff"/>
              </a:gs>
            </a:gsLst>
            <a:lin ang="5400000"/>
          </a:gra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ботясь о ребенке, оберегая его, родители вместе с тем передают ему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пределенное представление о жизни, чтобы тот смог адаптироваться 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бществе и со временем, когда покинет отчий дом, стать хорош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одителем уже своих дет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9280" y="907920"/>
            <a:ext cx="8785440" cy="17398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efefe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 отцов  есть своя, специфическая роль. И состоит она в том, чтобы быть мужчиной, мужем, родителем мужского пола, а это значит, что он несет ответственность за формирование у сыновей понятия о том, как относиться к жизни по-мужски, то есть думать, чувствовать и поступать, как это делает он сам. Первое и главное качество хорошего отца заключается в том, чтобы являть собой прекрасный образец мужчи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79280" y="4377960"/>
            <a:ext cx="8785440" cy="228852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efefe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менно в общении с отцом мальчик учится быть мужчиной, приобрета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ипично мужские черты характера, причем сделать это ему нетрудн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статочно лишь подражать взрослому. Тем не менее, и девочка, когда в н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чинает пробуждаться женственность, способна многому научиться у отца. 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е складывается точное представление о том, что собой представля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ужчина в домашней жизни, и она узнает, как мужчины относятся к женщина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вляясь невольным свидетелем повседневных взаимоотношений мамы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п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1. Мой папа …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амый лучший, добрый, хороший, заботливый -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7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Любит меня –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1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лой, плохой -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трогий –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е ответили –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300720" y="3141720"/>
            <a:ext cx="151308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8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2. Я хотел (а) бы что мой папа …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делял мне и семье больше внимания и времени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7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Чаще был дома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1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ыл всегда добрым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росил курить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Жил вместе с мамой и со мной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 был таким строгим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 ответили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2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7093080" y="4581360"/>
            <a:ext cx="136836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3. Мой папа и я …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учшие друзья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водим вместе время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хороших отношениях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ружная, лучшая семья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 ладим (не совместимы)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чти не видимся (редко разговариваем)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 ответили 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4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7" descr=""/>
          <p:cNvPicPr/>
          <p:nvPr/>
        </p:nvPicPr>
        <p:blipFill>
          <a:blip r:embed="rId2"/>
          <a:stretch/>
        </p:blipFill>
        <p:spPr>
          <a:xfrm>
            <a:off x="5867280" y="1268280"/>
            <a:ext cx="309744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4. Достаточно ли времени уделяет тебе папа?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а, достаточно –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3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гда свободен –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3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ет –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е очень –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а, но хотелось бы больше –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е ответили –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5. Мой папа обращается со мной как …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 любимым сыном (дочкой) –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4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Хорошо –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3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 с ребёнком -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3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 со взрослым –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 с другом -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е ответили –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6948360" y="3357720"/>
            <a:ext cx="93672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6. Я не люблю когда мой папа…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85690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угается, кричит, злится –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4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ьёт, курит, матерится –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9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ного времени проводит за компьютером -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3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е разрешает многого –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3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асто задерживается на работе –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ставляет делать уроки -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еня не понимает и не слышит –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е ответили –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2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96472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7. Если я был (а)  бы папой, то …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24000" y="981000"/>
            <a:ext cx="83628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ольше времени уделял(а) детям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4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ыл (а) такой же как мой папа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ыл (а) бы хорошим и добрым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юбил(а) бы своих детей и обеспечивал(а) свою семью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тносился и воспитывал своего ребёнка хорошо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купал(а) подарки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ыл(а) бы идеальным папой, лучше своего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 курил(а), не пил(а) пиво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 ответили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9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7020000" y="5084640"/>
            <a:ext cx="122400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8. По сравнению с большинством других семей, моя семья …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Лучшая –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9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Хорошая –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ружная –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ормальная –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амая интересная -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ычная –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е ответили –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7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Рисунок 9" descr="63-8.jpg"/>
          <p:cNvPicPr/>
          <p:nvPr/>
        </p:nvPicPr>
        <p:blipFill>
          <a:blip r:embed="rId2"/>
          <a:stretch/>
        </p:blipFill>
        <p:spPr>
          <a:xfrm>
            <a:off x="6659640" y="1773360"/>
            <a:ext cx="178596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736200" y="683280"/>
            <a:ext cx="7671600" cy="5163480"/>
          </a:xfrm>
          <a:prstGeom prst="rect">
            <a:avLst/>
          </a:prstGeom>
          <a:gradFill rotWithShape="0">
            <a:gsLst>
              <a:gs pos="0">
                <a:srgbClr val="66ff66"/>
              </a:gs>
              <a:gs pos="50000">
                <a:srgbClr val="fefefe"/>
              </a:gs>
              <a:gs pos="100000">
                <a:srgbClr val="66ff66"/>
              </a:gs>
            </a:gsLst>
            <a:lin ang="5400000"/>
          </a:gradFill>
          <a:ln w="12600">
            <a:solidFill>
              <a:srgbClr val="9966ff"/>
            </a:solidFill>
            <a:miter/>
          </a:ln>
          <a:effectLst>
            <a:outerShdw dist="127008" dir="19383909" blurRad="0" rotWithShape="0">
              <a:srgbClr val="cc66ff"/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66"/>
                </a:solidFill>
                <a:latin typeface="Arial"/>
              </a:rPr>
              <a:t>Дарите детям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66"/>
                </a:solidFill>
                <a:latin typeface="Arial"/>
              </a:rPr>
              <a:t>свое внимание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66"/>
                </a:solidFill>
                <a:latin typeface="Arial"/>
              </a:rPr>
              <a:t>это порой для них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66"/>
                </a:solidFill>
                <a:latin typeface="Arial"/>
              </a:rPr>
              <a:t>горазд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en-US" sz="4400" spc="-1" strike="noStrike">
                <a:solidFill>
                  <a:srgbClr val="000066"/>
                </a:solidFill>
                <a:latin typeface="Arial"/>
              </a:rPr>
              <a:t>важнее любого подарка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1187280" y="2060640"/>
            <a:ext cx="684072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Impact"/>
              </a:rPr>
              <a:t>Спасибо за внимание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195640" y="189000"/>
            <a:ext cx="4897440" cy="52056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50000">
                <a:srgbClr val="fefefe"/>
              </a:gs>
              <a:gs pos="100000">
                <a:srgbClr val="0066ff"/>
              </a:gs>
            </a:gsLst>
            <a:lin ang="5400000"/>
          </a:gra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Модели поведения отц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9280" y="2349360"/>
            <a:ext cx="8785440" cy="2319120"/>
          </a:xfrm>
          <a:prstGeom prst="rect">
            <a:avLst/>
          </a:prstGeom>
          <a:gradFill rotWithShape="0">
            <a:gsLst>
              <a:gs pos="0">
                <a:srgbClr val="ff99ff"/>
              </a:gs>
              <a:gs pos="50000">
                <a:srgbClr val="fefefe"/>
              </a:gs>
              <a:gs pos="100000">
                <a:srgbClr val="ff99ff"/>
              </a:gs>
            </a:gsLst>
            <a:lin ang="5400000"/>
          </a:gra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«Творец»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Часто такие папы совершенно не готовы к появлению младенца 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оме, и только по мере взросления начинают включаться в его воспитан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 сожалению, это происходит иногда слишком поздно, когда ребенок уж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ешает, что папа не проявляет к нему интереса, и та нить, которая должна 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единять после рождения, уже потеряна. Из-за этого часто возника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доверие ребенка к отцу и отсутствие привязанности. Так же эти отцы час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вершенно не способны воспитывать дочерей, поскольку не знают, как с ни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бщать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79280" y="907920"/>
            <a:ext cx="8785440" cy="12218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efefe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«Посторонний»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Такой тип поведения проявляется в готовности заботиться о малыше, но больше это касается игр и прогулок, а такие занятия, как смена подгузника или кормление, эти отцы считают прерогативой матери. Крайнее проявление - оставляет все заботы на матер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179280" y="5023080"/>
            <a:ext cx="8785440" cy="149616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efefe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«Ревнивец»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Отцы-ревнивцы могут соперничать с детьми за вним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атери - жены. В таких случаях часто возникают конфликты, посколь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женщина находится меж двух огней, и сердце ее с ребенком, но и мужа теря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 хочется. Поэтому решить эту проблему может только она, уделяя вним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боим в равном количеств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195640" y="189000"/>
            <a:ext cx="4897440" cy="52056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50000">
                <a:srgbClr val="fefefe"/>
              </a:gs>
              <a:gs pos="100000">
                <a:srgbClr val="0066ff"/>
              </a:gs>
            </a:gsLst>
            <a:lin ang="5400000"/>
          </a:gra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Модели поведения отц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0920" y="2781360"/>
            <a:ext cx="8713800" cy="1496160"/>
          </a:xfrm>
          <a:prstGeom prst="rect">
            <a:avLst/>
          </a:prstGeom>
          <a:gradFill rotWithShape="0">
            <a:gsLst>
              <a:gs pos="0">
                <a:srgbClr val="ff99ff"/>
              </a:gs>
              <a:gs pos="50000">
                <a:srgbClr val="fefefe"/>
              </a:gs>
              <a:gs pos="100000">
                <a:srgbClr val="ff99ff"/>
              </a:gs>
            </a:gsLst>
            <a:lin ang="5400000"/>
          </a:gra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«Хранитель гнезда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Это самый идеальный вариант папы. Такие мужчи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ечтают о детях, они делают их целью своей жизни, активно участвуют в 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оспитании и развитии. Это отличный пример для сына, но с дочкой он мож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ыграть плохую шутку - привыкнув к такой модели семейных отношений, о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удет всю жизнь искать подобного муж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0920" y="981000"/>
            <a:ext cx="8713800" cy="14961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efefe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«Начальник или Руководитель»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Авторитарный тип отца - он часто подавляет любую инициативу ребенка, не позволяя ему самому делать выбор в той или иной ситуации. Попытки оградить таким способом ребенка от ошибок приводят к прямо противоположному результату - дети становятся неспособны что-либо делать без помощи родител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250920" y="4876560"/>
            <a:ext cx="8713800" cy="12218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efefe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«Наставник»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Такие отцы всегда готовы объяснить причину, обсуди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блему, посоветовать. Это один из самых оптимальных сти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заимоотношений, поскольку предполагает непосредственное участие в жиз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ебен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755640" y="1700280"/>
            <a:ext cx="770400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тили отношений в семье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8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24000" y="189000"/>
            <a:ext cx="8424720" cy="581400"/>
          </a:xfrm>
          <a:prstGeom prst="rect">
            <a:avLst/>
          </a:prstGeom>
          <a:gradFill rotWithShape="0">
            <a:gsLst>
              <a:gs pos="0">
                <a:srgbClr val="66ff66"/>
              </a:gs>
              <a:gs pos="50000">
                <a:srgbClr val="fefefe"/>
              </a:gs>
              <a:gs pos="100000">
                <a:srgbClr val="66ff66"/>
              </a:gs>
            </a:gsLst>
            <a:lin ang="5400000"/>
          </a:gradFill>
          <a:ln w="9360">
            <a:solidFill>
              <a:srgbClr val="66669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ва основных стиля отношений в сем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79280" y="1052640"/>
            <a:ext cx="4680000" cy="5582520"/>
          </a:xfrm>
          <a:prstGeom prst="rect">
            <a:avLst/>
          </a:prstGeom>
          <a:gradFill rotWithShape="0">
            <a:gsLst>
              <a:gs pos="0">
                <a:srgbClr val="66ff66"/>
              </a:gs>
              <a:gs pos="50000">
                <a:srgbClr val="fefefe"/>
              </a:gs>
              <a:gs pos="100000">
                <a:srgbClr val="66ff66"/>
              </a:gs>
            </a:gsLst>
            <a:lin ang="5400000"/>
          </a:gradFill>
          <a:ln w="9360">
            <a:solidFill>
              <a:srgbClr val="66669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Авторитарный стил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отношений к детям в семье основан на жестком соблюдении интересов родителей, беспрекословной власти старших, подчинении их воле. Авторитаризм в воспитании игнорирует права и свободы личности, индивидуальные особенности ребенка, проявление инициативы "снизу", подавляет самостоятельность человека. Такой способ воспитания вызывает детский страх и подавляет инициативу, порождает протест и конфронтацию в семье, приучает к показному поведению, приводит к падению авторитета родителей в глазах дет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003640" y="1052640"/>
            <a:ext cx="3961080" cy="5582520"/>
          </a:xfrm>
          <a:prstGeom prst="rect">
            <a:avLst/>
          </a:prstGeom>
          <a:gradFill rotWithShape="0">
            <a:gsLst>
              <a:gs pos="0">
                <a:srgbClr val="66ff66"/>
              </a:gs>
              <a:gs pos="50000">
                <a:srgbClr val="fefefe"/>
              </a:gs>
              <a:gs pos="100000">
                <a:srgbClr val="66ff66"/>
              </a:gs>
            </a:gsLst>
            <a:lin ang="5400000"/>
          </a:gradFill>
          <a:ln w="9360">
            <a:solidFill>
              <a:srgbClr val="66669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Свободный стил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отношений к детям ориентирован на потребности ребен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оцесс воспитания характеризуетс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) большей дозволенностью по отношению к спонтанным желаниям ребенка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) более свободным выражением любви и привязанности к детям со стороны родителей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) увеличением роли психологических методов воздействия и уменьшением или полным устранением физических наказаний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рани или угроз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Частота возникновения и характер поведения детей в конфликте с родителями связаны с существующим в семье типом родительского отношен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Типы отношений, основанные на утверждении силы и лишении ребенка любви, чаще провоцирует детско - родительские конфликты, чем отношения, построенные на уважении и доверии к ребенк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763640" y="189000"/>
            <a:ext cx="5616720" cy="947160"/>
          </a:xfrm>
          <a:prstGeom prst="rect">
            <a:avLst/>
          </a:prstGeom>
          <a:gradFill rotWithShape="0">
            <a:gsLst>
              <a:gs pos="0">
                <a:srgbClr val="66ff66"/>
              </a:gs>
              <a:gs pos="50000">
                <a:srgbClr val="fefefe"/>
              </a:gs>
              <a:gs pos="100000">
                <a:srgbClr val="66ff66"/>
              </a:gs>
            </a:gsLst>
            <a:lin ang="5400000"/>
          </a:gradFill>
          <a:ln w="9360">
            <a:solidFill>
              <a:srgbClr val="66669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ичины конфликт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одителей и подрост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9280" y="1557360"/>
            <a:ext cx="4248360" cy="4484520"/>
          </a:xfrm>
          <a:prstGeom prst="rect">
            <a:avLst/>
          </a:prstGeom>
          <a:gradFill rotWithShape="0">
            <a:gsLst>
              <a:gs pos="0">
                <a:srgbClr val="66ff66"/>
              </a:gs>
              <a:gs pos="50000">
                <a:srgbClr val="fefefe"/>
              </a:gs>
              <a:gs pos="100000">
                <a:srgbClr val="66ff66"/>
              </a:gs>
            </a:gsLst>
            <a:lin ang="5400000"/>
          </a:gradFill>
          <a:ln w="9360">
            <a:solidFill>
              <a:srgbClr val="66669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Подростки в конфликт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ризис переходного возраст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стремление к самостоятельности и самоопределению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требование большей автономии во всем - от одежды до помещ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привычка к конфликту, воспитанная поведением взрослых в семь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бравирование подростка своими правами перед сверстниками и авторитетными для него людь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88000" y="1700280"/>
            <a:ext cx="4105080" cy="4484520"/>
          </a:xfrm>
          <a:prstGeom prst="rect">
            <a:avLst/>
          </a:prstGeom>
          <a:gradFill rotWithShape="0">
            <a:gsLst>
              <a:gs pos="0">
                <a:srgbClr val="66ff66"/>
              </a:gs>
              <a:gs pos="50000">
                <a:srgbClr val="fefefe"/>
              </a:gs>
              <a:gs pos="100000">
                <a:srgbClr val="66ff66"/>
              </a:gs>
            </a:gsLst>
            <a:lin ang="5400000"/>
          </a:gradFill>
          <a:ln w="9360">
            <a:solidFill>
              <a:srgbClr val="66669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Родители в конфликт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ежелание признавать, что ребенок стал взрослы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боязнь выпустить ребенка из гнезда, неверие в его сил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проецирование поведения ребенка на себя в его возраст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борьба за собственную власть и авторитетност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отсутствие понимания между взрослыми в воспитании ребен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неподтверждение родительских ожида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539640" y="1557360"/>
            <a:ext cx="7910640" cy="27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66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пособы разрешения конфликтов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66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4T14:35:54Z</dcterms:created>
  <dc:creator>Customer</dc:creator>
  <dc:description/>
  <dc:language>en-US</dc:language>
  <cp:lastModifiedBy>Психолог</cp:lastModifiedBy>
  <dcterms:modified xsi:type="dcterms:W3CDTF">2011-02-26T06:39:12Z</dcterms:modified>
  <cp:revision>20</cp:revision>
  <dc:subject/>
  <dc:title>Слайд 1</dc:title>
</cp:coreProperties>
</file>