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F210-2139-4DF2-9D8E-41B08DBFCC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F53C-2DFD-4C96-8437-A8CD4E9A86C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935F-1B20-4E1E-921F-3017BF5E74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206-30C2-4EB8-A3E7-57F2DA8C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89E-CDB7-4F62-B6F3-38880948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99530-67E3-4611-ABC6-F2DC0E8C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4669E-746C-4E72-BB98-0E5EE677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F3F97-8E87-488F-A635-EA600C87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0589A-A66A-438F-BF0F-8E335925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23102-0A7E-40BC-8858-CC4C7E7C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FC3E6-9C19-4475-BDE0-2348106C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89B2D-7193-4FCE-9B89-4B308FC9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F4148-5B90-4832-A260-CC3289EE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20C82-91CA-447E-AD2C-354EB407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61CDC-056D-44E1-B713-3D79CDE1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8C6-D364-4953-9336-8252BADE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B9707-BC5B-41EC-ADB5-98D2817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4B2AD-4165-43D4-85AB-E1F8A80B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ED289-107A-4068-B928-1DB063C2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67FB1-CBB7-4A82-8E61-57A2715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D8E9-2943-49A5-866D-575E8420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83127-7382-46C5-AA29-B019CC50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DCFAE-B540-40E7-9C9D-402F7DC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00E59-CD84-4D20-8505-80336587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36791-6A7D-464D-9943-D939C5DB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FFCF4-241F-43EE-8DA0-E2B73A3E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616-6467-4916-A7B5-BD72F53B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AB38E-B12C-4D30-9505-4FE7CCBC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A845E-6154-4F2F-BFB1-8983171A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6D7BC-81B7-4BC7-B150-F6CB5247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D2CCD-91E4-4E43-ACFB-844E4080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E3636-344A-4067-B6CB-55D59D14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7D2A6-7EE1-4923-B900-6AB23B5E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11118-92E3-43F0-954C-D39E546E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E6513-84C0-41C4-8C12-61D8E748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F5BD4-B3AF-4688-A10C-DC2E5D6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5B431-318A-4F01-8657-4F5BE08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76F4-590E-4214-8CC5-0490587F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59C6B-001F-4E5F-9670-2AE6819F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DAF4C-A84C-44D9-B0B4-65F111C4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B142E-97EE-4EFF-B98E-0109B3A6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64F1A-14A8-4661-874D-9134B7DE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EC59D-6DF6-47C8-B02B-0D8D9168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A8629-95BA-4CF3-83A3-49E94A8F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79D23-1E9A-4039-B9DD-33C57CDE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C1988-F124-40FC-9714-F62B90C0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FBD77-94E3-4424-B932-6A4C1CA4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7449E-0F00-4360-A537-999AE06E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D841-786E-40AF-B835-E42FECA9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07267-C8FE-4DA0-8A02-FA0D266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69C51-A11E-46D9-B19E-E6B45652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A2006-7717-4FBE-8421-50289BBC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0DA1D-110C-4BA6-9637-9607F016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9B3F8-F69F-4843-A135-075CF514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C57F6-427E-42F6-B0FD-4FC3163A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8A9AF-9988-4538-80E3-F81331B4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E2F71-17E9-4B97-BA54-1F49A310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A015B-4074-4908-B282-FD8B63DB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A431D-4553-4D81-86DB-4C5EE71C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16B8-31CA-4EEF-A6E3-7B26517D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35C5B-CD9B-4E47-B9EA-9700CCE6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DE825-A4FB-4CC6-A9C4-A1F9CD4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02392-1983-4ED6-B9C8-A03F15EE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0A9CA-0A99-41A4-A2D6-25B632C1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246C2-BD70-450B-B017-22E14D1A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83A77-E731-418B-AA8A-A610E80A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1EAA0-49EA-42A1-8638-3D068D34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00E16-7C28-46C9-AE1D-80E70F8B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3A7EA-E253-4C7B-8CC7-79914A3B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AD356-0B7F-4E35-B587-CFD0865A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5764-8889-4040-B661-F3F644CF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FDD01-DA05-4B6E-99FF-7E959BD3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B392B-1BF8-43BD-97F1-782E77B4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3BF98-84CC-4035-A8A0-430AEE7A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E9E85-E380-446B-9B3A-E48F5166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42DFC-872D-40DD-B7EF-96B535AE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D22F6-4D3E-4C01-A19F-C859CD6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080E5-40AF-480C-AE4D-99F60339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B9275-93F3-4C11-8165-9A4DDEA1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CD109-5580-476C-B4E6-2B62075D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4EC5-8C5F-4486-B6E0-8C334D3D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DE8D-96CF-48CD-83AB-70926540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1A09-8087-4F2B-A9C7-6D90F5C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AE5-C2D2-44D3-AF24-67E2B235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6191-3BE0-4EEA-BC8D-12E4A6F0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869B-490B-4645-86AC-9FFD039E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CE13-0782-4EFF-AC3F-C794EB64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184C-96BD-41E2-BD9A-A4330C7E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8C58-6057-4323-9615-F0385A4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37F1-9A5C-44EA-AF54-4A1A17B4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AD8E-AC98-404C-82F4-C0BD6375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0B1E-CDA3-42DC-BEFF-D7FF3C26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13FD-7BDB-4E3C-98CD-7BE93F25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5E60-4CD7-4E23-9D9D-5850F755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D3E-9F13-44F3-8E71-0F16B5B8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2758-EF6B-4DB9-A6F3-81336FD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8543-ABEB-4F0D-AB8F-F31CB51C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C3AC-04A8-402D-A5F3-29F30EC5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BEA9-DA6E-4E64-AA5D-05FFE24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E718-4DAB-4923-948A-AFC1E38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042D-BDB4-4ED7-8C1D-1A17F13A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A8F1-7270-4846-AE98-45D68A7B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0509-6038-4F62-B26B-804E9315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6CBB-4152-463D-84EB-7A5C8EEE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1ED46-591B-4554-AB07-1F0B17D6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40E-D33A-4EDB-BB61-B16E8677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2F5B-2780-4085-A0A2-FE6B50BC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AA03-0CF8-41F3-85FA-52A5A2C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11ADC-2E71-40F7-9F20-34ED3B48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05140-EAEF-43E6-B5CD-37D66627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6590F-5595-4885-9305-55217A7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C42E-EC1F-4450-B317-8BD46079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E34F7-F8FC-42C5-9250-2AC5F906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ACF53-20BB-4BD1-B1C3-91B036BF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D4AB8-D777-458B-88AB-2A83A6CE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7419-51B0-4EAC-9779-E783A42A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564-F499-4B52-8FA1-417F4DEF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81456-9FCE-46DF-ACAE-6ABCFDCC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701CF-F370-45BE-B44D-85F7EF12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974A-7D7D-4042-A31F-019AC896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A67AE-8853-4870-94B1-8AD1F778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1947-9498-40DE-9B81-3CEFFEAF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BF8C2-8271-4D3C-B12E-F4A076E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0FFB-6B86-48EA-89E2-B30422A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0FA73-EE98-4995-8525-26167483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75E5-5A48-499E-B798-7C02B8F6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3846-BBEB-40C8-AE82-01879AD0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A5B-8950-4FA2-A5F9-33B4E700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00AD-6398-4D4B-981A-1943592D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248EA-DD3A-44B4-9E59-40687ABC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225C-879B-4F6F-8C97-D5300A36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973CC-D53A-4075-B5F7-0B2742FC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DBBB-349C-451D-A946-2F83E47F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08C20-93E2-4C41-933E-AA13636E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76B2-2B29-4817-8916-02E769E5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6C7E4-17C8-47D0-8C96-7D3DE350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1D46A-B5E8-42F2-AAA6-5C4A0F0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9137B-3201-4C3D-82F3-93A5AA15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EE1-04ED-4A08-B8D9-354B6AC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F196-D617-4057-BD9B-7352DB66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B477E-C62F-41BF-A414-102C2884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934E-112D-4F48-ACD9-EF5859F6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3A1F4-B6C7-4752-9508-208B7063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17AE7-FDA5-430A-A158-D48C971B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21D62-5A37-47D1-8882-C43F2428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ADEE0-D276-462F-8646-4F01EA8E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B9E9-1FA6-49C3-B65D-6E291DFE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07B00-3358-499D-A13C-9DD09F52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7F33D-845F-49DF-93DF-26DC2A7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934-EF8E-4289-A7D2-5817B592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DA590-21AF-4CC6-9479-D2D53E4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A9FFE-A4FE-45BC-89F2-2BCE9FAF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04A19-6CEE-4B35-86E0-DBF468BA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CE5F7-346F-4044-8E2E-E2DDEBF6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95419-FC67-49B0-9267-D10B6D18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E9DB7-1133-48D6-950B-6C7E95E8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AE262-94FA-4DA4-8EE6-EB9507FB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7D94C-BCFC-4FCD-B4C7-77822F8C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98A6E-2CCA-4197-94B7-EAC9AF8F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76293-EDDC-4632-896F-1F36D668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D5F-13D5-41B1-A232-AF7430E9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88DD5-B815-4943-B815-D35A53BF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DA67D-7AE2-4F45-8FC6-CC997DC6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B8F93-8E9A-455E-8F9E-D5607290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DB659-235B-4A6F-A798-BF93AC5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70D78-FAC9-4D79-B473-9E5C0D00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E90A-888D-4183-9670-3FB57572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B83F9-6096-4DE8-ADEC-F59C2A1B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7ECFA-2145-4538-8B6F-3977FAEC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A74DF-466C-47DA-BF7A-1E3DC3BB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FC5DF-0041-4591-806F-156CD518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499-7C0C-4701-BEC0-C98CFC1B75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90E9-A3B0-403C-B5CB-2D40F723A0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4660-AE89-438A-810F-9DF06EC7CF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948-06A4-478C-AFA1-3E2E629DA4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5AA0-B0C0-4282-B275-6428A1B6D6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9279-BB2A-4B2A-9BB3-5A49838A9D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DEB6-E637-4BA5-8BBE-201710E3F9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5992-CB17-47CB-AFF9-1BF6D281C7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E57F-D438-4612-8DA7-02506156B8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C2DC-BAF3-4318-BD36-6BC440CCB4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9C61-B4A3-4250-83B7-7CC5E877FC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C7F1-4858-40C6-BA5F-5463D4BEF7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EEA5-034F-4481-AD10-45C729B2CA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BB2F-B9AA-480D-9C9E-964D6ACCA1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Технология организации развивающей деятельности учащихс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Прямоугольник 3"/>
          <p:cNvSpPr/>
          <p:nvPr/>
        </p:nvSpPr>
        <p:spPr>
          <a:xfrm>
            <a:off x="910800" y="150840"/>
            <a:ext cx="7059960" cy="1312920"/>
          </a:xfrm>
          <a:prstGeom prst="rect">
            <a:avLst/>
          </a:prstGeom>
          <a:gradFill rotWithShape="0">
            <a:gsLst>
              <a:gs pos="0">
                <a:srgbClr val="dedeaa"/>
              </a:gs>
              <a:gs pos="100000">
                <a:srgbClr val="f6f6e8"/>
              </a:gs>
            </a:gsLst>
            <a:lin ang="16200000"/>
          </a:gradFill>
          <a:ln w="9360">
            <a:solidFill>
              <a:srgbClr val="8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2. Опора на развит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творческих качеств лич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Прямоугольник 4"/>
          <p:cNvSpPr/>
          <p:nvPr/>
        </p:nvSpPr>
        <p:spPr>
          <a:xfrm>
            <a:off x="73080" y="2843280"/>
            <a:ext cx="29512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И. П. Волк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школа творче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3" name="Стрелка вправо с вырезом 5"/>
          <p:cNvGrpSpPr/>
          <p:nvPr/>
        </p:nvGrpSpPr>
        <p:grpSpPr>
          <a:xfrm>
            <a:off x="1243080" y="1609560"/>
            <a:ext cx="914400" cy="1000440"/>
            <a:chOff x="1243080" y="1609560"/>
            <a:chExt cx="914400" cy="1000440"/>
          </a:xfrm>
        </p:grpSpPr>
        <p:pic>
          <p:nvPicPr>
            <p:cNvPr id="714" name="Стрелка вправо с вырезом 5" descr=""/>
            <p:cNvPicPr/>
            <p:nvPr/>
          </p:nvPicPr>
          <p:blipFill>
            <a:blip r:embed="rId1"/>
            <a:stretch/>
          </p:blipFill>
          <p:spPr>
            <a:xfrm>
              <a:off x="1243080" y="1609560"/>
              <a:ext cx="9144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 rot="7458600">
              <a:off x="1412280" y="1983960"/>
              <a:ext cx="5796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6" name="Стрелка вправо с вырезом 6"/>
          <p:cNvGrpSpPr/>
          <p:nvPr/>
        </p:nvGrpSpPr>
        <p:grpSpPr>
          <a:xfrm>
            <a:off x="6357960" y="1646280"/>
            <a:ext cx="933480" cy="987480"/>
            <a:chOff x="6357960" y="1646280"/>
            <a:chExt cx="933480" cy="987480"/>
          </a:xfrm>
        </p:grpSpPr>
        <p:pic>
          <p:nvPicPr>
            <p:cNvPr id="717" name="Стрелка вправо с вырезом 6" descr=""/>
            <p:cNvPicPr/>
            <p:nvPr/>
          </p:nvPicPr>
          <p:blipFill>
            <a:blip r:embed="rId2"/>
            <a:stretch/>
          </p:blipFill>
          <p:spPr>
            <a:xfrm>
              <a:off x="6357960" y="1646280"/>
              <a:ext cx="933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 rot="3066600">
              <a:off x="6542280" y="2013480"/>
              <a:ext cx="5637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9" name="Стрелка вправо с вырезом 7"/>
          <p:cNvGrpSpPr/>
          <p:nvPr/>
        </p:nvGrpSpPr>
        <p:grpSpPr>
          <a:xfrm>
            <a:off x="3925800" y="2475000"/>
            <a:ext cx="615960" cy="877680"/>
            <a:chOff x="3925800" y="2475000"/>
            <a:chExt cx="615960" cy="877680"/>
          </a:xfrm>
        </p:grpSpPr>
        <p:pic>
          <p:nvPicPr>
            <p:cNvPr id="720" name="Стрелка вправо с вырезом 7" descr=""/>
            <p:cNvPicPr/>
            <p:nvPr/>
          </p:nvPicPr>
          <p:blipFill>
            <a:blip r:embed="rId3"/>
            <a:stretch/>
          </p:blipFill>
          <p:spPr>
            <a:xfrm>
              <a:off x="3925800" y="2475000"/>
              <a:ext cx="6159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 rot="5400000">
              <a:off x="3976200" y="2763720"/>
              <a:ext cx="5144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2" name="Прямоугольник 8"/>
          <p:cNvSpPr/>
          <p:nvPr/>
        </p:nvSpPr>
        <p:spPr>
          <a:xfrm>
            <a:off x="3059280" y="3860640"/>
            <a:ext cx="29527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Г.С. Альтшуллер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теория решения изобретательских задач (ТРИЗ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Прямоугольник 9"/>
          <p:cNvSpPr/>
          <p:nvPr/>
        </p:nvSpPr>
        <p:spPr>
          <a:xfrm>
            <a:off x="6288120" y="2889360"/>
            <a:ext cx="28447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И.П. Иван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коллективное творческое воспит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рямоугольник 4"/>
          <p:cNvSpPr/>
          <p:nvPr/>
        </p:nvSpPr>
        <p:spPr>
          <a:xfrm>
            <a:off x="934560" y="404640"/>
            <a:ext cx="709344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6e8"/>
              </a:gs>
            </a:gsLst>
            <a:lin ang="16200000"/>
          </a:gradFill>
          <a:ln w="9360">
            <a:solidFill>
              <a:srgbClr val="f7caa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3. Опора на индивидуальны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опыт лич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755640" y="3573360"/>
            <a:ext cx="770400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bc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убъектно-личностный подход, предполагающий отношение к каждому ребёнку, как к уникальности, несхожести, неповторим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И.С. Якиман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26" name="Стрелка вправо с вырезом 7"/>
          <p:cNvGrpSpPr/>
          <p:nvPr/>
        </p:nvGrpSpPr>
        <p:grpSpPr>
          <a:xfrm>
            <a:off x="4078440" y="2335320"/>
            <a:ext cx="804600" cy="809640"/>
            <a:chOff x="4078440" y="2335320"/>
            <a:chExt cx="804600" cy="809640"/>
          </a:xfrm>
        </p:grpSpPr>
        <p:pic>
          <p:nvPicPr>
            <p:cNvPr id="727" name="Стрелка вправо с вырезом 7" descr=""/>
            <p:cNvPicPr/>
            <p:nvPr/>
          </p:nvPicPr>
          <p:blipFill>
            <a:blip r:embed="rId1"/>
            <a:stretch/>
          </p:blipFill>
          <p:spPr>
            <a:xfrm>
              <a:off x="4078440" y="2335320"/>
              <a:ext cx="8046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 rot="5400000">
              <a:off x="4303440" y="2544840"/>
              <a:ext cx="353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Прямоугольник 4"/>
          <p:cNvSpPr/>
          <p:nvPr/>
        </p:nvSpPr>
        <p:spPr>
          <a:xfrm>
            <a:off x="1258920" y="692280"/>
            <a:ext cx="6507000" cy="1434600"/>
          </a:xfrm>
          <a:prstGeom prst="rect">
            <a:avLst/>
          </a:prstGeom>
          <a:gradFill rotWithShape="0">
            <a:gsLst>
              <a:gs pos="0">
                <a:srgbClr val="d7d7ae"/>
              </a:gs>
              <a:gs pos="100000">
                <a:srgbClr val="f4f4e9"/>
              </a:gs>
            </a:gsLst>
            <a:lin ang="16200000"/>
          </a:gradFill>
          <a:ln w="9360">
            <a:solidFill>
              <a:srgbClr val="73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4. Опора на самосовершенство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611280" y="4149720"/>
            <a:ext cx="813744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Г.К. Селевко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технология саморазвивающего обуч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1" name="Стрелка вправо с вырезом 7"/>
          <p:cNvGrpSpPr/>
          <p:nvPr/>
        </p:nvGrpSpPr>
        <p:grpSpPr>
          <a:xfrm>
            <a:off x="4230720" y="2610000"/>
            <a:ext cx="804960" cy="809640"/>
            <a:chOff x="4230720" y="2610000"/>
            <a:chExt cx="804960" cy="809640"/>
          </a:xfrm>
        </p:grpSpPr>
        <p:pic>
          <p:nvPicPr>
            <p:cNvPr id="732" name="Стрелка вправо с вырезом 7" descr=""/>
            <p:cNvPicPr/>
            <p:nvPr/>
          </p:nvPicPr>
          <p:blipFill>
            <a:blip r:embed="rId1"/>
            <a:stretch/>
          </p:blipFill>
          <p:spPr>
            <a:xfrm>
              <a:off x="4230720" y="2610000"/>
              <a:ext cx="804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rot="5400000">
              <a:off x="4454280" y="2814840"/>
              <a:ext cx="353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Прямоугольник 3"/>
          <p:cNvSpPr/>
          <p:nvPr/>
        </p:nvSpPr>
        <p:spPr>
          <a:xfrm>
            <a:off x="179280" y="189000"/>
            <a:ext cx="87138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Использование технологии развивающего обучения при организации образовательного проце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Прямоугольник с двумя скругленными противолежащими углами 4"/>
          <p:cNvSpPr/>
          <p:nvPr/>
        </p:nvSpPr>
        <p:spPr>
          <a:xfrm>
            <a:off x="971640" y="4221000"/>
            <a:ext cx="7632720" cy="1368720"/>
          </a:xfrm>
          <a:prstGeom prst="pie">
            <a:avLst/>
          </a:prstGeom>
          <a:gradFill rotWithShape="0">
            <a:gsLst>
              <a:gs pos="0">
                <a:srgbClr val="f3ddcd"/>
              </a:gs>
              <a:gs pos="100000">
                <a:srgbClr val="fcf5f1"/>
              </a:gs>
            </a:gsLst>
            <a:lin ang="16200000"/>
          </a:gradFill>
          <a:ln w="9360">
            <a:solidFill>
              <a:srgbClr val="c6b4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учающийся овладевает способами действий, обучается конструировать и управлять своей учебн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Прямоугольник 3"/>
          <p:cNvSpPr/>
          <p:nvPr/>
        </p:nvSpPr>
        <p:spPr>
          <a:xfrm>
            <a:off x="811080" y="2944800"/>
            <a:ext cx="7561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пь усложняющихся предметных задач, которые вызывают у школьника потребность овладеть специальными знаниями и умениями, в создании нов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Прямоугольник 4"/>
          <p:cNvSpPr/>
          <p:nvPr/>
        </p:nvSpPr>
        <p:spPr>
          <a:xfrm>
            <a:off x="1285920" y="520560"/>
            <a:ext cx="669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a62"/>
                </a:solidFill>
                <a:latin typeface="Times New Roman"/>
                <a:ea typeface="Times New Roman"/>
              </a:rPr>
              <a:t>Структура развивающего обуч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8" name="Стрелка вниз 5"/>
          <p:cNvGrpSpPr/>
          <p:nvPr/>
        </p:nvGrpSpPr>
        <p:grpSpPr>
          <a:xfrm>
            <a:off x="4017960" y="4260960"/>
            <a:ext cx="968400" cy="744480"/>
            <a:chOff x="4017960" y="4260960"/>
            <a:chExt cx="968400" cy="744480"/>
          </a:xfrm>
        </p:grpSpPr>
        <p:pic>
          <p:nvPicPr>
            <p:cNvPr id="739" name="Стрелка вниз 5" descr=""/>
            <p:cNvPicPr/>
            <p:nvPr/>
          </p:nvPicPr>
          <p:blipFill>
            <a:blip r:embed="rId1"/>
            <a:stretch/>
          </p:blipFill>
          <p:spPr>
            <a:xfrm>
              <a:off x="4017960" y="4260960"/>
              <a:ext cx="9684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4286160" y="4292640"/>
              <a:ext cx="432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1" name="Прямоугольник 6"/>
          <p:cNvSpPr/>
          <p:nvPr/>
        </p:nvSpPr>
        <p:spPr>
          <a:xfrm>
            <a:off x="819000" y="5157720"/>
            <a:ext cx="7560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существляется в форме вовлечения учащегося в различные виды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2" name="Стрелка вниз 7"/>
          <p:cNvGrpSpPr/>
          <p:nvPr/>
        </p:nvGrpSpPr>
        <p:grpSpPr>
          <a:xfrm>
            <a:off x="4114800" y="2176560"/>
            <a:ext cx="969840" cy="742680"/>
            <a:chOff x="4114800" y="2176560"/>
            <a:chExt cx="969840" cy="742680"/>
          </a:xfrm>
        </p:grpSpPr>
        <p:pic>
          <p:nvPicPr>
            <p:cNvPr id="743" name="Стрелка вниз 7" descr=""/>
            <p:cNvPicPr/>
            <p:nvPr/>
          </p:nvPicPr>
          <p:blipFill>
            <a:blip r:embed="rId2"/>
            <a:stretch/>
          </p:blipFill>
          <p:spPr>
            <a:xfrm>
              <a:off x="4114800" y="2176560"/>
              <a:ext cx="96984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83000" y="2208240"/>
              <a:ext cx="4320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Прямоугольник 3"/>
          <p:cNvSpPr/>
          <p:nvPr/>
        </p:nvSpPr>
        <p:spPr>
          <a:xfrm>
            <a:off x="358920" y="3500280"/>
            <a:ext cx="8569080" cy="1557000"/>
          </a:xfrm>
          <a:prstGeom prst="rect">
            <a:avLst/>
          </a:prstGeom>
          <a:gradFill rotWithShape="0">
            <a:gsLst>
              <a:gs pos="0">
                <a:srgbClr val="f3ddcd"/>
              </a:gs>
              <a:gs pos="100000">
                <a:srgbClr val="fcf5f1"/>
              </a:gs>
            </a:gsLst>
            <a:lin ang="16200000"/>
          </a:gradFill>
          <a:ln w="9360">
            <a:solidFill>
              <a:srgbClr val="c6b4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еренос усвоенных приемов с обучающей задачи на нову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иск новых приемов учебной рабо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правление своей учебн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емы обобщ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Прямоугольник 4"/>
          <p:cNvSpPr/>
          <p:nvPr/>
        </p:nvSpPr>
        <p:spPr>
          <a:xfrm>
            <a:off x="755640" y="16344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a62"/>
                </a:solidFill>
                <a:latin typeface="Times New Roman"/>
                <a:ea typeface="Times New Roman"/>
              </a:rPr>
              <a:t>Система учебных приемов, способствующих развитию личности учащихс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7" name="Стрелка вправо с вырезом 5"/>
          <p:cNvGrpSpPr/>
          <p:nvPr/>
        </p:nvGrpSpPr>
        <p:grpSpPr>
          <a:xfrm>
            <a:off x="4005360" y="2610000"/>
            <a:ext cx="695160" cy="663480"/>
            <a:chOff x="4005360" y="2610000"/>
            <a:chExt cx="695160" cy="663480"/>
          </a:xfrm>
        </p:grpSpPr>
        <p:pic>
          <p:nvPicPr>
            <p:cNvPr id="748" name="Стрелка вправо с вырезом 5" descr=""/>
            <p:cNvPicPr/>
            <p:nvPr/>
          </p:nvPicPr>
          <p:blipFill>
            <a:blip r:embed="rId1"/>
            <a:stretch/>
          </p:blipFill>
          <p:spPr>
            <a:xfrm>
              <a:off x="4005360" y="2610000"/>
              <a:ext cx="69516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 rot="5400000">
              <a:off x="4211640" y="2770200"/>
              <a:ext cx="2793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ичего так не делает жизнь легко переносимой, как деятельность, направленная к одной це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Tahoma"/>
              </a:rPr>
              <a:t>Фридрих Шилл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ажнейшим фактором любого дела является вера в успех. Без неё успех невозможен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Tahoma"/>
              </a:rPr>
              <a:t>Уильям Джем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74600" y="549360"/>
            <a:ext cx="731376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a62"/>
                </a:solidFill>
                <a:latin typeface="Arial"/>
              </a:rPr>
              <a:t>Обзор поняти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4" name="TextBox 2"/>
          <p:cNvSpPr/>
          <p:nvPr/>
        </p:nvSpPr>
        <p:spPr>
          <a:xfrm>
            <a:off x="187200" y="1268280"/>
            <a:ext cx="878544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a62"/>
                </a:solidFill>
                <a:latin typeface="Tahoma"/>
              </a:rPr>
              <a:t>Образовательные технологи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истема деятельности педагога и учащегося, основанная на определённой идее, принципах организации и взаимосвязи целей, содержания и методов обу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едагогический энциклопедический словарь / гл. ред. Б.М. Бим-Бад. – М.: Большая Российская энциклопедия, 2009. – С.17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a62"/>
                </a:solidFill>
                <a:latin typeface="Tahoma"/>
              </a:rPr>
              <a:t>Педагогическая технолог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овокупность средств и методов воспроизведения теоретически обоснованных процессов обучения и воспитания, позволяющих успешно реализовать поставленные образовательные ц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едагогический энциклопедический словарь / гл. ред. Б.М. Бим-Бад. – М.: Большая Российская энциклопедия, 2009. – С.19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a62"/>
                </a:solidFill>
                <a:latin typeface="Tahoma"/>
              </a:rPr>
              <a:t>Педагогическая (образовательная) технолог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истема функционирования всех компонентов педагогического процесса, построенная на научной основе, запрограммированная во времени и пространстве и приводящая к намеченным результатам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Г.К. Селевк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"/>
          <p:cNvPicPr/>
          <p:nvPr/>
        </p:nvPicPr>
        <p:blipFill>
          <a:blip r:embed="rId1"/>
          <a:stretch/>
        </p:blipFill>
        <p:spPr>
          <a:xfrm>
            <a:off x="542880" y="4438800"/>
            <a:ext cx="8077320" cy="19620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"/>
          <p:cNvPicPr/>
          <p:nvPr/>
        </p:nvPicPr>
        <p:blipFill>
          <a:blip r:embed="rId2"/>
          <a:stretch/>
        </p:blipFill>
        <p:spPr>
          <a:xfrm>
            <a:off x="542880" y="835200"/>
            <a:ext cx="8064720" cy="36082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3"/>
          <a:stretch/>
        </p:blipFill>
        <p:spPr>
          <a:xfrm>
            <a:off x="542880" y="2133720"/>
            <a:ext cx="68947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solidFill>
            <a:srgbClr val="f1e5c6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a62"/>
                </a:solidFill>
                <a:latin typeface="Comic Sans MS"/>
              </a:rPr>
              <a:t>Педагогические технологии как инновационное направление в развитии современной дидактик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9" name="AutoShape 6"/>
          <p:cNvSpPr/>
          <p:nvPr/>
        </p:nvSpPr>
        <p:spPr>
          <a:xfrm flipH="1" rot="10800000">
            <a:off x="250560" y="1557360"/>
            <a:ext cx="1295280" cy="4896000"/>
          </a:xfrm>
          <a:prstGeom prst="rightArrowCallout">
            <a:avLst>
              <a:gd name="adj1" fmla="val 94506"/>
              <a:gd name="adj2" fmla="val 94497"/>
              <a:gd name="adj3" fmla="val 16667"/>
              <a:gd name="adj4" fmla="val 66667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Comic Sans MS"/>
              </a:rPr>
              <a:t>Причины выбо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1692360" y="1557360"/>
            <a:ext cx="7200720" cy="57636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легко вписываются в учебный процесс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1692360" y="2276640"/>
            <a:ext cx="7200720" cy="57600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пособствуют достижению образовательных цел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692360" y="2997360"/>
            <a:ext cx="7200720" cy="57600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беспечивают внедрение основных педагогических стратег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692360" y="3718080"/>
            <a:ext cx="7200720" cy="57600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еспечивают интеллектуальное развитие де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692360" y="4437000"/>
            <a:ext cx="7200720" cy="57636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еспечивают доброжелатель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1692360" y="5157720"/>
            <a:ext cx="7200720" cy="57636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ивлекают внимание к индивидуальности челове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1692360" y="5877000"/>
            <a:ext cx="7200720" cy="57636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риентация на развитие творческой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5"/>
          <p:cNvSpPr/>
          <p:nvPr/>
        </p:nvSpPr>
        <p:spPr>
          <a:xfrm>
            <a:off x="1835280" y="189000"/>
            <a:ext cx="583884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AutoShape 7"/>
          <p:cNvSpPr/>
          <p:nvPr/>
        </p:nvSpPr>
        <p:spPr>
          <a:xfrm flipH="1" rot="10800000">
            <a:off x="1041480" y="404640"/>
            <a:ext cx="1584360" cy="6126480"/>
          </a:xfrm>
          <a:prstGeom prst="rightArrowCallout">
            <a:avLst>
              <a:gd name="adj1" fmla="val 96680"/>
              <a:gd name="adj2" fmla="val 96671"/>
              <a:gd name="adj3" fmla="val 16667"/>
              <a:gd name="adj4" fmla="val 66667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Comic Sans MS"/>
              </a:rPr>
              <a:t>Признаки образовательной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AutoShape 8"/>
          <p:cNvSpPr/>
          <p:nvPr/>
        </p:nvSpPr>
        <p:spPr>
          <a:xfrm>
            <a:off x="2997360" y="404640"/>
            <a:ext cx="711000" cy="427320"/>
          </a:xfrm>
          <a:custGeom>
            <a:avLst/>
            <a:gdLst>
              <a:gd name="textAreaLeft" fmla="*/ 0 w 711000"/>
              <a:gd name="textAreaRight" fmla="*/ 711360 w 7110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AutoShape 10"/>
          <p:cNvSpPr/>
          <p:nvPr/>
        </p:nvSpPr>
        <p:spPr>
          <a:xfrm>
            <a:off x="2975040" y="1046160"/>
            <a:ext cx="712800" cy="425520"/>
          </a:xfrm>
          <a:custGeom>
            <a:avLst/>
            <a:gdLst>
              <a:gd name="textAreaLeft" fmla="*/ 0 w 712800"/>
              <a:gd name="textAreaRight" fmla="*/ 713160 w 7128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AutoShape 11"/>
          <p:cNvSpPr/>
          <p:nvPr/>
        </p:nvSpPr>
        <p:spPr>
          <a:xfrm>
            <a:off x="3708360" y="1052640"/>
            <a:ext cx="2755800" cy="42516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езультатив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AutoShape 12"/>
          <p:cNvSpPr/>
          <p:nvPr/>
        </p:nvSpPr>
        <p:spPr>
          <a:xfrm>
            <a:off x="2975040" y="1758960"/>
            <a:ext cx="712800" cy="423720"/>
          </a:xfrm>
          <a:custGeom>
            <a:avLst/>
            <a:gdLst>
              <a:gd name="textAreaLeft" fmla="*/ 0 w 712800"/>
              <a:gd name="textAreaRight" fmla="*/ 713160 w 7128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AutoShape 13"/>
          <p:cNvSpPr/>
          <p:nvPr/>
        </p:nvSpPr>
        <p:spPr>
          <a:xfrm>
            <a:off x="3708360" y="1773360"/>
            <a:ext cx="2755800" cy="4237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коном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AutoShape 14"/>
          <p:cNvSpPr/>
          <p:nvPr/>
        </p:nvSpPr>
        <p:spPr>
          <a:xfrm>
            <a:off x="2975040" y="2470320"/>
            <a:ext cx="712800" cy="425160"/>
          </a:xfrm>
          <a:custGeom>
            <a:avLst/>
            <a:gdLst>
              <a:gd name="textAreaLeft" fmla="*/ 0 w 712800"/>
              <a:gd name="textAreaRight" fmla="*/ 713160 w 7128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AutoShape 15"/>
          <p:cNvSpPr/>
          <p:nvPr/>
        </p:nvSpPr>
        <p:spPr>
          <a:xfrm>
            <a:off x="3687840" y="2470320"/>
            <a:ext cx="2755800" cy="42516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Алгоритмиру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AutoShape 16"/>
          <p:cNvSpPr/>
          <p:nvPr/>
        </p:nvSpPr>
        <p:spPr>
          <a:xfrm>
            <a:off x="2987640" y="3213000"/>
            <a:ext cx="712800" cy="425520"/>
          </a:xfrm>
          <a:custGeom>
            <a:avLst/>
            <a:gdLst>
              <a:gd name="textAreaLeft" fmla="*/ 0 w 712800"/>
              <a:gd name="textAreaRight" fmla="*/ 713160 w 7128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AutoShape 17"/>
          <p:cNvSpPr/>
          <p:nvPr/>
        </p:nvSpPr>
        <p:spPr>
          <a:xfrm>
            <a:off x="3687840" y="3182760"/>
            <a:ext cx="2755800" cy="4255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ектиру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AutoShape 18"/>
          <p:cNvSpPr/>
          <p:nvPr/>
        </p:nvSpPr>
        <p:spPr>
          <a:xfrm>
            <a:off x="2973240" y="3894120"/>
            <a:ext cx="714600" cy="425520"/>
          </a:xfrm>
          <a:custGeom>
            <a:avLst/>
            <a:gdLst>
              <a:gd name="textAreaLeft" fmla="*/ 0 w 714600"/>
              <a:gd name="textAreaRight" fmla="*/ 714960 w 7146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AutoShape 19"/>
          <p:cNvSpPr/>
          <p:nvPr/>
        </p:nvSpPr>
        <p:spPr>
          <a:xfrm>
            <a:off x="3708360" y="3860640"/>
            <a:ext cx="2735280" cy="4255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Целост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AutoShape 20"/>
          <p:cNvSpPr/>
          <p:nvPr/>
        </p:nvSpPr>
        <p:spPr>
          <a:xfrm>
            <a:off x="2973240" y="4606920"/>
            <a:ext cx="714600" cy="423720"/>
          </a:xfrm>
          <a:custGeom>
            <a:avLst/>
            <a:gdLst>
              <a:gd name="textAreaLeft" fmla="*/ 0 w 714600"/>
              <a:gd name="textAreaRight" fmla="*/ 714960 w 7146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AutoShape 21"/>
          <p:cNvSpPr/>
          <p:nvPr/>
        </p:nvSpPr>
        <p:spPr>
          <a:xfrm>
            <a:off x="3687840" y="4606920"/>
            <a:ext cx="2755800" cy="4237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AutoShape 22"/>
          <p:cNvSpPr/>
          <p:nvPr/>
        </p:nvSpPr>
        <p:spPr>
          <a:xfrm>
            <a:off x="2973240" y="5321160"/>
            <a:ext cx="714600" cy="424080"/>
          </a:xfrm>
          <a:custGeom>
            <a:avLst/>
            <a:gdLst>
              <a:gd name="textAreaLeft" fmla="*/ 0 w 714600"/>
              <a:gd name="textAreaRight" fmla="*/ 714960 w 7146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AutoShape 23"/>
          <p:cNvSpPr/>
          <p:nvPr/>
        </p:nvSpPr>
        <p:spPr>
          <a:xfrm>
            <a:off x="3687840" y="5321160"/>
            <a:ext cx="2755800" cy="42408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рректиру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AutoShape 24"/>
          <p:cNvSpPr/>
          <p:nvPr/>
        </p:nvSpPr>
        <p:spPr>
          <a:xfrm>
            <a:off x="2973240" y="6032520"/>
            <a:ext cx="714600" cy="423720"/>
          </a:xfrm>
          <a:custGeom>
            <a:avLst/>
            <a:gdLst>
              <a:gd name="textAreaLeft" fmla="*/ 0 w 714600"/>
              <a:gd name="textAreaRight" fmla="*/ 714960 w 7146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AutoShape 25"/>
          <p:cNvSpPr/>
          <p:nvPr/>
        </p:nvSpPr>
        <p:spPr>
          <a:xfrm>
            <a:off x="3687840" y="6032520"/>
            <a:ext cx="2828880" cy="4237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изуал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AutoShape 26"/>
          <p:cNvSpPr/>
          <p:nvPr/>
        </p:nvSpPr>
        <p:spPr>
          <a:xfrm>
            <a:off x="6516720" y="2492280"/>
            <a:ext cx="995400" cy="2563920"/>
          </a:xfrm>
          <a:custGeom>
            <a:avLst/>
            <a:gdLst>
              <a:gd name="textAreaLeft" fmla="*/ 0 w 995400"/>
              <a:gd name="textAreaRight" fmla="*/ 359280 w 995400"/>
              <a:gd name="textAreaTop" fmla="*/ 66600 h 2563920"/>
              <a:gd name="textAreaBottom" fmla="*/ 2497320 h 256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01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ectangle 27"/>
          <p:cNvSpPr/>
          <p:nvPr/>
        </p:nvSpPr>
        <p:spPr>
          <a:xfrm rot="10800000">
            <a:off x="7524360" y="1334880"/>
            <a:ext cx="934920" cy="4485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Comic Sans MS"/>
              </a:rPr>
              <a:t>Воспроизводи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AutoShape 28"/>
          <p:cNvSpPr/>
          <p:nvPr/>
        </p:nvSpPr>
        <p:spPr>
          <a:xfrm>
            <a:off x="3708360" y="404640"/>
            <a:ext cx="2755800" cy="4273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Целеполаг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Прямоугольник 3"/>
          <p:cNvSpPr/>
          <p:nvPr/>
        </p:nvSpPr>
        <p:spPr>
          <a:xfrm>
            <a:off x="1708560" y="271440"/>
            <a:ext cx="60649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3a00"/>
                </a:solidFill>
                <a:latin typeface="Times New Roman"/>
                <a:ea typeface="Times New Roman"/>
              </a:rPr>
              <a:t>Развивающее обуч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Горизонтальный свиток 5"/>
          <p:cNvSpPr/>
          <p:nvPr/>
        </p:nvSpPr>
        <p:spPr>
          <a:xfrm>
            <a:off x="735120" y="1557360"/>
            <a:ext cx="7777080" cy="18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edeaa"/>
              </a:gs>
              <a:gs pos="100000">
                <a:srgbClr val="f6f6e8"/>
              </a:gs>
            </a:gsLst>
            <a:lin ang="16200000"/>
          </a:gradFill>
          <a:ln w="9360">
            <a:solidFill>
              <a:srgbClr val="8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вивающее обучение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– это обучение, содержание, методы и формы организации которого основываются на закономерностях развития ребе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Прямоугольник 6"/>
          <p:cNvSpPr/>
          <p:nvPr/>
        </p:nvSpPr>
        <p:spPr>
          <a:xfrm>
            <a:off x="4446720" y="4295880"/>
            <a:ext cx="4429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Times New Roman"/>
                <a:ea typeface="Times New Roman"/>
              </a:rPr>
              <a:t>самостоятельный субъект, взаимодействующий с окружающей сред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Овал 7"/>
          <p:cNvSpPr/>
          <p:nvPr/>
        </p:nvSpPr>
        <p:spPr>
          <a:xfrm>
            <a:off x="252360" y="3933720"/>
            <a:ext cx="3168720" cy="1798920"/>
          </a:xfrm>
          <a:prstGeom prst="ellipse">
            <a:avLst/>
          </a:prstGeom>
          <a:gradFill rotWithShape="0">
            <a:gsLst>
              <a:gs pos="0">
                <a:srgbClr val="d7d7ae"/>
              </a:gs>
              <a:gs pos="100000">
                <a:srgbClr val="f4f4e9"/>
              </a:gs>
            </a:gsLst>
            <a:lin ang="16200000"/>
          </a:gradFill>
          <a:ln w="9360">
            <a:solidFill>
              <a:srgbClr val="73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c3b06"/>
                </a:solidFill>
                <a:latin typeface="Times New Roman"/>
                <a:ea typeface="Times New Roman"/>
              </a:rPr>
              <a:t>Учащий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3" name="Штриховая стрелка вправо 8"/>
          <p:cNvGrpSpPr/>
          <p:nvPr/>
        </p:nvGrpSpPr>
        <p:grpSpPr>
          <a:xfrm>
            <a:off x="3517920" y="4376880"/>
            <a:ext cx="901800" cy="615960"/>
            <a:chOff x="3517920" y="4376880"/>
            <a:chExt cx="901800" cy="615960"/>
          </a:xfrm>
        </p:grpSpPr>
        <p:pic>
          <p:nvPicPr>
            <p:cNvPr id="694" name="Штриховая стрелка вправо 8" descr=""/>
            <p:cNvPicPr/>
            <p:nvPr/>
          </p:nvPicPr>
          <p:blipFill>
            <a:blip r:embed="rId1"/>
            <a:stretch/>
          </p:blipFill>
          <p:spPr>
            <a:xfrm>
              <a:off x="3517920" y="4376880"/>
              <a:ext cx="901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3652920" y="4535640"/>
              <a:ext cx="5871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Прямоугольник 3"/>
          <p:cNvSpPr/>
          <p:nvPr/>
        </p:nvSpPr>
        <p:spPr>
          <a:xfrm>
            <a:off x="771480" y="3141720"/>
            <a:ext cx="7777080" cy="2288520"/>
          </a:xfrm>
          <a:prstGeom prst="rect">
            <a:avLst/>
          </a:prstGeom>
          <a:gradFill rotWithShape="0">
            <a:gsLst>
              <a:gs pos="0">
                <a:srgbClr val="d7d7ae"/>
              </a:gs>
              <a:gs pos="100000">
                <a:srgbClr val="f4f4e9"/>
              </a:gs>
            </a:gsLst>
            <a:lin ang="16200000"/>
          </a:gradFill>
          <a:ln w="9360">
            <a:solidFill>
              <a:srgbClr val="73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ведущей роли теоретических зн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обучения на высоком уровне труд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обучения быстрым темп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осознания школьниками процесса 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целенаправленной и систематической работы над общим развитием всех учащихся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Прямоугольник 4"/>
          <p:cNvSpPr/>
          <p:nvPr/>
        </p:nvSpPr>
        <p:spPr>
          <a:xfrm>
            <a:off x="2124000" y="260280"/>
            <a:ext cx="5315040" cy="2104920"/>
          </a:xfrm>
          <a:prstGeom prst="rect">
            <a:avLst/>
          </a:prstGeom>
          <a:gradFill rotWithShape="0">
            <a:gsLst>
              <a:gs pos="0">
                <a:srgbClr val="f3ddcd"/>
              </a:gs>
              <a:gs pos="100000">
                <a:srgbClr val="fcf5f1"/>
              </a:gs>
            </a:gsLst>
            <a:lin ang="16200000"/>
          </a:gradFill>
          <a:ln w="9360">
            <a:solidFill>
              <a:srgbClr val="c6b4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Принципы развивающего обуче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8" name="Стрелка вниз 5"/>
          <p:cNvGrpSpPr/>
          <p:nvPr/>
        </p:nvGrpSpPr>
        <p:grpSpPr>
          <a:xfrm>
            <a:off x="4181400" y="2494080"/>
            <a:ext cx="682560" cy="583920"/>
            <a:chOff x="4181400" y="2494080"/>
            <a:chExt cx="682560" cy="583920"/>
          </a:xfrm>
        </p:grpSpPr>
        <p:pic>
          <p:nvPicPr>
            <p:cNvPr id="699" name="Стрелка вниз 5" descr=""/>
            <p:cNvPicPr/>
            <p:nvPr/>
          </p:nvPicPr>
          <p:blipFill>
            <a:blip r:embed="rId1"/>
            <a:stretch/>
          </p:blipFill>
          <p:spPr>
            <a:xfrm>
              <a:off x="4181400" y="2494080"/>
              <a:ext cx="6825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379760" y="2522520"/>
              <a:ext cx="287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Прямоугольник 3"/>
          <p:cNvSpPr/>
          <p:nvPr/>
        </p:nvSpPr>
        <p:spPr>
          <a:xfrm>
            <a:off x="468360" y="204840"/>
            <a:ext cx="828036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Классификация технологий развивающего обуч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Прямоугольник 4"/>
          <p:cNvSpPr/>
          <p:nvPr/>
        </p:nvSpPr>
        <p:spPr>
          <a:xfrm>
            <a:off x="2152440" y="2060640"/>
            <a:ext cx="5304240" cy="459720"/>
          </a:xfrm>
          <a:prstGeom prst="rect">
            <a:avLst/>
          </a:prstGeom>
          <a:gradFill rotWithShape="0">
            <a:gsLst>
              <a:gs pos="0">
                <a:srgbClr val="f3ddcd"/>
              </a:gs>
              <a:gs pos="100000">
                <a:srgbClr val="fcf5f1"/>
              </a:gs>
            </a:gsLst>
            <a:lin ang="16200000"/>
          </a:gradFill>
          <a:ln w="9360">
            <a:solidFill>
              <a:srgbClr val="c6b4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c3b06"/>
                </a:solidFill>
                <a:uFillTx/>
                <a:latin typeface="Times New Roman"/>
                <a:ea typeface="Times New Roman"/>
              </a:rPr>
              <a:t>1. Опора на познавательный интер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Прямоугольник 5"/>
          <p:cNvSpPr/>
          <p:nvPr/>
        </p:nvSpPr>
        <p:spPr>
          <a:xfrm>
            <a:off x="239760" y="4027320"/>
            <a:ext cx="41958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ab8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Л.В. Занк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система интенсивного всестороннего развития для начальной шко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04" name="Стрелка вправо с вырезом 7"/>
          <p:cNvGrpSpPr/>
          <p:nvPr/>
        </p:nvGrpSpPr>
        <p:grpSpPr>
          <a:xfrm>
            <a:off x="2146320" y="2651040"/>
            <a:ext cx="1139760" cy="1330560"/>
            <a:chOff x="2146320" y="2651040"/>
            <a:chExt cx="1139760" cy="1330560"/>
          </a:xfrm>
        </p:grpSpPr>
        <p:pic>
          <p:nvPicPr>
            <p:cNvPr id="705" name="Стрелка вправо с вырезом 7" descr=""/>
            <p:cNvPicPr/>
            <p:nvPr/>
          </p:nvPicPr>
          <p:blipFill>
            <a:blip r:embed="rId1"/>
            <a:stretch/>
          </p:blipFill>
          <p:spPr>
            <a:xfrm>
              <a:off x="2146320" y="2651040"/>
              <a:ext cx="113976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 rot="7458600">
              <a:off x="2229480" y="3188520"/>
              <a:ext cx="9730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7" name="Стрелка вправо с вырезом 8"/>
          <p:cNvGrpSpPr/>
          <p:nvPr/>
        </p:nvGrpSpPr>
        <p:grpSpPr>
          <a:xfrm>
            <a:off x="6351480" y="2627280"/>
            <a:ext cx="1165320" cy="1414440"/>
            <a:chOff x="6351480" y="2627280"/>
            <a:chExt cx="1165320" cy="1414440"/>
          </a:xfrm>
        </p:grpSpPr>
        <p:pic>
          <p:nvPicPr>
            <p:cNvPr id="708" name="Стрелка вправо с вырезом 8" descr=""/>
            <p:cNvPicPr/>
            <p:nvPr/>
          </p:nvPicPr>
          <p:blipFill>
            <a:blip r:embed="rId2"/>
            <a:stretch/>
          </p:blipFill>
          <p:spPr>
            <a:xfrm>
              <a:off x="6351480" y="2627280"/>
              <a:ext cx="1165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 rot="3448800">
              <a:off x="6398280" y="3210480"/>
              <a:ext cx="10666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10" name="Прямоугольник 9"/>
          <p:cNvSpPr/>
          <p:nvPr/>
        </p:nvSpPr>
        <p:spPr>
          <a:xfrm>
            <a:off x="4678200" y="4189320"/>
            <a:ext cx="4392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ab8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Д.Б. Эльконин и В.В. Давыд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развитие интеллектуальных способностей ребё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57:18Z</dcterms:created>
  <dc:creator>Катюшка</dc:creator>
  <dc:description/>
  <dc:language>en-US</dc:language>
  <cp:lastModifiedBy>Кристина</cp:lastModifiedBy>
  <dcterms:modified xsi:type="dcterms:W3CDTF">2021-04-09T08:57:09Z</dcterms:modified>
  <cp:revision>17</cp:revision>
  <dc:subject/>
  <dc:title>Современные образовательные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130000000000010243100207f6000400038000</vt:lpwstr>
  </property>
  <property fmtid="{D5CDD505-2E9C-101B-9397-08002B2CF9AE}" pid="3" name="Version">
    <vt:r8>8</vt:r8>
  </property>
</Properties>
</file>