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E4AC-0585-4F80-BA8E-FD20B3491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51B-5E87-416D-AAE2-E742F4AA9F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882-2687-4752-AC68-9ED3968A30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731-83CB-44A1-951C-A75C18C4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469-0E89-44DF-B56A-F8E5290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E7E2E-957C-46E0-BF31-14462D2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13816-0A78-4C0F-B668-D000B62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AB03C-E2B1-489B-925A-1AA675D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1BC4-4458-4760-946E-CA8E0B3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B0CB4-63BB-47E6-837A-AEFB163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0C80A-2A7B-4C8F-8E9A-DB859D5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2FEE7-5A7B-4A18-B01E-AD5FC49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FC32-D2F1-4226-BF64-80C4076A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60762-E101-4CB2-A5F9-5A510F83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9B57A-A218-4855-AA21-62FE59B6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4C7-7DE4-4BD1-85FD-1C68F305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A1E1A-487F-4884-BDC8-E87E753C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682C-0BFB-4EBE-8D80-6E35D1A7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0BCA5-BBA5-4EBE-BD00-B478B86D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04CF5-DAFA-481B-8895-D4A086E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D68AD-D5C8-436D-B63F-C9CCC559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8D11D-DC61-47F8-9D38-4CAC9D6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EE74-E7C4-48CC-98EB-6113D31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0FB53-D960-4EB1-A9ED-16EE14F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379C0-C3E5-4FF6-9F0C-C1C3A64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4C8C1-2D63-4AD5-9DDD-5870A684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97C-8685-4ED1-9B12-9F6E06CA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E5817-1C20-49C3-B864-004BA8D1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C9BA0-EE7E-4852-90E1-5E48D4E5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F86E-5EC6-4E3E-8EA7-FE94C465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1D24-7F27-4F92-9A4F-009FD1D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447B6-D363-47B0-B4F5-9933310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E7AF8-AE66-441D-913C-AE5B43F7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D0C31-52F4-4921-92A8-C7F9022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F95D9-5E43-4008-B4A4-7B33C40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06702-3CB4-437A-8013-51D779F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3091-4D97-4493-8A8E-AF1BCEF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654-9C24-4FD8-8880-F9F847DD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CDBA-C621-4BB2-A9C0-0850EB53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8F60B-D867-461B-BDDC-F61CBF37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037D8-CDC6-43AB-A6B9-548CA934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15B5F-1C8D-402B-B70D-4C5247AD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5E719-0F98-4BF2-98E9-6EABB22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5BF75-0309-437B-8B75-7D3054E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9869E-0044-4590-ADC3-61678C7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3455-420B-4308-B997-75DE944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3E730-23D6-4FD5-BFE0-C8CBB72E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A6F80-E822-4A90-A423-8A261C1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AF4F-AC97-4DAB-AEE8-FCA1BEA3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59B95-EED0-4E90-B31D-578BA05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74338-EDDE-4E4C-9CB4-6E7AD48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336E9-A259-495D-8D00-8A921CB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3B245-3AB4-4742-AE48-1E716463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F2909-8B09-45CD-B177-E2CA6C2A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3531C-4F52-4A07-AB5A-ACC2BED5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DBADB-E870-4F38-B9EF-C74B2E7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50BAB-1C84-4C3E-ACA4-A8A79D2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60854-D53A-4779-A33E-F2AD325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7E5D3-CB23-496D-8E57-CA8C5A8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FC5-923A-44DE-8437-251CE89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3F568-73EA-4FC7-B250-E1F4446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C7B17-C942-487B-B04D-FAC590B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2F3B9-1734-48EC-BDFA-2DEF002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772FC-31B3-4ABA-8F00-715487E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16850-D1CF-4645-8111-93A08803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70D3B-8EEE-4954-A0D7-235E8458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5BA6-D397-46B2-9552-DBDBAA8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5F58C-07BC-49D5-90D1-B2F522E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F17F3-7CA2-4514-9CF9-7D6C25C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E5BF2-53B0-470C-AEE3-A6ADAE1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8411-F081-4230-82C0-C3756C80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98C50-0688-42E4-B72C-4A2F23F0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A518D-052A-48DA-9FBA-989C33F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A4261-ACE3-4EB3-BE93-54F6CE4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F57DB-87C6-44DA-933E-121D9E5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2FFA6-FD8E-4110-A378-39F7E1C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B4CDB-16CA-414D-8029-172E996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00758-1566-4F53-9426-B673EF6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194A0-CF73-4E4D-B2A3-41DD0AAD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4EFF2-BA39-451A-817B-5684120C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6328-D23D-4535-8B25-C3C7A7D1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B7F-498F-4E76-9615-47D2C516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C1FA-840F-4567-BE0A-17D4FCD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482-587D-42E1-9C74-7B8E261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4AF5-777D-40C5-8C48-0F3A4094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4A3-E11B-4F2A-BAF0-08740D65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F78-C423-4F58-BFFC-19A66C1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B26C-27E5-42D9-83C0-017D6397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4D2-FF1E-4358-A150-3E75C8CC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CEBA-CE13-416B-BF9F-8F1E9128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7F2D-979A-445C-BFBE-676A7A74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FFF7-A40D-4B4E-8E80-A367896D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F405-8C4E-440F-AC93-243D121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0014-C7D5-4842-9E34-23C0E4C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15E-E13E-45E2-ABFC-BAC217F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3980-CCC0-4912-8AAA-55B22B6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607F-0CC4-486E-9B4C-7CDE376D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7D3F-F85B-419E-A81D-7567C66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99282-3FA6-478C-B9AB-0D00BE8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606A-EFF3-413E-AA88-FD2DBD8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9EB-0B47-4788-AFAD-B050D58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79A7-13AD-4908-A28E-F78891C2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635A-E774-438F-95B6-A3E561F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2CD0-6136-4C99-9C7D-09AC6C6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D284-9164-4E3C-B32E-51AAB35D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20E-CBE5-417D-8B01-700E899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903A-7866-4329-9F67-CE78613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4F25-20A0-4434-BD29-25A49173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C323-AAC6-417E-8EEC-543BECE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132B-E6C9-40FC-BD80-122346B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5C9E-D7EA-4E0C-8A15-3B6C612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3B88-AE47-44B3-876E-2B7BB67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08F6-B3DB-401D-9684-E4878C2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37F7-D152-4151-9D0A-592F303E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BD86-A936-41E4-8FDC-AD5D29D9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5546-4DA4-4D68-AFDE-3117EB4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BC0-CD0C-45CD-9910-0BF0FF6A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E25E-D3CC-46E6-8BA5-D8CB2317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5C25-1761-44A1-8F35-5FB0823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FC5A-CA34-419F-9901-A20FEC8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6422-75FB-4671-8D05-D9E30CA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7FC7-D361-4894-852E-6B37B9D0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9B91-D20A-48DC-8B75-A62AB14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EF03-BB43-46B0-95E8-04B6B5E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81DC-EE86-4A2A-80F4-5CD2A30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EC7B2-3D30-47CD-AE08-CEF156EC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4C51E-1859-44F6-87A4-087F7DCE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DF5-AC38-41EE-9C7F-60D0D3C4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E37B-E6FE-4039-8352-A7DCA66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185D-AE01-4356-AADC-BC3C89F8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69770-05F1-41BD-BE11-73923E9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AD08-10B7-4BC4-B551-F620D2FE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3DD4-734A-4020-9B13-E9DE296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C3F9C-5E1E-46C7-B6DE-9DA3F3B1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8266-72B1-4BA5-A05C-6306E3FA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FB13-C241-4BE1-8C9E-C968D51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81088-85EC-4B31-A0E3-1F2721E3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FEF3-9561-4C75-BD1B-A2460A6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374-10EF-4A3B-9527-A215EAC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18C6-85FD-4109-94F3-40FB581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A9762-37E8-4DDA-847E-4B685A81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DA12-A482-4A02-9680-B48D10F6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1810-3BB0-43BF-BB30-67800618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2A6A-78EF-402A-B785-8CFA048D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4B5C-6253-4286-BD48-C5E02591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45C6-7403-4749-8F2B-80D2456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486D-B004-4618-9198-87169A5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C79B-F77A-45B2-AE92-50C824DC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2BF2B-1AEC-4232-BC40-7FE8212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A93-EAD9-41BB-B333-D3B487BE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ECED5-44C2-47E9-BF65-B654771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2B84-A08D-48BA-8426-D77395B4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196ED-EDCA-41AC-A1F1-D950815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26F2-5C59-4393-ACC9-FB0437E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B39A-4582-4705-BC2B-DC43821C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8FD0-CFE8-43A8-937D-EC57C35C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9B535-0685-4742-B0BD-3D06E76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FFFE-FF7D-416D-9A62-581FB4C6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C89B-1B0C-44EB-995B-6BFA7A0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B3275-CD3C-4A0C-9273-B9EFC48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A3F-142C-4C1A-AE7F-95AB325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C39E-AED8-462C-BEA5-79176D2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BBD69-985A-43DB-83E4-DFE67C0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3EBEB-F157-484F-B761-167A1CC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3FD3-61CD-4C1D-95AF-9AB8B02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FFCB-8B5D-4D6A-B44B-AE1070E5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FD7C3-CBD8-4D93-9AD4-E133438C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0225-533F-427E-A994-7AD9FE64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ACE7-BBEE-4FBE-89EA-5C66AF9A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A4A05-0701-42DB-AA97-9350DB5A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B2C1E-0589-4A67-BCBB-3FBDD4B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E35D-BDC8-42E7-9184-76F2129BAD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737-0F0F-4489-BC95-EA168E3A10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6D1E-CDB1-4786-A85A-87CDC54512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CA7-511D-41C6-83D5-47B4D78206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9075-41CA-4974-BA09-B8A8F4FA4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F46-1573-485F-84F4-63AACFDC8C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7F06-1BBF-4DD7-9871-7A0C84E8D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93C-6B99-40FD-83DA-D647A5C4E6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70F-0324-4BB7-91F1-C4E461E82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686-0F67-41C5-8360-A8ADD0035D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846-902E-4639-B4DD-0A26FC671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22D8-93B7-48D2-94E7-B25DAE7DC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2D62-FAA7-48D6-A21C-2DA79DF37F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2f2f47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568-5C0D-4921-96F8-A682441651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Технология организации развивающей деятельности учащихс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Прямоугольник 3"/>
          <p:cNvSpPr/>
          <p:nvPr/>
        </p:nvSpPr>
        <p:spPr>
          <a:xfrm>
            <a:off x="910800" y="150840"/>
            <a:ext cx="7059960" cy="1312920"/>
          </a:xfrm>
          <a:prstGeom prst="rect">
            <a:avLst/>
          </a:prstGeom>
          <a:gradFill rotWithShape="0">
            <a:gsLst>
              <a:gs pos="0">
                <a:srgbClr val="dedeaa"/>
              </a:gs>
              <a:gs pos="100000">
                <a:srgbClr val="f6f6e8"/>
              </a:gs>
            </a:gsLst>
            <a:lin ang="16200000"/>
          </a:gradFill>
          <a:ln w="936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2. Опора на развит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творческих качеств лич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Прямоугольник 4"/>
          <p:cNvSpPr/>
          <p:nvPr/>
        </p:nvSpPr>
        <p:spPr>
          <a:xfrm>
            <a:off x="73080" y="2843280"/>
            <a:ext cx="2951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 П. Вол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школа твор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3" name="Стрелка вправо с вырезом 5"/>
          <p:cNvGrpSpPr/>
          <p:nvPr/>
        </p:nvGrpSpPr>
        <p:grpSpPr>
          <a:xfrm>
            <a:off x="1243080" y="1609560"/>
            <a:ext cx="914400" cy="1000440"/>
            <a:chOff x="1243080" y="1609560"/>
            <a:chExt cx="914400" cy="1000440"/>
          </a:xfrm>
        </p:grpSpPr>
        <p:pic>
          <p:nvPicPr>
            <p:cNvPr id="714" name="Стрелка вправо с вырезом 5" descr=""/>
            <p:cNvPicPr/>
            <p:nvPr/>
          </p:nvPicPr>
          <p:blipFill>
            <a:blip r:embed="rId1"/>
            <a:stretch/>
          </p:blipFill>
          <p:spPr>
            <a:xfrm>
              <a:off x="1243080" y="1609560"/>
              <a:ext cx="9144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 rot="7458600">
              <a:off x="1412280" y="1983960"/>
              <a:ext cx="57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6" name="Стрелка вправо с вырезом 6"/>
          <p:cNvGrpSpPr/>
          <p:nvPr/>
        </p:nvGrpSpPr>
        <p:grpSpPr>
          <a:xfrm>
            <a:off x="6357960" y="1646280"/>
            <a:ext cx="933480" cy="987480"/>
            <a:chOff x="6357960" y="1646280"/>
            <a:chExt cx="933480" cy="987480"/>
          </a:xfrm>
        </p:grpSpPr>
        <p:pic>
          <p:nvPicPr>
            <p:cNvPr id="717" name="Стрелка вправо с вырезом 6" descr=""/>
            <p:cNvPicPr/>
            <p:nvPr/>
          </p:nvPicPr>
          <p:blipFill>
            <a:blip r:embed="rId2"/>
            <a:stretch/>
          </p:blipFill>
          <p:spPr>
            <a:xfrm>
              <a:off x="6357960" y="1646280"/>
              <a:ext cx="933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 rot="3066600">
              <a:off x="6542280" y="2013480"/>
              <a:ext cx="5637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9" name="Стрелка вправо с вырезом 7"/>
          <p:cNvGrpSpPr/>
          <p:nvPr/>
        </p:nvGrpSpPr>
        <p:grpSpPr>
          <a:xfrm>
            <a:off x="3925800" y="2475000"/>
            <a:ext cx="615960" cy="877680"/>
            <a:chOff x="3925800" y="2475000"/>
            <a:chExt cx="615960" cy="877680"/>
          </a:xfrm>
        </p:grpSpPr>
        <p:pic>
          <p:nvPicPr>
            <p:cNvPr id="720" name="Стрелка вправо с вырезом 7" descr=""/>
            <p:cNvPicPr/>
            <p:nvPr/>
          </p:nvPicPr>
          <p:blipFill>
            <a:blip r:embed="rId3"/>
            <a:stretch/>
          </p:blipFill>
          <p:spPr>
            <a:xfrm>
              <a:off x="3925800" y="2475000"/>
              <a:ext cx="6159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 rot="5400000">
              <a:off x="3976200" y="2763720"/>
              <a:ext cx="5144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2" name="Прямоугольник 8"/>
          <p:cNvSpPr/>
          <p:nvPr/>
        </p:nvSpPr>
        <p:spPr>
          <a:xfrm>
            <a:off x="3059280" y="3860640"/>
            <a:ext cx="29527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Г.С. Альтшуллер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теория решения изобретательских задач (ТРИЗ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Прямоугольник 9"/>
          <p:cNvSpPr/>
          <p:nvPr/>
        </p:nvSpPr>
        <p:spPr>
          <a:xfrm>
            <a:off x="6288120" y="2889360"/>
            <a:ext cx="28447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П. Иван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коллективное творческое воспит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4"/>
          <p:cNvSpPr/>
          <p:nvPr/>
        </p:nvSpPr>
        <p:spPr>
          <a:xfrm>
            <a:off x="934560" y="404640"/>
            <a:ext cx="7093440" cy="131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6e8"/>
              </a:gs>
            </a:gsLst>
            <a:lin ang="16200000"/>
          </a:gradFill>
          <a:ln w="9360">
            <a:solidFill>
              <a:srgbClr val="f7c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3. Опора на индивидуальн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опыт лич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755640" y="3573360"/>
            <a:ext cx="77040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bc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убъектно-личностный подход, предполагающий отношение к каждому ребёнку, как к уникальности, несхожести, неповтори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И.С. Якиман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26" name="Стрелка вправо с вырезом 7"/>
          <p:cNvGrpSpPr/>
          <p:nvPr/>
        </p:nvGrpSpPr>
        <p:grpSpPr>
          <a:xfrm>
            <a:off x="4078440" y="2335320"/>
            <a:ext cx="804600" cy="809640"/>
            <a:chOff x="4078440" y="2335320"/>
            <a:chExt cx="804600" cy="809640"/>
          </a:xfrm>
        </p:grpSpPr>
        <p:pic>
          <p:nvPicPr>
            <p:cNvPr id="727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4078440" y="2335320"/>
              <a:ext cx="8046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 rot="5400000">
              <a:off x="4303440" y="2544840"/>
              <a:ext cx="35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4"/>
          <p:cNvSpPr/>
          <p:nvPr/>
        </p:nvSpPr>
        <p:spPr>
          <a:xfrm>
            <a:off x="1258920" y="692280"/>
            <a:ext cx="6507000" cy="1434600"/>
          </a:xfrm>
          <a:prstGeom prst="rect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024"/>
                </a:solidFill>
                <a:uFillTx/>
                <a:latin typeface="Times New Roman"/>
                <a:ea typeface="Times New Roman"/>
              </a:rPr>
              <a:t>4. Опора на самосовершенств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611280" y="4149720"/>
            <a:ext cx="813744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Г.К. Селевко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технология саморазвивающего обуч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1" name="Стрелка вправо с вырезом 7"/>
          <p:cNvGrpSpPr/>
          <p:nvPr/>
        </p:nvGrpSpPr>
        <p:grpSpPr>
          <a:xfrm>
            <a:off x="4230720" y="2610000"/>
            <a:ext cx="804960" cy="809640"/>
            <a:chOff x="4230720" y="2610000"/>
            <a:chExt cx="804960" cy="809640"/>
          </a:xfrm>
        </p:grpSpPr>
        <p:pic>
          <p:nvPicPr>
            <p:cNvPr id="732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4230720" y="2610000"/>
              <a:ext cx="804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rot="5400000">
              <a:off x="4454280" y="2814840"/>
              <a:ext cx="353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Прямоугольник 3"/>
          <p:cNvSpPr/>
          <p:nvPr/>
        </p:nvSpPr>
        <p:spPr>
          <a:xfrm>
            <a:off x="179280" y="189000"/>
            <a:ext cx="87138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Использование технологии развивающего обучения при организации образовательного проце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Прямоугольник с двумя скругленными противолежащими углами 4"/>
          <p:cNvSpPr/>
          <p:nvPr/>
        </p:nvSpPr>
        <p:spPr>
          <a:xfrm>
            <a:off x="971640" y="4221000"/>
            <a:ext cx="7632720" cy="1368720"/>
          </a:xfrm>
          <a:prstGeom prst="pie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учающийся овладевает способами действий, обучается конструировать и управлять своей учебн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оугольник 3"/>
          <p:cNvSpPr/>
          <p:nvPr/>
        </p:nvSpPr>
        <p:spPr>
          <a:xfrm>
            <a:off x="811080" y="2944800"/>
            <a:ext cx="7561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пь усложняющихся предметных задач, которые вызывают у школьника потребность овладеть специальными знаниями и умениями, в создании н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Прямоугольник 4"/>
          <p:cNvSpPr/>
          <p:nvPr/>
        </p:nvSpPr>
        <p:spPr>
          <a:xfrm>
            <a:off x="1285920" y="520560"/>
            <a:ext cx="669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Times New Roman"/>
                <a:ea typeface="Times New Roman"/>
              </a:rPr>
              <a:t>Структура развивающего обуч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8" name="Стрелка вниз 5"/>
          <p:cNvGrpSpPr/>
          <p:nvPr/>
        </p:nvGrpSpPr>
        <p:grpSpPr>
          <a:xfrm>
            <a:off x="4017960" y="4260960"/>
            <a:ext cx="968400" cy="744480"/>
            <a:chOff x="4017960" y="4260960"/>
            <a:chExt cx="968400" cy="744480"/>
          </a:xfrm>
        </p:grpSpPr>
        <p:pic>
          <p:nvPicPr>
            <p:cNvPr id="739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4017960" y="4260960"/>
              <a:ext cx="9684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286160" y="4292640"/>
              <a:ext cx="432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1" name="Прямоугольник 6"/>
          <p:cNvSpPr/>
          <p:nvPr/>
        </p:nvSpPr>
        <p:spPr>
          <a:xfrm>
            <a:off x="819000" y="5157720"/>
            <a:ext cx="7560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уществляется в форме вовлечения учащегося в различные виды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2" name="Стрелка вниз 7"/>
          <p:cNvGrpSpPr/>
          <p:nvPr/>
        </p:nvGrpSpPr>
        <p:grpSpPr>
          <a:xfrm>
            <a:off x="4114800" y="2176560"/>
            <a:ext cx="969840" cy="742680"/>
            <a:chOff x="4114800" y="2176560"/>
            <a:chExt cx="969840" cy="742680"/>
          </a:xfrm>
        </p:grpSpPr>
        <p:pic>
          <p:nvPicPr>
            <p:cNvPr id="743" name="Стрелка вниз 7" descr=""/>
            <p:cNvPicPr/>
            <p:nvPr/>
          </p:nvPicPr>
          <p:blipFill>
            <a:blip r:embed="rId2"/>
            <a:stretch/>
          </p:blipFill>
          <p:spPr>
            <a:xfrm>
              <a:off x="4114800" y="2176560"/>
              <a:ext cx="96984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83000" y="2208240"/>
              <a:ext cx="4320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Прямоугольник 3"/>
          <p:cNvSpPr/>
          <p:nvPr/>
        </p:nvSpPr>
        <p:spPr>
          <a:xfrm>
            <a:off x="358920" y="3500280"/>
            <a:ext cx="8569080" cy="155700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еренос усвоенных приемов с обучающей задачи на нову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иск новых приемов учебной рабо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правление своей 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емы обобщ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Прямоугольник 4"/>
          <p:cNvSpPr/>
          <p:nvPr/>
        </p:nvSpPr>
        <p:spPr>
          <a:xfrm>
            <a:off x="755640" y="16344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Times New Roman"/>
                <a:ea typeface="Times New Roman"/>
              </a:rPr>
              <a:t>Система учебных приемов, способствующих развитию личности учащихс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7" name="Стрелка вправо с вырезом 5"/>
          <p:cNvGrpSpPr/>
          <p:nvPr/>
        </p:nvGrpSpPr>
        <p:grpSpPr>
          <a:xfrm>
            <a:off x="4005360" y="2610000"/>
            <a:ext cx="695160" cy="663480"/>
            <a:chOff x="4005360" y="2610000"/>
            <a:chExt cx="695160" cy="663480"/>
          </a:xfrm>
        </p:grpSpPr>
        <p:pic>
          <p:nvPicPr>
            <p:cNvPr id="748" name="Стрелка вправо с вырезом 5" descr=""/>
            <p:cNvPicPr/>
            <p:nvPr/>
          </p:nvPicPr>
          <p:blipFill>
            <a:blip r:embed="rId1"/>
            <a:stretch/>
          </p:blipFill>
          <p:spPr>
            <a:xfrm>
              <a:off x="4005360" y="2610000"/>
              <a:ext cx="69516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 rot="5400000">
              <a:off x="4211640" y="2770200"/>
              <a:ext cx="2793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ичего так не делает жизнь легко переносимой, как деятельность, направленная к одной це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Tahoma"/>
              </a:rPr>
              <a:t>Фридрих Шилл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ажнейшим фактором любого дела является вера в успех. Без неё успех невозможе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Tahoma"/>
              </a:rPr>
              <a:t>Уильям Джем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4600" y="549360"/>
            <a:ext cx="731376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a62"/>
                </a:solidFill>
                <a:latin typeface="Arial"/>
              </a:rPr>
              <a:t>Обзор понят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TextBox 2"/>
          <p:cNvSpPr/>
          <p:nvPr/>
        </p:nvSpPr>
        <p:spPr>
          <a:xfrm>
            <a:off x="187200" y="1268280"/>
            <a:ext cx="878544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Образовательные технологи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стема деятельности педагога и учащегося, основанная на определённой идее, принципах организации и взаимосвязи целей, содержания и методов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едагогический энциклопедический словарь / гл. ред. Б.М. Бим-Бад. – М.: Большая Российская энциклопедия, 2009. – С.17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Педагогическая технолог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овокупность средств и методов воспроизведения теоретически обоснованных процессов обучения и воспитания, позволяющих успешно реализовать поставленные образовательные ц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едагогический энциклопедический словарь / гл. ред. Б.М. Бим-Бад. – М.: Большая Российская энциклопедия, 2009. – С.19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a62"/>
                </a:solidFill>
                <a:latin typeface="Tahoma"/>
              </a:rPr>
              <a:t>Педагогическая (образовательная) технолог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стема функционирования всех компонентов педагогического процесса, построенная на научной основе, запрограммированная во времени и пространстве и приводящая к намеченным результата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Г.К. Селев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542880" y="4438800"/>
            <a:ext cx="8077320" cy="1962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2"/>
          <a:stretch/>
        </p:blipFill>
        <p:spPr>
          <a:xfrm>
            <a:off x="542880" y="835200"/>
            <a:ext cx="8064720" cy="3608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3"/>
          <a:stretch/>
        </p:blipFill>
        <p:spPr>
          <a:xfrm>
            <a:off x="542880" y="2133720"/>
            <a:ext cx="68947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solidFill>
            <a:srgbClr val="f1e5c6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a62"/>
                </a:solidFill>
                <a:latin typeface="Comic Sans MS"/>
              </a:rPr>
              <a:t>Педагогические технологии как инновационное направление в развитии современной дидактик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9" name="AutoShape 6"/>
          <p:cNvSpPr/>
          <p:nvPr/>
        </p:nvSpPr>
        <p:spPr>
          <a:xfrm flipH="1" rot="10800000">
            <a:off x="250560" y="1557360"/>
            <a:ext cx="1295280" cy="4896000"/>
          </a:xfrm>
          <a:prstGeom prst="rightArrowCallout">
            <a:avLst>
              <a:gd name="adj1" fmla="val 94506"/>
              <a:gd name="adj2" fmla="val 94497"/>
              <a:gd name="adj3" fmla="val 16667"/>
              <a:gd name="adj4" fmla="val 66667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Причины выбо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1692360" y="155736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легко вписываются в учебный процес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1692360" y="227664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пособствуют достижению образовательных цел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692360" y="299736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беспечивают внедрение основных педагогических стратег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692360" y="3718080"/>
            <a:ext cx="7200720" cy="57600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еспечивают интеллектуальное развитие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692360" y="443700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еспечивают доброжелатель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1692360" y="515772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ивлекают внимание к индивидуальности челове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1692360" y="5877000"/>
            <a:ext cx="7200720" cy="576360"/>
          </a:xfrm>
          <a:prstGeom prst="rect">
            <a:avLst/>
          </a:prstGeom>
          <a:solidFill>
            <a:srgbClr val="f1e5c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риентация на развитие творческ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5"/>
          <p:cNvSpPr/>
          <p:nvPr/>
        </p:nvSpPr>
        <p:spPr>
          <a:xfrm>
            <a:off x="1835280" y="189000"/>
            <a:ext cx="58388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AutoShape 7"/>
          <p:cNvSpPr/>
          <p:nvPr/>
        </p:nvSpPr>
        <p:spPr>
          <a:xfrm flipH="1" rot="10800000">
            <a:off x="1041480" y="404640"/>
            <a:ext cx="1584360" cy="6126480"/>
          </a:xfrm>
          <a:prstGeom prst="rightArrowCallout">
            <a:avLst>
              <a:gd name="adj1" fmla="val 96680"/>
              <a:gd name="adj2" fmla="val 96671"/>
              <a:gd name="adj3" fmla="val 16667"/>
              <a:gd name="adj4" fmla="val 66667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Признаки образовательн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AutoShape 8"/>
          <p:cNvSpPr/>
          <p:nvPr/>
        </p:nvSpPr>
        <p:spPr>
          <a:xfrm>
            <a:off x="2997360" y="404640"/>
            <a:ext cx="711000" cy="427320"/>
          </a:xfrm>
          <a:custGeom>
            <a:avLst/>
            <a:gdLst>
              <a:gd name="textAreaLeft" fmla="*/ 0 w 711000"/>
              <a:gd name="textAreaRight" fmla="*/ 711360 w 7110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2975040" y="1046160"/>
            <a:ext cx="712800" cy="4255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AutoShape 11"/>
          <p:cNvSpPr/>
          <p:nvPr/>
        </p:nvSpPr>
        <p:spPr>
          <a:xfrm>
            <a:off x="3708360" y="1052640"/>
            <a:ext cx="2755800" cy="42516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зультатив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12"/>
          <p:cNvSpPr/>
          <p:nvPr/>
        </p:nvSpPr>
        <p:spPr>
          <a:xfrm>
            <a:off x="2975040" y="1758960"/>
            <a:ext cx="712800" cy="4237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AutoShape 13"/>
          <p:cNvSpPr/>
          <p:nvPr/>
        </p:nvSpPr>
        <p:spPr>
          <a:xfrm>
            <a:off x="3708360" y="1773360"/>
            <a:ext cx="275580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коном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14"/>
          <p:cNvSpPr/>
          <p:nvPr/>
        </p:nvSpPr>
        <p:spPr>
          <a:xfrm>
            <a:off x="2975040" y="2470320"/>
            <a:ext cx="712800" cy="42516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AutoShape 15"/>
          <p:cNvSpPr/>
          <p:nvPr/>
        </p:nvSpPr>
        <p:spPr>
          <a:xfrm>
            <a:off x="3687840" y="2470320"/>
            <a:ext cx="2755800" cy="42516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лгоритм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16"/>
          <p:cNvSpPr/>
          <p:nvPr/>
        </p:nvSpPr>
        <p:spPr>
          <a:xfrm>
            <a:off x="2987640" y="3213000"/>
            <a:ext cx="712800" cy="425520"/>
          </a:xfrm>
          <a:custGeom>
            <a:avLst/>
            <a:gdLst>
              <a:gd name="textAreaLeft" fmla="*/ 0 w 712800"/>
              <a:gd name="textAreaRight" fmla="*/ 713160 w 7128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17"/>
          <p:cNvSpPr/>
          <p:nvPr/>
        </p:nvSpPr>
        <p:spPr>
          <a:xfrm>
            <a:off x="3687840" y="3182760"/>
            <a:ext cx="2755800" cy="4255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ект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18"/>
          <p:cNvSpPr/>
          <p:nvPr/>
        </p:nvSpPr>
        <p:spPr>
          <a:xfrm>
            <a:off x="2973240" y="3894120"/>
            <a:ext cx="714600" cy="4255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19"/>
          <p:cNvSpPr/>
          <p:nvPr/>
        </p:nvSpPr>
        <p:spPr>
          <a:xfrm>
            <a:off x="3708360" y="3860640"/>
            <a:ext cx="2735280" cy="4255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Целост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20"/>
          <p:cNvSpPr/>
          <p:nvPr/>
        </p:nvSpPr>
        <p:spPr>
          <a:xfrm>
            <a:off x="2973240" y="4606920"/>
            <a:ext cx="714600" cy="4237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21"/>
          <p:cNvSpPr/>
          <p:nvPr/>
        </p:nvSpPr>
        <p:spPr>
          <a:xfrm>
            <a:off x="3687840" y="4606920"/>
            <a:ext cx="275580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AutoShape 22"/>
          <p:cNvSpPr/>
          <p:nvPr/>
        </p:nvSpPr>
        <p:spPr>
          <a:xfrm>
            <a:off x="2973240" y="5321160"/>
            <a:ext cx="714600" cy="424080"/>
          </a:xfrm>
          <a:custGeom>
            <a:avLst/>
            <a:gdLst>
              <a:gd name="textAreaLeft" fmla="*/ 0 w 714600"/>
              <a:gd name="textAreaRight" fmla="*/ 714960 w 7146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AutoShape 23"/>
          <p:cNvSpPr/>
          <p:nvPr/>
        </p:nvSpPr>
        <p:spPr>
          <a:xfrm>
            <a:off x="3687840" y="5321160"/>
            <a:ext cx="2755800" cy="42408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рректиру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AutoShape 24"/>
          <p:cNvSpPr/>
          <p:nvPr/>
        </p:nvSpPr>
        <p:spPr>
          <a:xfrm>
            <a:off x="2973240" y="6032520"/>
            <a:ext cx="714600" cy="423720"/>
          </a:xfrm>
          <a:custGeom>
            <a:avLst/>
            <a:gdLst>
              <a:gd name="textAreaLeft" fmla="*/ 0 w 714600"/>
              <a:gd name="textAreaRight" fmla="*/ 714960 w 7146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AutoShape 25"/>
          <p:cNvSpPr/>
          <p:nvPr/>
        </p:nvSpPr>
        <p:spPr>
          <a:xfrm>
            <a:off x="3687840" y="6032520"/>
            <a:ext cx="2828880" cy="4237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изуал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26"/>
          <p:cNvSpPr/>
          <p:nvPr/>
        </p:nvSpPr>
        <p:spPr>
          <a:xfrm>
            <a:off x="6516720" y="2492280"/>
            <a:ext cx="995400" cy="2563920"/>
          </a:xfrm>
          <a:custGeom>
            <a:avLst/>
            <a:gdLst>
              <a:gd name="textAreaLeft" fmla="*/ 0 w 995400"/>
              <a:gd name="textAreaRight" fmla="*/ 359280 w 995400"/>
              <a:gd name="textAreaTop" fmla="*/ 66600 h 2563920"/>
              <a:gd name="textAreaBottom" fmla="*/ 2497320 h 25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01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tangle 27"/>
          <p:cNvSpPr/>
          <p:nvPr/>
        </p:nvSpPr>
        <p:spPr>
          <a:xfrm rot="10800000">
            <a:off x="7524360" y="1334880"/>
            <a:ext cx="934920" cy="4485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a62"/>
                </a:solidFill>
                <a:latin typeface="Comic Sans MS"/>
              </a:rPr>
              <a:t>Воспроизводи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AutoShape 28"/>
          <p:cNvSpPr/>
          <p:nvPr/>
        </p:nvSpPr>
        <p:spPr>
          <a:xfrm>
            <a:off x="3708360" y="404640"/>
            <a:ext cx="2755800" cy="427320"/>
          </a:xfrm>
          <a:prstGeom prst="roundRect">
            <a:avLst>
              <a:gd name="adj" fmla="val 16667"/>
            </a:avLst>
          </a:prstGeom>
          <a:solidFill>
            <a:srgbClr val="6d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Целеполаг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оугольник 3"/>
          <p:cNvSpPr/>
          <p:nvPr/>
        </p:nvSpPr>
        <p:spPr>
          <a:xfrm>
            <a:off x="1708560" y="271440"/>
            <a:ext cx="60649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3a00"/>
                </a:solidFill>
                <a:latin typeface="Times New Roman"/>
                <a:ea typeface="Times New Roman"/>
              </a:rPr>
              <a:t>Развивающее обу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Горизонтальный свиток 5"/>
          <p:cNvSpPr/>
          <p:nvPr/>
        </p:nvSpPr>
        <p:spPr>
          <a:xfrm>
            <a:off x="735120" y="1557360"/>
            <a:ext cx="7777080" cy="18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edeaa"/>
              </a:gs>
              <a:gs pos="100000">
                <a:srgbClr val="f6f6e8"/>
              </a:gs>
            </a:gsLst>
            <a:lin ang="16200000"/>
          </a:gradFill>
          <a:ln w="9360">
            <a:solidFill>
              <a:srgbClr val="8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вающее обучение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– это обучение, содержание, методы и формы организации которого основываются на закономерностях развития реб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Прямоугольник 6"/>
          <p:cNvSpPr/>
          <p:nvPr/>
        </p:nvSpPr>
        <p:spPr>
          <a:xfrm>
            <a:off x="4446720" y="4295880"/>
            <a:ext cx="4429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Times New Roman"/>
                <a:ea typeface="Times New Roman"/>
              </a:rPr>
              <a:t>самостоятельный субъект, взаимодействующий с окружающей сред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Овал 7"/>
          <p:cNvSpPr/>
          <p:nvPr/>
        </p:nvSpPr>
        <p:spPr>
          <a:xfrm>
            <a:off x="252360" y="3933720"/>
            <a:ext cx="3168720" cy="1798920"/>
          </a:xfrm>
          <a:prstGeom prst="ellipse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3b06"/>
                </a:solidFill>
                <a:latin typeface="Times New Roman"/>
                <a:ea typeface="Times New Roman"/>
              </a:rPr>
              <a:t>Учащий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3" name="Штриховая стрелка вправо 8"/>
          <p:cNvGrpSpPr/>
          <p:nvPr/>
        </p:nvGrpSpPr>
        <p:grpSpPr>
          <a:xfrm>
            <a:off x="3517920" y="4376880"/>
            <a:ext cx="901800" cy="615960"/>
            <a:chOff x="3517920" y="4376880"/>
            <a:chExt cx="901800" cy="615960"/>
          </a:xfrm>
        </p:grpSpPr>
        <p:pic>
          <p:nvPicPr>
            <p:cNvPr id="694" name="Штриховая стрелка вправо 8" descr=""/>
            <p:cNvPicPr/>
            <p:nvPr/>
          </p:nvPicPr>
          <p:blipFill>
            <a:blip r:embed="rId1"/>
            <a:stretch/>
          </p:blipFill>
          <p:spPr>
            <a:xfrm>
              <a:off x="3517920" y="4376880"/>
              <a:ext cx="90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3652920" y="4535640"/>
              <a:ext cx="5871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Прямоугольник 3"/>
          <p:cNvSpPr/>
          <p:nvPr/>
        </p:nvSpPr>
        <p:spPr>
          <a:xfrm>
            <a:off x="771480" y="3141720"/>
            <a:ext cx="7777080" cy="2288520"/>
          </a:xfrm>
          <a:prstGeom prst="rect">
            <a:avLst/>
          </a:prstGeom>
          <a:gradFill rotWithShape="0">
            <a:gsLst>
              <a:gs pos="0">
                <a:srgbClr val="d7d7ae"/>
              </a:gs>
              <a:gs pos="100000">
                <a:srgbClr val="f4f4e9"/>
              </a:gs>
            </a:gsLst>
            <a:lin ang="16200000"/>
          </a:gradFill>
          <a:ln w="9360">
            <a:solidFill>
              <a:srgbClr val="737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ведущей роли теоретических зн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бучения на высоком уровне труд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бучения быстрым темп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осознания школьниками процесса 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нцип целенаправленной и систематической работы над общим развитием всех учащихс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Прямоугольник 4"/>
          <p:cNvSpPr/>
          <p:nvPr/>
        </p:nvSpPr>
        <p:spPr>
          <a:xfrm>
            <a:off x="2124000" y="260280"/>
            <a:ext cx="5315040" cy="210492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ринципы развивающего обуче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8" name="Стрелка вниз 5"/>
          <p:cNvGrpSpPr/>
          <p:nvPr/>
        </p:nvGrpSpPr>
        <p:grpSpPr>
          <a:xfrm>
            <a:off x="4181400" y="2494080"/>
            <a:ext cx="682560" cy="583920"/>
            <a:chOff x="4181400" y="2494080"/>
            <a:chExt cx="682560" cy="583920"/>
          </a:xfrm>
        </p:grpSpPr>
        <p:pic>
          <p:nvPicPr>
            <p:cNvPr id="699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4181400" y="2494080"/>
              <a:ext cx="6825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379760" y="2522520"/>
              <a:ext cx="287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Прямоугольник 3"/>
          <p:cNvSpPr/>
          <p:nvPr/>
        </p:nvSpPr>
        <p:spPr>
          <a:xfrm>
            <a:off x="468360" y="204840"/>
            <a:ext cx="828036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3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Классификация технологий развивающего обуч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Прямоугольник 4"/>
          <p:cNvSpPr/>
          <p:nvPr/>
        </p:nvSpPr>
        <p:spPr>
          <a:xfrm>
            <a:off x="2152440" y="2060640"/>
            <a:ext cx="5304240" cy="459720"/>
          </a:xfrm>
          <a:prstGeom prst="rect">
            <a:avLst/>
          </a:prstGeom>
          <a:gradFill rotWithShape="0">
            <a:gsLst>
              <a:gs pos="0">
                <a:srgbClr val="f3ddcd"/>
              </a:gs>
              <a:gs pos="100000">
                <a:srgbClr val="fcf5f1"/>
              </a:gs>
            </a:gsLst>
            <a:lin ang="16200000"/>
          </a:gradFill>
          <a:ln w="9360">
            <a:solidFill>
              <a:srgbClr val="c6b4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c3b06"/>
                </a:solidFill>
                <a:uFillTx/>
                <a:latin typeface="Times New Roman"/>
                <a:ea typeface="Times New Roman"/>
              </a:rPr>
              <a:t>1. Опора на познавательный интер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Прямоугольник 5"/>
          <p:cNvSpPr/>
          <p:nvPr/>
        </p:nvSpPr>
        <p:spPr>
          <a:xfrm>
            <a:off x="239760" y="4027320"/>
            <a:ext cx="41958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ab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Л.В. Зан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система интенсивного всестороннего развития для начальной шко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4" name="Стрелка вправо с вырезом 7"/>
          <p:cNvGrpSpPr/>
          <p:nvPr/>
        </p:nvGrpSpPr>
        <p:grpSpPr>
          <a:xfrm>
            <a:off x="2146320" y="2651040"/>
            <a:ext cx="1139760" cy="1330560"/>
            <a:chOff x="2146320" y="2651040"/>
            <a:chExt cx="1139760" cy="1330560"/>
          </a:xfrm>
        </p:grpSpPr>
        <p:pic>
          <p:nvPicPr>
            <p:cNvPr id="705" name="Стрелка вправо с вырезом 7" descr=""/>
            <p:cNvPicPr/>
            <p:nvPr/>
          </p:nvPicPr>
          <p:blipFill>
            <a:blip r:embed="rId1"/>
            <a:stretch/>
          </p:blipFill>
          <p:spPr>
            <a:xfrm>
              <a:off x="2146320" y="2651040"/>
              <a:ext cx="113976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 rot="7458600">
              <a:off x="2229480" y="3188520"/>
              <a:ext cx="9730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7" name="Стрелка вправо с вырезом 8"/>
          <p:cNvGrpSpPr/>
          <p:nvPr/>
        </p:nvGrpSpPr>
        <p:grpSpPr>
          <a:xfrm>
            <a:off x="6351480" y="2627280"/>
            <a:ext cx="1165320" cy="1414440"/>
            <a:chOff x="6351480" y="2627280"/>
            <a:chExt cx="1165320" cy="1414440"/>
          </a:xfrm>
        </p:grpSpPr>
        <p:pic>
          <p:nvPicPr>
            <p:cNvPr id="708" name="Стрелка вправо с вырезом 8" descr=""/>
            <p:cNvPicPr/>
            <p:nvPr/>
          </p:nvPicPr>
          <p:blipFill>
            <a:blip r:embed="rId2"/>
            <a:stretch/>
          </p:blipFill>
          <p:spPr>
            <a:xfrm>
              <a:off x="6351480" y="2627280"/>
              <a:ext cx="1165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 rot="3448800">
              <a:off x="6398280" y="3210480"/>
              <a:ext cx="1066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0" name="Прямоугольник 9"/>
          <p:cNvSpPr/>
          <p:nvPr/>
        </p:nvSpPr>
        <p:spPr>
          <a:xfrm>
            <a:off x="4678200" y="4189320"/>
            <a:ext cx="439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ab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Д.Б. Эльконин и В.В. Давыд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развитие интеллектуальных способностей ребё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57:18Z</dcterms:created>
  <dc:creator>Катюшка</dc:creator>
  <dc:description/>
  <dc:language>en-US</dc:language>
  <cp:lastModifiedBy>Кристина</cp:lastModifiedBy>
  <dcterms:modified xsi:type="dcterms:W3CDTF">2021-04-09T08:57:09Z</dcterms:modified>
  <cp:revision>17</cp:revision>
  <dc:subject/>
  <dc:title>Современные образовательные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130000000000010243100207f6000400038000</vt:lpwstr>
  </property>
  <property fmtid="{D5CDD505-2E9C-101B-9397-08002B2CF9AE}" pid="3" name="Version">
    <vt:r8>8</vt:r8>
  </property>
</Properties>
</file>