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E04-5921-4A9D-A34E-D061C061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7CC-571B-4C99-816C-12E60721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B4F-BC5C-4BD3-B817-C9B2CA0B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FD2-E9AA-4094-BD5D-8D7F4018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101-EAB9-4C1C-80BD-08249A0D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648-EF4C-4E5D-A3EC-876A6831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2F1-F247-4508-A3D4-58D78EDE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CEB-3460-47F1-B475-417DFD8E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710-F83E-46D2-9855-5470C7CB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26B-3459-4E0F-B6C7-E7F1406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18D-DBE1-4A45-A183-737B69C6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A61-06EE-4B1A-915A-727163E4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6A1C5-7765-4A2D-B35C-870E4294CB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158480"/>
            <a:ext cx="828036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сическая тем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«Зимующие птицы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глядный демонстрационный материа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439272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ель: учитель-дефектолог Третьякова Е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ДОУ ЦРР д/с 87 г. Калинин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2193840" y="2292480"/>
            <a:ext cx="47563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0256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896472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90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мушка с пт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209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0T17:20:48Z</dcterms:created>
  <dc:creator>qwerty</dc:creator>
  <dc:description/>
  <dc:language>en-US</dc:language>
  <cp:lastModifiedBy>Осминожки</cp:lastModifiedBy>
  <dcterms:modified xsi:type="dcterms:W3CDTF">2023-01-23T09:42:59Z</dcterms:modified>
  <cp:revision>7</cp:revision>
  <dc:subject/>
  <dc:title>Зимующие птицы</dc:title>
</cp:coreProperties>
</file>