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664-639E-4808-BAF2-0B137902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404-A88E-4A5F-8212-2322D7FC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DFD-E854-4E0E-A6C5-19F32031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430-8B18-48BA-AFDB-88109210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68D-5A99-470D-AA5E-44518E25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DD1-B926-46B4-A337-B95D9FEF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3B4-C689-41FB-8DF1-B2D0D87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6BA-9F65-488C-86FA-78D1403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BA1-23E0-4766-B164-8BD45C1C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18A-AC4B-455F-8739-08355BE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821-5F87-4FA8-B630-293EEC2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EF7-D630-4081-A14B-8E3CF46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A0975-646C-40A8-BD1A-960665456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158480"/>
            <a:ext cx="828036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сическая тем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«Зимующие птицы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глядный демонстрационный материа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3280" y="439272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ель: учитель-дефектолог Третьякова Е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ДОУ ЦРР д/с 87 г. Калинин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2193840" y="2292480"/>
            <a:ext cx="47563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0256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896472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90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мушка с пт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209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0T17:20:48Z</dcterms:created>
  <dc:creator>qwerty</dc:creator>
  <dc:description/>
  <dc:language>en-US</dc:language>
  <cp:lastModifiedBy>Осминожки</cp:lastModifiedBy>
  <dcterms:modified xsi:type="dcterms:W3CDTF">2023-01-23T09:42:59Z</dcterms:modified>
  <cp:revision>7</cp:revision>
  <dc:subject/>
  <dc:title>Зимующие птицы</dc:title>
</cp:coreProperties>
</file>