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9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7.png" ContentType="image/png"/>
  <Override PartName="/ppt/media/image8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787-25C6-45CC-8B86-29FB255A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755-6B86-4546-99DF-B2B2EA57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089-6B13-4538-AF35-C3EE1D20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42B-01C3-416E-A92E-2D7BF0DF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6C6-57E0-4DF2-B611-C1ACB88B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ACC-7BF0-458D-BF6A-4B9FCC91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288-1EDD-4A75-8017-D4468B5D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B22-E1DA-42DB-9C1E-6475EB87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BC9-6058-40AC-B410-6F8B2718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253-9D11-4309-8CE6-EE68664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D73-76D4-462E-9B14-38190E3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38B-8BB9-477C-A108-BB33AFB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660-AAD6-4F0A-9970-DDEC7F325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280" y="1557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Times New Roman"/>
              </a:rPr>
              <a:t>«Львёнок и Черепа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Times New Roman"/>
              </a:rPr>
              <a:t>«Кот Леополь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9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e6f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r5-1"/>
          <p:cNvPicPr/>
          <p:nvPr/>
        </p:nvPicPr>
        <p:blipFill>
          <a:blip r:embed="rId6"/>
          <a:stretch/>
        </p:blipFill>
        <p:spPr>
          <a:xfrm>
            <a:off x="539640" y="3068640"/>
            <a:ext cx="3527640" cy="264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3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9000"/>
                            </p:stCondLst>
                            <p:childTnLst>
                              <p:par>
                                <p:cTn id="3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39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0"/>
                            </p:stCondLst>
                            <p:childTnLst>
                              <p:par>
                                <p:cTn id="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000"/>
                            </p:stCondLst>
                            <p:childTnLst>
                              <p:par>
                                <p:cTn id="6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9000"/>
                            </p:stCondLst>
                            <p:childTnLst>
                              <p:par>
                                <p:cTn id="6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20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4000"/>
                            </p:stCondLst>
                            <p:childTnLst>
                              <p:par>
                                <p:cTn id="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9000"/>
                            </p:stCondLst>
                            <p:childTnLst>
                              <p:par>
                                <p:cTn id="8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8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e8f8"/>
            </a:gs>
            <a:gs pos="50000">
              <a:srgbClr val="ffffff"/>
            </a:gs>
            <a:gs pos="100000">
              <a:srgbClr val="4ee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37"/>
          <p:cNvSpPr/>
          <p:nvPr/>
        </p:nvSpPr>
        <p:spPr>
          <a:xfrm>
            <a:off x="-36360" y="4869000"/>
            <a:ext cx="9196200" cy="2287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dd0fc32575ct"/>
          <p:cNvPicPr/>
          <p:nvPr/>
        </p:nvPicPr>
        <p:blipFill>
          <a:blip r:embed="rId2"/>
          <a:stretch/>
        </p:blipFill>
        <p:spPr>
          <a:xfrm>
            <a:off x="2843280" y="1916280"/>
            <a:ext cx="3217680" cy="45370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bbe0e3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bbe0e3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/>
          <p:cNvSpPr/>
          <p:nvPr/>
        </p:nvSpPr>
        <p:spPr>
          <a:xfrm rot="11193600">
            <a:off x="4067280" y="59558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b13"/>
          <p:cNvPicPr/>
          <p:nvPr/>
        </p:nvPicPr>
        <p:blipFill>
          <a:blip r:embed="rId5"/>
          <a:stretch/>
        </p:blipFill>
        <p:spPr>
          <a:xfrm>
            <a:off x="2700360" y="501336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0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1"/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9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2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9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6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7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6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7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8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24:58Z</dcterms:created>
  <dc:creator>www.PHILka.RU</dc:creator>
  <dc:description/>
  <dc:language>en-US</dc:language>
  <cp:lastModifiedBy>ASUS</cp:lastModifiedBy>
  <dcterms:modified xsi:type="dcterms:W3CDTF">2017-09-29T07:49:56Z</dcterms:modified>
  <cp:revision>93</cp:revision>
  <dc:subject/>
  <dc:title>Слайд 1</dc:title>
</cp:coreProperties>
</file>