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9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7.png" ContentType="image/png"/>
  <Override PartName="/ppt/media/image8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14B-A1C8-4411-87FB-EE04BABD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A60-796E-4214-8689-01DF77B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69F-A188-4D92-8521-A3C3EA73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68-8743-458D-8177-0E1FC4B6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1B1-34E9-4F23-88D0-B14653C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0FC-3A77-43A3-8968-79BC4EE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034-34AB-4E35-88E2-A8FE746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F86-ED07-440D-A47A-B37D2E80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FF6-7A3D-47E0-A9FE-AB3CF584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FF0-DE55-43BF-A6E2-42C93CC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D37-10DD-497F-A05D-C24B13F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6D4-5AED-45AB-B425-AF92157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74D5-F137-4735-B9F9-2458980CE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557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Times New Roman"/>
              </a:rPr>
              <a:t>«Львёнок и Черепа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Times New Roman"/>
              </a:rPr>
              <a:t>«Кот Леополь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e6f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r5-1"/>
          <p:cNvPicPr/>
          <p:nvPr/>
        </p:nvPicPr>
        <p:blipFill>
          <a:blip r:embed="rId6"/>
          <a:stretch/>
        </p:blipFill>
        <p:spPr>
          <a:xfrm>
            <a:off x="539640" y="3068640"/>
            <a:ext cx="352764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000"/>
                            </p:stCondLst>
                            <p:childTnLst>
                              <p:par>
                                <p:cTn id="3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39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000"/>
                            </p:stCondLst>
                            <p:childTnLst>
                              <p:par>
                                <p:cTn id="6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9000"/>
                            </p:stCondLst>
                            <p:childTnLst>
                              <p:par>
                                <p:cTn id="6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20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9000"/>
                            </p:stCondLst>
                            <p:childTnLst>
                              <p:par>
                                <p:cTn id="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e8f8"/>
            </a:gs>
            <a:gs pos="50000">
              <a:srgbClr val="ffffff"/>
            </a:gs>
            <a:gs pos="100000">
              <a:srgbClr val="4ee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37"/>
          <p:cNvSpPr/>
          <p:nvPr/>
        </p:nvSpPr>
        <p:spPr>
          <a:xfrm>
            <a:off x="-36360" y="4869000"/>
            <a:ext cx="9196200" cy="2287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dd0fc32575ct"/>
          <p:cNvPicPr/>
          <p:nvPr/>
        </p:nvPicPr>
        <p:blipFill>
          <a:blip r:embed="rId2"/>
          <a:stretch/>
        </p:blipFill>
        <p:spPr>
          <a:xfrm>
            <a:off x="2843280" y="1916280"/>
            <a:ext cx="3217680" cy="45370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bbe0e3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bbe0e3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 rot="11193600">
            <a:off x="4067280" y="59558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b13"/>
          <p:cNvPicPr/>
          <p:nvPr/>
        </p:nvPicPr>
        <p:blipFill>
          <a:blip r:embed="rId5"/>
          <a:stretch/>
        </p:blipFill>
        <p:spPr>
          <a:xfrm>
            <a:off x="2700360" y="501336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0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1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2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9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7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6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4:58Z</dcterms:created>
  <dc:creator>www.PHILka.RU</dc:creator>
  <dc:description/>
  <dc:language>en-US</dc:language>
  <cp:lastModifiedBy>ASUS</cp:lastModifiedBy>
  <dcterms:modified xsi:type="dcterms:W3CDTF">2017-09-29T07:49:56Z</dcterms:modified>
  <cp:revision>93</cp:revision>
  <dc:subject/>
  <dc:title>Слайд 1</dc:title>
</cp:coreProperties>
</file>