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B33-AA44-48E2-BD0F-1E301EF5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F10-40CF-4B0D-B349-D6E1C55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A16-425E-4F29-87A5-F5B06E37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32F-0452-44A9-AE6E-6EAEC7B2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281-229E-44E4-8CA4-AB005F9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68C-9631-4CCD-B208-93B584B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BEE-B006-4D14-93EE-D6D133A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1E4-3010-4250-A765-E9DDF769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005-7D10-4B8B-A653-8BBD7C7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DA2-5550-4A10-ABC4-FA34FD4E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49-2162-4AE1-8400-A75DCE6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838-7D82-481C-8D13-3838F9A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F37-B58D-416D-BC4A-41FBD435C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80880" y="533520"/>
            <a:ext cx="12193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523880" y="533520"/>
            <a:ext cx="11430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666880" y="228600"/>
            <a:ext cx="763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743200" y="533520"/>
            <a:ext cx="121932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962520" y="533520"/>
            <a:ext cx="11430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7" descr="92c3957f6559f38ee90eb6aa594aaa5f.jpg"/>
          <p:cNvPicPr/>
          <p:nvPr/>
        </p:nvPicPr>
        <p:blipFill>
          <a:blip r:embed="rId2"/>
          <a:stretch/>
        </p:blipFill>
        <p:spPr>
          <a:xfrm>
            <a:off x="228600" y="4038480"/>
            <a:ext cx="317016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8" descr="23-34-768x576.jpg"/>
          <p:cNvPicPr/>
          <p:nvPr/>
        </p:nvPicPr>
        <p:blipFill>
          <a:blip r:embed="rId3"/>
          <a:stretch/>
        </p:blipFill>
        <p:spPr>
          <a:xfrm>
            <a:off x="6858000" y="3352680"/>
            <a:ext cx="1828800" cy="3224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9" descr="figurnyj-dvuxstoronnij-element-teremok-dlya-oformleniya-detskoj-ploshhadki-ili-gruppy-580x700.jpg"/>
          <p:cNvPicPr/>
          <p:nvPr/>
        </p:nvPicPr>
        <p:blipFill>
          <a:blip r:embed="rId4"/>
          <a:stretch/>
        </p:blipFill>
        <p:spPr>
          <a:xfrm>
            <a:off x="3581280" y="2438280"/>
            <a:ext cx="2208240" cy="2662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0" descr="img_56cad7b0a6992.jpg"/>
          <p:cNvPicPr/>
          <p:nvPr/>
        </p:nvPicPr>
        <p:blipFill>
          <a:blip r:embed="rId5"/>
          <a:stretch/>
        </p:blipFill>
        <p:spPr>
          <a:xfrm>
            <a:off x="6248520" y="304920"/>
            <a:ext cx="2287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Яйца куриные.jpg"/>
          <p:cNvPicPr/>
          <p:nvPr/>
        </p:nvPicPr>
        <p:blipFill>
          <a:blip r:embed="rId3"/>
          <a:stretch/>
        </p:blipFill>
        <p:spPr>
          <a:xfrm>
            <a:off x="4191120" y="3581280"/>
            <a:ext cx="4813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1614555539_58-p-morkov-kartinka-na-belom-fone-65.jpg"/>
          <p:cNvPicPr/>
          <p:nvPr/>
        </p:nvPicPr>
        <p:blipFill>
          <a:blip r:embed="rId3"/>
          <a:stretch/>
        </p:blipFill>
        <p:spPr>
          <a:xfrm>
            <a:off x="3962520" y="3529080"/>
            <a:ext cx="4927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0e69e80ae4b0a253056ef1a7cc00ef35.jpg"/>
          <p:cNvPicPr/>
          <p:nvPr/>
        </p:nvPicPr>
        <p:blipFill>
          <a:blip r:embed="rId3"/>
          <a:stretch/>
        </p:blipFill>
        <p:spPr>
          <a:xfrm>
            <a:off x="4267080" y="3276720"/>
            <a:ext cx="47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hq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1654652263_55-kartinkin-net-p-kartinki-na-temu-skazki-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7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1613639110_24-p-fon-dlya-prezentatsii-kniga-raskritaya-30.jpg"/>
          <p:cNvPicPr/>
          <p:nvPr/>
        </p:nvPicPr>
        <p:blipFill>
          <a:blip r:embed="rId2"/>
          <a:stretch/>
        </p:blipFill>
        <p:spPr>
          <a:xfrm>
            <a:off x="2209680" y="457200"/>
            <a:ext cx="472608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1600200" y="419112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ите что бы я вернула Ва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да выполните сложно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вы должны превратиться в ак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быграть героев из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х вы увидите, на страницах волшебной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M-TB_SwansInFlightmm"/>
          <p:cNvPicPr/>
          <p:nvPr/>
        </p:nvPicPr>
        <p:blipFill>
          <a:blip r:embed="rId2"/>
          <a:stretch/>
        </p:blipFill>
        <p:spPr>
          <a:xfrm rot="21154200">
            <a:off x="5444640" y="221760"/>
            <a:ext cx="3581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hrabryy-petush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i-91-2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tri-medvedya-russkaya-narodnaya-skazka.jpg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zayats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Volk-i-semero-kozlj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447920" y="1752480"/>
            <a:ext cx="632448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Рисунок 5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6" descr=""/>
          <p:cNvPicPr/>
          <p:nvPr/>
        </p:nvPicPr>
        <p:blipFill>
          <a:blip r:embed="rId2"/>
          <a:stretch/>
        </p:blipFill>
        <p:spPr>
          <a:xfrm>
            <a:off x="1268280" y="2236680"/>
            <a:ext cx="6912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004_GUSI---LEBE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6" descr="risunok-k-skazke-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f77b260833938b3713f544ab937e0e88.jpg"/>
          <p:cNvPicPr/>
          <p:nvPr/>
        </p:nvPicPr>
        <p:blipFill>
          <a:blip r:embed="rId3"/>
          <a:stretch/>
        </p:blipFill>
        <p:spPr>
          <a:xfrm>
            <a:off x="4419720" y="3124080"/>
            <a:ext cx="413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1645486213_6-kartinkin-net-p-kapusta-kartinki-8.jpg"/>
          <p:cNvPicPr/>
          <p:nvPr/>
        </p:nvPicPr>
        <p:blipFill>
          <a:blip r:embed="rId3"/>
          <a:stretch/>
        </p:blipFill>
        <p:spPr>
          <a:xfrm>
            <a:off x="4419720" y="3048120"/>
            <a:ext cx="4267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stavrida-1000x1000.jpg"/>
          <p:cNvPicPr/>
          <p:nvPr/>
        </p:nvPicPr>
        <p:blipFill>
          <a:blip r:embed="rId3"/>
          <a:stretch/>
        </p:blipFill>
        <p:spPr>
          <a:xfrm>
            <a:off x="4800600" y="3124080"/>
            <a:ext cx="4019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1660702983_1-flomaster-club-p-myaso-kartinki-dlya-detei-krasivo-1.jpg"/>
          <p:cNvPicPr/>
          <p:nvPr/>
        </p:nvPicPr>
        <p:blipFill>
          <a:blip r:embed="rId3"/>
          <a:stretch/>
        </p:blipFill>
        <p:spPr>
          <a:xfrm>
            <a:off x="3886200" y="3581280"/>
            <a:ext cx="4807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233870707gribnoe.jpg"/>
          <p:cNvPicPr/>
          <p:nvPr/>
        </p:nvPicPr>
        <p:blipFill>
          <a:blip r:embed="rId3"/>
          <a:stretch/>
        </p:blipFill>
        <p:spPr>
          <a:xfrm>
            <a:off x="4648320" y="2971800"/>
            <a:ext cx="4019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Foto-4936[1].jpg"/>
          <p:cNvPicPr/>
          <p:nvPr/>
        </p:nvPicPr>
        <p:blipFill>
          <a:blip r:embed="rId3"/>
          <a:stretch/>
        </p:blipFill>
        <p:spPr>
          <a:xfrm>
            <a:off x="4114800" y="3276720"/>
            <a:ext cx="48895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1-25T11:39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