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97B-1505-44A0-A768-49FBEF2B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8C2-C276-4BE2-A300-BA65261F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F17-C26A-4F1F-B1B9-34DDE5F7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259-C053-430B-B9E9-7D49E2D1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3E3-C9D8-441F-A057-B50EA3A2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0BE-4001-4CD2-8FD2-CD0D253F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647-006D-445D-94CD-1242E34A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E92-E1A9-46F0-ABAF-A55A1B1F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20C-A77A-4FC1-9FED-873BE832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551-2B53-4915-B35D-2C17162D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8A7-DB0A-41DC-9642-31B365CE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6C6-F218-4E4D-9A32-CABE1C10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6603-5CA4-438A-9400-68893FBAA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80880" y="533520"/>
            <a:ext cx="121932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523880" y="533520"/>
            <a:ext cx="11430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666880" y="228600"/>
            <a:ext cx="7632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2743200" y="533520"/>
            <a:ext cx="121932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962520" y="533520"/>
            <a:ext cx="11430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7" descr="92c3957f6559f38ee90eb6aa594aaa5f.jpg"/>
          <p:cNvPicPr/>
          <p:nvPr/>
        </p:nvPicPr>
        <p:blipFill>
          <a:blip r:embed="rId2"/>
          <a:stretch/>
        </p:blipFill>
        <p:spPr>
          <a:xfrm>
            <a:off x="228600" y="4038480"/>
            <a:ext cx="3170160" cy="22100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8" descr="23-34-768x576.jpg"/>
          <p:cNvPicPr/>
          <p:nvPr/>
        </p:nvPicPr>
        <p:blipFill>
          <a:blip r:embed="rId3"/>
          <a:stretch/>
        </p:blipFill>
        <p:spPr>
          <a:xfrm>
            <a:off x="6858000" y="3352680"/>
            <a:ext cx="1828800" cy="32241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9" descr="figurnyj-dvuxstoronnij-element-teremok-dlya-oformleniya-detskoj-ploshhadki-ili-gruppy-580x700.jpg"/>
          <p:cNvPicPr/>
          <p:nvPr/>
        </p:nvPicPr>
        <p:blipFill>
          <a:blip r:embed="rId4"/>
          <a:stretch/>
        </p:blipFill>
        <p:spPr>
          <a:xfrm>
            <a:off x="3581280" y="2438280"/>
            <a:ext cx="2208240" cy="2662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0" descr="img_56cad7b0a6992.jpg"/>
          <p:cNvPicPr/>
          <p:nvPr/>
        </p:nvPicPr>
        <p:blipFill>
          <a:blip r:embed="rId5"/>
          <a:stretch/>
        </p:blipFill>
        <p:spPr>
          <a:xfrm>
            <a:off x="6248520" y="304920"/>
            <a:ext cx="2287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Яйца куриные.jpg"/>
          <p:cNvPicPr/>
          <p:nvPr/>
        </p:nvPicPr>
        <p:blipFill>
          <a:blip r:embed="rId3"/>
          <a:stretch/>
        </p:blipFill>
        <p:spPr>
          <a:xfrm>
            <a:off x="4191120" y="3581280"/>
            <a:ext cx="481320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1614555539_58-p-morkov-kartinka-na-belom-fone-65.jpg"/>
          <p:cNvPicPr/>
          <p:nvPr/>
        </p:nvPicPr>
        <p:blipFill>
          <a:blip r:embed="rId3"/>
          <a:stretch/>
        </p:blipFill>
        <p:spPr>
          <a:xfrm>
            <a:off x="3962520" y="3529080"/>
            <a:ext cx="49273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0e69e80ae4b0a253056ef1a7cc00ef35.jpg"/>
          <p:cNvPicPr/>
          <p:nvPr/>
        </p:nvPicPr>
        <p:blipFill>
          <a:blip r:embed="rId3"/>
          <a:stretch/>
        </p:blipFill>
        <p:spPr>
          <a:xfrm>
            <a:off x="4267080" y="3276720"/>
            <a:ext cx="4705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c38f9083-2a08-5626-8128-f7c5b66ba6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4" descr="c38f9083-2a08-5626-8128-f7c5b66ba6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hq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c38f9083-2a08-5626-8128-f7c5b66ba6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1654652263_55-kartinkin-net-p-kartinki-na-temu-skazki-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7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1613639110_24-p-fon-dlya-prezentatsii-kniga-raskritaya-30.jpg"/>
          <p:cNvPicPr/>
          <p:nvPr/>
        </p:nvPicPr>
        <p:blipFill>
          <a:blip r:embed="rId2"/>
          <a:stretch/>
        </p:blipFill>
        <p:spPr>
          <a:xfrm>
            <a:off x="2209680" y="457200"/>
            <a:ext cx="472608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1600200" y="419112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тите что бы я вернула Ва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да выполните сложно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йчас вы должны превратиться в ак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быграть героев из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х вы увидите, на страницах волшебной кни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c38f9083-2a08-5626-8128-f7c5b66ba613.jpg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MM-TB_SwansInFlightmm"/>
          <p:cNvPicPr/>
          <p:nvPr/>
        </p:nvPicPr>
        <p:blipFill>
          <a:blip r:embed="rId2"/>
          <a:stretch/>
        </p:blipFill>
        <p:spPr>
          <a:xfrm rot="21154200">
            <a:off x="5444640" y="221760"/>
            <a:ext cx="35816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4" descr="hrabryy-petusho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i-91-2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4" descr="tri-medvedya-russkaya-narodnaya-skazka.jpg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4" descr="zayats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Volk-i-semero-kozlja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1447920" y="1752480"/>
            <a:ext cx="632448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Рисунок 5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6" descr=""/>
          <p:cNvPicPr/>
          <p:nvPr/>
        </p:nvPicPr>
        <p:blipFill>
          <a:blip r:embed="rId2"/>
          <a:stretch/>
        </p:blipFill>
        <p:spPr>
          <a:xfrm>
            <a:off x="1268280" y="2236680"/>
            <a:ext cx="6912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004_GUSI---LEBED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6" descr="risunok-k-skazke-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f77b260833938b3713f544ab937e0e88.jpg"/>
          <p:cNvPicPr/>
          <p:nvPr/>
        </p:nvPicPr>
        <p:blipFill>
          <a:blip r:embed="rId3"/>
          <a:stretch/>
        </p:blipFill>
        <p:spPr>
          <a:xfrm>
            <a:off x="4419720" y="3124080"/>
            <a:ext cx="413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1645486213_6-kartinkin-net-p-kapusta-kartinki-8.jpg"/>
          <p:cNvPicPr/>
          <p:nvPr/>
        </p:nvPicPr>
        <p:blipFill>
          <a:blip r:embed="rId3"/>
          <a:stretch/>
        </p:blipFill>
        <p:spPr>
          <a:xfrm>
            <a:off x="4419720" y="3048120"/>
            <a:ext cx="4267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stavrida-1000x1000.jpg"/>
          <p:cNvPicPr/>
          <p:nvPr/>
        </p:nvPicPr>
        <p:blipFill>
          <a:blip r:embed="rId3"/>
          <a:stretch/>
        </p:blipFill>
        <p:spPr>
          <a:xfrm>
            <a:off x="4800600" y="3124080"/>
            <a:ext cx="4019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1660702983_1-flomaster-club-p-myaso-kartinki-dlya-detei-krasivo-1.jpg"/>
          <p:cNvPicPr/>
          <p:nvPr/>
        </p:nvPicPr>
        <p:blipFill>
          <a:blip r:embed="rId3"/>
          <a:stretch/>
        </p:blipFill>
        <p:spPr>
          <a:xfrm>
            <a:off x="3886200" y="3581280"/>
            <a:ext cx="4807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1233870707gribnoe.jpg"/>
          <p:cNvPicPr/>
          <p:nvPr/>
        </p:nvPicPr>
        <p:blipFill>
          <a:blip r:embed="rId3"/>
          <a:stretch/>
        </p:blipFill>
        <p:spPr>
          <a:xfrm>
            <a:off x="4648320" y="2971800"/>
            <a:ext cx="40194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6" descr="soft-gradient-solid-color-gradient-1537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cb63e0f11123a2f4f7a44a4cfad20522-600x450.jpeg"/>
          <p:cNvPicPr/>
          <p:nvPr/>
        </p:nvPicPr>
        <p:blipFill>
          <a:blip r:embed="rId2"/>
          <a:stretch/>
        </p:blipFill>
        <p:spPr>
          <a:xfrm>
            <a:off x="457200" y="304920"/>
            <a:ext cx="348624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Foto-4936[1].jpg"/>
          <p:cNvPicPr/>
          <p:nvPr/>
        </p:nvPicPr>
        <p:blipFill>
          <a:blip r:embed="rId3"/>
          <a:stretch/>
        </p:blipFill>
        <p:spPr>
          <a:xfrm>
            <a:off x="4114800" y="3276720"/>
            <a:ext cx="48895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3-01-25T11:39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